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BF6-A809-45FA-BFEA-D5021F51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A21-83E5-426E-9137-132E085B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F59-071B-4658-B6D1-EAD024F5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3BE-B73B-493A-B61D-13A20023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88A7-7FE9-485B-BA95-3F1119B7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4971-377E-4CF9-8C68-2E5DF7CC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C55A-D19C-41EA-BDB2-009A7DD3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509D-EAA6-44B8-9452-DAC73255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1483-177C-4B35-A735-793EC1D3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9017-63A2-4455-B699-3F97EA02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859D-CD24-4EF0-9425-969BAE35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C2D-0AF3-431F-AD61-9647ED01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328B-BAC6-4979-BD78-8E32DB3C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867B-FD40-408D-B341-E1AA52EB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84E6-270C-45F7-A9CF-2D7CD76B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D6A5-E54B-4D33-A83C-92ED62EB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1EB6-762D-4B1A-B7C7-E0949F78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157-1846-4F98-B9CA-0BAEA2AA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52D-9445-4363-B3FE-B40ACA27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B43-2F9D-46B4-8E6D-D9419033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63B-5F95-42A5-8359-78BB18B9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E51-A5AC-4853-8851-192878F9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857-E7F5-47DA-807A-4EDC6F8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755-1666-4B33-9094-BDA026A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BE36-E572-4339-A806-273EA735016F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9661-F223-4376-AE70-9D1D057FF897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572"/>
                </a:solidFill>
                <a:latin typeface="Arial Narrow"/>
              </a:rPr>
              <a:t>Функции. </a:t>
            </a:r>
            <a:br>
              <a:rPr sz="5400"/>
            </a:br>
            <a:r>
              <a:rPr b="1" lang="ru-RU" sz="5400" spc="-1" strike="noStrike">
                <a:solidFill>
                  <a:srgbClr val="007572"/>
                </a:solidFill>
                <a:latin typeface="Arial Narrow"/>
              </a:rPr>
              <a:t> Графики функций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Диктант 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Алгебра  7 класс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7572"/>
                </a:solidFill>
                <a:latin typeface="Arial Narrow"/>
              </a:rPr>
              <a:t>1.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Arial Narrow"/>
              </a:rPr>
              <a:t>Задайте формулой функцию, сопоставляющую каждому числу третью степень этого числа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7572"/>
                </a:solidFill>
                <a:latin typeface="Arial Narrow"/>
              </a:rPr>
              <a:t>2.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Narrow"/>
              </a:rPr>
              <a:t>Функция задана формулой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Narrow"/>
              </a:rPr>
              <a:t>Найдите её значение при х = 2 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743200" y="3200400"/>
                <a:ext cx="3352680" cy="22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572"/>
                </a:solidFill>
                <a:latin typeface="Arial Narrow"/>
              </a:rPr>
              <a:t>3.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Arial Narrow"/>
              </a:rPr>
              <a:t>Функция задана формулой 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Arial Narrow"/>
              </a:rPr>
              <a:t>у = 3 х  - 7. Найдите значение аргумента, при котором значение функции равно нулю.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572"/>
                </a:solidFill>
                <a:latin typeface="Arial Narrow"/>
              </a:rPr>
              <a:t>4.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Arial Narrow"/>
              </a:rPr>
              <a:t>Запишите область определения функции, заданной формулой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241880" y="3232080"/>
                <a:ext cx="660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362320" y="4270320"/>
                <a:ext cx="3733560" cy="22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572"/>
                </a:solidFill>
                <a:latin typeface="Arial Narrow"/>
              </a:rPr>
              <a:t>5.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Arial Narrow"/>
              </a:rPr>
              <a:t>Запишите область определения функции, заданной формулой</a:t>
            </a:r>
            <a:endParaRPr b="0" lang="en-US" sz="6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Arial Narrow"/>
              </a:rPr>
              <a:t>у = 3 х - 8</a:t>
            </a:r>
            <a:endParaRPr b="0" lang="en-US" sz="6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8:20:12Z</dcterms:created>
  <dc:creator>user</dc:creator>
  <dc:description/>
  <dc:language>en-US</dc:language>
  <cp:lastModifiedBy>user</cp:lastModifiedBy>
  <dcterms:modified xsi:type="dcterms:W3CDTF">2007-11-03T18:52:02Z</dcterms:modified>
  <cp:revision>3</cp:revision>
  <dc:subject/>
  <dc:title>Функции.   Графики функций</dc:title>
</cp:coreProperties>
</file>