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089-3F11-42ED-970C-22924683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25D-68FC-4C7B-8600-ED102E87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C9C-3583-4CDA-87FB-5A92241F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C76-81ED-43FC-8743-C97C506A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519D-585E-4765-8C96-899FE5C1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68E4-04C9-400E-A9A5-6B28EC35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54AF-D805-48E4-9786-415A3DF4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D5BA-4C6A-4047-8248-201A53CE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A0E0-1FFE-4007-9CC5-DE540828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8ED4-C31F-4BDC-B1FD-23AEB056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FDA2-5C55-4282-B79F-2CE318B6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284-FCFC-4E1C-9364-6E232BB4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1657-A242-49B5-9B54-BEE0CD18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BB5A-23DF-4EE0-B5AC-B6EECB0F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2C2D-81B8-4232-BC4D-5F6258D3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340E-1DFF-4B1F-8011-07A5C70A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1A06-98ED-4EC2-9F6F-BB79415B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029-9C0E-498D-B03E-0DA36A6E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E95-4E40-4B35-A005-DD7F2365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58C-2A00-4C79-A34F-35D83C7D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B39-DF8E-46F0-B04B-ACC25ABF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2FD-EA79-4DE7-AC7C-69C44A5D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315-4096-439D-820F-E983EFA8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C06-105E-46C8-BAA9-1B347995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8BB-4F50-4134-A61A-E39B381A773D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F1F1-D6DC-4228-BC81-B213C3D7F398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572"/>
                </a:solidFill>
                <a:latin typeface="Arial Narrow"/>
              </a:rPr>
              <a:t>Функции. </a:t>
            </a:r>
            <a:br>
              <a:rPr sz="5400"/>
            </a:br>
            <a:r>
              <a:rPr b="1" lang="ru-RU" sz="5400" spc="-1" strike="noStrike">
                <a:solidFill>
                  <a:srgbClr val="007572"/>
                </a:solidFill>
                <a:latin typeface="Arial Narrow"/>
              </a:rPr>
              <a:t> Графики функций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Диктант 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Алгебра  7 класс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7572"/>
                </a:solidFill>
                <a:latin typeface="Arial Narrow"/>
              </a:rPr>
              <a:t>1.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Arial Narrow"/>
              </a:rPr>
              <a:t>Задайте формулой функцию, сопоставляющую каждому числу третью степень этого числа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7572"/>
                </a:solidFill>
                <a:latin typeface="Arial Narrow"/>
              </a:rPr>
              <a:t>2.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Narrow"/>
              </a:rPr>
              <a:t>Функция задана формулой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Narrow"/>
              </a:rPr>
              <a:t>Найдите её значение при х = 2 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743200" y="3200400"/>
                <a:ext cx="3352680" cy="22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572"/>
                </a:solidFill>
                <a:latin typeface="Arial Narrow"/>
              </a:rPr>
              <a:t>3.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Arial Narrow"/>
              </a:rPr>
              <a:t>Функция задана формулой 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Arial Narrow"/>
              </a:rPr>
              <a:t>у = 3 х  - 7. Найдите значение аргумента, при котором значение функции равно нулю.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572"/>
                </a:solidFill>
                <a:latin typeface="Arial Narrow"/>
              </a:rPr>
              <a:t>4.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Arial Narrow"/>
              </a:rPr>
              <a:t>Запишите область определения функции, заданной формулой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241880" y="3232080"/>
                <a:ext cx="660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362320" y="4270320"/>
                <a:ext cx="3733560" cy="22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572"/>
                </a:solidFill>
                <a:latin typeface="Arial Narrow"/>
              </a:rPr>
              <a:t>5.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33"/>
                </a:solidFill>
                <a:latin typeface="Arial Narrow"/>
              </a:rPr>
              <a:t>Запишите область определения функции, заданной формулой</a:t>
            </a:r>
            <a:endParaRPr b="0" lang="en-US" sz="6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33"/>
                </a:solidFill>
                <a:latin typeface="Arial Narrow"/>
              </a:rPr>
              <a:t>у = 3 х - 8</a:t>
            </a:r>
            <a:endParaRPr b="0" lang="en-US" sz="6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8:20:12Z</dcterms:created>
  <dc:creator>user</dc:creator>
  <dc:description/>
  <dc:language>en-US</dc:language>
  <cp:lastModifiedBy>user</cp:lastModifiedBy>
  <dcterms:modified xsi:type="dcterms:W3CDTF">2007-11-03T18:52:02Z</dcterms:modified>
  <cp:revision>3</cp:revision>
  <dc:subject/>
  <dc:title>Функции.   Графики функций</dc:title>
</cp:coreProperties>
</file>