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9774-F417-4E08-A508-32B67EB158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8F7F-FE99-4546-9A84-E0B89AAB1E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C179-F8EE-4213-863D-9429083938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5762-CCF7-408F-91DA-023543D74A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5C41-A55B-4C87-8EC1-61D18AD2FD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CE2E-C4E7-4CAC-8358-42F18B49C9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3CC7-85F0-4D48-8514-9FB97620D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454F-9026-444C-8EC8-55975AE9F8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4AB-01B0-4235-A707-9F78CC2B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CDC-F2AF-4E9F-951E-E7C49E10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B83-3FF7-4D85-B287-76EDF221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8A5-75A3-465D-BE94-11BA6BCF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3D1-2FFC-42BB-A579-2D0192F8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AC9-D0D5-4237-A43A-CC1A16F1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857-5885-4655-AC2E-F71C684A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A7B-4B20-42BE-8A6C-B3B53B28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25E-824C-45B2-8892-4CDCDB40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E2D-ED98-4803-BF85-A31B1274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6A0-053D-4B2F-A28C-EF65E402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117-086F-43B8-B881-9929322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EF5-FBF1-44BC-866B-070622B678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Информационная </a:t>
            </a:r>
            <a:br>
              <a:rPr sz="4800"/>
            </a:b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этика и право, информационная безопас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формационное пра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Право распоряжен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оит в том, что только субъект-владелец информации имеет право определять, кому эта информация может быть предоставле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Право владен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лжно обеспечивать субъекту-владельцу информации хранение информации в неизменном виде. Никто, кроме него, не может ее изменя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Право пользован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доставляет субъекту владельцу информации право ее использования только в своих интерес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этикет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электронной поч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гда заполняйте поле «Тема» для своего пись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вечая на пришедшее письмо, принято цитировать некоторые его отрыв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йте прописные буквы, только если это является действительно необходимы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фициальной переписке принято использовать подпись, содержащую некоторую информацию об авторе пись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арайтесь не допускать грамматических ошиб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вставляйте в электронное письмо файлы большого объе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бычной переписке принято использовать смайли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этикета для общ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чате, форуме, телеконферен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едует быть тактичным и корректным в своих высказыва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бирайте себе псевдоним, или ник, не оскорбляющий других участников ча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ращаясь к кому-либо, пишите его ник в начале вашей фраз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повторяйте многократно одну и ту ж е фраз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используйте много прописных букв и восклицательных зна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злоупотребляйте смайлик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ходя из чата, не забудьте попрощаться с вашими собеседник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формационная безопас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Информационная среда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это совокупность условий, средств и методов на базе компьютерных систем, предназначенных для создания и использования информационных ресурс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Информационные угроз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овокупность факторов, представляющих опасность для функционирования информационной сре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Информационная безопасн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овокупность мер по защите информационной среды общества и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428840" y="285840"/>
            <a:ext cx="5786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точники информационных угроз для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214280" y="1071720"/>
            <a:ext cx="221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шние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214960" y="1071720"/>
            <a:ext cx="2857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енние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14200" y="178596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ка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71680" y="2357280"/>
            <a:ext cx="2000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онная вой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071880" y="1857240"/>
            <a:ext cx="1571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ступная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1714680" y="3357720"/>
            <a:ext cx="2143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чие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6572160" y="1714680"/>
            <a:ext cx="2143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тавание по уровню информат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6286680" y="3071880"/>
            <a:ext cx="1785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тавание по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5429160" y="4071960"/>
            <a:ext cx="1928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достаточный уровень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3929040" y="5429160"/>
            <a:ext cx="2143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чие 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Прямая со стрелкой 16"/>
          <p:cNvCxnSpPr/>
          <p:nvPr/>
        </p:nvCxnSpPr>
        <p:spPr>
          <a:xfrm flipH="1">
            <a:off x="2142720" y="713880"/>
            <a:ext cx="357840" cy="358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18"/>
          <p:cNvCxnSpPr>
            <a:endCxn id="60" idx="0"/>
          </p:cNvCxnSpPr>
          <p:nvPr/>
        </p:nvCxnSpPr>
        <p:spPr>
          <a:xfrm flipH="1">
            <a:off x="1177560" y="1428840"/>
            <a:ext cx="465840" cy="357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0"/>
          <p:cNvCxnSpPr/>
          <p:nvPr/>
        </p:nvCxnSpPr>
        <p:spPr>
          <a:xfrm>
            <a:off x="2928600" y="1428840"/>
            <a:ext cx="572040" cy="429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22"/>
          <p:cNvCxnSpPr/>
          <p:nvPr/>
        </p:nvCxnSpPr>
        <p:spPr>
          <a:xfrm flipH="1">
            <a:off x="2214000" y="1428480"/>
            <a:ext cx="286200" cy="929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24"/>
          <p:cNvCxnSpPr/>
          <p:nvPr/>
        </p:nvCxnSpPr>
        <p:spPr>
          <a:xfrm>
            <a:off x="2784960" y="1428840"/>
            <a:ext cx="143640" cy="19296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26"/>
          <p:cNvCxnSpPr/>
          <p:nvPr/>
        </p:nvCxnSpPr>
        <p:spPr>
          <a:xfrm>
            <a:off x="5999760" y="713880"/>
            <a:ext cx="214920" cy="358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Прямая со стрелкой 27"/>
          <p:cNvCxnSpPr/>
          <p:nvPr/>
        </p:nvCxnSpPr>
        <p:spPr>
          <a:xfrm>
            <a:off x="6715080" y="1428840"/>
            <a:ext cx="357840" cy="28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Прямая со стрелкой 29"/>
          <p:cNvCxnSpPr/>
          <p:nvPr/>
        </p:nvCxnSpPr>
        <p:spPr>
          <a:xfrm>
            <a:off x="6285600" y="1428840"/>
            <a:ext cx="286200" cy="1643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Прямая со стрелкой 31"/>
          <p:cNvCxnSpPr/>
          <p:nvPr/>
        </p:nvCxnSpPr>
        <p:spPr>
          <a:xfrm flipH="1">
            <a:off x="5785560" y="1428840"/>
            <a:ext cx="2520" cy="2645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" name="Прямая со стрелкой 33"/>
          <p:cNvCxnSpPr/>
          <p:nvPr/>
        </p:nvCxnSpPr>
        <p:spPr>
          <a:xfrm flipH="1">
            <a:off x="4857120" y="1428840"/>
            <a:ext cx="572040" cy="4001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1714680" y="285840"/>
            <a:ext cx="5429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виды информационных угро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000080" y="1357200"/>
            <a:ext cx="221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намер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57120" y="2500200"/>
            <a:ext cx="1500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щ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714240" y="3500280"/>
            <a:ext cx="1714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ьютерные виру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785960" y="4572000"/>
            <a:ext cx="17859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ческое воздействие на аппарату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5000760" y="1428840"/>
            <a:ext cx="1500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чай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43840" y="2857680"/>
            <a:ext cx="1857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шибки профессиона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286160" y="3286080"/>
            <a:ext cx="15001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шибки пользо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7072200" y="4071960"/>
            <a:ext cx="15004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азы и сбои аппа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214960" y="5572080"/>
            <a:ext cx="2000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с-мажорные обстоятель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12"/>
          <p:cNvCxnSpPr/>
          <p:nvPr/>
        </p:nvCxnSpPr>
        <p:spPr>
          <a:xfrm flipH="1">
            <a:off x="2285640" y="642960"/>
            <a:ext cx="714960" cy="7149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89" name="Прямая со стрелкой 13"/>
          <p:cNvCxnSpPr>
            <a:endCxn id="80" idx="0"/>
          </p:cNvCxnSpPr>
          <p:nvPr/>
        </p:nvCxnSpPr>
        <p:spPr>
          <a:xfrm flipH="1">
            <a:off x="1105920" y="1714680"/>
            <a:ext cx="680040" cy="7862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0" name="Прямая со стрелкой 15"/>
          <p:cNvCxnSpPr/>
          <p:nvPr/>
        </p:nvCxnSpPr>
        <p:spPr>
          <a:xfrm flipH="1">
            <a:off x="1999440" y="1714680"/>
            <a:ext cx="500760" cy="17863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1" name="Прямая со стрелкой 17"/>
          <p:cNvCxnSpPr>
            <a:endCxn id="82" idx="0"/>
          </p:cNvCxnSpPr>
          <p:nvPr/>
        </p:nvCxnSpPr>
        <p:spPr>
          <a:xfrm flipH="1">
            <a:off x="2677680" y="1714320"/>
            <a:ext cx="394560" cy="28580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2" name="Прямая со стрелкой 20"/>
          <p:cNvCxnSpPr/>
          <p:nvPr/>
        </p:nvCxnSpPr>
        <p:spPr>
          <a:xfrm>
            <a:off x="5143680" y="642600"/>
            <a:ext cx="429120" cy="786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>
            <a:endCxn id="85" idx="0"/>
          </p:cNvCxnSpPr>
          <p:nvPr/>
        </p:nvCxnSpPr>
        <p:spPr>
          <a:xfrm flipH="1">
            <a:off x="5036400" y="1785600"/>
            <a:ext cx="392760" cy="1500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4" name="Прямая со стрелкой 23"/>
          <p:cNvCxnSpPr>
            <a:stCxn id="83" idx="2"/>
          </p:cNvCxnSpPr>
          <p:nvPr/>
        </p:nvCxnSpPr>
        <p:spPr>
          <a:xfrm>
            <a:off x="5750280" y="1798560"/>
            <a:ext cx="321480" cy="377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" name="Прямая со стрелкой 25"/>
          <p:cNvCxnSpPr/>
          <p:nvPr/>
        </p:nvCxnSpPr>
        <p:spPr>
          <a:xfrm>
            <a:off x="6286320" y="1785600"/>
            <a:ext cx="1215000" cy="1072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6" name="Прямая со стрелкой 27"/>
          <p:cNvCxnSpPr/>
          <p:nvPr/>
        </p:nvCxnSpPr>
        <p:spPr>
          <a:xfrm>
            <a:off x="6000840" y="1785960"/>
            <a:ext cx="1286640" cy="221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7:37:49Z</dcterms:created>
  <dc:creator>Ключева Елена</dc:creator>
  <dc:description/>
  <dc:language>en-US</dc:language>
  <cp:lastModifiedBy>Ключева Елена</cp:lastModifiedBy>
  <dcterms:modified xsi:type="dcterms:W3CDTF">2009-02-15T19:09:58Z</dcterms:modified>
  <cp:revision>11</cp:revision>
  <dc:subject/>
  <dc:title>Информационная  этика и право, информационная безопасность</dc:title>
</cp:coreProperties>
</file>