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23A6-9478-455E-A21D-51FDB58FDD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C82-543A-425C-9AFD-B49B027EAC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8D37-BECF-4777-96EF-C48829ADB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64B0-86FB-48D6-AE73-CC6489CEF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DF8C-3121-4B47-8C6A-B09A9C5835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09A5-4F44-4FF6-B4B3-1A7653710C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A67-3738-4A71-B3D3-EBED38F498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E6D-4EA0-42E0-86A8-FC81244EF9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69E-B21B-46E8-8A92-D05AA8C0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20D-7030-483C-B128-22615C23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E0C-A907-4EE7-9419-0911BC41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91F-AA1E-4662-A884-669C6509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942-3A96-42AF-8B2D-6C7B1F43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BB6-30B4-40B9-ABAF-BEA74135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588-E6AF-49C0-8B6B-97165BEB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C67-2E2A-4B9B-9885-B1A69C80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D43-0722-4D13-9C2A-849AE63B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144-E002-454E-91A7-E61747B1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0A0-1518-42E4-903C-98F41BA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695-382C-428F-BA40-7CC38C58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BC81-1BD4-4EA3-A08E-7349EB36F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Информационная </a:t>
            </a:r>
            <a:br>
              <a:rPr sz="4800"/>
            </a:b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этика и право, информационная безопас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формационное пра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Право распоряжен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оит в том, что только субъект-владелец информации имеет право определять, кому эта информация может быть предоставле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Право владен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лжно обеспечивать субъекту-владельцу информации хранение информации в неизменном виде. Никто, кроме него, не может ее изменя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Право пользован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доставляет субъекту владельцу информации право ее использования только в своих интерес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этикет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электронной поч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гда заполняйте поле «Тема» для своего пись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вечая на пришедшее письмо, принято цитировать некоторые его отрыв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йте прописные буквы, только если это является действительно необходимы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фициальной переписке принято использовать подпись, содержащую некоторую информацию об авторе пись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арайтесь не допускать грамматических ошиб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вставляйте в электронное письмо файлы большого объе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бычной переписке принято использовать смайли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этикета для общ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чате, форуме, телеконферен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едует быть тактичным и корректным в своих высказыва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бирайте себе псевдоним, или ник, не оскорбляющий других участников ча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ращаясь к кому-либо, пишите его ник в начале вашей фраз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повторяйте многократно одну и ту ж е фраз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используйте много прописных букв и восклицательных зна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злоупотребляйте смайлик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ходя из чата, не забудьте попрощаться с вашими собеседник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формационная безопас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Информационная среда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это совокупность условий, средств и методов на базе компьютерных систем, предназначенных для создания и использования информационных ресурс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Информационные угроз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овокупность факторов, представляющих опасность для функционирования информационной сре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Информационная безопасн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овокупность мер по защите информационной среды общества и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428840" y="285840"/>
            <a:ext cx="5786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точники информационных угроз для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214280" y="1071720"/>
            <a:ext cx="221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шние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214960" y="1071720"/>
            <a:ext cx="2857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енние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14200" y="178596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ка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71680" y="2357280"/>
            <a:ext cx="2000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онная вой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071880" y="1857240"/>
            <a:ext cx="1571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ступная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1714680" y="3357720"/>
            <a:ext cx="2143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чие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6572160" y="1714680"/>
            <a:ext cx="2143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тавание по уровню информат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6286680" y="3071880"/>
            <a:ext cx="1785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тавание по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5429160" y="4071960"/>
            <a:ext cx="1928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достаточный уровень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3929040" y="5429160"/>
            <a:ext cx="2143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чие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Прямая со стрелкой 16"/>
          <p:cNvCxnSpPr/>
          <p:nvPr/>
        </p:nvCxnSpPr>
        <p:spPr>
          <a:xfrm flipH="1">
            <a:off x="2142720" y="713880"/>
            <a:ext cx="357840" cy="358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18"/>
          <p:cNvCxnSpPr>
            <a:endCxn id="60" idx="0"/>
          </p:cNvCxnSpPr>
          <p:nvPr/>
        </p:nvCxnSpPr>
        <p:spPr>
          <a:xfrm flipH="1">
            <a:off x="1177560" y="1428840"/>
            <a:ext cx="465840" cy="357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0"/>
          <p:cNvCxnSpPr/>
          <p:nvPr/>
        </p:nvCxnSpPr>
        <p:spPr>
          <a:xfrm>
            <a:off x="2928600" y="1428840"/>
            <a:ext cx="572040" cy="429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22"/>
          <p:cNvCxnSpPr/>
          <p:nvPr/>
        </p:nvCxnSpPr>
        <p:spPr>
          <a:xfrm flipH="1">
            <a:off x="2214000" y="1428480"/>
            <a:ext cx="286200" cy="929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24"/>
          <p:cNvCxnSpPr/>
          <p:nvPr/>
        </p:nvCxnSpPr>
        <p:spPr>
          <a:xfrm>
            <a:off x="2784960" y="1428840"/>
            <a:ext cx="143640" cy="19296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26"/>
          <p:cNvCxnSpPr/>
          <p:nvPr/>
        </p:nvCxnSpPr>
        <p:spPr>
          <a:xfrm>
            <a:off x="5999760" y="713880"/>
            <a:ext cx="214920" cy="358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Прямая со стрелкой 27"/>
          <p:cNvCxnSpPr/>
          <p:nvPr/>
        </p:nvCxnSpPr>
        <p:spPr>
          <a:xfrm>
            <a:off x="6715080" y="1428840"/>
            <a:ext cx="357840" cy="28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Прямая со стрелкой 29"/>
          <p:cNvCxnSpPr/>
          <p:nvPr/>
        </p:nvCxnSpPr>
        <p:spPr>
          <a:xfrm>
            <a:off x="6285600" y="1428840"/>
            <a:ext cx="286200" cy="1643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Прямая со стрелкой 31"/>
          <p:cNvCxnSpPr/>
          <p:nvPr/>
        </p:nvCxnSpPr>
        <p:spPr>
          <a:xfrm flipH="1">
            <a:off x="5785560" y="1428840"/>
            <a:ext cx="2520" cy="2645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" name="Прямая со стрелкой 33"/>
          <p:cNvCxnSpPr/>
          <p:nvPr/>
        </p:nvCxnSpPr>
        <p:spPr>
          <a:xfrm flipH="1">
            <a:off x="4857120" y="1428840"/>
            <a:ext cx="572040" cy="4001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1714680" y="285840"/>
            <a:ext cx="5429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виды информационных угро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000080" y="1357200"/>
            <a:ext cx="221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намер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57120" y="2500200"/>
            <a:ext cx="1500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щ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714240" y="3500280"/>
            <a:ext cx="1714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ьютерные виру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785960" y="4572000"/>
            <a:ext cx="17859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ческое воздействие на аппарату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5000760" y="1428840"/>
            <a:ext cx="1500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чай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43840" y="2857680"/>
            <a:ext cx="1857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шибки профессиона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286160" y="3286080"/>
            <a:ext cx="15001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шибки пользо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7072200" y="4071960"/>
            <a:ext cx="15004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азы и сбои аппа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214960" y="5572080"/>
            <a:ext cx="2000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с-мажорные обстоятель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12"/>
          <p:cNvCxnSpPr/>
          <p:nvPr/>
        </p:nvCxnSpPr>
        <p:spPr>
          <a:xfrm flipH="1">
            <a:off x="2285640" y="642960"/>
            <a:ext cx="714960" cy="7149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89" name="Прямая со стрелкой 13"/>
          <p:cNvCxnSpPr>
            <a:endCxn id="80" idx="0"/>
          </p:cNvCxnSpPr>
          <p:nvPr/>
        </p:nvCxnSpPr>
        <p:spPr>
          <a:xfrm flipH="1">
            <a:off x="1105920" y="1714680"/>
            <a:ext cx="680040" cy="7862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0" name="Прямая со стрелкой 15"/>
          <p:cNvCxnSpPr/>
          <p:nvPr/>
        </p:nvCxnSpPr>
        <p:spPr>
          <a:xfrm flipH="1">
            <a:off x="1999440" y="1714680"/>
            <a:ext cx="500760" cy="17863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1" name="Прямая со стрелкой 17"/>
          <p:cNvCxnSpPr>
            <a:endCxn id="82" idx="0"/>
          </p:cNvCxnSpPr>
          <p:nvPr/>
        </p:nvCxnSpPr>
        <p:spPr>
          <a:xfrm flipH="1">
            <a:off x="2677680" y="1714320"/>
            <a:ext cx="394560" cy="28580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2" name="Прямая со стрелкой 20"/>
          <p:cNvCxnSpPr/>
          <p:nvPr/>
        </p:nvCxnSpPr>
        <p:spPr>
          <a:xfrm>
            <a:off x="5143680" y="642600"/>
            <a:ext cx="429120" cy="786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>
            <a:endCxn id="85" idx="0"/>
          </p:cNvCxnSpPr>
          <p:nvPr/>
        </p:nvCxnSpPr>
        <p:spPr>
          <a:xfrm flipH="1">
            <a:off x="5036400" y="1785600"/>
            <a:ext cx="392760" cy="1500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4" name="Прямая со стрелкой 23"/>
          <p:cNvCxnSpPr>
            <a:stCxn id="83" idx="2"/>
          </p:cNvCxnSpPr>
          <p:nvPr/>
        </p:nvCxnSpPr>
        <p:spPr>
          <a:xfrm>
            <a:off x="5750280" y="1798560"/>
            <a:ext cx="321480" cy="377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" name="Прямая со стрелкой 25"/>
          <p:cNvCxnSpPr/>
          <p:nvPr/>
        </p:nvCxnSpPr>
        <p:spPr>
          <a:xfrm>
            <a:off x="6286320" y="1785600"/>
            <a:ext cx="1215000" cy="1072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6" name="Прямая со стрелкой 27"/>
          <p:cNvCxnSpPr/>
          <p:nvPr/>
        </p:nvCxnSpPr>
        <p:spPr>
          <a:xfrm>
            <a:off x="6000840" y="1785960"/>
            <a:ext cx="1286640" cy="221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7:37:49Z</dcterms:created>
  <dc:creator>Ключева Елена</dc:creator>
  <dc:description/>
  <dc:language>en-US</dc:language>
  <cp:lastModifiedBy>Ключева Елена</cp:lastModifiedBy>
  <dcterms:modified xsi:type="dcterms:W3CDTF">2009-02-15T19:09:58Z</dcterms:modified>
  <cp:revision>11</cp:revision>
  <dc:subject/>
  <dc:title>Информационная  этика и право, информационная безопасность</dc:title>
</cp:coreProperties>
</file>