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8.jpeg" ContentType="image/jpeg"/>
  <Override PartName="/ppt/media/image5.png" ContentType="image/png"/>
  <Override PartName="/ppt/media/image11.png" ContentType="image/png"/>
  <Override PartName="/ppt/media/image19.gif" ContentType="image/gif"/>
  <Override PartName="/ppt/media/image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642-88F8-47D6-BF13-5184F6FD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744-9C1A-4059-9A48-63DAEF9B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33A-DE5C-4F22-8335-450471A5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BB7-09AB-43DD-B8ED-373E90C7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4FD1-068D-49CA-8E9E-55ACCDB1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2F5F-9801-40DF-BF71-B1BDB496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24AA-7071-4B9D-BE03-BB6EC78C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D49E-D8B6-4BD1-8C86-5A6BFE52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55CE-6F4B-4D52-835C-EA433683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0D6B-E1B1-4C34-B9F3-0A853F6D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9423-05E6-44E1-AC03-D5C6CA1C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0E3-A0E3-4299-A033-3760E8E8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DD3F-3CEE-453A-B1E5-E038FD8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E4F9-CCED-4FFE-A5A9-3A86F3EB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B6DD-C203-42E0-BC0B-B80B36DE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694D-1989-45D0-958E-106B1662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DBFE-0572-4C19-A4DC-1FBAC2C7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7E0C6-25E5-404A-B375-B4008826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5AA7D-E506-49F3-A3B8-448543BF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0292C-D048-4448-ACFF-F1BAD4C2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D1FD9-421A-4ADC-9B42-CFD09583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7E469-9FFA-4ED3-8532-EA6CEF8C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63E-61F0-4901-8282-784D318E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00120-A428-4172-B568-855E8057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20DE2-CDAF-4E98-B27F-2B74E4FF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B7FCE-5A61-4A56-9F48-3709599D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D3E70-7E44-4AF7-A049-E2552911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41DD8-E6B5-4B0E-8D26-08015CC6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E2D6D-B0E0-4A18-8EAD-7F5EBDD9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2FE4B-3E30-4414-90DF-06AB505D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62A-5A7B-475D-93E5-F5228026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E8C-F3A8-40E5-A39D-AB529C16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FE8-1D11-4CA5-A80F-2BDE4B10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875-0552-478A-811D-E94DB128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7D4-2702-4DD7-81D1-A2717D89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4C7-9C09-4F9F-99B4-61E2529C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B7E9-A55F-4996-B156-932D54AEA3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8D18-067E-4D2F-B8A8-76627E452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572B-B55B-454D-AD72-BC2C9F4B7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5520" y="928440"/>
            <a:ext cx="769932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остав, строение   </a:t>
            </a:r>
            <a:br>
              <a:rPr sz="4800"/>
            </a:b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и свойства </a:t>
            </a:r>
            <a:br>
              <a:rPr sz="4800"/>
            </a:b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белков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d60093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 flipV="1" rot="10800000">
            <a:off x="1213920" y="359640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85880" y="12859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79297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остав молекул белков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4260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е, какие химические элементы должны обязательно присутствовать в молекулах белков, состоящих из аминокислотных остат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чая гипотеза: в белках должны быть атомы углерода, водорода , азота, возможно присутствие серы и др. элемен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кспериментально доказать наличие этих химических элементов в молекулах бел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7" descr="C:\Documents and Settings\пользователь\Мои документы\Мои рисунки\adcdca28ae7d6afd55aa249c6af8c596.gif"/>
          <p:cNvPicPr/>
          <p:nvPr/>
        </p:nvPicPr>
        <p:blipFill>
          <a:blip r:embed="rId1"/>
          <a:stretch/>
        </p:blipFill>
        <p:spPr>
          <a:xfrm>
            <a:off x="785880" y="714240"/>
            <a:ext cx="1008000" cy="85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92972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Анализ видео-эксперимента оформляем в таблицу</a:t>
            </a:r>
            <a:endParaRPr b="0" lang="en-US" sz="3600" spc="-1" strike="noStrike">
              <a:solidFill>
                <a:srgbClr val="d60093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42960" y="1714680"/>
          <a:ext cx="7858080" cy="4214520"/>
        </p:xfrm>
        <a:graphic>
          <a:graphicData uri="http://schemas.openxmlformats.org/drawingml/2006/table">
            <a:tbl>
              <a:tblPr/>
              <a:tblGrid>
                <a:gridCol w="1643040"/>
                <a:gridCol w="1500120"/>
                <a:gridCol w="1571760"/>
                <a:gridCol w="1785960"/>
                <a:gridCol w="135720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-емый эле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г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отекания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емые из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наружение углерода и водо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наружение атомов аз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наружение атомов с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2286000" y="228600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имент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86439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бнаружение углерода и водорода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60" name="отношение к нагреванию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бнаружение атомов азота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62" name="обнаружение азота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929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бнаружение атомов серы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64" name="обнаружение атомов серы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 flipV="1" rot="10800000">
            <a:off x="1213920" y="359640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785880" y="12859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78552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верим результаты с научными данными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42960" y="1785960"/>
            <a:ext cx="78580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е белков содержи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род (51 - 53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род  (21,5 – 23,5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  (16 – 18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  (6 – 7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а  (0,3 – 2,5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 (в некоторых белк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Рабочая гипотеза подтвердилась экспериментально</a:t>
            </a:r>
            <a:r>
              <a:rPr b="1" i="1" lang="ru-RU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!</a:t>
            </a:r>
            <a:r>
              <a:rPr b="0" lang="ru-RU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2600" y="785520"/>
            <a:ext cx="7929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Исследование физических свойств белков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928520"/>
            <a:ext cx="80722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те известные вам белки (белок яйца, молочный белок, желатин и друг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шите их состояние и отношение к во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ли белки одинаково растворяются в воде? От каких факторов зависит растворимость белка? Разрушаются ли при этом молекулы белк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286000" y="228600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имент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тношение белков к воде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73" name="растворение желатина 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Цели и задачи урока: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85880" y="14288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видео-эксперимента исследовать состав, а так же некоторые физические и химические свойства бел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остав, строение  и свойства белк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формированию исследовательских навыков учащихс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способности анализа  и синтеза через обсуждение результатов эксперимен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2600" y="642960"/>
            <a:ext cx="79297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собое свойство белков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ки, содержащиеся в пищевых продуктах (зерновых, мясе, яйцах и др.), мы подвергаем тепловой обработке. Что происходит при этом с белк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ько ли нагревание может вызывать денатурацию белка? Какие еще факторы приводят к разрушению структур белка и потере биологических функц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2286000" y="228600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имент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Реакция денатурации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78" name="денатурация белка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Заполните схему: </a:t>
            </a:r>
            <a:br>
              <a:rPr sz="3600"/>
            </a:b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«Факторы денатурации»</a:t>
            </a:r>
            <a:endParaRPr b="0" lang="en-US" sz="36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80" name="Содержимое 3" descr=""/>
          <p:cNvPicPr/>
          <p:nvPr/>
        </p:nvPicPr>
        <p:blipFill>
          <a:blip r:embed="rId1"/>
          <a:stretch/>
        </p:blipFill>
        <p:spPr>
          <a:xfrm>
            <a:off x="633240" y="1584360"/>
            <a:ext cx="7877520" cy="4548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92972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ачественные реакции на белки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те понятие «качественной реакции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каких целей используют качественные реак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ителям каких профессий необходимы знания аналитической хим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286000" y="228600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имент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Биуретовая реакция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85" name="биуретовая реакция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сантопротеиновая реакция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87" name="ксантопротеиновая р-я.wmv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3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929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ачественные реакции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2600" y="2642760"/>
            <a:ext cx="3854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иурет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ак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42600" y="3642840"/>
            <a:ext cx="38545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ген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имые признак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4720" y="2571840"/>
            <a:ext cx="38559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сантопротеиновая реак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4720" y="3642840"/>
            <a:ext cx="385596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ген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имые призна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1071720" y="1428840"/>
            <a:ext cx="66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формите результаты наблюдения  следующим обр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C:\Documents and Settings\пользователь\Мои документы\Мои рисунки\ж.png"/>
          <p:cNvPicPr/>
          <p:nvPr/>
        </p:nvPicPr>
        <p:blipFill>
          <a:blip r:embed="rId1"/>
          <a:stretch/>
        </p:blipFill>
        <p:spPr>
          <a:xfrm>
            <a:off x="3500280" y="4500720"/>
            <a:ext cx="1914840" cy="196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50104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дведение итогов исследования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омощью эксперимента мы подтвердили качественный состав молекул белков, обнаружив в них атомы углерода, азота и с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исследовали отношение белка к воде на примере желатина, увидели образование коллоидного раствора и студ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иды деятельности на уроке: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600" y="1143000"/>
            <a:ext cx="38545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еятельность учите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2600" y="1785960"/>
            <a:ext cx="3854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презентации с видеофрагмент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беседы по результатам просмот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контроля активности и грамотности работы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4720" y="1214280"/>
            <a:ext cx="385596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еятельность ученик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4720" y="1714680"/>
            <a:ext cx="38559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видеофрагмен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и анализ увиденн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таб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вывод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ая соединительная линия 17"/>
          <p:cNvSpPr/>
          <p:nvPr/>
        </p:nvSpPr>
        <p:spPr>
          <a:xfrm>
            <a:off x="4357800" y="1428840"/>
            <a:ext cx="71280" cy="4786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дведение итогов исследования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ходе эксперимента выявили факторы, вызывающие денатурацию белковых молеку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лись с качественным реакциями, с помощью которых можно обнаружить присутствие белковых молеку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79297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§ 27 изуч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 ответы на вопросы 3 – 8, стр. 2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C:\Documents and Settings\пользователь\Мои документы\Мои рисунки\ы.gif"/>
          <p:cNvPicPr/>
          <p:nvPr/>
        </p:nvPicPr>
        <p:blipFill>
          <a:blip r:embed="rId1"/>
          <a:stretch/>
        </p:blipFill>
        <p:spPr>
          <a:xfrm>
            <a:off x="3451320" y="3081240"/>
            <a:ext cx="219240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1785960" y="5716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14240" y="1143000"/>
            <a:ext cx="785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Габриелян. Химия. 10 класс: учеб. Для общеобраз. Учреждений. – М.: Дрофа, 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Габриелян, И.Г.Остроумова. Настольная книга учителя химии. 10 класс. – М.: «Блик и К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2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 диск «Электронные уроки и тесты. Химия в школе». ЗАО «Просвещение – МЕДИА»,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 диск «Органическая химия. 10-11 класс». Лаборатория систем мультимедиа, 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9297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Что мы знаем о белках?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биополиме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омерами белков являются аминокисло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тки аминокислот связаны множественными пептидными связ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857160" y="4357800"/>
            <a:ext cx="7715520" cy="186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7232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труктурная организация белков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36" name="Picture 2" descr="C:\Documents and Settings\1111\Мои документы\Мои рисунки\httpwww.ebio.ruimages08010502.jpg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14240" y="1785960"/>
            <a:ext cx="7899480" cy="40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600" y="642960"/>
            <a:ext cx="79297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ервичная структура белка</a:t>
            </a:r>
            <a:br>
              <a:rPr sz="4000"/>
            </a:b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5000400"/>
            <a:ext cx="75009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 расщепления (гидролиза) пептидных связей белков в организме под действием ферментов составляет основу процесса пищевар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Первичная структура"/>
          <p:cNvPicPr/>
          <p:nvPr/>
        </p:nvPicPr>
        <p:blipFill>
          <a:blip r:embed="rId1"/>
          <a:stretch/>
        </p:blipFill>
        <p:spPr>
          <a:xfrm>
            <a:off x="2500200" y="2571840"/>
            <a:ext cx="4392720" cy="19288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85880" y="142884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ется определенным порядком соединения аминокислот и обусловлена пептидными связями. Она разрушается при гидролизе бе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торичная структура белка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28800" y="1988640"/>
            <a:ext cx="486720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пептидная цепь закручивается в вид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ира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ки скреплены между собой водородными связ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ые связи ориентированы вдоль оси спир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Вторичная структура"/>
          <p:cNvPicPr/>
          <p:nvPr/>
        </p:nvPicPr>
        <p:blipFill>
          <a:blip r:embed="rId1"/>
          <a:stretch/>
        </p:blipFill>
        <p:spPr>
          <a:xfrm>
            <a:off x="6215040" y="1357200"/>
            <a:ext cx="2244600" cy="465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5676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Третичная структура белка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507204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рехмерная пространственная структура, образующаяся за счет взаимодействия радикалов аминокисл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калы по своей полярности делятся на гидрофобные  (уходят внутрь, отталкиваясь от воды) и гидрофильные (вступают во взаимодействие с водой, тянутся к н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ралевидная нить аминокислот из-за этих взаимодействий свёртывается и образует клубок или фибриллу, специфичную для каждого бел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Третичная структура"/>
          <p:cNvPicPr/>
          <p:nvPr/>
        </p:nvPicPr>
        <p:blipFill>
          <a:blip r:embed="rId1"/>
          <a:stretch/>
        </p:blipFill>
        <p:spPr>
          <a:xfrm>
            <a:off x="6000840" y="2071800"/>
            <a:ext cx="2421000" cy="269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34084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Четвертичная структура белка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42600" y="1773360"/>
            <a:ext cx="5143320" cy="27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ит из нескольких полипептидных цепей. Есть не у всех белков, только самых сложных. Например, гемоглобин - это сложный белок, состоящий из четырех полипептидных цепей, соединенных четырьмя гемами – то есть небелковыми образова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57160" y="4714920"/>
            <a:ext cx="4722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а ионными, водородными, гидрофобными и другими видами  связ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Четвертичная структура"/>
          <p:cNvPicPr/>
          <p:nvPr/>
        </p:nvPicPr>
        <p:blipFill>
          <a:blip r:embed="rId1"/>
          <a:stretch/>
        </p:blipFill>
        <p:spPr>
          <a:xfrm>
            <a:off x="5929200" y="2143080"/>
            <a:ext cx="2551320" cy="266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4:52:41Z</dcterms:created>
  <dc:creator>Анастасия</dc:creator>
  <dc:description/>
  <dc:language>en-US</dc:language>
  <cp:lastModifiedBy>COMP</cp:lastModifiedBy>
  <dcterms:modified xsi:type="dcterms:W3CDTF">2011-10-16T15:19:36Z</dcterms:modified>
  <cp:revision>41</cp:revision>
  <dc:subject/>
  <dc:title>Периодическая система элемент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1c0000000000010243100207f6000400038000</vt:lpwstr>
  </property>
</Properties>
</file>