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gif" ContentType="image/gif"/>
  <Override PartName="/ppt/media/image8.jpeg" ContentType="image/jpeg"/>
  <Override PartName="/ppt/media/image5.png" ContentType="image/png"/>
  <Override PartName="/ppt/media/image11.png" ContentType="image/png"/>
  <Override PartName="/ppt/media/image19.gif" ContentType="image/gif"/>
  <Override PartName="/ppt/media/image1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A290-7601-49B7-B62B-857D108C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C86D-13DF-4291-A712-104D54DC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F0AC-6E06-4ECD-B537-7018EDA5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D134-97A6-4F0F-93DD-542273E5F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D88B-B095-4641-B384-9C93136CC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2DCC-A8AD-47A6-8005-1D77A078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53FE-97A8-4ED1-BB5E-6DE7EAD6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23D1-BF8D-4A11-8C07-04E8F105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4964-AE0B-4BD5-B80F-795E3F6E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480D-E9EB-4C49-BF51-0A104E7A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5E3E-D096-4612-BB6F-47900A6C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C8B5-BA69-4E8F-A09B-E6057CAF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55B6-F9AA-44F6-B3B3-5BAA777B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C61E-E416-41BD-AAC6-0C0F5B4D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3E55-4D59-49A9-B990-6E12C25E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0604-077E-4D20-905A-A04E4EC08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896B-B929-4F17-91A8-DEA9C1EA1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4B2B70-E8B7-4C89-A0B9-AAC26959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B5C068-97F1-470A-9B7F-344A370A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31CB8D-967D-4FA4-B29C-872DED50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726A8A-DEFE-4990-8661-79642EE0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09753F-9A6C-4CBA-840D-9D6E70D0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DA7B-E5AA-4E69-91C5-B0835BB5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EA3120-DB30-472A-B78C-AAA04419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B185C8-DD2D-46EB-8A92-6DB1E244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9C7EF3-E029-4554-A076-395710E5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53DADC-8B3C-4B73-AFAB-6F2C3847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B109F5-B3A7-4DDF-ADA8-9A8FA949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045067-AD39-44C8-8DFD-70AA35012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543340-14D6-4E43-9DD5-A7A273C0C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4C99-7429-4E01-8962-6800175F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5B7B-C352-4C5A-8A48-1F9E0C58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8B18-5551-44E3-9187-0AABAD9E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D4AE-8D64-4009-AF3E-26EE5259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6E10-D5A7-4EFA-8DFB-BEBD05A4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5930-650D-433F-8CE9-8AE6337D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F9F6-E5DB-440E-8DA5-DFB5D61913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4520-FB53-4DF1-A30B-7DE4CADE18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E975-B5F5-4D87-B1AE-BA36F9569B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85520" y="928440"/>
            <a:ext cx="7699320" cy="37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Состав, строение   </a:t>
            </a:r>
            <a:br>
              <a:rPr sz="4800"/>
            </a:br>
            <a:r>
              <a:rPr b="1" i="1" lang="ru-RU" sz="4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и свойства </a:t>
            </a:r>
            <a:br>
              <a:rPr sz="4800"/>
            </a:br>
            <a:r>
              <a:rPr b="1" i="1" lang="ru-RU" sz="4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белков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d60093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 flipV="1" rot="10800000">
            <a:off x="1213920" y="359640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785880" y="128592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42600" y="499680"/>
            <a:ext cx="792972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Состав молекул белков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4260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ожите, какие химические элементы должны обязательно присутствовать в молекулах белков, состоящих из аминокислотных остат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чая гипотеза: в белках должны быть атомы углерода, водорода , азота, возможно присутствие серы и др. элемен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экспериментально доказать наличие этих химических элементов в молекулах белко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7" descr="C:\Documents and Settings\пользователь\Мои документы\Мои рисунки\adcdca28ae7d6afd55aa249c6af8c596.gif"/>
          <p:cNvPicPr/>
          <p:nvPr/>
        </p:nvPicPr>
        <p:blipFill>
          <a:blip r:embed="rId1"/>
          <a:stretch/>
        </p:blipFill>
        <p:spPr>
          <a:xfrm>
            <a:off x="785880" y="714240"/>
            <a:ext cx="1008000" cy="857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42600" y="571680"/>
            <a:ext cx="792972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Анализ видео-эксперимента оформляем в таблицу</a:t>
            </a:r>
            <a:endParaRPr b="0" lang="en-US" sz="3600" spc="-1" strike="noStrike">
              <a:solidFill>
                <a:srgbClr val="d60093"/>
              </a:solidFill>
              <a:latin typeface="Calibri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42960" y="1714680"/>
          <a:ext cx="7858080" cy="4214520"/>
        </p:xfrm>
        <a:graphic>
          <a:graphicData uri="http://schemas.openxmlformats.org/drawingml/2006/table">
            <a:tbl>
              <a:tblPr/>
              <a:tblGrid>
                <a:gridCol w="1643040"/>
                <a:gridCol w="1500120"/>
                <a:gridCol w="1571760"/>
                <a:gridCol w="1785960"/>
                <a:gridCol w="135720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я-емый элем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г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протекания ре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аемые изме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в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наружение углерода и водор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05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наружение атомов аз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наружение атомов с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2286000" y="2286000"/>
            <a:ext cx="507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ксперимент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3840" y="499680"/>
            <a:ext cx="864396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Обнаружение углерода и водорода</a:t>
            </a:r>
            <a:endParaRPr b="0" lang="en-US" sz="4000" spc="-1" strike="noStrike">
              <a:solidFill>
                <a:srgbClr val="d60093"/>
              </a:solidFill>
              <a:latin typeface="Calibri"/>
            </a:endParaRPr>
          </a:p>
        </p:txBody>
      </p:sp>
      <p:pic>
        <p:nvPicPr>
          <p:cNvPr id="160" name="отношение к нагреванию.wmv" descr=""/>
          <p:cNvPicPr/>
          <p:nvPr/>
        </p:nvPicPr>
        <p:blipFill>
          <a:blip r:embed="rId1"/>
          <a:stretch/>
        </p:blipFill>
        <p:spPr>
          <a:xfrm>
            <a:off x="1523880" y="15764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2600" y="428400"/>
            <a:ext cx="792972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Обнаружение атомов азота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pic>
        <p:nvPicPr>
          <p:cNvPr id="162" name="обнаружение азота.wmv" descr=""/>
          <p:cNvPicPr/>
          <p:nvPr/>
        </p:nvPicPr>
        <p:blipFill>
          <a:blip r:embed="rId1"/>
          <a:stretch/>
        </p:blipFill>
        <p:spPr>
          <a:xfrm>
            <a:off x="1523880" y="15764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" dur="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2600" y="357120"/>
            <a:ext cx="792972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Обнаружение атомов серы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pic>
        <p:nvPicPr>
          <p:cNvPr id="164" name="обнаружение атомов серы.wmv" descr=""/>
          <p:cNvPicPr/>
          <p:nvPr/>
        </p:nvPicPr>
        <p:blipFill>
          <a:blip r:embed="rId1"/>
          <a:stretch/>
        </p:blipFill>
        <p:spPr>
          <a:xfrm>
            <a:off x="1523880" y="15764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"/>
          <p:cNvSpPr/>
          <p:nvPr/>
        </p:nvSpPr>
        <p:spPr>
          <a:xfrm flipV="1" rot="10800000">
            <a:off x="1213920" y="359640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785880" y="128592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2600" y="785520"/>
            <a:ext cx="7929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Сверим результаты с научными данными</a:t>
            </a:r>
            <a:endParaRPr b="0" lang="en-US" sz="40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42960" y="1785960"/>
            <a:ext cx="78580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ставе белков содержи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ерод (51 - 53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род  (21,5 – 23,5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от  (16 – 18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  (6 – 7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а  (0,3 – 2,5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сфор (в некоторых белках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Рабочая гипотеза подтвердилась экспериментально</a:t>
            </a:r>
            <a:r>
              <a:rPr b="1" i="1" lang="ru-RU" sz="3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!</a:t>
            </a:r>
            <a:r>
              <a:rPr b="0" lang="ru-RU" sz="3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42600" y="785520"/>
            <a:ext cx="7929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Исследование физических свойств белков</a:t>
            </a:r>
            <a:endParaRPr b="0" lang="en-US" sz="40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71320" y="1928520"/>
            <a:ext cx="80722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помните известные вам белки (белок яйца, молочный белок, желатин и други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ишите их состояние и отношение к вод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ли белки одинаково растворяются в воде? От каких факторов зависит растворимость белка? Разрушаются ли при этом молекулы белков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"/>
          <p:cNvSpPr/>
          <p:nvPr/>
        </p:nvSpPr>
        <p:spPr>
          <a:xfrm>
            <a:off x="2286000" y="2286000"/>
            <a:ext cx="507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ксперимент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42600" y="428400"/>
            <a:ext cx="792972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Отношение белков к воде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pic>
        <p:nvPicPr>
          <p:cNvPr id="173" name="растворение желатина .wmv" descr=""/>
          <p:cNvPicPr/>
          <p:nvPr/>
        </p:nvPicPr>
        <p:blipFill>
          <a:blip r:embed="rId1"/>
          <a:stretch/>
        </p:blipFill>
        <p:spPr>
          <a:xfrm>
            <a:off x="1523880" y="15764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6" dur="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2600" y="428400"/>
            <a:ext cx="792972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Цели и задачи урока: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85880" y="14288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видео-эксперимента исследовать состав, а так же некоторые физические и химические свойства бел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Задач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состав, строение  и свойства белков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формированию исследовательских навыков учащихс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способности анализа  и синтеза через обсуждение результатов эксперимен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2600" y="642960"/>
            <a:ext cx="792972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Особое свойство белков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лки, содержащиеся в пищевых продуктах (зерновых, мясе, яйцах и др.), мы подвергаем тепловой обработке. Что происходит при этом с белко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лько ли нагревание может вызывать денатурацию белка? Какие еще факторы приводят к разрушению структур белка и потере биологических функци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1"/>
          <p:cNvSpPr/>
          <p:nvPr/>
        </p:nvSpPr>
        <p:spPr>
          <a:xfrm>
            <a:off x="2286000" y="2286000"/>
            <a:ext cx="507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ксперимент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42600" y="428400"/>
            <a:ext cx="792972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Реакция денатурации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pic>
        <p:nvPicPr>
          <p:cNvPr id="178" name="денатурация белка.wmv" descr=""/>
          <p:cNvPicPr/>
          <p:nvPr/>
        </p:nvPicPr>
        <p:blipFill>
          <a:blip r:embed="rId1"/>
          <a:stretch/>
        </p:blipFill>
        <p:spPr>
          <a:xfrm>
            <a:off x="1523880" y="15764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" dur="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2600" y="49968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Заполните схему: </a:t>
            </a:r>
            <a:br>
              <a:rPr sz="3600"/>
            </a:br>
            <a:r>
              <a:rPr b="1" i="1" lang="ru-RU" sz="36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«Факторы денатурации»</a:t>
            </a:r>
            <a:endParaRPr b="0" lang="en-US" sz="3600" spc="-1" strike="noStrike">
              <a:solidFill>
                <a:srgbClr val="d60093"/>
              </a:solidFill>
              <a:latin typeface="Calibri"/>
            </a:endParaRPr>
          </a:p>
        </p:txBody>
      </p:sp>
      <p:pic>
        <p:nvPicPr>
          <p:cNvPr id="180" name="Содержимое 3" descr=""/>
          <p:cNvPicPr/>
          <p:nvPr/>
        </p:nvPicPr>
        <p:blipFill>
          <a:blip r:embed="rId1"/>
          <a:stretch/>
        </p:blipFill>
        <p:spPr>
          <a:xfrm>
            <a:off x="633240" y="1584360"/>
            <a:ext cx="7877520" cy="4548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42600" y="571680"/>
            <a:ext cx="792972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Качественные реакции на белки</a:t>
            </a:r>
            <a:endParaRPr b="0" lang="en-US" sz="40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помните понятие «качественной реакции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каких целей используют качественные реакци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ставителям каких профессий необходимы знания аналитической хими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1"/>
          <p:cNvSpPr/>
          <p:nvPr/>
        </p:nvSpPr>
        <p:spPr>
          <a:xfrm>
            <a:off x="2286000" y="2286000"/>
            <a:ext cx="507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ксперимент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42600" y="428400"/>
            <a:ext cx="792972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Биуретовая реакция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pic>
        <p:nvPicPr>
          <p:cNvPr id="185" name="биуретовая реакция.wmv" descr=""/>
          <p:cNvPicPr/>
          <p:nvPr/>
        </p:nvPicPr>
        <p:blipFill>
          <a:blip r:embed="rId1"/>
          <a:stretch/>
        </p:blipFill>
        <p:spPr>
          <a:xfrm>
            <a:off x="1523880" y="15764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2" dur="indefinite" restart="never" nodeType="tmRoot">
          <p:childTnLst>
            <p:seq>
              <p:cTn id="93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7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42600" y="428400"/>
            <a:ext cx="792972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Ксантопротеиновая реакция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pic>
        <p:nvPicPr>
          <p:cNvPr id="187" name="ксантопротеиновая р-я.wmv" descr=""/>
          <p:cNvPicPr/>
          <p:nvPr/>
        </p:nvPicPr>
        <p:blipFill>
          <a:blip r:embed="rId1"/>
          <a:stretch/>
        </p:blipFill>
        <p:spPr>
          <a:xfrm>
            <a:off x="1523880" y="15764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3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42600" y="357120"/>
            <a:ext cx="792972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Качественные реакции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42600" y="2642760"/>
            <a:ext cx="38545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иуретов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ак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42600" y="3642840"/>
            <a:ext cx="3854520" cy="24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генты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димые признак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44720" y="2571840"/>
            <a:ext cx="385596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сантопротеиновая реак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644720" y="3642840"/>
            <a:ext cx="3855960" cy="24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генты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димые признак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8"/>
          <p:cNvSpPr/>
          <p:nvPr/>
        </p:nvSpPr>
        <p:spPr>
          <a:xfrm>
            <a:off x="1071720" y="1428840"/>
            <a:ext cx="66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формите результаты наблюдения  следующим обра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8" descr="C:\Documents and Settings\пользователь\Мои документы\Мои рисунки\ж.png"/>
          <p:cNvPicPr/>
          <p:nvPr/>
        </p:nvPicPr>
        <p:blipFill>
          <a:blip r:embed="rId1"/>
          <a:stretch/>
        </p:blipFill>
        <p:spPr>
          <a:xfrm>
            <a:off x="3500280" y="4500720"/>
            <a:ext cx="1914840" cy="1960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850104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Подведение итогов исследования</a:t>
            </a:r>
            <a:endParaRPr b="0" lang="en-US" sz="40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помощью эксперимента мы подтвердили качественный состав молекул белков, обнаружив в них атомы углерода, азота и се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ы исследовали отношение белка к воде на примере желатина, увидели образование коллоидного раствора и студн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Виды деятельности на уроке: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42600" y="1143000"/>
            <a:ext cx="385452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Деятельность учител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42600" y="1785960"/>
            <a:ext cx="38545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деятельности учащих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нстрация презентации с видеофрагмента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беседы по результатам просмотр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ение контроля активности и грамотности работы учащих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4720" y="1214280"/>
            <a:ext cx="3855960" cy="5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Деятельность ученик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44720" y="1714680"/>
            <a:ext cx="38559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мотр видеофрагмен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ение и анализ увиденног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таблиц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вывод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ие нового материа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ая соединительная линия 17"/>
          <p:cNvSpPr/>
          <p:nvPr/>
        </p:nvSpPr>
        <p:spPr>
          <a:xfrm>
            <a:off x="4357800" y="1428840"/>
            <a:ext cx="71280" cy="4786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42976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Подведение итогов исследования</a:t>
            </a:r>
            <a:endParaRPr b="0" lang="en-US" sz="40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ходе эксперимента выявили факторы, вызывающие денатурацию белковых молеку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накомились с качественным реакциями, с помощью которых можно обнаружить присутствие белковых молеку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42600" y="499680"/>
            <a:ext cx="792972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§ 27 изуч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ить ответы на вопросы 3 – 8, стр. 23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5" descr="C:\Documents and Settings\пользователь\Мои документы\Мои рисунки\ы.gif"/>
          <p:cNvPicPr/>
          <p:nvPr/>
        </p:nvPicPr>
        <p:blipFill>
          <a:blip r:embed="rId1"/>
          <a:stretch/>
        </p:blipFill>
        <p:spPr>
          <a:xfrm>
            <a:off x="3451320" y="3081240"/>
            <a:ext cx="2192400" cy="2133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1"/>
          <p:cNvSpPr/>
          <p:nvPr/>
        </p:nvSpPr>
        <p:spPr>
          <a:xfrm>
            <a:off x="1785960" y="571680"/>
            <a:ext cx="57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Информационные источ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2"/>
          <p:cNvSpPr/>
          <p:nvPr/>
        </p:nvSpPr>
        <p:spPr>
          <a:xfrm>
            <a:off x="714240" y="1143000"/>
            <a:ext cx="7858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С.Габриелян. Химия. 10 класс: учеб. Для общеобраз. Учреждений. – М.: Дрофа, 20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С.Габриелян, И.Г.Остроумова. Настольная книга учителя химии. 10 класс. – М.: «Блик и К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2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  диск «Электронные уроки и тесты. Химия в школе». ЗАО «Просвещение – МЕДИА», 20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  диск «Органическая химия. 10-11 класс». Лаборатория систем мультимедиа, 20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2600" y="428400"/>
            <a:ext cx="792972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Что мы знаем о белках?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биополимер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номерами белков являются аминокислот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татки аминокислот связаны множественными пептидными связя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857160" y="4357800"/>
            <a:ext cx="7715520" cy="1863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57232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Структурная организация белков</a:t>
            </a:r>
            <a:endParaRPr b="0" lang="en-US" sz="4000" spc="-1" strike="noStrike">
              <a:solidFill>
                <a:srgbClr val="d60093"/>
              </a:solidFill>
              <a:latin typeface="Calibri"/>
            </a:endParaRPr>
          </a:p>
        </p:txBody>
      </p:sp>
      <p:pic>
        <p:nvPicPr>
          <p:cNvPr id="136" name="Picture 2" descr="C:\Documents and Settings\1111\Мои документы\Мои рисунки\httpwww.ebio.ruimages08010502.jpg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714240" y="1785960"/>
            <a:ext cx="7899480" cy="4014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2600" y="642960"/>
            <a:ext cx="792972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Первичная структура белка</a:t>
            </a:r>
            <a:br>
              <a:rPr sz="4000"/>
            </a:b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28800" y="5000400"/>
            <a:ext cx="750096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цесс расщепления (гидролиза) пептидных связей белков в организме под действием ферментов составляет основу процесса пищевар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7" descr="Первичная структура"/>
          <p:cNvPicPr/>
          <p:nvPr/>
        </p:nvPicPr>
        <p:blipFill>
          <a:blip r:embed="rId1"/>
          <a:stretch/>
        </p:blipFill>
        <p:spPr>
          <a:xfrm>
            <a:off x="2500200" y="2571840"/>
            <a:ext cx="4392720" cy="19288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785880" y="1428840"/>
            <a:ext cx="764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зуется определенным порядком соединения аминокислот и обусловлена пептидными связями. Она разрушается при гидролизе бел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28548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Вторичная структура белка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28800" y="1988640"/>
            <a:ext cx="4867200" cy="388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пептидная цепь закручивается в виде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пирал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ки скреплены между собой водородными связя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ые связи ориентированы вдоль оси спира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6" descr="Вторичная структура"/>
          <p:cNvPicPr/>
          <p:nvPr/>
        </p:nvPicPr>
        <p:blipFill>
          <a:blip r:embed="rId1"/>
          <a:stretch/>
        </p:blipFill>
        <p:spPr>
          <a:xfrm>
            <a:off x="6215040" y="1357200"/>
            <a:ext cx="2244600" cy="4659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56760"/>
            <a:ext cx="82296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Третичная структура белка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56800" y="1571760"/>
            <a:ext cx="5072040" cy="42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трехмерная пространственная структура, образующаяся за счет взаимодействия радикалов аминокисло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дикалы по своей полярности делятся на гидрофобные  (уходят внутрь, отталкиваясь от воды) и гидрофильные (вступают во взаимодействие с водой, тянутся к ней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иралевидная нить аминокислот из-за этих взаимодействий свёртывается и образует клубок или фибриллу, специфичную для каждого бел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5" descr="Третичная структура"/>
          <p:cNvPicPr/>
          <p:nvPr/>
        </p:nvPicPr>
        <p:blipFill>
          <a:blip r:embed="rId1"/>
          <a:stretch/>
        </p:blipFill>
        <p:spPr>
          <a:xfrm>
            <a:off x="6000840" y="2071800"/>
            <a:ext cx="2421000" cy="2693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6760" y="356760"/>
            <a:ext cx="834084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Четвертичная структура белка</a:t>
            </a:r>
            <a:endParaRPr b="0" lang="en-US" sz="40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42600" y="1773360"/>
            <a:ext cx="5143320" cy="27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оит из нескольких полипептидных цепей. Есть не у всех белков, только самых сложных. Например, гемоглобин - это сложный белок, состоящий из четырех полипептидных цепей, соединенных четырьмя гемами – то есть небелковыми образовани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857160" y="4714920"/>
            <a:ext cx="47228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ована ионными, водородными, гидрофобными и другими видами  связ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0" descr="Четвертичная структура"/>
          <p:cNvPicPr/>
          <p:nvPr/>
        </p:nvPicPr>
        <p:blipFill>
          <a:blip r:embed="rId1"/>
          <a:stretch/>
        </p:blipFill>
        <p:spPr>
          <a:xfrm>
            <a:off x="5929200" y="2143080"/>
            <a:ext cx="2551320" cy="2665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3T14:52:41Z</dcterms:created>
  <dc:creator>Анастасия</dc:creator>
  <dc:description/>
  <dc:language>en-US</dc:language>
  <cp:lastModifiedBy>COMP</cp:lastModifiedBy>
  <dcterms:modified xsi:type="dcterms:W3CDTF">2011-10-16T15:19:36Z</dcterms:modified>
  <cp:revision>41</cp:revision>
  <dc:subject/>
  <dc:title>Периодическая система элемент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1c0000000000010243100207f6000400038000</vt:lpwstr>
  </property>
</Properties>
</file>