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9EB-B73D-48A8-A137-DC5408D3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411-6B6B-4B9A-8229-7D5F38A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511-AC4B-42D7-BC54-E46F8090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95F-6D05-4F9F-B50E-F35F0A69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D7C-10D0-4ADE-9D40-C67FC2C7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D745-A8C0-4057-BBDF-20FAEB49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2FC4-96CE-4102-89F6-8F5C781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8514-327F-45AE-91A4-71B1883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0543-F1D2-417D-9363-FCCD554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35F-E231-42C1-9967-110617E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DFE3-6CF1-4BF6-9FDE-855A9FA2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E6F-A3B5-4666-80A2-8A4847D0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4A23-D0A1-4F63-901D-6D9E9E0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0BE-3BA8-4E8A-B152-F8B7593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093-82B8-4F54-AED4-AE271FB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C7D-6D06-42B9-946D-965068B6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7544-5D09-4E20-B7F8-989FB75E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881-9554-4169-83FE-71422CDA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B48-0C78-4609-9ADB-E17B2025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759-9AAF-4E47-81C7-5251403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9D7-157F-42E9-84B8-54D05FF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58D-1799-4CCC-97C8-2859B9F2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80E-38CA-49B4-B035-E796932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E95-0E74-4C6D-B20E-2F016CA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ECA-E720-40A9-97D8-E8165FE82DE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D135-0B45-4C93-8441-4D3A7CD731F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Г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федра общей хирургии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Общие вопросы хирургии повреждений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Механическая травма. Вывихи. Переломы. Первая помощь, леч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620640"/>
            <a:ext cx="757584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Врожденные вывих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развития суставных концов к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ещение последних происходит в внутриутробном пери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Приобретенные вывих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авматический (действие травм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прямая травма с приложением силы в дали от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зование рычага с точкой опоры в области суставных концов к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тологические (заболевание суставов с разрушением суставных поверхностей костей (опухоли ,туберкулез, остеомиелит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Осложненные вывих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реждение крупных сосу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реждение нерв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лом к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47640" y="549360"/>
            <a:ext cx="722016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Жалоб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 в области суст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зможность выполн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тивных и пассивных движ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и осмотр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формация в области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обычное вынужденное положение конеч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ктивные движения невозмож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корочение или изменение оси конеч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езненность в области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ассивные движения ограни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птом пружинящей фикс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птом клави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03280" y="457200"/>
            <a:ext cx="6750000" cy="65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ЛЕ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РАВ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ОБИЛИЗАЦИЯ КОНЕ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СТАНОВЛЕНИЕ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ВЫВИХ ПЛЕ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ЕЧЕВОЙ СУСТАВ ДЕФОРМИРОВ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ЛОВКА ПЛЕЧА ОТСУТСТВУЕТ НА ОБЫЧНОМ МЕС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ПРАВЛ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Кох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Джанелид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М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Гиппок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23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685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04640"/>
            <a:ext cx="705636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 Кох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1 ЭТАП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ного укладывают на стол на спин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ксируют надплеч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ирург 2-я руками осуществляет тягу за предплечье и нижнюю часть плеча по оси плеча одновременно прижимая его к туловищ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66"/>
                </a:solidFill>
                <a:uFillTx/>
                <a:latin typeface="Tahoma"/>
              </a:rPr>
              <a:t>2 ЭТАП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растяжения мышц и капсулы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ослабляя натяжения по оси плеча предплечье отводят кнаружи до фронтальной поверхности вращая плечо вокруг о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3 ЭТА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ставная поверхность головки плеча выводится кнаруж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ослабляя натяжения и отведения, не отрывая локоть от туловища , предплечье перемещают к средней ли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Tahoma"/>
              </a:rPr>
              <a:t>4 ЭТА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зким движением закидывают кисть руки на противоположный плечевой сустав а предплечье перемещают на переднюют поверхность груд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2514600"/>
            <a:ext cx="6324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лом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9051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ерелом (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ractura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— нарушение целости кости на протяжении, вызванное механическим воздействием (травма) или влиянием патологического процесса в кости (опухоль, воспа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838080"/>
            <a:ext cx="73598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лассификация перел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. По происхождению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ожденные (внутриутробны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обрете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2. В зависимости от повреждения тех или иных орган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ложне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сложне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3. По лока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афиза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пифиза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4. По отношению линии перелома к продольной оси кости попер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с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нтообразные  (спиральны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5. По положению костных отломков друг к другу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 смещени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 смещения отлом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33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51814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видности переломов: а) при сгибании, б) от удара, в) торзионный, г) раздробленный, д) вколоч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ханические повреждения мягких ткан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ши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тя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ыв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полные  перело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1447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Трещ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- неполный перелом, при котором связь между частями кости нарушена частич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ия перелома может бы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ям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оперечный перелом) - при прямом уда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Кос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при сгиб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ирально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интообразный) - при скручивани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колоченн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при сдавле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трывн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оторвавшийся костный фрагмент отходит от основной 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79520" y="58680"/>
            <a:ext cx="5964480" cy="682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8000" y="457200"/>
            <a:ext cx="670248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мещение отломков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щение отломков может бы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ервичны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под воздействием механической сил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торичны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под влиянием сокращения мыш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иды смещения отлом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  углом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axi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ковые смещения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 ad latu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длине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longitudine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периферии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loc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periferiu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555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5546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ЫЕ ВАРИАНТЫ СМЕЩЕНИЯ КОСТНЫХ ОТЛОМКОВ ПР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ЛОМАХ: а - БОКОВОЕ СМЕЩЕНИЕ; б - СМЕЩЕНИЕ ПО ОСИ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П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ТЛОМ); в - СМЕЩЕНИЕ ПО ДЛИНЕ С УДАЛЕНИЕМ;    Г - СМЕЩЕНИЕ ПО ДЛИНЕ С УКОРОЧЕНИЕМ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РОТАЦИОННОЕ С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19280" y="380880"/>
            <a:ext cx="7200720" cy="63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Условия, определяющие сращение перел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ОБЩИЕ ФАКТО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репаративной способности тка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онические истощающие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обмена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достаточность белкового 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- и авитамин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2. АНАТОМО-ФИЗИОЛОГИЧЕСКИЕ 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3. МЕСТНЫЕ ФАКТОРЫ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яжелая травма, обширные повреждения мягких тка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дкостницы, к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тройство кровообращения в зоне перел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ение иннервации в зоне перел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утрисуставные перело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полная репозиция (сопоставление) или недостаточна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ксация (иммобилизация) отломк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тие инфекционных ослож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позиция тка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58920" y="260280"/>
            <a:ext cx="7416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бслед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ДОСТОВЕРНЫЕ ПРИЗНА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атологическая подвижность — К примеру качательные движения в области бедра, плеча, голени, предплечья указывают на наличие перелом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Крепитацию отломков определяют руками. Фиксируют конечность выше и ниже места перелома и смещают ее то в одну, то в другую сторону. Появление хруста трущихся друг о друга отломков является абсолютным признаком перелом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При клиническом обследовании измеряют длину конечности, определяют пульсацию периферических сосудов, кожную чувствительность, активные движения пальцев конеч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8000" y="457200"/>
            <a:ext cx="6931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Лечение перело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Tahoma"/>
              </a:rPr>
              <a:t>три основных принципа леч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репозиция костных отлом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удержание, создание неподвижности сопоставленных костных отломков и иммобилизация орг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применение средств и методов, ускоряющих образование костной мозоли и сращение кости (консолидация 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457200"/>
            <a:ext cx="815328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Иммобилизация гипсовой повязкой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Гипс (сульфат кальция) представляет собой мельчайший порошок, который при смешивании с водой образует кашицеобразную массу , отвердевающую в течении нескольких мин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ечности необходимо придать функционально выгодное поло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лжна быть хорошая репозиция костных отломков, которые необходимо удерживать во время наложения повязки и до затвердения гип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совой повязкой должны быть фиксированы два близлежащих суст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цы пальцев кисти или стопы должны оставаться открыт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 костные выступы подкладывают ватные подушечки из простой (негигроскопичной) ваты, которая более эластична и не впитывает п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язка должна быть тщательно отмоделирована, равномерно облегать, но не сдавливать подлежащую часть т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 наложения повязки ее маркируют: химическим ка­рандашом указывают дату перелома, наложения повязки и, пред­полагаемый срок ее сня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24000" y="609480"/>
            <a:ext cx="656280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ИДЫ ГИПСОВЫХ ПОВЯЗ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нге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ркуля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нгетно-циркуля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онча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ви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сращения перелома гипсовую повязку снимают. Специальными ножницами или пилкой повязку рассекают вдоль конечности, края разреза отодвигают в стороны и конечность осторожно извлекаю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8920" y="677880"/>
            <a:ext cx="750420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 постоянного вытя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тяжение следует проводить в среднефизиологичес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ожении поврежденной конечности, т. е. в состоянии равновесия между мышцами-антагонистами. Это достигается полусогнутым положением конечности, уложенной на шины Белера, Богдан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  Репозицию следует проводить по оси центрального костного отломка, т. е. периферический отломок должен быть установлен по оси центральн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грузка при вытяжении должна увеличиваться постепенно, что способствует безболезненному растяжению мышц и репозиции отлом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 Необходимо создание противовытяжения, что достигает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пример, приподниманием ножного конца кровати при лечен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ломов нижних конечностей. В таком положении масса те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ного создает противовытя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Уши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Симптомы ушиб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пухл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воподт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пораженного органа сохранена. Нарушается при нарастании отека, гемато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19280" y="228600"/>
            <a:ext cx="734544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перативное  лечение  перелом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АБСОЛЮТНЫЕ ПОКАЗ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рытые перело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реждение жизненно важных органов отломками костей (вещества головного, спинного мозга, органов грудной и брю­шной полости, крупных сосудов, нервов конечносте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интерпозиция мягких тканей (состояние, когда между отломками костей оказались мягкие ткани — мышца, сухожилие, фасция и др., что делает невозможным сопоставление костных отломков и сращение кост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ложный суста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гнойно-воспалительные осложнения перело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неправильно сросшиеся переломы с грубым нарушение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ункции органа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8000" y="609480"/>
            <a:ext cx="6626520" cy="62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ОТНОСИТЕЛЬНЫЕ ПОКАЗ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) неудавшаяся многократная попытка сопоставить (репонировать) костные отлом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) замедленная консолидация перелом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) поперечные переломы длинных трубчатых костей, когда нельзя сопоставить или удержать костные отлом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4) неправильно сросшиеся переломы с незначительным нарушением функции орга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79640" y="114480"/>
            <a:ext cx="6840360" cy="71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ходы лечения перело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ное восстановление анатомической целостности и функции коне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Полное восстановление анатомической целостности с нарушением функции органа вследствие атрофии мышц, тугоподвижности, контрактуры сустав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Неправильно сросшиеся переломы с изменением формы кости или органа (укорочение, искривление) и нарушением функции конечности (хромота, ограничение объема движени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Неправильно сросшиеся переломы с восстановлением функции коне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Несросшиеся переломы — ложный сустав  (псевдоартро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. Посттравматический остеомиели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4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ервая помощь и леч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обилизация конеч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лод (пузырь со льдом) в первые ст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вящая повяз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пловые процедуры со 2 сут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наличии большой гематомы – пункция, удаление крови, давящая повяз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равматический токсикоз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оним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индром длительного раздавливания, краш-синдром, синдром позиционного сдав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яние, обусловленное длительным (4-8 ч) раздавливанием мягких тканей конечностей, в основе которого лежит ишемический некроз мышц, интоксикация продуктами распада, печеночно-почечная недостаточ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атогенетические факторы синдрома длительного раздавлив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евое раздраж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вматическая токсемия вследствие всасывания продуктов распада тка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зма - кровопоте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ническое те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нарастания отека и сосудистой недостаточности (1-3 д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острой почечной недостаточности (3-12 дне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выздоро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Ле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 первом перио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зболи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угое бинтование конеч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ивошоковая дезинтоксикационная терап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ибиотикотерап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о втором перио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модиал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 третьем перио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 гнойных р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04920"/>
            <a:ext cx="8458200" cy="64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олное смещение суставных концов костей по отношению друг к дру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вихи сопровождаются разрывом капсулы сустава и связочного аппарата с выхождением через разрыв капсулы одной из суставных поверх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КЛАССИФИКА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рожд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обрет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авмат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толог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Осложн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Неосложн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E</cp:lastModifiedBy>
  <dcterms:modified xsi:type="dcterms:W3CDTF">2008-10-08T09:47:05Z</dcterms:modified>
  <cp:revision>33</cp:revision>
  <dc:subject/>
  <dc:title>PowerPoint Presentation</dc:title>
</cp:coreProperties>
</file>