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4825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1E460-7587-4A40-8583-900B62E24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0B7BC-C128-4D5C-B88C-202CA4F2D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455AA-74B0-479D-A9FE-48F758CF2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42CF7-F7E0-4708-A290-0EB74DD2A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908B7-84B3-40B8-9F96-CEC24E3A3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510F6-7331-4354-9E9E-BDABD5834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48F16-07EB-4B39-ADA1-C8294721F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52973-5276-42BF-9077-259BB9A29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CF071-7ECA-4169-A8ED-CCC32EF3B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86A5D-4C86-4DC8-A816-0D33962DE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D1A41-93B4-4FA0-B0CE-54E6FAC14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33067-B9AA-4358-A5FE-4045C0CC0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D0B84-FEFC-4724-A0F6-CE837AE68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4352F-2EC1-4B6F-A27E-76C8A897F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61655-C46B-4C33-88CB-3FD732161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4E8C4-D412-49CD-9E15-1121BD2C9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C3F4A-9DDC-4041-A8DE-93C522B6D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02259-72C2-41D1-8648-FBFC1793F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15814-B0CD-4215-8ECE-047FC081F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8594C-93CE-4784-9485-5E49F5782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FD665-97B7-494F-B44B-8219144E0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B26E0-B5D2-48CD-97E1-CB9DB05A8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F685B-7AF6-4BF5-8A92-78EB5A3C1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DFF5F-4495-453C-BFFC-53E25AF01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AFB6E-517F-4492-BD4B-8C783C64E9BB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5AD41-5313-4ECC-ABE7-27A66BA3AD59}" type="slidenum">
              <a:rPr b="0" lang="ru-RU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71600" y="549000"/>
            <a:ext cx="777240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ГМУ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афедра общей хирургии</a:t>
            </a:r>
            <a:br>
              <a:rPr sz="2800"/>
            </a:br>
            <a:br>
              <a:rPr sz="2800"/>
            </a:br>
            <a:r>
              <a:rPr b="1" lang="ru-RU" sz="4400" spc="-1" strike="noStrike">
                <a:solidFill>
                  <a:srgbClr val="3333cc"/>
                </a:solidFill>
                <a:latin typeface="Times New Roman"/>
              </a:rPr>
              <a:t>Общие вопросы хирургии повреждений</a:t>
            </a:r>
            <a:br>
              <a:rPr sz="4400"/>
            </a:br>
            <a:r>
              <a:rPr b="1" i="1" lang="ru-RU" sz="4400" spc="-1" strike="noStrike">
                <a:solidFill>
                  <a:srgbClr val="3333cc"/>
                </a:solidFill>
                <a:latin typeface="Times New Roman"/>
              </a:rPr>
              <a:t>Механическая травма. Вывихи. Переломы. Первая помощь, лечение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187280" y="620640"/>
            <a:ext cx="7575840" cy="59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Tahoma"/>
              </a:rPr>
              <a:t>Врожденные вывихи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Нарушение развития суставных концов кост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Смещение последних происходит в внутриутробном период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Tahoma"/>
              </a:rPr>
              <a:t>Приобретенные вывихи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Травматический (действие травмы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Непрямая травма с приложением силы в дали от сустав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бразование рычага с точкой опоры в области суставных концов кост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атологические (заболевание суставов с разрушением суставных поверхностей костей (опухоли ,туберкулез, остеомиелит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Tahoma"/>
              </a:rPr>
              <a:t>Осложненные вывихи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овреждение крупных сосудо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овреждение нерво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ерелом косте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sh dir="r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547640" y="549360"/>
            <a:ext cx="7220160" cy="593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Tahoma"/>
              </a:rPr>
              <a:t>Жалобы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Боль в области сустав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евозможность выполнения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активных и пассивных движени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Tahoma"/>
              </a:rPr>
              <a:t>При осмотре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Деформация в области сустав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Необычное вынужденное положение конечност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Активные движения невозможн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Укорочение или изменение оси конечност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Болезненность в области сустав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Пассивные движения ограничен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Симптом пружинящей фиксаци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Симптом клавиш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sh dir="r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403280" y="457200"/>
            <a:ext cx="6750000" cy="651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Tahoma"/>
              </a:rPr>
              <a:t>ЛЕЧЕНИЕ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ВПРАВЛЕНИЕ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ИМОБИЛИЗАЦИЯ КОНЕЧНОСТ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ВОССТАНОВЛЕНИЕ ФУНКЦИ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Tahoma"/>
              </a:rPr>
              <a:t>ВЫВИХ ПЛЕЧ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ЛЕЧЕВОЙ СУСТАВ ДЕФОРМИРОВА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ГОЛОВКА ПЛЕЧА ОТСУТСТВУЕТ НА ОБЫЧНОМ МЕСТ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ВПРАВЛЕНИЕ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Метод Кохер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Метод Джанелидз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Метод Мот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Метод Гиппократ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sh dir="r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752480" y="0"/>
            <a:ext cx="5423040" cy="68580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380880" y="685800"/>
            <a:ext cx="8534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692360" y="404640"/>
            <a:ext cx="7056360" cy="63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ahoma"/>
              </a:rPr>
              <a:t>Метод Кохер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0066"/>
                </a:solidFill>
                <a:uFillTx/>
                <a:latin typeface="Tahoma"/>
              </a:rPr>
              <a:t>1 ЭТАП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Больного укладывают на стол на спину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Фиксируют надплечь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Хирург 2-я руками осуществляет тягу за предплечье и нижнюю часть плеча по оси плеча одновременно прижимая его к туловищу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0066"/>
                </a:solidFill>
                <a:uFillTx/>
                <a:latin typeface="Tahoma"/>
              </a:rPr>
              <a:t>2 ЭТАП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пределение растяжения мышц и капсулы сустав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Не ослабляя натяжения по оси плеча предплечье отводят кнаружи до фронтальной поверхности вращая плечо вокруг ос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0066"/>
                </a:solidFill>
                <a:uFillTx/>
                <a:latin typeface="Tahoma"/>
              </a:rPr>
              <a:t>3 ЭТАП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Суставная поверхность головки плеча выводится кнаруж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Не ослабляя натяжения и отведения, не отрывая локоть от туловища , предплечье перемещают к средней лини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0066"/>
                </a:solidFill>
                <a:uFillTx/>
                <a:latin typeface="Tahoma"/>
              </a:rPr>
              <a:t>4 ЭТАП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Резким движением закидывают кисть руки на противоположный плечевой сустав а предплечье перемещают на переднюют поверхность груд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sh dir="r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-63360"/>
            <a:ext cx="9144000" cy="69213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1219320" y="2514600"/>
            <a:ext cx="6324480" cy="158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ереломы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push dir="r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228600" y="1905120"/>
            <a:ext cx="86868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ahoma"/>
              </a:rPr>
              <a:t>Перелом (</a:t>
            </a: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fractura</a:t>
            </a:r>
            <a:r>
              <a:rPr b="1" lang="ru-RU" sz="3200" spc="-1" strike="noStrike">
                <a:solidFill>
                  <a:srgbClr val="333399"/>
                </a:solidFill>
                <a:latin typeface="Tahoma"/>
              </a:rPr>
              <a:t>)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— нарушение целости кости на протяжении, вызванное механическим воздействием (травма) или влиянием патологического процесса в кости (опухоль, воспаление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sh dir="r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403280" y="838080"/>
            <a:ext cx="7359840" cy="533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ahoma"/>
              </a:rPr>
              <a:t>Классификация перелом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ff0066"/>
                </a:solidFill>
                <a:latin typeface="Tahoma"/>
              </a:rPr>
              <a:t>I</a:t>
            </a:r>
            <a:r>
              <a:rPr b="1" lang="ru-RU" sz="2000" spc="-1" strike="noStrike">
                <a:solidFill>
                  <a:srgbClr val="ff0066"/>
                </a:solidFill>
                <a:latin typeface="Tahoma"/>
              </a:rPr>
              <a:t>. По происхождению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рожденные (внутриутробные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риобретенные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Tahoma"/>
              </a:rPr>
              <a:t>2. В зависимости от повреждения тех или иных органов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сложненные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неосложненные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Tahoma"/>
              </a:rPr>
              <a:t>3. По локализации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диафизарны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эпифизарны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Tahoma"/>
              </a:rPr>
              <a:t>4. По отношению линии перелома к продольной оси кости поперечны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косы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интообразные  (спиральные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Tahoma"/>
              </a:rPr>
              <a:t>5. По положению костных отломков друг к другу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со смещением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без смещения отломков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sh dir="r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8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0" y="609480"/>
            <a:ext cx="9144000" cy="433548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228600" y="5181480"/>
            <a:ext cx="86868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Разновидности переломов: а) при сгибании, б) от удара, в) торзионный, г) раздробленный, д) вколоченны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sh dir="r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5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8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Tahoma"/>
              </a:rPr>
              <a:t>Механические повреждения мягких тканей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Ушиб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давлени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Растяжени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Разрыв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push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45720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ahoma"/>
              </a:rPr>
              <a:t>Неполные  переломы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268360" y="1447920"/>
            <a:ext cx="62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Tahoma"/>
              </a:rPr>
              <a:t>Трещина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 - неполный перелом, при котором связь между частями кости нарушена частичн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33520" y="2819520"/>
            <a:ext cx="8229600" cy="30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Линия перелома может быть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Прямой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(поперечный перелом) - при прямом удар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Косой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- при сгибани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Спиральной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(винтообразный) - при скручивании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Вколоченной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- при сдавлении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Отрывной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- оторвавшийся костный фрагмент отходит от основной кост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sh dir="r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5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8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1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279520" y="58680"/>
            <a:ext cx="5964480" cy="68263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8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908000" y="457200"/>
            <a:ext cx="6702480" cy="61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ahoma"/>
              </a:rPr>
              <a:t>Смещение отломков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locatio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мещение отломков может быть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первичным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— под воздействием механической силы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вторичным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— под влиянием сокращения мыш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ahoma"/>
              </a:rPr>
              <a:t>Виды смещения отломк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од  углом (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slocatio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 axin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Боковые смещения (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slocatio ad latum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о длине (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slocatio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 longitudinem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о периферии (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slocatio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,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 periferium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sh dir="r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5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228600" y="0"/>
            <a:ext cx="8686800" cy="55548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5546880"/>
            <a:ext cx="9144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ВОЗМОЖНЫЕ ВАРИАНТЫ СМЕЩЕНИЯ КОСТНЫХ ОТЛОМКОВ ПРИ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ЕРЕЛОМАХ: а - БОКОВОЕ СМЕЩЕНИЕ; б - СМЕЩЕНИЕ ПО ОСИ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(ПО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УТЛОМ); в - СМЕЩЕНИЕ ПО ДЛИНЕ С УДАЛЕНИЕМ;    Г - СМЕЩЕНИЕ ПО ДЛИНЕ С УКОРОЧЕНИЕМ;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- РОТАЦИОННОЕ СМЕЩЕ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sh dir="r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2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5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1619280" y="380880"/>
            <a:ext cx="7200720" cy="63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ahoma"/>
              </a:rPr>
              <a:t>Условия, определяющие сращение перелом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buClr>
                <a:srgbClr val="ff006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Tahoma"/>
              </a:rPr>
              <a:t>ОБЩИЕ ФАКТОРЫ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Снижение репаративной способности ткане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Хронические истощающие заболеван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Нарушение обмена вещест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Недостаточность белкового питан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Гипо- и авитаминоз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Tahoma"/>
              </a:rPr>
              <a:t>2. АНАТОМО-ФИЗИОЛОГИЧЕСКИЕ ОСОБЕННОСТ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Tahoma"/>
              </a:rPr>
              <a:t>3. МЕСТНЫЕ ФАКТОРЫ: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а)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тяжелая травма, обширные повреждения мягких тканей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надкостницы, кости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б)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расстройство кровообращения в зоне перелома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)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нарушение иннервации в зоне перелома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г)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нутрисуставные переломы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д)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неполная репозиция (сопоставление) или недостаточная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фиксация (иммобилизация) отломков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е)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развитие инфекционных осложнений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ж)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интерпозиция тканей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sh dir="r"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2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258920" y="260280"/>
            <a:ext cx="7416720" cy="68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ahoma"/>
              </a:rPr>
              <a:t>Обследова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Tahoma"/>
              </a:rPr>
              <a:t>ДОСТОВЕРНЫЕ ПРИЗНАКИ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Патологическая подвижность — К примеру качательные движения в области бедра, плеча, голени, предплечья указывают на наличие перелома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Крепитацию отломков определяют руками. Фиксируют конечность выше и ниже места перелома и смещают ее то в одну, то в другую сторону. Появление хруста трущихся друг о друга отломков является абсолютным признаком перелома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000000"/>
                </a:solidFill>
                <a:uFillTx/>
                <a:latin typeface="Tahoma"/>
              </a:rPr>
              <a:t>При клиническом обследовании измеряют длину конечности, определяют пульсацию периферических сосудов, кожную чувствительность, активные движения пальцев конечности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sh dir="r"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9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908000" y="457200"/>
            <a:ext cx="6931080" cy="61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ahoma"/>
              </a:rPr>
              <a:t>Лечение перелом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0066"/>
                </a:solidFill>
                <a:uFillTx/>
                <a:latin typeface="Tahoma"/>
              </a:rPr>
              <a:t>три основных принципа лечения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1) репозиция костных отломк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2) удержание, создание неподвижности сопоставленных костных отломков и иммобилизация орга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3) применение средств и методов, ускоряющих образование костной мозоли и сращение кости (консолидация кости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sh dir="r"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6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457200" y="457200"/>
            <a:ext cx="8153280" cy="692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ahoma"/>
              </a:rPr>
              <a:t>Иммобилизация гипсовой повязкой</a:t>
            </a:r>
            <a:r>
              <a:rPr b="0" lang="ru-RU" sz="18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Tahoma"/>
              </a:rPr>
              <a:t>Гипс (сульфат кальция) представляет собой мельчайший порошок, который при смешивании с водой образует кашицеобразную массу , отвердевающую в течении нескольких мину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Конечности необходимо придать функционально выгодное положен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Должна быть хорошая репозиция костных отломков, которые необходимо удерживать во время наложения повязки и до затвердения гипс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Гипсовой повязкой должны быть фиксированы два близлежащих сустав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Концы пальцев кисти или стопы должны оставаться открытым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од костные выступы подкладывают ватные подушечки из простой (негигроскопичной) ваты, которая более эластична и не впитывает по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овязка должна быть тщательно отмоделирована, равномерно облегать, но не сдавливать подлежащую часть тел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осле наложения повязки ее маркируют: химическим ка­рандашом указывают дату перелома, наложения повязки и, пред­полагаемый срок ее снятия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sh dir="r"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3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2124000" y="609480"/>
            <a:ext cx="6562800" cy="58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ahoma"/>
              </a:rPr>
              <a:t>ВИДЫ ГИПСОВЫХ ПОВЯЗО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Лангетны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Циркулярны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Лангетно-циркулярны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кончата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Мостовидна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осле сращения перелома гипсовую повязку снимают. Специальными ножницами или пилкой повязку рассекают вдоль конечности, края разреза отодвигают в стороны и конечность осторожно извлекают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sh dir="r"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0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258920" y="677880"/>
            <a:ext cx="7504200" cy="692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ahoma"/>
              </a:rPr>
              <a:t>Метод постоянного вытяж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ытяжение следует проводить в среднефизиологическом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оложении поврежденной конечности, т. е. в состоянии равновесия между мышцами-антагонистами. Это достигается полусогнутым положением конечности, уложенной на шины Белера, Богданова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2.   Репозицию следует проводить по оси центрального костного отломка, т. е. периферический отломок должен быть установлен по оси центрального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Нагрузка при вытяжении должна увеличиваться постепенно, что способствует безболезненному растяжению мышц и репозиции отломков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4.  Необходимо создание противовытяжения, что достигается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например, приподниманием ножного конца кровати при лечении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ереломов нижних конечностей. В таком положении масса тела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больного создает противовытяжение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sh dir="r"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7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Tahoma"/>
              </a:rPr>
              <a:t>Ушиб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0066"/>
                </a:solidFill>
                <a:uFillTx/>
                <a:latin typeface="Tahoma"/>
              </a:rPr>
              <a:t>Симптомы ушиба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Боль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рипухлость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Кровоподтек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Функция пораженного органа сохранена. Нарушается при нарастании отека, гематомы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push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619280" y="228600"/>
            <a:ext cx="7345440" cy="64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ahoma"/>
              </a:rPr>
              <a:t>Оперативное  лечение  переломов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Tahoma"/>
              </a:rPr>
              <a:t>АБСОЛЮТНЫЕ ПОКАЗАНИЯ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открытые переломы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2)</a:t>
            </a: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овреждение жизненно важных органов отломками костей (вещества головного, спинного мозга, органов грудной и брю­шной полости, крупных сосудов, нервов конечностей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3) интерпозиция мягких тканей (состояние, когда между отломками костей оказались мягкие ткани — мышца, сухожилие, фасция и др., что делает невозможным сопоставление костных отломков и сращение кости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4) ложный сустав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5) гнойно-воспалительные осложнения перелома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6) неправильно сросшиеся переломы с грубым нарушением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функции органа.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sh dir="r"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4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908000" y="609480"/>
            <a:ext cx="6626520" cy="62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Tahoma"/>
              </a:rPr>
              <a:t>ОТНОСИТЕЛЬНЫЕ ПОКАЗАН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1) неудавшаяся многократная попытка сопоставить (репонировать) костные отломки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2) замедленная консолидация перелома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3) поперечные переломы длинных трубчатых костей, когда нельзя сопоставить или удержать костные отломки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4) неправильно сросшиеся переломы с незначительным нарушением функции органа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sh dir="r"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1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979640" y="114480"/>
            <a:ext cx="6840360" cy="71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ahoma"/>
              </a:rPr>
              <a:t>Исходы лечения перелом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олное восстановление анатомической целостности и функции конечност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2. Полное восстановление анатомической целостности с нарушением функции органа вследствие атрофии мышц, тугоподвижности, контрактуры суставов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3. Неправильно сросшиеся переломы с изменением формы кости или органа (укорочение, искривление) и нарушением функции конечности (хромота, ограничение объема движений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4. Неправильно сросшиеся переломы с восстановлением функции конечност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5. Несросшиеся переломы — ложный сустав  (псевдоартроз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6. Посттравматический остеомиелит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sh dir="r"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8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533520" y="0"/>
            <a:ext cx="8153280" cy="68468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5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Tahoma"/>
              </a:rPr>
              <a:t>Первая помощь и лечение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Иммобилизация конечност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Холод (пузырь со льдом) в первые стук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Давящая повязк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Тепловые процедуры со 2 суток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ри наличии большой гематомы – пункция, удаление крови, давящая повязк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push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Tahoma"/>
              </a:rPr>
              <a:t>Травматический токсикоз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7963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Tahoma"/>
              </a:rPr>
              <a:t>Синонимы: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синдром длительного раздавливания, краш-синдром, синдром позиционного сдавления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7963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остояние, обусловленное длительным (4-8 ч) раздавливанием мягких тканей конечностей, в основе которого лежит ишемический некроз мышц, интоксикация продуктами распада, печеночно-почечная недостаточность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push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ahoma"/>
              </a:rPr>
              <a:t>Патогенетические факторы синдрома длительного раздавливания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Болевое раздражени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812880" indent="-8128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Травматическая токсемия вследствие всасывания продуктов распада тканей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812880" indent="-8128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лазма - кровопотер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push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Клиническое течение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ериод нарастания отека и сосудистой недостаточности (1-3 дня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812880" indent="-8128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ериод острой почечной недостаточности (3-12 дней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812880" indent="-8128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ериод выздоровлени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push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Лечение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26920" y="1916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Tahoma"/>
              </a:rPr>
              <a:t>В первом период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812880" indent="-812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безболивани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812880" indent="-812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Тугое бинтование конечност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812880" indent="-812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ротивошоковая дезинтоксикационная терапи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812880" indent="-812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Антибиотикотерапи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8128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Tahoma"/>
              </a:rPr>
              <a:t>Во втором период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812880" indent="-812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Гемодиализ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8128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Tahoma"/>
              </a:rPr>
              <a:t>В третьем период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81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812880" indent="-812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Лечение гнойных ран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push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380880" y="304920"/>
            <a:ext cx="8458200" cy="647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ahoma"/>
              </a:rPr>
              <a:t>ВЫВИХ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ahoma"/>
              </a:rPr>
              <a:t>Полное смещение суставных концов костей по отношению друг к друг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Вывихи сопровождаются разрывом капсулы сустава и связочного аппарата с выхождением через разрыв капсулы одной из суставных поверхносте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Tahoma"/>
              </a:rPr>
              <a:t>КЛАССИФИКАЦИЯ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Врожденны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Приобретенны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Травматическ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Патологическ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3. Осложненны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4. Неосложненны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sh dir="r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ONE</cp:lastModifiedBy>
  <dcterms:modified xsi:type="dcterms:W3CDTF">2008-10-08T09:47:05Z</dcterms:modified>
  <cp:revision>33</cp:revision>
  <dc:subject/>
  <dc:title>PowerPoint Presentation</dc:title>
</cp:coreProperties>
</file>