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CD5-0860-4372-81BC-B9641F20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CE0-697F-468C-9A18-6C67539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D3F-6CEA-4128-BDF0-65BC8447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A93-9E33-4420-87AC-DFC3E2EF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A27-FA3F-4B2E-A39E-769F425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A7A-97CC-4A1F-8708-1F791397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BB-131D-4221-BCEA-AE39833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248-A8C3-4775-8F87-395F417C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7D8-87C7-4196-9E5A-BC56579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05D-2E18-4FAF-AE32-AEA1F86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D22-CD86-445E-999E-8BE8C55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0A9-C811-4918-834E-D53D080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4D3-9D88-4C6D-A521-47F4CCEE5F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69840" y="2206800"/>
            <a:ext cx="7545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Максимально привести в соответствие с объявление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а в помощь при обработке большого количества фраз –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magadanparser.ru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ледить чтобы не пересекались между собо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кончательный вердикт по фразе – в Метрик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1306440"/>
            <a:ext cx="75420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898560" y="4724280"/>
            <a:ext cx="7113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егионы показов ограничивать только в случае работы на конкретный регион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Если работаете на все регион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для подобных фра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упить мочалк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 екатеринбург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оздать отд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объявления + инд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для него ограничить регион показов (только Екб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и область)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и этом показы по фраз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упить мочалк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– остается настройк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се регион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казы по дополнительным релевантным фразам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- отключить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перва грамотно подойти к подбору и обработке ключ фраз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0" t="0" r="0" b="10453"/>
          <a:stretch/>
        </p:blipFill>
        <p:spPr>
          <a:xfrm>
            <a:off x="1187280" y="1628640"/>
            <a:ext cx="638208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Заголовок 2" descr=""/>
          <p:cNvPicPr/>
          <p:nvPr/>
        </p:nvPicPr>
        <p:blipFill>
          <a:blip r:embed="rId2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Заголовок 2" descr=""/>
          <p:cNvPicPr/>
          <p:nvPr/>
        </p:nvPicPr>
        <p:blipFill>
          <a:blip r:embed="rId2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Запрос = объявление = страница сайт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ужно определить какое желание пользователя стоит за вводимой им в Яндексе фразой и дать это в объявлении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Если желание не ясно – протестировать отклик по фразе при минимальной цене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бъявление должно содержать призыв к действию.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Жми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, 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кликай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– не советуе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е смотрим н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ход в гарантию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от Яндекс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Определяем свою макс. цену клика и строго ее придерживаемс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7548" b="0"/>
          <a:stretch/>
        </p:blipFill>
        <p:spPr>
          <a:xfrm>
            <a:off x="798480" y="3068640"/>
            <a:ext cx="760716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Заголовок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оздать ровные или нейтральные текст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Изменить текст объявления, допущенного к показам - дело 1-2 минут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041560" y="3300480"/>
            <a:ext cx="5124240" cy="353376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 течении нескольких дней с момента создания кампании количество показов объявлений сознательно занижается самим Яндексом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Яндекс хочет протестировать кликабельность Ваших объявлений при минимальном количестве показо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ужно "заставить" Яндекс увеличить обороты ценой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ордстат "пропускает" массу нецелевых супер НЧ фраз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Мониторить через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сводку по Директу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 в Яндекс Метрик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3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403280" y="1596960"/>
            <a:ext cx="638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ЧАТ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03280" y="1598760"/>
            <a:ext cx="6380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476360" y="1461960"/>
            <a:ext cx="6108840" cy="5276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 rot="19248000">
            <a:off x="4601160" y="4107960"/>
            <a:ext cx="4389840" cy="520560"/>
          </a:xfrm>
          <a:prstGeom prst="rect">
            <a:avLst/>
          </a:prstGeom>
          <a:noFill/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ет урок на скач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403280" y="1501920"/>
            <a:ext cx="68151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31880" y="3500280"/>
            <a:ext cx="7656480" cy="28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84320" y="1268280"/>
            <a:ext cx="8751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7200" y="-249120"/>
            <a:ext cx="8643960" cy="241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8000" y="1844640"/>
            <a:ext cx="85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легкий интерфейс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начала подбирайте ключевые сло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том создавайте объя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мотрите цену кл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торую Директ предлагает по-умолч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одно объявление не запихивайте много фр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 зажимайте расход в начале и дайте кампании разогн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ЙТЕ ЯНДЕКС МЕТРИКУ ДЛЯ ЧИСТКИ ТРАФИКА И ОТСЛЕЖИВАНИЯ ДОСТИ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Л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 rot="19248000">
            <a:off x="4888800" y="5047920"/>
            <a:ext cx="4389840" cy="520560"/>
          </a:xfrm>
          <a:prstGeom prst="rect">
            <a:avLst/>
          </a:prstGeom>
          <a:noFill/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удет урок на скач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rcRect l="0" t="22129" r="5531" b="38946"/>
          <a:stretch/>
        </p:blipFill>
        <p:spPr>
          <a:xfrm>
            <a:off x="2268360" y="2276640"/>
            <a:ext cx="39625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82560" y="2041560"/>
            <a:ext cx="77724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Чем больше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тем лучш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цировать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Все показывать по одной цене и с одной стратегией показа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деньги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на ветер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Протестировать отклик при минимальной цене кли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7:26:38Z</dcterms:created>
  <dc:creator>Cybersant</dc:creator>
  <dc:description/>
  <dc:language>en-US</dc:language>
  <cp:lastModifiedBy>Cybersant</cp:lastModifiedBy>
  <dcterms:modified xsi:type="dcterms:W3CDTF">2013-06-07T13:25:46Z</dcterms:modified>
  <cp:revision>106</cp:revision>
  <dc:subject/>
  <dc:title>9 шаговый план привлечения клиентов с Яндекс Директ в интернет-магазин</dc:title>
</cp:coreProperties>
</file>