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3D0-D3F3-4E7A-A562-B3430E7C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5AD-D088-4A67-AC05-9EE7FE0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E31-A313-4E14-985A-0F000A79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195-1B4F-442E-80D8-1A4AB986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E92-35AA-4881-A81D-C9FC850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C1B-A933-4162-8FD9-97BE6A2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8B8-2D00-444E-BAFD-9FA7A67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D11-51AA-41BC-9665-D753C50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58A-F053-4F21-B6EF-2547C6B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3B6-2023-4863-97C5-5BD40C3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634-D4B8-469A-B995-CD007F8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FB5-1948-4733-8FF7-D176542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672-D9DC-4DE1-A20E-EC79214864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69840" y="2206800"/>
            <a:ext cx="7545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Максимально привести в соответствие с объявление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а в помощь при обработке большого количества фраз –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magadanparser.ru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ледить чтобы не пересекались между собо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кончательный вердикт по фразе – в Метрик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1306440"/>
            <a:ext cx="75420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898560" y="4724280"/>
            <a:ext cx="7113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егионы показов ограничивать только в случае работы на конкретный регион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Если работаете на все регион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для подобных фра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упить мочалк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 екатеринбург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оздать отд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объявления + инд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для него ограничить регион показов (только Екб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и область)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и этом показы по фраз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упить мочалк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– остается настройк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се регион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казы по дополнительным релевантным фразам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- отключить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перва грамотно подойти к подбору и обработке ключ фраз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0" t="0" r="0" b="10453"/>
          <a:stretch/>
        </p:blipFill>
        <p:spPr>
          <a:xfrm>
            <a:off x="1187280" y="1628640"/>
            <a:ext cx="638208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Заголовок 2" descr=""/>
          <p:cNvPicPr/>
          <p:nvPr/>
        </p:nvPicPr>
        <p:blipFill>
          <a:blip r:embed="rId2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Заголовок 2" descr=""/>
          <p:cNvPicPr/>
          <p:nvPr/>
        </p:nvPicPr>
        <p:blipFill>
          <a:blip r:embed="rId2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Запрос = объявление = страница сайт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ужно определить какое желание пользователя стоит за вводимой им в Яндексе фразой и дать это в объявлении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Если желание не ясно – протестировать отклик по фразе при минимальной цене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бъявление должно содержать призыв к действию.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Жми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, 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кликай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– не советуе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е смотрим н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ход в гарантию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от Яндекс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пределяем свою макс. цену клика и строго ее придерживаемс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7548" b="0"/>
          <a:stretch/>
        </p:blipFill>
        <p:spPr>
          <a:xfrm>
            <a:off x="798480" y="3068640"/>
            <a:ext cx="760716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Заголовок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оздать ровные или нейтральные текст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Изменить текст объявления, допущенного к показам - дело 1-2 минут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041560" y="3300480"/>
            <a:ext cx="5124240" cy="353376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 течении нескольких дней с момента создания кампании количество показов объявлений сознательно занижается самим Яндексо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Яндекс хочет протестировать кликабельность Ваших объявлений при минимальном количестве показо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ужно "заставить" Яндекс увеличить обороты ценой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ордстат "пропускает" массу нецелевых супер НЧ фраз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Мониторить через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водку по Директу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в Яндекс Метрик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3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403280" y="1596960"/>
            <a:ext cx="638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ЧАТ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03280" y="1598760"/>
            <a:ext cx="6380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476360" y="1461960"/>
            <a:ext cx="6108840" cy="5276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 rot="19248000">
            <a:off x="4601160" y="4107960"/>
            <a:ext cx="4389840" cy="520560"/>
          </a:xfrm>
          <a:prstGeom prst="rect">
            <a:avLst/>
          </a:prstGeom>
          <a:noFill/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ет урок на скач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403280" y="1501920"/>
            <a:ext cx="68151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31880" y="3500280"/>
            <a:ext cx="7656480" cy="28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84320" y="1268280"/>
            <a:ext cx="8751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7200" y="-249120"/>
            <a:ext cx="8643960" cy="241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8000" y="1844640"/>
            <a:ext cx="85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легкий интерфейс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начала подбирайте ключевые сло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том создавайте объя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мотрите цену кл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торую Директ предлагает по-умолч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одно объявление не запихивайте много фр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 зажимайте расход в начале и дайте кампании разогн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ЙТЕ ЯНДЕКС МЕТРИКУ ДЛЯ ЧИСТКИ ТРАФИКА И ОТСЛЕЖИВАНИЯ ДОСТИ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Л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 rot="19248000">
            <a:off x="4888800" y="5047920"/>
            <a:ext cx="4389840" cy="520560"/>
          </a:xfrm>
          <a:prstGeom prst="rect">
            <a:avLst/>
          </a:prstGeom>
          <a:noFill/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ет урок на скач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rcRect l="0" t="22129" r="5531" b="38946"/>
          <a:stretch/>
        </p:blipFill>
        <p:spPr>
          <a:xfrm>
            <a:off x="2268360" y="2276640"/>
            <a:ext cx="39625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82560" y="2041560"/>
            <a:ext cx="77724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Чем больше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тем лучш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цировать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се показывать по одной цене и с одной стратегией показ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деньги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а ветер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Протестировать отклик при минимальной цене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7:26:38Z</dcterms:created>
  <dc:creator>Cybersant</dc:creator>
  <dc:description/>
  <dc:language>en-US</dc:language>
  <cp:lastModifiedBy>Cybersant</cp:lastModifiedBy>
  <dcterms:modified xsi:type="dcterms:W3CDTF">2013-06-07T13:25:46Z</dcterms:modified>
  <cp:revision>106</cp:revision>
  <dc:subject/>
  <dc:title>9 шаговый план привлечения клиентов с Яндекс Директ в интернет-магазин</dc:title>
</cp:coreProperties>
</file>