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31A4-08A9-454A-9ACE-7BE98350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E5D-148D-4C79-A2BA-77B118C9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FFE6-3587-4A6C-91E9-7FA2EF18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90AE-4A72-4FCC-8008-955EC00B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4AC-14D0-40B1-9068-7E8818EA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CF7D-B77C-44F1-9709-EEE73933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4E3-5426-4592-B8BC-3A0B6EFA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6FD-A56A-4EEF-9E28-85F13C43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BA4-A044-458D-833C-677D1B8F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CE8-5A3D-4B3B-9FC6-CEE1B9DB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007-67FD-4F31-BD43-AE338303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320F-29CC-4951-AD08-BB92EE3C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6353-D4DB-4B52-9B88-92DDDD6D33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11280" y="476280"/>
            <a:ext cx="79930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пендикулярные прямые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5" descr="j0195384"/>
          <p:cNvPicPr/>
          <p:nvPr/>
        </p:nvPicPr>
        <p:blipFill>
          <a:blip r:embed="rId1"/>
          <a:stretch/>
        </p:blipFill>
        <p:spPr>
          <a:xfrm>
            <a:off x="3571920" y="307188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3786120" y="542916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ьякова Т.И.,учитель математики МОУ СОШ № 18, Омс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2" descr="96"/>
          <p:cNvPicPr/>
          <p:nvPr/>
        </p:nvPicPr>
        <p:blipFill>
          <a:blip r:embed="rId1"/>
          <a:stretch/>
        </p:blipFill>
        <p:spPr>
          <a:xfrm>
            <a:off x="428760" y="928800"/>
            <a:ext cx="2720880" cy="2004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4121640" y="29433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. 43, № 1365,1366,136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022040" y="250920"/>
            <a:ext cx="67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называется данная фигура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1763640" y="263700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548720" y="2133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 flipV="1">
            <a:off x="1835280" y="1413000"/>
            <a:ext cx="453708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1835280" y="2637000"/>
            <a:ext cx="3528720" cy="23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572652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71852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238760" y="5724360"/>
            <a:ext cx="48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ие углы вы знаете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1" descr="D:\fon\animated\ANIMATED\J0288870.GIF"/>
          <p:cNvPicPr/>
          <p:nvPr/>
        </p:nvPicPr>
        <p:blipFill>
          <a:blip r:embed="rId1"/>
          <a:stretch/>
        </p:blipFill>
        <p:spPr>
          <a:xfrm>
            <a:off x="250920" y="260280"/>
            <a:ext cx="7603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 flipV="1">
            <a:off x="1403280" y="1989000"/>
            <a:ext cx="4176720" cy="1511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835280" y="1484280"/>
            <a:ext cx="3816360" cy="2736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/>
          <p:cNvSpPr/>
          <p:nvPr/>
        </p:nvSpPr>
        <p:spPr>
          <a:xfrm>
            <a:off x="3564000" y="2637000"/>
            <a:ext cx="73080" cy="72720"/>
          </a:xfrm>
          <a:prstGeom prst="ellipse">
            <a:avLst/>
          </a:prstGeom>
          <a:solidFill>
            <a:srgbClr val="f9b7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419640" y="21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674000" y="481644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Пересекающиеся прям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385640" y="5392800"/>
            <a:ext cx="45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Какие углы есть на чертеж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239120" y="108000"/>
            <a:ext cx="588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пендикулярные прям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1118160" y="29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1981800" y="105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510880" y="357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5078520" y="155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Line 4"/>
          <p:cNvSpPr/>
          <p:nvPr/>
        </p:nvSpPr>
        <p:spPr>
          <a:xfrm flipV="1">
            <a:off x="1763640" y="2205000"/>
            <a:ext cx="532944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203640" y="1197000"/>
            <a:ext cx="1728720" cy="42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621440" y="357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590160" y="17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421800" y="98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00544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3996720" y="2708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1"/>
              <p:cNvSpPr txBox="1"/>
              <p:nvPr/>
            </p:nvSpPr>
            <p:spPr>
              <a:xfrm>
                <a:off x="185760" y="5734080"/>
                <a:ext cx="83599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OB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OE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E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прямы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угл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2"/>
              <p:cNvSpPr txBox="1"/>
              <p:nvPr/>
            </p:nvSpPr>
            <p:spPr>
              <a:xfrm>
                <a:off x="6084720" y="4581360"/>
                <a:ext cx="27594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C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Text Box 13"/>
          <p:cNvSpPr/>
          <p:nvPr/>
        </p:nvSpPr>
        <p:spPr>
          <a:xfrm>
            <a:off x="952920" y="6183360"/>
            <a:ext cx="51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ая АВ перпендикулярна С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468360" y="1413000"/>
            <a:ext cx="8136000" cy="18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е прямые, образующие 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 пересечении прямые углы, 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ываются 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пендикулярными 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троение перпендикулярных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589680" y="1474920"/>
            <a:ext cx="58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С помощью треугольни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0"/>
          <p:cNvGrpSpPr/>
          <p:nvPr/>
        </p:nvGrpSpPr>
        <p:grpSpPr>
          <a:xfrm>
            <a:off x="2980440" y="2510640"/>
            <a:ext cx="3038040" cy="2700360"/>
            <a:chOff x="2980440" y="2510640"/>
            <a:chExt cx="3038040" cy="2700360"/>
          </a:xfrm>
        </p:grpSpPr>
        <p:sp>
          <p:nvSpPr>
            <p:cNvPr id="78" name="AutoShape 7"/>
            <p:cNvSpPr/>
            <p:nvPr/>
          </p:nvSpPr>
          <p:spPr>
            <a:xfrm rot="3522000">
              <a:off x="3707280" y="2564280"/>
              <a:ext cx="1584000" cy="259236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9"/>
            <p:cNvSpPr/>
            <p:nvPr/>
          </p:nvSpPr>
          <p:spPr>
            <a:xfrm rot="3522000">
              <a:off x="3762000" y="3071160"/>
              <a:ext cx="934920" cy="165600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Line 11"/>
          <p:cNvSpPr/>
          <p:nvPr/>
        </p:nvSpPr>
        <p:spPr>
          <a:xfrm flipV="1">
            <a:off x="1116000" y="2637000"/>
            <a:ext cx="3887640" cy="2304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2124000" y="2492280"/>
            <a:ext cx="2448000" cy="3889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5562000" y="229716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ровести прямую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5585400" y="263700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Приложить треугольни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5583600" y="299736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Провести другую пряму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82908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457416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1765800" y="249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3997440" y="6021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0"/>
              <p:cNvSpPr txBox="1"/>
              <p:nvPr/>
            </p:nvSpPr>
            <p:spPr>
              <a:xfrm>
                <a:off x="5651640" y="3860640"/>
                <a:ext cx="252072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СК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троение перпендикулярных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81480" y="1557360"/>
            <a:ext cx="59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 помощью транспортир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V="1">
            <a:off x="1619280" y="3141360"/>
            <a:ext cx="475308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9"/>
          <p:cNvGrpSpPr/>
          <p:nvPr/>
        </p:nvGrpSpPr>
        <p:grpSpPr>
          <a:xfrm>
            <a:off x="2898360" y="2691720"/>
            <a:ext cx="2980800" cy="2769120"/>
            <a:chOff x="2898360" y="2691720"/>
            <a:chExt cx="2980800" cy="2769120"/>
          </a:xfrm>
        </p:grpSpPr>
        <p:grpSp>
          <p:nvGrpSpPr>
            <p:cNvPr id="94" name="Group 11"/>
            <p:cNvGrpSpPr/>
            <p:nvPr/>
          </p:nvGrpSpPr>
          <p:grpSpPr>
            <a:xfrm>
              <a:off x="2898360" y="2691720"/>
              <a:ext cx="2980800" cy="2769120"/>
              <a:chOff x="2898360" y="2691720"/>
              <a:chExt cx="2980800" cy="2769120"/>
            </a:xfrm>
          </p:grpSpPr>
          <p:sp>
            <p:nvSpPr>
              <p:cNvPr id="95" name="AutoShape 9"/>
              <p:cNvSpPr/>
              <p:nvPr/>
            </p:nvSpPr>
            <p:spPr>
              <a:xfrm rot="20187000">
                <a:off x="3205080" y="3067920"/>
                <a:ext cx="2305080" cy="201600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0"/>
              <p:cNvSpPr/>
              <p:nvPr/>
            </p:nvSpPr>
            <p:spPr>
              <a:xfrm rot="20187000">
                <a:off x="3016800" y="4055400"/>
                <a:ext cx="288108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Line 12"/>
            <p:cNvSpPr/>
            <p:nvPr/>
          </p:nvSpPr>
          <p:spPr>
            <a:xfrm>
              <a:off x="4290840" y="4105440"/>
              <a:ext cx="57600" cy="13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>
              <a:off x="3888000" y="3181320"/>
              <a:ext cx="5760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5"/>
            <p:cNvSpPr/>
            <p:nvPr/>
          </p:nvSpPr>
          <p:spPr>
            <a:xfrm rot="20187000">
              <a:off x="3795840" y="31572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6"/>
            <p:cNvSpPr/>
            <p:nvPr/>
          </p:nvSpPr>
          <p:spPr>
            <a:xfrm rot="20187000">
              <a:off x="5296680" y="3543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7"/>
            <p:cNvSpPr/>
            <p:nvPr/>
          </p:nvSpPr>
          <p:spPr>
            <a:xfrm rot="20187000">
              <a:off x="3111120" y="445860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Line 20"/>
          <p:cNvSpPr/>
          <p:nvPr/>
        </p:nvSpPr>
        <p:spPr>
          <a:xfrm>
            <a:off x="3492360" y="2349360"/>
            <a:ext cx="1656000" cy="364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1549080" y="5157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6302520" y="328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3565080" y="2133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5150520" y="54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27"/>
              <p:cNvSpPr txBox="1"/>
              <p:nvPr/>
            </p:nvSpPr>
            <p:spPr>
              <a:xfrm>
                <a:off x="5724360" y="4941720"/>
                <a:ext cx="295128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МР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О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Oval 29"/>
          <p:cNvSpPr/>
          <p:nvPr/>
        </p:nvSpPr>
        <p:spPr>
          <a:xfrm flipV="1">
            <a:off x="4211640" y="400536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4"/>
          <p:cNvSpPr/>
          <p:nvPr/>
        </p:nvSpPr>
        <p:spPr>
          <a:xfrm flipV="1">
            <a:off x="1403280" y="1125000"/>
            <a:ext cx="2737080" cy="22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1476360" y="1268280"/>
            <a:ext cx="2448000" cy="273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140720" y="3213000"/>
            <a:ext cx="42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трезки перпендикуляр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21000" y="4600440"/>
            <a:ext cx="779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трезки, лежащие на перпендикулярных прямых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ываются перпендикулярны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5"/>
          <p:cNvGrpSpPr/>
          <p:nvPr/>
        </p:nvGrpSpPr>
        <p:grpSpPr>
          <a:xfrm>
            <a:off x="2700360" y="2636640"/>
            <a:ext cx="1152000" cy="1297080"/>
            <a:chOff x="2700360" y="2636640"/>
            <a:chExt cx="1152000" cy="1297080"/>
          </a:xfrm>
        </p:grpSpPr>
        <p:sp>
          <p:nvSpPr>
            <p:cNvPr id="114" name="Line 7"/>
            <p:cNvSpPr/>
            <p:nvPr/>
          </p:nvSpPr>
          <p:spPr>
            <a:xfrm>
              <a:off x="2771640" y="2708280"/>
              <a:ext cx="1008360" cy="11523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0"/>
            <p:cNvSpPr/>
            <p:nvPr/>
          </p:nvSpPr>
          <p:spPr>
            <a:xfrm flipV="1">
              <a:off x="2700360" y="2636640"/>
              <a:ext cx="144360" cy="1443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1"/>
            <p:cNvSpPr/>
            <p:nvPr/>
          </p:nvSpPr>
          <p:spPr>
            <a:xfrm flipH="1">
              <a:off x="3708000" y="3789360"/>
              <a:ext cx="144360" cy="1443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2771640" y="1268280"/>
            <a:ext cx="1150920" cy="1009800"/>
            <a:chOff x="2771640" y="1268280"/>
            <a:chExt cx="1150920" cy="1009800"/>
          </a:xfrm>
        </p:grpSpPr>
        <p:sp>
          <p:nvSpPr>
            <p:cNvPr id="118" name="Line 6"/>
            <p:cNvSpPr/>
            <p:nvPr/>
          </p:nvSpPr>
          <p:spPr>
            <a:xfrm flipV="1">
              <a:off x="2771640" y="1341000"/>
              <a:ext cx="1079640" cy="8636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2"/>
            <p:cNvSpPr/>
            <p:nvPr/>
          </p:nvSpPr>
          <p:spPr>
            <a:xfrm>
              <a:off x="3851280" y="1268280"/>
              <a:ext cx="71280" cy="1447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3"/>
            <p:cNvSpPr/>
            <p:nvPr/>
          </p:nvSpPr>
          <p:spPr>
            <a:xfrm>
              <a:off x="2771640" y="2133720"/>
              <a:ext cx="71640" cy="1443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16"/>
          <p:cNvSpPr/>
          <p:nvPr/>
        </p:nvSpPr>
        <p:spPr>
          <a:xfrm>
            <a:off x="1316880" y="84240"/>
            <a:ext cx="64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пендикулярные отрезки и луч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4"/>
          <p:cNvSpPr/>
          <p:nvPr/>
        </p:nvSpPr>
        <p:spPr>
          <a:xfrm flipV="1">
            <a:off x="1763640" y="980640"/>
            <a:ext cx="532944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2916360" y="549360"/>
            <a:ext cx="1871640" cy="431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7"/>
          <p:cNvGrpSpPr/>
          <p:nvPr/>
        </p:nvGrpSpPr>
        <p:grpSpPr>
          <a:xfrm>
            <a:off x="3132000" y="907560"/>
            <a:ext cx="4176360" cy="1728720"/>
            <a:chOff x="3132000" y="907560"/>
            <a:chExt cx="4176360" cy="1728720"/>
          </a:xfrm>
        </p:grpSpPr>
        <p:sp>
          <p:nvSpPr>
            <p:cNvPr id="125" name="Line 7"/>
            <p:cNvSpPr/>
            <p:nvPr/>
          </p:nvSpPr>
          <p:spPr>
            <a:xfrm flipV="1">
              <a:off x="3132000" y="907560"/>
              <a:ext cx="4176360" cy="163836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>
              <a:off x="3132000" y="2453760"/>
              <a:ext cx="0" cy="182520"/>
            </a:xfrm>
            <a:prstGeom prst="line">
              <a:avLst/>
            </a:prstGeom>
            <a:ln w="93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>
              <a:off x="3132000" y="2453760"/>
              <a:ext cx="90000" cy="18252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6"/>
          <p:cNvGrpSpPr/>
          <p:nvPr/>
        </p:nvGrpSpPr>
        <p:grpSpPr>
          <a:xfrm>
            <a:off x="3851280" y="2852640"/>
            <a:ext cx="1007640" cy="2231640"/>
            <a:chOff x="3851280" y="2852640"/>
            <a:chExt cx="1007640" cy="2231640"/>
          </a:xfrm>
        </p:grpSpPr>
        <p:sp>
          <p:nvSpPr>
            <p:cNvPr id="129" name="Line 11"/>
            <p:cNvSpPr/>
            <p:nvPr/>
          </p:nvSpPr>
          <p:spPr>
            <a:xfrm>
              <a:off x="3929760" y="2852640"/>
              <a:ext cx="929160" cy="223164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 flipV="1">
              <a:off x="3851280" y="2852640"/>
              <a:ext cx="232200" cy="7776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18"/>
          <p:cNvSpPr/>
          <p:nvPr/>
        </p:nvSpPr>
        <p:spPr>
          <a:xfrm>
            <a:off x="4573440" y="2421000"/>
            <a:ext cx="37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Arial"/>
              </a:rPr>
              <a:t>Лучи перпендикуляр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755640" y="551664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Лучи, лежащие на перпендикулярных прямых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ываются перпендикулярны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6:53:34Z</dcterms:created>
  <dc:creator>Таня</dc:creator>
  <dc:description/>
  <dc:language>en-US</dc:language>
  <cp:lastModifiedBy>Tanya</cp:lastModifiedBy>
  <dcterms:modified xsi:type="dcterms:W3CDTF">2010-07-27T13:39:01Z</dcterms:modified>
  <cp:revision>6</cp:revision>
  <dc:subject/>
  <dc:title>Слайд 1</dc:title>
</cp:coreProperties>
</file>