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B33-8388-4506-BCED-529CF46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57E-DE03-49BD-A3A4-C1F0B7B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FAD-E860-4F5C-A6E3-55E47EB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384-CC24-499F-A688-653EDFE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AA3-C1B1-4A6C-BA92-70F359EF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EF2-FB20-49D4-B176-1732CFD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5BD-0B59-440B-8D79-7638BC4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B6F-9FF5-43FA-9700-498CB10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C6E-C1F1-4C47-A4A7-C4200828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A63-94EB-494C-B11A-6915FD5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FC1-6EDD-40A5-AD80-F3E5C1E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3ED-0513-40C6-8A04-7FFA82F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A7A-595C-41FB-8D38-038068465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476280"/>
            <a:ext cx="79930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пендикулярные прямы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j0195384"/>
          <p:cNvPicPr/>
          <p:nvPr/>
        </p:nvPicPr>
        <p:blipFill>
          <a:blip r:embed="rId1"/>
          <a:stretch/>
        </p:blipFill>
        <p:spPr>
          <a:xfrm>
            <a:off x="3571920" y="307188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786120" y="54291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ьякова Т.И.,учитель математики МОУ СОШ № 18, Ом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2" descr="96"/>
          <p:cNvPicPr/>
          <p:nvPr/>
        </p:nvPicPr>
        <p:blipFill>
          <a:blip r:embed="rId1"/>
          <a:stretch/>
        </p:blipFill>
        <p:spPr>
          <a:xfrm>
            <a:off x="428760" y="928800"/>
            <a:ext cx="2720880" cy="2004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4121640" y="2943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43, № 1365,1366,136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22040" y="25092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называется данная фигур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763640" y="26370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4872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1835280" y="1413000"/>
            <a:ext cx="45370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835280" y="2637000"/>
            <a:ext cx="352872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72652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1852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238760" y="57243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углы вы зн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1" descr="D:\fon\animated\ANIMATED\J0288870.GIF"/>
          <p:cNvPicPr/>
          <p:nvPr/>
        </p:nvPicPr>
        <p:blipFill>
          <a:blip r:embed="rId1"/>
          <a:stretch/>
        </p:blipFill>
        <p:spPr>
          <a:xfrm>
            <a:off x="250920" y="260280"/>
            <a:ext cx="760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 flipV="1">
            <a:off x="1403280" y="1989000"/>
            <a:ext cx="4176720" cy="15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835280" y="1484280"/>
            <a:ext cx="3816360" cy="2736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564000" y="2637000"/>
            <a:ext cx="73080" cy="72720"/>
          </a:xfrm>
          <a:prstGeom prst="ellipse">
            <a:avLst/>
          </a:prstGeom>
          <a:solidFill>
            <a:srgbClr val="f9b7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419640" y="21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74000" y="48164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ересекающиеся прям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385640" y="5392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акие углы есть на чертеж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239120" y="108000"/>
            <a:ext cx="58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ные прям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11816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98180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51088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078520" y="155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 flipV="1">
            <a:off x="1763640" y="2205000"/>
            <a:ext cx="5329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203640" y="1197000"/>
            <a:ext cx="1728720" cy="42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2144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59016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421800" y="98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05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96720" y="2708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85760" y="5734080"/>
                <a:ext cx="8359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E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ям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084720" y="4581360"/>
                <a:ext cx="27594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13"/>
          <p:cNvSpPr/>
          <p:nvPr/>
        </p:nvSpPr>
        <p:spPr>
          <a:xfrm>
            <a:off x="952920" y="618336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перпендикулярна 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468360" y="1413000"/>
            <a:ext cx="81360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е прямые, образующие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сечении прямые углы,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пендикулярными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перпендикуляр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89680" y="1474920"/>
            <a:ext cx="58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С помощью треуголь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2980440" y="2510640"/>
            <a:ext cx="3038040" cy="2700360"/>
            <a:chOff x="2980440" y="2510640"/>
            <a:chExt cx="3038040" cy="2700360"/>
          </a:xfrm>
        </p:grpSpPr>
        <p:sp>
          <p:nvSpPr>
            <p:cNvPr id="78" name="AutoShape 7"/>
            <p:cNvSpPr/>
            <p:nvPr/>
          </p:nvSpPr>
          <p:spPr>
            <a:xfrm rot="3522000">
              <a:off x="3707280" y="2564280"/>
              <a:ext cx="1584000" cy="2592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3522000">
              <a:off x="3762000" y="3071160"/>
              <a:ext cx="934920" cy="1656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11"/>
          <p:cNvSpPr/>
          <p:nvPr/>
        </p:nvSpPr>
        <p:spPr>
          <a:xfrm flipV="1">
            <a:off x="1116000" y="2637000"/>
            <a:ext cx="3887640" cy="2304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124000" y="2492280"/>
            <a:ext cx="2448000" cy="3889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562000" y="229716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вести пряму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585400" y="263700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риложить треугольн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583600" y="299736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овести другую пряму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29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57416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176580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997440" y="602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0"/>
              <p:cNvSpPr txBox="1"/>
              <p:nvPr/>
            </p:nvSpPr>
            <p:spPr>
              <a:xfrm>
                <a:off x="5651640" y="3860640"/>
                <a:ext cx="2520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СК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перпендикуляр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1480" y="155736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 помощью транспорти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1619280" y="3141360"/>
            <a:ext cx="475308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2898360" y="2691720"/>
            <a:ext cx="2980800" cy="2769120"/>
            <a:chOff x="2898360" y="2691720"/>
            <a:chExt cx="2980800" cy="2769120"/>
          </a:xfrm>
        </p:grpSpPr>
        <p:grpSp>
          <p:nvGrpSpPr>
            <p:cNvPr id="94" name="Group 11"/>
            <p:cNvGrpSpPr/>
            <p:nvPr/>
          </p:nvGrpSpPr>
          <p:grpSpPr>
            <a:xfrm>
              <a:off x="2898360" y="2691720"/>
              <a:ext cx="2980800" cy="2769120"/>
              <a:chOff x="2898360" y="2691720"/>
              <a:chExt cx="2980800" cy="2769120"/>
            </a:xfrm>
          </p:grpSpPr>
          <p:sp>
            <p:nvSpPr>
              <p:cNvPr id="95" name="AutoShape 9"/>
              <p:cNvSpPr/>
              <p:nvPr/>
            </p:nvSpPr>
            <p:spPr>
              <a:xfrm rot="20187000">
                <a:off x="3205080" y="3067920"/>
                <a:ext cx="2305080" cy="20160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0"/>
              <p:cNvSpPr/>
              <p:nvPr/>
            </p:nvSpPr>
            <p:spPr>
              <a:xfrm rot="20187000">
                <a:off x="3016800" y="4055400"/>
                <a:ext cx="2881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12"/>
            <p:cNvSpPr/>
            <p:nvPr/>
          </p:nvSpPr>
          <p:spPr>
            <a:xfrm>
              <a:off x="4290840" y="4105440"/>
              <a:ext cx="5760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3888000" y="3181320"/>
              <a:ext cx="5760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 rot="20187000">
              <a:off x="3795840" y="315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 rot="20187000">
              <a:off x="5296680" y="354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 rot="20187000">
              <a:off x="3111120" y="4458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Line 20"/>
          <p:cNvSpPr/>
          <p:nvPr/>
        </p:nvSpPr>
        <p:spPr>
          <a:xfrm>
            <a:off x="3492360" y="2349360"/>
            <a:ext cx="1656000" cy="36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1549080" y="5157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30252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356508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515052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7"/>
              <p:cNvSpPr txBox="1"/>
              <p:nvPr/>
            </p:nvSpPr>
            <p:spPr>
              <a:xfrm>
                <a:off x="5724360" y="4941720"/>
                <a:ext cx="29512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О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Oval 29"/>
          <p:cNvSpPr/>
          <p:nvPr/>
        </p:nvSpPr>
        <p:spPr>
          <a:xfrm flipV="1">
            <a:off x="4211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403280" y="1125000"/>
            <a:ext cx="273708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476360" y="1268280"/>
            <a:ext cx="244800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140720" y="32130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резк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21000" y="460044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трезки, лежащие на перпендикулярных прям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ываются перпендикуляр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700360" y="2636640"/>
            <a:ext cx="1152000" cy="1297080"/>
            <a:chOff x="2700360" y="2636640"/>
            <a:chExt cx="1152000" cy="1297080"/>
          </a:xfrm>
        </p:grpSpPr>
        <p:sp>
          <p:nvSpPr>
            <p:cNvPr id="114" name="Line 7"/>
            <p:cNvSpPr/>
            <p:nvPr/>
          </p:nvSpPr>
          <p:spPr>
            <a:xfrm>
              <a:off x="2771640" y="2708280"/>
              <a:ext cx="1008360" cy="11523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700360" y="2636640"/>
              <a:ext cx="14436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 flipH="1">
              <a:off x="3708000" y="3789360"/>
              <a:ext cx="14436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2771640" y="1268280"/>
            <a:ext cx="1150920" cy="1009800"/>
            <a:chOff x="2771640" y="1268280"/>
            <a:chExt cx="1150920" cy="1009800"/>
          </a:xfrm>
        </p:grpSpPr>
        <p:sp>
          <p:nvSpPr>
            <p:cNvPr id="118" name="Line 6"/>
            <p:cNvSpPr/>
            <p:nvPr/>
          </p:nvSpPr>
          <p:spPr>
            <a:xfrm flipV="1">
              <a:off x="2771640" y="1341000"/>
              <a:ext cx="1079640" cy="8636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3851280" y="1268280"/>
              <a:ext cx="71280" cy="144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>
              <a:off x="2771640" y="2133720"/>
              <a:ext cx="7164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6"/>
          <p:cNvSpPr/>
          <p:nvPr/>
        </p:nvSpPr>
        <p:spPr>
          <a:xfrm>
            <a:off x="1316880" y="84240"/>
            <a:ext cx="64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ные отрезки и луч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4"/>
          <p:cNvSpPr/>
          <p:nvPr/>
        </p:nvSpPr>
        <p:spPr>
          <a:xfrm flipV="1">
            <a:off x="1763640" y="980640"/>
            <a:ext cx="532944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2916360" y="549360"/>
            <a:ext cx="187164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3132000" y="907560"/>
            <a:ext cx="4176360" cy="1728720"/>
            <a:chOff x="3132000" y="907560"/>
            <a:chExt cx="4176360" cy="1728720"/>
          </a:xfrm>
        </p:grpSpPr>
        <p:sp>
          <p:nvSpPr>
            <p:cNvPr id="125" name="Line 7"/>
            <p:cNvSpPr/>
            <p:nvPr/>
          </p:nvSpPr>
          <p:spPr>
            <a:xfrm flipV="1">
              <a:off x="3132000" y="907560"/>
              <a:ext cx="4176360" cy="163836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3132000" y="2453760"/>
              <a:ext cx="0" cy="182520"/>
            </a:xfrm>
            <a:prstGeom prst="line">
              <a:avLst/>
            </a:prstGeom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>
              <a:off x="3132000" y="2453760"/>
              <a:ext cx="90000" cy="1825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3851280" y="2852640"/>
            <a:ext cx="1007640" cy="2231640"/>
            <a:chOff x="3851280" y="2852640"/>
            <a:chExt cx="1007640" cy="2231640"/>
          </a:xfrm>
        </p:grpSpPr>
        <p:sp>
          <p:nvSpPr>
            <p:cNvPr id="129" name="Line 11"/>
            <p:cNvSpPr/>
            <p:nvPr/>
          </p:nvSpPr>
          <p:spPr>
            <a:xfrm>
              <a:off x="3929760" y="2852640"/>
              <a:ext cx="929160" cy="223164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3851280" y="2852640"/>
              <a:ext cx="232200" cy="7776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4573440" y="24210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Луч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755640" y="551664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учи, лежащие на перпендикулярных прям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ываются перпендикуляр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6:53:34Z</dcterms:created>
  <dc:creator>Таня</dc:creator>
  <dc:description/>
  <dc:language>en-US</dc:language>
  <cp:lastModifiedBy>Tanya</cp:lastModifiedBy>
  <dcterms:modified xsi:type="dcterms:W3CDTF">2010-07-27T13:39:01Z</dcterms:modified>
  <cp:revision>6</cp:revision>
  <dc:subject/>
  <dc:title>Слайд 1</dc:title>
</cp:coreProperties>
</file>