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B856-8998-461A-ACDF-9874589A6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DCA2-4A59-44C1-AF65-FD61EF48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A0DC-AB41-4267-AB00-46D1AC379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77BD-A9EA-4C72-B8CC-2CF0F9B20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C93985-2267-4E91-A4BA-80C596D51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89784-98B7-4E9D-82A3-2FA0179B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CAC10-A04A-4DD2-A7D9-E2DE3125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88998-14F0-49A0-8DD1-FF773D04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6D85F-B75E-4668-9635-435EFB5D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D7BE6-F5D6-4430-B2FC-DFC2CD5A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5A7D2-6C70-4671-8464-5BA88B8F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99B0-BE07-401A-9E6D-1BB08E24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D7183-0A55-4470-A53F-E420A211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83EF7-AAF2-4376-9CA7-3A2F6381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3D8F2-75C5-4FA2-B3DA-315DBD95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DE398-93DF-4E8F-95B5-CA45A252B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2D963-45DA-4B7F-9337-1CB95EB4E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A60F-E302-43E2-AA84-153139DE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C17A-F899-405E-B0D3-571BBADC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FF1B-249F-4626-9285-EC3A00C0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C729-9E06-49D8-AD7F-E8C71D1C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7B63-420D-49F4-8C04-28975ADE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012A-A09C-46F9-B084-633459EA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4A8C-8B00-4D5F-B4BB-161FDF49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024E-9CF0-4380-9374-24182BDF3C0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2AD5-F555-491C-AA69-9CEA44A1E38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68360" y="26028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49360"/>
            <a:ext cx="9144000" cy="2519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ТЕМА 8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Финансовые механиз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государственного регулирова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регионального развития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11280" y="3284640"/>
            <a:ext cx="3961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Финансовый механизм управления развитием субъекта Федерац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926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является неотъемлемой частью экономического механизма управления и представляет собой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совокупность форм организации финансовых отношений, способов образования фондов финансовых ресурсов и их использования в целях достижения необходимых условий экономического и социального развития субъекта Федер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Финансовый механизм  - это система управления финансами, предназначенная для организации взаимодействия финансовых отношений и фондов денежных средств с целью их эффективного воздействия на развитие территории, устанавливаемая региональными органами государственной власти в соответствии с экономическими требования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68360" y="620640"/>
            <a:ext cx="8064360" cy="1944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ahoma"/>
              </a:rPr>
              <a:t>Региональные бюдже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вляются главной финансово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азой региональных орган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ласти и управления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3357720"/>
            <a:ext cx="7777080" cy="25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ни выполняют следующие </a:t>
            </a:r>
            <a:r>
              <a:rPr b="0" lang="ru-RU" sz="1800" spc="-1" strike="noStrike">
                <a:solidFill>
                  <a:srgbClr val="a50021"/>
                </a:solidFill>
                <a:latin typeface="Tahoma"/>
              </a:rPr>
              <a:t>функ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формирование денежных фондов, являющих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инансовым обеспечением деятельности региональных органов вла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распределение и использование этих фондов межд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раслями народного хозяйств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контроль за финансово-хозяйственной деятельностью предприяти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ганизаций и учреждений, подведомственных этим органам вла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67280" y="2565360"/>
            <a:ext cx="792000" cy="792360"/>
          </a:xfrm>
          <a:prstGeom prst="downArrow">
            <a:avLst>
              <a:gd name="adj1" fmla="val 50000"/>
              <a:gd name="adj2" fmla="val 25011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404640"/>
            <a:ext cx="9144000" cy="1295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ЦЕЛИ НАЛОГОВО-БЮДЖЕТНОЙ ПОЛИТИКИ РЕГИ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16360" y="1700280"/>
            <a:ext cx="287280" cy="1657440"/>
          </a:xfrm>
          <a:prstGeom prst="downArrowCallout">
            <a:avLst>
              <a:gd name="adj1" fmla="val 25002"/>
              <a:gd name="adj2" fmla="val 25000"/>
              <a:gd name="adj3" fmla="val 96157"/>
              <a:gd name="adj4" fmla="val 6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84720" y="1700280"/>
            <a:ext cx="287640" cy="1657440"/>
          </a:xfrm>
          <a:prstGeom prst="downArrowCallout">
            <a:avLst>
              <a:gd name="adj1" fmla="val 25002"/>
              <a:gd name="adj2" fmla="val 25000"/>
              <a:gd name="adj3" fmla="val 96037"/>
              <a:gd name="adj4" fmla="val 6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88000" y="3284640"/>
            <a:ext cx="4356000" cy="2736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ЫШ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ОГООБЛАГАЕМ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ЗЫ И СОБИРАЕМО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ОГОВ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ИВАЮЩ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АЛАНСИРОВАНН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ОНА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МУНИЦИПАЛЬ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ЮДЖЕ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284640"/>
            <a:ext cx="4716360" cy="2808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ИЖЕНИЕ НАЛОГОВ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ЕМЕНИ ДО УРОВН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СТВУЮЩЕГО ПОВЫШЕН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ОВОЙ АКТИВНОСТИ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ВЕСТИЦИОН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ЛЕКАТЕЛЬ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Финансовая обеспеченность регио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ставляет собой соотношение финансовых ресурсов региона и потребности в них, рассчитанной с учетом социальных нормативов и дифференциацией последних по важнейшим направлениям социально-экономического развития региона. В условиях перехода к преимущественной децентрализации управления финансовыми ресурсами понятие финансовой обеспеченности трансформируется в понятие финансовой самодостаточности, т.е. достижение финансового обеспечения в первую очередь за счет собственных ресурс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лее узкий смысл имеет понятие «бюджетная самообеспеченность» (самодостаточность), показывающая бюджетные источники финансового обеспечения субъекта Федераци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Бюджетная самообеспеченность регио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полагает опору региона в основном на собственные возможности и источники поступлений в региональный бюджет, которые соизмеряются с расходами, достаточными для обеспечения уровня благосостояния населения, осуществления соответствующих социально-экономических программ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казатели бюджетной обеспеченности и самодостаточности развития регио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практике регионального анализа используются следующие показатели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финансовой обеспеченност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бюджетной самодостаточност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развития субъектов Федераци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ъем финансовых ресурсов на душу населе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ний душевой доход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ний бюджетный доход на душу населе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ний бюджетный расход на душу населе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няя заработная плат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оимость потребительского набор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дельный вес потребительского набора в среднедушевых доходах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житочный миниму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4000" y="333360"/>
            <a:ext cx="8351640" cy="934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Tahoma"/>
              </a:rPr>
              <a:t>БЮДЖЕТНАЯ ОБЕСПЕЧЕННОСТЬ РЕГИО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1700280"/>
            <a:ext cx="8496000" cy="4392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блему неравномерности развития регионов призв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шать Фонд финансовой поддержки субъектов Р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(ФФПР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-за неравномерности по территории стра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изводственного и ресурсного потенциал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личия в бюджетн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еспеченности регионов достигаю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олее 15</a:t>
            </a: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 р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55520" y="46080"/>
            <a:ext cx="1679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-38160" y="38160"/>
            <a:ext cx="922032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39640" y="260280"/>
            <a:ext cx="8064720" cy="165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50021"/>
                </a:solidFill>
                <a:latin typeface="Tahoma"/>
              </a:rPr>
              <a:t>Бюджетный федерализ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56000" y="1916280"/>
            <a:ext cx="576360" cy="720720"/>
          </a:xfrm>
          <a:prstGeom prst="downArrow">
            <a:avLst>
              <a:gd name="adj1" fmla="val 50000"/>
              <a:gd name="adj2" fmla="val 3126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637000"/>
            <a:ext cx="9144000" cy="1944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орма бюджетного устройства в федеративном государств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торая предполагает учет интересов всех участник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юджетного процесса на основе достижения компромисс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самостоятельного управления функционированием все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веньев бюджетной 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797360"/>
            <a:ext cx="9144000" cy="2060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орма автономного функционирования бюджетов различ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ровней власти, основанная на четких, закреплен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конодательством норма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о система взаимоотношений между бюджетами различ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ровней в федеративном государств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1054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ЛЯ ГОСУДАРСТВ С ФЕДЕРАТИВНЫМ УСТРОЙСТВОМ СУЩЕСТВУ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 Black"/>
              </a:rPr>
              <a:t>ТРИ ТИПА ОРГАНИЗАЦИИ БЮДЖЕТНОЙ СИСТЕ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5640" y="1052640"/>
            <a:ext cx="720720" cy="1152360"/>
          </a:xfrm>
          <a:custGeom>
            <a:avLst/>
            <a:gdLst>
              <a:gd name="textAreaLeft" fmla="*/ 180000 w 720720"/>
              <a:gd name="textAreaRight" fmla="*/ 540720 w 720720"/>
              <a:gd name="textAreaTop" fmla="*/ 0 h 1152360"/>
              <a:gd name="textAreaBottom" fmla="*/ 1008360 h 1152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03280" y="1557360"/>
            <a:ext cx="1081080" cy="287280"/>
          </a:xfrm>
          <a:prstGeom prst="rightArrow">
            <a:avLst>
              <a:gd name="adj1" fmla="val 50000"/>
              <a:gd name="adj2" fmla="val 9407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1125360"/>
            <a:ext cx="6480360" cy="165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ЦЕНТРАЛИЗОВАННЫЕ МОДЕЛИ БЮДЖЕТНЫХ СИСТЕМ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ЗГРАНИЧЕНИЕ ПОЛНОМОЧИЙ МЕЖДУ ВЕТВЯМИ В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 РАСХОДАМ, КАК ПРАВИЛО, НЕ СООТВЕТСТВУ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ЛИЧИЮ СОБСТВЕННЫХ ИСТОЧНИКОВ ДОХО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УБЪЕКТОВ ФЕДЕРАЦИИ; ХАРАКТЕРНА СИЛЬ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ВИСИМОСТЬ РЕГИОНОВ ОТ ФЕДЕРАЛЬНОГО ЦЕНТ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3213000"/>
            <a:ext cx="720720" cy="1152720"/>
          </a:xfrm>
          <a:custGeom>
            <a:avLst/>
            <a:gdLst>
              <a:gd name="textAreaLeft" fmla="*/ 180000 w 720720"/>
              <a:gd name="textAreaRight" fmla="*/ 540720 w 720720"/>
              <a:gd name="textAreaTop" fmla="*/ 0 h 1152720"/>
              <a:gd name="textAreaBottom" fmla="*/ 1008720 h 11527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32000" y="3716280"/>
            <a:ext cx="1081080" cy="287280"/>
          </a:xfrm>
          <a:prstGeom prst="rightArrow">
            <a:avLst>
              <a:gd name="adj1" fmla="val 50000"/>
              <a:gd name="adj2" fmla="val 9407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2924280"/>
            <a:ext cx="6480360" cy="1728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ЕЦЕНТРАЛИЗОВАННЫЕ – РЕГИОНЫ ИМЕЮТ ПОЧ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ЛНУЮ ФИНАНСОВУЮ САМОСТОЯТЕЛЬНОСТЬ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Х СОБСТВЕННЫЕ ИСТОЧНИКИ ФИНАНСИРОВА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ЕСПЕЧИВАЮТ РАЗВИТИЕ РЕГИОНА, ХАРАКТЕР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НАЧИТЕЛЬНАЯ ПОЛИТИЧЕСКАЯ И ЗАКОНОДАТЕЛЬ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ЕЗАВИСИМОСТЬ РЕГИОНОВ ОТ ФЕДЕРАЛЬНОГО ЦЕНТР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4360" y="5373720"/>
            <a:ext cx="720720" cy="1152360"/>
          </a:xfrm>
          <a:custGeom>
            <a:avLst/>
            <a:gdLst>
              <a:gd name="textAreaLeft" fmla="*/ 180000 w 720720"/>
              <a:gd name="textAreaRight" fmla="*/ 540720 w 720720"/>
              <a:gd name="textAreaTop" fmla="*/ 0 h 1152360"/>
              <a:gd name="textAreaBottom" fmla="*/ 1008360 h 1152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32000" y="5877000"/>
            <a:ext cx="1081080" cy="287280"/>
          </a:xfrm>
          <a:prstGeom prst="rightArrow">
            <a:avLst>
              <a:gd name="adj1" fmla="val 50000"/>
              <a:gd name="adj2" fmla="val 9407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797360"/>
            <a:ext cx="6480360" cy="1773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МБИНИРОВАННЫЕ МОДЕЛИ БЮДЖЕТ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ЕДЕРАЛИЗМА –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ХАРАКТЕРНЫ ВЕРТИКАЛЬНОЕ (ЗА СЧ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РАНСФЕРТОВ ИЗ ФЕДЕРАЛЬНОГО БЮДЖЕТА)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ОРИЗОНТАЛЬНОЕ (ПРОПОРЦИОНАЛЬНОЕ РАСПРЕДЕЛ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ЛОГОВОГО БРЕМЕНИ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ЕЖДУ СУБЪЕКТАМИ)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РАВНИ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55640" y="260280"/>
            <a:ext cx="7848720" cy="720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Н ЛЕК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1125360"/>
            <a:ext cx="8893080" cy="489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ущность финансового потенциала регион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гиональная финансовая поли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Региональные бюджеты и бюджетно-налогов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гиональные отнош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 Бюджетный федерализм и межбюджетные отнош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260280"/>
            <a:ext cx="9144000" cy="1440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ЛЯ ОБЕСПЕЧЕНИЯ ЭФФЕКТИВНОГО ФУНКЦИОНИРОВАНИЯ ЛЮБ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МОДЕЛИ БЮДЖЕТНОГО ФЕДЕРАЛИЗМА ДОЛЖНЫ ВЫПОЛНЯТЬ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ЛЕДУЮЩИЕ ОСНОВ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 Black"/>
              </a:rPr>
              <a:t>УСЛО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1989000"/>
            <a:ext cx="8604360" cy="100836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КОЕ РАЗГРАНИЧЕНИЕ И ЗАКОНОДАТЕЛЬНОЕ ЗАКРЕП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ОМОЧИЙ МЕЖДУ ВСЕМИ УРОВНЯМИ ВЛАСТИ ПО РАСХОД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3357720"/>
            <a:ext cx="8604360" cy="100800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ЕЛЕНИЕ СООТВЕТСТВУЮЩИХ УРОВНЕЙ ВЛАСТИ ДОСТАТОЧНЫ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ВЫПОЛНЕНИЯ ЭТИХ ПОЛНОМОЧИЙ ДОХОДНЫМИ ИСТОЧНИК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2492280"/>
            <a:ext cx="288720" cy="28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5157720"/>
            <a:ext cx="288720" cy="28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9640" y="4724280"/>
            <a:ext cx="8604360" cy="100836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ТИКАЛЬНОЕ И ГОРИЗОНТАЛЬНОЕ БЮДЖЕТНОЕ ВЫРАВНИ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ИСПОЛЬЗОВАНИЕМ  МЕХАНИЗМА МЕЖБЮДЖЕТНЫХ ОТНОШ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3789360"/>
            <a:ext cx="288720" cy="28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50920" y="333360"/>
            <a:ext cx="8569080" cy="1008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ahoma"/>
              </a:rPr>
              <a:t>Основные принципы межбюджетных отнош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773360"/>
            <a:ext cx="8893080" cy="107928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БАЛАНСИРОВАННОСТЬ УЧАСТНИКОВ МЕЖБЮДЖЕТНЫХ ОТНОШ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2852640"/>
            <a:ext cx="8893080" cy="107964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СТОЯТЕЛЬНОСТЬ БЮДЖЕТОВ РАЗЛИЧНЫХ УРОВН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4076640"/>
            <a:ext cx="8893080" cy="107964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ОНОДАТЕЛЬНОЕ РАЗГРАНИЧЕНИЕ ДОХОДНЫХ ПОЛНОМОЧ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ОТВЕСТВЕННОСТИ МЕЖДУ ФЕДЕРАЛЬНЫМ БЮДЖЕТО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ЮДЖЕТАМИ РЕГИОНОВ И МУНИЦИПАЛЬНЫХ ОБРАЗОВА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5300640"/>
            <a:ext cx="8893080" cy="107964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ЕКТИВНО ОБУСЛОВЛЕННОЕ ПЕРЕРАСПРЕДЕЛЕНИЕ СРЕДСТ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ЖДУ БЮДЖЕТАМИ В ЦЕЛЯХ ВЫРАВНИВАНИЯ УРОВНЕЙ БЮДЖЕТ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ЕСПЕЧЕННОСТИ РЕГИОНОВ И МУНИЦИПАЛЬНЫХ ОБРАЗОВА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24000" y="260280"/>
            <a:ext cx="8496000" cy="936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 Black"/>
              </a:rPr>
              <a:t>ФАКТОРЫ ФОРМИРОВАНИЯ МЕЖБЮДЖЕТНЫХ ОТНОШ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123640" y="1197000"/>
            <a:ext cx="158436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76720" y="1197000"/>
            <a:ext cx="187164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2349360"/>
            <a:ext cx="3527280" cy="719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БЪЕКТИВ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48360" y="2276640"/>
            <a:ext cx="3527280" cy="718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УБЪЕКТИВ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3213000"/>
            <a:ext cx="3600360" cy="863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ВЕНЬ СОЦИАЛЬ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НОМИЧЕ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Я РЕГИО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4221000"/>
            <a:ext cx="367164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НОМИКО-ГЕОГРАФИЧЕСК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4941720"/>
            <a:ext cx="352728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РОДНО-КЛИМАТ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5661000"/>
            <a:ext cx="352728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МОГРАФ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48360" y="3284640"/>
            <a:ext cx="3600360" cy="57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ТИЧЕСКИЙ ФАКТ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19640" y="4076640"/>
            <a:ext cx="352764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ЦИОНАЛЬНО-ЭТНИЧЕСК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ЛИЧ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19640" y="4869000"/>
            <a:ext cx="3527640" cy="57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ЯЖ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4360" y="189000"/>
            <a:ext cx="799128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В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197000"/>
            <a:ext cx="9144000" cy="1800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ГИОНАЛЬНЫЕ ФИНАНСЫ ПРЕДСТАВЛЯЮТ СОБОЙ СИСТЕМУ ЭКОНОМИЧЕСКИ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НОШЕНИЙ, ПОСРЕДСТВОМ КОТОРОЙ РАСПРЕДЕЛЯЕТСЯ И ПЕРЕРАСПРЕЛЯЕТС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ЦИОНАЛЬНЫЙ ДОХОД НА ЭКОНОМИЧЕСКОЕ И СОЦИАЛЬНОЕ РАЗВИТ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РРИТОРИЙ. В СОВРЕМЕННЫХ УСЛОВИЯХ РОЛЬ РЕГИОНАЛЬНЫХ  ФИНАНСОВ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СИЛИВАЕТСЯ, А СФЕРА ИХ ПРИМЕНЕНИЯ РАШИРЯЕТСЯ, ЧТО ОБУСЛОВЛЕН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ГИОНАЛИЗАЦИЕЙ ЭКОНОМИЧЕСКИХ И СОЦИАЛЬНЫХ ПРОЦЕСС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213000"/>
            <a:ext cx="9144000" cy="1800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 ПОСРЕДСТВОМ РЕГИОНАЛЬНЫХ ФИНАНСОВ РЕАЛИЗУЕТСЯ ЗАДАЧА ВЫРАВНИВА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РОВНЕЙ ЭКОНОМИЧЕСКОГО И СОЦИАЛЬНОГО РАЗВИТИЯ ТЕРРИТОРИЙ. ДЛЯ УСТРАН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НАЧИТЕЛЬНЫХ ДИСПРОПОРЦИЙ ВНУТРИ СТРАНЫ ТРЕБУЕТСЯ РЕГУЛИРУЮЩА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УНКЦИЯ  РЕГИОНАЛЬНЫХ ФИНАНСОВ, КОТОРАЯ ОСУЩЕСТВЛЯЕТСЯ ЧЕРЕЗ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ГИОНАЛЬНЫЕ ПРОГРАММЫ РАЗВИТ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.ГЛАВНЫМИ СОСТАВНЫМИ ЧАСТЯМИ РЕГИОНАЛЬНОЙ ФИНАНСОВОЙ СИСТЕМ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СТУПАЮТ РЕГИОНАЛЬНЫЕ БЮДЖЕТЫ, РЕГИОНАЛЬНЫЕ ВНЕБЮДЖЕТНЫЕ ФОНДЫ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РЕДСТВА СУБЪЕКТОВ  ХОЗЯЙСТВОВАНИЯ,  НАПРАВЛЯЕМЫЕ НА РЕГИОНАЛЬ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ВИТИЕ И КРЕДИТНЫЕ РЕСУРСЫ. ОСНОВНЫМ ЭЛЕМЕНТОМ ФИНАНСОВОЙ СИСТЕМ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ГИОНА  ВЫСТУПАЮТ РЕГИОНАЛЬНЫЕ БЮДЖЕТ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79280" y="189000"/>
            <a:ext cx="8640720" cy="23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ВАЖНЕЙШЕЙ ПРОБЛЕМОЙ, ВЫТЕКАЮЩЕЙ ИЗ СТРУКТУР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РМИРОВАНИЯ ДОХОДОВ БЮДЖЕТА РОССИЙСКОЙ ФЕДЕРАЦИ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ЯВЛЯЕТСЯ РАСПРЕДЕЛЕНИЕ НАЛОГОВЫХ ДОХОДОВ И НЕНАЛОГОВ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ЧИСЛЕНИЙ МЕЖДУ ФЕДЕРАЛЬНЫМ, РЕГИОНАЛЬНЫМИ И МЕСТНЫ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ЮДЖЕТАМИ, Т.Е. ВОПРОС БЮДЖЕТНОГО ФЕДЕРАЛИЗМА. БЮДЖЕТ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ЕДЕРАЛИЗМ – ЭТО ФОРМА АВТОНОМНОГО ФУНКЦИОНИРОВА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ЮДЖЕТОВ РАЗЛИЧНЫХ УРОВНЕЙ ГОСУДАРСТВЕННОЙ ВЛАСТ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НОВАНАЯ НА ЧЕТКИХ, ЗАКРЕПЛЕННЫХ ЗАКОНОДАТЕЛЬСТВОМ НОРМ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708280"/>
            <a:ext cx="9144000" cy="14414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 СОВЕРШЕНСТВОВАНИЕ ФИНАНСОВЫХ И НАЛОГОВЫХ ОТНОШЕН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ЖДУ ФЕДЕРАЛЬНЫМ ЦЕНТРОМ И РЕГИОНАМИ, А ТАКЖЕ МЕЖДУ ОРГАН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СУДАРСТВЕННОЙ ВЛАСТИ И МЕСТНОГО САМОУПРАВЛЕНИЯ НАПРАВЛЕН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ПОВЫШЕНИЕ УРОВНЯ БЮДЖЕТНОЙ ДОСТАТОЧНОСТИ РЕГИОНОВ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УНИЦИПАЛЬНЫХ ОБРАЗОВА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4292640"/>
            <a:ext cx="8964720" cy="1512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. ВАЖНЕЙШИМ УСЛОВИЕМ РЕАЛИЗАЦИИ РЕГИОНАЛЬ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НАНСОВОЙ ПОЛИТИКИ  ЯВЛЯЕТСЯ ОБЕСПЕЧЕНИЕ ЕДИН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КОНОМИЧЕСКОГО ПРОСТРАНСТВА СТРАНЫ, ОПРЕДЕЛЯЕМ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ЩНОСТЬЮ ДЕНЕЖНОЙ, НАЛОГОВОЙ, БЮДЖЕТНО-ФИНАНСОВОЙ СИСТ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Финансовый потенциал регио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у финансового потенциала региона составляют общественные, корпоративные и частные финансовые средств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ъектами приложения этих средств является экономика, социальная сфера, окружающая сред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ормирование и использование этих ресурсов обеспечивается системой финансовых институтов и механизм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8424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 rot="10800000">
            <a:off x="7451640" y="1700280"/>
            <a:ext cx="433440" cy="244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28"/>
                </a:moveTo>
                <a:lnTo>
                  <a:pt x="18528" y="21628"/>
                </a:lnTo>
                <a:lnTo>
                  <a:pt x="18528" y="7200"/>
                </a:lnTo>
                <a:lnTo>
                  <a:pt x="15428" y="7200"/>
                </a:lnTo>
                <a:lnTo>
                  <a:pt x="18514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476280"/>
            <a:ext cx="8424720" cy="1511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ИНАНСОВЫЕ РЕСУРСЫ РЕГИ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1115640" y="1773360"/>
            <a:ext cx="576360" cy="79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28"/>
                </a:moveTo>
                <a:lnTo>
                  <a:pt x="18528" y="21628"/>
                </a:lnTo>
                <a:lnTo>
                  <a:pt x="18528" y="7200"/>
                </a:lnTo>
                <a:lnTo>
                  <a:pt x="15428" y="7200"/>
                </a:lnTo>
                <a:lnTo>
                  <a:pt x="18514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2340000" y="1916280"/>
            <a:ext cx="504720" cy="230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28"/>
                </a:moveTo>
                <a:lnTo>
                  <a:pt x="18528" y="21628"/>
                </a:lnTo>
                <a:lnTo>
                  <a:pt x="18528" y="7200"/>
                </a:lnTo>
                <a:lnTo>
                  <a:pt x="15428" y="7200"/>
                </a:lnTo>
                <a:lnTo>
                  <a:pt x="18514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3708000" y="1988640"/>
            <a:ext cx="576360" cy="79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28"/>
                </a:moveTo>
                <a:lnTo>
                  <a:pt x="18528" y="21628"/>
                </a:lnTo>
                <a:lnTo>
                  <a:pt x="18528" y="7200"/>
                </a:lnTo>
                <a:lnTo>
                  <a:pt x="15428" y="7200"/>
                </a:lnTo>
                <a:lnTo>
                  <a:pt x="18514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0800000">
            <a:off x="5003280" y="1989000"/>
            <a:ext cx="576360" cy="22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28"/>
                </a:moveTo>
                <a:lnTo>
                  <a:pt x="18528" y="21628"/>
                </a:lnTo>
                <a:lnTo>
                  <a:pt x="18528" y="7200"/>
                </a:lnTo>
                <a:lnTo>
                  <a:pt x="15428" y="7200"/>
                </a:lnTo>
                <a:lnTo>
                  <a:pt x="18514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6012000" y="1916280"/>
            <a:ext cx="576000" cy="79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28"/>
                </a:moveTo>
                <a:lnTo>
                  <a:pt x="18528" y="21628"/>
                </a:lnTo>
                <a:lnTo>
                  <a:pt x="18528" y="7200"/>
                </a:lnTo>
                <a:lnTo>
                  <a:pt x="15428" y="7200"/>
                </a:lnTo>
                <a:lnTo>
                  <a:pt x="18514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2492280"/>
            <a:ext cx="2016360" cy="1368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ФЕДЕРАЛЬ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ОСУДАРСТВЕННЫ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ФИНАНС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58920" y="4221000"/>
            <a:ext cx="2233440" cy="1368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ФИНАНС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ЕДПРИЯТ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00360" y="2781360"/>
            <a:ext cx="2016000" cy="1295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ЕГИОНАЛЬ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ОСУДАРСТВЕННЫ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ФИНАНС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95640" y="4221000"/>
            <a:ext cx="2233800" cy="1368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ФИНАНС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РЕДИТНЫ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РГАНИЗАЦ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92720" y="2708280"/>
            <a:ext cx="2016000" cy="1295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УНИЦИПАЛЬ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ФИНАНС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(ФИНАНСЫ МО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88000" y="4149720"/>
            <a:ext cx="2233800" cy="1368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ФИНАНС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ОМОХОЗЯЙСТ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(ФИНАНС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АСЕЛЕНИЯ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89000"/>
            <a:ext cx="9144000" cy="1297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ОСУДАРСТВЕННАЯ РЕГИОНАЛЬНАЯ ФИНАНСОВАЯ ПОЛИТ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11640" y="155736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060640"/>
            <a:ext cx="9144000" cy="24494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ТО ЧАСТЬ СОЦИАЛЬНО-ЭКОНОМИЧЕСКОЙ ПОЛИТИКИ ГОСУДАРСТВ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 ОБЕСПЕЧЕНИЮ СБАЛАНСИРОВАННОСТИ РОСТА ФИНАНСОВ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СУРСОВ ВО ВСЕХ ЗВЕНЬЯХ ФИНАНСОВОЙ СИСТЕМЫ РЕГИОНА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ПОЛНЕНИЮ СОЦИАЛЬНО-ЭКОНОМИЧЕСКИХ ПРОГРАММ РЕГИОН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АВЯЩИХ СВОЕЙ ЦЕЛЬЮ РОСТ КАЧЕСТВА И УРОВ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ЖИЗНИ НАСЕ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4797360"/>
            <a:ext cx="8713800" cy="1152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ФИНАНСОВАЯ ПОЛИТИКА РЕГИО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ЯВЛЯЕТСЯ БАЗОЙ ОСУЩЕСТВЛЕНИЯ ЕГО ЭКОНОМИЧЕСКОЙ ПОЛИТ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549360"/>
            <a:ext cx="9144000" cy="2950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РЕГИОНАЛЬНЫЕ ФИНАНС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ЯВЛЯЮТСЯ НЕОБХОДИМЫМ ЗВЕНОМ ГОСУДАРСТВЕННОЙ ФИНАНСОВ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ИСТЕМЫ И ОХВАТЫВАЮТ СОВОКУПНОСТЬ ФИНАНСОВЫХ ОТНОШЕНИЙ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СУБЪЕКТОМ УПРАВЛЕН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КОТОРЫМИ ВЫСТУПАЮ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ГОСУДАРСТВЕННЫЕ  ОРГАНЫ РЕГИОНАЛЬНОГО УПРАВ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076640"/>
            <a:ext cx="9144000" cy="18734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В РОССИЙСКОЙ ФЕДЕРАЦ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 РЕГИОНАЛЬНЫМ ФИНАНСАМ ОТНОСЯТ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ФИНАНСЫ СУБЪЕКТОВ РФ, РАЙОНОВ, ГОРОДОВ И РАЙОНОВ В ГОРОДАХ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СЕЛКОВЫХ И СЕЛЬСКИХ ОРГАНОВ ВЛАСТ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ерриториальные финанс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ерриториальны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финансам в федеративном государстве относятс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инансы субъектов Федерац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инансы местных органов власти, предприятий местного подчинения, муниципалите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лавными проблемами в области государственных, региональных и муниципальных финансов являются следующи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балансированность бюджетов всех уровней и государственных внебюджетных фонд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ершенствование налоговой систем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ышение эффективности использования государственной и муниципальной собствен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ершенствование бюджетного федерализм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еспечение единства денежно-кредитной и финансовой политики; укрепление финансового контрол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7:04:56Z</dcterms:created>
  <dc:creator>Sofia</dc:creator>
  <dc:description/>
  <dc:language>en-US</dc:language>
  <cp:lastModifiedBy>Engineer</cp:lastModifiedBy>
  <dcterms:modified xsi:type="dcterms:W3CDTF">2013-03-20T09:36:39Z</dcterms:modified>
  <cp:revision>2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