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CC9-E8E4-4F97-B1CA-887E9652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18B-D0E7-44E7-AEB2-BB32D7B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54E-2AC9-4D53-90F3-1E5ED804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D5A-AEFD-4F97-98F8-CA0E52C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CF17A-0426-4358-BD4A-46A3E646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2B24E-04D9-40EE-B5E3-0DA23D03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70DBA-000D-4EB7-AFAE-5322845A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63D7-AE83-407C-B988-F3E14EC9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6B56E-7E44-483E-9801-A921263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A4583-42E1-42E1-8587-6A421893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BA39A-8565-4C29-B895-415DA27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C7B-EEEF-493A-A51B-5BDFE18E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FF85-A4F0-4913-8522-3253FAF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253B8-8E54-43CF-86A3-A101A6F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1121E-DE0D-4EDC-8FD6-595680F7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718D-AA10-4CE4-86FC-E483049F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4D66-5665-41B4-ABA7-3FEB7453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1EF-BDFF-4FE0-A19A-F91BA42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504-A9A1-4A16-889E-B41680D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CBB-5571-457B-917C-18181EFC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4F9-F2F8-4B00-B61E-C6FB1C2E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521-8212-4AFC-BCC5-609EF5A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91D-496B-4B03-8AB6-F36EFE7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3CA-2909-41AA-AFE9-5833A2A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7BC4-9095-44C7-A5AC-BA0101A50D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863-843B-4926-AD48-143A8E0C8F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9360"/>
            <a:ext cx="9144000" cy="25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МА 8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Финансовые механиз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сударственного регулир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егионального развит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3961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инансовый механизм управления развитием субъекта Федер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отъемлемой частью экономического механизма управления и представляет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вокупность форм организации финансовых отношений, способов образования фондов финансовых ресурсов и их использования в целях достижения необходимых условий экономического и социального развития субъекта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Финансовый механизм  - это система управления финансами, предназначенная для организации взаимодействия финансовых отношений и фондов денежных средств с целью их эффективного воздействия на развитие территории, устанавливаемая региональными органами государственной власти в соответствии с экономическими требов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20640"/>
            <a:ext cx="8064360" cy="19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Региональные бюдж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ются главной финансов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ой региональных орга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сти и управлен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357720"/>
            <a:ext cx="7777080" cy="25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и выполняют следующие </a:t>
            </a:r>
            <a:r>
              <a:rPr b="0" lang="ru-RU" sz="1800" spc="-1" strike="noStrike">
                <a:solidFill>
                  <a:srgbClr val="a50021"/>
                </a:solidFill>
                <a:latin typeface="Tahoma"/>
              </a:rPr>
              <a:t>функ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формирование денежных фондов, являю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нансовым обеспечением деятельности региональных органов в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распределение и использование этих фондов меж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аслями народного хозяй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онтроль за финансово-хозяйственной деятельностью предприят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й и учреждений, подведомственных этим органам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256536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04640"/>
            <a:ext cx="9144000" cy="129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ЦЕЛИ НАЛОГОВО-БЮДЖЕТНОЙ ПОЛИТИКИ 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700280"/>
            <a:ext cx="287280" cy="1657440"/>
          </a:xfrm>
          <a:prstGeom prst="downArrowCallout">
            <a:avLst>
              <a:gd name="adj1" fmla="val 25002"/>
              <a:gd name="adj2" fmla="val 25000"/>
              <a:gd name="adj3" fmla="val 9615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1700280"/>
            <a:ext cx="287640" cy="1657440"/>
          </a:xfrm>
          <a:prstGeom prst="downArrowCallout">
            <a:avLst>
              <a:gd name="adj1" fmla="val 25002"/>
              <a:gd name="adj2" fmla="val 25000"/>
              <a:gd name="adj3" fmla="val 9603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3284640"/>
            <a:ext cx="4356000" cy="2736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ОБЛАГАЕ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Ы И СОБИРАЕМ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УНИЦИП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84640"/>
            <a:ext cx="4716360" cy="280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НАЛОГОВ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МЕНИ ДО УРОВН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ЮЩЕГО ПОВЫШ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ВОЙ АКТИВНОСТ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Финансовая обеспеченность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 собой соотношение финансовых ресурсов региона и потребности в них, рассчитанной с учетом социальных нормативов и дифференциацией последних по важнейшим направлениям социально-экономического развития региона. В условиях перехода к преимущественной децентрализации управления финансовыми ресурсами понятие финансовой обеспеченности трансформируется в понятие финансовой самодостаточности, т.е. достижение финансового обеспечения в первую очередь за счет собственных ресур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ее узкий смысл имеет понятие «бюджетная самообеспеченность» (самодостаточность), показывающая бюджетные источники финансового обеспечения субъекта Федер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юджетная самообеспеченность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опору региона в основном на собственные возможности и источники поступлений в региональный бюджет, которые соизмеряются с расходами, достаточными для обеспечения уровня благосостояния населения, осуществления соответствующих социально-экономических програм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казатели бюджетной обеспеченности и самодостаточности развития реги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ке регионального анализа используются следующие показател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инансовой обеспечен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юджетной само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звития субъектов Федер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м финансовых ресурсов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душевой дох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бюджетный дох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ий бюджетный расх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няя заработная пла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оимость потребительского набо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дельный вес потребительского набора в среднедушевых доход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житочный миниму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333360"/>
            <a:ext cx="835164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БЮДЖЕТНАЯ ОБЕСПЕЧЕННОСТЬ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блему неравномерности развития регионов приз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ать Фонд финансовой поддержки субъектов Р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(ФФП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-за неравномерности по территории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изводственного и ресурсного потенциа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бюджет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ности регионов достиг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ее 15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79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38160" y="38160"/>
            <a:ext cx="9220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260280"/>
            <a:ext cx="8064720" cy="165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Tahoma"/>
              </a:rPr>
              <a:t>Бюджетный федерализ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191628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а бюджетного устройства в федеративном государств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торая предполагает учет интересов всех участ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юджетного процесса на основе достижения компроми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мостоятельного управления функционированием все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веньев бюджет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а автономного функционирования бюджетов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ней власти, основанная на четких, закрепл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дательством норм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истема взаимоотношений между бюджетами разли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ней в федеративном государ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10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ГОСУДАРСТВ С ФЕДЕРАТИВНЫМ УСТРОЙСТВОМ СУЩЕ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ТРИ ТИПА ОРГАНИЗАЦИИ БЮДЖЕТНОЙ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052640"/>
            <a:ext cx="720720" cy="115236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155736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1125360"/>
            <a:ext cx="6480360" cy="165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ИЗОВАННЫЕ МОДЕЛИ БЮДЖЕТНЫХ СИСТЕМ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ГРАНИЧЕНИЕ ПОЛНОМОЧИЙ МЕЖДУ ВЕТВЯМИ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РАСХОДАМ, КАК ПРАВИЛО, НЕ СООТВЕТСТВ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ЛИЧИЮ СОБСТВЕННЫХ ИСТОЧНИКОВ Д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БЪЕКТОВ ФЕДЕРАЦИИ; ХАРАКТЕРНА СИ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ВИСИМОСТЬ РЕГИОНОВ ОТ ФЕДЕРАЛЬНОГО ЦЕН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213000"/>
            <a:ext cx="720720" cy="115272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71628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2924280"/>
            <a:ext cx="6480360" cy="17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ЦЕНТРАЛИЗОВАННЫЕ – РЕГИОНЫ ИМЕЮТ ПОЧ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УЮ ФИНАНСОВУЮ САМОСТОЯТЕЛЬ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Х СОБСТВЕННЫЕ ИСТОЧНИКИ ФИНАНСИР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ИВАЮТ РАЗВИТИЕ РЕГИОНА, ХАРАКТЕР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ИТЕЛЬНАЯ ПОЛИТИЧЕСКАЯ И ЗАКОНОДАТЕ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ЗАВИСИМОСТЬ РЕГИОНОВ ОТ ФЕДЕРАЛЬНОГО ЦЕНТ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373720"/>
            <a:ext cx="720720" cy="115236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87700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797360"/>
            <a:ext cx="6480360" cy="1773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БИНИРОВАННЫЕ МОДЕЛИ БЮДЖЕТ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ЕДЕРАЛИЗМ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АРАКТЕРНЫ ВЕРТИКАЛЬНОЕ (ЗА С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АНСФЕРТОВ ИЗ ФЕДЕРАЛЬНОГО БЮДЖЕТА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ИЗОНТАЛЬНОЕ (ПРОПОРЦИОНАЛЬНОЕ РАСПРЕД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ЛОГОВОГО БРЕМЕН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ЖДУ СУБЪЕКТАМИ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ВН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260280"/>
            <a:ext cx="7848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ЛЕ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8893080" cy="489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ность финансового потенциала реги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ая финансовая поли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Региональные бюджеты и бюджетно-налого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Бюджетный федерализм и межбюджет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ЛЯ ОБЕСПЕЧЕНИЯ ЭФФЕКТИВНОГО ФУНКЦИОНИРОВАНИЯ ЛЮ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ДЕЛИ БЮДЖЕТНОГО ФЕДЕРАЛИЗМА ДОЛЖНЫ ВЫПОЛНЯ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ЕДУЮЩИЕ ОСНО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989000"/>
            <a:ext cx="8604360" cy="100836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КОЕ РАЗГРАНИЧЕНИЕ И ЗАКОНОДАТЕЛЬНОЕ ЗАКР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ОЧИЙ МЕЖДУ ВСЕМИ УРОВНЯМИ ВЛАСТИ ПО РАСХ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357720"/>
            <a:ext cx="8604360" cy="1008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ЛЕНИЕ СООТВЕТСТВУЮЩИХ УРОВНЕЙ ВЛАСТИ ДОСТАТОЧН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ОЛНЕНИЯ ЭТИХ ПОЛНОМОЧИЙ ДОХОДНЫМИ ИСТОЧНИ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49228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15772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724280"/>
            <a:ext cx="8604360" cy="100836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ТИКАЛЬНОЕ И ГОРИЗОНТАЛЬНОЕ БЮДЖЕТНОЕ ВЫРАВН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 МЕХАНИЗМА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78936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333360"/>
            <a:ext cx="85690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Основные принципы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773360"/>
            <a:ext cx="8893080" cy="107928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АЛАНСИРОВАННОСТЬ УЧАСТНИКОВ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52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СТЬ БЮДЖЕТОВ РАЗЛИЧНЫХ УРОВ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076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ДАТЕЛЬНОЕ РАЗГРАНИЧЕНИЕ ДОХОДНЫХ ПОЛНОМОЧ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ВЕСТВЕННОСТИ МЕЖДУ ФЕДЕРАЛЬНЫМ БЮДЖЕТ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АМИ РЕГИОНОВ И МУНИЦИПАЛЬНЫХ ОБРАЗ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300640"/>
            <a:ext cx="8893080" cy="107964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ИВНО ОБУСЛОВЛЕННОЕ ПЕРЕРАСПРЕДЕЛЕНИЕ СРЕДСТ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БЮДЖЕТАМИ В ЦЕЛЯХ ВЫРАВНИВАНИЯ УРОВНЕЙ БЮДЖЕТ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НОСТИ РЕГИОНОВ И МУНИЦИПАЛЬНЫХ ОБРАЗ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260280"/>
            <a:ext cx="8496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Black"/>
              </a:rPr>
              <a:t>ФАКТОРЫ ФОРМИРОВАНИЯ МЕЖБЮДЖЕТНЫ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1197000"/>
            <a:ext cx="1584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1197000"/>
            <a:ext cx="187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349360"/>
            <a:ext cx="3527280" cy="71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276640"/>
            <a:ext cx="3527280" cy="71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213000"/>
            <a:ext cx="360036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Я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221000"/>
            <a:ext cx="3671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О-ГЕОГРАФ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941720"/>
            <a:ext cx="3527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О-КЛИМ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661000"/>
            <a:ext cx="3527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ГРАФ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284640"/>
            <a:ext cx="360036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076640"/>
            <a:ext cx="3527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О-ЭТН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4869000"/>
            <a:ext cx="352764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189000"/>
            <a:ext cx="79912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ЬНЫЕ ФИНАНСЫ ПРЕДСТАВЛЯЮТ СОБОЙ СИСТЕМУ ЭКОНОМИЧЕ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, ПОСРЕДСТВОМ КОТОРОЙ РАСПРЕДЕЛЯЕТСЯ И ПЕРЕРАСПРЕЛЯЕ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НА ЭКОНОМИЧЕСКОЕ И СОЦИАЛЬНОЕ РАЗВИТ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РРИТОРИЙ. В СОВРЕМЕННЫХ УСЛОВИЯХ РОЛЬ РЕГИОНАЛЬНЫХ  ФИНАНС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ИЛИВАЕТСЯ, А СФЕРА ИХ ПРИМЕНЕНИЯ РАШИРЯЕТСЯ, ЧТО ОБУСЛОВЛЕ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ИЗАЦИЕЙ ЭКОНОМИЧЕСКИХ И СОЦИАЛЬНЫХ ПРОЦЕ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ОСРЕДСТВОМ РЕГИОНАЛЬНЫХ ФИНАНСОВ РЕАЛИЗУЕТСЯ ЗАДАЧА ВЫРАВНИ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ЕЙ ЭКОНОМИЧЕСКОГО И СОЦИАЛЬНОГО РАЗВИТИЯ ТЕРРИТОРИЙ. ДЛЯ УСТРА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ЕЛЬНЫХ ДИСПРОПОРЦИЙ ВНУТРИ СТРАНЫ ТРЕБУЕТСЯ РЕГУЛИРУЮЩ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 РЕГИОНАЛЬНЫХ ФИНАНСОВ, КОТОРАЯ ОСУЩЕСТВЛЯЕТСЯ ЧЕРЕ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ЛЬНЫЕ ПРОГРАММЫ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ГЛАВНЫМИ СОСТАВНЫМИ ЧАСТЯМИ РЕГИОНАЛЬНОЙ ФИНАНСОВОЙ СИСТЕМ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ТУПАЮТ РЕГИОНАЛЬНЫЕ БЮДЖЕТЫ, РЕГИОНАЛЬНЫЕ ВНЕБЮДЖЕТНЫЕ ФОНД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СУБЪЕКТОВ  ХОЗЯЙСТВОВАНИЯ,  НАПРАВЛЯЕМЫЕ НА РЕГИОН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 И КРЕДИТНЫЕ РЕСУРСЫ. ОСНОВНЫМ ЭЛЕМЕНТОМ ФИНАНСОВОЙ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ОНА  ВЫСТУПАЮТ РЕГИОНАЛЬНЫЕ БЮДЖ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89000"/>
            <a:ext cx="864072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ВАЖНЕЙШЕЙ ПРОБЛЕМОЙ, ВЫТЕКАЮЩЕЙ ИЗ СТРУК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Я ДОХОДОВ БЮДЖЕТА РОССИЙСКОЙ ФЕДЕР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РАСПРЕДЕЛЕНИЕ НАЛОГОВЫХ ДОХОДОВ И НЕНАЛОГ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ЧИСЛЕНИЙ МЕЖДУ ФЕДЕРАЛЬНЫМ, РЕГИОНАЛЬНЫМИ И МЕСТ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АМИ, Т.Е. ВОПРОС БЮДЖЕТНОГО ФЕДЕРАЛИЗМА. БЮДЖ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ИЗМ – ЭТО ФОРМА АВТОНОМНОГО ФУНКЦИОНИР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ОВ РАЗЛИЧНЫХ УРОВНЕЙ ГОСУДАРСТВЕННОЙ ВЛА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НАЯ НА ЧЕТКИХ, ЗАКРЕПЛЕННЫХ ЗАКОНОДАТЕЛЬСТВОМ НОР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08280"/>
            <a:ext cx="9144000" cy="1441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ОВЕРШЕНСТВОВАНИЕ ФИНАНСОВЫХ И НАЛОГОВЫХ ОТНОШ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ФЕДЕРАЛЬНЫМ ЦЕНТРОМ И РЕГИОНАМИ, А ТАКЖЕ МЕЖДУ ОРГАН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ОЙ ВЛАСТИ И МЕСТНОГО САМОУПРАВЛЕНИЯ НАПРАВЛЕ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ВЫШЕНИЕ УРОВНЯ БЮДЖЕТНОЙ ДОСТАТОЧНОСТИ РЕГИОН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292640"/>
            <a:ext cx="8964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ВАЖНЕЙШИМ УСЛОВИЕМ РЕАЛИЗАЦИИ РЕГИОН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Й ПОЛИТИКИ  ЯВЛЯЕТСЯ ОБЕСПЕЧЕНИЕ ЕДИН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НОМИЧЕСКОГО ПРОСТРАНСТВА СТРАНЫ, ОПРЕДЕЛЯЕМ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НОСТЬЮ ДЕНЕЖНОЙ, НАЛОГОВОЙ, БЮДЖЕТНО-ФИНАНСОВОЙ СИС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инансовый потенциал реги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у финансового потенциала региона составляют общественные, корпоративные и частные финансовые сред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ами приложения этих средств является экономика, социальная сфера, окружающая сре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и использование этих ресурсов обеспечивается системой финансовых институтов и механизм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0800000">
            <a:off x="7451640" y="1700280"/>
            <a:ext cx="433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6280"/>
            <a:ext cx="8424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НАНСОВЫЕ РЕСУРСЫ РЕГ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115640" y="1773360"/>
            <a:ext cx="576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2340000" y="1916280"/>
            <a:ext cx="504720" cy="23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708000" y="1988640"/>
            <a:ext cx="57636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5003280" y="1989000"/>
            <a:ext cx="57636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6012000" y="1916280"/>
            <a:ext cx="576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92280"/>
            <a:ext cx="201636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ЕДЕР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СУДАРСТВЕН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4221000"/>
            <a:ext cx="223344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ПРИЯТ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781360"/>
            <a:ext cx="20160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ОН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СУДАРСТВЕН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5640" y="4221000"/>
            <a:ext cx="223380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РЕДИТ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708280"/>
            <a:ext cx="20160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УНИЦИП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ФИНАНСЫ М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149720"/>
            <a:ext cx="223380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МОХОЗЯЙ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ФИНАНС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СЕЛ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00"/>
            <a:ext cx="9144000" cy="129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АЯ РЕГИОНАЛЬНАЯ ФИНАНСОВАЯ ПОЛИТ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55736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60640"/>
            <a:ext cx="9144000" cy="24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ЧАСТЬ СОЦИАЛЬНО-ЭКОНОМИЧЕСКОЙ ПОЛИТИКИ ГОСУДАР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ОБЕСПЕЧЕНИЮ СБАЛАНСИРОВАННОСТИ РОСТА ФИНАНС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СУРСОВ ВО ВСЕХ ЗВЕНЬЯХ ФИНАНСОВОЙ СИСТЕМЫ РЕГИОН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ЕНИЮ СОЦИАЛЬНО-ЭКОНОМИЧЕСКИХ ПРОГРАММ РЕГИО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ВЯЩИХ СВОЕЙ ЦЕЛЬЮ РОСТ КАЧЕСТВА И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ЗНИ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797360"/>
            <a:ext cx="8713800" cy="11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АЯ ПОЛИТИКА РЕГИ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ВЛЯЕТСЯ БАЗОЙ ОСУЩЕСТВЛЕНИЯ ЕГО ЭКОНОМИЧЕСК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49360"/>
            <a:ext cx="9144000" cy="29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РЕГИОНАЛЬНЫЕ ФИНАН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ВЛЯЮТСЯ НЕОБХОДИМЫМ ЗВЕНОМ ГОСУДАРСТВЕННОЙ ФИНАНС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И ОХВАТЫВАЮТ СОВОКУПНОСТЬ ФИНАНСОВЫХ ОТНОШ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УБЪЕКТОМ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ОТОРЫМИ ВЫСТУП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ГОСУДАРСТВЕННЫЕ  ОРГАНЫ РЕГИОНАЛЬНОГО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76640"/>
            <a:ext cx="9144000" cy="187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РОССИЙСКОЙ ФЕДЕ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РЕГИОНАЛЬНЫМ ФИНАНСАМ ОТНОС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Ы СУБЪЕКТОВ РФ, РАЙОНОВ, ГОРОДОВ И РАЙОНОВ В ГОРОД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ЛКОВЫХ И СЕЛЬСКИХ ОРГАНОВ ВЛА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рриториальные финан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рриториальн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инансам в федеративном государстве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ы субъектов Федер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ы местных органов власти, предприятий местного подчинения, муниципалит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ми проблемами в области государственных, региональных и муниципальных финансов являются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балансированность бюджетов всех уровней и государственных внебюджетных фонд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ование налоговой сис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эффективности использования государственной и муниципальной собствен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ование бюджетного федерализ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единства денежно-кредитной и финансовой политики; укрепление финансового контро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7:04:56Z</dcterms:created>
  <dc:creator>Sofia</dc:creator>
  <dc:description/>
  <dc:language>en-US</dc:language>
  <cp:lastModifiedBy>Engineer</cp:lastModifiedBy>
  <dcterms:modified xsi:type="dcterms:W3CDTF">2013-03-20T09:36:39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