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EE8-618C-4B2B-8EEA-BB8340F4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6B0-5930-4062-8B3E-78E07787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B0F-CBA8-46D7-85F5-0BE178F6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F7E-E0C0-422B-90E8-9F620801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E04-800A-48DA-BFAE-FD2485C7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D76-62BF-4E73-A025-CB7D6EB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1A0-DEF6-4790-980A-7E3A792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B82-593C-4978-B173-0FCC7154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A5B-E551-4FCA-9216-2B518D0F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1E6-FA16-4165-B0C2-156F5E2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D27-8D79-4A2A-877E-B330903A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BBE-E38F-479F-ADF1-3817154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DEF-C670-4418-AC6F-4BD677EC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осточные 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5640" y="5444640"/>
            <a:ext cx="30560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банова Л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363840" cy="4752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4211640" y="1484280"/>
            <a:ext cx="4321080" cy="4667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точные славяне были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язычник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есть поклонялись многим богам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еру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ли как  его 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ли  Перун-Сварожич,   представлялся   славянам   вооруженным   вои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чащимся на золотой колеснице, запряженной  крылатыми  жеребцами,  белыми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ными. Топору - оружию Перуна  -  издревле  приписывалась  чудесная  с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176800" y="1341360"/>
            <a:ext cx="3427560" cy="4824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324000" y="1628640"/>
            <a:ext cx="46083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вар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олицетворение неба, создатель мира. Некогда Сварог расколол 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лами молнии и зажег  факел  солнца.  Своим  могучим  мечом  он  пораж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ов 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571920" cy="47624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356000" y="1341360"/>
            <a:ext cx="41036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ошь (Мокошь) – божество плодородия. Единственное женское божество в верованиях слав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3240000" cy="3887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836640"/>
            <a:ext cx="3887640" cy="3879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39640" y="5013360"/>
            <a:ext cx="80647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вяне верили в загробную жизнь и почитали предков, тени которых представлялись в вид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домовог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Будто бы они оставались в доме и охраняли потомков от бед. Признавалось существование разного рода нечистой силы – в чаще леса обитал лесной дух –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леш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2968560" cy="42483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765000"/>
            <a:ext cx="4554360" cy="3059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924360" y="4149720"/>
            <a:ext cx="47512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и умерших детей и утонувших женщин представлялись славянам в образе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руса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 глубине озёр и рек, по представлениям славян жил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одя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679640" cy="3356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219640" y="1125360"/>
            <a:ext cx="3630600" cy="3457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468360" y="4724280"/>
            <a:ext cx="8280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клонения богам славяне не строили храмов. Они совершал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идолы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богами могли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аться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волхвы и кудес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4464000" cy="3287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52920" y="2781360"/>
            <a:ext cx="3453120" cy="3841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580000" y="549360"/>
            <a:ext cx="3024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амую короткую ночь (22 июня) устраивались гуляния с купаниями и прыжками через к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005360"/>
            <a:ext cx="4608360" cy="25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вушки пускали по реке венки для поиска жениха. Считалось, что травы в ночь на Купалу приобретают чудодейственную, целебную  силу, поэтому их собирала ведунья. Нечистая сила также была особенно опасна в эту но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Верования 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681440" cy="2933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3284640"/>
            <a:ext cx="3810240" cy="3371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5651640" y="836640"/>
            <a:ext cx="316692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ым веселым праздником можно считать праздник проводов зимы –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Маслениц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На празднике сжигали чучело Маслен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4221000"/>
            <a:ext cx="41749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леница сопровождалась пиршествами и гуляниями – катаниями с гор, ряжением и другими потехами. На масленицу обязательно стряпали блины как символ бога солнца Яр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Управ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5748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делились на рода. Во главе каждого рода стоял родовой старейшина, имевший большую вл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мере расселения славян их объединения распадались – родовая община была заменена на соседскую общину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ерв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4752720" cy="4449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140360" y="5805360"/>
            <a:ext cx="475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лок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Упр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68280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общинном совете -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Ве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шали все важные вопросы жизни общ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оры старей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адение сенокосами и лесными угод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пределение пашенной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учае военной опасности с врагами сражалось всё мужское население –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народное опол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4686120" cy="3749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211640" y="5229360"/>
            <a:ext cx="460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удия труда восточных слав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схождение и расселение восточных слав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3744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708360" y="4437000"/>
            <a:ext cx="4824360" cy="398880"/>
          </a:xfrm>
          <a:prstGeom prst="rect">
            <a:avLst/>
          </a:prstGeom>
          <a:solidFill>
            <a:srgbClr val="bbe0e3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рта расселения индоевропе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8064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ндоевропей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лемена населявшие часть Европы и часть Азии. Находились в постоянном движении. Постепенно отдельные группы индоевропейцев стали отделяться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1, стр.7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исать новые слова в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Происхождение и расселение восточных славя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844640"/>
            <a:ext cx="8064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оевропе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ославянские индоевропейские пле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ты                                                 слав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точные             западные               ю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аинцы   белорусы      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484000" y="306864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88000" y="3068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64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941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941720"/>
            <a:ext cx="1295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716360" y="407664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4149720"/>
            <a:ext cx="57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443640" y="414972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9080" cy="36129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5084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занятием славян было земледелие. Орудиями труда служили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борона – сукова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го, чтобы боронить вспаханную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ох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ю. Зерно толки в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деревянной ступ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мололи на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ручных жернов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0" r="11755" b="4962"/>
          <a:stretch/>
        </p:blipFill>
        <p:spPr>
          <a:xfrm>
            <a:off x="6084720" y="1197000"/>
            <a:ext cx="2581560" cy="36720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ме земледелия славяне занимались скотоводством: разводили свиней, коров, коз, лоша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ую роль в жизни славян играло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бортничество – сбор меда и воска диких пчё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рыболовство и ох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пешно развивались ремёсла – выплавка железа, кузнечное, ювелирное дело, гончар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610000" cy="4175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39640" y="5950080"/>
            <a:ext cx="2664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щина - слав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1700280"/>
            <a:ext cx="4392720" cy="448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отличались высоким ростом, могучим телосложением, обладали незаурядной физической силой и необыкновенной выносливостью. У них были русые волосы, румяное лицо и серые глаза. Славяне были добродушны и гостеприимны. Славяне почтительно относились к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4692600" cy="45687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68360" y="1268280"/>
            <a:ext cx="3311640" cy="52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лились славяне по берегам рек и озёр. Жили семьями в домах – полуземлянках. Крышу крыли ветвями, обмазывали глиной. Топился доим по-чёрному – дым уходил не через печную трубу, а прямо в отверстие в кр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348080" cy="49690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076720" y="2276640"/>
            <a:ext cx="345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ны домов, скамьи, домашняя посуда делались из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Быт и нравы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2944800" cy="51847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68360" y="1773360"/>
            <a:ext cx="48956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яне были храбрыми воинами. Славянские воины прекрасно плавали и могли долго находиться под водой. Вооружение воинов составляли копья, луки и стрелы, намазанные ядом, круглые деревянные щ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5445000"/>
            <a:ext cx="208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ший славянский во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1:09:54Z</dcterms:created>
  <dc:creator>User</dc:creator>
  <dc:description/>
  <dc:language>en-US</dc:language>
  <cp:lastModifiedBy>User</cp:lastModifiedBy>
  <dcterms:modified xsi:type="dcterms:W3CDTF">2011-01-16T12:45:49Z</dcterms:modified>
  <cp:revision>3</cp:revision>
  <dc:subject/>
  <dc:title>Восточные славяне</dc:title>
</cp:coreProperties>
</file>