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8F9-1592-414E-86B0-1C062526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F9F-F0B3-40ED-8997-D2B985F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FB2-460D-4ECD-BA8A-CDCE569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C31-615B-4049-B962-74E09E34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2DF-0AC6-4F82-88A4-FCBF339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6E6-4C8C-44B6-B26F-E4AECB0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7B5-A539-4C3F-AA51-5B88AA9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41D-9663-4464-88AA-C007D2B0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259-FF41-4BAD-8FC6-97963997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5F8-264D-44C4-AAE6-C4E25AE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371-5417-4898-91F1-AEDB6D0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721-362E-47EA-9CAB-CE4BAA9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4B4C-97A0-4FDD-8BA3-74B1D50E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5640" y="5444640"/>
            <a:ext cx="30560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банова Л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63840" cy="4752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211640" y="1484280"/>
            <a:ext cx="43210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чные славяне были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язычник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есть поклонялись многим богам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ли как  его 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ли  Перун-Сварожич,   представлялся   славянам   вооруженным   вои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чащимся на золотой колеснице, запряженной  крылатыми  жеребцами,  белыми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ными. Топору - оружию Перуна  -  издревле  приписывалась  чудесная  с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76800" y="1341360"/>
            <a:ext cx="3427560" cy="4824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24000" y="1628640"/>
            <a:ext cx="4608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вар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лицетворение неба, создатель мира. Некогда Сварог расколол 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ами молнии и зажег  факел  солнца.  Своим  могучим  мечом  он  пораж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ов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571920" cy="4762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356000" y="1341360"/>
            <a:ext cx="41036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ошь (Мокошь) – божество плодородия. Единственное женское божество в верованиях слав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3240000" cy="3887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3887640" cy="3879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9640" y="5013360"/>
            <a:ext cx="80647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вяне верили в загробную жизнь и почитали предков, тени которых представлялись в вид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домово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Будто бы они оставались в доме и охраняли потомков от бед. Признавалось существование разного рода нечистой силы – в чаще леса обитал лесной дух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леш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2968560" cy="4248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765000"/>
            <a:ext cx="4554360" cy="3059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24360" y="4149720"/>
            <a:ext cx="47512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и умерших детей и утонувших женщин представлялись славянам в образе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руса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 глубине озёр и рек, по представлениям славян жил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одя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679640" cy="3356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3630600" cy="3457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лонения богам славяне не строили храмов. Они совершал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идолы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богами могли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ться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волхвы и кудес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464000" cy="3287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52920" y="2781360"/>
            <a:ext cx="3453120" cy="3841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580000" y="549360"/>
            <a:ext cx="3024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амую короткую ночь (22 июня) устраивались гуляния с купаниями и прыжками через к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05360"/>
            <a:ext cx="4608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вушки пускали по реке венки для поиска жениха. Считалось, что травы в ночь на Купалу приобретают чудодейственную, целебную  силу, поэтому их собирала ведунья. Нечистая сила также была особенно опасна в эту н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681440" cy="2933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3810240" cy="3371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651640" y="836640"/>
            <a:ext cx="3166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м веселым праздником можно считать праздник проводов зимы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Маслениц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На празднике сжигали чучело Масле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221000"/>
            <a:ext cx="41749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еница сопровождалась пиршествами и гуляниями – катаниями с гор, ряжением и другими потехами. На масленицу обязательно стряпали блины как символ бога солнца Яр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5748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делились на рода. Во главе каждого рода стоял родовой старейшина, имевший большую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ере расселения славян их объединения распадались – родовая община была заменена на соседскую общину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рв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444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140360" y="5805360"/>
            <a:ext cx="475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лок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6828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бщинном совете -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шали все важные вопросы жизни общ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ы старей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ение сенокосами и лесными угод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ашенн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военной опасности с врагами сражалось всё мужское население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народное опол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686120" cy="3749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211640" y="5229360"/>
            <a:ext cx="460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удия труда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37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708360" y="4437000"/>
            <a:ext cx="482436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та расселения индоевропе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806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ндоевропей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емена населявшие часть Европы и часть Азии. Находились в постоянном движении. Постепенно отдельные группы индоевропейцев стали отделяться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, стр.7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новые слова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844640"/>
            <a:ext cx="8064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оевропе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ославянские индоевропейские пл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ы                                                 слав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точные             западные               ю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аинцы   белорусы      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84000" y="3068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3068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64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9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41720"/>
            <a:ext cx="1295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16360" y="407664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414972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43640" y="414972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9080" cy="3612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занятием славян было земледелие. Орудиями труда служил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борона – сукова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го, чтобы боронить вспаханную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ох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ю. Зерно толки в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деревянной ступ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ололи на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учных жернов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0" r="11755" b="4962"/>
          <a:stretch/>
        </p:blipFill>
        <p:spPr>
          <a:xfrm>
            <a:off x="6084720" y="1197000"/>
            <a:ext cx="2581560" cy="3672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земледелия славяне занимались скотоводством: разводили свиней, коров, коз, лоша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ую роль в жизни славян играло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бортничество – сбор меда и воска диких пчё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рыболовство и ох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шно развивались ремёсла – выплавка железа, кузнечное, ювелирное дело, гончар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610000" cy="4175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39640" y="5950080"/>
            <a:ext cx="2664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щина - слав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1700280"/>
            <a:ext cx="4392720" cy="448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отличались высоким ростом, могучим телосложением, обладали незаурядной физической силой и необыкновенной выносливостью. У них были русые волосы, румяное лицо и серые глаза. Славяне были добродушны и гостеприимны. Славяне почтительно относились к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692600" cy="4568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1268280"/>
            <a:ext cx="3311640" cy="52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лись славяне по берегам рек и озёр. Жили семьями в домах – полуземлянках. Крышу крыли ветвями, обмазывали глиной. Топился доим по-чёрному – дым уходил не через печную трубу, а прямо в отверстие в к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348080" cy="49690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076720" y="2276640"/>
            <a:ext cx="345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ы домов, скамьи, домашняя посуда делались из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2944800" cy="5184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68360" y="1773360"/>
            <a:ext cx="4895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были храбрыми воинами. Славянские воины прекрасно плавали и могли долго находиться под водой. Вооружение воинов составляли копья, луки и стрелы, намазанные ядом, круглые деревянные 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5445000"/>
            <a:ext cx="208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ший славянский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1:09:54Z</dcterms:created>
  <dc:creator>User</dc:creator>
  <dc:description/>
  <dc:language>en-US</dc:language>
  <cp:lastModifiedBy>User</cp:lastModifiedBy>
  <dcterms:modified xsi:type="dcterms:W3CDTF">2011-01-16T12:45:49Z</dcterms:modified>
  <cp:revision>3</cp:revision>
  <dc:subject/>
  <dc:title>Восточные славяне</dc:title>
</cp:coreProperties>
</file>