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0DC-970E-4D91-A28D-8FA320F5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E22-E79F-4B3E-906E-79B99F6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D3C-24D6-4F8A-9588-B7B10BAB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028-1BF8-41FC-98DA-371ED034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216E-7E0A-4F26-907D-5500BE26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A6F2-6B39-4721-9159-0A99513C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2E59-8BF0-4777-B093-DBA79B32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2BF8-4FA9-494D-A203-E470D082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7037-4C2F-4089-A1C9-3F55B7E5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5F48-6946-48C2-ABC6-0736BB88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8BEF-BF76-4A82-B6E1-85488EBB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490-AD20-4915-ADB1-1E4438A5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828C-E1C8-4204-A0C3-E103F96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929B-DAC8-4AB0-8A2C-7660C15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5D5A-6949-43D8-82CB-685E751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B2A8-745E-434E-AC9D-81130667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B948-0E54-4215-93D6-E5391040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8425-8E7F-4637-A5E5-6CB4C862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705E-70D0-4A30-B20A-E9FB433E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3BD3-723F-45E4-B899-244F18DD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B285-EF4F-4141-9825-AA18C783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DB3F-C6B1-4B49-942A-6DC11599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3CD-0E24-413E-BF4B-545B6AB5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E542-D268-41EF-BADC-E1CCFB75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8120-DD06-41EC-8A58-0DE04C1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FC45-C6A3-4779-93EF-7455C44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376F-CF98-4061-9931-BA4810F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4F622-7210-48CC-8BBC-9F182F8A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722C-BA38-45C0-AA22-07DCF0B9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38C0-A43E-48C8-B8E4-8CED1981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1FC6-492C-495F-B4AC-B982DDB0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2E8C-3EDB-4299-B057-52CCB629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C43C-EA64-42B5-8186-5F0B2E6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6A8-1C95-4864-8980-039BFA5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182D6-FDA4-4C16-98B2-A4A43493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729C-3B99-445A-8633-59863F54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D238-BD8D-4FB7-8CA3-DEB24B88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4ACD-9491-4DFE-83B3-7CDD37A3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D2DF-553E-4633-BF81-6F770B5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FEE4-BB19-4256-96D5-11715ED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548FE-7DF7-4983-ABD7-04D133A1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EB19-428C-4E5F-B835-FDB19F23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FF3C-E1FB-4FB8-BBB2-972A1513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14802-4FAC-41F4-98BB-F564E29B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DD3-C8ED-4218-B8CD-213EE772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3CD2-61D2-48BE-89C4-71DF3ACB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220E2-95B9-4BD0-821E-AE87B07A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B9AB-0D0F-45E4-92B3-8AF50A96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F568-5442-4869-B50B-C0312AAB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18CE-FB32-4480-984B-E534A8B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43726-69DE-4639-948F-E6361009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4B38E-0AD0-42B0-B9F4-D7A63A9E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3FD8-273B-417E-8034-364B50CE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90873-0FF4-4F33-AE8D-B294621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5D97C-CA02-4E9B-9B0F-8BB85918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464-76C0-4F48-BE32-0C43E4FD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2EFAB-FE62-45C3-B6B0-952C8578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1617B-BC5A-4FA8-A72F-FB2EF3AD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DD9B1-5D2C-4488-9B13-DC6F382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8CCE-FB2F-49A3-97C8-DB9C2601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3E8BE-403A-42C0-AD83-8662FAD6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A4F22-BE1F-4721-B5DF-39FCB282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5F9BD-2BF6-4A95-ACCA-85A2CF43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4E90-6E50-460F-8E42-BA70714E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DCA60-0C73-4B5E-93AA-A6A16502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C41B5-1512-46F7-AF96-03CE58B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2AE-0292-483C-885D-5155B13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21C1A-540A-4A92-A5D8-833FA991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304F2-97C5-4DC1-BA99-81F0102A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01BE5-B5A9-43E2-B661-4FE30183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706B-17F0-4FB4-BAD5-D74214E6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A59D6-6B7C-4C17-B0D8-E26A7B04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729FC-6D02-4A42-9FAA-4F3054F7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2DC5E-5593-48B4-85D1-91F53E01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DB9E8-ACF0-41CB-815F-62A7D95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A2A6-9448-4F00-B54E-426FCFA3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8DBC1-B289-4661-8C93-4FFA645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9BA-E6EC-4E63-8E35-79BD1B11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012AE-B55C-4DE7-AAA7-735708F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D62E4-8BF9-4DAE-8680-6523C3C1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C447-7DE9-4062-ACCE-F09ADBB2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70147-D256-496F-89A0-AA3D50D7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8117C-5CCB-4F10-9152-986A17CB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6833E-0EC7-4D9F-AF9B-FE80BD88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ED4B5-5EA7-4C6A-9FFB-9E01A638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E88DC-D4F6-42E5-9A3C-7F36A239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2F83B-E719-4F2C-A339-5E429F5F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16B67-64D2-45F4-B8AB-89C79B57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F7E-A5DC-443E-AA95-17C9563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AD413-E4D0-4AB7-A364-D15AF53B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8B5F5-06B0-4947-8C01-92DB409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18553-B9C8-4FCC-9875-EBC99DD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A8D5A-5F2A-4293-B4C6-69B5446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CF793-E763-462F-817F-A728FDDD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F979D-304F-4EFA-996B-7E06E9DC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75D8-D3A3-4D59-901C-8C03E025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1B6F-7EC5-4CF4-942D-A90E14A7C4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9CA8-1544-4496-8C69-31FC494875C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7AD-6F35-4566-9198-B03CF3216C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3A38-F060-4E08-93EA-61ACDCD294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4AB-1571-45B6-BD46-207CA3968D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4A85-9E2F-4E97-B3F9-697F1D1669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3190-7D4C-4BE2-9FA3-36AC87E978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BEBF-F4A0-4DF9-A57D-ECBE643C23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249200"/>
            <a:ext cx="8229600" cy="2352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20 декабря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-6480" y="60480"/>
            <a:ext cx="9279000" cy="51084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3" descr="ffi_Information.png"/>
          <p:cNvPicPr/>
          <p:nvPr/>
        </p:nvPicPr>
        <p:blipFill>
          <a:blip r:embed="rId2"/>
          <a:stretch/>
        </p:blipFill>
        <p:spPr>
          <a:xfrm>
            <a:off x="6084720" y="4365720"/>
            <a:ext cx="22273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1125000"/>
            <a:ext cx="914400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Объект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: данные, пригодные для хозяйственной деятельност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Субъекты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Государство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требители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информационные центры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292480" y="-6480"/>
            <a:ext cx="517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3" descr="st137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нят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ст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ществен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дёж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ивое представл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обладание сущности над формо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йтраль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мотритель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лно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поставим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воевремен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46160" y="-12600"/>
            <a:ext cx="85597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39640" y="184464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Деловая информация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Информация для специалистов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Массовая потребительская информация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212760" y="60480"/>
            <a:ext cx="83948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981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Биржевая и финансовая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: котировки, курсы валют, учётные ставки. Предоставляется биржами, спец. службами, брокерам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Статистическую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: отчёты статистики, демографическая, эконом. и т.д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Коммерческ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: о финансовом состоянии компаний, руководстве, ценах, продуктах компаний и т.д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01760" y="-73080"/>
            <a:ext cx="8351640" cy="12254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3" descr="birzhevye-kotirovki-0000247025-preview.jpg"/>
          <p:cNvPicPr/>
          <p:nvPr/>
        </p:nvPicPr>
        <p:blipFill>
          <a:blip r:embed="rId2"/>
          <a:stretch/>
        </p:blipFill>
        <p:spPr>
          <a:xfrm>
            <a:off x="5219640" y="4149720"/>
            <a:ext cx="37116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фессиональная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пециализированные данные для професс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аучно-техническая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правочники, рефераты, библиография, мон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ервоисточники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организация доступа через библиотеки или специализированные служб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961380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3" descr="a7f6a69829f992558d29a4991368514a.jpg"/>
          <p:cNvPicPr/>
          <p:nvPr/>
        </p:nvPicPr>
        <p:blipFill>
          <a:blip r:embed="rId2"/>
          <a:stretch/>
        </p:blipFill>
        <p:spPr>
          <a:xfrm>
            <a:off x="5364000" y="4105440"/>
            <a:ext cx="26370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Телевидени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Радио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Реклам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ниг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-285840" y="-6480"/>
            <a:ext cx="943632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ad14ac52bc.jpg"/>
          <p:cNvPicPr/>
          <p:nvPr/>
        </p:nvPicPr>
        <p:blipFill>
          <a:blip r:embed="rId2"/>
          <a:stretch/>
        </p:blipFill>
        <p:spPr>
          <a:xfrm>
            <a:off x="3276720" y="1700280"/>
            <a:ext cx="56862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8:41:42Z</dcterms:created>
  <dc:creator>User</dc:creator>
  <dc:description/>
  <dc:language>en-US</dc:language>
  <cp:lastModifiedBy>User</cp:lastModifiedBy>
  <dcterms:modified xsi:type="dcterms:W3CDTF">2012-12-19T21:16:31Z</dcterms:modified>
  <cp:revision>8</cp:revision>
  <dc:subject/>
  <dc:title>Слайд 1</dc:title>
</cp:coreProperties>
</file>