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B2D-F992-437F-BBB7-9DFD3D00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D80-CEEA-4291-9BF3-606B62E8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D63-C08E-4B65-B20D-D2F0DB8F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1D7-411C-417D-B068-5EF07199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F0C4-197A-4A2E-8EBF-F354574F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F71B-FB01-481C-8E02-697E93A2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9B96-DBFF-41AE-8541-B92420E8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A59D-EDB6-437A-AE99-C12E5D7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D333-2DBB-469C-B3BE-E910EA16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15F-3420-4FD5-8352-4296471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2D93-046F-4097-83A7-AA08428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788-4208-48D3-BAE5-96E5B17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C6D-6816-4969-AB99-C5FECED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9AF9-A566-4DAD-BB27-1D474D0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F3D0-5692-4021-90DF-FEDEFF4D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053-5067-495B-BC5E-7C434CAA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7EEC-CBF9-4A79-B1CB-431ACE54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1043-E9BA-40B6-A14B-63C64040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9B60-7B41-4127-B414-6E330698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E1F3-D4E7-4481-B6E2-5D49C21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9C93-0CF8-49AB-8CEF-525FA0A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6356-CD4B-4EDF-83AF-6D193BAA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5F9-6F04-4CF3-82FE-30763CA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66A0-B952-413C-9D70-BF5BA3F4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149C-3C11-4D9F-A2F6-68EF6A8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F4F3-AC1B-4FB9-80CC-11C1E98D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C736-F458-48F7-84C2-A37E21D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23A6-D587-430E-B7B5-C5F3B75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D8CF-1D41-403E-8CC1-74082A23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7178-BDB8-4977-BB89-09856E19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6DD7-DDCA-4985-A0D8-F0B7DB9D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B4F2-C5ED-4152-AF4F-F40E5A4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4A76-3488-4615-8B39-242C367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A05-2A7D-4145-A48A-BDF8CC7C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0C21-2D3B-4687-873F-473D4692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1922-52AC-46E1-B476-6789F34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A47F-D4A2-4434-8720-02EED48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A770-3034-4F19-A11B-89BACF1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12AB-176D-4A2F-9A3E-0373416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B79E-D46E-4921-8E5A-5C5E67E4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A33B-BD11-4DD5-B143-44FA4DB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C023-6FA0-4287-ABBC-6A380F3F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C648-8315-442C-9665-63879F83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69DD-4803-4F82-97E5-77B108DD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610-8E92-4F61-A091-9834534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BF03-CD87-4D6D-8EA4-AAC66AB6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BB05-AF72-406D-892B-66D4FD33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6B61-7EB5-4F5F-90DD-8336768D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7102-0601-4EF0-BB1F-929BA24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36E2-AEA2-4E97-A84A-83AD7E5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05B7-9111-4DC2-85BD-5B714EE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8550-583D-451B-A762-D40EED4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EEF1-F65D-4F32-96FF-9B17E2D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D151-43DC-4D05-8B67-CAA5B4E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AD28-7595-4561-8AA9-502D770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A70-BEEC-4A18-AA5B-4A95099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C0EF-BE33-4EBA-8A5D-0DAA83C7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CEA1-C086-4D57-8790-5D0382D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A14BD-E067-4291-8E4B-EC692F28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A3A9-8397-472A-BC90-D6FF875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86CE-7F0D-498E-9995-57163341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7B45-D733-4CCB-AA7A-5C8F9E49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D81B-2CE3-44B0-A363-7E6FB19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F47B-368A-49D8-869C-11AEFAE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9D8C-5C50-467E-AE40-0BED958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DF38-5A0F-4352-A35C-DEB0B7C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F41-A3E2-47B7-8F17-62C1900B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E033-BDA8-49C5-8C44-C9476A4D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D3DF-4C7A-42D0-8E09-DE84BAC3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65533-26D8-44FE-BA12-55983BA5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8598-E6D0-4521-9435-685FA30D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5510-1F0A-48AC-853D-DB49DA0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2789-5565-4118-8F4E-8A4930B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AF5A-838C-49BF-ACE3-C97949A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C7E08-AC5F-4DD2-B555-9CD20EF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BAE1-3ADB-441B-9363-8B32B7F7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05B2-9FC0-4C9E-9866-A16D137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129-A49B-4D34-B255-6AB8E5B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17F5-6363-4A67-A577-C47474C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61CC-9851-4C3A-B12D-6AF8BE51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1CFF-3854-4A1D-843C-1BA7E9E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7B472-6C1B-48BF-AD70-23A6D87D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ACFA-F7F1-452F-A6F8-9F39F97E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9068B-1F0B-4A34-9D87-A5F177D8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EBFB-2534-4836-8A11-67F37A7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9595-2D3F-438E-89B9-AE5BFD05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D9C5-8BE2-4562-ADFF-7D737E6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8EC19-8244-47CA-9B05-8C335F0F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B71-5F98-4CAC-ACEA-53C9DB4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4EBCF-1321-4CAC-9942-EAE25F32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1DAF-BEF1-451D-88F6-8A5A3B9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3078-E6F9-46DA-911F-40F670C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9FDA-EDCC-4D65-ADE9-F3F5F6D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A7A7C-DCB4-47F6-99E9-AF645F7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3EB5-3209-4AE5-8E11-F746ED01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156B-8C30-452F-8CA3-804BFF9F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478-B726-4C56-B4C5-8E9912FABB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BB6-6402-4171-B408-76874684C7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D459-5CA4-4812-A03F-67736D9A33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BA28-721F-4ACE-88F2-285A955E6F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18C8-54BD-438D-9321-6671B190A5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180-DA3A-4F9D-9303-560CE58A55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EF8-249A-4E8A-98EC-F6ABB9602D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57E-5B11-4FA7-86FF-09FB31C396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249200"/>
            <a:ext cx="8229600" cy="2352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20 декабря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-6480" y="60480"/>
            <a:ext cx="9279000" cy="51084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ffi_Information.png"/>
          <p:cNvPicPr/>
          <p:nvPr/>
        </p:nvPicPr>
        <p:blipFill>
          <a:blip r:embed="rId2"/>
          <a:stretch/>
        </p:blipFill>
        <p:spPr>
          <a:xfrm>
            <a:off x="6084720" y="4365720"/>
            <a:ext cx="22273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125000"/>
            <a:ext cx="91440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бъект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: данные, пригодные для хозяйственной деятельност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Субъекты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Государство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требители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нформационные центры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292480" y="-6480"/>
            <a:ext cx="517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st137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ня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ст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ществ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дёж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ивое представл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обладание сущности над формо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йтра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мотрите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н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поставим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воеврем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46160" y="-12600"/>
            <a:ext cx="85597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39640" y="1844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Деловая информац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Информация для специалист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Массовая потребительская информац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83948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981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Биржевая и финансова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котировки, курсы валют, учётные ставки. Предоставляется биржами, спец. службами, брокерам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татистическую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отчёты статистики, демографическая, эконом. и т.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Коммерческ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 о финансовом состоянии компаний, руководстве, ценах, продуктах компаний и т.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01760" y="-73080"/>
            <a:ext cx="8351640" cy="12254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3" descr="birzhevye-kotirovki-0000247025-preview.jpg"/>
          <p:cNvPicPr/>
          <p:nvPr/>
        </p:nvPicPr>
        <p:blipFill>
          <a:blip r:embed="rId2"/>
          <a:stretch/>
        </p:blipFill>
        <p:spPr>
          <a:xfrm>
            <a:off x="5219640" y="4149720"/>
            <a:ext cx="3711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фессиональная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пециализированные данные для професс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аучно-техническая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правочники, рефераты, библиография, мон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ервоисточники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рганизация доступа через библиотеки или специализированные служб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961380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" descr="a7f6a69829f992558d29a4991368514a.jpg"/>
          <p:cNvPicPr/>
          <p:nvPr/>
        </p:nvPicPr>
        <p:blipFill>
          <a:blip r:embed="rId2"/>
          <a:stretch/>
        </p:blipFill>
        <p:spPr>
          <a:xfrm>
            <a:off x="5364000" y="4105440"/>
            <a:ext cx="26370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Телевиден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ади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Реклам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Книг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-285840" y="-6480"/>
            <a:ext cx="943632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ad14ac52bc.jpg"/>
          <p:cNvPicPr/>
          <p:nvPr/>
        </p:nvPicPr>
        <p:blipFill>
          <a:blip r:embed="rId2"/>
          <a:stretch/>
        </p:blipFill>
        <p:spPr>
          <a:xfrm>
            <a:off x="3276720" y="1700280"/>
            <a:ext cx="5686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8:41:42Z</dcterms:created>
  <dc:creator>User</dc:creator>
  <dc:description/>
  <dc:language>en-US</dc:language>
  <cp:lastModifiedBy>User</cp:lastModifiedBy>
  <dcterms:modified xsi:type="dcterms:W3CDTF">2012-12-19T21:16:31Z</dcterms:modified>
  <cp:revision>8</cp:revision>
  <dc:subject/>
  <dc:title>Слайд 1</dc:title>
</cp:coreProperties>
</file>