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9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embeddings/oleObject6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6C0-F594-491A-A68B-939071BF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A9D-D0C1-4779-ABEA-5D8C44BE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8F4-2FE4-4378-8B7C-285AEE9A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E89-CAB1-4300-A3E7-5B10624B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F320-80CE-42C6-AF62-67412F79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CD2-D8E5-47A6-AB44-D9A7DF7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81F2-6414-40B7-B47C-31426779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1B02-CD8A-4679-9350-9FBFD813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7634-E208-4B8B-8F5D-6671D91C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AE66-223E-4D85-9170-B88E138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CE43-111E-4CB2-B495-14F1006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1D2-4BEB-497D-A91F-2086FB0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7190-8F42-4CAA-8F74-EDA6FD8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CB90-5BEB-4261-9609-D39147A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BDC3-A9F4-43A5-8EB2-88BE146C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2027-C4B0-4319-AC51-38052BC9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B13C-5B67-4A8E-8215-ED408EFD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F95-E485-4492-BC61-4EA93DAC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175-C1C5-4B62-85DA-60DB027A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C6C-532F-4AB0-A9B1-A6505328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971-B2B5-41F2-AC38-7A1E9A66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B82-1424-46F9-AB88-43A2655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743-BF7D-49C1-A42A-8F6FF27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A35-8FBC-44DC-A198-D4D0C999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F23-562F-491B-AB31-D35F0A755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395-8617-495C-8CB8-F100827E57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../../../&#1079;&#1072;&#1097;&#1080;&#1090;&#1072;%20&#1086;&#1087;&#1099;&#1090;&#1072;/Happy%20birthday,%20Mr.%20President.ppt" TargetMode="External"/><Relationship Id="rId3" Type="http://schemas.openxmlformats.org/officeDocument/2006/relationships/image" Target="../media/image11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pptx"/><Relationship Id="rId7" Type="http://schemas.openxmlformats.org/officeDocument/2006/relationships/image" Target="../media/image13.wmf"/><Relationship Id="rId8" Type="http://schemas.openxmlformats.org/officeDocument/2006/relationships/package" Target="../embeddings/oleObject4.pptx"/><Relationship Id="rId9" Type="http://schemas.openxmlformats.org/officeDocument/2006/relationships/image" Target="../media/image14.wmf"/><Relationship Id="rId10" Type="http://schemas.openxmlformats.org/officeDocument/2006/relationships/package" Target="../embeddings/oleObject5.pptx"/><Relationship Id="rId11" Type="http://schemas.openxmlformats.org/officeDocument/2006/relationships/image" Target="../media/image15.wmf"/><Relationship Id="rId12" Type="http://schemas.openxmlformats.org/officeDocument/2006/relationships/package" Target="../embeddings/oleObject6.pptx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755640" y="2924280"/>
            <a:ext cx="820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Использование презентаций Power Point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процессе формировани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циокультурной компетенции старшеклассников"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1" name="Picture 6" descr="123_03"/>
          <p:cNvPicPr/>
          <p:nvPr/>
        </p:nvPicPr>
        <p:blipFill>
          <a:blip r:embed="rId1"/>
          <a:stretch/>
        </p:blipFill>
        <p:spPr>
          <a:xfrm>
            <a:off x="4211640" y="404640"/>
            <a:ext cx="1512720" cy="15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inisterstvo"/>
          <p:cNvPicPr/>
          <p:nvPr/>
        </p:nvPicPr>
        <p:blipFill>
          <a:blip r:embed="rId2"/>
          <a:stretch/>
        </p:blipFill>
        <p:spPr>
          <a:xfrm>
            <a:off x="1258920" y="404640"/>
            <a:ext cx="2521080" cy="14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ogo"/>
          <p:cNvPicPr/>
          <p:nvPr/>
        </p:nvPicPr>
        <p:blipFill>
          <a:blip r:embed="rId3"/>
          <a:stretch/>
        </p:blipFill>
        <p:spPr>
          <a:xfrm>
            <a:off x="5940360" y="620640"/>
            <a:ext cx="251928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552600" y="4723560"/>
            <a:ext cx="55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 опы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ордиен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611280" y="537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сто функционирования опы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ОУ СОШ №97 с углублённым изучением английского языка Дзержинского района г. Волгогра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26920" y="1393560"/>
            <a:ext cx="80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дрение новых информационно – коммуникационных технологий в процесс обуче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лучшение качества обучения посредством более полного использования доступной информ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эффективности учебного процесса на основе его индивидуализации и интенс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остижение необходимого уровня в овладении английским язы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теграция различных видов деятельности ( учебной, учебно – исследовательской, организационной) в рамках единой методологии, основанной на применении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дготовка участников образовательного процесса к жизнедеятельности в условиях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витие социокультур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мотивации в изучении английского язык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Результат измен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340000" y="54936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ктуальность опы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39840" y="1571760"/>
            <a:ext cx="7904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тсутствие работ с целостным раскрытием взаимосвязи гуманизации учебного процесса и применения компьютерных технологий обучения; а также педагогических условий использования компьютерных технологий, способствующей обновлению содержания, форм и методов обучения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Comic Sans MS"/>
              </a:rPr>
              <a:t>                         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ПРОТИВОРЕЧ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потребностью общества в овладении знаний с помощью ИКТ и низким уровнем использования ИКТ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динамизмом изменений знаний и умений в области использования ИКТ и фактическом преобладанием экстенсивных путей совершенствования обучения, неэффективным использованием имеющихся программно – методических и технических средств обуч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большими дидактическими возможностями применения ИКТ в обучении ИЯ и недостаточным поиском преподавателей путей их реализ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76280" y="1479240"/>
            <a:ext cx="866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активном использовании информационно –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интерактивном взаимодействии «учитель– ученик – компьютер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создании и использовании презентаций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ower Point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и материалов Интерн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усовершенствовании труда учителя и сокращения затрат его рабочего време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разработке модели применения компьютерных технологий, учитывающей содержательно – функциональные особенности обучения английскому язы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2340000" y="549360"/>
            <a:ext cx="45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овизна опы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26920" y="169056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дрение новых информационно – коммуникационных технологий в процесс обуче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эффективности учебного процесса на основе его индивидуализации и интенс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работка перспективных средств, методов и технологий обучения с ориентацией на развивающее, опережающее и персонифицированное образо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теграция различных видов деятельности ( учебной, учебно – исследовательской, организационной) в рамках единой методологии, основанной на применении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дготовка участников образовательного процесса к  жизнедеятельности в условиях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витие социокультурной компетенции учащихся. Повышение мотивации в изучении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адачи, решаемые в опыт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26920" y="1844640"/>
            <a:ext cx="806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омпьютерные технологии изучения английского языка должны соответствовать требованиям Государственного образовательного стандарт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спользование компьютерных технологий должно носить дифференцированный подход, позволяя удовлетворять потребности учащихся, имеющих разный уровень языковой подготовки.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ровень аппаратного обеспечения профильного кабинета английского языка в полной мере соответствует потребностям новейших информационных технолог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идактическое обеспечение компьютерных технологий позволяет учителю творчески реализовывать их потенциал, даёт ему основу для дальнейшего совершенствования уровня и качества этих технологий с учетом целей обучения и особенностей учебной группы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словия реализации новых технолог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55640" y="278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нова перехода от индустриальн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апа развития общест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 информационном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3" descr="135365"/>
          <p:cNvPicPr/>
          <p:nvPr/>
        </p:nvPicPr>
        <p:blipFill>
          <a:blip r:embed="rId1"/>
          <a:stretch/>
        </p:blipFill>
        <p:spPr>
          <a:xfrm>
            <a:off x="6227640" y="189000"/>
            <a:ext cx="2479680" cy="16192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4"/>
          <p:cNvSpPr txBox="1"/>
          <p:nvPr/>
        </p:nvSpPr>
        <p:spPr>
          <a:xfrm>
            <a:off x="1908000" y="2708280"/>
            <a:ext cx="56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овый уровень образовани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43682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уманитар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ржания образ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284720" y="43657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уманизация образовательной системы в цел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48640" y="59500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увеличение требований, предъявляемых выпускни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427640" y="981000"/>
            <a:ext cx="1657080" cy="358920"/>
          </a:xfrm>
          <a:prstGeom prst="rightArrow">
            <a:avLst>
              <a:gd name="adj1" fmla="val 50000"/>
              <a:gd name="adj2" fmla="val 11542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211640" y="1557360"/>
            <a:ext cx="1081080" cy="115092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2484360" y="3645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6516720" y="3645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1979640" y="5013360"/>
            <a:ext cx="792000" cy="936720"/>
          </a:xfrm>
          <a:custGeom>
            <a:avLst/>
            <a:gdLst>
              <a:gd name="textAreaLeft" fmla="*/ 105840 w 792000"/>
              <a:gd name="textAreaRight" fmla="*/ 686160 w 79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6156360" y="5084640"/>
            <a:ext cx="720720" cy="865440"/>
          </a:xfrm>
          <a:custGeom>
            <a:avLst/>
            <a:gdLst>
              <a:gd name="textAreaLeft" fmla="*/ 96480 w 720720"/>
              <a:gd name="textAreaRight" fmla="*/ 624240 w 72072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66760" y="131760"/>
            <a:ext cx="7726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временной сложной межэтнической ситуации возникает необходимость в самоидентификации и осознании себя частью целого, что даёт возможность осуществлять культурную трансляцию от поколения к поколению, с одной стороны, и воспитывать личность, способную к диалогу культур и открытую к межкультурному общению. Достижению указанных целей может служить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социокультурный аспек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преподавании иностранных язы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Цель образования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формирование ключевых компетен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2484360" y="3213000"/>
            <a:ext cx="4824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СОЦИОКУЛЬТУРНАЯ КОМПЕТЕ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4360" y="393372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огружение в виртуальное простран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4328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498480" y="3860640"/>
            <a:ext cx="19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ресурс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768360" y="393372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ект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694600" y="552780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создание презент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Comic Sans MS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9"/>
          <p:cNvSpPr/>
          <p:nvPr/>
        </p:nvSpPr>
        <p:spPr>
          <a:xfrm flipH="1">
            <a:off x="2050560" y="350028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0072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7020000" y="3573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1979640" y="479736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4500720" y="4581000"/>
            <a:ext cx="2663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4500720" y="4797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4360" y="18828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omic Sans MS"/>
              </a:rPr>
              <a:t>В МОУ СОШ №97 имеется компьютерный класс и профильный кабинет обучения английскому языку, в котором учителя школы проводят уроки с использованием компьютерных технологий. В распоряжении имеется 22 персональных компьютера, 3 мультимедийных проектора, доски, на которые проецируется изображение, а также богатая современная медиат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IMGP0114"/>
          <p:cNvPicPr/>
          <p:nvPr/>
        </p:nvPicPr>
        <p:blipFill>
          <a:blip r:embed="rId1"/>
          <a:stretch/>
        </p:blipFill>
        <p:spPr>
          <a:xfrm>
            <a:off x="250920" y="364500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ИКТ 002"/>
          <p:cNvPicPr/>
          <p:nvPr/>
        </p:nvPicPr>
        <p:blipFill>
          <a:blip r:embed="rId2"/>
          <a:stretch/>
        </p:blipFill>
        <p:spPr>
          <a:xfrm>
            <a:off x="2484360" y="2349360"/>
            <a:ext cx="2664000" cy="186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MGP0117"/>
          <p:cNvPicPr/>
          <p:nvPr/>
        </p:nvPicPr>
        <p:blipFill>
          <a:blip r:embed="rId3"/>
          <a:stretch/>
        </p:blipFill>
        <p:spPr>
          <a:xfrm>
            <a:off x="2411280" y="4653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ИКТ 001"/>
          <p:cNvPicPr/>
          <p:nvPr/>
        </p:nvPicPr>
        <p:blipFill>
          <a:blip r:embed="rId4"/>
          <a:stretch/>
        </p:blipFill>
        <p:spPr>
          <a:xfrm>
            <a:off x="5435640" y="2060640"/>
            <a:ext cx="3486240" cy="261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MGP0116"/>
          <p:cNvPicPr/>
          <p:nvPr/>
        </p:nvPicPr>
        <p:blipFill>
          <a:blip r:embed="rId5"/>
          <a:stretch/>
        </p:blipFill>
        <p:spPr>
          <a:xfrm>
            <a:off x="5867280" y="475128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13"/>
          <p:cNvGraphicFramePr/>
          <p:nvPr/>
        </p:nvGraphicFramePr>
        <p:xfrm>
          <a:off x="1116000" y="1700280"/>
          <a:ext cx="2286000" cy="17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Object 13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700280"/>
                    <a:ext cx="22860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6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780000" y="1989000"/>
          <a:ext cx="2133360" cy="16099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1989000"/>
                    <a:ext cx="21333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8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17"/>
          <p:cNvGraphicFramePr/>
          <p:nvPr/>
        </p:nvGraphicFramePr>
        <p:xfrm>
          <a:off x="6443640" y="1773360"/>
          <a:ext cx="2286000" cy="172404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43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177336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20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Object 19"/>
          <p:cNvGraphicFramePr/>
          <p:nvPr/>
        </p:nvGraphicFramePr>
        <p:xfrm>
          <a:off x="250920" y="3789360"/>
          <a:ext cx="2286000" cy="172404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146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378936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22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21"/>
          <p:cNvGraphicFramePr/>
          <p:nvPr/>
        </p:nvGraphicFramePr>
        <p:xfrm>
          <a:off x="6516720" y="3933720"/>
          <a:ext cx="2286000" cy="1724040"/>
        </p:xfrm>
        <a:graphic>
          <a:graphicData uri="http://schemas.openxmlformats.org/presentationml/2006/ole">
            <p:oleObj progId="PowerPoint.Show.12" r:id="rId10" spid="">
              <p:embed/>
              <p:pic>
                <p:nvPicPr>
                  <p:cNvPr id="149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93372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24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ct 23"/>
          <p:cNvGraphicFramePr/>
          <p:nvPr/>
        </p:nvGraphicFramePr>
        <p:xfrm>
          <a:off x="3419640" y="4292640"/>
          <a:ext cx="2286000" cy="1724040"/>
        </p:xfrm>
        <a:graphic>
          <a:graphicData uri="http://schemas.openxmlformats.org/presentationml/2006/ole">
            <p:oleObj progId="PowerPoint.Show.12" r:id="rId12" spid="">
              <p:embed/>
              <p:pic>
                <p:nvPicPr>
                  <p:cNvPr id="152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429264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25"/>
          <p:cNvSpPr txBox="1"/>
          <p:nvPr/>
        </p:nvSpPr>
        <p:spPr>
          <a:xfrm>
            <a:off x="154764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Проекты, созданные учащимися 11 классов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5:38:44Z</dcterms:created>
  <dc:creator>*</dc:creator>
  <dc:description/>
  <dc:language>en-US</dc:language>
  <cp:lastModifiedBy>Коля</cp:lastModifiedBy>
  <dcterms:modified xsi:type="dcterms:W3CDTF">2013-05-12T22:12:04Z</dcterms:modified>
  <cp:revision>11</cp:revision>
  <dc:subject/>
  <dc:title>Технологии обучения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3e000000000001024140</vt:lpwstr>
  </property>
</Properties>
</file>