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9.jpeg" ContentType="image/jpeg"/>
  <Override PartName="/ppt/media/image11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embeddings/oleObject6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DF9-DD09-45EE-A5A0-02A639CD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7A0-20EA-4F3A-8A67-25A7CE5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EDA-A218-4C66-905D-C523397A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4AD-C919-45BD-B2A2-DAB59AFD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A59-C832-47B4-91E7-CE3B046B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AAA4-84B9-4E5C-92CF-C30809BF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C676-6519-46FC-B039-5CB8F244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DDA0-E675-49E3-A41D-BD18F2D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E7AA-943C-4782-A5EC-4E1CB484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04DE-D1BE-4E05-B381-7E890EF8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8B7-C075-4DF9-8889-A0A31C55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C78-E703-420C-94AF-7B1477A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10FF-4C29-4E70-BAD0-F50D1B6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8B5-C8B7-47CE-81C6-18BDDFC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CBB4-B559-4D86-B442-95464F8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C2D5-D818-4B8E-A88C-8E0642BC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949A-64CC-4F31-A187-7A5B00F7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E03-D7D0-44E5-90F1-CF3BDDFB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9AA-E5FD-408A-A8B8-09EFF30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536-3034-406D-9560-EFDFB0A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C0C-D800-4511-ACEF-C0D9CD45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2DF-0D2D-4F19-B046-DEB4324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53B-EE22-4036-A0DE-4CEB65F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F8E-CD08-4CB1-BAC9-46D33A4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042-5BF1-4E7C-A012-7C8D1E95C6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D4E2-34EA-454D-ACC4-A56CC6F33E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hyperlink" Target="file:///../../../&#1079;&#1072;&#1097;&#1080;&#1090;&#1072;%20&#1086;&#1087;&#1099;&#1090;&#1072;/Happy%20birthday,%20Mr.%20President.ppt" TargetMode="External"/><Relationship Id="rId3" Type="http://schemas.openxmlformats.org/officeDocument/2006/relationships/image" Target="../media/image11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pptx"/><Relationship Id="rId7" Type="http://schemas.openxmlformats.org/officeDocument/2006/relationships/image" Target="../media/image13.wmf"/><Relationship Id="rId8" Type="http://schemas.openxmlformats.org/officeDocument/2006/relationships/package" Target="../embeddings/oleObject4.pptx"/><Relationship Id="rId9" Type="http://schemas.openxmlformats.org/officeDocument/2006/relationships/image" Target="../media/image14.wmf"/><Relationship Id="rId10" Type="http://schemas.openxmlformats.org/officeDocument/2006/relationships/package" Target="../embeddings/oleObject5.pptx"/><Relationship Id="rId11" Type="http://schemas.openxmlformats.org/officeDocument/2006/relationships/image" Target="../media/image15.wmf"/><Relationship Id="rId12" Type="http://schemas.openxmlformats.org/officeDocument/2006/relationships/package" Target="../embeddings/oleObject6.pptx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755640" y="2924280"/>
            <a:ext cx="820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Использование презентаций Power Point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процессе формировани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циокультурной компетенции старшеклассников"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91" name="Picture 6" descr="123_03"/>
          <p:cNvPicPr/>
          <p:nvPr/>
        </p:nvPicPr>
        <p:blipFill>
          <a:blip r:embed="rId1"/>
          <a:stretch/>
        </p:blipFill>
        <p:spPr>
          <a:xfrm>
            <a:off x="4211640" y="404640"/>
            <a:ext cx="1512720" cy="150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inisterstvo"/>
          <p:cNvPicPr/>
          <p:nvPr/>
        </p:nvPicPr>
        <p:blipFill>
          <a:blip r:embed="rId2"/>
          <a:stretch/>
        </p:blipFill>
        <p:spPr>
          <a:xfrm>
            <a:off x="1258920" y="404640"/>
            <a:ext cx="2521080" cy="1459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logo"/>
          <p:cNvPicPr/>
          <p:nvPr/>
        </p:nvPicPr>
        <p:blipFill>
          <a:blip r:embed="rId3"/>
          <a:stretch/>
        </p:blipFill>
        <p:spPr>
          <a:xfrm>
            <a:off x="5940360" y="620640"/>
            <a:ext cx="251928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552600" y="4723560"/>
            <a:ext cx="55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втор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ордиен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611280" y="5373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есто функционирования опы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МОУ СОШ №97 с углублённым изучением английского языка Дзержинского района г. Волгогра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826920" y="1393560"/>
            <a:ext cx="80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лучшение качества обучения посредством более полного использования доступной информ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остижение необходимого уровня в овладении английским язы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мотивации в изучении английского язык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Результат измен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340000" y="54936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ктуальность опыт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39840" y="1571760"/>
            <a:ext cx="7904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тсутствие работ с целостным раскрытием взаимосвязи гуманизации учебного процесса и применения компьютерных технологий обучения; а также педагогических условий использования компьютерных технологий, способствующей обновлению содержания, форм и методов обучения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Comic Sans MS"/>
              </a:rPr>
              <a:t>                         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ПРОТИВОРЕЧ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потребностью общества в овладении знаний с помощью ИКТ и низким уровнем использования ИКТ в образовательном проце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динамизмом изменений знаний и умений в области использования ИКТ и фактическом преобладанием экстенсивных путей совершенствования обучения, неэффективным использованием имеющихся программно – методических и технических средств обуч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между большими дидактическими возможностями применения ИКТ в обучении ИЯ и недостаточным поиском преподавателей путей их реализ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76280" y="1479240"/>
            <a:ext cx="8667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активном использовании информационно –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интерактивном взаимодействии «учитель– ученик – компьютер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создании и использовании презентаций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ower Point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и материалов Интерн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усовершенствовании труда учителя и сокращения затрат его рабочего време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в разработке модели применения компьютерных технологий, учитывающей содержательно – функциональные особенности обучения английскому язы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2340000" y="549360"/>
            <a:ext cx="4537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овизна опы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826920" y="169056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дрение новых информационно – коммуникационных технологий в процесс обуче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вышение эффективности учебного процесса на основе его индивидуализации и интенсифик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работка перспективных средств, методов и технологий обучения с ориентацией на развивающее, опережающее и персонифицированное образ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теграция различных видов деятельности ( учебной, учебно – исследовательской, организационной) в рамках единой методологии, основанной на применении новых информационных технолог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дготовка участников образовательного процесса к  жизнедеятельности в условиях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азвитие социокультурной компетенции учащихся. Повышение мотивации в изучении английского язы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адачи, решаемые в опыт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826920" y="1844640"/>
            <a:ext cx="806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омпьютерные технологии изучения английского языка должны соответствовать требованиям Государственного образовательного стандарт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спользование компьютерных технологий должно носить дифференцированный подход, позволяя удовлетворять потребности учащихся, имеющих разный уровень языковой подготовки.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ровень аппаратного обеспечения профильного кабинета английского языка в полной мере соответствует потребностям новейших информационных технолог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Дидактическое обеспечение компьютерных технологий позволяет учителю творчески реализовывать их потенциал, даёт ему основу для дальнейшего совершенствования уровня и качества этих технологий с учетом целей обучения и особенностей учебной группы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763640" y="40464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Условия реализации новых технолог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755640" y="278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снова перехода от индустриально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этапа развития обще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 информационном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3" descr="135365"/>
          <p:cNvPicPr/>
          <p:nvPr/>
        </p:nvPicPr>
        <p:blipFill>
          <a:blip r:embed="rId1"/>
          <a:stretch/>
        </p:blipFill>
        <p:spPr>
          <a:xfrm>
            <a:off x="6227640" y="189000"/>
            <a:ext cx="2479680" cy="16192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4"/>
          <p:cNvSpPr txBox="1"/>
          <p:nvPr/>
        </p:nvSpPr>
        <p:spPr>
          <a:xfrm>
            <a:off x="1908000" y="2708280"/>
            <a:ext cx="56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овый уровень образовани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0920" y="43682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тар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одержания образ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284720" y="43657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уманизация образовательной системы в цел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448640" y="59500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увеличение требований, предъявляемых выпускни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4427640" y="981000"/>
            <a:ext cx="1657080" cy="358920"/>
          </a:xfrm>
          <a:prstGeom prst="rightArrow">
            <a:avLst>
              <a:gd name="adj1" fmla="val 50000"/>
              <a:gd name="adj2" fmla="val 11542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4211640" y="1557360"/>
            <a:ext cx="1081080" cy="1150920"/>
          </a:xfrm>
          <a:custGeom>
            <a:avLst/>
            <a:gdLst>
              <a:gd name="textAreaLeft" fmla="*/ 144720 w 1081080"/>
              <a:gd name="textAreaRight" fmla="*/ 936360 w 108108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248436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utoShape 11"/>
          <p:cNvSpPr/>
          <p:nvPr/>
        </p:nvSpPr>
        <p:spPr>
          <a:xfrm>
            <a:off x="6516720" y="3645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12"/>
          <p:cNvSpPr/>
          <p:nvPr/>
        </p:nvSpPr>
        <p:spPr>
          <a:xfrm>
            <a:off x="1979640" y="5013360"/>
            <a:ext cx="792000" cy="936720"/>
          </a:xfrm>
          <a:custGeom>
            <a:avLst/>
            <a:gdLst>
              <a:gd name="textAreaLeft" fmla="*/ 105840 w 792000"/>
              <a:gd name="textAreaRight" fmla="*/ 686160 w 79200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156360" y="5084640"/>
            <a:ext cx="720720" cy="865440"/>
          </a:xfrm>
          <a:custGeom>
            <a:avLst/>
            <a:gdLst>
              <a:gd name="textAreaLeft" fmla="*/ 96480 w 720720"/>
              <a:gd name="textAreaRight" fmla="*/ 624240 w 72072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66760" y="131760"/>
            <a:ext cx="7726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современной сложной межэтнической ситуации возникает необходимость в самоидентификации и осознании себя частью целого, что даёт возможность осуществлять культурную трансляцию от поколения к поколению, с одной стороны, и воспитывать личность, способную к диалогу культур и открытую к межкультурному общению. Достижению указанных целей может служить </a:t>
            </a:r>
            <a:r>
              <a:rPr b="1" lang="ru-RU" sz="1800" spc="-1" strike="noStrike" u="sng">
                <a:solidFill>
                  <a:srgbClr val="ff3300"/>
                </a:solidFill>
                <a:uFillTx/>
                <a:latin typeface="Comic Sans MS"/>
              </a:rPr>
              <a:t>социокультурный аспект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в преподавани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Цель образования: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33cc"/>
                </a:solidFill>
                <a:latin typeface="Comic Sans MS"/>
              </a:rPr>
              <a:t>формирование ключевых компетенц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WordArt 3"/>
          <p:cNvSpPr txBox="1"/>
          <p:nvPr/>
        </p:nvSpPr>
        <p:spPr>
          <a:xfrm>
            <a:off x="2484360" y="3213000"/>
            <a:ext cx="4824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СОЦИОКУЛЬТУРНАЯ КОМПЕТЕН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393372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огружение в виртуальное простран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4328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498480" y="3860640"/>
            <a:ext cx="19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ресурс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768360" y="393372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проектны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технолог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694600" y="552780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omic Sans MS"/>
              </a:rPr>
              <a:t>создание презентац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Comic Sans MS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9"/>
          <p:cNvSpPr/>
          <p:nvPr/>
        </p:nvSpPr>
        <p:spPr>
          <a:xfrm flipH="1">
            <a:off x="2050560" y="3500280"/>
            <a:ext cx="57636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0072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7020000" y="3573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1979640" y="479736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4500720" y="4581000"/>
            <a:ext cx="2663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4500720" y="4797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4360" y="188280"/>
            <a:ext cx="813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Comic Sans MS"/>
              </a:rPr>
              <a:t>В МОУ СОШ №97 имеется компьютерный класс и профильный кабинет обучения английскому языку, в котором учителя школы проводят уроки с использованием компьютерных технологий. В распоряжении имеется 22 персональных компьютера, 3 мультимедийных проектора, доски, на которые проецируется изображение, а также богатая современная медиате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IMGP0114"/>
          <p:cNvPicPr/>
          <p:nvPr/>
        </p:nvPicPr>
        <p:blipFill>
          <a:blip r:embed="rId1"/>
          <a:stretch/>
        </p:blipFill>
        <p:spPr>
          <a:xfrm>
            <a:off x="250920" y="364500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ИКТ 002"/>
          <p:cNvPicPr/>
          <p:nvPr/>
        </p:nvPicPr>
        <p:blipFill>
          <a:blip r:embed="rId2"/>
          <a:stretch/>
        </p:blipFill>
        <p:spPr>
          <a:xfrm>
            <a:off x="2484360" y="2349360"/>
            <a:ext cx="2664000" cy="186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IMGP0117"/>
          <p:cNvPicPr/>
          <p:nvPr/>
        </p:nvPicPr>
        <p:blipFill>
          <a:blip r:embed="rId3"/>
          <a:stretch/>
        </p:blipFill>
        <p:spPr>
          <a:xfrm>
            <a:off x="2411280" y="465300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ИКТ 001"/>
          <p:cNvPicPr/>
          <p:nvPr/>
        </p:nvPicPr>
        <p:blipFill>
          <a:blip r:embed="rId4"/>
          <a:stretch/>
        </p:blipFill>
        <p:spPr>
          <a:xfrm>
            <a:off x="5435640" y="2060640"/>
            <a:ext cx="3486240" cy="261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IMGP0116"/>
          <p:cNvPicPr/>
          <p:nvPr/>
        </p:nvPicPr>
        <p:blipFill>
          <a:blip r:embed="rId5"/>
          <a:stretch/>
        </p:blipFill>
        <p:spPr>
          <a:xfrm>
            <a:off x="5867280" y="475128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Object 13"/>
          <p:cNvGraphicFramePr/>
          <p:nvPr/>
        </p:nvGraphicFramePr>
        <p:xfrm>
          <a:off x="1116000" y="1700280"/>
          <a:ext cx="2286000" cy="17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7" name="Object 13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2286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6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3780000" y="1989000"/>
          <a:ext cx="2133360" cy="16099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1989000"/>
                    <a:ext cx="21333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8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Object 17"/>
          <p:cNvGraphicFramePr/>
          <p:nvPr/>
        </p:nvGraphicFramePr>
        <p:xfrm>
          <a:off x="6443640" y="1773360"/>
          <a:ext cx="2286000" cy="172404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143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43640" y="1773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20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Object 19"/>
          <p:cNvGraphicFramePr/>
          <p:nvPr/>
        </p:nvGraphicFramePr>
        <p:xfrm>
          <a:off x="250920" y="3789360"/>
          <a:ext cx="2286000" cy="1724040"/>
        </p:xfrm>
        <a:graphic>
          <a:graphicData uri="http://schemas.openxmlformats.org/presentationml/2006/ole">
            <p:oleObj progId="PowerPoint.Show.12" r:id="rId8" spid="">
              <p:embed/>
              <p:pic>
                <p:nvPicPr>
                  <p:cNvPr id="146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378936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22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Object 21"/>
          <p:cNvGraphicFramePr/>
          <p:nvPr/>
        </p:nvGraphicFramePr>
        <p:xfrm>
          <a:off x="6516720" y="3933720"/>
          <a:ext cx="2286000" cy="1724040"/>
        </p:xfrm>
        <a:graphic>
          <a:graphicData uri="http://schemas.openxmlformats.org/presentationml/2006/ole">
            <p:oleObj progId="PowerPoint.Show.12" r:id="rId10" spid="">
              <p:embed/>
              <p:pic>
                <p:nvPicPr>
                  <p:cNvPr id="149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720" y="393372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24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1" name="Object 23"/>
          <p:cNvGraphicFramePr/>
          <p:nvPr/>
        </p:nvGraphicFramePr>
        <p:xfrm>
          <a:off x="3419640" y="4292640"/>
          <a:ext cx="2286000" cy="1724040"/>
        </p:xfrm>
        <a:graphic>
          <a:graphicData uri="http://schemas.openxmlformats.org/presentationml/2006/ole">
            <p:oleObj progId="PowerPoint.Show.12" r:id="rId12" spid="">
              <p:embed/>
              <p:pic>
                <p:nvPicPr>
                  <p:cNvPr id="152" name="Object 2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19640" y="4292640"/>
                    <a:ext cx="22860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WordArt 25"/>
          <p:cNvSpPr txBox="1"/>
          <p:nvPr/>
        </p:nvSpPr>
        <p:spPr>
          <a:xfrm>
            <a:off x="154764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Проекты, созданные учащимися 11 классов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5:38:44Z</dcterms:created>
  <dc:creator>*</dc:creator>
  <dc:description/>
  <dc:language>en-US</dc:language>
  <cp:lastModifiedBy>Коля</cp:lastModifiedBy>
  <dcterms:modified xsi:type="dcterms:W3CDTF">2013-05-12T22:12:04Z</dcterms:modified>
  <cp:revision>11</cp:revision>
  <dc:subject/>
  <dc:title>Технологии обучения язык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3e000000000001024140</vt:lpwstr>
  </property>
</Properties>
</file>