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503-3241-42AA-AE4C-DF4DC9D9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A38-9768-41F1-90FA-5FA219D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86D-C2EC-4C34-B785-77F52F3C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A68-2F8A-4E44-9BAF-2DAD822F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EA7-091A-4582-A343-6CFD8BF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4F4-4A13-4D89-9DB8-FF131279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539-8F88-47B5-9413-726E08E4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79C-5AF8-4961-97B8-BFE4FFB3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C3D-FA47-4366-B08A-4724311B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0A3-45AC-407F-8303-54EE86B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B1C-F15F-4AE6-B7CF-F65A310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1CA-D653-405D-A524-B0C7FE1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0EB-B801-4BAA-A810-B5C08E13B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customs/questions/glossary/index.htm" TargetMode="External"/><Relationship Id="rId3" Type="http://schemas.openxmlformats.org/officeDocument/2006/relationships/hyperlink" Target="http://www.woodlands-junior.kent.sch.uk/customs/questions/glossary/index.htm" TargetMode="External"/><Relationship Id="rId4" Type="http://schemas.openxmlformats.org/officeDocument/2006/relationships/hyperlink" Target="http://www.woodlands-junior.kent.sch.uk/customs/questions/glossary/index.htm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Homework/houses/tudor.htm" TargetMode="External"/><Relationship Id="rId3" Type="http://schemas.openxmlformats.org/officeDocument/2006/relationships/hyperlink" Target="http://www.woodlands-junior.kent.sch.uk/Homework/houses/tudor.htm" TargetMode="External"/><Relationship Id="rId4" Type="http://schemas.openxmlformats.org/officeDocument/2006/relationships/hyperlink" Target="http://www.woodlands-junior.kent.sch.uk/Homework/houses/tudor.htm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Typical English Ho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live in 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tached hou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s means that my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not joined to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ouse. My house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ricks and 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 my house there are three rooms downstairs and three rooms upstairs. We have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ntr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at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which keeps our house warm. Some houses have an open fire place but we do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Over 90 per cent of homes have central heat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43400" y="152280"/>
            <a:ext cx="4800600" cy="3751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760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i, my name is Erik. I liv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mall town in the south east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28600" y="306360"/>
            <a:ext cx="8644680" cy="6321600"/>
            <a:chOff x="228600" y="306360"/>
            <a:chExt cx="8644680" cy="6321600"/>
          </a:xfrm>
        </p:grpSpPr>
        <p:cxnSp>
          <p:nvCxnSpPr>
            <p:cNvPr id="43" name="_s5170"/>
            <p:cNvCxnSpPr>
              <a:stCxn id="44" idx="1"/>
              <a:endCxn id="45" idx="2"/>
            </p:cNvCxnSpPr>
            <p:nvPr/>
          </p:nvCxnSpPr>
          <p:spPr>
            <a:xfrm flipH="1" rot="10800000">
              <a:off x="3046680" y="1855440"/>
              <a:ext cx="1602720" cy="2572920"/>
            </a:xfrm>
            <a:prstGeom prst="bentConnector4">
              <a:avLst>
                <a:gd name="adj1" fmla="val -7121"/>
                <a:gd name="adj2" fmla="val 64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5147"/>
            <p:cNvCxnSpPr>
              <a:stCxn id="47" idx="1"/>
              <a:endCxn id="45" idx="2"/>
            </p:cNvCxnSpPr>
            <p:nvPr/>
          </p:nvCxnSpPr>
          <p:spPr>
            <a:xfrm rot="10800000">
              <a:off x="4648320" y="1855440"/>
              <a:ext cx="534240" cy="412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5142"/>
            <p:cNvCxnSpPr>
              <a:stCxn id="49" idx="3"/>
              <a:endCxn id="45" idx="2"/>
            </p:cNvCxnSpPr>
            <p:nvPr/>
          </p:nvCxnSpPr>
          <p:spPr>
            <a:xfrm flipV="1">
              <a:off x="3995280" y="1855800"/>
              <a:ext cx="654480" cy="384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5141"/>
            <p:cNvCxnSpPr>
              <a:stCxn id="51" idx="1"/>
              <a:endCxn id="45" idx="2"/>
            </p:cNvCxnSpPr>
            <p:nvPr/>
          </p:nvCxnSpPr>
          <p:spPr>
            <a:xfrm rot="10800000">
              <a:off x="4648320" y="1855440"/>
              <a:ext cx="534240" cy="10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5140"/>
            <p:cNvCxnSpPr>
              <a:stCxn id="53" idx="3"/>
              <a:endCxn id="45" idx="2"/>
            </p:cNvCxnSpPr>
            <p:nvPr/>
          </p:nvCxnSpPr>
          <p:spPr>
            <a:xfrm flipV="1">
              <a:off x="3918960" y="1856160"/>
              <a:ext cx="730800" cy="112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5136"/>
            <p:cNvSpPr/>
            <p:nvPr/>
          </p:nvSpPr>
          <p:spPr>
            <a:xfrm>
              <a:off x="2359440" y="306360"/>
              <a:ext cx="4574520" cy="1537920"/>
            </a:xfrm>
            <a:prstGeom prst="roundRect">
              <a:avLst>
                <a:gd name="adj" fmla="val 26792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main</a:t>
              </a:r>
              <a:r>
                <a:rPr b="1" lang="en-US" sz="5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e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uses in Englan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7"/>
            <p:cNvSpPr/>
            <p:nvPr/>
          </p:nvSpPr>
          <p:spPr>
            <a:xfrm>
              <a:off x="228600" y="2156040"/>
              <a:ext cx="3690360" cy="16552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tached 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a house not join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to another house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8"/>
            <p:cNvSpPr/>
            <p:nvPr/>
          </p:nvSpPr>
          <p:spPr>
            <a:xfrm>
              <a:off x="5182920" y="2156040"/>
              <a:ext cx="3690360" cy="15166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mi-detache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two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)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39"/>
            <p:cNvSpPr/>
            <p:nvPr/>
          </p:nvSpPr>
          <p:spPr>
            <a:xfrm>
              <a:off x="304920" y="4767480"/>
              <a:ext cx="3690360" cy="18604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t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rr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several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46"/>
            <p:cNvSpPr/>
            <p:nvPr/>
          </p:nvSpPr>
          <p:spPr>
            <a:xfrm>
              <a:off x="5182920" y="5334480"/>
              <a:ext cx="3686400" cy="1293480"/>
            </a:xfrm>
            <a:prstGeom prst="roundRect">
              <a:avLst>
                <a:gd name="adj" fmla="val 478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bungalow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69"/>
            <p:cNvSpPr/>
            <p:nvPr/>
          </p:nvSpPr>
          <p:spPr>
            <a:xfrm>
              <a:off x="3047040" y="3700440"/>
              <a:ext cx="3686400" cy="146124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lat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partme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4120" y="990360"/>
            <a:ext cx="3581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562360" cy="3058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724280" cy="3772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houses are over 600 hundred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years old. They were built during the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udor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e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5867280" cy="322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44956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 – 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757680" cy="2606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276720" cy="2502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3886200" cy="2911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4038840" cy="2876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37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is house was built when Quee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s on the throne 100 years ago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477120" cy="48578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0" y="4571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ngalo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038840" cy="2784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600" y="5105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raced ho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314960" cy="34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152280"/>
            <a:ext cx="5715000" cy="4286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76920" y="4495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ar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286520" cy="3214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428616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erk</cp:lastModifiedBy>
  <dcterms:modified xsi:type="dcterms:W3CDTF">2011-11-20T08:24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