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121-B263-4B9D-954D-515FFAAC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0F6-5163-4A81-95AC-E88BB0E2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D67-99B5-4817-A5E5-8C4DA94A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6D-E5D2-41A5-B5CB-8E803FB8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731-EE11-4C2E-A15F-7AE4B38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1EA-A85C-4D94-8F03-AF7C5021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6C8-35BC-42FF-81D0-F6CA4170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5A0-03DF-4544-83DA-713E2B4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D99-690D-4E4C-A90D-1A22EDD0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191-54DD-42BB-8D14-D52A751F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AEE-8E2C-4EB9-A068-EDF49E10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6FB-A88F-4BDE-8642-F068E0B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75DA-D6AD-4633-B46E-55C74A204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customs/questions/glossary/index.htm" TargetMode="External"/><Relationship Id="rId3" Type="http://schemas.openxmlformats.org/officeDocument/2006/relationships/hyperlink" Target="http://www.woodlands-junior.kent.sch.uk/customs/questions/glossary/index.htm" TargetMode="External"/><Relationship Id="rId4" Type="http://schemas.openxmlformats.org/officeDocument/2006/relationships/hyperlink" Target="http://www.woodlands-junior.kent.sch.uk/customs/questions/glossary/index.htm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odlands-junior.kent.sch.uk/Homework/houses/tudor.htm" TargetMode="External"/><Relationship Id="rId3" Type="http://schemas.openxmlformats.org/officeDocument/2006/relationships/hyperlink" Target="http://www.woodlands-junior.kent.sch.uk/Homework/houses/tudor.htm" TargetMode="External"/><Relationship Id="rId4" Type="http://schemas.openxmlformats.org/officeDocument/2006/relationships/hyperlink" Target="http://www.woodlands-junior.kent.sch.uk/Homework/houses/tudor.htm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Typical English Hou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live in a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tached hous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s means that my 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s not joined to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ouse. My house is mad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ricks and 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 my house there are three rooms downstairs and three rooms upstairs. We have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ntr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at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which keeps our house warm. Some houses have an open fire place but we don'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Over 90 per cent of homes have central heat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343400" y="152280"/>
            <a:ext cx="4800600" cy="3751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7603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i, my name is Erik. I liv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 small town in the south east of Engl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28600" y="306360"/>
            <a:ext cx="8644680" cy="6321600"/>
            <a:chOff x="228600" y="306360"/>
            <a:chExt cx="8644680" cy="6321600"/>
          </a:xfrm>
        </p:grpSpPr>
        <p:cxnSp>
          <p:nvCxnSpPr>
            <p:cNvPr id="43" name="_s5170"/>
            <p:cNvCxnSpPr>
              <a:stCxn id="44" idx="1"/>
              <a:endCxn id="45" idx="2"/>
            </p:cNvCxnSpPr>
            <p:nvPr/>
          </p:nvCxnSpPr>
          <p:spPr>
            <a:xfrm flipH="1" rot="10800000">
              <a:off x="3046680" y="1855440"/>
              <a:ext cx="1602720" cy="2572920"/>
            </a:xfrm>
            <a:prstGeom prst="bentConnector4">
              <a:avLst>
                <a:gd name="adj1" fmla="val -7121"/>
                <a:gd name="adj2" fmla="val 6434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5147"/>
            <p:cNvCxnSpPr>
              <a:stCxn id="47" idx="1"/>
              <a:endCxn id="45" idx="2"/>
            </p:cNvCxnSpPr>
            <p:nvPr/>
          </p:nvCxnSpPr>
          <p:spPr>
            <a:xfrm rot="10800000">
              <a:off x="4648320" y="1855440"/>
              <a:ext cx="534240" cy="412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5142"/>
            <p:cNvCxnSpPr>
              <a:stCxn id="49" idx="3"/>
              <a:endCxn id="45" idx="2"/>
            </p:cNvCxnSpPr>
            <p:nvPr/>
          </p:nvCxnSpPr>
          <p:spPr>
            <a:xfrm flipV="1">
              <a:off x="3995280" y="1855800"/>
              <a:ext cx="654480" cy="384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5141"/>
            <p:cNvCxnSpPr>
              <a:stCxn id="51" idx="1"/>
              <a:endCxn id="45" idx="2"/>
            </p:cNvCxnSpPr>
            <p:nvPr/>
          </p:nvCxnSpPr>
          <p:spPr>
            <a:xfrm rot="10800000">
              <a:off x="4648320" y="1855440"/>
              <a:ext cx="534240" cy="10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5140"/>
            <p:cNvCxnSpPr>
              <a:stCxn id="53" idx="3"/>
              <a:endCxn id="45" idx="2"/>
            </p:cNvCxnSpPr>
            <p:nvPr/>
          </p:nvCxnSpPr>
          <p:spPr>
            <a:xfrm flipV="1">
              <a:off x="3918960" y="1856160"/>
              <a:ext cx="730800" cy="1127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5136"/>
            <p:cNvSpPr/>
            <p:nvPr/>
          </p:nvSpPr>
          <p:spPr>
            <a:xfrm>
              <a:off x="2359440" y="306360"/>
              <a:ext cx="4574520" cy="1537920"/>
            </a:xfrm>
            <a:prstGeom prst="roundRect">
              <a:avLst>
                <a:gd name="adj" fmla="val 26792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main</a:t>
              </a:r>
              <a:r>
                <a:rPr b="1" lang="en-US" sz="5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ype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uses in Englan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7"/>
            <p:cNvSpPr/>
            <p:nvPr/>
          </p:nvSpPr>
          <p:spPr>
            <a:xfrm>
              <a:off x="228600" y="2156040"/>
              <a:ext cx="3690360" cy="16552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tached </a:t>
              </a:r>
              <a:r>
                <a:rPr b="0" lang="en-US" sz="32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a house not joine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to another house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8"/>
            <p:cNvSpPr/>
            <p:nvPr/>
          </p:nvSpPr>
          <p:spPr>
            <a:xfrm>
              <a:off x="5182920" y="2156040"/>
              <a:ext cx="3690360" cy="15166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mi-detached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two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)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39"/>
            <p:cNvSpPr/>
            <p:nvPr/>
          </p:nvSpPr>
          <p:spPr>
            <a:xfrm>
              <a:off x="304920" y="4767480"/>
              <a:ext cx="3690360" cy="18604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t</a:t>
              </a:r>
              <a:r>
                <a:rPr b="1" lang="ru-RU" sz="3200" spc="-1" strike="noStrike">
                  <a:solidFill>
                    <a:srgbClr val="333399"/>
                  </a:solidFill>
                  <a:latin typeface="Arial"/>
                </a:rPr>
                <a:t>err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several ho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joined togethe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46"/>
            <p:cNvSpPr/>
            <p:nvPr/>
          </p:nvSpPr>
          <p:spPr>
            <a:xfrm>
              <a:off x="5182920" y="5334480"/>
              <a:ext cx="3686400" cy="1293480"/>
            </a:xfrm>
            <a:prstGeom prst="roundRect">
              <a:avLst>
                <a:gd name="adj" fmla="val 4788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bungalow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5169"/>
            <p:cNvSpPr/>
            <p:nvPr/>
          </p:nvSpPr>
          <p:spPr>
            <a:xfrm>
              <a:off x="3047040" y="3700440"/>
              <a:ext cx="3686400" cy="146124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lat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apartme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4120" y="990360"/>
            <a:ext cx="3581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5562360" cy="30589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4724280" cy="37720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tw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houses are over 600 hundred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years old. They were built during the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udor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ime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1752480"/>
            <a:ext cx="5867280" cy="3225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419720" y="3809880"/>
            <a:ext cx="44956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mi – detached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757680" cy="2606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276720" cy="2502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3886200" cy="291132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09480" y="3809880"/>
            <a:ext cx="4038840" cy="287676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53337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his house was built when Queen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as on the throne 100 years ago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380880"/>
            <a:ext cx="6477120" cy="48578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0" y="4571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ngalo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4038840" cy="2784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325764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343400" y="0"/>
            <a:ext cx="4800600" cy="3600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00600" y="5105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raced ho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314960" cy="34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152280"/>
            <a:ext cx="5715000" cy="4286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76920" y="4495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ar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4286520" cy="3214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428616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rcerk</cp:lastModifiedBy>
  <dcterms:modified xsi:type="dcterms:W3CDTF">2011-11-20T08:24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