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gif" ContentType="image/gif"/>
  <Override PartName="/ppt/media/image1.jpeg" ContentType="image/jpeg"/>
  <Override PartName="/ppt/media/image3.jpeg" ContentType="image/jpeg"/>
  <Override PartName="/ppt/media/image15.gif" ContentType="image/gif"/>
  <Override PartName="/ppt/media/image7.jpeg" ContentType="image/jpeg"/>
  <Override PartName="/ppt/media/image4.jpeg" ContentType="image/jpeg"/>
  <Override PartName="/ppt/media/image5.gif" ContentType="image/gif"/>
  <Override PartName="/ppt/media/image12.jpeg" ContentType="image/jpeg"/>
  <Override PartName="/ppt/media/image10.gif" ContentType="image/gif"/>
  <Override PartName="/ppt/media/image6.jpeg" ContentType="image/jpeg"/>
  <Override PartName="/ppt/media/image2.gif" ContentType="image/gif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ADE-4470-46AC-9CCB-DECFB130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86A-88F8-413F-B438-2E0376B5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225D-F552-48EA-B321-227798A7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3B4E-1F18-45FA-B066-202A60A1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F79-8662-49BD-A4EF-BB0C08C6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4F6-63F1-40DE-8282-767F0880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8E8-0C0A-4359-AACB-9138A660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2D5-29F3-4391-BA33-9B158F58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D0A1-164A-46E3-BBDA-78C6F5B1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B48-0613-4043-8636-4FBCA74B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DB6-9832-49C6-8B4C-FA6C4F99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61D4-2040-4EEC-9BA0-5886B25E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E0F6-232B-4B83-A716-FA51273FC3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840" y="1499760"/>
            <a:ext cx="6535800" cy="345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merican Retro"/>
              </a:rPr>
              <a:t>Образование имен существительных с уменьшительно-ласкательным значением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2492280"/>
            <a:ext cx="64008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C:\Documents and Settings\Администратор\Рабочий стол\ГоСы.КОНСПЕКТЫ\анимашки\книн.gif"/>
          <p:cNvPicPr/>
          <p:nvPr/>
        </p:nvPicPr>
        <p:blipFill>
          <a:blip r:embed="rId1"/>
          <a:stretch/>
        </p:blipFill>
        <p:spPr>
          <a:xfrm>
            <a:off x="428760" y="5715000"/>
            <a:ext cx="9666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213840"/>
            <a:ext cx="9144000" cy="371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чего и с помощью каких суффиксов образуются имена существительные с уменьшительно-ласкательным значение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7" descr="i2174.gif"/>
          <p:cNvPicPr/>
          <p:nvPr/>
        </p:nvPicPr>
        <p:blipFill>
          <a:blip r:embed="rId1"/>
          <a:stretch/>
        </p:blipFill>
        <p:spPr>
          <a:xfrm>
            <a:off x="285840" y="4143240"/>
            <a:ext cx="20574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Д.з с 50. упр 1,2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6" descr="1251648654_c41-33.jpg"/>
          <p:cNvPicPr/>
          <p:nvPr/>
        </p:nvPicPr>
        <p:blipFill>
          <a:blip r:embed="rId1"/>
          <a:stretch/>
        </p:blipFill>
        <p:spPr>
          <a:xfrm>
            <a:off x="428760" y="1928880"/>
            <a:ext cx="3159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Администратор\Рабочий стол\Школьные фоны\Новая папка (2)\1 фон (1).jpg"/>
          <p:cNvPicPr/>
          <p:nvPr/>
        </p:nvPicPr>
        <p:blipFill>
          <a:blip r:embed="rId1"/>
          <a:stretch/>
        </p:blipFill>
        <p:spPr>
          <a:xfrm>
            <a:off x="0" y="-928800"/>
            <a:ext cx="10858680" cy="11991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цени свою работу на урок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4" descr="E:\анимации\Smailiki[1]\Смайлики\smail07.jpg"/>
          <p:cNvPicPr/>
          <p:nvPr/>
        </p:nvPicPr>
        <p:blipFill>
          <a:blip r:embed="rId2"/>
          <a:stretch/>
        </p:blipFill>
        <p:spPr>
          <a:xfrm>
            <a:off x="428760" y="1285920"/>
            <a:ext cx="3159000" cy="2871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C:\Users\Ольга\AppData\Local\Temp\Temp1_Smailiki[1].zip\Смайлики\36_1_50.gif"/>
          <p:cNvPicPr/>
          <p:nvPr/>
        </p:nvPicPr>
        <p:blipFill>
          <a:blip r:embed="rId3"/>
          <a:stretch/>
        </p:blipFill>
        <p:spPr>
          <a:xfrm>
            <a:off x="5786280" y="1357200"/>
            <a:ext cx="3041640" cy="271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" descr="C:\Users\Ольга\AppData\Local\Temp\Temp1_Smailiki[1].zip\Смайлики\0034.gif"/>
          <p:cNvPicPr/>
          <p:nvPr/>
        </p:nvPicPr>
        <p:blipFill>
          <a:blip r:embed="rId4"/>
          <a:stretch/>
        </p:blipFill>
        <p:spPr>
          <a:xfrm>
            <a:off x="3500280" y="3857760"/>
            <a:ext cx="3000600" cy="262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Администратор\Рабочий стол\апельс.jpg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357120" y="4786200"/>
            <a:ext cx="542916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ельси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 flipH="1" rot="2157000">
            <a:off x="4815720" y="4462560"/>
            <a:ext cx="153720" cy="880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 flipH="1" rot="5400000">
            <a:off x="571320" y="5857920"/>
            <a:ext cx="2145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 flipH="1" rot="5400000">
            <a:off x="2000160" y="5857920"/>
            <a:ext cx="2145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 flipH="1" rot="5400000">
            <a:off x="3286080" y="5857920"/>
            <a:ext cx="2145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C:\Documents and Settings\Администратор\Рабочий стол\ГоСы.КОНСПЕКТЫ\анимашки\книн.gif"/>
          <p:cNvPicPr/>
          <p:nvPr/>
        </p:nvPicPr>
        <p:blipFill>
          <a:blip r:embed="rId2"/>
          <a:stretch/>
        </p:blipFill>
        <p:spPr>
          <a:xfrm>
            <a:off x="7929720" y="5857920"/>
            <a:ext cx="792000" cy="642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C:\Documents and Settings\Администратор\Рабочий стол\ГоСы.КОНСПЕКТЫ\анимашки\книн.gif"/>
          <p:cNvPicPr/>
          <p:nvPr/>
        </p:nvPicPr>
        <p:blipFill>
          <a:blip r:embed="rId3"/>
          <a:stretch/>
        </p:blipFill>
        <p:spPr>
          <a:xfrm>
            <a:off x="7945560" y="214200"/>
            <a:ext cx="704880" cy="571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:\Documents and Settings\Администратор\Рабочий стол\ГоСы.КОНСПЕКТЫ\анимашки\книн.gif"/>
          <p:cNvPicPr/>
          <p:nvPr/>
        </p:nvPicPr>
        <p:blipFill>
          <a:blip r:embed="rId4"/>
          <a:stretch/>
        </p:blipFill>
        <p:spPr>
          <a:xfrm>
            <a:off x="357120" y="214200"/>
            <a:ext cx="7146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Администратор\Рабочий стол\помид.jpg"/>
          <p:cNvPicPr/>
          <p:nvPr/>
        </p:nvPicPr>
        <p:blipFill>
          <a:blip r:embed="rId1"/>
          <a:stretch/>
        </p:blipFill>
        <p:spPr>
          <a:xfrm>
            <a:off x="2530440" y="0"/>
            <a:ext cx="66135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70153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мидор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4"/>
          <p:cNvSpPr/>
          <p:nvPr/>
        </p:nvSpPr>
        <p:spPr>
          <a:xfrm flipH="1" rot="2157000">
            <a:off x="5102280" y="-37800"/>
            <a:ext cx="153720" cy="881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 flipH="1" rot="5400000">
            <a:off x="2071440" y="1285920"/>
            <a:ext cx="2145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 flipH="1" rot="5400000">
            <a:off x="3500280" y="1285920"/>
            <a:ext cx="2145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C:\Documents and Settings\Администратор\Рабочий стол\ГоСы.КОНСПЕКТЫ\анимашки\алоплдяом.gif"/>
          <p:cNvPicPr/>
          <p:nvPr/>
        </p:nvPicPr>
        <p:blipFill>
          <a:blip r:embed="rId2"/>
          <a:stretch/>
        </p:blipFill>
        <p:spPr>
          <a:xfrm>
            <a:off x="500040" y="5143680"/>
            <a:ext cx="1255680" cy="12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757224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тер, ветерок, ветрище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Ты чего по свету рыщешь? Лучше улицы мет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ли мельницы крути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Я. Аким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714400" y="4071960"/>
            <a:ext cx="597204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240" y="3500280"/>
            <a:ext cx="9113760" cy="33577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 flipH="1" rot="5400000">
            <a:off x="1356480" y="142200"/>
            <a:ext cx="142920" cy="14288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 flipH="1" rot="5400000">
            <a:off x="5000400" y="356760"/>
            <a:ext cx="142920" cy="100008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 flipH="1" rot="5400000">
            <a:off x="2892960" y="249480"/>
            <a:ext cx="142920" cy="12146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36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Стр.39 Упр. 26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4c85742ff8b82d9897428a17c937a736.jpg"/>
          <p:cNvPicPr/>
          <p:nvPr/>
        </p:nvPicPr>
        <p:blipFill>
          <a:blip r:embed="rId1"/>
          <a:stretch/>
        </p:blipFill>
        <p:spPr>
          <a:xfrm>
            <a:off x="500040" y="1969920"/>
            <a:ext cx="464364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Администратор\Рабочий стол\Школьные фоны\Новая папка (2)\1 фон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142560"/>
            <a:ext cx="6572160" cy="6429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рава – 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ле –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текло –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локол –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зба –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4572000" y="285840"/>
            <a:ext cx="121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. 266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11" descr="22775b4ce393t.jpg"/>
          <p:cNvPicPr/>
          <p:nvPr/>
        </p:nvPicPr>
        <p:blipFill>
          <a:blip r:embed="rId1"/>
          <a:stretch/>
        </p:blipFill>
        <p:spPr>
          <a:xfrm>
            <a:off x="1071720" y="2286000"/>
            <a:ext cx="2666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95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96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Упр. 267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7" descr="i2174.gif"/>
          <p:cNvPicPr/>
          <p:nvPr/>
        </p:nvPicPr>
        <p:blipFill>
          <a:blip r:embed="rId1"/>
          <a:stretch/>
        </p:blipFill>
        <p:spPr>
          <a:xfrm>
            <a:off x="928800" y="2500200"/>
            <a:ext cx="32004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:\Documents and Settings\Администратор\Рабочий стол\Школьные фоны\Новая папка (2)\1 фон (2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0"/>
            <a:ext cx="6500880" cy="6858000"/>
          </a:xfrm>
          <a:prstGeom prst="rect">
            <a:avLst/>
          </a:prstGeom>
          <a:solidFill>
            <a:srgbClr val="ffff00"/>
          </a:solidFill>
          <a:ln w="73080">
            <a:solidFill>
              <a:srgbClr val="ffff00"/>
            </a:solidFill>
            <a:prstDash val="sysDot"/>
            <a:miter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16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уб, яблоня, ель,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6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лиса, заяц,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6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естра , брат,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6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олнце, дорога,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16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яблоко, ягода,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4"/>
          <p:cNvSpPr/>
          <p:nvPr/>
        </p:nvSpPr>
        <p:spPr>
          <a:xfrm flipH="1" rot="5400000">
            <a:off x="3250440" y="-107280"/>
            <a:ext cx="214200" cy="228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 flipH="1" rot="5400000">
            <a:off x="4178520" y="1463760"/>
            <a:ext cx="214200" cy="171468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 flipH="1" rot="5400000">
            <a:off x="4678920" y="3607560"/>
            <a:ext cx="214560" cy="228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 flipH="1" rot="5400000">
            <a:off x="1964520" y="4821480"/>
            <a:ext cx="214200" cy="228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8"/>
          <p:cNvSpPr/>
          <p:nvPr/>
        </p:nvSpPr>
        <p:spPr>
          <a:xfrm flipH="1" rot="5400000">
            <a:off x="4821840" y="4750560"/>
            <a:ext cx="214560" cy="228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7:17:09Z</dcterms:created>
  <dc:creator>ученик</dc:creator>
  <dc:description/>
  <dc:language>en-US</dc:language>
  <cp:lastModifiedBy>User</cp:lastModifiedBy>
  <dcterms:modified xsi:type="dcterms:W3CDTF">2012-01-22T16:21:45Z</dcterms:modified>
  <cp:revision>15</cp:revision>
  <dc:subject/>
  <dc:title>Слайд 1</dc:title>
</cp:coreProperties>
</file>