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4.gif" ContentType="image/gif"/>
  <Override PartName="/ppt/media/image1.jpeg" ContentType="image/jpeg"/>
  <Override PartName="/ppt/media/image3.jpeg" ContentType="image/jpeg"/>
  <Override PartName="/ppt/media/image15.gif" ContentType="image/gif"/>
  <Override PartName="/ppt/media/image7.jpeg" ContentType="image/jpeg"/>
  <Override PartName="/ppt/media/image4.jpeg" ContentType="image/jpeg"/>
  <Override PartName="/ppt/media/image5.gif" ContentType="image/gif"/>
  <Override PartName="/ppt/media/image12.jpeg" ContentType="image/jpeg"/>
  <Override PartName="/ppt/media/image10.gif" ContentType="image/gif"/>
  <Override PartName="/ppt/media/image6.jpeg" ContentType="image/jpeg"/>
  <Override PartName="/ppt/media/image2.gif" ContentType="image/gif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CA5E-5F12-41CC-8735-60BC0C150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3981-D9E4-46DD-9F89-73AF6736D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3BF3-64D1-40A5-AA63-0707AD59D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DE3A-7585-427B-9F62-907A46CDD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EE67-1689-4AA5-853F-57ADB888B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06A5-06DD-4453-8A56-E79CA9D9A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FD32-3330-4473-ADDC-D6C729068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4FBC-0805-46B7-AB38-90D7B6950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9997-B45E-49AA-BA21-4366E6561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4F75-FA13-4AA9-9A2C-343E7C48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5453-BACF-47AB-8501-53AA3652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9A85-D5B8-4B0D-96FE-A5ACC1A0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44050-0C6C-481F-8718-E374957B40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3840" y="1499760"/>
            <a:ext cx="6535800" cy="345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merican Retro"/>
              </a:rPr>
              <a:t>Образование имен существительных с уменьшительно-ласкательным значением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640" y="2492280"/>
            <a:ext cx="640080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4" descr="C:\Documents and Settings\Администратор\Рабочий стол\ГоСы.КОНСПЕКТЫ\анимашки\книн.gif"/>
          <p:cNvPicPr/>
          <p:nvPr/>
        </p:nvPicPr>
        <p:blipFill>
          <a:blip r:embed="rId1"/>
          <a:stretch/>
        </p:blipFill>
        <p:spPr>
          <a:xfrm>
            <a:off x="428760" y="5715000"/>
            <a:ext cx="96660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0" y="213840"/>
            <a:ext cx="9144000" cy="3714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чего и с помощью каких суффиксов образуются имена существительные с уменьшительно-ласкательным значением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Рисунок 7" descr="i2174.gif"/>
          <p:cNvPicPr/>
          <p:nvPr/>
        </p:nvPicPr>
        <p:blipFill>
          <a:blip r:embed="rId1"/>
          <a:stretch/>
        </p:blipFill>
        <p:spPr>
          <a:xfrm>
            <a:off x="285840" y="4143240"/>
            <a:ext cx="205740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Д.з с 50. упр 1,2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Рисунок 6" descr="1251648654_c41-33.jpg"/>
          <p:cNvPicPr/>
          <p:nvPr/>
        </p:nvPicPr>
        <p:blipFill>
          <a:blip r:embed="rId1"/>
          <a:stretch/>
        </p:blipFill>
        <p:spPr>
          <a:xfrm>
            <a:off x="428760" y="1928880"/>
            <a:ext cx="3159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C:\Documents and Settings\Администратор\Рабочий стол\Школьные фоны\Новая папка (2)\1 фон (1).jpg"/>
          <p:cNvPicPr/>
          <p:nvPr/>
        </p:nvPicPr>
        <p:blipFill>
          <a:blip r:embed="rId1"/>
          <a:stretch/>
        </p:blipFill>
        <p:spPr>
          <a:xfrm>
            <a:off x="0" y="-928800"/>
            <a:ext cx="10858680" cy="119919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цени свою работу на урок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4" descr="E:\анимации\Smailiki[1]\Смайлики\smail07.jpg"/>
          <p:cNvPicPr/>
          <p:nvPr/>
        </p:nvPicPr>
        <p:blipFill>
          <a:blip r:embed="rId2"/>
          <a:stretch/>
        </p:blipFill>
        <p:spPr>
          <a:xfrm>
            <a:off x="428760" y="1285920"/>
            <a:ext cx="3159000" cy="28717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6" descr="C:\Users\Ольга\AppData\Local\Temp\Temp1_Smailiki[1].zip\Смайлики\36_1_50.gif"/>
          <p:cNvPicPr/>
          <p:nvPr/>
        </p:nvPicPr>
        <p:blipFill>
          <a:blip r:embed="rId3"/>
          <a:stretch/>
        </p:blipFill>
        <p:spPr>
          <a:xfrm>
            <a:off x="5786280" y="1357200"/>
            <a:ext cx="3041640" cy="271800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7" descr="C:\Users\Ольга\AppData\Local\Temp\Temp1_Smailiki[1].zip\Смайлики\0034.gif"/>
          <p:cNvPicPr/>
          <p:nvPr/>
        </p:nvPicPr>
        <p:blipFill>
          <a:blip r:embed="rId4"/>
          <a:stretch/>
        </p:blipFill>
        <p:spPr>
          <a:xfrm>
            <a:off x="3500280" y="3857760"/>
            <a:ext cx="3000600" cy="262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8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Documents and Settings\Администратор\Рабочий стол\апельс.jpg"/>
          <p:cNvPicPr/>
          <p:nvPr/>
        </p:nvPicPr>
        <p:blipFill>
          <a:blip r:embed="rId1"/>
          <a:stretch/>
        </p:blipFill>
        <p:spPr>
          <a:xfrm>
            <a:off x="15840" y="0"/>
            <a:ext cx="912816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4"/>
          <p:cNvSpPr/>
          <p:nvPr/>
        </p:nvSpPr>
        <p:spPr>
          <a:xfrm>
            <a:off x="357120" y="4786200"/>
            <a:ext cx="5429160" cy="155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ельсин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6"/>
          <p:cNvSpPr/>
          <p:nvPr/>
        </p:nvSpPr>
        <p:spPr>
          <a:xfrm flipH="1" rot="2157000">
            <a:off x="4815720" y="4462560"/>
            <a:ext cx="153720" cy="88092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7"/>
          <p:cNvSpPr/>
          <p:nvPr/>
        </p:nvSpPr>
        <p:spPr>
          <a:xfrm flipH="1" rot="5400000">
            <a:off x="571320" y="5857920"/>
            <a:ext cx="214560" cy="64296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8"/>
          <p:cNvSpPr/>
          <p:nvPr/>
        </p:nvSpPr>
        <p:spPr>
          <a:xfrm flipH="1" rot="5400000">
            <a:off x="2000160" y="5857920"/>
            <a:ext cx="214560" cy="64296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9"/>
          <p:cNvSpPr/>
          <p:nvPr/>
        </p:nvSpPr>
        <p:spPr>
          <a:xfrm flipH="1" rot="5400000">
            <a:off x="3286080" y="5857920"/>
            <a:ext cx="214560" cy="64296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1" descr="C:\Documents and Settings\Администратор\Рабочий стол\ГоСы.КОНСПЕКТЫ\анимашки\книн.gif"/>
          <p:cNvPicPr/>
          <p:nvPr/>
        </p:nvPicPr>
        <p:blipFill>
          <a:blip r:embed="rId2"/>
          <a:stretch/>
        </p:blipFill>
        <p:spPr>
          <a:xfrm>
            <a:off x="7929720" y="5857920"/>
            <a:ext cx="792000" cy="642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C:\Documents and Settings\Администратор\Рабочий стол\ГоСы.КОНСПЕКТЫ\анимашки\книн.gif"/>
          <p:cNvPicPr/>
          <p:nvPr/>
        </p:nvPicPr>
        <p:blipFill>
          <a:blip r:embed="rId3"/>
          <a:stretch/>
        </p:blipFill>
        <p:spPr>
          <a:xfrm>
            <a:off x="7945560" y="214200"/>
            <a:ext cx="704880" cy="571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C:\Documents and Settings\Администратор\Рабочий стол\ГоСы.КОНСПЕКТЫ\анимашки\книн.gif"/>
          <p:cNvPicPr/>
          <p:nvPr/>
        </p:nvPicPr>
        <p:blipFill>
          <a:blip r:embed="rId4"/>
          <a:stretch/>
        </p:blipFill>
        <p:spPr>
          <a:xfrm>
            <a:off x="357120" y="214200"/>
            <a:ext cx="71460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8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8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Documents and Settings\Администратор\Рабочий стол\помид.jpg"/>
          <p:cNvPicPr/>
          <p:nvPr/>
        </p:nvPicPr>
        <p:blipFill>
          <a:blip r:embed="rId1"/>
          <a:stretch/>
        </p:blipFill>
        <p:spPr>
          <a:xfrm>
            <a:off x="2530440" y="0"/>
            <a:ext cx="661356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56760"/>
            <a:ext cx="70153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мидор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4"/>
          <p:cNvSpPr/>
          <p:nvPr/>
        </p:nvSpPr>
        <p:spPr>
          <a:xfrm flipH="1" rot="2157000">
            <a:off x="5102280" y="-37800"/>
            <a:ext cx="153720" cy="88128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5"/>
          <p:cNvSpPr/>
          <p:nvPr/>
        </p:nvSpPr>
        <p:spPr>
          <a:xfrm flipH="1" rot="5400000">
            <a:off x="2071440" y="1285920"/>
            <a:ext cx="214560" cy="64296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6"/>
          <p:cNvSpPr/>
          <p:nvPr/>
        </p:nvSpPr>
        <p:spPr>
          <a:xfrm flipH="1" rot="5400000">
            <a:off x="3500280" y="1285920"/>
            <a:ext cx="214560" cy="64296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C:\Documents and Settings\Администратор\Рабочий стол\ГоСы.КОНСПЕКТЫ\анимашки\алоплдяом.gif"/>
          <p:cNvPicPr/>
          <p:nvPr/>
        </p:nvPicPr>
        <p:blipFill>
          <a:blip r:embed="rId2"/>
          <a:stretch/>
        </p:blipFill>
        <p:spPr>
          <a:xfrm>
            <a:off x="500040" y="5143680"/>
            <a:ext cx="1255680" cy="12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8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757224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етер, ветерок, ветрище,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Ты чего по свету рыщешь? Лучше улицы мети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ли мельницы крути.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(Я. Аким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714400" y="4071960"/>
            <a:ext cx="5972040" cy="20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30240" y="3500280"/>
            <a:ext cx="9113760" cy="335772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4"/>
          <p:cNvSpPr/>
          <p:nvPr/>
        </p:nvSpPr>
        <p:spPr>
          <a:xfrm flipH="1" rot="5400000">
            <a:off x="1356480" y="142200"/>
            <a:ext cx="142920" cy="142884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6"/>
          <p:cNvSpPr/>
          <p:nvPr/>
        </p:nvSpPr>
        <p:spPr>
          <a:xfrm flipH="1" rot="5400000">
            <a:off x="5000400" y="356760"/>
            <a:ext cx="142920" cy="100008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7"/>
          <p:cNvSpPr/>
          <p:nvPr/>
        </p:nvSpPr>
        <p:spPr>
          <a:xfrm flipH="1" rot="5400000">
            <a:off x="2892960" y="249480"/>
            <a:ext cx="142920" cy="121464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8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8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8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58040" cy="136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Стр.39 Упр. 265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3" descr="4c85742ff8b82d9897428a17c937a736.jpg"/>
          <p:cNvPicPr/>
          <p:nvPr/>
        </p:nvPicPr>
        <p:blipFill>
          <a:blip r:embed="rId1"/>
          <a:stretch/>
        </p:blipFill>
        <p:spPr>
          <a:xfrm>
            <a:off x="500040" y="1969920"/>
            <a:ext cx="4643640" cy="48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:\Documents and Settings\Администратор\Рабочий стол\Школьные фоны\Новая папка (2)\1 фон 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28760" y="142560"/>
            <a:ext cx="6572160" cy="6429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8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Трава – 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18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ле –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18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текло –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18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олокол –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18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Изба –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18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4572000" y="285840"/>
            <a:ext cx="1214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. 266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11" descr="22775b4ce393t.jpg"/>
          <p:cNvPicPr/>
          <p:nvPr/>
        </p:nvPicPr>
        <p:blipFill>
          <a:blip r:embed="rId1"/>
          <a:stretch/>
        </p:blipFill>
        <p:spPr>
          <a:xfrm>
            <a:off x="1071720" y="2286000"/>
            <a:ext cx="266688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500" autoRev="1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198" dur="500" autoRev="1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199" dur="500" autoRev="1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Упр. 267.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Рисунок 7" descr="i2174.gif"/>
          <p:cNvPicPr/>
          <p:nvPr/>
        </p:nvPicPr>
        <p:blipFill>
          <a:blip r:embed="rId1"/>
          <a:stretch/>
        </p:blipFill>
        <p:spPr>
          <a:xfrm>
            <a:off x="928800" y="2500200"/>
            <a:ext cx="320040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C:\Documents and Settings\Администратор\Рабочий стол\Школьные фоны\Новая папка (2)\1 фон (23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0" y="0"/>
            <a:ext cx="6500880" cy="6858000"/>
          </a:xfrm>
          <a:prstGeom prst="rect">
            <a:avLst/>
          </a:prstGeom>
          <a:solidFill>
            <a:srgbClr val="ffff00"/>
          </a:solidFill>
          <a:ln w="73080">
            <a:solidFill>
              <a:srgbClr val="ffff00"/>
            </a:solidFill>
            <a:prstDash val="sysDot"/>
            <a:miter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165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дуб, яблоня, ель,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165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лиса, заяц, 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165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естра , брат,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165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олнце, дорога,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165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яблоко, ягода,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оугольник 4"/>
          <p:cNvSpPr/>
          <p:nvPr/>
        </p:nvSpPr>
        <p:spPr>
          <a:xfrm flipH="1" rot="5400000">
            <a:off x="3250440" y="-107280"/>
            <a:ext cx="214200" cy="228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5"/>
          <p:cNvSpPr/>
          <p:nvPr/>
        </p:nvSpPr>
        <p:spPr>
          <a:xfrm flipH="1" rot="5400000">
            <a:off x="4178520" y="1463760"/>
            <a:ext cx="214200" cy="171468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6"/>
          <p:cNvSpPr/>
          <p:nvPr/>
        </p:nvSpPr>
        <p:spPr>
          <a:xfrm flipH="1" rot="5400000">
            <a:off x="4678920" y="3607560"/>
            <a:ext cx="214560" cy="228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7"/>
          <p:cNvSpPr/>
          <p:nvPr/>
        </p:nvSpPr>
        <p:spPr>
          <a:xfrm flipH="1" rot="5400000">
            <a:off x="1964520" y="4821480"/>
            <a:ext cx="214200" cy="228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8"/>
          <p:cNvSpPr/>
          <p:nvPr/>
        </p:nvSpPr>
        <p:spPr>
          <a:xfrm flipH="1" rot="5400000">
            <a:off x="4821840" y="4750560"/>
            <a:ext cx="214560" cy="228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8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8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8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8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17:17:09Z</dcterms:created>
  <dc:creator>ученик</dc:creator>
  <dc:description/>
  <dc:language>en-US</dc:language>
  <cp:lastModifiedBy>User</cp:lastModifiedBy>
  <dcterms:modified xsi:type="dcterms:W3CDTF">2012-01-22T16:21:45Z</dcterms:modified>
  <cp:revision>15</cp:revision>
  <dc:subject/>
  <dc:title>Слайд 1</dc:title>
</cp:coreProperties>
</file>