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DBC-76BB-42CF-B923-7939148B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315-53E2-4F65-832D-F00AA1F9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BF7-2E31-4555-84C2-E56ECFC7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804-F3BC-4E3F-BEBD-716E4FF7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44F2-9437-4924-9F3E-022A34A1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0EAA-3C4A-494A-8138-3A46A4E4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3ECA-FFBB-43AF-87EF-0EEBFA45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8711-5239-4BBA-BC78-B72B58E6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ACAF-91C5-4C09-9223-DB9B04F5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B875-DE30-419C-AF45-0BE1F85B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0DEB-0262-478B-9916-68A5007C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E66-E8BC-4C18-B536-8D1C3025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03A9-71EB-470F-8520-AE2E0643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345D-5E93-4FAE-BB32-9D649C1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6E8E-B4F8-4CDC-81F9-FD04B11F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57AA-2767-4697-AB9E-5E6AD248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7A7E-B19F-46F8-BC09-4F7937B7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529D6-9DAF-4D1E-844C-34DEFA82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1AD8-B7ED-40D7-BA7A-7B64AB59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3EC50-8C1A-4717-8D1C-81AEDD59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4EFF-F25B-4B2F-97E5-5EBFE66E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4B81-9944-407D-AAF6-C5EF90AB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0290-84FA-4E84-B75E-2FB39C44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0DC2-9E31-4628-8019-EC5171B8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CB8D5-653C-4A10-BBC4-7F929D88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213B-9F17-43A1-9F96-2F838E13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FF1C-45D6-4117-A78B-6A03968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312E-FA2F-492E-B597-1CA97AF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BEB3-472F-4C74-A6DD-CE6D99F2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31C7-947D-4298-8029-0400D72C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AF09-0DD1-4A91-9F5E-A9DB19E7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F000-6AA8-42B4-8D60-DCB8483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BBC-CA17-4FC1-9007-470E3F23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FFD-1C13-4776-A6BE-F6BAC1C1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6A3-2F39-4A7E-8C0A-F882EDBC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EDF-77D8-47AF-807E-38C87803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5F33-C3AF-4A85-AF0B-015D952D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52D-7CD0-49A2-8B27-D57A62FA3F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99EC-6880-4704-89E4-C4615E3C2A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исная книжка «Волшебные пятёр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оветы тем, кто хочет стать луч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239400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443640" y="3645000"/>
            <a:ext cx="2517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писная книжка «Волшебные пятёрк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отдельных страницах записной книжки написать правила «надо» своего поведения; это будут разделы вашего дневника. Обдумывать и записывать свои поступки , поступки товарищей следует , соотнося их с правилами. Это поможет представить верную картину своих поступков и стать луч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-я страница. Пять  «надо» для других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Всегда помогать род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Выполнять требования учителей, учиться добросовест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Быть честным с друг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Не забывать об интересах коллекти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Всегда и всюду проявлять добросовест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13640" y="3716280"/>
            <a:ext cx="2430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-я страница. Пять «можно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Веселиться и играть, когда работа хорошо сдел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Забывать обиды, но помнить, когда и за что обидели вы 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Не унывать при неудачах; если проявить упорство, всё равно получи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Учиться у других, если они лучше вас трудя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Спрашивать, если не знаете, просить помощи, если не справляетесь 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1811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-я страница. Пять «нужно» для себ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Быть честным с соб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Быть трудолюбивым, не бояться неудач в новом де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Быть чутким и заботливым. Помните, к вам будут хорош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носиться, если вы к другим хорошо относите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Быть здоровым и чистоплотным. Занимайтесь утренней зарядкой, закаляйтесь, следите за чистотой тела, час в день выделяйте на прогулки, час – на тр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Быть наблюдательным, тренировать внимание. Это оберегает от ошибок в учении и неудач в игре, труде, спор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3906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-я страница. Пять «нельзя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Нельзя учиться без старания, лениво, безответственно. Лень – начало всех пороков, не забывайте этого ни в школе , ни дома. Не бездельничайте, когда другие трудя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Нельзя грубить и драться со сверстниками, обижать младших. Помните : сила – это ум, знания, терпение, а слабость – это злость, слёзы и капри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Нельзя терпеть у себя недостатки, иначе они вас уничтожат. Будьте сильнее своих слабос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Нельзя проходить мимо, когда рядом обижают малыша, издеваются над товарищем, нагло лгут в глаза честным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Нельзя критиковать других, если сами страдаете подобными же недостатками. Не изворачивайтесь, если винов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305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851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атериал к занятиям по программе «Учись учиться»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одготовила Пенкина Н.Г.</a:t>
            </a:r>
            <a:br>
              <a:rPr sz="4000"/>
            </a:br>
            <a:br>
              <a:rPr sz="4000"/>
            </a:b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Использованы материалы журнала «Сельская школа»</a:t>
            </a:r>
            <a:br>
              <a:rPr sz="4000"/>
            </a:br>
            <a:br>
              <a:rPr sz="40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-я страница. Пять «хорошо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Уметь владеть собой (не теряться, не трусить, не выходить из себя по пустяка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Планировать каждый свой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Оценивать свои поступ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Сначала думать, а потом дел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Браться вначале за самые трудные            д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39068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-я страница. Пять правил честност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ила человека – в правде, ложь –это трусость и слаб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Солгал раз – кто поверит в друг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Не хвастай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Говорите правду в гла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Если совершили ошибку – признайте её, скрыть одну ошибку – всё равно что сделать другую, ещё более тяжку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7-я страница. Пять правил дружбы и товариществ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Не подводите дру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омогайте в трудную мину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Делитесь с ним тем, что име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Прислушайтесь к совету товарищ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Считайтесь с мнениями и желан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732720" y="2205000"/>
            <a:ext cx="24112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41:56Z</dcterms:created>
  <dc:creator>admin</dc:creator>
  <dc:description/>
  <dc:language>en-US</dc:language>
  <cp:lastModifiedBy>user</cp:lastModifiedBy>
  <dcterms:modified xsi:type="dcterms:W3CDTF">2011-01-31T16:15:44Z</dcterms:modified>
  <cp:revision>6</cp:revision>
  <dc:subject/>
  <dc:title>Слайд 1</dc:title>
</cp:coreProperties>
</file>