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04A3-8E16-4C52-A2F5-0F0427F33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D3D2-2F86-4648-B4A4-910210CD8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BF94-D4B7-4FD6-B067-88562F481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70C9-9FE2-487D-B463-FC84BA562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2596B-F6B7-44DF-AA82-1E226A497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A5528-0DC3-4F87-9F88-A2951C3AD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017FA-7C43-4722-A49C-D30876AD3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1D7E2-3162-4CFA-99F1-C635768BF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F3A7B-5C81-4C2E-A14B-D9097D472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A7864-F202-4054-B7F9-7651982E8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A64A3-4A38-4978-8859-D8815A30A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A596-2588-4CFC-A50A-B10DCB6C0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940C4-3F6E-450C-8CA4-4BACF5C3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D0F46-CF8B-43AF-BC86-BDA07575A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03B72-D5DB-43BB-9A46-B912AE241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057B8-CE6F-4A8F-A917-9E7E25861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EC789-E651-4DED-8A6E-34BDC4BB8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86036-EB3F-41F4-A963-EFDAB13DE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05306-11E8-4C29-A4B7-18AB8FF11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123CC-A791-4884-98EA-381607B44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460B8-C29F-4626-B8D0-934ACAD0D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F97BA-60EC-4B9D-BA18-1909E96B7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53BE-66B6-4DC6-92F1-D97DD71FA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56EC1-C5F1-43E3-A18D-2345E1B32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D7202-034C-447B-85F0-671BEA5FF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53589-74F1-4404-8CC3-54A4D8B9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1BC3B-25F9-4B6A-90F6-E2F3EECF0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72DB3-F3C7-4573-96D0-E13AC1C40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18E2A-1D56-4138-8E3D-0A12CD5B7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0FC7F-E0A1-4469-8DF4-42E0A50AC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9F38-AD5A-45F8-B18A-6C3C65BB6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C590-8F9C-4761-860C-102677B43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2C5B-B443-45EA-9229-655B7DFFF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7C51-5713-4D81-A434-133585F5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9591-6887-4A56-9FC0-4427BF89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0B14-1776-4BF2-85AD-1E5FA67B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550D2-FD8F-4260-914C-62CCC05E3E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2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ECE9E-975C-4D07-AFEA-03D05E50497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92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3F634-760F-4BF6-A959-E1784537C4B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писная книжка «Волшебные пятёрк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Советы тем, кто хочет стать луч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3860640"/>
            <a:ext cx="2394000" cy="2808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6443640" y="3645000"/>
            <a:ext cx="25178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Записная книжка «Волшебные пятёрки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 отдельных страницах записной книжки написать правила «надо» своего поведения; это будут разделы вашего дневника. Обдумывать и записывать свои поступки , поступки товарищей следует , соотнося их с правилами. Это поможет представить верную картину своих поступков и стать лучш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1-я страница. Пять  «надо» для других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Всегда помогать родителя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Выполнять требования учителей, учиться добросовестн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Быть честным с други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Не забывать об интересах коллекти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Всегда и всюду проявлять добросовестнос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713640" y="3716280"/>
            <a:ext cx="24303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2-я страница. Пять «можно»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Веселиться и играть, когда работа хорошо сдела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Забывать обиды, но помнить, когда и за что обидели вы с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Не унывать при неудачах; если проявить упорство, всё равно получит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Учиться у других, если они лучше вас трудят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Спрашивать, если не знаете, просить помощи, если не справляетесь с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524720" y="260280"/>
            <a:ext cx="118116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3-я страница. Пять «нужно» для себя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Быть честным с соб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Быть трудолюбивым, не бояться неудач в новом дел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Быть чутким и заботливым. Помните, к вам будут хорош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тноситься, если вы к другим хорошо относитес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.Быть здоровым и чистоплотным. Занимайтесь утренней зарядкой, закаляйтесь, следите за чистотой тела, час в день выделяйте на прогулки, час – на тру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.Быть наблюдательным, тренировать внимание. Это оберегает от ошибок в учении и неудач в игре, труде, спорт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380360" y="189000"/>
            <a:ext cx="139068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4-я страница. Пять «нельзя»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Нельзя учиться без старания, лениво, безответственно. Лень – начало всех пороков, не забывайте этого ни в школе , ни дома. Не бездельничайте, когда другие трудят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Нельзя грубить и драться со сверстниками, обижать младших. Помните : сила – это ум, знания, терпение, а слабость – это злость, слёзы и каприз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Нельзя терпеть у себя недостатки, иначе они вас уничтожат. Будьте сильнее своих слабост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.Нельзя проходить мимо, когда рядом обижают малыша, издеваются над товарищем, нагло лгут в глаза честным людя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.Нельзя критиковать других, если сами страдаете подобными же недостатками. Не изворачивайтесь, если виноват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308720" y="115920"/>
            <a:ext cx="13050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5280" y="1197000"/>
            <a:ext cx="838512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Материал к занятиям по программе «Учись учиться»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Подготовила Пенкина Н.Г.</a:t>
            </a:r>
            <a:br>
              <a:rPr sz="4000"/>
            </a:br>
            <a:br>
              <a:rPr sz="4000"/>
            </a:br>
            <a:r>
              <a:rPr b="1" lang="en-US" sz="1800" spc="-1" strike="noStrike">
                <a:solidFill>
                  <a:srgbClr val="ffffb7"/>
                </a:solidFill>
                <a:latin typeface="Arial Black"/>
              </a:rPr>
              <a:t>Использованы материалы журнала «Сельская школа»</a:t>
            </a:r>
            <a:br>
              <a:rPr sz="4000"/>
            </a:br>
            <a:br>
              <a:rPr sz="4000"/>
            </a:b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5-я страница. Пять «хорошо»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Уметь владеть собой (не теряться, не трусить, не выходить из себя по пустякам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Планировать каждый свой ден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Оценивать свои поступ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Сначала думать, а потом дела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Браться вначале за самые трудные            дел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7164360" y="189000"/>
            <a:ext cx="139068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6-я страница. Пять правил честности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Сила человека – в правде, ложь –это трусость и слабос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Солгал раз – кто поверит в другой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Не хвастайт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Говорите правду в глаз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Если совершили ошибку – признайте её, скрыть одну ошибку – всё равно что сделать другую, ещё более тяжку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380360" y="260280"/>
            <a:ext cx="118116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7-я страница. Пять правил дружбы и товарищества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Не подводите друг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Помогайте в трудную минут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Делитесь с ним тем, что имеет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Прислушайтесь к совету товарищ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Считайтесь с мнениями и желания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732720" y="2205000"/>
            <a:ext cx="241128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30T17:41:56Z</dcterms:created>
  <dc:creator>admin</dc:creator>
  <dc:description/>
  <dc:language>en-US</dc:language>
  <cp:lastModifiedBy>user</cp:lastModifiedBy>
  <dcterms:modified xsi:type="dcterms:W3CDTF">2011-01-31T16:15:44Z</dcterms:modified>
  <cp:revision>6</cp:revision>
  <dc:subject/>
  <dc:title>Слайд 1</dc:title>
</cp:coreProperties>
</file>