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8141-7858-4311-84B6-0D9E6FC56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919A-8F06-4214-B2ED-B71DF9142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DDF9-70C7-4296-9579-3ABDEFE0A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138A-40A4-43CB-9FE5-5C323FD25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AA9CD-25B1-41C3-BAB0-2DB7AA74E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09231-4620-4AE4-8AC0-B9EF71D04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3D180-CC18-4D2C-81BF-51EED7650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D4380-B65E-40E1-839B-56C59B290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7DBA0-5E76-4BB4-8B92-A3635A5FE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CD712-51A8-4484-AD07-4ABC1A2C6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F2C99-3A3E-45F5-ADEC-35B9B307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92D5-894A-4D35-93FF-8406CCC80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6C40B-355E-44C5-AB35-ACE094BD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3B22E-5C35-4820-86C5-7F38CBCE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D346E-3FF5-4C23-85DC-51D6D14E1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A3605-7DF6-4CBA-8DC0-E8201DC62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5046D-58CC-437D-B517-9E0C99334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0168C-162A-4290-ACCD-6807BEC2E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03D35-FEF2-4C42-9DD9-2008A9457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FF587-3356-49C0-9307-9E40B4AC3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ADB3E-761D-4A4E-A280-ADEC3847D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4B638-55B8-4A8F-BA8E-B7D8F681B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E074-2DC9-46B1-9523-5F6097E39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E998D-0BA9-46FF-9713-2E7E6461C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6B541-10E5-4932-B2A5-7E9FAC540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1E45E-1A49-4B1C-BAD5-F57D1A39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B7214-665A-4D9E-9E10-8CE7FC12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D3715-D1E1-4DA9-A23F-9349FA6F2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4BB65-CC3C-4B19-AFB2-617E05CBD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126EB-37BA-4FCA-876F-565697F23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37ED-42F4-4656-AD05-E8E7B7408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1724-2B8D-47FD-9B0F-5BBE42F97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D0FD-E593-45C8-90A4-08CF138D8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E323-5FDB-48C7-8C6E-F9430FCF7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669E-665A-4E0B-BDE9-A68F75779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E3DD-11DC-4238-A2AF-60F50050A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82D21-48FA-40F2-9E94-5E80044FD1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2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FDD35-108B-428B-B705-C6B9964CFAB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92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E7850-0F61-4764-965E-2EA4ADB2DBC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писная книжка «Волшебные пятёрк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Советы тем, кто хочет стать луч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3860640"/>
            <a:ext cx="2394000" cy="2808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6443640" y="3645000"/>
            <a:ext cx="25178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Записная книжка «Волшебные пятёрки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 отдельных страницах записной книжки написать правила «надо» своего поведения; это будут разделы вашего дневника. Обдумывать и записывать свои поступки , поступки товарищей следует , соотнося их с правилами. Это поможет представить верную картину своих поступков и стать лучш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1-я страница. Пять  «надо» для других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Всегда помогать родителя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Выполнять требования учителей, учиться добросовестн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Быть честным с други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Не забывать об интересах коллекти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Всегда и всюду проявлять добросовестнос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713640" y="3716280"/>
            <a:ext cx="24303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2-я страница. Пять «можно»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Веселиться и играть, когда работа хорошо сдела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Забывать обиды, но помнить, когда и за что обидели вы с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Не унывать при неудачах; если проявить упорство, всё равно получит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Учиться у других, если они лучше вас трудят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Спрашивать, если не знаете, просить помощи, если не справляетесь с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524720" y="260280"/>
            <a:ext cx="118116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3-я страница. Пять «нужно» для себя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Быть честным с соб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Быть трудолюбивым, не бояться неудач в новом дел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Быть чутким и заботливым. Помните, к вам будут хорош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тноситься, если вы к другим хорошо относитес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.Быть здоровым и чистоплотным. Занимайтесь утренней зарядкой, закаляйтесь, следите за чистотой тела, час в день выделяйте на прогулки, час – на тру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.Быть наблюдательным, тренировать внимание. Это оберегает от ошибок в учении и неудач в игре, труде, спорт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380360" y="189000"/>
            <a:ext cx="139068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4-я страница. Пять «нельзя»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Нельзя учиться без старания, лениво, безответственно. Лень – начало всех пороков, не забывайте этого ни в школе , ни дома. Не бездельничайте, когда другие трудят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Нельзя грубить и драться со сверстниками, обижать младших. Помните : сила – это ум, знания, терпение, а слабость – это злость, слёзы и каприз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Нельзя терпеть у себя недостатки, иначе они вас уничтожат. Будьте сильнее своих слабост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.Нельзя проходить мимо, когда рядом обижают малыша, издеваются над товарищем, нагло лгут в глаза честным людя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.Нельзя критиковать других, если сами страдаете подобными же недостатками. Не изворачивайтесь, если виноват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308720" y="115920"/>
            <a:ext cx="13050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5280" y="1197000"/>
            <a:ext cx="838512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Материал к занятиям по программе «Учись учиться»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Подготовила Пенкина Н.Г.</a:t>
            </a:r>
            <a:br>
              <a:rPr sz="4000"/>
            </a:br>
            <a:br>
              <a:rPr sz="4000"/>
            </a:br>
            <a:r>
              <a:rPr b="1" lang="en-US" sz="1800" spc="-1" strike="noStrike">
                <a:solidFill>
                  <a:srgbClr val="ffffb7"/>
                </a:solidFill>
                <a:latin typeface="Arial Black"/>
              </a:rPr>
              <a:t>Использованы материалы журнала «Сельская школа»</a:t>
            </a:r>
            <a:br>
              <a:rPr sz="4000"/>
            </a:br>
            <a:br>
              <a:rPr sz="4000"/>
            </a:b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5-я страница. Пять «хорошо»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Уметь владеть собой (не теряться, не трусить, не выходить из себя по пустякам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Планировать каждый свой ден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Оценивать свои поступ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Сначала думать, а потом дела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Браться вначале за самые трудные            дел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7164360" y="189000"/>
            <a:ext cx="139068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6-я страница. Пять правил честности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Сила человека – в правде, ложь –это трусость и слабос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Солгал раз – кто поверит в другой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Не хвастайт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Говорите правду в глаз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Если совершили ошибку – признайте её, скрыть одну ошибку – всё равно что сделать другую, ещё более тяжку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380360" y="260280"/>
            <a:ext cx="118116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7-я страница. Пять правил дружбы и товарищества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Не подводите друг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Помогайте в трудную минут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Делитесь с ним тем, что имеет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Прислушайтесь к совету товарищ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Считайтесь с мнениями и желания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732720" y="2205000"/>
            <a:ext cx="241128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30T17:41:56Z</dcterms:created>
  <dc:creator>admin</dc:creator>
  <dc:description/>
  <dc:language>en-US</dc:language>
  <cp:lastModifiedBy>user</cp:lastModifiedBy>
  <dcterms:modified xsi:type="dcterms:W3CDTF">2011-01-31T16:15:44Z</dcterms:modified>
  <cp:revision>6</cp:revision>
  <dc:subject/>
  <dc:title>Слайд 1</dc:title>
</cp:coreProperties>
</file>