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6C2-5A37-4AF4-BF6B-A36B3EAC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616-CC42-45B8-AB75-A87F7675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A34-0393-46E0-8364-4DBDC34D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E85-CA09-44A5-A34B-C10F37E2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753B-F6E0-4F34-8A78-B109F5C4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296F-92D3-4309-AEB2-75B758C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BD5E-D7B4-4E75-BC04-23604BFC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CB5A-E47E-4ABD-853D-18420B7E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031F-FEBD-4ADF-967A-30995F7D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63FC-978B-473C-A7D4-EBA50B60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0894-F39A-47D9-8048-6C0913A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709-1EA9-4D7F-B514-9357A26A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B3C5-AD74-4E4A-9340-051C003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E7CF-FCB1-4320-A5E6-F57A6BC3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1D2A-410D-405D-AE74-9F1B9D62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243F-1C8A-447D-B068-94178116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2261-A492-4923-9B60-8731E568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A030-D7FE-4D71-9573-61B94AD8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3856D-3448-4344-A55E-DD24F335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FBC3-A3E5-4087-AABB-08DE5F84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A557-9FFA-4FA8-85DB-E41E8D41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FD11-B59E-43B7-96EF-E08536C9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CB7-4B76-4BC5-95FB-659EEA90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E6DE7-C5B5-436B-B632-AC0A93F6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B54D-9CD4-4C3D-8AA5-9C3D52F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D1E0-C5F6-4B22-AE45-CECC3B6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2C5E-AEAE-4F62-8907-4D838025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6121-39C1-43CE-991D-ABE7F9A3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4349-280C-4AFE-A106-580242A4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0F11-267D-428D-82A5-F0D928EA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5BC6-10DB-4B7E-B7BE-4C9229FD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8642-E4DE-49E8-9AED-FB35083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4E73B-A665-46B1-A0C4-DFE1A39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83D-90E7-468D-9254-59FDBE70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8D3F-784B-4190-84BA-54395A2B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1E56-36AD-4FF2-A828-7DB9CBFE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B8F6-AC55-40B3-885A-4EB06D5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C541-7E11-4444-B6CF-2E55BE5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0759-116C-4EA0-8B8F-3532935B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A94FC-7EE8-4290-9D0F-9F59CFD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2EE5-195D-4302-A786-753E3E1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1519-7823-45E2-BCA0-86AB0992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89EB-8C35-4B64-B768-B0B671AC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24759-B16E-4829-8D4B-EB4305D9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220-C734-4335-B99C-D7AA239E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40961-D6E9-44E8-A414-8E89AE25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D098-5BF1-45FE-8EC6-4BF18234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30D0F-52D0-455E-A4B5-B83E1191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A3746-9B95-472B-8891-B36F4170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FCA18-7B1B-45A6-BB5D-E7B2407F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EBDE-196F-4D12-B02B-5A04994F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2E61-6696-46B9-941C-2D026331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A02D6-A4C9-465B-B63C-348C19F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144FC-6CF0-4562-8DE5-203AF37F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7701-CFE6-4E2C-A095-2B8AA226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942-BD01-4103-883E-52D79D52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7263-CC59-4A9D-BDC5-89C7364D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436A-5F03-4F3A-B5A5-01980F90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CC176-BE0B-4F55-A458-CB1C5022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8910-3707-416C-B194-7E74B8A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9404-40D3-44BF-A6B0-F0DC4E3F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1BC44-9CB8-4C7B-A095-CF367604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18021-BA5B-4926-B3EC-B18E13EF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20556-86D8-40D7-BB7A-6E4C504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AA39-2A7D-4885-ABE8-26DAB3B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2303-275B-4F01-B074-B2BFB1D1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595-4A80-45AA-BCAE-0B0ABA6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20260-CFF6-4D93-BC3B-A5207C3F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EB96-2CBF-4E77-A635-E62ED6D4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C919B-AFEE-4712-837B-22966478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6FA2D-4D87-4E7E-BA25-A87DE239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55523-671D-4009-BF98-F9A163F5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65FF3-759A-40C5-8632-F41D3337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F2AF4-E78C-40C0-8159-8C42A9A9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3B390-4E30-4B80-8382-F7E6ADEF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3FC6-0133-4715-AD63-ED290B60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D635-A604-45E5-9725-9D7A5C96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AA3-9C6C-4060-8CCA-3E09A6AC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70B5C-1B06-4924-9B1A-D4D0279A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48969-D693-44B4-A2CA-02C5FA0F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47670-7E6B-4834-9C13-44DBA2F5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E96A-CCDE-4406-AE08-50849192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AA685-62E3-430D-A0BE-EF5A8732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69E-CA01-4949-A12D-5A6D22F0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C983-B856-4B83-953F-08389D83E5D4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197B-1E2B-44F7-882E-3694A5D4A9AA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0013-0591-4B6B-A5A9-E860022662A6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EDDC-7232-48B0-89C8-8AD19D7BB31F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ACDF-92B2-4C39-BBF4-D169791D032E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FA3E-6656-4937-9113-DCD8863556B3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37F-C0FE-440E-A5DB-BEB9FF132C81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1143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3466"/>
                </a:solidFill>
                <a:latin typeface="Calibri"/>
              </a:rPr>
              <a:t>Дифференциальная диагностика неонатальных желтух </a:t>
            </a:r>
            <a:endParaRPr b="0" lang="en-US" sz="44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071680" y="3286080"/>
            <a:ext cx="3481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ambria"/>
              </a:rPr>
              <a:t>Выполнила: Мельчукова Владлен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ambria"/>
              </a:rPr>
              <a:t>Гр.51ф 1бр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ambria"/>
              </a:rPr>
              <a:t>Преподаватель: Соколова Л. 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0" name="Рисунок 3" descr="171.jpg"/>
          <p:cNvPicPr/>
          <p:nvPr/>
        </p:nvPicPr>
        <p:blipFill>
          <a:blip r:embed="rId1"/>
          <a:stretch/>
        </p:blipFill>
        <p:spPr>
          <a:xfrm>
            <a:off x="857160" y="2857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71360" y="285480"/>
            <a:ext cx="749772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3 Механическая или обтурационная желтух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.1.Пороки развития желчевыводящих протоков (атрезия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.2 Внутрипеченочная гипоплаз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.3 Внутриутробная желчекаменная болезн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.4Сдавление желчных ходов опухолью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2" name="Рисунок 3" descr="zheltuxa_novorozhdennyx.jpg"/>
          <p:cNvPicPr/>
          <p:nvPr/>
        </p:nvPicPr>
        <p:blipFill>
          <a:blip r:embed="rId1"/>
          <a:stretch/>
        </p:blipFill>
        <p:spPr>
          <a:xfrm>
            <a:off x="1214280" y="4357800"/>
            <a:ext cx="3267360" cy="21733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1333450879_zheltuha1.jpg"/>
          <p:cNvPicPr/>
          <p:nvPr/>
        </p:nvPicPr>
        <p:blipFill>
          <a:blip r:embed="rId2"/>
          <a:stretch/>
        </p:blipFill>
        <p:spPr>
          <a:xfrm>
            <a:off x="4857840" y="4357800"/>
            <a:ext cx="33876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4 Паренхиматозная желтух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1 Фетальный гигантоклеточный гепати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2 Фетальный гепатит, связанный с внутриутробными инфекциями (цитомегалия, листериоз, токсоплазмоз, герпес, вирусный гепатит А, В, ни А ни В, Д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3 Токсико-септическое поражение печени при сепсис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4 Токсико-медикаментозное поражение печен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5 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Желтух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при наследственных заболеваниях обмена веществ (галактоземия, муковисцидоз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Физиологическая желтух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46" name="Содержимое 3" descr=""/>
          <p:cNvPicPr/>
          <p:nvPr/>
        </p:nvPicPr>
        <p:blipFill>
          <a:blip r:embed="rId1"/>
          <a:stretch/>
        </p:blipFill>
        <p:spPr>
          <a:xfrm>
            <a:off x="993600" y="1103400"/>
            <a:ext cx="77965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Гемолитическая болезнь новорожденных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48" name="Содержимое 3" descr=""/>
          <p:cNvPicPr/>
          <p:nvPr/>
        </p:nvPicPr>
        <p:blipFill>
          <a:blip r:embed="rId1"/>
          <a:stretch/>
        </p:blipFill>
        <p:spPr>
          <a:xfrm>
            <a:off x="493560" y="1627200"/>
            <a:ext cx="5443560" cy="4956120"/>
          </a:xfrm>
          <a:prstGeom prst="rect">
            <a:avLst/>
          </a:prstGeom>
          <a:ln w="0">
            <a:noFill/>
          </a:ln>
        </p:spPr>
      </p:pic>
      <p:pic>
        <p:nvPicPr>
          <p:cNvPr id="349" name="Схема 4" descr=""/>
          <p:cNvPicPr/>
          <p:nvPr/>
        </p:nvPicPr>
        <p:blipFill>
          <a:blip r:embed="rId2"/>
          <a:stretch/>
        </p:blipFill>
        <p:spPr>
          <a:xfrm>
            <a:off x="6235560" y="1133640"/>
            <a:ext cx="26272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Желтуха Минковского-Шоффара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51" name="Содержимое 3" descr=""/>
          <p:cNvPicPr/>
          <p:nvPr/>
        </p:nvPicPr>
        <p:blipFill>
          <a:blip r:embed="rId1"/>
          <a:stretch/>
        </p:blipFill>
        <p:spPr>
          <a:xfrm>
            <a:off x="487440" y="1066680"/>
            <a:ext cx="8534160" cy="6510600"/>
          </a:xfrm>
          <a:prstGeom prst="rect">
            <a:avLst/>
          </a:prstGeom>
          <a:ln w="0">
            <a:noFill/>
          </a:ln>
        </p:spPr>
      </p:pic>
      <p:pic>
        <p:nvPicPr>
          <p:cNvPr id="352" name="Схема 4" descr=""/>
          <p:cNvPicPr/>
          <p:nvPr/>
        </p:nvPicPr>
        <p:blipFill>
          <a:blip r:embed="rId2"/>
          <a:stretch/>
        </p:blipFill>
        <p:spPr>
          <a:xfrm>
            <a:off x="2279520" y="2279520"/>
            <a:ext cx="529776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Врожденные дефекты развития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54" name="Содержимое 3" descr=""/>
          <p:cNvPicPr/>
          <p:nvPr/>
        </p:nvPicPr>
        <p:blipFill>
          <a:blip r:embed="rId1"/>
          <a:stretch/>
        </p:blipFill>
        <p:spPr>
          <a:xfrm>
            <a:off x="1427040" y="1060560"/>
            <a:ext cx="751536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Желтуха при сепсис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56" name="Содержимое 3" descr=""/>
          <p:cNvPicPr/>
          <p:nvPr/>
        </p:nvPicPr>
        <p:blipFill>
          <a:blip r:embed="rId1"/>
          <a:stretch/>
        </p:blipFill>
        <p:spPr>
          <a:xfrm>
            <a:off x="646200" y="633240"/>
            <a:ext cx="86929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Инфекционный гепатит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58" name="Содержимое 3" descr=""/>
          <p:cNvPicPr/>
          <p:nvPr/>
        </p:nvPicPr>
        <p:blipFill>
          <a:blip r:embed="rId1"/>
          <a:stretch/>
        </p:blipFill>
        <p:spPr>
          <a:xfrm>
            <a:off x="1427040" y="1158840"/>
            <a:ext cx="75088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Врожденный токсоплазмоз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0" name="Содержимое 5" descr=""/>
          <p:cNvPicPr/>
          <p:nvPr/>
        </p:nvPicPr>
        <p:blipFill>
          <a:blip r:embed="rId1"/>
          <a:stretch/>
        </p:blipFill>
        <p:spPr>
          <a:xfrm>
            <a:off x="281160" y="1103400"/>
            <a:ext cx="86547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Врожденный сифилис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2" name="Содержимое 3" descr=""/>
          <p:cNvPicPr/>
          <p:nvPr/>
        </p:nvPicPr>
        <p:blipFill>
          <a:blip r:embed="rId1"/>
          <a:stretch/>
        </p:blipFill>
        <p:spPr>
          <a:xfrm>
            <a:off x="639720" y="1444680"/>
            <a:ext cx="8364600" cy="2706480"/>
          </a:xfrm>
          <a:prstGeom prst="rect">
            <a:avLst/>
          </a:prstGeom>
          <a:ln w="0">
            <a:noFill/>
          </a:ln>
        </p:spPr>
      </p:pic>
      <p:pic>
        <p:nvPicPr>
          <p:cNvPr id="363" name="Схема 4" descr=""/>
          <p:cNvPicPr/>
          <p:nvPr/>
        </p:nvPicPr>
        <p:blipFill>
          <a:blip r:embed="rId2"/>
          <a:stretch/>
        </p:blipFill>
        <p:spPr>
          <a:xfrm>
            <a:off x="493560" y="3492360"/>
            <a:ext cx="87235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69666e"/>
                </a:solidFill>
                <a:latin typeface="Calibri"/>
              </a:rPr>
              <a:t>Желтухи новорожденных</a:t>
            </a:r>
            <a:br>
              <a:rPr sz="4300"/>
            </a:b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383d"/>
                </a:solidFill>
                <a:latin typeface="Cambria"/>
              </a:rPr>
              <a:t>Желтуха - визуальное проявление гипербилирубинемии, которое отмечается у доношенных при уровне билирубина 85 мкмоль/л, у недоношенных - более 120 мкмоль/л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3" name="Рисунок 4" descr="215_2.jpg"/>
          <p:cNvPicPr/>
          <p:nvPr/>
        </p:nvPicPr>
        <p:blipFill>
          <a:blip r:embed="rId1"/>
          <a:stretch/>
        </p:blipFill>
        <p:spPr>
          <a:xfrm>
            <a:off x="3786120" y="3357720"/>
            <a:ext cx="39290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6485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Calibri"/>
              </a:rPr>
              <a:t>Диф. Диагностика таблица№1часть 1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5" name="Содержимое 3" descr="1483.jpg"/>
          <p:cNvPicPr/>
          <p:nvPr/>
        </p:nvPicPr>
        <p:blipFill>
          <a:blip r:embed="rId1"/>
          <a:stretch/>
        </p:blipFill>
        <p:spPr>
          <a:xfrm>
            <a:off x="1571760" y="857160"/>
            <a:ext cx="6495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66e"/>
                </a:solidFill>
                <a:latin typeface="Calibri"/>
              </a:rPr>
              <a:t>Диф. Диагностика таблица№1 часть 2</a:t>
            </a:r>
            <a:endParaRPr b="0" lang="en-US" sz="40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7" name="Содержимое 3" descr="Копия 1483.jpg"/>
          <p:cNvPicPr/>
          <p:nvPr/>
        </p:nvPicPr>
        <p:blipFill>
          <a:blip r:embed="rId1"/>
          <a:stretch/>
        </p:blipFill>
        <p:spPr>
          <a:xfrm>
            <a:off x="1357200" y="2071800"/>
            <a:ext cx="713124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9" name="Содержимое 3" descr="049-1-b.gif"/>
          <p:cNvPicPr/>
          <p:nvPr/>
        </p:nvPicPr>
        <p:blipFill>
          <a:blip r:embed="rId1"/>
          <a:stretch/>
        </p:blipFill>
        <p:spPr>
          <a:xfrm>
            <a:off x="0" y="74520"/>
            <a:ext cx="892980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3" descr="deti+malishi+deti+oboi+rebenok+63863192776 (1).jpg"/>
          <p:cNvPicPr/>
          <p:nvPr/>
        </p:nvPicPr>
        <p:blipFill>
          <a:blip r:embed="rId1"/>
          <a:stretch/>
        </p:blipFill>
        <p:spPr>
          <a:xfrm>
            <a:off x="357120" y="500040"/>
            <a:ext cx="8786880" cy="57866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5520" y="4286160"/>
            <a:ext cx="7715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Спасибо за внимание!!!!!</a:t>
            </a:r>
            <a:br>
              <a:rPr sz="3900"/>
            </a:b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Будьте здоровы)))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357800" y="356760"/>
            <a:ext cx="435744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Интенсивность желтухи зависит от уровня билирубина и меняется с повышением концентрации непрямого билирубина от светло-лимонной до интенсивно шафрановой.  При патологическом увеличении уровня прямого (конъюгированного) билирубина кожа приобретает оливково-желтый или зеленоватый оттенок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5" name="Рисунок 3" descr="geltuha-novor.jpg"/>
          <p:cNvPicPr/>
          <p:nvPr/>
        </p:nvPicPr>
        <p:blipFill>
          <a:blip r:embed="rId1"/>
          <a:stretch/>
        </p:blipFill>
        <p:spPr>
          <a:xfrm>
            <a:off x="1500120" y="4000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9_1_0.jpg"/>
          <p:cNvPicPr/>
          <p:nvPr/>
        </p:nvPicPr>
        <p:blipFill>
          <a:blip r:embed="rId2"/>
          <a:stretch/>
        </p:blipFill>
        <p:spPr>
          <a:xfrm>
            <a:off x="428760" y="500040"/>
            <a:ext cx="400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571760" y="214200"/>
            <a:ext cx="68580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В первую очередь желтушное окрашивание появляется на склерах и слизистой твердого неба, а лишь затем на коже. У доношенных новорожденных видимая желтуха развивается при уровне билирубина около 75 - 85 мкмоль/л, а у недоношенных и маловесных к сроку гестации – 95 - 105 мкмоль/л, что связано с меньшей толщиной и выраженностью у них подкожно-жировой клетчатки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8" name="Рисунок 3" descr="935607.407173.jpeg"/>
          <p:cNvPicPr/>
          <p:nvPr/>
        </p:nvPicPr>
        <p:blipFill>
          <a:blip r:embed="rId1"/>
          <a:stretch/>
        </p:blipFill>
        <p:spPr>
          <a:xfrm>
            <a:off x="857160" y="3357720"/>
            <a:ext cx="4268880" cy="28368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4" descr="1277490349_pic.jpg"/>
          <p:cNvPicPr/>
          <p:nvPr/>
        </p:nvPicPr>
        <p:blipFill>
          <a:blip r:embed="rId2"/>
          <a:stretch/>
        </p:blipFill>
        <p:spPr>
          <a:xfrm>
            <a:off x="5357880" y="3571920"/>
            <a:ext cx="3351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3642840"/>
            <a:ext cx="749952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астота. Желтуха наблюдается у 65 – 70% новорожденных на первой неделе жизни, но только примерно в 10% случаев она является патологическо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1" name="Рисунок 3" descr="1352478734_zheltuha-u-novorozhdennogo.jpg"/>
          <p:cNvPicPr/>
          <p:nvPr/>
        </p:nvPicPr>
        <p:blipFill>
          <a:blip r:embed="rId1"/>
          <a:stretch/>
        </p:blipFill>
        <p:spPr>
          <a:xfrm>
            <a:off x="4714920" y="357120"/>
            <a:ext cx="4111560" cy="33019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1378w450zc0.jpg"/>
          <p:cNvPicPr/>
          <p:nvPr/>
        </p:nvPicPr>
        <p:blipFill>
          <a:blip r:embed="rId2"/>
          <a:stretch/>
        </p:blipFill>
        <p:spPr>
          <a:xfrm>
            <a:off x="857160" y="714240"/>
            <a:ext cx="3618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Этапы обмена билирубина</a:t>
            </a: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34" name="Содержимое 3" descr="preview-256x200-JAUD_patogen_3(new).jpg"/>
          <p:cNvPicPr/>
          <p:nvPr/>
        </p:nvPicPr>
        <p:blipFill>
          <a:blip r:embed="rId1"/>
          <a:stretch/>
        </p:blipFill>
        <p:spPr>
          <a:xfrm>
            <a:off x="2214720" y="1428840"/>
            <a:ext cx="50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Классификация неонатальных желтух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500200" y="1428480"/>
            <a:ext cx="6858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Учитывая многообразие причин гипербилирубинемии у новорожденных, существует много  классификаций неонатальных желтух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I. Так, все желтухи можно разделить на 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mbria"/>
              </a:rPr>
              <a:t>физиологическую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 (до 90% желтух новорожденных)  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mbria"/>
              </a:rPr>
              <a:t>и патологические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 (10% всех желтух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II. По 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mbria"/>
              </a:rPr>
              <a:t>генезу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 все желтухи подразделяются на наследственные и приобретенные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III. По лабораторным данным все неонатальные желтухи делятся на две основные группы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.  гипербилирубинемии с преобладанием непрямого билирубин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.  гипербилирубинемии с преобладанием прямого билирубин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7" name="Рисунок 3" descr="2U2MzZiYT.jpg"/>
          <p:cNvPicPr/>
          <p:nvPr/>
        </p:nvPicPr>
        <p:blipFill>
          <a:blip r:embed="rId1"/>
          <a:stretch/>
        </p:blipFill>
        <p:spPr>
          <a:xfrm>
            <a:off x="142920" y="1928880"/>
            <a:ext cx="23796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66e"/>
                </a:solidFill>
                <a:latin typeface="Calibri"/>
              </a:rPr>
              <a:t>Классификация желтух новорожденных (А. Грегень, 1994)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99720" y="1428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1 Конъюгационная желтуха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1 Физиологическая (транзиторная) 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желтух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новорожденны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2. Желтуха недоношенных новорожденны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3. Наследственная желтуха (синдромы Жильберта, Криглера-Наджара и Люцея-Дрископ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4. Желтуха детей, которые находятся на естественном (грудном) вскармливании (синдром Ариес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5. Желтуха у детей с асфиксие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6 Медикаментозная желтух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7 Желтуха у детей с эндокринной патологие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85520" y="642960"/>
            <a:ext cx="74977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2 Гемолитическая желтух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13800" indent="-22680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1 Гемолитическая болезнь новорожденны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13800" indent="-22680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2 Эритроцитарная мембранопатия (анемия Минковского-Шоффара, пикноцитоз и др.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13800" indent="-22680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3 Эритроцитарная ферментопатия (дефицит глюкозо-6-фосфатдегидрогеназы, гексокиназы и др.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13800" indent="-22680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4 Гемоглобинопатии (талассемия, серповидно-клеточная болезнь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50280" indent="-2710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2.5. Полицитемия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1:25:20Z</dcterms:created>
  <dc:creator>Admin</dc:creator>
  <dc:description/>
  <dc:language>en-US</dc:language>
  <cp:lastModifiedBy>Admin</cp:lastModifiedBy>
  <dcterms:modified xsi:type="dcterms:W3CDTF">2013-01-25T13:51:25Z</dcterms:modified>
  <cp:revision>31</cp:revision>
  <dc:subject/>
  <dc:title>Дифференциальная диагностика неонатальных желтух </dc:title>
</cp:coreProperties>
</file>