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29.jpeg" ContentType="image/jpeg"/>
  <Override PartName="/ppt/media/image10.jpeg" ContentType="image/jpeg"/>
  <Override PartName="/ppt/media/image30.png" ContentType="image/png"/>
  <Override PartName="/ppt/media/image9.jpeg" ContentType="image/jpe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606-E24B-45CD-B68B-DCC8005D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213-1B03-4E80-B932-69E1948F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F57-D92D-4525-B94C-2EEEC9C1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4CF5-5631-48EF-BAF8-45FF7620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0002-6D1F-4BCF-93ED-038BAED9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C43F-6C43-4B7F-A644-50288A95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03AF-0C89-43F0-AAA4-6FAF9252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946C-8B29-4A7F-8E00-724C410F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8964-6682-4EEB-B9A7-D5512863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EECF-132B-4925-8970-65F0D345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72E6-8D9A-4D6B-8940-6C527F73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D1C-715B-4F56-9221-54EDF5EE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EE15-8159-4891-A24A-C617326D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5963-8038-4BA7-BF74-316AB4C9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D681-1599-4B62-8699-B9905287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C27D-26D6-44F2-8C8F-58808539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EF83-08C0-4DDD-8D62-15DCCAB8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216AF-03A3-40DF-9BDE-3F27C564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B180D-DCD9-47DB-8825-5A29FE13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A9AD3-E0AF-4E4A-BD2C-0643C795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01A90-306C-4CF3-A274-5D33CA4D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D1328-A40B-42EA-8979-E4F12FCF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54C-EF6F-4EBD-AF37-97460DC3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C02D-B1E8-40C8-8DFC-1F1AC59A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61F66-CCEB-4392-AFD2-4CEDCDD3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9A838-7FDB-4857-9DD5-08B22F60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FF166-A768-4C6F-8471-0CD4C3F4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5AF96-0D52-449D-AD54-31FBA4CB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2CBF8-AC63-49D1-9E2A-06781F82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B1146-20B9-4477-B786-4C893D1F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0A5A2-D4DA-45A3-87E9-AAB62D36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C1CE3-51B1-4252-A738-8DFFD30C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4F208-228A-43E8-A47F-15C1BBF1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269B-3CE1-4037-97C3-065E5161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F41F1-19D8-4394-B40A-4A0CD1DE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CAA8E-CDB6-473E-8D1F-789F575C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3E0FC-80B8-4F33-B039-F0F96796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3C29F-E750-4CEF-9257-84F87EAA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08B15-8664-4C21-ADF2-9A463A6D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CB847-9524-4084-9E15-406C13F6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0A22F-71AA-4FDA-AB00-4EA3F6FF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EC0C4-8697-494C-8F1C-3BD3D314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532D7-4E2B-458B-B4BB-A0FFA3BF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03F27-1F62-4AAE-8F86-B46E8FD3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988-F1AE-4511-9DF3-917F0ADC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D11F4-E0F2-4D29-ACC5-B9C66B65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B7A6D-048B-46F7-94E0-BE742541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3CA57-BBED-4617-88A7-D2B2D1F1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5D12B-16E7-4F92-849C-C166472C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8846E-4F55-4DBD-99E2-375344F3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8C885-C807-4DA0-A100-20F6852A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F4BC1-6CA0-431A-A5EB-8BD3DE75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B755D-67F5-4D05-9785-5EFEF924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97A20-A84E-44E6-A94C-CB35C01F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60C63-C302-4087-9047-3298EA70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47B-F49E-4F33-8C7B-4EADEA28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6EE89-954A-4133-B3B5-203E8719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6F360-D750-41E7-AEED-D4ABE806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D7F3F-F990-4832-AFD6-AE4A8EB1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88CEC-209B-4D9B-A16C-BBA655C0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0C9DE-02B9-4C19-9DE2-DA222BFE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2D38F-605F-4EB6-A760-3AED8743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1960D-068E-4BED-ABA9-EBC1BC49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1FAC8-EDF8-402D-B3AC-11C7542D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6513A-DA49-4538-ABA7-52DC050B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5C763-EF79-4F32-B7D7-BDBBA11D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ECA-6F93-46D9-AFE6-31E46835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2A89E-A6D6-4F5E-B191-EC798E01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56A9F-2A05-43EF-A345-D8CC6911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469A2-2F06-4FBB-BD11-90426C41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8A942-5EAE-4067-98C4-759E0000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A6FEF-F038-42A8-AAB1-7536B53A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45591-DC79-4C8F-BA8E-B2122720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11265-3CD7-45F8-BF91-B40F9842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2A07F-F7DC-49C6-A3E6-C477DEAA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68C57-D770-4E8B-9B42-960CDBCD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FAD34-2C09-4923-AEEE-D4607BC7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E00-5B6E-45DA-AFB6-ECECD0A4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613BC-F79D-4B96-B6C4-6EBF190B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67B76-3F0F-499C-88C8-DA28FD3A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A3332-291F-44D6-8223-F041E0BF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77353-B725-4E61-AB48-A608D6BB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6411F-EEAA-4AEF-BA2C-AFB589E4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378-5508-4705-AB73-728FCE18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CC85-DCED-428B-B1AB-F7CAD31CD400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E1A8-C099-483D-B65A-01C976DF8C59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02C6-1DBE-4909-B36A-B1338A285F65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FB42-2368-4FB0-B359-3A80C8169633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5F54-4589-48AF-98EF-7B22A66A1095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5268-C5F8-4B62-A761-98F0AA1A17EA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2835-FCE0-4031-A7A6-995A0530478B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840" y="11430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3466"/>
                </a:solidFill>
                <a:latin typeface="Calibri"/>
              </a:rPr>
              <a:t>Дифференциальная диагностика неонатальных желтух </a:t>
            </a:r>
            <a:endParaRPr b="0" lang="en-US" sz="44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5071680" y="3286080"/>
            <a:ext cx="34815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383d"/>
                </a:solidFill>
                <a:latin typeface="Cambria"/>
              </a:rPr>
              <a:t>Выполнила: Мельчукова Владлен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383d"/>
                </a:solidFill>
                <a:latin typeface="Cambria"/>
              </a:rPr>
              <a:t>Гр.51ф 1бр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383d"/>
                </a:solidFill>
                <a:latin typeface="Cambria"/>
              </a:rPr>
              <a:t>Преподаватель: Соколова Л. 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0" name="Рисунок 3" descr="171.jpg"/>
          <p:cNvPicPr/>
          <p:nvPr/>
        </p:nvPicPr>
        <p:blipFill>
          <a:blip r:embed="rId1"/>
          <a:stretch/>
        </p:blipFill>
        <p:spPr>
          <a:xfrm>
            <a:off x="857160" y="28576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071360" y="285480"/>
            <a:ext cx="7497720" cy="56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3 Механическая или обтурационная желтуха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36520"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3.1.Пороки развития желчевыводящих протоков (атрезия)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36520"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3.2 Внутрипеченочная гипоплаз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3.3 Внутриутробная желчекаменная болезнь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36520"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3.4Сдавление желчных ходов опухолью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2" name="Рисунок 3" descr="zheltuxa_novorozhdennyx.jpg"/>
          <p:cNvPicPr/>
          <p:nvPr/>
        </p:nvPicPr>
        <p:blipFill>
          <a:blip r:embed="rId1"/>
          <a:stretch/>
        </p:blipFill>
        <p:spPr>
          <a:xfrm>
            <a:off x="1214280" y="4357800"/>
            <a:ext cx="3267360" cy="217332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4" descr="1333450879_zheltuha1.jpg"/>
          <p:cNvPicPr/>
          <p:nvPr/>
        </p:nvPicPr>
        <p:blipFill>
          <a:blip r:embed="rId2"/>
          <a:stretch/>
        </p:blipFill>
        <p:spPr>
          <a:xfrm>
            <a:off x="4857840" y="4357800"/>
            <a:ext cx="33876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434960" y="713880"/>
            <a:ext cx="7499520" cy="55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4 Паренхиматозная желтуха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4.1 Фетальный гигантоклеточный гепати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4.2 Фетальный гепатит, связанный с внутриутробными инфекциями (цитомегалия, листериоз, токсоплазмоз, герпес, вирусный гепатит А, В, ни А ни В, Д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4.3 Токсико-септическое поражение печени при сепсис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4.4 Токсико-медикаментозное поражение печен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4.5 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Желтух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при наследственных заболеваниях обмена веществ (галактоземия, муковисцидоз)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9666e"/>
                </a:solidFill>
                <a:latin typeface="Calibri"/>
              </a:rPr>
              <a:t>Физиологическая желтух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46" name="Содержимое 3" descr=""/>
          <p:cNvPicPr/>
          <p:nvPr/>
        </p:nvPicPr>
        <p:blipFill>
          <a:blip r:embed="rId1"/>
          <a:stretch/>
        </p:blipFill>
        <p:spPr>
          <a:xfrm>
            <a:off x="993600" y="1103400"/>
            <a:ext cx="779652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69666e"/>
                </a:solidFill>
                <a:latin typeface="Calibri"/>
              </a:rPr>
              <a:t>Гемолитическая болезнь новорожденных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48" name="Содержимое 3" descr=""/>
          <p:cNvPicPr/>
          <p:nvPr/>
        </p:nvPicPr>
        <p:blipFill>
          <a:blip r:embed="rId1"/>
          <a:stretch/>
        </p:blipFill>
        <p:spPr>
          <a:xfrm>
            <a:off x="493560" y="1627200"/>
            <a:ext cx="5443560" cy="4956120"/>
          </a:xfrm>
          <a:prstGeom prst="rect">
            <a:avLst/>
          </a:prstGeom>
          <a:ln w="0">
            <a:noFill/>
          </a:ln>
        </p:spPr>
      </p:pic>
      <p:pic>
        <p:nvPicPr>
          <p:cNvPr id="349" name="Схема 4" descr=""/>
          <p:cNvPicPr/>
          <p:nvPr/>
        </p:nvPicPr>
        <p:blipFill>
          <a:blip r:embed="rId2"/>
          <a:stretch/>
        </p:blipFill>
        <p:spPr>
          <a:xfrm>
            <a:off x="6235560" y="1133640"/>
            <a:ext cx="262728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69666e"/>
                </a:solidFill>
                <a:latin typeface="Calibri"/>
              </a:rPr>
              <a:t>Желтуха Минковского-Шоффара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51" name="Содержимое 3" descr=""/>
          <p:cNvPicPr/>
          <p:nvPr/>
        </p:nvPicPr>
        <p:blipFill>
          <a:blip r:embed="rId1"/>
          <a:stretch/>
        </p:blipFill>
        <p:spPr>
          <a:xfrm>
            <a:off x="487440" y="1066680"/>
            <a:ext cx="8534160" cy="6510600"/>
          </a:xfrm>
          <a:prstGeom prst="rect">
            <a:avLst/>
          </a:prstGeom>
          <a:ln w="0">
            <a:noFill/>
          </a:ln>
        </p:spPr>
      </p:pic>
      <p:pic>
        <p:nvPicPr>
          <p:cNvPr id="352" name="Схема 4" descr=""/>
          <p:cNvPicPr/>
          <p:nvPr/>
        </p:nvPicPr>
        <p:blipFill>
          <a:blip r:embed="rId2"/>
          <a:stretch/>
        </p:blipFill>
        <p:spPr>
          <a:xfrm>
            <a:off x="2279520" y="2279520"/>
            <a:ext cx="5297760" cy="39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69666e"/>
                </a:solidFill>
                <a:latin typeface="Calibri"/>
              </a:rPr>
              <a:t>Врожденные дефекты развития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54" name="Содержимое 3" descr=""/>
          <p:cNvPicPr/>
          <p:nvPr/>
        </p:nvPicPr>
        <p:blipFill>
          <a:blip r:embed="rId1"/>
          <a:stretch/>
        </p:blipFill>
        <p:spPr>
          <a:xfrm>
            <a:off x="1427040" y="1060560"/>
            <a:ext cx="751536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49772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9666e"/>
                </a:solidFill>
                <a:latin typeface="Calibri"/>
              </a:rPr>
              <a:t>Желтуха при сепсисе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56" name="Содержимое 3" descr=""/>
          <p:cNvPicPr/>
          <p:nvPr/>
        </p:nvPicPr>
        <p:blipFill>
          <a:blip r:embed="rId1"/>
          <a:stretch/>
        </p:blipFill>
        <p:spPr>
          <a:xfrm>
            <a:off x="646200" y="633240"/>
            <a:ext cx="86929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9666e"/>
                </a:solidFill>
                <a:latin typeface="Calibri"/>
              </a:rPr>
              <a:t>Инфекционный гепатит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58" name="Содержимое 3" descr=""/>
          <p:cNvPicPr/>
          <p:nvPr/>
        </p:nvPicPr>
        <p:blipFill>
          <a:blip r:embed="rId1"/>
          <a:stretch/>
        </p:blipFill>
        <p:spPr>
          <a:xfrm>
            <a:off x="1427040" y="1158840"/>
            <a:ext cx="750888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9666e"/>
                </a:solidFill>
                <a:latin typeface="Calibri"/>
              </a:rPr>
              <a:t>Врожденный токсоплазмоз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60" name="Содержимое 5" descr=""/>
          <p:cNvPicPr/>
          <p:nvPr/>
        </p:nvPicPr>
        <p:blipFill>
          <a:blip r:embed="rId1"/>
          <a:stretch/>
        </p:blipFill>
        <p:spPr>
          <a:xfrm>
            <a:off x="281160" y="1103400"/>
            <a:ext cx="86547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9666e"/>
                </a:solidFill>
                <a:latin typeface="Calibri"/>
              </a:rPr>
              <a:t>Врожденный сифилис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62" name="Содержимое 3" descr=""/>
          <p:cNvPicPr/>
          <p:nvPr/>
        </p:nvPicPr>
        <p:blipFill>
          <a:blip r:embed="rId1"/>
          <a:stretch/>
        </p:blipFill>
        <p:spPr>
          <a:xfrm>
            <a:off x="639720" y="1444680"/>
            <a:ext cx="8364600" cy="2706480"/>
          </a:xfrm>
          <a:prstGeom prst="rect">
            <a:avLst/>
          </a:prstGeom>
          <a:ln w="0">
            <a:noFill/>
          </a:ln>
        </p:spPr>
      </p:pic>
      <p:pic>
        <p:nvPicPr>
          <p:cNvPr id="363" name="Схема 4" descr=""/>
          <p:cNvPicPr/>
          <p:nvPr/>
        </p:nvPicPr>
        <p:blipFill>
          <a:blip r:embed="rId2"/>
          <a:stretch/>
        </p:blipFill>
        <p:spPr>
          <a:xfrm>
            <a:off x="493560" y="3492360"/>
            <a:ext cx="87235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69666e"/>
                </a:solidFill>
                <a:latin typeface="Calibri"/>
              </a:rPr>
              <a:t>Желтухи новорожденных</a:t>
            </a:r>
            <a:br>
              <a:rPr sz="4300"/>
            </a:b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383d"/>
                </a:solidFill>
                <a:latin typeface="Cambria"/>
              </a:rPr>
              <a:t>Желтуха - визуальное проявление гипербилирубинемии, которое отмечается у доношенных при уровне билирубина 85 мкмоль/л, у недоношенных - более 120 мкмоль/л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3" name="Рисунок 4" descr="215_2.jpg"/>
          <p:cNvPicPr/>
          <p:nvPr/>
        </p:nvPicPr>
        <p:blipFill>
          <a:blip r:embed="rId1"/>
          <a:stretch/>
        </p:blipFill>
        <p:spPr>
          <a:xfrm>
            <a:off x="3786120" y="3357720"/>
            <a:ext cx="392904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64856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Calibri"/>
              </a:rPr>
              <a:t>Диф. Диагностика таблица№1часть 1</a:t>
            </a:r>
            <a:endParaRPr b="0" lang="en-US" sz="32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65" name="Содержимое 3" descr="1483.jpg"/>
          <p:cNvPicPr/>
          <p:nvPr/>
        </p:nvPicPr>
        <p:blipFill>
          <a:blip r:embed="rId1"/>
          <a:stretch/>
        </p:blipFill>
        <p:spPr>
          <a:xfrm>
            <a:off x="1571760" y="857160"/>
            <a:ext cx="64958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66e"/>
                </a:solidFill>
                <a:latin typeface="Calibri"/>
              </a:rPr>
              <a:t>Диф. Диагностика таблица№1 часть 2</a:t>
            </a:r>
            <a:endParaRPr b="0" lang="en-US" sz="40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67" name="Содержимое 3" descr="Копия 1483.jpg"/>
          <p:cNvPicPr/>
          <p:nvPr/>
        </p:nvPicPr>
        <p:blipFill>
          <a:blip r:embed="rId1"/>
          <a:stretch/>
        </p:blipFill>
        <p:spPr>
          <a:xfrm>
            <a:off x="1357200" y="2071800"/>
            <a:ext cx="713124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69" name="Содержимое 3" descr="049-1-b.gif"/>
          <p:cNvPicPr/>
          <p:nvPr/>
        </p:nvPicPr>
        <p:blipFill>
          <a:blip r:embed="rId1"/>
          <a:stretch/>
        </p:blipFill>
        <p:spPr>
          <a:xfrm>
            <a:off x="0" y="74520"/>
            <a:ext cx="892980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3" descr="deti+malishi+deti+oboi+rebenok+63863192776 (1).jpg"/>
          <p:cNvPicPr/>
          <p:nvPr/>
        </p:nvPicPr>
        <p:blipFill>
          <a:blip r:embed="rId1"/>
          <a:stretch/>
        </p:blipFill>
        <p:spPr>
          <a:xfrm>
            <a:off x="357120" y="500040"/>
            <a:ext cx="8786880" cy="57866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5520" y="4286160"/>
            <a:ext cx="771516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69666e"/>
                </a:solidFill>
                <a:latin typeface="Calibri"/>
              </a:rPr>
              <a:t>Спасибо за внимание!!!!!</a:t>
            </a:r>
            <a:br>
              <a:rPr sz="3900"/>
            </a:br>
            <a:r>
              <a:rPr b="0" lang="ru-RU" sz="3900" spc="-1" strike="noStrike">
                <a:solidFill>
                  <a:srgbClr val="69666e"/>
                </a:solidFill>
                <a:latin typeface="Calibri"/>
              </a:rPr>
              <a:t>Будьте здоровы)))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357800" y="356760"/>
            <a:ext cx="435744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Интенсивность желтухи зависит от уровня билирубина и меняется с повышением концентрации непрямого билирубина от светло-лимонной до интенсивно шафрановой.  При патологическом увеличении уровня прямого (конъюгированного) билирубина кожа приобретает оливково-желтый или зеленоватый оттенок.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5" name="Рисунок 3" descr="geltuha-novor.jpg"/>
          <p:cNvPicPr/>
          <p:nvPr/>
        </p:nvPicPr>
        <p:blipFill>
          <a:blip r:embed="rId1"/>
          <a:stretch/>
        </p:blipFill>
        <p:spPr>
          <a:xfrm>
            <a:off x="1500120" y="40006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4" descr="19_1_0.jpg"/>
          <p:cNvPicPr/>
          <p:nvPr/>
        </p:nvPicPr>
        <p:blipFill>
          <a:blip r:embed="rId2"/>
          <a:stretch/>
        </p:blipFill>
        <p:spPr>
          <a:xfrm>
            <a:off x="428760" y="500040"/>
            <a:ext cx="4003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571760" y="214200"/>
            <a:ext cx="68580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В первую очередь желтушное окрашивание появляется на склерах и слизистой твердого неба, а лишь затем на коже. У доношенных новорожденных видимая желтуха развивается при уровне билирубина около 75 - 85 мкмоль/л, а у недоношенных и маловесных к сроку гестации – 95 - 105 мкмоль/л, что связано с меньшей толщиной и выраженностью у них подкожно-жировой клетчатки.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8" name="Рисунок 3" descr="935607.407173.jpeg"/>
          <p:cNvPicPr/>
          <p:nvPr/>
        </p:nvPicPr>
        <p:blipFill>
          <a:blip r:embed="rId1"/>
          <a:stretch/>
        </p:blipFill>
        <p:spPr>
          <a:xfrm>
            <a:off x="857160" y="3357720"/>
            <a:ext cx="4268880" cy="283680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4" descr="1277490349_pic.jpg"/>
          <p:cNvPicPr/>
          <p:nvPr/>
        </p:nvPicPr>
        <p:blipFill>
          <a:blip r:embed="rId2"/>
          <a:stretch/>
        </p:blipFill>
        <p:spPr>
          <a:xfrm>
            <a:off x="5357880" y="3571920"/>
            <a:ext cx="3351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434960" y="3642840"/>
            <a:ext cx="749952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астота. Желтуха наблюдается у 65 – 70% новорожденных на первой неделе жизни, но только примерно в 10% случаев она является патологической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1" name="Рисунок 3" descr="1352478734_zheltuha-u-novorozhdennogo.jpg"/>
          <p:cNvPicPr/>
          <p:nvPr/>
        </p:nvPicPr>
        <p:blipFill>
          <a:blip r:embed="rId1"/>
          <a:stretch/>
        </p:blipFill>
        <p:spPr>
          <a:xfrm>
            <a:off x="4714920" y="357120"/>
            <a:ext cx="4111560" cy="330192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4" descr="1378w450zc0.jpg"/>
          <p:cNvPicPr/>
          <p:nvPr/>
        </p:nvPicPr>
        <p:blipFill>
          <a:blip r:embed="rId2"/>
          <a:stretch/>
        </p:blipFill>
        <p:spPr>
          <a:xfrm>
            <a:off x="857160" y="714240"/>
            <a:ext cx="3618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69666e"/>
                </a:solidFill>
                <a:latin typeface="Calibri"/>
              </a:rPr>
              <a:t>Этапы обмена билирубина</a:t>
            </a:r>
            <a:br>
              <a:rPr sz="3900"/>
            </a:b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334" name="Содержимое 3" descr="preview-256x200-JAUD_patogen_3(new).jpg"/>
          <p:cNvPicPr/>
          <p:nvPr/>
        </p:nvPicPr>
        <p:blipFill>
          <a:blip r:embed="rId1"/>
          <a:stretch/>
        </p:blipFill>
        <p:spPr>
          <a:xfrm>
            <a:off x="2214720" y="1428840"/>
            <a:ext cx="5029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69666e"/>
                </a:solidFill>
                <a:latin typeface="Calibri"/>
              </a:rPr>
              <a:t>Классификация неонатальных желтух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500200" y="1428480"/>
            <a:ext cx="68580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Учитывая многообразие причин гипербилирубинемии у новорожденных, существует много  классификаций неонатальных желтух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I. Так, все желтухи можно разделить на 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ambria"/>
              </a:rPr>
              <a:t>физиологическую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 (до 90% желтух новорожденных)  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ambria"/>
              </a:rPr>
              <a:t>и патологические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 (10% всех желтух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II. По 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ambria"/>
              </a:rPr>
              <a:t>генезу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 все желтухи подразделяются на наследственные и приобретенные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III. По лабораторным данным все неонатальные желтухи делятся на две основные группы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1.  гипербилирубинемии с преобладанием непрямого билирубина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2.  гипербилирубинемии с преобладанием прямого билирубина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7" name="Рисунок 3" descr="2U2MzZiYT.jpg"/>
          <p:cNvPicPr/>
          <p:nvPr/>
        </p:nvPicPr>
        <p:blipFill>
          <a:blip r:embed="rId1"/>
          <a:stretch/>
        </p:blipFill>
        <p:spPr>
          <a:xfrm>
            <a:off x="142920" y="1928880"/>
            <a:ext cx="23796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499680"/>
            <a:ext cx="74995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66e"/>
                </a:solidFill>
                <a:latin typeface="Calibri"/>
              </a:rPr>
              <a:t>Классификация желтух новорожденных (А. Грегень, 1994)</a:t>
            </a:r>
            <a:br>
              <a:rPr sz="3900"/>
            </a:br>
            <a:endParaRPr b="0" lang="en-US" sz="32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999720" y="14284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1 Конъюгационная желтуха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1 Физиологическая (транзиторная) 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желтуха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 новорожденных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2. Желтуха недоношенных новорожденных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3. Наследственная желтуха (синдромы Жильберта, Криглера-Наджара и Люцея-Дрископа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4. Желтуха детей, которые находятся на естественном (грудном) вскармливании (синдром Ариеса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5. Желтуха у детей с асфиксие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6 Медикаментозная желтух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7 Желтуха у детей с эндокринной патологие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85520" y="642960"/>
            <a:ext cx="749772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2 Гемолитическая желтуха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13800" indent="-226800"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.1 Гемолитическая болезнь новорожденных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13800" indent="-226800"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.2 Эритроцитарная мембранопатия (анемия Минковского-Шоффара, пикноцитоз и др.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13800" indent="-226800"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.3 Эритроцитарная ферментопатия (дефицит глюкозо-6-фосфатдегидрогеназы, гексокиназы и др.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13800" indent="-226800">
              <a:spcBef>
                <a:spcPts val="55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.4 Гемоглобинопатии (талассемия, серповидно-клеточная болезнь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50280" indent="-27108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2.5. Полицитемия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1:25:20Z</dcterms:created>
  <dc:creator>Admin</dc:creator>
  <dc:description/>
  <dc:language>en-US</dc:language>
  <cp:lastModifiedBy>Admin</cp:lastModifiedBy>
  <dcterms:modified xsi:type="dcterms:W3CDTF">2013-01-25T13:51:25Z</dcterms:modified>
  <cp:revision>31</cp:revision>
  <dc:subject/>
  <dc:title>Дифференциальная диагностика неонатальных желтух </dc:title>
</cp:coreProperties>
</file>