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10.jpeg" ContentType="image/jpeg"/>
  <Override PartName="/ppt/media/image29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E29-48C0-4DCB-B34F-2407AD67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C77-AFF1-4031-938F-3481F245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818-DFF2-43AF-91F3-381D340D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4B6F-E9A6-4A8E-A815-06075DC1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DC1-665F-4920-80F6-A0D46D76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011-6275-4DF5-BE29-7F1E9E4A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084-5C2E-480E-9AB1-C56FF4FE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4D2-87E9-4C40-A5E3-3249B3D7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4C9-C154-42F1-B77A-0075378C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45C-DE86-49EE-862A-1D77FC13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642-6635-48B2-9A60-6C3E0DB6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FE3-6EE6-4037-B7A7-A3A1FA13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6B1D-389C-4E6F-88F7-3B2FC31D8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 плоские чер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образие плоских чер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ла учитель биологии Пискунова О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У СОШ №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826920" y="981000"/>
            <a:ext cx="75614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п плоские черв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ищеварительная систе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05030101"/>
          <p:cNvPicPr/>
          <p:nvPr/>
        </p:nvPicPr>
        <p:blipFill>
          <a:blip r:embed="rId1"/>
          <a:stretch/>
        </p:blipFill>
        <p:spPr>
          <a:xfrm>
            <a:off x="0" y="1628640"/>
            <a:ext cx="4038480" cy="4897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{C8C85DB4-CE2C-4D7D-AC82-98E8A4AF9129}"/>
          <p:cNvPicPr/>
          <p:nvPr/>
        </p:nvPicPr>
        <p:blipFill>
          <a:blip r:embed="rId2"/>
          <a:stretch/>
        </p:blipFill>
        <p:spPr>
          <a:xfrm>
            <a:off x="5099040" y="1557360"/>
            <a:ext cx="404496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050920" y="0"/>
            <a:ext cx="568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рвная систем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{39172EEE-0A18-4645-B26B-CC97E0511076}"/>
          <p:cNvPicPr/>
          <p:nvPr/>
        </p:nvPicPr>
        <p:blipFill>
          <a:blip r:embed="rId1"/>
          <a:stretch/>
        </p:blipFill>
        <p:spPr>
          <a:xfrm>
            <a:off x="2484360" y="1600200"/>
            <a:ext cx="4967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делительная система планар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{2F42BF14-7365-49C3-9BE9-D2B6744AE12E}"/>
          <p:cNvPicPr/>
          <p:nvPr/>
        </p:nvPicPr>
        <p:blipFill>
          <a:blip r:embed="rId1"/>
          <a:stretch/>
        </p:blipFill>
        <p:spPr>
          <a:xfrm>
            <a:off x="4716360" y="2060640"/>
            <a:ext cx="3814920" cy="396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выделит"/>
          <p:cNvPicPr/>
          <p:nvPr/>
        </p:nvPicPr>
        <p:blipFill>
          <a:blip r:embed="rId2"/>
          <a:stretch/>
        </p:blipFill>
        <p:spPr>
          <a:xfrm>
            <a:off x="250920" y="1989000"/>
            <a:ext cx="3025800" cy="3665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енерация тела планар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видов плоских червей планария способна полностью регенерировать новую особь из любого участка своего тела. Как показано на рисунке, планарии свойственна переднезадняя полярность, т.е. голова всегда развивается у нее на переднем конце фрагмента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741_001"/>
          <p:cNvPicPr/>
          <p:nvPr/>
        </p:nvPicPr>
        <p:blipFill>
          <a:blip r:embed="rId1"/>
          <a:stretch/>
        </p:blipFill>
        <p:spPr>
          <a:xfrm>
            <a:off x="1403280" y="1700280"/>
            <a:ext cx="2210040" cy="4271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ип плоские черви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ласс Трематоды (сосальщики) представитель: Печеночный сосальщ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печеночный сосальщик"/>
          <p:cNvPicPr/>
          <p:nvPr/>
        </p:nvPicPr>
        <p:blipFill>
          <a:blip r:embed="rId1"/>
          <a:stretch/>
        </p:blipFill>
        <p:spPr>
          <a:xfrm>
            <a:off x="826920" y="2421000"/>
            <a:ext cx="23767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 Extra Bold"/>
              </a:rPr>
              <a:t>Цикл развития печеночного сосальщ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1_0"/>
          <p:cNvPicPr/>
          <p:nvPr/>
        </p:nvPicPr>
        <p:blipFill>
          <a:blip r:embed="rId1"/>
          <a:stretch/>
        </p:blipFill>
        <p:spPr>
          <a:xfrm>
            <a:off x="468360" y="1628640"/>
            <a:ext cx="3809880" cy="2181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8_03"/>
          <p:cNvPicPr/>
          <p:nvPr/>
        </p:nvPicPr>
        <p:blipFill>
          <a:blip r:embed="rId2"/>
          <a:stretch/>
        </p:blipFill>
        <p:spPr>
          <a:xfrm>
            <a:off x="4284720" y="2924280"/>
            <a:ext cx="43196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икл развития печеночного сосальщ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419640" y="1773360"/>
            <a:ext cx="1726920" cy="1582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728720" cy="230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1332000" y="4724280"/>
            <a:ext cx="151128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4"/>
          <a:stretch/>
        </p:blipFill>
        <p:spPr>
          <a:xfrm>
            <a:off x="3276720" y="4653000"/>
            <a:ext cx="1584360" cy="199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5"/>
          <a:stretch/>
        </p:blipFill>
        <p:spPr>
          <a:xfrm>
            <a:off x="5219640" y="4581360"/>
            <a:ext cx="187344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6"/>
          <a:stretch/>
        </p:blipFill>
        <p:spPr>
          <a:xfrm>
            <a:off x="6516720" y="1700280"/>
            <a:ext cx="2303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0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Цикл развития печеночного сосальщи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Взрослый паразит в теле кор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Яйца печеночного сосальщ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Свободноплавающая лич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Развитие в теле малого прудов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Личинка с хво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Ц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8_05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395280" y="4869000"/>
            <a:ext cx="835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Многообразие плоских черв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Заражени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Источником заражения является человек. Наибольшую опасность представляют лица, ухаживающие за животными (пастухи, доярки). Возможно участие мух в передаче возбудителя. Яйца цепня бычьего устойчивы во внешней среде, сохраняя жизнеспособность под снегом в течение зимы. Высыхание, высокая температура (выше +30С) и низкая (ниже -30С) температура действуют губительно.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Человек заражается при употреблении в пищу сырого, полусырого, малосоленого и вяленого мяса, содержащего личинки цепня (финны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8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816360" cy="446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108000" y="1341360"/>
            <a:ext cx="3591000" cy="4824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Внешнее строение бычьего цеп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300"/>
                            </p:stCondLst>
                            <p:childTnLst>
                              <p:par>
                                <p:cTn id="3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30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нутреннее 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рвная система: развита сла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щеварительная система: всасывает всей поверхностью тела содержимое кишечника организма-хозя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ровеносная система: отсутств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делительная система: протонефри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продуктивная система: гермафрод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gency FB"/>
              </a:rPr>
              <a:t>Взрослый бычий цепень паразитирует в кишечнике человека. Зрелые членики, содержащие яйца, отрываются и с фекалиями поступают наружу. Там они могут попасть на траву, которую поедают коровы. В желудке коровы из яиц выходят личинки, снабженные шестью крючочками. Они выбуравливаются в стенку кишечника и с током крови разносятся ко всем органам. Там они превращаются в финну. В тканях финна вырастает до размеров горошины. Человек заражается яйцами бычьего цепня употребляя в пищу зараженное финнами, плохо прожаренное мясо коровы. В кишечнике из финны выходит цепень, имеющий вид головки с шейкой, от которой начинают нарастать новые членики. Длинна взрослого цепня может достигать нескольких метров.</a:t>
            </a: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812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Взрослый паразит в теле человека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Членики с яйцами бычьего цепня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. Корова с личинками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Личинка с хитиновыми крючьями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Финна в мышцах коровы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755640" y="0"/>
            <a:ext cx="78487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Цикл развития бычьего цепн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1638360" cy="30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1352520" cy="3952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1728720" cy="136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4"/>
          <a:stretch/>
        </p:blipFill>
        <p:spPr>
          <a:xfrm>
            <a:off x="5796000" y="4437000"/>
            <a:ext cx="1655640" cy="19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5"/>
          <a:stretch/>
        </p:blipFill>
        <p:spPr>
          <a:xfrm>
            <a:off x="7164360" y="1413000"/>
            <a:ext cx="1639800" cy="2533680"/>
          </a:xfrm>
          <a:prstGeom prst="rect">
            <a:avLst/>
          </a:prstGeom>
          <a:ln w="0">
            <a:noFill/>
          </a:ln>
        </p:spPr>
      </p:pic>
      <p:sp>
        <p:nvSpPr>
          <p:cNvPr id="115" name="WordArt 9"/>
          <p:cNvSpPr txBox="1"/>
          <p:nvPr/>
        </p:nvSpPr>
        <p:spPr>
          <a:xfrm>
            <a:off x="0" y="260280"/>
            <a:ext cx="8748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кл развития бычьего цеп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 плоские черви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ласс турбеллярии (ресничные черви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ставитель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лая плана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{F880C97F-EA31-40AA-98DE-F8BD725A099B}"/>
          <p:cNvPicPr/>
          <p:nvPr/>
        </p:nvPicPr>
        <p:blipFill>
          <a:blip r:embed="rId1"/>
          <a:stretch/>
        </p:blipFill>
        <p:spPr>
          <a:xfrm>
            <a:off x="1523880" y="3213000"/>
            <a:ext cx="7620120" cy="277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0" y="5097600"/>
            <a:ext cx="24843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natur224"/>
          <p:cNvPicPr/>
          <p:nvPr/>
        </p:nvPicPr>
        <p:blipFill>
          <a:blip r:embed="rId1"/>
          <a:stretch/>
        </p:blipFill>
        <p:spPr>
          <a:xfrm>
            <a:off x="179280" y="2492280"/>
            <a:ext cx="8964720" cy="436572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395280" y="40464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личные виды планари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ария дугезия, глазчатая филлидия, подражающ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евдоцерос, золотистая юнгия. Нижний ряд, слева направо: псевдоцерус джебборум, раздвоенный псевдоцерос (в паре с партнером), тихоокеанская акваплана, парапланоцера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503020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положение мышц у белой плана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планария"/>
          <p:cNvPicPr/>
          <p:nvPr/>
        </p:nvPicPr>
        <p:blipFill>
          <a:blip r:embed="rId1"/>
          <a:stretch/>
        </p:blipFill>
        <p:spPr>
          <a:xfrm>
            <a:off x="539640" y="1557360"/>
            <a:ext cx="7777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86000" y="188640"/>
            <a:ext cx="50576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вусторонняя и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учевая симметрия тел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{EB6E5563-E53A-40E9-9BFF-31F0FE4D1CEC}"/>
          <p:cNvPicPr/>
          <p:nvPr/>
        </p:nvPicPr>
        <p:blipFill>
          <a:blip r:embed="rId1"/>
          <a:stretch/>
        </p:blipFill>
        <p:spPr>
          <a:xfrm>
            <a:off x="395280" y="836640"/>
            <a:ext cx="2951280" cy="582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{0BC698C0-E425-4F15-9EA6-4036752AA46C}"/>
          <p:cNvPicPr/>
          <p:nvPr/>
        </p:nvPicPr>
        <p:blipFill>
          <a:blip r:embed="rId2"/>
          <a:stretch/>
        </p:blipFill>
        <p:spPr>
          <a:xfrm>
            <a:off x="5219640" y="2421000"/>
            <a:ext cx="3022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Organization Chart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V="1" rot="16200000">
              <a:off x="5664600" y="1648080"/>
              <a:ext cx="1371960" cy="3558960"/>
            </a:xfrm>
            <a:prstGeom prst="bentConnector3">
              <a:avLst>
                <a:gd name="adj1" fmla="val 141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V="1" rot="16200000">
              <a:off x="4478040" y="2834640"/>
              <a:ext cx="1371960" cy="1186200"/>
            </a:xfrm>
            <a:prstGeom prst="bentConnector3">
              <a:avLst>
                <a:gd name="adj1" fmla="val 141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H="1" flipV="1" rot="5400000">
              <a:off x="3292920" y="2835000"/>
              <a:ext cx="1371960" cy="1185480"/>
            </a:xfrm>
            <a:prstGeom prst="bentConnector3">
              <a:avLst>
                <a:gd name="adj1" fmla="val 141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H="1" flipV="1" rot="5400000">
              <a:off x="2107800" y="1649880"/>
              <a:ext cx="1371960" cy="3556080"/>
            </a:xfrm>
            <a:prstGeom prst="bentConnector3">
              <a:avLst>
                <a:gd name="adj1" fmla="val 141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2"/>
            <p:cNvSpPr/>
            <p:nvPr/>
          </p:nvSpPr>
          <p:spPr>
            <a:xfrm>
              <a:off x="3555360" y="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Ткан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планар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0" y="411372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Покров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4"/>
            <p:cNvSpPr/>
            <p:nvPr/>
          </p:nvSpPr>
          <p:spPr>
            <a:xfrm>
              <a:off x="2370600" y="411372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Мышеч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4741200" y="411372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Нерв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6"/>
            <p:cNvSpPr/>
            <p:nvPr/>
          </p:nvSpPr>
          <p:spPr>
            <a:xfrm>
              <a:off x="7111800" y="4113720"/>
              <a:ext cx="2031840" cy="2742480"/>
            </a:xfrm>
            <a:custGeom>
              <a:avLst/>
              <a:gdLst>
                <a:gd name="textAreaLeft" fmla="*/ 99000 w 2031840"/>
                <a:gd name="textAreaRight" fmla="*/ 1932840 w 2031840"/>
                <a:gd name="textAreaTop" fmla="*/ 99000 h 2742480"/>
                <a:gd name="textAreaBottom" fmla="*/ 2643480 h 2742480"/>
              </a:gdLst>
              <a:ahLst/>
              <a:rect l="textAreaLeft" t="textAreaTop" r="textAreaRight" b="textAreaBottom"/>
              <a:pathLst>
                <a:path w="21600" h="29153">
                  <a:moveTo>
                    <a:pt x="3600" y="0"/>
                  </a:moveTo>
                  <a:arcTo wR="3600" hR="3600" stAng="16200000" swAng="-5400000"/>
                  <a:lnTo>
                    <a:pt x="0" y="25553"/>
                  </a:lnTo>
                  <a:arcTo wR="3600" hR="3600" stAng="10800000" swAng="-5400000"/>
                  <a:lnTo>
                    <a:pt x="18000" y="291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оеди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тель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нутреннее 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плоский червь"/>
          <p:cNvPicPr/>
          <p:nvPr/>
        </p:nvPicPr>
        <p:blipFill>
          <a:blip r:embed="rId1"/>
          <a:stretch/>
        </p:blipFill>
        <p:spPr>
          <a:xfrm>
            <a:off x="539640" y="1268280"/>
            <a:ext cx="799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07:38:57Z</dcterms:created>
  <dc:creator>Alex</dc:creator>
  <dc:description/>
  <dc:language>en-US</dc:language>
  <cp:lastModifiedBy>Мама</cp:lastModifiedBy>
  <dcterms:modified xsi:type="dcterms:W3CDTF">2010-09-12T19:13:54Z</dcterms:modified>
  <cp:revision>6</cp:revision>
  <dc:subject/>
  <dc:title>Тип плоские черв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d000000000001024140</vt:lpwstr>
  </property>
</Properties>
</file>