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D0A-577E-471A-A930-C5A8FD10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EA5-E08B-4159-9776-4B5FEA96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689-B15B-40B5-A7A8-F4C814E8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2FF-8534-4FD8-9B2A-A9C6461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5FB-DE87-44DB-93CB-4A26961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367-512C-4FDF-81C0-382B06A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101-9136-45A2-9268-541BD615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732-41FC-410E-87DB-8D574C3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36A-58B5-44D0-8534-91B2EE7B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957-58C2-4FC9-B6C2-D651951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FC4-37C9-440A-8257-B7BFB2B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A9B-FEFC-40E6-A6B6-0015375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854-84FF-4F33-ACA8-EC79FB8B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образие плоских чер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а учитель биологии Пискунова О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981000"/>
            <a:ext cx="75614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 плоские черв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5030101"/>
          <p:cNvPicPr/>
          <p:nvPr/>
        </p:nvPicPr>
        <p:blipFill>
          <a:blip r:embed="rId1"/>
          <a:stretch/>
        </p:blipFill>
        <p:spPr>
          <a:xfrm>
            <a:off x="0" y="1628640"/>
            <a:ext cx="4038480" cy="489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{C8C85DB4-CE2C-4D7D-AC82-98E8A4AF9129}"/>
          <p:cNvPicPr/>
          <p:nvPr/>
        </p:nvPicPr>
        <p:blipFill>
          <a:blip r:embed="rId2"/>
          <a:stretch/>
        </p:blipFill>
        <p:spPr>
          <a:xfrm>
            <a:off x="5099040" y="1557360"/>
            <a:ext cx="40449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5092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{39172EEE-0A18-4645-B26B-CC97E0511076}"/>
          <p:cNvPicPr/>
          <p:nvPr/>
        </p:nvPicPr>
        <p:blipFill>
          <a:blip r:embed="rId1"/>
          <a:stretch/>
        </p:blipFill>
        <p:spPr>
          <a:xfrm>
            <a:off x="2484360" y="1600200"/>
            <a:ext cx="49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делительная систем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{2F42BF14-7365-49C3-9BE9-D2B6744AE12E}"/>
          <p:cNvPicPr/>
          <p:nvPr/>
        </p:nvPicPr>
        <p:blipFill>
          <a:blip r:embed="rId1"/>
          <a:stretch/>
        </p:blipFill>
        <p:spPr>
          <a:xfrm>
            <a:off x="4716360" y="2060640"/>
            <a:ext cx="3814920" cy="39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ыделит"/>
          <p:cNvPicPr/>
          <p:nvPr/>
        </p:nvPicPr>
        <p:blipFill>
          <a:blip r:embed="rId2"/>
          <a:stretch/>
        </p:blipFill>
        <p:spPr>
          <a:xfrm>
            <a:off x="250920" y="1989000"/>
            <a:ext cx="3025800" cy="366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енерация тел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видов плоских червей планария способна полностью регенерировать новую особь из любого участка своего тела. Как показано на рисунке, планарии свойственна переднезадняя полярность, т.е. голова всегда развивается у нее на переднем конце фрагмента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741_001"/>
          <p:cNvPicPr/>
          <p:nvPr/>
        </p:nvPicPr>
        <p:blipFill>
          <a:blip r:embed="rId1"/>
          <a:stretch/>
        </p:blipFill>
        <p:spPr>
          <a:xfrm>
            <a:off x="1403280" y="1700280"/>
            <a:ext cx="2210040" cy="4271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 Трематоды (сосальщики) представитель: Печеночный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печеночный сосальщик"/>
          <p:cNvPicPr/>
          <p:nvPr/>
        </p:nvPicPr>
        <p:blipFill>
          <a:blip r:embed="rId1"/>
          <a:stretch/>
        </p:blipFill>
        <p:spPr>
          <a:xfrm>
            <a:off x="826920" y="2421000"/>
            <a:ext cx="2376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 Extra Bold"/>
              </a:rPr>
              <a:t>Цикл развития печеночного сосаль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1_0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2181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8_03"/>
          <p:cNvPicPr/>
          <p:nvPr/>
        </p:nvPicPr>
        <p:blipFill>
          <a:blip r:embed="rId2"/>
          <a:stretch/>
        </p:blipFill>
        <p:spPr>
          <a:xfrm>
            <a:off x="4284720" y="2924280"/>
            <a:ext cx="43196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икл развития печеночного сосальщ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1726920" cy="158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728720" cy="230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158436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5"/>
          <a:stretch/>
        </p:blipFill>
        <p:spPr>
          <a:xfrm>
            <a:off x="5219640" y="458136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икл развития печеночного сосальщи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Взрослый паразит в теле кор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Яйца печеночного соса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Свободноплавающая ли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Развитие в теле малого прудов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Личинка с хв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Ц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8_05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395280" y="4869000"/>
            <a:ext cx="835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ногообразие плоских черв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раже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Источником заражения является человек. Наибольшую опасность представляют лица, ухаживающие за животными (пастухи, доярки). Возможно участие мух в передаче возбудителя. Яйца цепня бычьего устойчивы во внешней среде, сохраняя жизнеспособность под снегом в течение зимы. Высыхание, высокая температура (выше +30С) и низкая (ниже -30С) температура действуют губительно.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Человек заражается при употреблении в пищу сырого, полусырого, малосоленого и вяленого мяса, содержащего личинки цепня (финны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446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3591000" cy="482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Внешнее строение бычьего цеп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3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3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рвная система: развита сл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щеварительная система: всасывает всей поверхностью тела содержимое кишечника организма-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овеносная система: отсут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делительная система: протонефри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продуктивная система: гермафрод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Взрослый бычий цепень паразитирует в кишечнике человека. Зрелые членики, содержащие яйца, отрываются и с фекалиями поступают наружу. Там они могут попасть на траву, которую поедают коровы. В желудке коровы из яиц выходят личинки, снабженные шестью крючочками. Они выбуравливаются в стенку кишечника и с током крови разносятся ко всем органам. Там они превращаются в финну. В тканях финна вырастает до размеров горошины. Человек заражается яйцами бычьего цепня употребляя в пищу зараженное финнами, плохо прожаренное мясо коровы. В кишечнике из финны выходит цепень, имеющий вид головки с шейкой, от которой начинают нарастать новые членики. Длинна взрослого цепня может достигать нескольких метров.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81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Взрослый паразит в теле человека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Членики с яйцами бычьего цепня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. Корова с личинка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Личинка с хитиновыми крючья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Финна в мышцах коровы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755640" y="0"/>
            <a:ext cx="7848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Цикл развития бычьего цеп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163836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2520" cy="395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5796000" y="4437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5"/>
          <a:stretch/>
        </p:blipFill>
        <p:spPr>
          <a:xfrm>
            <a:off x="7164360" y="1413000"/>
            <a:ext cx="1639800" cy="2533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0" y="260280"/>
            <a:ext cx="87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кл развития бычьего цеп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ласс турбеллярии (ресничные черви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итель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ая план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{F880C97F-EA31-40AA-98DE-F8BD725A099B}"/>
          <p:cNvPicPr/>
          <p:nvPr/>
        </p:nvPicPr>
        <p:blipFill>
          <a:blip r:embed="rId1"/>
          <a:stretch/>
        </p:blipFill>
        <p:spPr>
          <a:xfrm>
            <a:off x="1523880" y="3213000"/>
            <a:ext cx="7620120" cy="27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0" y="5097600"/>
            <a:ext cx="2484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atur224"/>
          <p:cNvPicPr/>
          <p:nvPr/>
        </p:nvPicPr>
        <p:blipFill>
          <a:blip r:embed="rId1"/>
          <a:stretch/>
        </p:blipFill>
        <p:spPr>
          <a:xfrm>
            <a:off x="179280" y="2492280"/>
            <a:ext cx="896472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395280" y="40464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личные виды планар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ария дугезия, глазчатая филлидия, подражающ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евдоцерос, золотистая юнгия. Нижний ряд, слева направо: псевдоцерус джебборум, раздвоенный псевдоцерос (в паре с партнером), тихоокеанская акваплана, парапланоцер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503020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оложение мышц у белой план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планария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86000" y="188640"/>
            <a:ext cx="5057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сторонняя 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чевая симметрия тел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{EB6E5563-E53A-40E9-9BFF-31F0FE4D1CEC}"/>
          <p:cNvPicPr/>
          <p:nvPr/>
        </p:nvPicPr>
        <p:blipFill>
          <a:blip r:embed="rId1"/>
          <a:stretch/>
        </p:blipFill>
        <p:spPr>
          <a:xfrm>
            <a:off x="395280" y="836640"/>
            <a:ext cx="2951280" cy="582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{0BC698C0-E425-4F15-9EA6-4036752AA46C}"/>
          <p:cNvPicPr/>
          <p:nvPr/>
        </p:nvPicPr>
        <p:blipFill>
          <a:blip r:embed="rId2"/>
          <a:stretch/>
        </p:blipFill>
        <p:spPr>
          <a:xfrm>
            <a:off x="5219640" y="2421000"/>
            <a:ext cx="3022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664600" y="1648080"/>
              <a:ext cx="1371960" cy="355896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478040" y="2834640"/>
              <a:ext cx="1371960" cy="118620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292920" y="2835000"/>
              <a:ext cx="1371960" cy="11854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107800" y="1649880"/>
              <a:ext cx="1371960" cy="35560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555360" y="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кан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лана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окро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3706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Мышеч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412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ер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71118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оеди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плоский червь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7:38:57Z</dcterms:created>
  <dc:creator>Alex</dc:creator>
  <dc:description/>
  <dc:language>en-US</dc:language>
  <cp:lastModifiedBy>Мама</cp:lastModifiedBy>
  <dcterms:modified xsi:type="dcterms:W3CDTF">2010-09-12T19:13:54Z</dcterms:modified>
  <cp:revision>6</cp:revision>
  <dc:subject/>
  <dc:title>Тип плоские чер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d000000000001024140</vt:lpwstr>
  </property>
</Properties>
</file>