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28.jpeg" ContentType="image/jpeg"/>
  <Override PartName="/ppt/media/image7.jpeg" ContentType="image/jpeg"/>
  <Override PartName="/ppt/media/image19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9438-280D-4F3C-BBFC-7DF0E593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0CB-09D3-4EC6-A626-9E24A3C7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FE8-10A5-4B71-B6A2-B698EC3F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E65-ABB3-4F14-A2C3-2751DCEA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87F-73EA-4F97-8411-A9761360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5379-2B51-4662-AE56-EC8885B8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2C1F-C2CF-4D34-A5A3-2FA51B4D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0737-2AAB-44DA-840C-79FF6D47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F29-032D-4645-BB36-D51E51DF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DF5B-6505-4CBF-94BE-D3764ABD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F86D-29CE-4EA6-ACDF-0D34D400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23F-6202-455C-9152-DFCA99C2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4F66-8844-4BF3-B487-294AE9CAF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п плоские чер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образие плоских черв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ла учитель биологии Пискунова О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У СОШ №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826920" y="981000"/>
            <a:ext cx="7561440" cy="27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ип плоские черв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05030101"/>
          <p:cNvPicPr/>
          <p:nvPr/>
        </p:nvPicPr>
        <p:blipFill>
          <a:blip r:embed="rId1"/>
          <a:stretch/>
        </p:blipFill>
        <p:spPr>
          <a:xfrm>
            <a:off x="0" y="1628640"/>
            <a:ext cx="4038480" cy="4897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{C8C85DB4-CE2C-4D7D-AC82-98E8A4AF9129}"/>
          <p:cNvPicPr/>
          <p:nvPr/>
        </p:nvPicPr>
        <p:blipFill>
          <a:blip r:embed="rId2"/>
          <a:stretch/>
        </p:blipFill>
        <p:spPr>
          <a:xfrm>
            <a:off x="5099040" y="1557360"/>
            <a:ext cx="404496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050920" y="0"/>
            <a:ext cx="568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ервная систем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{39172EEE-0A18-4645-B26B-CC97E0511076}"/>
          <p:cNvPicPr/>
          <p:nvPr/>
        </p:nvPicPr>
        <p:blipFill>
          <a:blip r:embed="rId1"/>
          <a:stretch/>
        </p:blipFill>
        <p:spPr>
          <a:xfrm>
            <a:off x="2484360" y="1600200"/>
            <a:ext cx="4967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делительная система планар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{2F42BF14-7365-49C3-9BE9-D2B6744AE12E}"/>
          <p:cNvPicPr/>
          <p:nvPr/>
        </p:nvPicPr>
        <p:blipFill>
          <a:blip r:embed="rId1"/>
          <a:stretch/>
        </p:blipFill>
        <p:spPr>
          <a:xfrm>
            <a:off x="4716360" y="2060640"/>
            <a:ext cx="3814920" cy="396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выделит"/>
          <p:cNvPicPr/>
          <p:nvPr/>
        </p:nvPicPr>
        <p:blipFill>
          <a:blip r:embed="rId2"/>
          <a:stretch/>
        </p:blipFill>
        <p:spPr>
          <a:xfrm>
            <a:off x="250920" y="1989000"/>
            <a:ext cx="3025800" cy="3665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генерация тела планар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з видов плоских червей планария способна полностью регенерировать новую особь из любого участка своего тела. Как показано на рисунке, планарии свойственна переднезадняя полярность, т.е. голова всегда развивается у нее на переднем конце фрагмента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0741_001"/>
          <p:cNvPicPr/>
          <p:nvPr/>
        </p:nvPicPr>
        <p:blipFill>
          <a:blip r:embed="rId1"/>
          <a:stretch/>
        </p:blipFill>
        <p:spPr>
          <a:xfrm>
            <a:off x="1403280" y="1700280"/>
            <a:ext cx="2210040" cy="4271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ип плоские черв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ласс Трематоды (сосальщики) представитель: Печеночный сосальщ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печеночный сосальщик"/>
          <p:cNvPicPr/>
          <p:nvPr/>
        </p:nvPicPr>
        <p:blipFill>
          <a:blip r:embed="rId1"/>
          <a:stretch/>
        </p:blipFill>
        <p:spPr>
          <a:xfrm>
            <a:off x="826920" y="2421000"/>
            <a:ext cx="23767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 Extra Bold"/>
              </a:rPr>
              <a:t>Цикл развития печеночного сосальщ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01_0"/>
          <p:cNvPicPr/>
          <p:nvPr/>
        </p:nvPicPr>
        <p:blipFill>
          <a:blip r:embed="rId1"/>
          <a:stretch/>
        </p:blipFill>
        <p:spPr>
          <a:xfrm>
            <a:off x="468360" y="1628640"/>
            <a:ext cx="3809880" cy="2181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08_03"/>
          <p:cNvPicPr/>
          <p:nvPr/>
        </p:nvPicPr>
        <p:blipFill>
          <a:blip r:embed="rId2"/>
          <a:stretch/>
        </p:blipFill>
        <p:spPr>
          <a:xfrm>
            <a:off x="4284720" y="2924280"/>
            <a:ext cx="431964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икл развития печеночного сосальщ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419640" y="1773360"/>
            <a:ext cx="1726920" cy="1582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728720" cy="230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1332000" y="4724280"/>
            <a:ext cx="1511280" cy="1944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4"/>
          <a:stretch/>
        </p:blipFill>
        <p:spPr>
          <a:xfrm>
            <a:off x="3276720" y="4653000"/>
            <a:ext cx="1584360" cy="1996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5"/>
          <a:stretch/>
        </p:blipFill>
        <p:spPr>
          <a:xfrm>
            <a:off x="5219640" y="4581360"/>
            <a:ext cx="187344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6"/>
          <a:stretch/>
        </p:blipFill>
        <p:spPr>
          <a:xfrm>
            <a:off x="6516720" y="1700280"/>
            <a:ext cx="2303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000"/>
                            </p:stCondLst>
                            <p:childTnLst>
                              <p:par>
                                <p:cTn id="2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Цикл развития печеночного сосальщи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Взрослый паразит в теле кор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Яйца печеночного сосальщ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Свободноплавающая лич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Развитие в теле малого прудов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Личинка с хво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Ц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08_05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395280" y="4869000"/>
            <a:ext cx="835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Многообразие плоских черв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Заражение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Источником заражения является человек. Наибольшую опасность представляют лица, ухаживающие за животными (пастухи, доярки). Возможно участие мух в передаче возбудителя. Яйца цепня бычьего устойчивы во внешней среде, сохраняя жизнеспособность под снегом в течение зимы. Высыхание, высокая температура (выше +30С) и низкая (ниже -30С) температура действуют губительно. 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Человек заражается при употреблении в пищу сырого, полусырого, малосоленого и вяленого мяса, содержащего личинки цепня (финны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8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446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108000" y="1341360"/>
            <a:ext cx="3591000" cy="4824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Внешнее строение бычьего цеп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300"/>
                            </p:stCondLst>
                            <p:childTnLst>
                              <p:par>
                                <p:cTn id="3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30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нутреннее 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рвная система: развита сла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ищеварительная система: всасывает всей поверхностью тела содержимое кишечника организма-хозя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ровеносная система: отсутств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делительная система: протонефри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продуктивная система: гермафроди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gency FB"/>
              </a:rPr>
              <a:t>Взрослый бычий цепень паразитирует в кишечнике человека. Зрелые членики, содержащие яйца, отрываются и с фекалиями поступают наружу. Там они могут попасть на траву, которую поедают коровы. В желудке коровы из яиц выходят личинки, снабженные шестью крючочками. Они выбуравливаются в стенку кишечника и с током крови разносятся ко всем органам. Там они превращаются в финну. В тканях финна вырастает до размеров горошины. Человек заражается яйцами бычьего цепня употребляя в пищу зараженное финнами, плохо прожаренное мясо коровы. В кишечнике из финны выходит цепень, имеющий вид головки с шейкой, от которой начинают нарастать новые членики. Длинна взрослого цепня может достигать нескольких метров.</a:t>
            </a: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812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Взрослый паразит в теле человека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Членики с яйцами бычьего цепня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. Корова с личинками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Личинка с хитиновыми крючьями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Финна в мышцах коровы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755640" y="0"/>
            <a:ext cx="784872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Цикл развития бычьего цепн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1638360" cy="302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1979640" y="2565360"/>
            <a:ext cx="1352520" cy="3952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3564000" y="3284640"/>
            <a:ext cx="1728720" cy="136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4"/>
          <a:stretch/>
        </p:blipFill>
        <p:spPr>
          <a:xfrm>
            <a:off x="5796000" y="4437000"/>
            <a:ext cx="1655640" cy="19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5"/>
          <a:stretch/>
        </p:blipFill>
        <p:spPr>
          <a:xfrm>
            <a:off x="7164360" y="1413000"/>
            <a:ext cx="1639800" cy="2533680"/>
          </a:xfrm>
          <a:prstGeom prst="rect">
            <a:avLst/>
          </a:prstGeom>
          <a:ln w="0">
            <a:noFill/>
          </a:ln>
        </p:spPr>
      </p:pic>
      <p:sp>
        <p:nvSpPr>
          <p:cNvPr id="115" name="WordArt 9"/>
          <p:cNvSpPr txBox="1"/>
          <p:nvPr/>
        </p:nvSpPr>
        <p:spPr>
          <a:xfrm>
            <a:off x="0" y="260280"/>
            <a:ext cx="874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кл развития бычьего цеп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 плоские черви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ласс турбеллярии (ресничные черви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ставитель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лая плана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{F880C97F-EA31-40AA-98DE-F8BD725A099B}"/>
          <p:cNvPicPr/>
          <p:nvPr/>
        </p:nvPicPr>
        <p:blipFill>
          <a:blip r:embed="rId1"/>
          <a:stretch/>
        </p:blipFill>
        <p:spPr>
          <a:xfrm>
            <a:off x="1523880" y="3213000"/>
            <a:ext cx="7620120" cy="277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0" y="5097600"/>
            <a:ext cx="248436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natur224"/>
          <p:cNvPicPr/>
          <p:nvPr/>
        </p:nvPicPr>
        <p:blipFill>
          <a:blip r:embed="rId1"/>
          <a:stretch/>
        </p:blipFill>
        <p:spPr>
          <a:xfrm>
            <a:off x="179280" y="2492280"/>
            <a:ext cx="8964720" cy="436572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395280" y="404640"/>
            <a:ext cx="842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личные виды планари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ария дугезия, глазчатая филлидия, подражающ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евдоцерос, золотистая юнгия. Нижний ряд, слева направо: псевдоцерус джебборум, раздвоенный псевдоцерос (в паре с партнером), тихоокеанская акваплана, парапланоцера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0503020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положение мышц у белой плана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планария"/>
          <p:cNvPicPr/>
          <p:nvPr/>
        </p:nvPicPr>
        <p:blipFill>
          <a:blip r:embed="rId1"/>
          <a:stretch/>
        </p:blipFill>
        <p:spPr>
          <a:xfrm>
            <a:off x="539640" y="1557360"/>
            <a:ext cx="7777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86000" y="188640"/>
            <a:ext cx="50576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усторонняя и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учевая симметрия тел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{EB6E5563-E53A-40E9-9BFF-31F0FE4D1CEC}"/>
          <p:cNvPicPr/>
          <p:nvPr/>
        </p:nvPicPr>
        <p:blipFill>
          <a:blip r:embed="rId1"/>
          <a:stretch/>
        </p:blipFill>
        <p:spPr>
          <a:xfrm>
            <a:off x="395280" y="836640"/>
            <a:ext cx="2951280" cy="582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{0BC698C0-E425-4F15-9EA6-4036752AA46C}"/>
          <p:cNvPicPr/>
          <p:nvPr/>
        </p:nvPicPr>
        <p:blipFill>
          <a:blip r:embed="rId2"/>
          <a:stretch/>
        </p:blipFill>
        <p:spPr>
          <a:xfrm>
            <a:off x="5219640" y="2421000"/>
            <a:ext cx="30225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Organization Chart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cxnSp>
          <p:nvCxnSpPr>
            <p:cNvPr id="59" name="_s1028"/>
            <p:cNvCxnSpPr>
              <a:stCxn id="60" idx="0"/>
              <a:endCxn id="61" idx="2"/>
            </p:cNvCxnSpPr>
            <p:nvPr/>
          </p:nvCxnSpPr>
          <p:spPr>
            <a:xfrm flipV="1" rot="16200000">
              <a:off x="5664600" y="1648080"/>
              <a:ext cx="1371960" cy="3558960"/>
            </a:xfrm>
            <a:prstGeom prst="bentConnector3">
              <a:avLst>
                <a:gd name="adj1" fmla="val 141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29"/>
            <p:cNvCxnSpPr>
              <a:stCxn id="63" idx="0"/>
              <a:endCxn id="61" idx="2"/>
            </p:cNvCxnSpPr>
            <p:nvPr/>
          </p:nvCxnSpPr>
          <p:spPr>
            <a:xfrm flipV="1" rot="16200000">
              <a:off x="4478040" y="2834640"/>
              <a:ext cx="1371960" cy="1186200"/>
            </a:xfrm>
            <a:prstGeom prst="bentConnector3">
              <a:avLst>
                <a:gd name="adj1" fmla="val 141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0"/>
            <p:cNvCxnSpPr>
              <a:stCxn id="65" idx="0"/>
              <a:endCxn id="61" idx="2"/>
            </p:cNvCxnSpPr>
            <p:nvPr/>
          </p:nvCxnSpPr>
          <p:spPr>
            <a:xfrm flipH="1" flipV="1" rot="5400000">
              <a:off x="3292920" y="2835000"/>
              <a:ext cx="1371960" cy="1185480"/>
            </a:xfrm>
            <a:prstGeom prst="bentConnector3">
              <a:avLst>
                <a:gd name="adj1" fmla="val 141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1"/>
            <p:cNvCxnSpPr>
              <a:stCxn id="67" idx="0"/>
              <a:endCxn id="61" idx="2"/>
            </p:cNvCxnSpPr>
            <p:nvPr/>
          </p:nvCxnSpPr>
          <p:spPr>
            <a:xfrm flipH="1" flipV="1" rot="5400000">
              <a:off x="2107800" y="1649880"/>
              <a:ext cx="1371960" cy="3556080"/>
            </a:xfrm>
            <a:prstGeom prst="bentConnector3">
              <a:avLst>
                <a:gd name="adj1" fmla="val 141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032"/>
            <p:cNvSpPr/>
            <p:nvPr/>
          </p:nvSpPr>
          <p:spPr>
            <a:xfrm>
              <a:off x="3555360" y="0"/>
              <a:ext cx="2031840" cy="27424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742480"/>
                <a:gd name="textAreaBottom" fmla="*/ 2643480 h 2742480"/>
              </a:gdLst>
              <a:ahLst/>
              <a:rect l="textAreaLeft" t="textAreaTop" r="textAreaRight" b="textAreaBottom"/>
              <a:pathLst>
                <a:path w="21600" h="29153">
                  <a:moveTo>
                    <a:pt x="3600" y="0"/>
                  </a:moveTo>
                  <a:arcTo wR="3600" hR="3600" stAng="16200000" swAng="-5400000"/>
                  <a:lnTo>
                    <a:pt x="0" y="25553"/>
                  </a:lnTo>
                  <a:arcTo wR="3600" hR="3600" stAng="10800000" swAng="-5400000"/>
                  <a:lnTo>
                    <a:pt x="18000" y="291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Ткан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планар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3"/>
            <p:cNvSpPr/>
            <p:nvPr/>
          </p:nvSpPr>
          <p:spPr>
            <a:xfrm>
              <a:off x="0" y="4113720"/>
              <a:ext cx="2031840" cy="27424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742480"/>
                <a:gd name="textAreaBottom" fmla="*/ 2643480 h 2742480"/>
              </a:gdLst>
              <a:ahLst/>
              <a:rect l="textAreaLeft" t="textAreaTop" r="textAreaRight" b="textAreaBottom"/>
              <a:pathLst>
                <a:path w="21600" h="29153">
                  <a:moveTo>
                    <a:pt x="3600" y="0"/>
                  </a:moveTo>
                  <a:arcTo wR="3600" hR="3600" stAng="16200000" swAng="-5400000"/>
                  <a:lnTo>
                    <a:pt x="0" y="25553"/>
                  </a:lnTo>
                  <a:arcTo wR="3600" hR="3600" stAng="10800000" swAng="-5400000"/>
                  <a:lnTo>
                    <a:pt x="18000" y="291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Покров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4"/>
            <p:cNvSpPr/>
            <p:nvPr/>
          </p:nvSpPr>
          <p:spPr>
            <a:xfrm>
              <a:off x="2370600" y="4113720"/>
              <a:ext cx="2031840" cy="27424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742480"/>
                <a:gd name="textAreaBottom" fmla="*/ 2643480 h 2742480"/>
              </a:gdLst>
              <a:ahLst/>
              <a:rect l="textAreaLeft" t="textAreaTop" r="textAreaRight" b="textAreaBottom"/>
              <a:pathLst>
                <a:path w="21600" h="29153">
                  <a:moveTo>
                    <a:pt x="3600" y="0"/>
                  </a:moveTo>
                  <a:arcTo wR="3600" hR="3600" stAng="16200000" swAng="-5400000"/>
                  <a:lnTo>
                    <a:pt x="0" y="25553"/>
                  </a:lnTo>
                  <a:arcTo wR="3600" hR="3600" stAng="10800000" swAng="-5400000"/>
                  <a:lnTo>
                    <a:pt x="18000" y="291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Мышеч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5"/>
            <p:cNvSpPr/>
            <p:nvPr/>
          </p:nvSpPr>
          <p:spPr>
            <a:xfrm>
              <a:off x="4741200" y="4113720"/>
              <a:ext cx="2031840" cy="27424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742480"/>
                <a:gd name="textAreaBottom" fmla="*/ 2643480 h 2742480"/>
              </a:gdLst>
              <a:ahLst/>
              <a:rect l="textAreaLeft" t="textAreaTop" r="textAreaRight" b="textAreaBottom"/>
              <a:pathLst>
                <a:path w="21600" h="29153">
                  <a:moveTo>
                    <a:pt x="3600" y="0"/>
                  </a:moveTo>
                  <a:arcTo wR="3600" hR="3600" stAng="16200000" swAng="-5400000"/>
                  <a:lnTo>
                    <a:pt x="0" y="25553"/>
                  </a:lnTo>
                  <a:arcTo wR="3600" hR="3600" stAng="10800000" swAng="-5400000"/>
                  <a:lnTo>
                    <a:pt x="18000" y="291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Нерв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6"/>
            <p:cNvSpPr/>
            <p:nvPr/>
          </p:nvSpPr>
          <p:spPr>
            <a:xfrm>
              <a:off x="7111800" y="4113720"/>
              <a:ext cx="2031840" cy="27424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742480"/>
                <a:gd name="textAreaBottom" fmla="*/ 2643480 h 2742480"/>
              </a:gdLst>
              <a:ahLst/>
              <a:rect l="textAreaLeft" t="textAreaTop" r="textAreaRight" b="textAreaBottom"/>
              <a:pathLst>
                <a:path w="21600" h="29153">
                  <a:moveTo>
                    <a:pt x="3600" y="0"/>
                  </a:moveTo>
                  <a:arcTo wR="3600" hR="3600" stAng="16200000" swAng="-5400000"/>
                  <a:lnTo>
                    <a:pt x="0" y="25553"/>
                  </a:lnTo>
                  <a:arcTo wR="3600" hR="3600" stAng="10800000" swAng="-5400000"/>
                  <a:lnTo>
                    <a:pt x="18000" y="291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оеди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те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нутреннее 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плоский червь"/>
          <p:cNvPicPr/>
          <p:nvPr/>
        </p:nvPicPr>
        <p:blipFill>
          <a:blip r:embed="rId1"/>
          <a:stretch/>
        </p:blipFill>
        <p:spPr>
          <a:xfrm>
            <a:off x="539640" y="1268280"/>
            <a:ext cx="7993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07:38:57Z</dcterms:created>
  <dc:creator>Alex</dc:creator>
  <dc:description/>
  <dc:language>en-US</dc:language>
  <cp:lastModifiedBy>Мама</cp:lastModifiedBy>
  <dcterms:modified xsi:type="dcterms:W3CDTF">2010-09-12T19:13:54Z</dcterms:modified>
  <cp:revision>6</cp:revision>
  <dc:subject/>
  <dc:title>Тип плоские черв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d000000000001024140</vt:lpwstr>
  </property>
</Properties>
</file>