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DB4-5954-4D1A-88A6-DBB9431E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B29-DBBE-47B0-A9F9-DEE9A6A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138-C2AC-479A-B5EB-1BFE2814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AEA-D774-4C96-85B1-68357E3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F75-3862-4656-9265-04EFE79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1A3-08C5-4B14-8613-BCC300E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5D1-547C-4FA8-9CC1-F301C28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694-D1C2-4F4F-A4E5-393D4496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7A1-380F-40C2-8F5E-262E13E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D9B-530D-45B1-B710-B68FA8F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4FC-32B0-45CD-AEFA-6A369B7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C2E-BCFE-4639-8C8B-2D74C22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2D3-15B5-4B1E-B108-75A25EA055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Обеспечение качества высшего образования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НЯТИЕ КАЧЕСТВА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ОНЕНТЫ СИСТЕМЫ КАЧЕСТВА ЯЗЫКОВОГО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00 – 2001, 2004 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 Organization for Standardiza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НАРОДНЫЙ СТАНДАРТ КАЧЕСТВА 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Qualit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«Принципы </a:t>
            </a:r>
            <a:r>
              <a:rPr b="0" lang="en-GB" sz="2800" spc="-1" strike="noStrike">
                <a:solidFill>
                  <a:srgbClr val="dfc08d"/>
                </a:solidFill>
                <a:latin typeface="Arial"/>
              </a:rPr>
              <a:t>ISO </a:t>
            </a: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9000, изложенные прямо и без обиняков»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ать свою деятельность на службу клиен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ть лиде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влекать сотруд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оцессуальный подход (планирование деятельности, реализация, мониторинг и анализ результатив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ять системный 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постоянное совершен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 и анализ информации, прежде, чем принимать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с поста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praxiom.com/principles.ht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сударственная оценка (эффективность использования средств налогоплательщиков; ауд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ьная оценка (самоконтроль и профессиональное сообщество; аккреди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ребители (рейтинги общественных организаций, диагностика удовлетворенности обучающихся, работодателей, заказчиков услу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К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ебя: вуз (администрация), потребители услуг (студен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торонних пользователей: открыто для всех; сопоставим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Некоторые подходы к интерпретации понятия </a:t>
            </a:r>
            <a:br>
              <a:rPr sz="2400"/>
            </a:b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«качество образования»</a:t>
            </a:r>
            <a:br>
              <a:rPr sz="2400"/>
            </a:br>
            <a:endParaRPr b="0" lang="en-US" sz="2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яется понятием многомерным, трудно поддающимся опреде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ачество» человека, качество его интеллекта, качество культуры (Панасюк В.П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тегральное свойство, обусловливающее способность педагогической системы удовлетворять существующим и потенциальным потребностям личности и общества, государственным требованиям по подготовке высококвалифицированных специалистов» (Бордовский Г.А., Нестеров А.А., Трапицын С.Ю.,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ие установленным требованиям, нормам, стандартам (Скок Г.Б., Никитина Н.Ш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зменения в учебном процессе и в среде, окружающей обучаемого, которые можно идентифицировать как улучшение знаний, умений и ценностей, приобретаемых обучаемым по завершении определенного этапа» (Солдаткин В.И.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ОКУПНОСТЬ КАЧ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я; стратегический план развития; единство процессов планирования, мониторинга и результ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чество – совокупность характеристик объекта, относящихся к его способности удовлетворять установленные и предполагаемые потребности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оджаспирова Г.М., 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08d"/>
                </a:solidFill>
                <a:latin typeface="Arial"/>
              </a:rPr>
              <a:t>ПОНЯТИЕ КАЧЕСТВА ОБРАЗОВАНИЯ / ПОКАЗАТЕЛИ КАЧЕСТВА ОБРАЗОВАНИЯ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31640" y="1585800"/>
            <a:ext cx="8208720" cy="5011200"/>
            <a:chOff x="431640" y="1585800"/>
            <a:chExt cx="8208720" cy="5011200"/>
          </a:xfrm>
        </p:grpSpPr>
        <p:cxnSp>
          <p:nvCxnSpPr>
            <p:cNvPr id="55" name="_s4121"/>
            <p:cNvCxnSpPr>
              <a:stCxn id="56" idx="0"/>
              <a:endCxn id="57" idx="2"/>
            </p:cNvCxnSpPr>
            <p:nvPr/>
          </p:nvCxnSpPr>
          <p:spPr>
            <a:xfrm flipV="1">
              <a:off x="772848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4119"/>
            <p:cNvCxnSpPr>
              <a:stCxn id="59" idx="0"/>
              <a:endCxn id="60" idx="2"/>
            </p:cNvCxnSpPr>
            <p:nvPr/>
          </p:nvCxnSpPr>
          <p:spPr>
            <a:xfrm flipV="1">
              <a:off x="560016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4117"/>
            <p:cNvCxnSpPr>
              <a:stCxn id="57" idx="0"/>
              <a:endCxn id="62" idx="2"/>
            </p:cNvCxnSpPr>
            <p:nvPr/>
          </p:nvCxnSpPr>
          <p:spPr>
            <a:xfrm flipV="1" rot="16200000">
              <a:off x="5818680" y="1555200"/>
              <a:ext cx="627120" cy="319284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4113"/>
            <p:cNvCxnSpPr>
              <a:stCxn id="64" idx="0"/>
              <a:endCxn id="65" idx="2"/>
            </p:cNvCxnSpPr>
            <p:nvPr/>
          </p:nvCxnSpPr>
          <p:spPr>
            <a:xfrm flipV="1">
              <a:off x="134352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4111"/>
            <p:cNvCxnSpPr>
              <a:stCxn id="67" idx="0"/>
              <a:endCxn id="68" idx="2"/>
            </p:cNvCxnSpPr>
            <p:nvPr/>
          </p:nvCxnSpPr>
          <p:spPr>
            <a:xfrm flipV="1">
              <a:off x="3474000" y="4717440"/>
              <a:ext cx="252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4109"/>
            <p:cNvCxnSpPr>
              <a:stCxn id="60" idx="0"/>
              <a:endCxn id="62" idx="2"/>
            </p:cNvCxnSpPr>
            <p:nvPr/>
          </p:nvCxnSpPr>
          <p:spPr>
            <a:xfrm flipV="1" rot="16200000">
              <a:off x="4754520" y="2619360"/>
              <a:ext cx="627120" cy="106452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4108"/>
            <p:cNvCxnSpPr>
              <a:stCxn id="68" idx="0"/>
              <a:endCxn id="62" idx="2"/>
            </p:cNvCxnSpPr>
            <p:nvPr/>
          </p:nvCxnSpPr>
          <p:spPr>
            <a:xfrm flipH="1" flipV="1" rot="5400000">
              <a:off x="3691440" y="2620440"/>
              <a:ext cx="627120" cy="106236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4107"/>
            <p:cNvCxnSpPr>
              <a:stCxn id="65" idx="0"/>
              <a:endCxn id="62" idx="2"/>
            </p:cNvCxnSpPr>
            <p:nvPr/>
          </p:nvCxnSpPr>
          <p:spPr>
            <a:xfrm flipH="1" flipV="1" rot="5400000">
              <a:off x="2626200" y="1555200"/>
              <a:ext cx="627120" cy="319320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" name="_s4103"/>
            <p:cNvSpPr/>
            <p:nvPr/>
          </p:nvSpPr>
          <p:spPr>
            <a:xfrm>
              <a:off x="3624120" y="15858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fc08d"/>
                  </a:solidFill>
                  <a:latin typeface="Arial"/>
                </a:rPr>
                <a:t>КАЧ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ОБРАЗОВАНИЯ 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ЕГО ПОКАЗАТЕ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104"/>
            <p:cNvSpPr/>
            <p:nvPr/>
          </p:nvSpPr>
          <p:spPr>
            <a:xfrm>
              <a:off x="4316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ЦЕ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105"/>
            <p:cNvSpPr/>
            <p:nvPr/>
          </p:nvSpPr>
          <p:spPr>
            <a:xfrm>
              <a:off x="255960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СЛОВ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106"/>
            <p:cNvSpPr/>
            <p:nvPr/>
          </p:nvSpPr>
          <p:spPr>
            <a:xfrm>
              <a:off x="468792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ОЦЕСС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110"/>
            <p:cNvSpPr/>
            <p:nvPr/>
          </p:nvSpPr>
          <p:spPr>
            <a:xfrm>
              <a:off x="255960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атериально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техническая база, методическое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нформационное обеспечение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учебного процесса: учебные планы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 программы дисциплин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етодические материалы для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обучения и контроля и пр.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112"/>
            <p:cNvSpPr/>
            <p:nvPr/>
          </p:nvSpPr>
          <p:spPr>
            <a:xfrm>
              <a:off x="4316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ПОКАЗАТЕЛИ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О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задает сам ВУЗ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проверяет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достижение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116"/>
            <p:cNvSpPr/>
            <p:nvPr/>
          </p:nvSpPr>
          <p:spPr>
            <a:xfrm>
              <a:off x="68162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ОНЕЧ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118"/>
            <p:cNvSpPr/>
            <p:nvPr/>
          </p:nvSpPr>
          <p:spPr>
            <a:xfrm>
              <a:off x="468792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чебного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сследоват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правлен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оцессов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4120"/>
            <p:cNvSpPr/>
            <p:nvPr/>
          </p:nvSpPr>
          <p:spPr>
            <a:xfrm>
              <a:off x="68162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тогов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дготов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бучающих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Г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зависимо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стиро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06:13Z</dcterms:created>
  <dc:creator>You</dc:creator>
  <dc:description/>
  <dc:language>en-US</dc:language>
  <cp:lastModifiedBy>user</cp:lastModifiedBy>
  <dcterms:modified xsi:type="dcterms:W3CDTF">2010-02-26T12:00:06Z</dcterms:modified>
  <cp:revision>6</cp:revision>
  <dc:subject/>
  <dc:title>Обеспечение качества высшего образования</dc:title>
</cp:coreProperties>
</file>