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772-CA88-47A8-B5C0-8936FF8F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373-33DC-4042-A80A-237CA805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2EE-5A55-48F5-B370-0AEC068E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399-D70C-43F7-912E-B018F565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EB9-B449-41F8-AAD6-CF0F9F81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56B-3039-4CE7-90C8-1F2925EC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645-D5EC-4F9D-8D2A-2AE5CF65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CEF-9CEE-41AF-A50F-EE0696E9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CBF-95B6-4818-8DD5-70D32C2D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3FC-CCDD-4C98-B2DA-3CE17EEF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952-BD07-4A6C-A4F9-F52C2F23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938-2A6E-431B-9EFF-B847D5F5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EBA2-4652-4D36-A681-CC4A090D83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Обеспечение качества высшего образования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НЯТИЕ КАЧЕСТВА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ПОНЕНТЫ СИСТЕМЫ КАЧЕСТВА ЯЗЫКОВОГО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Понятие «качества»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O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000 – 2001, 2004 (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national Organization for Standardizatio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ДУНАРОДНЫЙ СТАНДАРТ КАЧЕСТВА –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tal Qualit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«Принципы </a:t>
            </a:r>
            <a:r>
              <a:rPr b="0" lang="en-GB" sz="2800" spc="-1" strike="noStrike">
                <a:solidFill>
                  <a:srgbClr val="dfc08d"/>
                </a:solidFill>
                <a:latin typeface="Arial"/>
              </a:rPr>
              <a:t>ISO </a:t>
            </a: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9000, изложенные прямо и без обиняков»</a:t>
            </a: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иентировать свою деятельность на службу клиент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ивать лидер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влекать сотруд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ть процессуальный подход (планирование деятельности, реализация, мониторинг и анализ результатив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лять системный под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ощрять постоянное совершенств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ор и анализ информации, прежде, чем принимать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ть с поставщ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ttp://praxiom.com/principles.ht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Понятие «качества»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сударственная оценка (эффективность использования средств налогоплательщиков; ауд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ессиональная оценка (самоконтроль и профессиональное сообщество; аккредит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требители (рейтинги общественных организаций, диагностика удовлетворенности обучающихся, работодателей, заказчиков услу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К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себя: вуз (администрация), потребители услуг (студент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сторонних пользователей: открыто для всех; сопоставим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Некоторые подходы к интерпретации понятия </a:t>
            </a:r>
            <a:br>
              <a:rPr sz="2400"/>
            </a:b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«качество образования»</a:t>
            </a:r>
            <a:br>
              <a:rPr sz="2400"/>
            </a:br>
            <a:endParaRPr b="0" lang="en-US" sz="2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вляется понятием многомерным, трудно поддающимся определе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качество» человека, качество его интеллекта, качество культуры (Панасюк В.П., 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интегральное свойство, обусловливающее способность педагогической системы удовлетворять существующим и потенциальным потребностям личности и общества, государственным требованиям по подготовке высококвалифицированных специалистов» (Бордовский Г.А., Нестеров А.А., Трапицын С.Ю., 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ответствие установленным требованиям, нормам, стандартам (Скок Г.Б., Никитина Н.Ш., 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изменения в учебном процессе и в среде, окружающей обучаемого, которые можно идентифицировать как улучшение знаний, умений и ценностей, приобретаемых обучаемым по завершении определенного этапа» (Солдаткин В.И., 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ОКУПНОСТЬ КАЧЕС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Понятие «качества»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ссия; стратегический план развития; единство процессов планирования, мониторинга и результатив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Качество – совокупность характеристик объекта, относящихся к его способности удовлетворять установленные и предполагаемые потребности»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оджаспирова Г.М., 200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c08d"/>
                </a:solidFill>
                <a:latin typeface="Arial"/>
              </a:rPr>
              <a:t>ПОНЯТИЕ КАЧЕСТВА ОБРАЗОВАНИЯ / ПОКАЗАТЕЛИ КАЧЕСТВА ОБРАЗОВАНИЯ</a:t>
            </a: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31640" y="1585800"/>
            <a:ext cx="8208720" cy="5011200"/>
            <a:chOff x="431640" y="1585800"/>
            <a:chExt cx="8208720" cy="5011200"/>
          </a:xfrm>
        </p:grpSpPr>
        <p:cxnSp>
          <p:nvCxnSpPr>
            <p:cNvPr id="55" name="_s4121"/>
            <p:cNvCxnSpPr>
              <a:stCxn id="56" idx="0"/>
              <a:endCxn id="57" idx="2"/>
            </p:cNvCxnSpPr>
            <p:nvPr/>
          </p:nvCxnSpPr>
          <p:spPr>
            <a:xfrm flipV="1">
              <a:off x="7728480" y="4717440"/>
              <a:ext cx="2880" cy="62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" name="_s4119"/>
            <p:cNvCxnSpPr>
              <a:stCxn id="59" idx="0"/>
              <a:endCxn id="60" idx="2"/>
            </p:cNvCxnSpPr>
            <p:nvPr/>
          </p:nvCxnSpPr>
          <p:spPr>
            <a:xfrm flipV="1">
              <a:off x="5600160" y="4717440"/>
              <a:ext cx="2880" cy="62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4117"/>
            <p:cNvCxnSpPr>
              <a:stCxn id="57" idx="0"/>
              <a:endCxn id="62" idx="2"/>
            </p:cNvCxnSpPr>
            <p:nvPr/>
          </p:nvCxnSpPr>
          <p:spPr>
            <a:xfrm flipV="1" rot="16200000">
              <a:off x="5818680" y="1555200"/>
              <a:ext cx="627120" cy="3192840"/>
            </a:xfrm>
            <a:prstGeom prst="bentConnector3">
              <a:avLst>
                <a:gd name="adj1" fmla="val 204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4113"/>
            <p:cNvCxnSpPr>
              <a:stCxn id="64" idx="0"/>
              <a:endCxn id="65" idx="2"/>
            </p:cNvCxnSpPr>
            <p:nvPr/>
          </p:nvCxnSpPr>
          <p:spPr>
            <a:xfrm flipV="1">
              <a:off x="1343520" y="4717440"/>
              <a:ext cx="2880" cy="62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" name="_s4111"/>
            <p:cNvCxnSpPr>
              <a:stCxn id="67" idx="0"/>
              <a:endCxn id="68" idx="2"/>
            </p:cNvCxnSpPr>
            <p:nvPr/>
          </p:nvCxnSpPr>
          <p:spPr>
            <a:xfrm flipV="1">
              <a:off x="3474000" y="4717440"/>
              <a:ext cx="2520" cy="62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" name="_s4109"/>
            <p:cNvCxnSpPr>
              <a:stCxn id="60" idx="0"/>
              <a:endCxn id="62" idx="2"/>
            </p:cNvCxnSpPr>
            <p:nvPr/>
          </p:nvCxnSpPr>
          <p:spPr>
            <a:xfrm flipV="1" rot="16200000">
              <a:off x="4754520" y="2619360"/>
              <a:ext cx="627120" cy="1064520"/>
            </a:xfrm>
            <a:prstGeom prst="bentConnector3">
              <a:avLst>
                <a:gd name="adj1" fmla="val 204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" name="_s4108"/>
            <p:cNvCxnSpPr>
              <a:stCxn id="68" idx="0"/>
              <a:endCxn id="62" idx="2"/>
            </p:cNvCxnSpPr>
            <p:nvPr/>
          </p:nvCxnSpPr>
          <p:spPr>
            <a:xfrm flipH="1" flipV="1" rot="5400000">
              <a:off x="3691440" y="2620440"/>
              <a:ext cx="627120" cy="1062360"/>
            </a:xfrm>
            <a:prstGeom prst="bentConnector3">
              <a:avLst>
                <a:gd name="adj1" fmla="val 204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" name="_s4107"/>
            <p:cNvCxnSpPr>
              <a:stCxn id="65" idx="0"/>
              <a:endCxn id="62" idx="2"/>
            </p:cNvCxnSpPr>
            <p:nvPr/>
          </p:nvCxnSpPr>
          <p:spPr>
            <a:xfrm flipH="1" flipV="1" rot="5400000">
              <a:off x="2626200" y="1555200"/>
              <a:ext cx="627120" cy="3193200"/>
            </a:xfrm>
            <a:prstGeom prst="bentConnector3">
              <a:avLst>
                <a:gd name="adj1" fmla="val 204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" name="_s4103"/>
            <p:cNvSpPr/>
            <p:nvPr/>
          </p:nvSpPr>
          <p:spPr>
            <a:xfrm>
              <a:off x="3624120" y="15858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fc08d"/>
                  </a:solidFill>
                  <a:latin typeface="Arial"/>
                </a:rPr>
                <a:t>КАЧЕ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dfc08d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dfc08d"/>
                  </a:solidFill>
                  <a:latin typeface="Arial"/>
                </a:rPr>
                <a:t>ОБРАЗОВАНИЯ И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dfc08d"/>
                  </a:solidFill>
                  <a:latin typeface="Arial"/>
                </a:rPr>
                <a:t>ЕГО ПОКАЗАТЕЛ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_s4104"/>
            <p:cNvSpPr/>
            <p:nvPr/>
          </p:nvSpPr>
          <p:spPr>
            <a:xfrm>
              <a:off x="431640" y="34650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АЧЕСТВО 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ЦЕЛЕ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_s4105"/>
            <p:cNvSpPr/>
            <p:nvPr/>
          </p:nvSpPr>
          <p:spPr>
            <a:xfrm>
              <a:off x="2559600" y="34650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АЧЕСТВО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УСЛОВИ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_s4106"/>
            <p:cNvSpPr/>
            <p:nvPr/>
          </p:nvSpPr>
          <p:spPr>
            <a:xfrm>
              <a:off x="4687920" y="34650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АЧЕСТВО 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ПРОЦЕССО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_s4110"/>
            <p:cNvSpPr/>
            <p:nvPr/>
          </p:nvSpPr>
          <p:spPr>
            <a:xfrm>
              <a:off x="2559600" y="53442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ПОКАЗАТЕЛИ: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материально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техническая база, методическое,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информационное обеспечение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учебного процесса: учебные планы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и программы дисциплин,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методические материалы для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обучения и контроля и пр.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_s4112"/>
            <p:cNvSpPr/>
            <p:nvPr/>
          </p:nvSpPr>
          <p:spPr>
            <a:xfrm>
              <a:off x="431640" y="53442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ПОКАЗАТЕЛИ: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ГОС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задает сам ВУЗ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проверяет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достижение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_s4116"/>
            <p:cNvSpPr/>
            <p:nvPr/>
          </p:nvSpPr>
          <p:spPr>
            <a:xfrm>
              <a:off x="6816240" y="34650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АЧЕСТВО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ОНЕЧНОГО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РЕЗУЛЬТАТ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_s4118"/>
            <p:cNvSpPr/>
            <p:nvPr/>
          </p:nvSpPr>
          <p:spPr>
            <a:xfrm>
              <a:off x="4687920" y="53442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ОКАЗАТЕЛИ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учебного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исследователь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Управленче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роцессов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_s4120"/>
            <p:cNvSpPr/>
            <p:nvPr/>
          </p:nvSpPr>
          <p:spPr>
            <a:xfrm>
              <a:off x="6816240" y="53442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ОКАЗАТЕЛИ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тогов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одготов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бучающихс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Г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езависимо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естирова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6:06:13Z</dcterms:created>
  <dc:creator>You</dc:creator>
  <dc:description/>
  <dc:language>en-US</dc:language>
  <cp:lastModifiedBy>user</cp:lastModifiedBy>
  <dcterms:modified xsi:type="dcterms:W3CDTF">2010-02-26T12:00:06Z</dcterms:modified>
  <cp:revision>6</cp:revision>
  <dc:subject/>
  <dc:title>Обеспечение качества высшего образования</dc:title>
</cp:coreProperties>
</file>