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614-7616-4325-8BEE-29308ED3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158-B883-4D52-8A1D-1C1147F2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BFC-7F07-4E2C-814B-C00A3635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0C8-4723-431C-AD63-9A0AE88B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99E-4885-42A7-B7F5-78204E24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D0F-B1F2-4837-9F00-EC037FBE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49D-B8FE-4D5D-B820-284F615C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939-72FD-4E9F-8077-1DAA3328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BD8-F6EB-4998-A657-65C2283F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D0C-5065-4C80-851A-4CA8667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C9D-6C69-490F-B33E-FB8DC252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0B8-8476-4D1E-8DB3-EAD0912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E4E3-E321-4AB0-8DDF-0FBFD9E0F1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Обеспечение качества высшего образования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НЯТИЕ КАЧЕСТВА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ПОНЕНТЫ СИСТЕМЫ КАЧЕСТВА ЯЗЫКОВОГО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Понятие «качества»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O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000 – 2001, 2004 (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ational Organization for Standardiza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ДУНАРОДНЫЙ СТАНДАРТ КАЧЕСТВА –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tal Quality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«Принципы </a:t>
            </a:r>
            <a:r>
              <a:rPr b="0" lang="en-GB" sz="2800" spc="-1" strike="noStrike">
                <a:solidFill>
                  <a:srgbClr val="dfc08d"/>
                </a:solidFill>
                <a:latin typeface="Arial"/>
              </a:rPr>
              <a:t>ISO </a:t>
            </a:r>
            <a:r>
              <a:rPr b="0" lang="ru-RU" sz="2800" spc="-1" strike="noStrike">
                <a:solidFill>
                  <a:srgbClr val="dfc08d"/>
                </a:solidFill>
                <a:latin typeface="Arial"/>
              </a:rPr>
              <a:t>9000, изложенные прямо и без обиняков»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иентировать свою деятельность на службу клиент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ивать лиде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влекать сотруд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оцессуальный подход (планирование деятельности, реализация, мониторинг и анализ результатив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ять системный под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ощрять постоянное совершенств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 и анализ информации, прежде, чем принимать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с поста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ttp://praxiom.com/principles.ht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Понятие «качества»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сударственная оценка (эффективность использования средств налогоплательщиков; ауд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ессиональная оценка (самоконтроль и профессиональное сообщество; аккредит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требители (рейтинги общественных организаций, диагностика удовлетворенности обучающихся, работодателей, заказчиков услу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К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себя: вуз (администрация), потребители услуг (студент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сторонних пользователей: открыто для всех; сопоставим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Некоторые подходы к интерпретации понятия </a:t>
            </a:r>
            <a:br>
              <a:rPr sz="2400"/>
            </a:b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«качество образования»</a:t>
            </a:r>
            <a:br>
              <a:rPr sz="2400"/>
            </a:br>
            <a:endParaRPr b="0" lang="en-US" sz="2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вляется понятием многомерным, трудно поддающимся определ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ачество» человека, качество его интеллекта, качество культуры (Панасюк В.П.,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тегральное свойство, обусловливающее способность педагогической системы удовлетворять существующим и потенциальным потребностям личности и общества, государственным требованиям по подготовке высококвалифицированных специалистов» (Бордовский Г.А., Нестеров А.А., Трапицын С.Ю., 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ие установленным требованиям, нормам, стандартам (Скок Г.Б., Никитина Н.Ш., 2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зменения в учебном процессе и в среде, окружающей обучаемого, которые можно идентифицировать как улучшение знаний, умений и ценностей, приобретаемых обучаемым по завершении определенного этапа» (Солдаткин В.И., 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ОКУПНОСТЬ КАЧ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Понятие «качества»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ссия; стратегический план развития; единство процессов планирования, мониторинга и результатив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Качество – совокупность характеристик объекта, относящихся к его способности удовлетворять установленные и предполагаемые потребности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оджаспирова Г.М., 200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c08d"/>
                </a:solidFill>
                <a:latin typeface="Arial"/>
              </a:rPr>
              <a:t>ПОНЯТИЕ КАЧЕСТВА ОБРАЗОВАНИЯ / ПОКАЗАТЕЛИ КАЧЕСТВА ОБРАЗОВАНИЯ</a:t>
            </a:r>
            <a:endParaRPr b="0" lang="en-US" sz="2800" spc="-1" strike="noStrike">
              <a:solidFill>
                <a:srgbClr val="dfc08d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31640" y="1585800"/>
            <a:ext cx="8208720" cy="5011200"/>
            <a:chOff x="431640" y="1585800"/>
            <a:chExt cx="8208720" cy="5011200"/>
          </a:xfrm>
        </p:grpSpPr>
        <p:cxnSp>
          <p:nvCxnSpPr>
            <p:cNvPr id="55" name="_s4121"/>
            <p:cNvCxnSpPr>
              <a:stCxn id="56" idx="0"/>
              <a:endCxn id="57" idx="2"/>
            </p:cNvCxnSpPr>
            <p:nvPr/>
          </p:nvCxnSpPr>
          <p:spPr>
            <a:xfrm flipV="1">
              <a:off x="7728480" y="4717440"/>
              <a:ext cx="288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" name="_s4119"/>
            <p:cNvCxnSpPr>
              <a:stCxn id="59" idx="0"/>
              <a:endCxn id="60" idx="2"/>
            </p:cNvCxnSpPr>
            <p:nvPr/>
          </p:nvCxnSpPr>
          <p:spPr>
            <a:xfrm flipV="1">
              <a:off x="5600160" y="4717440"/>
              <a:ext cx="288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4117"/>
            <p:cNvCxnSpPr>
              <a:stCxn id="57" idx="0"/>
              <a:endCxn id="62" idx="2"/>
            </p:cNvCxnSpPr>
            <p:nvPr/>
          </p:nvCxnSpPr>
          <p:spPr>
            <a:xfrm flipV="1" rot="16200000">
              <a:off x="5818680" y="1555200"/>
              <a:ext cx="627120" cy="319284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4113"/>
            <p:cNvCxnSpPr>
              <a:stCxn id="64" idx="0"/>
              <a:endCxn id="65" idx="2"/>
            </p:cNvCxnSpPr>
            <p:nvPr/>
          </p:nvCxnSpPr>
          <p:spPr>
            <a:xfrm flipV="1">
              <a:off x="1343520" y="4717440"/>
              <a:ext cx="288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" name="_s4111"/>
            <p:cNvCxnSpPr>
              <a:stCxn id="67" idx="0"/>
              <a:endCxn id="68" idx="2"/>
            </p:cNvCxnSpPr>
            <p:nvPr/>
          </p:nvCxnSpPr>
          <p:spPr>
            <a:xfrm flipV="1">
              <a:off x="3474000" y="4717440"/>
              <a:ext cx="2520" cy="62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4109"/>
            <p:cNvCxnSpPr>
              <a:stCxn id="60" idx="0"/>
              <a:endCxn id="62" idx="2"/>
            </p:cNvCxnSpPr>
            <p:nvPr/>
          </p:nvCxnSpPr>
          <p:spPr>
            <a:xfrm flipV="1" rot="16200000">
              <a:off x="4754520" y="2619360"/>
              <a:ext cx="627120" cy="106452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" name="_s4108"/>
            <p:cNvCxnSpPr>
              <a:stCxn id="68" idx="0"/>
              <a:endCxn id="62" idx="2"/>
            </p:cNvCxnSpPr>
            <p:nvPr/>
          </p:nvCxnSpPr>
          <p:spPr>
            <a:xfrm flipH="1" flipV="1" rot="5400000">
              <a:off x="3691440" y="2620440"/>
              <a:ext cx="627120" cy="106236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4107"/>
            <p:cNvCxnSpPr>
              <a:stCxn id="65" idx="0"/>
              <a:endCxn id="62" idx="2"/>
            </p:cNvCxnSpPr>
            <p:nvPr/>
          </p:nvCxnSpPr>
          <p:spPr>
            <a:xfrm flipH="1" flipV="1" rot="5400000">
              <a:off x="2626200" y="1555200"/>
              <a:ext cx="627120" cy="3193200"/>
            </a:xfrm>
            <a:prstGeom prst="bentConnector3">
              <a:avLst>
                <a:gd name="adj1" fmla="val 204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" name="_s4103"/>
            <p:cNvSpPr/>
            <p:nvPr/>
          </p:nvSpPr>
          <p:spPr>
            <a:xfrm>
              <a:off x="3624120" y="15858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fc08d"/>
                  </a:solidFill>
                  <a:latin typeface="Arial"/>
                </a:rPr>
                <a:t>КАЧЕ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dfc08d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dfc08d"/>
                  </a:solidFill>
                  <a:latin typeface="Arial"/>
                </a:rPr>
                <a:t>ОБРАЗОВАНИЯ И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dfc08d"/>
                  </a:solidFill>
                  <a:latin typeface="Arial"/>
                </a:rPr>
                <a:t>ЕГО ПОКАЗАТЕЛИ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4104"/>
            <p:cNvSpPr/>
            <p:nvPr/>
          </p:nvSpPr>
          <p:spPr>
            <a:xfrm>
              <a:off x="43164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ЦЕЛЕ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4105"/>
            <p:cNvSpPr/>
            <p:nvPr/>
          </p:nvSpPr>
          <p:spPr>
            <a:xfrm>
              <a:off x="255960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УСЛОВИ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_s4106"/>
            <p:cNvSpPr/>
            <p:nvPr/>
          </p:nvSpPr>
          <p:spPr>
            <a:xfrm>
              <a:off x="468792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ПРОЦЕССОВ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4110"/>
            <p:cNvSpPr/>
            <p:nvPr/>
          </p:nvSpPr>
          <p:spPr>
            <a:xfrm>
              <a:off x="255960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ПОКАЗАТЕЛИ: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материально-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техническая база, методическое,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информационное обеспечение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учебного процесса: учебные планы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и программы дисциплин, 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методические материалы для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обучения и контроля и пр.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_s4112"/>
            <p:cNvSpPr/>
            <p:nvPr/>
          </p:nvSpPr>
          <p:spPr>
            <a:xfrm>
              <a:off x="43164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ПОКАЗАТЕЛИ: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ГОС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задает сам ВУЗ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проверяет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достижение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_s4116"/>
            <p:cNvSpPr/>
            <p:nvPr/>
          </p:nvSpPr>
          <p:spPr>
            <a:xfrm>
              <a:off x="6816240" y="34650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АЧЕСТВО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КОНЕЧ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РЕЗУЛЬТАТ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_s4118"/>
            <p:cNvSpPr/>
            <p:nvPr/>
          </p:nvSpPr>
          <p:spPr>
            <a:xfrm>
              <a:off x="468792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ОКАЗАТЕЛИ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учебного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исследовательск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Управленческог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процессов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_s4120"/>
            <p:cNvSpPr/>
            <p:nvPr/>
          </p:nvSpPr>
          <p:spPr>
            <a:xfrm>
              <a:off x="6816240" y="5344200"/>
              <a:ext cx="1824120" cy="1252800"/>
            </a:xfrm>
            <a:prstGeom prst="roundRect">
              <a:avLst>
                <a:gd name="adj" fmla="val 16667"/>
              </a:avLst>
            </a:prstGeom>
            <a:solidFill>
              <a:srgbClr val="8c7b7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КАЗАТЕЛИ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тоговая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одготовк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обучающихс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ИГ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Независимо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естировани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6:06:13Z</dcterms:created>
  <dc:creator>You</dc:creator>
  <dc:description/>
  <dc:language>en-US</dc:language>
  <cp:lastModifiedBy>user</cp:lastModifiedBy>
  <dcterms:modified xsi:type="dcterms:W3CDTF">2010-02-26T12:00:06Z</dcterms:modified>
  <cp:revision>6</cp:revision>
  <dc:subject/>
  <dc:title>Обеспечение качества высшего образования</dc:title>
</cp:coreProperties>
</file>