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C5-6FB8-41BC-A89B-C5B4E30C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2D3-C7B6-452F-8CF8-66A9BEC7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D3A9-3638-4828-B2E0-C767BDE6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46C-CD26-442C-A3A0-EA2682C7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022D-31D1-4E39-B19C-94E640AE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A12C-B8BE-446C-87EA-D6802E90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D8E3-6DF6-4C63-A9E7-B7933BE9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206-DE88-4550-8DFD-2155C3AD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718-1F51-46DF-9CB5-49626A48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6F42-8766-4148-B728-B07E12BC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B976-9651-4FF7-9D19-F0D0591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5BB-F830-4DB8-A0D8-8C96B054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164D-6CEB-4AB1-A6BC-BE02B7BB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2B19-BD85-4A8E-905F-BDF9DC8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E981-C583-4BC3-9A54-02BC9D66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7A8E-F51F-4A8A-A62B-21339F2C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CBF3-D248-43BD-8900-258B68D4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6C6-271E-498D-BE78-8B4D7AF2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FCD-DCA9-4005-B43D-E5A18DA1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8BE-0D75-4A63-912E-83FEC0FC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B2B-E4B1-4527-A415-EC1A1509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D6B-3480-4FAF-80B5-6EF81C9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CB2B-A448-43DD-9F0B-87869FB7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F05-6BE1-4EFE-86A9-14A7E4F8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9B2A-352E-4D27-A415-F19C62B26E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C6D-B3F7-498B-8F64-EC35D7C4861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PIC_0018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02280"/>
          </a:xfrm>
          <a:prstGeom prst="rect">
            <a:avLst/>
          </a:prstGeom>
          <a:ln w="76320">
            <a:solidFill>
              <a:srgbClr val="c16059"/>
            </a:solidFill>
            <a:miter/>
          </a:ln>
        </p:spPr>
      </p:pic>
      <p:sp>
        <p:nvSpPr>
          <p:cNvPr id="194" name="WordArt 6"/>
          <p:cNvSpPr txBox="1"/>
          <p:nvPr/>
        </p:nvSpPr>
        <p:spPr>
          <a:xfrm>
            <a:off x="2340000" y="1197000"/>
            <a:ext cx="5184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зготовл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хватки из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оскутк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284720" y="573408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3630"/>
                </a:solidFill>
                <a:latin typeface="Arial"/>
              </a:rPr>
              <a:t>Счастливая Татьяна Куприян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3630"/>
                </a:solidFill>
                <a:latin typeface="Arial"/>
              </a:rPr>
              <a:t>Учитель Новомихайловской СОШ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РИХВАТКА ВЫПОЛНЕННАЯ ИЗ ПОЛОС ТКАНИ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3" name="Picture 11" descr="PIC_0005"/>
          <p:cNvPicPr/>
          <p:nvPr/>
        </p:nvPicPr>
        <p:blipFill>
          <a:blip r:embed="rId1"/>
          <a:stretch/>
        </p:blipFill>
        <p:spPr>
          <a:xfrm>
            <a:off x="571680" y="1571760"/>
            <a:ext cx="3373200" cy="449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34" name="Picture 10" descr="PIC_0021"/>
          <p:cNvPicPr/>
          <p:nvPr/>
        </p:nvPicPr>
        <p:blipFill>
          <a:blip r:embed="rId2"/>
          <a:stretch/>
        </p:blipFill>
        <p:spPr>
          <a:xfrm>
            <a:off x="4154400" y="1598760"/>
            <a:ext cx="3373560" cy="44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ЮНЫЕ МАСТЕРИЦ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Судовская Елена, Менкаева Эльмира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Глушакова Евгения, Петракова Ольг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9" descr="PIC_0023"/>
          <p:cNvPicPr/>
          <p:nvPr/>
        </p:nvPicPr>
        <p:blipFill>
          <a:blip r:embed="rId1"/>
          <a:stretch/>
        </p:blipFill>
        <p:spPr>
          <a:xfrm>
            <a:off x="250920" y="2637000"/>
            <a:ext cx="7273800" cy="3921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ВЫСТАВКА РАБОТ УЧАЩИХС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«ВОЛШЕБНЫЙ ЛОСКУТОК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9" descr="PIC_0039"/>
          <p:cNvPicPr/>
          <p:nvPr/>
        </p:nvPicPr>
        <p:blipFill>
          <a:blip r:embed="rId1"/>
          <a:stretch/>
        </p:blipFill>
        <p:spPr>
          <a:xfrm>
            <a:off x="250920" y="1844640"/>
            <a:ext cx="7200720" cy="458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3456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ихватки служат для предохране-ния руки от ожогов при пользовании горячими предметам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шаковой Евген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7" descr="PIC_0013"/>
          <p:cNvPicPr/>
          <p:nvPr/>
        </p:nvPicPr>
        <p:blipFill>
          <a:blip r:embed="rId1"/>
          <a:stretch/>
        </p:blipFill>
        <p:spPr>
          <a:xfrm>
            <a:off x="3708360" y="765000"/>
            <a:ext cx="3949920" cy="5289840"/>
          </a:xfrm>
          <a:prstGeom prst="rect">
            <a:avLst/>
          </a:prstGeom>
          <a:ln w="5724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верхняя (декоративная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лоизолирующий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обратная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сторона прихватки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лой  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 (изнаночная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(прокладка)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4b9c0"/>
                </a:solidFill>
                <a:latin typeface="Arial"/>
              </a:rPr>
              <a:t>сторона прихватки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Picture 4" descr="PIC_0032"/>
          <p:cNvPicPr/>
          <p:nvPr/>
        </p:nvPicPr>
        <p:blipFill>
          <a:blip r:embed="rId1"/>
          <a:stretch/>
        </p:blipFill>
        <p:spPr>
          <a:xfrm>
            <a:off x="1042920" y="1989000"/>
            <a:ext cx="5996160" cy="449748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00" name="Line 11"/>
          <p:cNvSpPr/>
          <p:nvPr/>
        </p:nvSpPr>
        <p:spPr>
          <a:xfrm flipH="1" flipV="1">
            <a:off x="1186920" y="1125000"/>
            <a:ext cx="1584360" cy="259092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 flipH="1" flipV="1">
            <a:off x="3851280" y="1341360"/>
            <a:ext cx="216000" cy="251928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5940360" y="1413000"/>
            <a:ext cx="144360" cy="2808000"/>
          </a:xfrm>
          <a:prstGeom prst="line">
            <a:avLst/>
          </a:prstGeom>
          <a:ln w="7632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ИЗГОТОВЛЕНИЕ ВЕРХНЕГО СЛОЯ ПРИХВАТ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2288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резаем 12 квадратов размерами 8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х8 с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Заутюживае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прямоугольники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и  треугольник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  <a:ea typeface="Arial"/>
              </a:rPr>
              <a:t>Складываем треугольники ещё раз и снова заутюживае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Picture 4" descr="PIC_0023"/>
          <p:cNvPicPr/>
          <p:nvPr/>
        </p:nvPicPr>
        <p:blipFill>
          <a:blip r:embed="rId1"/>
          <a:stretch/>
        </p:blipFill>
        <p:spPr>
          <a:xfrm>
            <a:off x="3564000" y="1773360"/>
            <a:ext cx="4194000" cy="431964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06" name="Line 6"/>
          <p:cNvSpPr/>
          <p:nvPr/>
        </p:nvSpPr>
        <p:spPr>
          <a:xfrm>
            <a:off x="6300720" y="220500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7"/>
          <p:cNvSpPr/>
          <p:nvPr/>
        </p:nvSpPr>
        <p:spPr>
          <a:xfrm flipH="1">
            <a:off x="3203640" y="1916280"/>
            <a:ext cx="3024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8"/>
          <p:cNvSpPr/>
          <p:nvPr/>
        </p:nvSpPr>
        <p:spPr>
          <a:xfrm flipH="1">
            <a:off x="2771640" y="3141720"/>
            <a:ext cx="216072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2771280" y="3716280"/>
            <a:ext cx="23036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3347640" y="5157720"/>
            <a:ext cx="57636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3348000" y="5661000"/>
            <a:ext cx="34560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77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По периметру основы прикалываем треугольники и пристрачиваем их к основе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4" descr="PIC_0028"/>
          <p:cNvPicPr/>
          <p:nvPr/>
        </p:nvPicPr>
        <p:blipFill>
          <a:blip r:embed="rId1"/>
          <a:stretch/>
        </p:blipFill>
        <p:spPr>
          <a:xfrm>
            <a:off x="900000" y="1773360"/>
            <a:ext cx="6048360" cy="486072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PIC_0032"/>
          <p:cNvPicPr/>
          <p:nvPr/>
        </p:nvPicPr>
        <p:blipFill>
          <a:blip r:embed="rId1"/>
          <a:stretch/>
        </p:blipFill>
        <p:spPr>
          <a:xfrm>
            <a:off x="2484360" y="476280"/>
            <a:ext cx="3384720" cy="253836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3213000"/>
            <a:ext cx="7386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Разложить на ровной поверхности подкладочную ткань лицевой стороной вниз и расправить её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ложить на подкладочную ткань прокладк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ложить лоскутное полотно на прокладочную ткань лицевой стороной вверх. Расправить каждый сло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метать все три слоя прямыми смёточными стежкам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точнить соответствие размерам и равенство противоположных сторон издел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Arial"/>
              </a:rPr>
              <a:t>ИЗГОТОВЛЕНИЕ ПРИХВАТОК ИЗ ПОЛОС ПРОИЗВОЛЬНОЙ ФОР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7" name="Picture 9" descr="PIC_0017"/>
          <p:cNvPicPr/>
          <p:nvPr/>
        </p:nvPicPr>
        <p:blipFill>
          <a:blip r:embed="rId1"/>
          <a:stretch/>
        </p:blipFill>
        <p:spPr>
          <a:xfrm>
            <a:off x="623880" y="1598760"/>
            <a:ext cx="3227400" cy="2261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18" name="Picture 11" descr="PIC_0018"/>
          <p:cNvPicPr/>
          <p:nvPr/>
        </p:nvPicPr>
        <p:blipFill>
          <a:blip r:embed="rId2"/>
          <a:stretch/>
        </p:blipFill>
        <p:spPr>
          <a:xfrm>
            <a:off x="4211640" y="1598760"/>
            <a:ext cx="3240000" cy="2261880"/>
          </a:xfrm>
          <a:prstGeom prst="rect">
            <a:avLst/>
          </a:prstGeom>
          <a:ln w="57240">
            <a:solidFill>
              <a:srgbClr val="2f1311"/>
            </a:solidFill>
            <a:miter/>
          </a:ln>
        </p:spPr>
      </p:pic>
      <p:pic>
        <p:nvPicPr>
          <p:cNvPr id="219" name="Picture 13" descr="PIC_0029"/>
          <p:cNvPicPr/>
          <p:nvPr/>
        </p:nvPicPr>
        <p:blipFill>
          <a:blip r:embed="rId3"/>
          <a:stretch/>
        </p:blipFill>
        <p:spPr>
          <a:xfrm>
            <a:off x="611280" y="4076640"/>
            <a:ext cx="3228840" cy="2422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WordArt 17"/>
          <p:cNvSpPr txBox="1"/>
          <p:nvPr/>
        </p:nvSpPr>
        <p:spPr>
          <a:xfrm>
            <a:off x="3492360" y="3213000"/>
            <a:ext cx="1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WordArt 18"/>
          <p:cNvSpPr txBox="1"/>
          <p:nvPr/>
        </p:nvSpPr>
        <p:spPr>
          <a:xfrm>
            <a:off x="6948360" y="31417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9"/>
          <p:cNvSpPr txBox="1"/>
          <p:nvPr/>
        </p:nvSpPr>
        <p:spPr>
          <a:xfrm>
            <a:off x="6948360" y="5661000"/>
            <a:ext cx="23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" name="Picture 22" descr="PIC_0027"/>
          <p:cNvPicPr/>
          <p:nvPr/>
        </p:nvPicPr>
        <p:blipFill>
          <a:blip r:embed="rId10"/>
          <a:stretch/>
        </p:blipFill>
        <p:spPr>
          <a:xfrm>
            <a:off x="4211640" y="4076640"/>
            <a:ext cx="3240000" cy="237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4" name="WordArt 23"/>
          <p:cNvSpPr txBox="1"/>
          <p:nvPr/>
        </p:nvSpPr>
        <p:spPr>
          <a:xfrm>
            <a:off x="3419640" y="5805360"/>
            <a:ext cx="22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4"/>
          <p:cNvSpPr txBox="1"/>
          <p:nvPr/>
        </p:nvSpPr>
        <p:spPr>
          <a:xfrm>
            <a:off x="7020000" y="5734080"/>
            <a:ext cx="21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Менкаевой Эльми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7" name="Picture 13" descr="PIC_0030"/>
          <p:cNvPicPr/>
          <p:nvPr/>
        </p:nvPicPr>
        <p:blipFill>
          <a:blip r:embed="rId1"/>
          <a:stretch/>
        </p:blipFill>
        <p:spPr>
          <a:xfrm>
            <a:off x="395280" y="2060640"/>
            <a:ext cx="3384720" cy="455760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pic>
        <p:nvPicPr>
          <p:cNvPr id="228" name="Picture 15" descr="PIC_0017"/>
          <p:cNvPicPr/>
          <p:nvPr/>
        </p:nvPicPr>
        <p:blipFill>
          <a:blip r:embed="rId2"/>
          <a:stretch/>
        </p:blipFill>
        <p:spPr>
          <a:xfrm>
            <a:off x="4284720" y="2060640"/>
            <a:ext cx="3103560" cy="455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Работа Петраковой Ольги, выполненная из полос ткан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0" name="Picture 7" descr="PIC_0023"/>
          <p:cNvPicPr/>
          <p:nvPr/>
        </p:nvPicPr>
        <p:blipFill>
          <a:blip r:embed="rId1"/>
          <a:stretch/>
        </p:blipFill>
        <p:spPr>
          <a:xfrm>
            <a:off x="4032360" y="1700280"/>
            <a:ext cx="3617640" cy="4681440"/>
          </a:xfrm>
          <a:prstGeom prst="rect">
            <a:avLst/>
          </a:prstGeom>
          <a:ln w="76320">
            <a:solidFill>
              <a:srgbClr val="2f1311"/>
            </a:solidFill>
            <a:miter/>
          </a:ln>
        </p:spPr>
      </p:pic>
      <p:pic>
        <p:nvPicPr>
          <p:cNvPr id="231" name="Picture 10" descr="PIC_0006"/>
          <p:cNvPicPr/>
          <p:nvPr/>
        </p:nvPicPr>
        <p:blipFill>
          <a:blip r:embed="rId2"/>
          <a:stretch/>
        </p:blipFill>
        <p:spPr>
          <a:xfrm>
            <a:off x="250920" y="1700280"/>
            <a:ext cx="3529080" cy="468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51:59Z</dcterms:created>
  <dc:creator>Alex</dc:creator>
  <dc:description/>
  <dc:language>en-US</dc:language>
  <cp:lastModifiedBy>tat</cp:lastModifiedBy>
  <dcterms:modified xsi:type="dcterms:W3CDTF">2011-03-30T11:03:22Z</dcterms:modified>
  <cp:revision>11</cp:revision>
  <dc:subject/>
  <dc:title>ИЗГОТОВЛЕНИЕ ПРИХВАТКИ ИЗ ЛОСКУТКОВ</dc:title>
</cp:coreProperties>
</file>