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6F1-D11A-4972-B93D-0FC30955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F0-9472-489B-B806-B49AADF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B20-A47B-4306-A1F8-A172B019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260-4AF1-4A8B-80C7-D9ED02AA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91B9-508A-482C-BF0D-626CF064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515D-CB77-4B4D-A8E7-813616FB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F5F-5CDE-413F-9C5B-5EC90478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A9C-EF9D-4C2A-98C2-F5A48D1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A6F5-3217-4650-A75F-556C38DA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C91D-C283-4ADA-ADE4-AB0D6C0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B81E-C5B3-4DB6-B026-FDAF952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831-029C-41E9-ABD7-406E8BB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DC2-B31E-4B4E-955E-26ED478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DA00-5A34-4D1B-8A3D-22D58AB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35C-18A7-45C7-A4A2-37E5C93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4CD2-7FE5-4C37-86CA-5A39046F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FC28-328C-4D32-9B5F-BF44629D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7A8-DDA0-4CB5-B389-3D6B674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DF3-6F3A-4D2B-B615-D02192B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947-945A-4493-BE13-C15CE21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65A-B58A-473F-A89B-9F04603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D13-18DB-4895-84F2-504A57A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EB4-495B-4736-9069-95A5B11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08F-E6DE-4520-B3DC-CD77A10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8168-3F61-4FA5-9D69-6F944A21A8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E08-EDE3-479E-AE38-69B255EF2CB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PIC_0018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02280"/>
          </a:xfrm>
          <a:prstGeom prst="rect">
            <a:avLst/>
          </a:prstGeom>
          <a:ln w="76320">
            <a:solidFill>
              <a:srgbClr val="c16059"/>
            </a:solidFill>
            <a:miter/>
          </a:ln>
        </p:spPr>
      </p:pic>
      <p:sp>
        <p:nvSpPr>
          <p:cNvPr id="194" name="WordArt 6"/>
          <p:cNvSpPr txBox="1"/>
          <p:nvPr/>
        </p:nvSpPr>
        <p:spPr>
          <a:xfrm>
            <a:off x="2340000" y="1197000"/>
            <a:ext cx="5184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гото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хватки из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оскут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284720" y="57340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Счастливая Татьяна Куприян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Учитель Новомихайловской СОШ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РИХВАТКА ВЫПОЛНЕННАЯ ИЗ ПОЛОС ТКАН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11" descr="PIC_0005"/>
          <p:cNvPicPr/>
          <p:nvPr/>
        </p:nvPicPr>
        <p:blipFill>
          <a:blip r:embed="rId1"/>
          <a:stretch/>
        </p:blipFill>
        <p:spPr>
          <a:xfrm>
            <a:off x="571680" y="1571760"/>
            <a:ext cx="3373200" cy="449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4" name="Picture 10" descr="PIC_0021"/>
          <p:cNvPicPr/>
          <p:nvPr/>
        </p:nvPicPr>
        <p:blipFill>
          <a:blip r:embed="rId2"/>
          <a:stretch/>
        </p:blipFill>
        <p:spPr>
          <a:xfrm>
            <a:off x="4154400" y="1598760"/>
            <a:ext cx="3373560" cy="44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ЮНЫЕ МАСТЕР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Судовская Елена, Менкаева Эльми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Глушакова Евгения, Петракова Ольг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9" descr="PIC_0023"/>
          <p:cNvPicPr/>
          <p:nvPr/>
        </p:nvPicPr>
        <p:blipFill>
          <a:blip r:embed="rId1"/>
          <a:stretch/>
        </p:blipFill>
        <p:spPr>
          <a:xfrm>
            <a:off x="250920" y="2637000"/>
            <a:ext cx="7273800" cy="3921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ВЫСТАВКА РАБОТ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«ВОЛШЕБНЫЙ ЛОСКУТО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9" descr="PIC_0039"/>
          <p:cNvPicPr/>
          <p:nvPr/>
        </p:nvPicPr>
        <p:blipFill>
          <a:blip r:embed="rId1"/>
          <a:stretch/>
        </p:blipFill>
        <p:spPr>
          <a:xfrm>
            <a:off x="250920" y="1844640"/>
            <a:ext cx="7200720" cy="458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ихватки служат для предохране-ния руки от ожогов при пользовании горячими предмет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шаковой Евген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7" descr="PIC_0013"/>
          <p:cNvPicPr/>
          <p:nvPr/>
        </p:nvPicPr>
        <p:blipFill>
          <a:blip r:embed="rId1"/>
          <a:stretch/>
        </p:blipFill>
        <p:spPr>
          <a:xfrm>
            <a:off x="3708360" y="765000"/>
            <a:ext cx="3949920" cy="528984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верхняя (декоративная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лоизолирующий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обратная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сторона прихватки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ой 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 (изнаночная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(прокладка)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сторона прихватки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PIC_0032"/>
          <p:cNvPicPr/>
          <p:nvPr/>
        </p:nvPicPr>
        <p:blipFill>
          <a:blip r:embed="rId1"/>
          <a:stretch/>
        </p:blipFill>
        <p:spPr>
          <a:xfrm>
            <a:off x="1042920" y="1989000"/>
            <a:ext cx="5996160" cy="449748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0" name="Line 11"/>
          <p:cNvSpPr/>
          <p:nvPr/>
        </p:nvSpPr>
        <p:spPr>
          <a:xfrm flipH="1" flipV="1">
            <a:off x="1186920" y="1125000"/>
            <a:ext cx="1584360" cy="259092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 flipH="1" flipV="1">
            <a:off x="3851280" y="1341360"/>
            <a:ext cx="216000" cy="251928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5940360" y="1413000"/>
            <a:ext cx="144360" cy="280800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ЗГОТОВЛЕНИЕ ВЕРХНЕГО СЛОЯ ПРИХВАТ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228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резаем 12 квадратов размерами 8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х8 с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Заутюжива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прямоугольники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и  треугольни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Складываем треугольники ещё раз и снова заутюжива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PIC_0023"/>
          <p:cNvPicPr/>
          <p:nvPr/>
        </p:nvPicPr>
        <p:blipFill>
          <a:blip r:embed="rId1"/>
          <a:stretch/>
        </p:blipFill>
        <p:spPr>
          <a:xfrm>
            <a:off x="3564000" y="1773360"/>
            <a:ext cx="4194000" cy="43196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6" name="Line 6"/>
          <p:cNvSpPr/>
          <p:nvPr/>
        </p:nvSpPr>
        <p:spPr>
          <a:xfrm>
            <a:off x="6300720" y="22050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 flipH="1">
            <a:off x="3203640" y="1916280"/>
            <a:ext cx="3024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 flipH="1">
            <a:off x="2771640" y="3141720"/>
            <a:ext cx="2160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2771280" y="3716280"/>
            <a:ext cx="2303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3347640" y="515772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3348000" y="5661000"/>
            <a:ext cx="3456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 периметру основы прикалываем треугольники и пристрачиваем их к основ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4" descr="PIC_0028"/>
          <p:cNvPicPr/>
          <p:nvPr/>
        </p:nvPicPr>
        <p:blipFill>
          <a:blip r:embed="rId1"/>
          <a:stretch/>
        </p:blipFill>
        <p:spPr>
          <a:xfrm>
            <a:off x="900000" y="1773360"/>
            <a:ext cx="6048360" cy="486072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IC_0032"/>
          <p:cNvPicPr/>
          <p:nvPr/>
        </p:nvPicPr>
        <p:blipFill>
          <a:blip r:embed="rId1"/>
          <a:stretch/>
        </p:blipFill>
        <p:spPr>
          <a:xfrm>
            <a:off x="2484360" y="476280"/>
            <a:ext cx="3384720" cy="253836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321300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Разложить на ровной поверхности подкладочную ткань лицевой стороной вниз и расправить её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на подкладочную ткань проклад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лоскутное полотно на прокладочную ткань лицевой стороной вверх. Расправить каждый сл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метать все три слоя прямыми смёточными стежк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точнить соответствие размерам и равенство противоположных сторон издел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ИЗГОТОВЛЕНИЕ ПРИХВАТОК ИЗ ПОЛОС ПРОИЗВОЛЬНОЙ ФОР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9" descr="PIC_0017"/>
          <p:cNvPicPr/>
          <p:nvPr/>
        </p:nvPicPr>
        <p:blipFill>
          <a:blip r:embed="rId1"/>
          <a:stretch/>
        </p:blipFill>
        <p:spPr>
          <a:xfrm>
            <a:off x="623880" y="1598760"/>
            <a:ext cx="3227400" cy="226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8" name="Picture 11" descr="PIC_0018"/>
          <p:cNvPicPr/>
          <p:nvPr/>
        </p:nvPicPr>
        <p:blipFill>
          <a:blip r:embed="rId2"/>
          <a:stretch/>
        </p:blipFill>
        <p:spPr>
          <a:xfrm>
            <a:off x="4211640" y="1598760"/>
            <a:ext cx="3240000" cy="226188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  <p:pic>
        <p:nvPicPr>
          <p:cNvPr id="219" name="Picture 13" descr="PIC_0029"/>
          <p:cNvPicPr/>
          <p:nvPr/>
        </p:nvPicPr>
        <p:blipFill>
          <a:blip r:embed="rId3"/>
          <a:stretch/>
        </p:blipFill>
        <p:spPr>
          <a:xfrm>
            <a:off x="611280" y="4076640"/>
            <a:ext cx="3228840" cy="2422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WordArt 17"/>
          <p:cNvSpPr txBox="1"/>
          <p:nvPr/>
        </p:nvSpPr>
        <p:spPr>
          <a:xfrm>
            <a:off x="3492360" y="3213000"/>
            <a:ext cx="1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6948360" y="31417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6948360" y="566100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22" descr="PIC_0027"/>
          <p:cNvPicPr/>
          <p:nvPr/>
        </p:nvPicPr>
        <p:blipFill>
          <a:blip r:embed="rId10"/>
          <a:stretch/>
        </p:blipFill>
        <p:spPr>
          <a:xfrm>
            <a:off x="4211640" y="4076640"/>
            <a:ext cx="3240000" cy="23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4" name="WordArt 23"/>
          <p:cNvSpPr txBox="1"/>
          <p:nvPr/>
        </p:nvSpPr>
        <p:spPr>
          <a:xfrm>
            <a:off x="3419640" y="5805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7020000" y="5734080"/>
            <a:ext cx="2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Менкаевой Эльми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13" descr="PIC_0030"/>
          <p:cNvPicPr/>
          <p:nvPr/>
        </p:nvPicPr>
        <p:blipFill>
          <a:blip r:embed="rId1"/>
          <a:stretch/>
        </p:blipFill>
        <p:spPr>
          <a:xfrm>
            <a:off x="395280" y="2060640"/>
            <a:ext cx="3384720" cy="455760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28" name="Picture 15" descr="PIC_0017"/>
          <p:cNvPicPr/>
          <p:nvPr/>
        </p:nvPicPr>
        <p:blipFill>
          <a:blip r:embed="rId2"/>
          <a:stretch/>
        </p:blipFill>
        <p:spPr>
          <a:xfrm>
            <a:off x="4284720" y="2060640"/>
            <a:ext cx="3103560" cy="455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Работа Петраковой Ольги, выполненная из полос ткан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7" descr="PIC_0023"/>
          <p:cNvPicPr/>
          <p:nvPr/>
        </p:nvPicPr>
        <p:blipFill>
          <a:blip r:embed="rId1"/>
          <a:stretch/>
        </p:blipFill>
        <p:spPr>
          <a:xfrm>
            <a:off x="4032360" y="1700280"/>
            <a:ext cx="3617640" cy="46814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31" name="Picture 10" descr="PIC_0006"/>
          <p:cNvPicPr/>
          <p:nvPr/>
        </p:nvPicPr>
        <p:blipFill>
          <a:blip r:embed="rId2"/>
          <a:stretch/>
        </p:blipFill>
        <p:spPr>
          <a:xfrm>
            <a:off x="250920" y="1700280"/>
            <a:ext cx="3529080" cy="468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51:59Z</dcterms:created>
  <dc:creator>Alex</dc:creator>
  <dc:description/>
  <dc:language>en-US</dc:language>
  <cp:lastModifiedBy>tat</cp:lastModifiedBy>
  <dcterms:modified xsi:type="dcterms:W3CDTF">2011-03-30T11:03:22Z</dcterms:modified>
  <cp:revision>11</cp:revision>
  <dc:subject/>
  <dc:title>ИЗГОТОВЛЕНИЕ ПРИХВАТКИ ИЗ ЛОСКУТКОВ</dc:title>
</cp:coreProperties>
</file>