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C3A-CD23-49C2-AE82-048C0689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6AB-0BD4-4E95-83C6-1417445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1059E-7381-4143-BBDF-395ADBAF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F4E4-E59E-4396-8447-C91BB38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AE09-899A-49E0-91CB-C36629C1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3D9EB-FB6E-428A-87DB-89715B7E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5BD96-8634-4F8F-B6E9-9009AD1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1440F-9B40-4F0E-838B-137FC151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CA912-7065-42D6-A303-E85C288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4694A-656B-4CF0-AC78-010E70A9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D014F-5C57-41C4-B933-C5CDFBC0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7FD-3EEC-4DEA-AD31-FDDDD954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833-3AB3-4B45-9A98-8C0BB003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84A3-9287-44A1-8675-89A1E095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D15D-DDE8-4CA7-90C2-F9303ACF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359E-47B4-4962-B800-2CCC12B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DD1C-10D6-4ADE-9062-8E419B8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5CE-1627-458F-AD6D-BC1E4EF4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C38-0CD3-4DAA-8DF6-609957C5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74FD-7181-4C70-9EA2-E45C3E7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07C-8AE8-4C72-A045-DF99DD2C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C47-B7C5-47DC-BDEB-7A4B73F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9A6E-F2F5-4722-B239-80A0D0E1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ED48-D474-4530-B836-EF0ABFF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0FDE-5100-4461-848B-8AAB9D98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9CF1-595A-4FE2-9273-296F5C6A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79D6-4224-46FD-911D-9187B3D6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CF32-4ADB-41A2-9C50-469865EF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D84B-847C-4D59-84FD-50C88952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5841-A3A1-467B-8751-66448DF0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FB23-F348-41BD-88E1-0DF29C56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8B0-0286-4F54-B6ED-3187893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9097-D098-4B8A-8DE8-16A63B87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8911-71DC-4F47-91C7-0495FCE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28DA-7EA1-4C68-995F-9770F9F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4765-0F84-4615-A78D-6DBB7CB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9577-1425-482F-9C4A-36B229B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E234-424E-4B53-9CD2-731A9740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0F1B-283F-4B67-88BB-FAECA6F3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D0B9-8820-4DDD-9BA1-4D5DD44E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1C06-693D-4E4C-B7D9-3EF6729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4504-A2CD-49A1-8ACA-1BD594E8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730-C2B5-4526-9EC1-3624A93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1F2F-0AB8-4E79-990C-37E6BD1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6241-6DFF-4C19-AF89-6DED8B55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A8AD-0F2C-4E0E-9265-74B8141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CBC3-6A8F-4AF3-B72E-B2B1E14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17EB-82ED-4EC1-B928-27525B9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CDF6-4B77-4F0E-8371-8BF0027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4B41-C6E6-4498-A87D-75B668D3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17FC-CE42-4735-B277-C293B665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79C8-9A9A-4763-B83D-8E6239D9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5584-4341-47B8-AB3A-047FC28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1AD-4D7C-4D89-A3C7-7AC18FAF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65E2-51E7-48C4-8985-8C6AB631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231F-39DA-4638-8A14-FDE2F1C0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BB0A-860C-4AC2-97F6-003F20C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2EF8-1150-48B1-89B4-E23DC2F3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A301-8D3D-46E6-A95F-A03C6AD1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C4A5C-29A1-4DAF-B82F-4103856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67DBB-8369-48B5-93A2-9732B88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865F-3A7F-423E-BE39-CE06566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0ED7-16E7-4F70-96C0-5F408A76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79EB3-3B64-4D2B-AC7D-38598E51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FAC-9A98-41EB-B997-09353B93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9A5A-A91A-4531-8021-BA9E18C0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90392-1636-439C-BA54-B3117748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B610-0900-4D5C-ADF8-A6DACE9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77A4A-AC31-4E97-BE2A-CA72587C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CBE7-F2A7-4497-8C7F-0E90D283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54B5-DFBC-4C38-9375-1B3CC068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263A7-69C9-4F4E-8C64-A78E814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3805A-D5C0-442C-92B3-366F6D4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B722-72EB-4A5E-AE1A-014D0CD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200A-B58C-4100-84BE-EF8600D9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930-C0A9-4C7F-A5C0-C4F17A8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D68F-C33C-440E-B18D-24F6650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D7DE6-0E43-4A75-9506-F8D019B7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06DB9-73AA-4D93-BB9B-069E1D8B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86487-CC08-4C72-B28A-7730F4A5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07B9-06CC-491E-AE38-42C102B4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3108-0E10-4243-AF67-B9D8340E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D6F7-94E2-4CED-8547-0F3502DD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6AFFA-6F49-4F52-A310-78C5013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4E208-777A-41EC-AAF6-045A5A22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CE6B-FF9E-46FD-8E17-5B7C1359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1B3-1F08-4F8C-A8C7-A827DBAD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B1FAC-51DD-412E-BA3F-73E8BBF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D555-BC02-491D-B9C7-47513D85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08871-16B8-4C8D-B263-05CF73A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E1BF-FE35-44C3-9DEE-87187753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B02FB-1327-45F7-9606-784BD2E1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9A22-5D37-4615-A331-A83538D1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55A6-5D8E-43FE-B47D-CE624D28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E18A-2C01-4E0B-A8BB-238B0CB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A9DD1-446A-46B2-8957-55C1475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9BA4-745F-4CF1-8FA5-8B20678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555-CC92-4F8C-A2A3-FC5DF0B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5A785-3BD7-429A-8C02-FA1068B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C3E3B-97EC-4AC3-948F-1B5EC13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D79B0-B339-4850-B712-BA84C4C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0FD83-E547-4FCD-9F37-D055DEC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0F6E0-FAC5-4BF4-ABA3-1CD97C6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3684-310C-4560-88A4-356354F6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0CE9-9D03-4B69-898C-3DD45219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1852-1A6D-458D-9534-A52EA95E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1AAC8-ED22-471A-82BD-FE48B15E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BCF4B-CC3B-4122-B305-561581F2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E0C-6B3B-4A3B-B43D-D9E2DB9E4ED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1A4-DCDB-491F-A567-B7B7E9E3774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999F-8E1B-4411-8A30-34CBE9AAAE3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9913-F621-4DD7-B8D6-C59DF89DCEE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6E6E-2E6C-4FFC-9ACC-F62AF990760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ACD-AFBA-4C95-8E92-39F842E2C70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2BDF-FCD2-4678-8688-766E40F5C36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8661-92FC-44F6-B641-9C83163D565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B99-D7DE-4CC4-AA7F-94470B6B2F6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3" descr="item_38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212840" y="804960"/>
            <a:ext cx="8474040" cy="3571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428640" y="4647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редеина Анастасия Максим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начальных класс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АОУ СОШ№14 г.Владимир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8"/>
          <p:cNvSpPr/>
          <p:nvPr/>
        </p:nvSpPr>
        <p:spPr>
          <a:xfrm>
            <a:off x="685800" y="2895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Левая фигурная скобка 9"/>
          <p:cNvSpPr/>
          <p:nvPr/>
        </p:nvSpPr>
        <p:spPr>
          <a:xfrm rot="16200000">
            <a:off x="4648320" y="1294920"/>
            <a:ext cx="609480" cy="7162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7162920"/>
              <a:gd name="textAreaBottom" fmla="*/ 7147080 h 716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5400" y="10800"/>
                  <a:pt x="0" y="10800"/>
                </a:cubicBezTo>
                <a:cubicBezTo>
                  <a:pt x="54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8"/>
          <p:cNvSpPr/>
          <p:nvPr/>
        </p:nvSpPr>
        <p:spPr>
          <a:xfrm>
            <a:off x="685800" y="2895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Левая фигурная скобка 9"/>
          <p:cNvSpPr/>
          <p:nvPr/>
        </p:nvSpPr>
        <p:spPr>
          <a:xfrm rot="16200000">
            <a:off x="4419720" y="837720"/>
            <a:ext cx="609480" cy="80773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077320"/>
              <a:gd name="textAreaBottom" fmla="*/ 8061480 h 807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"/>
                  <a:pt x="10800" y="136"/>
                </a:cubicBezTo>
                <a:lnTo>
                  <a:pt x="10800" y="10664"/>
                </a:lnTo>
                <a:cubicBezTo>
                  <a:pt x="10800" y="10732"/>
                  <a:pt x="5400" y="10800"/>
                  <a:pt x="0" y="10800"/>
                </a:cubicBezTo>
                <a:cubicBezTo>
                  <a:pt x="5400" y="10800"/>
                  <a:pt x="10800" y="10868"/>
                  <a:pt x="10800" y="10936"/>
                </a:cubicBezTo>
                <a:lnTo>
                  <a:pt x="10800" y="21464"/>
                </a:lnTo>
                <a:cubicBezTo>
                  <a:pt x="10800" y="2153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8"/>
          <p:cNvSpPr/>
          <p:nvPr/>
        </p:nvSpPr>
        <p:spPr>
          <a:xfrm>
            <a:off x="0" y="289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+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Левая фигурная скобка 9"/>
          <p:cNvSpPr/>
          <p:nvPr/>
        </p:nvSpPr>
        <p:spPr>
          <a:xfrm rot="16200000">
            <a:off x="4267080" y="532800"/>
            <a:ext cx="609480" cy="8686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686800"/>
              <a:gd name="textAreaBottom" fmla="*/ 8670960 h 868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3" descr="c15a16fa5df0.gif"/>
          <p:cNvPicPr/>
          <p:nvPr/>
        </p:nvPicPr>
        <p:blipFill>
          <a:blip r:embed="rId15"/>
          <a:stretch/>
        </p:blipFill>
        <p:spPr>
          <a:xfrm>
            <a:off x="36576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4" descr="c15a16fa5df0.gif"/>
          <p:cNvPicPr/>
          <p:nvPr/>
        </p:nvPicPr>
        <p:blipFill>
          <a:blip r:embed="rId16"/>
          <a:stretch/>
        </p:blipFill>
        <p:spPr>
          <a:xfrm>
            <a:off x="4495680" y="205740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516" name="TextBox 8"/>
          <p:cNvSpPr/>
          <p:nvPr/>
        </p:nvSpPr>
        <p:spPr>
          <a:xfrm>
            <a:off x="0" y="2895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+2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Левая фигурная скобка 9"/>
          <p:cNvSpPr/>
          <p:nvPr/>
        </p:nvSpPr>
        <p:spPr>
          <a:xfrm rot="16200000">
            <a:off x="4343400" y="380520"/>
            <a:ext cx="609480" cy="8686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686800"/>
              <a:gd name="textAreaBottom" fmla="*/ 8670960 h 868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530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23" descr="c15a16fa5df0.gif"/>
          <p:cNvPicPr/>
          <p:nvPr/>
        </p:nvPicPr>
        <p:blipFill>
          <a:blip r:embed="rId15"/>
          <a:stretch/>
        </p:blipFill>
        <p:spPr>
          <a:xfrm>
            <a:off x="36576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24" descr="c15a16fa5df0.gif"/>
          <p:cNvPicPr/>
          <p:nvPr/>
        </p:nvPicPr>
        <p:blipFill>
          <a:blip r:embed="rId16"/>
          <a:stretch/>
        </p:blipFill>
        <p:spPr>
          <a:xfrm>
            <a:off x="44956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30" descr="c15a16fa5df0.gif"/>
          <p:cNvPicPr/>
          <p:nvPr/>
        </p:nvPicPr>
        <p:blipFill>
          <a:blip r:embed="rId17"/>
          <a:stretch/>
        </p:blipFill>
        <p:spPr>
          <a:xfrm>
            <a:off x="54100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31" descr="c15a16fa5df0.gif"/>
          <p:cNvPicPr/>
          <p:nvPr/>
        </p:nvPicPr>
        <p:blipFill>
          <a:blip r:embed="rId18"/>
          <a:stretch/>
        </p:blipFill>
        <p:spPr>
          <a:xfrm>
            <a:off x="6248520" y="2057400"/>
            <a:ext cx="785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8"/>
          <p:cNvSpPr/>
          <p:nvPr/>
        </p:nvSpPr>
        <p:spPr>
          <a:xfrm>
            <a:off x="0" y="28954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+2+2+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Левая фигурная скобка 9"/>
          <p:cNvSpPr/>
          <p:nvPr/>
        </p:nvSpPr>
        <p:spPr>
          <a:xfrm rot="16200000">
            <a:off x="4228920" y="190080"/>
            <a:ext cx="609480" cy="861048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610480"/>
              <a:gd name="textAreaBottom" fmla="*/ 8594640 h 861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4038480" y="49528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23" descr="c15a16fa5df0.gif"/>
          <p:cNvPicPr/>
          <p:nvPr/>
        </p:nvPicPr>
        <p:blipFill>
          <a:blip r:embed="rId15"/>
          <a:stretch/>
        </p:blipFill>
        <p:spPr>
          <a:xfrm>
            <a:off x="36576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4" descr="c15a16fa5df0.gif"/>
          <p:cNvPicPr/>
          <p:nvPr/>
        </p:nvPicPr>
        <p:blipFill>
          <a:blip r:embed="rId16"/>
          <a:stretch/>
        </p:blipFill>
        <p:spPr>
          <a:xfrm>
            <a:off x="44956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30" descr="c15a16fa5df0.gif"/>
          <p:cNvPicPr/>
          <p:nvPr/>
        </p:nvPicPr>
        <p:blipFill>
          <a:blip r:embed="rId17"/>
          <a:stretch/>
        </p:blipFill>
        <p:spPr>
          <a:xfrm>
            <a:off x="54100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31" descr="c15a16fa5df0.gif"/>
          <p:cNvPicPr/>
          <p:nvPr/>
        </p:nvPicPr>
        <p:blipFill>
          <a:blip r:embed="rId18"/>
          <a:stretch/>
        </p:blipFill>
        <p:spPr>
          <a:xfrm>
            <a:off x="62485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32" descr="c15a16fa5df0.gif"/>
          <p:cNvPicPr/>
          <p:nvPr/>
        </p:nvPicPr>
        <p:blipFill>
          <a:blip r:embed="rId19"/>
          <a:stretch/>
        </p:blipFill>
        <p:spPr>
          <a:xfrm>
            <a:off x="72388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33" descr="c15a16fa5df0.gif"/>
          <p:cNvPicPr/>
          <p:nvPr/>
        </p:nvPicPr>
        <p:blipFill>
          <a:blip r:embed="rId20"/>
          <a:stretch/>
        </p:blipFill>
        <p:spPr>
          <a:xfrm>
            <a:off x="8077320" y="2057400"/>
            <a:ext cx="785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Содержимое 2"/>
          <p:cNvSpPr/>
          <p:nvPr/>
        </p:nvSpPr>
        <p:spPr>
          <a:xfrm>
            <a:off x="3505320" y="2133720"/>
            <a:ext cx="22096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одержимое 2"/>
          <p:cNvSpPr/>
          <p:nvPr/>
        </p:nvSpPr>
        <p:spPr>
          <a:xfrm>
            <a:off x="3429000" y="2514600"/>
            <a:ext cx="2438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3" descr="c15a16fa5df0.gif"/>
          <p:cNvPicPr/>
          <p:nvPr/>
        </p:nvPicPr>
        <p:blipFill>
          <a:blip r:embed="rId1"/>
          <a:stretch/>
        </p:blipFill>
        <p:spPr>
          <a:xfrm>
            <a:off x="685800" y="1066680"/>
            <a:ext cx="1784520" cy="19051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c15a16fa5df0.gif"/>
          <p:cNvPicPr/>
          <p:nvPr/>
        </p:nvPicPr>
        <p:blipFill>
          <a:blip r:embed="rId2"/>
          <a:stretch/>
        </p:blipFill>
        <p:spPr>
          <a:xfrm>
            <a:off x="2514600" y="990720"/>
            <a:ext cx="1784520" cy="19047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c15a16fa5df0.gif"/>
          <p:cNvPicPr/>
          <p:nvPr/>
        </p:nvPicPr>
        <p:blipFill>
          <a:blip r:embed="rId3"/>
          <a:stretch/>
        </p:blipFill>
        <p:spPr>
          <a:xfrm>
            <a:off x="6934320" y="838080"/>
            <a:ext cx="1784160" cy="19051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6" descr="c15a16fa5df0.gif"/>
          <p:cNvPicPr/>
          <p:nvPr/>
        </p:nvPicPr>
        <p:blipFill>
          <a:blip r:embed="rId4"/>
          <a:stretch/>
        </p:blipFill>
        <p:spPr>
          <a:xfrm>
            <a:off x="5105520" y="914400"/>
            <a:ext cx="1784160" cy="19051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8"/>
          <p:cNvSpPr/>
          <p:nvPr/>
        </p:nvSpPr>
        <p:spPr>
          <a:xfrm>
            <a:off x="2895480" y="281952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+ 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Левая фигурная скобка 9"/>
          <p:cNvSpPr/>
          <p:nvPr/>
        </p:nvSpPr>
        <p:spPr>
          <a:xfrm rot="16200000">
            <a:off x="4419720" y="2437920"/>
            <a:ext cx="609480" cy="39625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962520"/>
              <a:gd name="textAreaBottom" fmla="*/ 394668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0"/>
          <p:cNvSpPr/>
          <p:nvPr/>
        </p:nvSpPr>
        <p:spPr>
          <a:xfrm>
            <a:off x="4267080" y="48769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6840" y="380880"/>
            <a:ext cx="624852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=4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=6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=8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=10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=12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=14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+2=16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+2+2=18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+2+2+2=20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Содержимое 2"/>
          <p:cNvSpPr/>
          <p:nvPr/>
        </p:nvSpPr>
        <p:spPr>
          <a:xfrm>
            <a:off x="6553080" y="380880"/>
            <a:ext cx="21337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2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3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4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5=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6=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7=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8=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9=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10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57200" y="228564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Молодцы!!!</a:t>
            </a:r>
            <a:endParaRPr b="0" lang="en-US" sz="9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285640" y="2057400"/>
            <a:ext cx="487692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2=</a:t>
            </a: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c15a16fa5df0.gif"/>
          <p:cNvPicPr/>
          <p:nvPr/>
        </p:nvPicPr>
        <p:blipFill>
          <a:blip r:embed="rId2"/>
          <a:stretch/>
        </p:blipFill>
        <p:spPr>
          <a:xfrm>
            <a:off x="1600200" y="1066680"/>
            <a:ext cx="1355760" cy="14479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8"/>
          <p:cNvSpPr/>
          <p:nvPr/>
        </p:nvSpPr>
        <p:spPr>
          <a:xfrm>
            <a:off x="15238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+  2  +  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9"/>
          <p:cNvSpPr/>
          <p:nvPr/>
        </p:nvSpPr>
        <p:spPr>
          <a:xfrm rot="16200000">
            <a:off x="4381560" y="1028520"/>
            <a:ext cx="838080" cy="7010640"/>
          </a:xfrm>
          <a:custGeom>
            <a:avLst/>
            <a:gdLst>
              <a:gd name="textAreaLeft" fmla="*/ 535320 w 838080"/>
              <a:gd name="textAreaRight" fmla="*/ 838440 w 838080"/>
              <a:gd name="textAreaTop" fmla="*/ 21600 h 7010640"/>
              <a:gd name="textAreaBottom" fmla="*/ 6989040 h 701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5"/>
                </a:cubicBezTo>
                <a:lnTo>
                  <a:pt x="10800" y="10585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5"/>
                </a:cubicBezTo>
                <a:lnTo>
                  <a:pt x="10800" y="21385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4267080" y="48769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11" descr="c15a16fa5df0.gif"/>
          <p:cNvPicPr/>
          <p:nvPr/>
        </p:nvPicPr>
        <p:blipFill>
          <a:blip r:embed="rId3"/>
          <a:stretch/>
        </p:blipFill>
        <p:spPr>
          <a:xfrm>
            <a:off x="335268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2" descr="c15a16fa5df0.gif"/>
          <p:cNvPicPr/>
          <p:nvPr/>
        </p:nvPicPr>
        <p:blipFill>
          <a:blip r:embed="rId4"/>
          <a:stretch/>
        </p:blipFill>
        <p:spPr>
          <a:xfrm>
            <a:off x="480060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3" descr="c15a16fa5df0.gif"/>
          <p:cNvPicPr/>
          <p:nvPr/>
        </p:nvPicPr>
        <p:blipFill>
          <a:blip r:embed="rId5"/>
          <a:stretch/>
        </p:blipFill>
        <p:spPr>
          <a:xfrm>
            <a:off x="634032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4" descr="c15a16fa5df0.gif"/>
          <p:cNvPicPr/>
          <p:nvPr/>
        </p:nvPicPr>
        <p:blipFill>
          <a:blip r:embed="rId6"/>
          <a:stretch/>
        </p:blipFill>
        <p:spPr>
          <a:xfrm>
            <a:off x="7788240" y="1066680"/>
            <a:ext cx="1355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752120" y="2057400"/>
            <a:ext cx="49532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3=</a:t>
            </a: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990720" cy="10573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8"/>
          <p:cNvSpPr/>
          <p:nvPr/>
        </p:nvSpPr>
        <p:spPr>
          <a:xfrm>
            <a:off x="1219320" y="23623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  + 2  +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9"/>
          <p:cNvSpPr/>
          <p:nvPr/>
        </p:nvSpPr>
        <p:spPr>
          <a:xfrm rot="16200000">
            <a:off x="4343400" y="761760"/>
            <a:ext cx="762120" cy="7467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7467480"/>
              <a:gd name="textAreaBottom" fmla="*/ 7447680 h 74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267080" y="48769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18" descr="c15a16fa5df0.gif"/>
          <p:cNvPicPr/>
          <p:nvPr/>
        </p:nvPicPr>
        <p:blipFill>
          <a:blip r:embed="rId2"/>
          <a:stretch/>
        </p:blipFill>
        <p:spPr>
          <a:xfrm>
            <a:off x="1219320" y="1066680"/>
            <a:ext cx="990360" cy="10573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9" descr="c15a16fa5df0.gif"/>
          <p:cNvPicPr/>
          <p:nvPr/>
        </p:nvPicPr>
        <p:blipFill>
          <a:blip r:embed="rId3"/>
          <a:stretch/>
        </p:blipFill>
        <p:spPr>
          <a:xfrm>
            <a:off x="2438280" y="1066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0" descr="c15a16fa5df0.gif"/>
          <p:cNvPicPr/>
          <p:nvPr/>
        </p:nvPicPr>
        <p:blipFill>
          <a:blip r:embed="rId4"/>
          <a:stretch/>
        </p:blipFill>
        <p:spPr>
          <a:xfrm>
            <a:off x="3505320" y="1066680"/>
            <a:ext cx="990360" cy="10573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1" descr="c15a16fa5df0.gif"/>
          <p:cNvPicPr/>
          <p:nvPr/>
        </p:nvPicPr>
        <p:blipFill>
          <a:blip r:embed="rId5"/>
          <a:stretch/>
        </p:blipFill>
        <p:spPr>
          <a:xfrm>
            <a:off x="4724280" y="1066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2" descr="c15a16fa5df0.gif"/>
          <p:cNvPicPr/>
          <p:nvPr/>
        </p:nvPicPr>
        <p:blipFill>
          <a:blip r:embed="rId6"/>
          <a:stretch/>
        </p:blipFill>
        <p:spPr>
          <a:xfrm>
            <a:off x="5791320" y="1066680"/>
            <a:ext cx="990360" cy="10573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3" descr="c15a16fa5df0.gif"/>
          <p:cNvPicPr/>
          <p:nvPr/>
        </p:nvPicPr>
        <p:blipFill>
          <a:blip r:embed="rId7"/>
          <a:stretch/>
        </p:blipFill>
        <p:spPr>
          <a:xfrm>
            <a:off x="7086600" y="1066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4" descr="c15a16fa5df0.gif"/>
          <p:cNvPicPr/>
          <p:nvPr/>
        </p:nvPicPr>
        <p:blipFill>
          <a:blip r:embed="rId8"/>
          <a:stretch/>
        </p:blipFill>
        <p:spPr>
          <a:xfrm>
            <a:off x="8153280" y="1066680"/>
            <a:ext cx="9907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52120" y="2057400"/>
            <a:ext cx="49532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4=</a:t>
            </a: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8"/>
          <p:cNvSpPr/>
          <p:nvPr/>
        </p:nvSpPr>
        <p:spPr>
          <a:xfrm>
            <a:off x="609480" y="22096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+ 2 + 2 +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Левая фигурная скобка 9"/>
          <p:cNvSpPr/>
          <p:nvPr/>
        </p:nvSpPr>
        <p:spPr>
          <a:xfrm rot="16200000">
            <a:off x="4381560" y="266400"/>
            <a:ext cx="609480" cy="830556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305560"/>
              <a:gd name="textAreaBottom" fmla="*/ 8289720 h 830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752120" y="2057400"/>
            <a:ext cx="49532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5=</a:t>
            </a:r>
            <a:r>
              <a:rPr b="0" lang="ru-RU" sz="1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40:24Z</dcterms:created>
  <dc:creator>ПУШИНКА</dc:creator>
  <dc:description/>
  <dc:language>en-US</dc:language>
  <cp:lastModifiedBy>Настя</cp:lastModifiedBy>
  <dcterms:modified xsi:type="dcterms:W3CDTF">2013-10-12T19:26:11Z</dcterms:modified>
  <cp:revision>18</cp:revision>
  <dc:subject/>
  <dc:title>Таблица умножения  на 2</dc:title>
</cp:coreProperties>
</file>