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FE5-BD5A-4A80-BD68-27F3FAA0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B53-7D46-4057-9F77-99A38CAF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715-6BE2-4B32-B46F-626F7EA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6F9-9AEA-4E72-A8CD-76DBB8D8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5B1C-7BD1-4649-84E3-C6A6F4E1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3EBB-2AA9-4A9C-A1C5-92B4DCFC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B1B7-61FB-48DA-942A-3B808F3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56F-9B69-4C29-8353-43156ED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E21-545A-450E-BF3A-0483E0D0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BE7-1EE4-4C7F-B6D5-B69D6355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F7A-6C6B-45F3-8156-B7A6457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5F9-C89A-477D-AF98-981FAB4F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3ED-E1E0-44CE-8C1B-8A83F99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948-72A1-4A3F-9BE9-392B27A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E4A7-26D2-4C4D-AF59-8AC8E34C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05C-30BE-4CBC-8CF1-DAD0E870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DF44-8E71-4723-94C1-41599D09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2C9-FAD0-460E-B634-D9C58B5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6DF-C7A7-4DFA-8264-D1E4617F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41E-72FF-4C29-9AC2-829F8F6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D33-194D-4BCF-BD70-4F68EBC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66E-BBF9-451D-983E-41EAE95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6E0-B1C6-43D5-B52D-11BFE94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7A0-DB6E-4A3A-93CE-829C753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5E23-3471-4376-B952-DBBEB6FAB6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4C9D-B192-46FA-808E-9CFF14653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иды воды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water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чем нужна тяжелая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762012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ши дни тяжелая вода успешно применяется в атомной энергетике для замедления нейтронов в ядерных реакторах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WO_SCN02"/>
          <p:cNvPicPr/>
          <p:nvPr/>
        </p:nvPicPr>
        <p:blipFill>
          <a:blip r:embed="rId1"/>
          <a:stretch/>
        </p:blipFill>
        <p:spPr>
          <a:xfrm>
            <a:off x="0" y="4495680"/>
            <a:ext cx="79246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776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чем еще нужна тяжелая в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85680" y="2428920"/>
            <a:ext cx="518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тобы исследовать механизм многих химических, физических и биологических процессов.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ак же установлено, что из воды можно получать энергию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739047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430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может быть различных вод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040" y="1294920"/>
            <a:ext cx="4729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го могут существовать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рок две различных воды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з них тридцать три воды будут радиоактивными, но и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бильных, устойчивых вод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будет тоже немало – девя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13488"/>
          <p:cNvPicPr/>
          <p:nvPr/>
        </p:nvPicPr>
        <p:blipFill>
          <a:blip r:embed="rId1"/>
          <a:stretch/>
        </p:blipFill>
        <p:spPr>
          <a:xfrm>
            <a:off x="152280" y="1219320"/>
            <a:ext cx="28195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57680" y="1856880"/>
            <a:ext cx="495288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Такой воды в мире нет. Нигде нет обыкновенной воды. Она всегда необыкновенная. Даже по изотопному составу вода в природе всегда различная. Она зависит от истории воды – от того, что с ней происходило в бесконечном многообразии ее круговорота в природе.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0006"/>
          <p:cNvPicPr/>
          <p:nvPr/>
        </p:nvPicPr>
        <p:blipFill>
          <a:blip r:embed="rId1"/>
          <a:stretch/>
        </p:blipFill>
        <p:spPr>
          <a:xfrm>
            <a:off x="142920" y="1143000"/>
            <a:ext cx="2917800" cy="4348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990720" y="380880"/>
            <a:ext cx="7391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обыкновенная вода?</a:t>
            </a:r>
            <a:endParaRPr b="0" lang="en-US" sz="24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theme_products_03"/>
          <p:cNvPicPr/>
          <p:nvPr/>
        </p:nvPicPr>
        <p:blipFill>
          <a:blip r:embed="rId1"/>
          <a:stretch/>
        </p:blipFill>
        <p:spPr>
          <a:xfrm>
            <a:off x="214200" y="1285920"/>
            <a:ext cx="321480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920" y="285840"/>
            <a:ext cx="41911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ри испарении вода обогащается протием, и вода дождя поэтому отлична от воды озера. Вода реки непохожа на морскую воду. В закрытых озерах вода содержит больше дейтерия, чем вода, горных ручьев. В каждом источнике свой изотопный состав воды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3152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такое легкая вод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3276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 та самая вода, формулу которой знают все школьники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Но такой воды в природе нет. Такую воду с огромным трудом приготовили ученые. Пока такая вода существует только в нескольких крупнейших лабораториях мира, где изучают свойства различных изотопных соединени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895480" y="1447920"/>
                <a:ext cx="23623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/>
                      <m:sup/>
                    </m:sSubSup>
                    <m:limLow>
                      <m:e>
                        <m:r>
                          <m:t xml:space="preserve">O</m:t>
                        </m:r>
                      </m:e>
                      <m:lim>
                        <m:limUpp>
                          <m:e>
                            <m:r>
                              <m:t xml:space="preserve">⋅</m:t>
                            </m:r>
                          </m:e>
                          <m:lim>
                            <m:r>
                              <m:t xml:space="preserve">⋅</m:t>
                            </m:r>
                            <m:sPre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  <m:r>
                              <m:t xml:space="preserve">H</m:t>
                            </m:r>
                          </m:lim>
                        </m:limUpp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39152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Что такое тяжелая вод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99ff"/>
                </a:solidFill>
                <a:latin typeface="Arial"/>
              </a:rPr>
              <a:t>И такой воды в природе НЕТ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99ff"/>
                </a:solidFill>
                <a:latin typeface="Times New Roman"/>
              </a:rPr>
              <a:t>Еще совсем недавно никто в мире и не подозревал, что такая вода существует, а теперь во многих странах мира работают гигантские заводы, перерабатывающие миллионы тонн воды, что бы извлечь из неё дейтерий и получить чистую тяжелую воду (1,1 </a:t>
            </a:r>
            <a:r>
              <a:rPr b="0" i="1" lang="en-US" sz="2500" spc="-1" strike="noStrike">
                <a:solidFill>
                  <a:srgbClr val="3399ff"/>
                </a:solidFill>
                <a:latin typeface="Times New Roman"/>
              </a:rPr>
              <a:t>OH</a:t>
            </a:r>
            <a:r>
              <a:rPr b="0" i="1" lang="ru-RU" sz="2500" spc="-1" strike="noStrike">
                <a:solidFill>
                  <a:srgbClr val="3399ff"/>
                </a:solidFill>
                <a:latin typeface="Times New Roman"/>
              </a:rPr>
              <a:t>)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otv_p01"/>
          <p:cNvPicPr/>
          <p:nvPr/>
        </p:nvPicPr>
        <p:blipFill>
          <a:blip r:embed="rId1"/>
          <a:stretch/>
        </p:blipFill>
        <p:spPr>
          <a:xfrm>
            <a:off x="4724280" y="25146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то такое “нулевая”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3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улевая вода состоит из чистого легкого водорода и кислорода воздуха. Эту воду химики выбрали в качестве эталона: у нее постоянный состав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PICT00212_S"/>
          <p:cNvPicPr/>
          <p:nvPr/>
        </p:nvPicPr>
        <p:blipFill>
          <a:blip r:embed="rId1"/>
          <a:stretch/>
        </p:blipFill>
        <p:spPr>
          <a:xfrm>
            <a:off x="4643280" y="2070000"/>
            <a:ext cx="293400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ывает ли ещё какая-нибудь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560" y="1643040"/>
            <a:ext cx="7543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оме всех перечисленных вод, еще существует тяжелокислородная вода –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Получать ее из природной воды очень сложно и трудно. До сих пор эту воду в чистом виде еще, пожалуй, никто не сумел приготовит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672053"/>
          <p:cNvPicPr/>
          <p:nvPr/>
        </p:nvPicPr>
        <p:blipFill>
          <a:blip r:embed="rId1"/>
          <a:stretch/>
        </p:blipFill>
        <p:spPr>
          <a:xfrm>
            <a:off x="0" y="4419720"/>
            <a:ext cx="79246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ществует ли радиоактивная в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Физики научились получать тритиевую воду искусственным путем в атомных реакторах. Из – за сильной радиоактивности эта вода очень опасна. Пока такая вода нужна только учены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21"/>
          <p:cNvPicPr/>
          <p:nvPr/>
        </p:nvPicPr>
        <p:blipFill>
          <a:blip r:embed="rId1"/>
          <a:stretch/>
        </p:blipFill>
        <p:spPr>
          <a:xfrm>
            <a:off x="228600" y="121932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9:06:07Z</dcterms:created>
  <dc:creator>Angel</dc:creator>
  <dc:description/>
  <dc:language>en-US</dc:language>
  <cp:lastModifiedBy>Admin</cp:lastModifiedBy>
  <dcterms:modified xsi:type="dcterms:W3CDTF">2009-11-23T20:40:22Z</dcterms:modified>
  <cp:revision>16</cp:revision>
  <dc:subject/>
  <dc:title>Презентация PowerPoint</dc:title>
</cp:coreProperties>
</file>