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6FFA-1271-4E35-B827-411FF334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DF6C-6985-48B6-8F73-6BCC9E58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ED68-68E7-4D09-85E1-0037C560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9E0E-BDAF-4996-8639-26250EDE1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225E-8768-40C7-A674-D635F22C1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E742-2E48-4E7D-8453-076A3C12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C7F3-7793-4CE2-BBED-AF5A1B1D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CA54-98C9-4EE5-B06B-18C9639F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BA32-F165-4663-B261-A16FC266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B8E5-C4DE-49B5-AA95-3260C546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E919-6105-4391-A945-33510BBF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858D-44C6-4392-BF34-25A82C64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B202-4552-4CFD-8AEC-6B7F6381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6AD8-907A-4ACF-B7B1-BE59B139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404E-25B8-4E5F-B26A-8D4EC53F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4B3B-2490-4949-9A31-AD11828E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90CC-747B-45D7-BC09-F296D8D6C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7707-D6C8-4A3D-8A54-AB7A4590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36E2-5C84-47FA-B817-1538DB64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7A77-ED3B-4698-A8EB-2981DCB0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F84D-4497-4EB0-A8B3-66011778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F75B-E0D8-404B-BA5C-F8FF8C65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138F-3763-40D9-AD1E-4801E173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3285-5970-43C8-AFEB-049F58B4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Rectangle 3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4d4d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Picture 4" descr="C:\abitbetter\MS-039\graphics\hokusai2.GIF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d4d4d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2085-4204-4124-A215-E7968EE6FA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Rectangle 3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4d4d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" name="Picture 4" descr="C:\abitbetter\MS-039\graphics\hokusai2.GIF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d4d4d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1F7C-7DA1-4B5B-A376-F51FF6712F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447920" y="251424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Виды воды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water"/>
          <p:cNvPicPr/>
          <p:nvPr/>
        </p:nvPicPr>
        <p:blipFill>
          <a:blip r:embed="rId2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чем нужна тяжелая вод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2560" y="1785600"/>
            <a:ext cx="762012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наши дни тяжелая вода успешно применяется в атомной энергетике для замедления нейтронов в ядерных реакторах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WO_SCN02"/>
          <p:cNvPicPr/>
          <p:nvPr/>
        </p:nvPicPr>
        <p:blipFill>
          <a:blip r:embed="rId1"/>
          <a:stretch/>
        </p:blipFill>
        <p:spPr>
          <a:xfrm>
            <a:off x="0" y="4495680"/>
            <a:ext cx="792468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7760" y="15228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чем еще нужна тяжелая вод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85680" y="2428920"/>
            <a:ext cx="518148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Чтобы исследовать механизм многих химических, физических и биологических процессов. 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Так же установлено, что из воды можно получать энергию.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739047"/>
          <p:cNvPicPr/>
          <p:nvPr/>
        </p:nvPicPr>
        <p:blipFill>
          <a:blip r:embed="rId1"/>
          <a:stretch/>
        </p:blipFill>
        <p:spPr>
          <a:xfrm>
            <a:off x="0" y="0"/>
            <a:ext cx="27432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430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лько может быть различных вод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0040" y="1294920"/>
            <a:ext cx="4729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сего могут существовать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рок две различных воды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Из них тридцать три воды будут радиоактивными, но и 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стабильных, устойчивых вод 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будет тоже немало – девять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13488"/>
          <p:cNvPicPr/>
          <p:nvPr/>
        </p:nvPicPr>
        <p:blipFill>
          <a:blip r:embed="rId1"/>
          <a:stretch/>
        </p:blipFill>
        <p:spPr>
          <a:xfrm>
            <a:off x="152280" y="1219320"/>
            <a:ext cx="281952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857680" y="1856880"/>
            <a:ext cx="495288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 Unicode MS"/>
              </a:rPr>
              <a:t>Такой воды в мире нет. Нигде нет обыкновенной воды. Она всегда необыкновенная. Даже по изотопному составу вода в природе всегда различная. Она зависит от истории воды – от того, что с ней происходило в бесконечном многообразии ее круговорота в природе. 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0006"/>
          <p:cNvPicPr/>
          <p:nvPr/>
        </p:nvPicPr>
        <p:blipFill>
          <a:blip r:embed="rId1"/>
          <a:stretch/>
        </p:blipFill>
        <p:spPr>
          <a:xfrm>
            <a:off x="142920" y="1143000"/>
            <a:ext cx="2917800" cy="4348080"/>
          </a:xfrm>
          <a:prstGeom prst="rect">
            <a:avLst/>
          </a:prstGeom>
          <a:ln w="0">
            <a:noFill/>
          </a:ln>
        </p:spPr>
      </p:pic>
      <p:sp>
        <p:nvSpPr>
          <p:cNvPr id="95" name="WordArt 5"/>
          <p:cNvSpPr txBox="1"/>
          <p:nvPr/>
        </p:nvSpPr>
        <p:spPr>
          <a:xfrm>
            <a:off x="990720" y="380880"/>
            <a:ext cx="7391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то такое обыкновенная вода?</a:t>
            </a:r>
            <a:endParaRPr b="0" lang="en-US" sz="2400" spc="1" strike="noStrike">
              <a:ln w="1260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theme_products_03"/>
          <p:cNvPicPr/>
          <p:nvPr/>
        </p:nvPicPr>
        <p:blipFill>
          <a:blip r:embed="rId1"/>
          <a:stretch/>
        </p:blipFill>
        <p:spPr>
          <a:xfrm>
            <a:off x="214200" y="1285920"/>
            <a:ext cx="3214800" cy="4572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571920" y="285840"/>
            <a:ext cx="419112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При испарении вода обогащается протием, и вода дождя поэтому отлична от воды озера. Вода реки непохожа на морскую воду. В закрытых озерах вода содержит больше дейтерия, чем вода, горных ручьев. В каждом источнике свой изотопный состав воды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3152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Что такое легкая вода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3276360"/>
            <a:ext cx="73915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Это та самая вода, формулу которой знают все школьники 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Но такой воды в природе нет. Такую воду с огромным трудом приготовили ученые. Пока такая вода существует только в нескольких крупнейших лабораториях мира, где изучают свойства различных изотопных соединений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5"/>
              <p:cNvSpPr txBox="1"/>
              <p:nvPr/>
            </p:nvSpPr>
            <p:spPr>
              <a:xfrm>
                <a:off x="2895480" y="1447920"/>
                <a:ext cx="236232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/>
                      <m:sup/>
                    </m:sSubSup>
                    <m:limLow>
                      <m:e>
                        <m:r>
                          <m:t xml:space="preserve">O</m:t>
                        </m:r>
                      </m:e>
                      <m:lim>
                        <m:limUpp>
                          <m:e>
                            <m:r>
                              <m:t xml:space="preserve">⋅</m:t>
                            </m:r>
                          </m:e>
                          <m:lim>
                            <m:r>
                              <m:t xml:space="preserve">⋅</m:t>
                            </m:r>
                            <m:sPre>
                              <m:sub/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  <m:r>
                              <m:t xml:space="preserve">H</m:t>
                            </m:r>
                          </m:lim>
                        </m:limUpp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39152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Times New Roman"/>
              </a:rPr>
              <a:t>Что такое тяжелая вода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4267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3399ff"/>
                </a:solidFill>
                <a:latin typeface="Arial"/>
              </a:rPr>
              <a:t>И такой воды в природе НЕТ.</a:t>
            </a:r>
            <a:endParaRPr b="0" i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3399ff"/>
                </a:solidFill>
                <a:latin typeface="Times New Roman"/>
              </a:rPr>
              <a:t>Еще совсем недавно никто в мире и не подозревал, что такая вода существует, а теперь во многих странах мира работают гигантские заводы, перерабатывающие миллионы тонн воды, что бы извлечь из неё дейтерий и получить чистую тяжелую воду (1,1 </a:t>
            </a:r>
            <a:r>
              <a:rPr b="0" i="1" lang="en-US" sz="2500" spc="-1" strike="noStrike">
                <a:solidFill>
                  <a:srgbClr val="3399ff"/>
                </a:solidFill>
                <a:latin typeface="Times New Roman"/>
              </a:rPr>
              <a:t>OH</a:t>
            </a:r>
            <a:r>
              <a:rPr b="0" i="1" lang="ru-RU" sz="2500" spc="-1" strike="noStrike">
                <a:solidFill>
                  <a:srgbClr val="3399ff"/>
                </a:solidFill>
                <a:latin typeface="Times New Roman"/>
              </a:rPr>
              <a:t>).</a:t>
            </a:r>
            <a:endParaRPr b="0" i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otv_p01"/>
          <p:cNvPicPr/>
          <p:nvPr/>
        </p:nvPicPr>
        <p:blipFill>
          <a:blip r:embed="rId1"/>
          <a:stretch/>
        </p:blipFill>
        <p:spPr>
          <a:xfrm>
            <a:off x="4724280" y="2514600"/>
            <a:ext cx="441972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3915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Что такое “нулевая” вод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37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Нулевая вода состоит из чистого легкого водорода и кислорода воздуха. Эту воду химики выбрали в качестве эталона: у нее постоянный состав.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PICT00212_S"/>
          <p:cNvPicPr/>
          <p:nvPr/>
        </p:nvPicPr>
        <p:blipFill>
          <a:blip r:embed="rId1"/>
          <a:stretch/>
        </p:blipFill>
        <p:spPr>
          <a:xfrm>
            <a:off x="4643280" y="2070000"/>
            <a:ext cx="2934000" cy="399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ывает ли ещё какая-нибудь вод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2560" y="1643040"/>
            <a:ext cx="754380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роме всех перечисленных вод, еще существует тяжелокислородная вода –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0" lang="ru-RU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ru-RU" sz="2400" spc="-1" strike="noStrike" baseline="30000">
                <a:solidFill>
                  <a:srgbClr val="0000ff"/>
                </a:solidFill>
                <a:latin typeface="Times New Roman"/>
              </a:rPr>
              <a:t>18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. Получать ее из природной воды очень сложно и трудно. До сих пор эту воду в чистом виде еще, пожалуй, никто не сумел приготовить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672053"/>
          <p:cNvPicPr/>
          <p:nvPr/>
        </p:nvPicPr>
        <p:blipFill>
          <a:blip r:embed="rId1"/>
          <a:stretch/>
        </p:blipFill>
        <p:spPr>
          <a:xfrm>
            <a:off x="0" y="4419720"/>
            <a:ext cx="792468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915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ществует ли радиоактивная вод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76360" y="12952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Физики научились получать тритиевую воду искусственным путем в атомных реакторах. Из – за сильной радиоактивности эта вода очень опасна. Пока такая вода нужна только ученым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21"/>
          <p:cNvPicPr/>
          <p:nvPr/>
        </p:nvPicPr>
        <p:blipFill>
          <a:blip r:embed="rId1"/>
          <a:stretch/>
        </p:blipFill>
        <p:spPr>
          <a:xfrm>
            <a:off x="228600" y="1219320"/>
            <a:ext cx="297180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9:06:07Z</dcterms:created>
  <dc:creator>Angel</dc:creator>
  <dc:description/>
  <dc:language>en-US</dc:language>
  <cp:lastModifiedBy>Admin</cp:lastModifiedBy>
  <dcterms:modified xsi:type="dcterms:W3CDTF">2009-11-23T20:40:22Z</dcterms:modified>
  <cp:revision>16</cp:revision>
  <dc:subject/>
  <dc:title>Презентация PowerPoint</dc:title>
</cp:coreProperties>
</file>