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BC2-0BAD-4284-B806-67380F67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1CC-AFF8-4A57-8599-BEBF89C3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4E8-EBCC-4433-BF82-FE11F37E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BE8-80D2-404A-8B26-1B7E8FC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D609-1D2A-421C-9881-3C13546B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48D-DB02-43C4-A2FF-6B45F88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6EC8-436C-402D-AC2C-2A65E144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E4F-F173-4505-9FBD-D42A917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49F-9171-46B7-96A4-3058DF0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E84C-6BA4-42F9-8E6D-102DF773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8C4-68B6-4CC4-8DCA-BBFDB9B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468-F1BA-49B9-97E6-8F38DB76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6C41-7467-4BD0-977D-44F9D7E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9C9B-881C-4137-9259-1F225C9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F78-C493-4FFE-A373-BC107E6A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FB1D-B44D-4648-9C84-5534592B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613B-2FE7-4F93-A57B-523D96CF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E64-AC9D-4E74-BED9-BFFD229C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3F6-2A2C-454C-9340-56D646E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CBA-2962-4A86-A1A0-3963BC4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FDB-CAA6-4676-BF47-2A1CDAD4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D9D-B9AB-453E-8845-01F1289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B30-9337-4A0E-B527-0CC86D8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5B8-5B0C-4A14-8017-1517972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09E4-B1A4-4CDF-9EDB-BC6C46BF0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C5C-80E2-4985-ADFA-7F35EAD68A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рам Василия Блаженно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60640" y="1676160"/>
            <a:ext cx="4981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ов Иван 8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кола №11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А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1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7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2514600" cy="390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4267080" cy="283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13720" y="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67080" y="388620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 Филякова «Русские собо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П. Гусарова Л.Е. Горячкина «Москва в русской и советской живопис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29052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3809880"/>
            <a:ext cx="4419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 проекта: Максимов Ив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е, школа №11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стория создания храма Василия Блаж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собенности хр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Ход постро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 честь кого наз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Фотографии / ре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896160" y="3505320"/>
            <a:ext cx="224784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9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9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9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Из истории создания храма Василия Блаженного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5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ам Василия Блаженного - он же Покровской собор на рву (1555-1560) заложен в память о покорении Казанского ханства и в честь Пресвятой богородицы, Заступницы земли русской, что укрывает её своим покровом от напастей и врагов, на месте церкви Святой Троицы, стоявшей над Кремлёвским рвом. Это случилось только через целых два года после победы над Казанью, потому что царь сильно забол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865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обенности хра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самого начала храм был задуман необычно. Не просто храм, а объединение восьми церквей. Каждая – символ и память о наиболее важных моментах Казанской войны. Так Иван Грозный и наказал русским мастерам: Постнику и Ба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25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ли храм пять лет. Но нарушили мастера царский наказ, выстроили не восемь, а девять престолов, девять разных церквей на одном основании. Ничем не похожи были церкви друг на друга: ни размером, ни стилем, ни формой купола, ни оформлением. Но ведь составляют единое целое! Вот уж действительно «премудро и дивно» создали чудесный храм русские мастера. Первоначально храм вероятно имел шлемовидные главы, заменённые в кон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а узорными луковичными. К сожалению, когда освящали Покровский собор, - как раз 1 октября 1559 года – главная, центральная церковь ещё не была завершена. Достроили её только два года спуст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22748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24080" y="1447920"/>
            <a:ext cx="6019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Жил в Москве Василий, Христа ради юродивый. С юных лет он оставил родитель­ский дом и с тех пор не имел крова. Зимой и летом носил рубище и тяжелые железные вериги. Днем ходил из храма в храм, ночевал на церковных папертях. Молчаливый и одинокий, он избегал людей. Но они сами искали его, чтобы послушать мудрые речи. На Руси юродивый - безумец и провидец одновременно, человек мужественный и бескорыстный. Скоро пошла молва о святости Василия, получившего прозвище Блаженный. Даже царь Иван Васильевич с уважением относился к юродив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3429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95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2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мер Василий в возрасте 72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авгус­та 1552 года - ровно за 2 месяца до взятия Казани - и был похоронен при Троицкой церкви на Рву, на месте которой построили Покровский собо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 в 1588 году при царст­вовании Федора Ивановича мощи Василия Блаженного были обретены нетленными и прославились своими чудотворениями. Много недужных людей тогда исцелило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велел царь Федор Иванович выстроить на месте захоронения святого Васи­лия храм каменный - десятую церковь Покровского собора - Придел Василия Блаженного. По этому Васильевскому приделу очень скоро весь собор получил у москвичей новое название - храм Василия Блаженного. С ним он и вошёл в Истор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243240" cy="541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75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2008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ше время этот храм много раз реставрировали. Реставрации храма начались с 1965 г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духовная значимость храма не уменьша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го приходят десятки людей и поклоняются мощам Василия Блажен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736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V</cp:lastModifiedBy>
  <dcterms:modified xsi:type="dcterms:W3CDTF">2008-02-19T09:03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