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1B1-B2BA-4B63-A151-BC4D6DD2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E2D-1531-43F6-8CBD-DC12DC29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E35-BD03-47B0-AF40-790DD031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345-0739-454E-BC0A-32D97FBB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E665-A028-4C0E-B745-2DF6D2D7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3433-B466-4250-B4C8-AC3685FD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EFB3-8605-4542-BD6F-AF6A0302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6E8-98D5-4032-A7DE-5D8318DC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1DA4-A36F-4AA5-AF01-10F04DEF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981A-232D-491C-8EFB-105A708A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F0E2-CF31-4D1A-BC8D-6F10DE3E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8F2-82A8-4E3F-9CF8-2E31D4E2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A625-5BBF-494B-A105-089A92E0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76E2-7B6B-4408-A274-6EBCCE6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83DC-FB9E-4BFD-A086-E655CD3C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A79A-04FC-4F79-9C7F-E8A82E30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904D-46CF-4177-923B-26B47844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B47-453F-403E-8070-3670F36E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462E-F4B1-4CDD-A1D0-4E3F726B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2EA-3751-4D2A-9363-BCAE792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467-7C0D-41EC-862A-38C29B60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A0F-3019-43CA-B8BA-CA6EF4CF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CA8-22BD-434C-9542-9D249C72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F7B-99B8-42BF-A32A-B7F26D50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0924-48EE-40B4-AB31-F324330633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76BC-B1E8-4FFD-AEEE-63DFBA4ED9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447920" y="0"/>
            <a:ext cx="60339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Храм Василия Блаженног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60640" y="1676160"/>
            <a:ext cx="4981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ксимов Иван 8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кола №11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А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Моск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5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10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70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603396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2514600" cy="390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6708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2971800"/>
            <a:ext cx="4267080" cy="2836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813720" y="0"/>
            <a:ext cx="2330280" cy="2895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267080" y="388620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188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спользованные материал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. Филякова «Русские собор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П. Гусарова Л.Е. Горячкина «Москва в русской и советской живопис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2905200" cy="297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3809880"/>
            <a:ext cx="4419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втор проекта: Максимов Ив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е, школа №11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стория создания храма Василия Блаж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Особенности хр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Ход постро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В честь кого назв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Фотографии / репро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е 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896160" y="3505320"/>
            <a:ext cx="2247840" cy="29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90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900"/>
                            </p:stCondLst>
                            <p:childTnLst>
                              <p:par>
                                <p:cTn id="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9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9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90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Из истории создания храма Василия Блаженного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85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ам Василия Блаженного - он же Покровской собор на рву (1555-1560) заложен в память о покорении Казанского ханства и в честь Пресвятой богородицы, Заступницы земли русской, что укрывает её своим покровом от напастей и врагов, на месте церкви Святой Троицы, стоявшей над Кремлёвским рвом. Это случилось только через целых два года после победы над Казанью, потому что царь сильно забол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743200"/>
            <a:ext cx="28656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Особенности храм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самого начала храм был задуман необычно. Не просто храм, а объединение восьми церквей. Каждая – символ и память о наиболее важных моментах Казанской войны. Так Иван Грозный и наказал русским мастерам: Постнику и Ба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250"/>
                            </p:stCondLst>
                            <p:childTnLst>
                              <p:par>
                                <p:cTn id="1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троительств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85840" y="11426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оили храм пять лет. Но нарушили мастера царский наказ, выстроили не восемь, а девять престолов, девять разных церквей на одном основании. Ничем не похожи были церкви друг на друга: ни размером, ни стилем, ни формой купола, ни оформлением. Но ведь составляют единое целое! Вот уж действительно «премудро и дивно» создали чудесный храм русские мастера. Первоначально храм вероятно имел шлемовидные главы, заменённые в конц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а узорными луковичными. К сожалению, когда освящали Покровский собор, - как раз 1 октября 1559 года – главная, центральная церковь ещё не была завершена. Достроили её только два года спуст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4227480" cy="56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«…Василий, Христа ради юродивый…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24080" y="1447920"/>
            <a:ext cx="6019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Жил в Москве Василий, Христа ради юродивый. С юных лет он оставил родитель­ский дом и с тех пор не имел крова. Зимой и летом носил рубище и тяжелые железные вериги. Днем ходил из храма в храм, ночевал на церковных папертях. Молчаливый и одинокий, он избегал людей. Но они сами искали его, чтобы послушать мудрые речи. На Руси юродивый - безумец и провидец одновременно, человек мужественный и бескорыстный. Скоро пошла молва о святости Василия, получившего прозвище Блаженный. Даже царь Иван Васильевич с уважением относился к юродив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3429000" cy="54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950"/>
                            </p:stCondLst>
                            <p:childTnLst>
                              <p:par>
                                <p:cTn id="2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6200"/>
                            </p:stCondLst>
                            <p:childTnLst>
                              <p:par>
                                <p:cTn id="2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«…Василий, Христа ради юродивый…»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71440" y="137160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Умер Василий в возрасте 72 ле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 авгус­та 1552 года - ровно за 2 месяца до взятия Казани - и был похоронен при Троицкой церкви на Рву, на месте которой построили Покровский собор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 в 1588 году при царст­вовании Федора Ивановича мощи Василия Блаженного были обретены нетленными и прославились своими чудотворениями. Много недужных людей тогда исцелилос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велел царь Федор Иванович выстроить на месте захоронения святого Васи­лия храм каменный - десятую церковь Покровского собора - Придел Василия Блаженного. По этому Васильевскому приделу очень скоро весь собор получил у москвичей новое название - храм Василия Блаженного. С ним он и вошёл в Истори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3243240" cy="5410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00"/>
                            </p:stCondLst>
                            <p:childTnLst>
                              <p:par>
                                <p:cTn id="2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750"/>
                            </p:stCondLst>
                            <p:childTnLst>
                              <p:par>
                                <p:cTn id="2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800"/>
                            </p:stCondLst>
                            <p:childTnLst>
                              <p:par>
                                <p:cTn id="2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2008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9520" y="10666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аше время этот храм много раз реставрировали. Реставрации храма начались с 1965 г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духовная значимость храма не уменьшаетс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него приходят десятки людей и поклоняются мощам Василия Блажен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37368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726680" y="64911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На главн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V</cp:lastModifiedBy>
  <dcterms:modified xsi:type="dcterms:W3CDTF">2008-02-19T09:03:4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