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F4F-833F-45B5-B73C-3594017A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31D-9DCF-4F86-8036-685B3DF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9FF-114F-457A-B252-C2BD93ED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A50-8A5F-4C9A-A6FB-890C4D45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3FD6-3B08-4D9F-82C5-054547E3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4699-A495-410C-864E-FBD313E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B7C8-1A06-40E5-B3F3-90BC931E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7AE8-33B5-48D8-B3AD-3CB433D7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1624-A6D0-457D-BF96-1FD9A9AB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9125-718F-493F-B719-C0FA830D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9ABE-DD67-4679-BFB4-D3ACB393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A8A-C9FC-413E-B869-4003D827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AD89-3220-40E6-B459-B5006B6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2FF0-A6A9-4536-AD32-0698D8FC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E8A6-E17F-48D8-B138-7AC4AE15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CDCE-4F45-4801-B2C4-DCE2B224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2170-540F-477D-B94C-7E7203AE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2DF-08E5-419C-B07F-1B80B09D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4AA-057B-42DD-9CD2-BF62770D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D7B-BB49-4FAB-B9FA-92E10174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9E0-06FB-4CC3-B857-1989AB76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CDD-8598-42EE-82D3-EB9A58A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22F-7922-47AB-A432-0611CA6B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E94-E0F8-4357-9588-A6A9CA3E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B6B3-CB2F-4248-9A50-D3D6AD237E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B7E-085A-49F3-8EF2-F949559A19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0339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рам Василия Блаженног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60640" y="1676160"/>
            <a:ext cx="4981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симов Иван 8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кола №11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А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Моск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5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1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7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60339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2514600" cy="390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6708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4267080" cy="2836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813720" y="0"/>
            <a:ext cx="233028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267080" y="388620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спользованные материал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. Филякова «Русские собор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П. Гусарова Л.Е. Горячкина «Москва в русской и советской живопис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290520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3809880"/>
            <a:ext cx="4419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втор проекта: Максимов Ив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е, школа №11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стория создания храма Василия Блаж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Особенности хр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Ход постро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В честь кого назв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Фотографии / репро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е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896160" y="3505320"/>
            <a:ext cx="2247840" cy="29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9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9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9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9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90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Из истории создания храма Василия Блаженного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85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ам Василия Блаженного - он же Покровской собор на рву (1555-1560) заложен в память о покорении Казанского ханства и в честь Пресвятой богородицы, Заступницы земли русской, что укрывает её своим покровом от напастей и врагов, на месте церкви Святой Троицы, стоявшей над Кремлёвским рвом. Это случилось только через целых два года после победы над Казанью, потому что царь сильно забол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28656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обенности храм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самого начала храм был задуман необычно. Не просто храм, а объединение восьми церквей. Каждая – символ и память о наиболее важных моментах Казанской войны. Так Иван Грозный и наказал русским мастерам: Постнику и Ба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25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роительств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85840" y="11426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или храм пять лет. Но нарушили мастера царский наказ, выстроили не восемь, а девять престолов, девять разных церквей на одном основании. Ничем не похожи были церкви друг на друга: ни размером, ни стилем, ни формой купола, ни оформлением. Но ведь составляют единое целое! Вот уж действительно «премудро и дивно» создали чудесный храм русские мастера. Первоначально храм вероятно имел шлемовидные главы, заменённые в конц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а узорными луковичными. К сожалению, когда освящали Покровский собор, - как раз 1 октября 1559 года – главная, центральная церковь ещё не была завершена. Достроили её только два года спуст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422748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«…Василий, Христа ради юродивый…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24080" y="1447920"/>
            <a:ext cx="6019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Жил в Москве Василий, Христа ради юродивый. С юных лет он оставил родитель­ский дом и с тех пор не имел крова. Зимой и летом носил рубище и тяжелые железные вериги. Днем ходил из храма в храм, ночевал на церковных папертях. Молчаливый и одинокий, он избегал людей. Но они сами искали его, чтобы послушать мудрые речи. На Руси юродивый - безумец и провидец одновременно, человек мужественный и бескорыстный. Скоро пошла молва о святости Василия, получившего прозвище Блаженный. Даже царь Иван Васильевич с уважением относился к юродив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34290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95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200"/>
                            </p:stCondLst>
                            <p:childTnLst>
                              <p:par>
                                <p:cTn id="2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«…Василий, Христа ради юродивый…»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1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Умер Василий в возрасте 72 ле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 авгус­та 1552 года - ровно за 2 месяца до взятия Казани - и был похоронен при Троицкой церкви на Рву, на месте которой построили Покровский собор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 в 1588 году при царст­вовании Федора Ивановича мощи Василия Блаженного были обретены нетленными и прославились своими чудотворениями. Много недужных людей тогда исцелилос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велел царь Федор Иванович выстроить на месте захоронения святого Васи­лия храм каменный - десятую церковь Покровского собора - Придел Василия Блаженного. По этому Васильевскому приделу очень скоро весь собор получил у москвичей новое название - храм Василия Блаженного. С ним он и вошёл в Истор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243240" cy="5410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75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2008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9520" y="10666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аше время этот храм много раз реставрировали. Реставрации храма начались с 1965 г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духовная значимость храма не уменьшаетс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го приходят десятки людей и поклоняются мощам Василия Блажен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3736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V</cp:lastModifiedBy>
  <dcterms:modified xsi:type="dcterms:W3CDTF">2008-02-19T09:03:4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