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053-BA16-461F-A20F-947CC36D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775-C828-4EA2-A7A9-E42D6AE4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8E1-F3AF-420A-A691-C1649A05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662-E14F-4016-9A92-D4D58593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C171-7321-4EEC-B448-102F5ECC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71C-9BC2-4E48-BA98-8079F975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797-91D3-4BF0-9A12-26CD11C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C5A-629F-4682-805F-6BD3B691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A508-25B3-4B74-8C01-DEEDEA4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4948-4B34-41CA-A72B-74661C3E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12AC-BEFE-4649-8527-3A4498A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3AE-AEEB-4B39-9B78-50DC8EC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C8A8-7C8F-4B67-9A4E-C94E1F8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F3A1-8F49-4B50-856B-30E2AEB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F38A-457C-4009-BF3D-A43448F3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E91-07C5-4778-B395-AF181DF9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D4E6-6B0D-4336-A525-7C91A7CD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71F55-FF39-44F7-BC03-17C3E901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F68AE-5E04-405C-B792-4BAD412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BE92B-AC0A-4934-8359-C60BFB81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93E51-73F3-45EA-AE75-74E0F53A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EB8C7-4CC8-40A8-AF82-28297EEF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4C4-4EEB-4E4F-9F5C-D603B7B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F6845-6957-43DB-A734-3BCEA80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02825-7FCD-4B7D-85CC-FF10A90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5BC67-D6AF-4575-B01D-A2A048A7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61629-FC47-44E4-9DD8-574E563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99A70-C0F1-47A4-A4BA-0F7CF1F5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49646-96AC-4807-A5FB-1AFEEF35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E96B9-1CFF-44A2-AE29-981E3ACA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3D13-4786-49C7-BA3E-A45B10C4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0FE9-5ED1-413B-BED2-DE9A944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9B1C-DC97-4CFC-924F-32B86388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55F-F8D8-464D-A1DD-983832E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C83F-698F-428B-B197-F5796A67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EB3F-7AF3-43A4-B8C8-A5B03BC4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97D4-09F2-4590-A702-1F1E1D03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399A-C70E-4181-8781-7FA9D52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01B6-115F-4C37-B9A7-89EEE12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76C7-0B82-48CB-863D-085D22C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DF97-FB3A-49CE-B4C6-C90D337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46BC-BCFF-4E9E-BA0A-4A6D7CD8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FCA7-50A9-4D41-B3D0-B03B13A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8399-7F90-4337-B9E2-F76B4130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0B9-157B-411D-8854-4CAB103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C498-C6DF-4808-9284-57867FD8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5BC91-0E89-4759-B08D-8A9FE04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4E7D-64C5-45C4-92CB-8AA7A23B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3324-7846-4C93-A786-C20C7D8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2D9C-C56D-4024-8981-CAED4191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AD4A-BFD2-4820-9FD3-3EC188D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4F4A-415C-4F1A-A44F-1BB08AC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FAED-B70A-46E1-A924-70CAB78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9687-9126-47C3-8B4F-41E9FE2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4D80-168C-446E-B695-C770CCA5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ED9-DF98-41C5-9D7E-FC9EE33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78DB-FE01-4E13-9715-0C3BA7EC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2EEC8-ACDA-4541-8DB8-57267218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801F-7A22-46B0-91C2-143BC92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79DA6-34B6-4283-8DDC-F455D922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8D6A-5A67-4D47-9985-DCF6204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6D04B-2D0F-43FE-A469-482C222A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DB12-8D02-434D-8265-652FBD5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2B16-41A1-49C5-A4A9-EDD2C1F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3C35D-2201-4D4E-B501-0C10774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A552C-7E81-4D79-9CAA-E6FF8C2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F78-F9E2-42D7-844F-5DCF2FA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777A-6CEC-464F-8199-5629FB10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A47E-6718-4CC6-A76A-643A022E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1F73-8919-4156-AD9F-6850CB2D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27B-65CF-4706-80FA-2A3AFF9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EDA-6698-4569-9707-2B1157CF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765B-60D3-4FDA-9090-3F54E5289BE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A332-3C53-48DA-AFE4-6FE9AFE1FCE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65DB-BBBD-479D-9610-FB9F57AD35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1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E4F-EC02-40BC-81F4-70F998C400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C974-299A-42D5-99CB-17E1C5EA91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0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C19-C610-4B75-AA72-835971B1C3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руктура экологических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ндикаторов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учетом международного опы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95280" y="422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лександр Шеховцов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ждународный консультант проек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4067280" y="5734080"/>
            <a:ext cx="482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Республика Узбекистан, Ташкент, 28 февраля 2005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3284640"/>
            <a:ext cx="6769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проект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«Экологические индикаторы для мониторинга состояния окружающей среды в Узбекиста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5013360"/>
            <a:ext cx="6400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920" y="1125360"/>
            <a:ext cx="820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Измеряем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с точки зрения наличия доступных и экономически эффективных методов и методик их получения (измерения и/или расче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3716280"/>
            <a:ext cx="820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3500280"/>
            <a:ext cx="8281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Наличие временных рядов (регулярного потока)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с точки зрения наличия данных или первичной информации за достаточно длительный период времени, необходимых для количественного определения показателей и трендов их изме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920" y="1125000"/>
            <a:ext cx="820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Предсказуем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адекватно они могут предсказывать результативность и эффективность принимаемых мер экологической поли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3716280"/>
            <a:ext cx="820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3645000"/>
            <a:ext cx="8353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Приоритет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тносительной важности среди других индикаторов внутри экологической проблемы или вопроса экологической политики, чтобы ограничить число показателей, описывающих (характеризующих) одну и ту же проблему или вопрос и сократить общее число показа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ные экологические проблемы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ля стран ВЕКЦА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Изменение кли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Качество атмосферн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Вод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Земельные ресурсы и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Биоразнообраз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Лес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Рыб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Социально-экономические индикаторы, относящиеся ко всем проблем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15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7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90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65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750"/>
                            </p:stCondLst>
                            <p:childTnLst>
                              <p:par>
                                <p:cTn id="2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850"/>
                            </p:stCondLst>
                            <p:childTnLst>
                              <p:par>
                                <p:cTn id="2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560" y="112356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сходя из условий и требований настоящего проекта, с учетом имеющегося международного опыта, а также информации, полученной от заинтересованных министерств и ведомств Республики и с непосредственным  участием их представителей произведён выбор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9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ндикатора, из них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68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ндикаторов из международного списка, 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ндикатора, которые характеризуют специфические условия Узбеки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каждого индикатора определены и согласованы сроки начала их выполнения, которые подразделяю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раткосрочные, со сроком внедрения в 2005 г. (всего 7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реднесрочные, со сроком внедрения в 2007-2008 гг. (всего 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лгосрочные, со сроком внедрения после 2010 г. (всего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писание экологических индикаторов для Республики Узбекистан, используемых в руко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191628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1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Общее 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Код/ подк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b)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Краткое опре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Единицы изме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(d)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Очередность исполь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5640" y="414972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2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Роль в экологической полит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Цель и назначение показателя для принятия реш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Международные соглашения в дан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Международные и национальные целевые показатели,      стандарты и нормативы в дан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3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Методологическое опис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 Концептуальная б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Методы расчёта/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4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Базов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Требования к мониторингу и сбору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Трудности и ограни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Наличие баз дан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5. </a:t>
            </a:r>
            <a:r>
              <a:rPr b="1" lang="ru-RU" sz="2400" spc="-1" strike="noStrike" u="sng">
                <a:solidFill>
                  <a:srgbClr val="00007d"/>
                </a:solidFill>
                <a:uFillTx/>
                <a:latin typeface="Times New Roman"/>
              </a:rPr>
              <a:t>Дополнитель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а) Справочн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00007d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 Полезные страницы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ыбранные индикаторы были распределены по следующим приоритетным проблемам окружающей среды и секторов экономики (в скобках приведено количество индикаторов, согласованных для стран ВЕКЦ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19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Атмосферный воздух  -  20 (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2637000"/>
            <a:ext cx="82803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аловые выбросы загрязняющих веществ, всего,       в.т.ч. от стационарных и передвижных исто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Суммарные выбросы подкисляющих загрязнителей (SO2, NOx) от стационарных и передвижных источников (всего и по сектор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SO2, связанные с производством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NОх, связанные с производством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SO2 от стационарных и передвижных источников (всего и по сектор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1) Выбросы твердых частиц, связанные с производством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39640" y="836640"/>
            <a:ext cx="82803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(всего и по сектор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NOx от стационарных и передвижных источников (всего и по сектор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(NOx, СО) от передвижных ист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Выбросы  ТЧ от стационарных и передвижных источников (всего и по сектор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Интенсивность выбросов NОx, связанных с производством энер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Интенсивность выбросов SO2 , связанных с производством энергии (т/кВт*ча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3(1) Выбросы загрязняющих веществ на душу населения (в городах, где ведутся регулярные наблюдения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68360" y="907920"/>
            <a:ext cx="82803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4(2) Количество дней с превышением целевых показателей  по NO2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5(2) Количество дней с превышением целевых показателей  по ТЧ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(2) Количество дней с превышением целевых показателей  по СO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(2) Количество дней с превышением целевых показателей по SO2 в городах, где ведутся регулярные наблю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(1) Численность населения, проживающего в городах с превышением целевых показателей по загрязнению воздуха (например, кратность ПДК или индекс загрязнения атмосфе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9(1) Результат предпринятых в прошлом  мер с точки зрения снижения выбросов SO2 и N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0(1) Загрязнение атмосферного воздуха в городах (ИЗ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Водные ресурсы – 25   (3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1055520"/>
            <a:ext cx="82803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1) Индекс дефицита речного с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1) Общий водозабор (поверхностных и подземных в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1) Общее водопотребление (в том числе по видам использов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Запасы пресной воды (поверхностных и подземных в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(1) Использование воды в жилищно-коммунальном хозяй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(1) Использование воды в промышл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(1) Использование воды в сельском хозяй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(1) Общие запасы воды в водохранилищ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функция индикатора – ин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того, чтобы донести информацию, необходима простота. Индикаторы упрощают сложную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тор является выжимкой информации, полученной в ходе анализа данных мониторинга и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38862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тор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ощать информацию таким образом, чтобы помочь лицам, принимающим        решения, и общественности понять пробл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ть практически осуществимым и реаль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39640" y="963720"/>
            <a:ext cx="82803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(1) Доля повторно-оборотного использования воды (кроме с/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(1) Безвозвратные потери воды в сельском хозяй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(1) Потребление хозяйственно-питьевой воды на душу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(1) Утвержденные эксплуатационные запасы подземных в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3(1) Качество питьевой воды (доля числа проб, несоответствующих стандарт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(1) Сбросы органических веществ по Б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5(1) Биохимическое потребление кислорода и аммонийный азот в поверхностных вод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6(1) Биогенные вещества (нитраты и фосфаты) в поверхностных вод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7(1) Сбросы питательных веществ (нитраты и фосфаты) со станций очистки городских сточных 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9640" y="963720"/>
            <a:ext cx="8280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(1) Доля  неочищенных городских сточных вод от общего сб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(1) Нитраты в подземных вод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(1) Промышленные сбросы опасных вещест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1(1) Опасные вещества в поверхностных вод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(1) Пестициды в подземных вод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(1) Другие опасные вещества в подземных вод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4(1) Классификация поверхностных вод (по индексу загрязнения воды - ИЗ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(2) Загрязнение подземных вод (ИЗП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Земельные ресурсы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 –  14  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1055520"/>
            <a:ext cx="8280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1) Сельскохозяйственные угодья (включая приусадебные земли), всего, в т.ч. Орош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1) Использование орошаемой пашни под посе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1) Внесено удобрений, всего, в т.ч.минеральных, орган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Загрязнение почв пестицид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(1) Доля сельскохозяйственных земель, подверженных ветровой и водной эро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(1) Изменение структуры использования сельскохозяйственных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(1) Использование пестици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39640" y="1332000"/>
            <a:ext cx="8280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(1) Урожайность хлопча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(1) Соответствие структуры посевов на орошаемых землях основному  требованию-обеспечению воспроизводства плодородия поч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(1) Качество орошаемой паш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(1) Подтопление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(1) Засоление орошаемых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(1) Дигрессия пастби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(1) Радиационное загрязнение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Биологические разнообразие –  6 (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1055520"/>
            <a:ext cx="8280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(1) Особо охраняемые природные терри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т. 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категории: заповедники, национальные пар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категории: заказники, памятники при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категории: водоохранные  полосы водотоков, зоны формирования пресных  подземных 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(1) Земли лесного фонда всего, из них покрыто ле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(1) Естественные ле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(1) Редкие и исчезающие виды животных, занесенных в Красную Кни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(1) Редкие и исчезающие виды растений, занесенных в Красную Кни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(1) Охват территории защитными лесными насажде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Отходы –  9  (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1257480"/>
            <a:ext cx="82803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(3) Суммарное образование от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(1) Образование опасных (токсичных) от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(3) Образование промышленных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(1) Трансграничная транспортировка опасных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(1) Удаление отходов (суммар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(2) Интенсивность образования отходов (общее количество отходов на единицу ВВ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) Образование бытовых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(2) Вторичное использование от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(3) Производственные мощности по переработке от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Изменение климата  –   6   (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1257480"/>
            <a:ext cx="828036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1) Суммарные выбросы парниковых газов (СО2,СН4,N2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1) Прогнозируемые выбросы парниковых газов к 2010 году и сравнение с целевыми показателями, если они установ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1) Потребление озоноразрушающих веществ, с учетом ОР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Снежный пок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(1) Осад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(2) Отклонение температуры воздуха от базовой климатической нормы (1961 – 1990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9640" y="4762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Энергетика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–   4  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1257480"/>
            <a:ext cx="82803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(3) Общее потребление энергии по видам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(2) Общая энергоемкость (удельное энергопотребление на единицу ВВ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(3) Потребление возобновляем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(1) Производство электроэнергии из возобновляемых источников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 учетом специфических условий, характерных  для Узбекистана, в перечень индикаторов включены ещё два раздела, связанных с Аральским морем и здоровьем населения, проживающего в ст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19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Аральское море  -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2349360"/>
            <a:ext cx="82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(1) Уровень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(1) Площадь лесопосадок на осушенном дне мо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9640" y="364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Verdana"/>
              </a:rPr>
              <a:t>Состояние здоровья населения  -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4076640"/>
            <a:ext cx="828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(1) Общая заболеваемость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(1) Общая смертность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(1) Общая заболеваемость  детей до 14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(1) Младенческая смертность (детей до одного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(1) Несоответствие продовольственного сырья, пищевых продуктов требованиям САНПИ №0138-03, и №0909-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ОПИСАНИЯ ИНДИК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836640"/>
            <a:ext cx="896472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Verdana"/>
              </a:rPr>
              <a:t>2(1).</a:t>
            </a:r>
            <a:r>
              <a:rPr b="0" lang="ru-RU" sz="1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Verdana"/>
              </a:rPr>
              <a:t>СУММАРНЫЕ ВЫБРОСЫ ПОДКИСЛЯЮЩИХ ЗАГРЯЗНИТЕЛЕЙ  (SO2 и NOx) ОТ СТАЦИОНАРНЫХ И ПЕРЕДВИЖНЫХ ИСТОЧНИКОВ (ВСЕГО И ПО СЕКТОРА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cc"/>
                </a:solidFill>
                <a:uFillTx/>
                <a:latin typeface="Verdana"/>
              </a:rPr>
              <a:t>1. Общее опис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a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Код /Подкод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b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Краткое определение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оказатель характеризует количество поступ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иоксида серы и оксидов азота в атмосферный воздух с выбросами отходящих газов стационарных и передвижных источников загрязнения в единицу време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c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Единица измерения: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ысячи тонн в г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Очередность использования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Краткосроч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cc"/>
                </a:solidFill>
                <a:uFillTx/>
                <a:latin typeface="Verdana"/>
              </a:rPr>
              <a:t>2. Роль в экологической политике</a:t>
            </a: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а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Цель и назначение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Данный показатель является важным как фактор, определяющий кислотность экосистемы. Используется для оценки суммарной нагрузки кислотности на экосистемы. Государственными органами, принимающими решения, используется при установлении (пересмотре) нормативов предельно-допустимых выбросов диоксида серы и оксидов азота в атмосферу, а также для информирования общественности о состоянии проблемы и путях  ее ре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b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Международные соглашения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Конвенция ЕЭК ООН о трансграничном загрязнении воздуха на большие расстояния (Женева, 1979 год). Однако Узбекистан пока не присоединился к  этой Конвен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c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Международные и национальные целевые показатели, стандарты и нормативы в данной области: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ложение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ротокола 1999 года к Конвенции «О трансграничном загрязнении воздуха на большие расстояния» установлены потолки выбросов оксидов азота для стран – участниц Конвенции, а Приложение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этого же Протокола - для диоксида серы. В Узбекистане установлены ограничения по содержанию диоксида серы и окислов азота в выбросах в атмосферу от стационарных  источников загряз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8e8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Для кого предназначены экологические индика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422100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9640" y="184464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ы законодательной и исполнительной власт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стерства и ведом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егиональные и местные органы власти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ные и учебные организаци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нимательские структуры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ые и неправительственные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79280" y="476280"/>
            <a:ext cx="878544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cc"/>
                </a:solidFill>
                <a:uFillTx/>
                <a:latin typeface="Verdana"/>
              </a:rPr>
              <a:t>3. Методологическое описание</a:t>
            </a: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а) Концептуальная база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оказатели могут характеризовать как валовое поступление диоксида серы и оксидов азота в целом по стране, в регионах и городах, так и поступление этих веществ по секторам экономики: при производстве электроэнергии, сжигании топлива, в промышленных процессах, на транспорте и других видах экономической деятельности с целью оценки воздействия кислотности на экосистемы. Кроме того, эти показатели могут быть применены для характеристики вклада отдельных, наиболее крупных промышленных центров, имеющих соответствующие производства, в загрязнение атмосферного воздух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 и NOx входят в число шести основных веществ, контролируемых в части выбросов загрязняющих веществ в атмосферу транспортными средств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инамика изменения выбросов диоксида серы и оксидов азота за продолжительный период времени может характеризовать уровень развития производства, технологических процессов, мероприятий по охране атмосферного воздуха на предприят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(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b</a:t>
            </a:r>
            <a:r>
              <a:rPr b="1" lang="ru-RU" sz="1400" spc="-1" strike="noStrike">
                <a:solidFill>
                  <a:srgbClr val="0066ff"/>
                </a:solidFill>
                <a:latin typeface="Verdana"/>
              </a:rPr>
              <a:t>) Методы расчёта/измерения: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оказатель может быть как измеряемым инструментальными методами, так и расчетным  и складывается на основании отчетов государственных объединений, предприятий, организаций, имеющих стационарные источники загрязнения атмосферы диоксидом серы и оксидами азота, независимо от того, оборудованы они очистными сооружениями, или нет. Сбор, обработка отчетных данных и их издание в форме статистических бюллетеней производятся Госкомста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пределение выбросов от автотранспорта осуществляется расчетным путем. В качестве исходных данных используются сведения Госкомприроды об общем расходе топлива автотранспор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казатель рассчитывается как общий годовой объём выбросов каждого подкисляющего загрязнителя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 и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как от стационарных, так и от передвижных источ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476280"/>
            <a:ext cx="8785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9900cc"/>
                </a:solidFill>
                <a:uFillTx/>
                <a:latin typeface="Verdana"/>
              </a:rPr>
              <a:t>4. Базовые да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(а) Требования к мониторингу и сбору данных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Мониторинг суммарных выбросов SO2 и NOx в атмосферу должен обеспечивать получение репрезентативной информации об общих количествах этих веществ, выбрасываемых в атмосферу от стационарных и передвижных источник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ри инструментальных замерах параметров, необходимых для расчета выбросов загрязняющих веществ в атмосферу необходимо использовать оборудование, сертифицированное и поверенное национальными органами Госстандар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Химико-аналитические работы должны проводиться на базе аккредитованных лабораторий с развитой системой контроля качества измер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Со стороны соответствующих природоохранных ведомств должен быть налажен действенный контроль над качеством и достоверностью первичного уче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Обработка первичных данных и включение их в информационную базу должно проводиться с использованием современных информационных 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олучение полной и достоверной информации по данным наблюдений (расчета) по валовым выбросам должно быть своевремен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(b) Трудности и ограничения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Недостаточная обеспеченность современными измерительными приборами, устаревшие методики по проведению наблюдений и расчету, недостаточное финансирование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(c) Наличие баз данных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Госкомстат и его органы на местах располагают базами данных, охватывающие значительный временной ряд по данным показателям от стационарных источников в виде государственной статистической отчетности, а от передвижных источников на основе подсчета по количеству сжигаемого топл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156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едлагаемые экологические индикаторы  являются основой для оценки состояния окружающей среды в Узбекистане, разработки экологической политики и принятия решений. Вместе с тем, в процессе выполнения мониторинга, в целях совершенствования его системы возможно внесение отдельных изменений и дополнений в состав индикаторов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ктическое применение Руководства позволит проводить оценку экологической обстановки и следить за ее динамикой при проведении мониторинга окружающей среды не только на региональном и национальном, но и что очень важно, на локальном уровнях, определять конкретные участки с наиболее напряженной экологической обстановкой, намечать адресный план действий по ее стабилизации, разрабатывать экологическую политику Республики и принимать необходимы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258920" y="734400"/>
            <a:ext cx="655308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9068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ологические индикаторы подразделяются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следующие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етыре основные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2080" y="311508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А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описывающие воздействие на окружающую сре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2800" y="3881880"/>
            <a:ext cx="80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характеризующие состояние 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1000" y="4650120"/>
            <a:ext cx="86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писывающие последствия для 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1000" y="5418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писывающие принимаемые 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международной практике индикаторы классифицируютс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их роли в оценке проблемы по схеме ДНСВ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движущие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груз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состо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воз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реаг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65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950"/>
                            </p:stCondLst>
                            <p:childTnLst>
                              <p:par>
                                <p:cTn id="1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950"/>
                            </p:stCondLst>
                            <p:childTnLst>
                              <p:par>
                                <p:cTn id="1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950"/>
                            </p:stCondLst>
                            <p:childTnLst>
                              <p:par>
                                <p:cTn id="1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950"/>
                            </p:stCondLst>
                            <p:childTnLst>
                              <p:par>
                                <p:cTn id="1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db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Методология и структура экологических индикаторов принятая на международ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205272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зв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раткое определ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диницы измер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цели, решаемые конкретным индикатор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го отношение к устойчивому/неустойчивому развит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еждународные конвенции и соглашения, где присутствует индикато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екомендуемые стандар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вязь с другими индикатор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етоды измер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имитирующие факто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циональные и международные доступные результаты и источни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правочные дан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гентства и организации, имеющие отношение к развитию индикатор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сылки на имеющиеся публик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77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2003 году представителями стран ВЕКЦА, в том числе из Узбекистана,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з </a:t>
            </a:r>
            <a:r>
              <a:rPr b="1" i="1" lang="et-EE" sz="4000" spc="-1" strike="noStrike">
                <a:solidFill>
                  <a:srgbClr val="ffffff"/>
                </a:solidFill>
                <a:latin typeface="Arial"/>
              </a:rPr>
              <a:t>356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дикаторов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ложенных 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ЕАО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спертным путем 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были </a:t>
            </a:r>
            <a:r>
              <a:rPr b="1" lang="et-EE" sz="4000" spc="-1" strike="noStrike">
                <a:solidFill>
                  <a:srgbClr val="ffffff"/>
                </a:solidFill>
                <a:latin typeface="Arial"/>
              </a:rPr>
              <a:t>отобраны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i="1" lang="et-EE" sz="4000" spc="-1" strike="noStrike">
                <a:solidFill>
                  <a:srgbClr val="ffffff"/>
                </a:solidFill>
                <a:latin typeface="Arial"/>
              </a:rPr>
              <a:t>118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дикаторов</a:t>
            </a: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000"/>
            </a:br>
            <a:r>
              <a:rPr b="0" lang="et-EE" sz="4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сновании следующих критери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50920" y="134100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Связь с национальными экологическими приоритет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они связаны с целями и задачами национальных стратегических документов по охране окружающей среды и рационального использования природных ресурсов (национальные стратегии по охране окружающей среды (ООС), по устойчивому развитию, по биоразнообразие, Национальный План Действий по Охране Окружающей Среды (НПДООС) и другие программные документ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50920" y="764640"/>
            <a:ext cx="820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Связь с международной экологической полити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они связаны с выполнением международных соглашений и обязательств, а также обеспечивают сопоставимость на международн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716280"/>
            <a:ext cx="820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Важность как средство коммуникации – информирования общественности о состоянии окружающей сре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оцениваются по тому, насколько они понятны для широкой общественности и способны вызвать озабоченность состоянием окружающей сре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0:17:42Z</dcterms:created>
  <dc:creator>User</dc:creator>
  <dc:description/>
  <dc:language>en-US</dc:language>
  <cp:lastModifiedBy>Sherembetov</cp:lastModifiedBy>
  <dcterms:modified xsi:type="dcterms:W3CDTF">2005-03-22T04:49:54Z</dcterms:modified>
  <cp:revision>66</cp:revision>
  <dc:subject/>
  <dc:title>Слайд 1</dc:title>
</cp:coreProperties>
</file>