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597-8DE8-4CD8-B12D-CC219C04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185-F675-4971-A2FC-6ABC5072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152-0730-4FC3-8F0B-DE054E9F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C53-3BA7-4E70-9228-91A44E4A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213C-981B-48D3-BA53-313E29C1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84C2-B38E-448D-89A9-7BB97AF7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027E-A394-4C80-8A70-5D200268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08E9-38A7-4650-8A40-E2246897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9940-D847-419B-BDCC-EA97B770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3FBC-B1A6-4B8C-8F7A-4C08EE25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6ADF-C3C3-4492-BB5E-16878C2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135-3280-4413-B06C-DBD7AAFB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8636-00E4-404A-8777-4201D305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9377-3215-414F-BCF5-9EA46935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EBC5-3B30-4AEA-946E-7A18A076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F859-D317-4BD9-8C0A-30E62172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F6BA-DBAC-4C49-B0A1-D79CE597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64747-84AF-4F59-AD4C-77F9CB45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0BDAC-4051-4AB3-A5EC-0EDE9C3F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E0FBB-2B6E-451E-BE91-448467A8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0F1AB-F00D-4024-93AA-803FD221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1DD7A-869E-4F5A-ADBE-2FD1E7D5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DF6-2016-40C4-8C6B-10268CC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5C7CE-8A15-4429-A588-1AA13F0A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305AC-BB47-4F36-9D6D-24A9C2B4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6F9EF-27CB-4A7D-A212-0F802736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AD3AC-D148-41EC-8AA8-927F4314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90FAB-A8FD-4755-9FAC-3319C454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9EE39-7D14-4820-BB76-00CC32AB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2304C-F228-4B5A-98BB-9BB957DB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5C15-7F38-48B5-A9BC-216A82CC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6E64-B4B0-47CE-BD7C-0AA077C4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AFD7-75B3-4967-85EF-D0CD76D1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E2E-B124-4562-A83A-C8F8D7E3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BB4F-EBD3-4B68-AB5C-9F0F79AE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C11D-1D73-4D37-9AED-BB79605E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4735-4D00-465D-823D-022B6BD1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DB3B-BA06-4684-A6AE-71898536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4245-9CD0-4B03-BCA4-9991AC15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F537-EB78-4986-8C47-B904AE57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3896-0783-4B2C-9144-9BB4222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9201-1B9C-4048-8CCC-94C8CE70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3104-75EF-4668-A028-07BBC3BA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91D5-80BD-459C-964A-9608F803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16D-56E4-4567-94D5-F2539B8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033BA-6E7E-4026-811B-DC40A525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D453E-5D82-428F-9075-B6C614D4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CCA37-01B4-4C7A-9136-8FCFE014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791D-A1CD-42B3-B8C4-A2E68E02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08576-1055-4C7E-AAE0-642D0328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43643-D9FA-46E6-98BC-B32B59F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EDDC6-5356-4826-A26E-295A2879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5CA8-3A27-476D-93FC-0986ACAD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B66F7-757A-4358-AF53-F6CF8569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B2FCD-6815-422D-9F3A-80316147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2A4-3C9D-4BCE-B5A9-BFF502CA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80E58-05CD-481F-B34D-EB7C71F4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C270-637A-4186-BA99-3A63DEDD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9146F-6AC8-4154-9EF6-5E8EC985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A5721-0D19-4991-9160-E707C575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72B5F-8717-46C3-9380-C28EDA09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467E9-2600-41C2-808C-62A632CA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8F030-8A3B-48D7-833F-EA7FFF0C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03F3-EF5E-4F34-9906-B41948CE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CC51D-3378-4DF2-B14C-A2B59E1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91B6-55D2-4BE9-BED9-72C2AE4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4CA-709B-4F9F-9544-A78E57F7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5D29A-6053-48CA-9E95-36B8383D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25E5B-76BF-4E30-9DD4-99452CCE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FF8B-47ED-4A04-8C03-D3C5A549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39F-1823-4B33-A1A3-1A89CE55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BFE-BAE1-4330-8B79-A2EB3699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C970-7413-412D-828C-9D834C0AC20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DFE3-38DF-4FD9-AAA8-CF3C529C91C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F7C7-C1BD-411C-A2AF-ADD52FB5BC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1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E874-39C6-47FF-BB45-BA5B1EEA6B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3EBC-CEBA-4178-8CD5-7C156575C1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0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551-A28E-4340-8B67-E4975C3FDE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92800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труктура экологических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ндикаторов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 учетом международного опы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95280" y="422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лександр Шеховцов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ждународный консультант проек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4067280" y="5734080"/>
            <a:ext cx="482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Республика Узбекистан, Ташкент, 28 февраля 2005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3284640"/>
            <a:ext cx="6769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проект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«Экологические индикаторы для мониторинга состояния окружающей среды в Узбекиста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5013360"/>
            <a:ext cx="6400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50920" y="1125360"/>
            <a:ext cx="820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Измеряем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с точки зрения наличия доступных и экономически эффективных методов и методик их получения (измерения и/или расче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3716280"/>
            <a:ext cx="820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0920" y="3500280"/>
            <a:ext cx="82818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Наличие временных рядов (регулярного потока) дан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с точки зрения наличия данных или первичной информации за достаточно длительный период времени, необходимых для количественного определения показателей и трендов их изме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50920" y="1125000"/>
            <a:ext cx="820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Предсказуем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по тому, насколько адекватно они могут предсказывать результативность и эффективность принимаемых мер экологической поли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9280" y="3716280"/>
            <a:ext cx="820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3645000"/>
            <a:ext cx="8353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Приоритет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относительной важности среди других индикаторов внутри экологической проблемы или вопроса экологической политики, чтобы ограничить число показателей, описывающих (характеризующих) одну и ту же проблему или вопрос и сократить общее число показате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001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новные экологические проблемы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ля стран ВЕКЦА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Изменение кли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Качество атмосферного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Вод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Земельные ресурсы и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Биоразнообраз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Лес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Рыб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Социально-экономические индикаторы, относящиеся ко всем проблем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"/>
                            </p:stCondLst>
                            <p:childTnLst>
                              <p:par>
                                <p:cTn id="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50"/>
                            </p:stCondLst>
                            <p:childTnLst>
                              <p:par>
                                <p:cTn id="2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150"/>
                            </p:stCondLst>
                            <p:childTnLst>
                              <p:par>
                                <p:cTn id="2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70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900"/>
                            </p:stCondLst>
                            <p:childTnLst>
                              <p:par>
                                <p:cTn id="2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650"/>
                            </p:stCondLst>
                            <p:childTnLst>
                              <p:par>
                                <p:cTn id="2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750"/>
                            </p:stCondLst>
                            <p:childTnLst>
                              <p:par>
                                <p:cTn id="2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850"/>
                            </p:stCondLst>
                            <p:childTnLst>
                              <p:par>
                                <p:cTn id="2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560" y="112356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сходя из условий и требований настоящего проекта, с учетом имеющегося международного опыта, а также информации, полученной от заинтересованных министерств и ведомств Республики и с непосредственным  участием их представителей произведён выбор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9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ндикатора, из них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68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ндикаторов из международного списка, и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ндикатора, которые характеризуют специфические условия Узбекист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каждого индикатора определены и согласованы сроки начала их выполнения, которые подразделяю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раткосрочные, со сроком внедрения в 2005 г. (всего 7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реднесрочные, со сроком внедрения в 2007-2008 гг. (всего 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лгосрочные, со сроком внедрения после 2010 г. (всего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Описание экологических индикаторов для Республики Узбекистан, используемых в руко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" y="191628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1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Общее 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Код/ подк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b)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Краткое опреде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Единицы изме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(d)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Очередность исполь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5640" y="414972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2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Роль в экологической полити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а) Цель и назначение показателя для принятия реш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Международные соглашения в дан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Международные и национальные целевые показатели,      стандарты и нормативы в дан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3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Методологическое опис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а)  Концептуальная б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Методы расчёта/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4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Базов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а) Требования к мониторингу и сбору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Трудности и ограни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Наличие баз данн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5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Дополнитель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а) Справочн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Полезные страницы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ыбранные индикаторы были распределены по следующим приоритетным проблемам окружающей среды и секторов экономики (в скобках приведено количество индикаторов, согласованных для стран ВЕКЦ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19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Атмосферный воздух  -  20 (2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2637000"/>
            <a:ext cx="82803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аловые выбросы загрязняющих веществ, всего,       в.т.ч. от стационарных и передвижных источ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Суммарные выбросы подкисляющих загрязнителей (SO2, NOx) от стационарных и передвижных источников (всего и по сектор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ыбросы SO2, связанные с производством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ыбросы NОх, связанные с производством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ыбросы SO2 от стационарных и передвижных источников (всего и по сектор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ыбросы твердых частиц, связанные с производством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39640" y="836640"/>
            <a:ext cx="82803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Выброс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(всего и по сектор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Выбросы NOx от стационарных и передвижных источников (всего и по сектор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Выбросы (NOx, СО) от передвижных ист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Выбросы  ТЧ от стационарных и передвижных источников (всего и по сектор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Интенсивность выбросов NОx, связанных с производством энер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Интенсивность выбросов SO2 , связанных с производством энергии (т/кВт*ча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3(1) Выбросы загрязняющих веществ на душу населения (в городах, где ведутся регулярные наблюдения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68360" y="907920"/>
            <a:ext cx="82803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4(2) Количество дней с превышением целевых показателей  по NO2 в городах, где ведутся регулярные наблю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5(2) Количество дней с превышением целевых показателей  по ТЧ в городах, где ведутся регулярные наблю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(2) Количество дней с превышением целевых показателей  по СO в городах, где ведутся регулярные наблю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(2) Количество дней с превышением целевых показателей по SO2 в городах, где ведутся регулярные наблю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(1) Численность населения, проживающего в городах с превышением целевых показателей по загрязнению воздуха (например, кратность ПДК или индекс загрязнения атмосфер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9(1) Результат предпринятых в прошлом  мер с точки зрения снижения выбросов SO2 и N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0(1) Загрязнение атмосферного воздуха в городах (ИЗ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Водные ресурсы – 25   (3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1055520"/>
            <a:ext cx="828036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(1) Индекс дефицита речного с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(1) Общий водозабор (поверхностных и подземных во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(1) Общее водопотребление (в том числе по видам использов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(1) Запасы пресной воды (поверхностных и подземных во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(1) Использование воды в жилищно-коммунальном хозяй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(1) Использование воды в промышл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(1) Использование воды в сельском хозяй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(1) Общие запасы воды в водохранилищ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функция индикатора – инфор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того, чтобы донести информацию, необходима простота. Индикаторы упрощают сложную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тор является выжимкой информации, полученной в ходе анализа данных мониторинга и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0" y="1988640"/>
            <a:ext cx="4038480" cy="38862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тор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рощать информацию таким образом, чтобы помочь лицам, принимающим        решения, и общественности понять пробл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ть практически осуществимым и реальн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39640" y="963720"/>
            <a:ext cx="828036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(1) Доля повторно-оборотного использования воды (кроме с/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(1) Безвозвратные потери воды в сельском хозяй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(1) Потребление хозяйственно-питьевой воды на душу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(1) Утвержденные эксплуатационные запасы подземных в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3(1) Качество питьевой воды (доля числа проб, несоответствующих стандарт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4(1) Сбросы органических веществ по Б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5(1) Биохимическое потребление кислорода и аммонийный азот в поверхностных вод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6(1) Биогенные вещества (нитраты и фосфаты) в поверхностных вод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7(1) Сбросы питательных веществ (нитраты и фосфаты) со станций очистки городских сточных 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9640" y="963720"/>
            <a:ext cx="8280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(1) Доля  неочищенных городских сточных вод от общего сбр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(1) Нитраты в подземных вод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(1) Промышленные сбросы опасных вещест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1(1) Опасные вещества в поверхностных вод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2(1) Пестициды в подземных вод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3(1) Другие опасные вещества в подземных вод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4(1) Классификация поверхностных вод (по индексу загрязнения воды - ИЗ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(2) Загрязнение подземных вод (ИЗП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Земельные ресурсы</a:t>
            </a: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 –  14  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9640" y="1055520"/>
            <a:ext cx="8280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(1) Сельскохозяйственные угодья (включая приусадебные земли), всего, в т.ч. Орош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(1) Использование орошаемой пашни под посе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(1) Внесено удобрений, всего, в т.ч.минеральных, орган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(1) Загрязнение почв пестицид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(1) Доля сельскохозяйственных земель, подверженных ветровой и водной эро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(1) Изменение структуры использования сельскохозяйственных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(1) Использование пестици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39640" y="1332000"/>
            <a:ext cx="8280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(1) Урожайность хлопчат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(1) Соответствие структуры посевов на орошаемых землях основному  требованию-обеспечению воспроизводства плодородия поч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(1) Качество орошаемой паш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(1) Подтопление 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(1) Засоление орошаемых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(1) Дигрессия пастби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4(1) Радиационное загрязнение 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Биологические разнообразие –  6 (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9640" y="1055520"/>
            <a:ext cx="8280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(1) Особо охраняемые природные терри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т. 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категории: заповедники, национальные пар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категории: заказники, памятники прир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категории: водоохранные  полосы водотоков, зоны формирования пресных  подземных 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(1) Земли лесного фонда всего, из них покрыто ле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(1) Естественные ле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(1) Редкие и исчезающие виды животных, занесенных в Красную Кни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(1) Редкие и исчезающие виды растений, занесенных в Красную Кни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(1) Охват территории защитными лесными насажде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Отходы –  9  (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1257480"/>
            <a:ext cx="82803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(3) Суммарное образование отхо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(1) Образование опасных (токсичных) отхо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(3) Образование промышленных от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(1) Трансграничная транспортировка опасных от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(1) Удаление отходов (суммар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(2) Интенсивность образования отходов (общее количество отходов на единицу ВВП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Образование бытовых от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(2) Вторичное использование отхо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9(3) Производственные мощности по переработке от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Изменение климата  –   6   (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1257480"/>
            <a:ext cx="828036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(1) Суммарные выбросы парниковых газов (СО2,СН4,N2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(1) Прогнозируемые выбросы парниковых газов к 2010 году и сравнение с целевыми показателями, если они установл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(1) Потребление озоноразрушающих веществ, с учетом ОР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(1) Снежный пок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(1) Осад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(2) Отклонение температуры воздуха от базовой климатической нормы (1961 – 1990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Энергетика</a:t>
            </a: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–   4  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1257480"/>
            <a:ext cx="828036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(3) Общее потребление энергии по видам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(2) Общая энергоемкость (удельное энергопотребление на единицу ВВП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(3) Потребление возобновляем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(1) Производство электроэнергии из возобновляемых источников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 учетом специфических условий, характерных  для Узбекистана, в перечень индикаторов включены ещё два раздела, связанных с Аральским морем и здоровьем населения, проживающего в стра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9640" y="19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Аральское море  -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2349360"/>
            <a:ext cx="82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(1) Уровень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(1) Площадь лесопосадок на осушенном дне мо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9640" y="364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Состояние здоровья населения  -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9640" y="4076640"/>
            <a:ext cx="828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(1) Общая заболеваемость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(1) Общая смертность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(1) Общая заболеваемость  детей до 14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(1) Младенческая смертность (детей до одного г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(1) Несоответствие продовольственного сырья, пищевых продуктов требованиям САНПИ №0138-03, и №0909-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 ОПИСАНИЯ ИНДИК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836640"/>
            <a:ext cx="8964720" cy="58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Verdana"/>
              </a:rPr>
              <a:t>2(1).</a:t>
            </a:r>
            <a:r>
              <a:rPr b="0" lang="ru-RU" sz="1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Verdana"/>
              </a:rPr>
              <a:t>СУММАРНЫЕ ВЫБРОСЫ ПОДКИСЛЯЮЩИХ ЗАГРЯЗНИТЕЛЕЙ  (SO2 и NOx) ОТ СТАЦИОНАРНЫХ И ПЕРЕДВИЖНЫХ ИСТОЧНИКОВ (ВСЕГО И ПО СЕКТОРА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9900cc"/>
                </a:solidFill>
                <a:uFillTx/>
                <a:latin typeface="Verdana"/>
              </a:rPr>
              <a:t>1. Общее опис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a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Код /Подкод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b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Краткое определение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оказатель характеризует количество поступл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иоксида серы и оксидов азота в атмосферный воздух с выбросами отходящих газов стационарных и передвижных источников загрязнения в единицу време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c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Единица измерения: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ысячи тонн в го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d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Очередность использования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Краткосроч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9900cc"/>
                </a:solidFill>
                <a:uFillTx/>
                <a:latin typeface="Verdana"/>
              </a:rPr>
              <a:t>2. Роль в экологической политике</a:t>
            </a: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а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Цель и назначение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Данный показатель является важным как фактор, определяющий кислотность экосистемы. Используется для оценки суммарной нагрузки кислотности на экосистемы. Государственными органами, принимающими решения, используется при установлении (пересмотре) нормативов предельно-допустимых выбросов диоксида серы и оксидов азота в атмосферу, а также для информирования общественности о состоянии проблемы и путях  ее реш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b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Международные соглашения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Конвенция ЕЭК ООН о трансграничном загрязнении воздуха на большие расстояния (Женева, 1979 год). Однако Узбекистан пока не присоединился к  этой Конвенц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c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Международные и национальные целевые показатели, стандарты и нормативы в данной области: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ложением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ротокола 1999 года к Конвенции «О трансграничном загрязнении воздуха на большие расстояния» установлены потолки выбросов оксидов азота для стран – участниц Конвенции, а Приложением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V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этого же Протокола - для диоксида серы. В Узбекистане установлены ограничения по содержанию диоксида серы и окислов азота в выбросах в атмосферу от стационарных  источников загряз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8e8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Для кого предназначены экологические индика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5280" y="4221000"/>
            <a:ext cx="82296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9640" y="184464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ы законодательной и исполнительной власт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стерства и ведом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егиональные и местные органы власти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ные и учебные организаци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нимательские структуры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ые и неправительственные орган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79280" y="476280"/>
            <a:ext cx="878544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9900cc"/>
                </a:solidFill>
                <a:uFillTx/>
                <a:latin typeface="Verdana"/>
              </a:rPr>
              <a:t>3. Методологическое описание</a:t>
            </a: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а) Концептуальная база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оказатели могут характеризовать как валовое поступление диоксида серы и оксидов азота в целом по стране, в регионах и городах, так и поступление этих веществ по секторам экономики: при производстве электроэнергии, сжигании топлива, в промышленных процессах, на транспорте и других видах экономической деятельности с целью оценки воздействия кислотности на экосистемы. Кроме того, эти показатели могут быть применены для характеристики вклада отдельных, наиболее крупных промышленных центров, имеющих соответствующие производства, в загрязнение атмосферного воздух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ыбросы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 и NOx входят в число шести основных веществ, контролируемых в части выбросов загрязняющих веществ в атмосферу транспортными средств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инамика изменения выбросов диоксида серы и оксидов азота за продолжительный период времени может характеризовать уровень развития производства, технологических процессов, мероприятий по охране атмосферного воздуха на предприят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b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 Методы расчёта/измерения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оказатель может быть как измеряемым инструментальными методами, так и расчетным  и складывается на основании отчетов государственных объединений, предприятий, организаций, имеющих стационарные источники загрязнения атмосферы диоксидом серы и оксидами азота, независимо от того, оборудованы они очистными сооружениями, или нет. Сбор, обработка отчетных данных и их издание в форме статистических бюллетеней производятся Госкомста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пределение выбросов от автотранспорта осуществляется расчетным путем. В качестве исходных данных используются сведения Госкомприроды об общем расходе топлива автотранспор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казатель рассчитывается как общий годовой объём выбросов каждого подкисляющего загрязнителя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 и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 как от стационарных, так и от передвижных источ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9280" y="476280"/>
            <a:ext cx="8785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9900cc"/>
                </a:solidFill>
                <a:uFillTx/>
                <a:latin typeface="Verdana"/>
              </a:rPr>
              <a:t>4. Базовые дан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(а) Требования к мониторингу и сбору данных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Мониторинг суммарных выбросов SO2 и NOx в атмосферу должен обеспечивать получение репрезентативной информации об общих количествах этих веществ, выбрасываемых в атмосферу от стационарных и передвижных источник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ри инструментальных замерах параметров, необходимых для расчета выбросов загрязняющих веществ в атмосферу необходимо использовать оборудование, сертифицированное и поверенное национальными органами Госстандар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Химико-аналитические работы должны проводиться на базе аккредитованных лабораторий с развитой системой контроля качества измер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Со стороны соответствующих природоохранных ведомств должен быть налажен действенный контроль над качеством и достоверностью первичного уче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Обработка первичных данных и включение их в информационную базу должно проводиться с использованием современных информационных технолог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олучение полной и достоверной информации по данным наблюдений (расчета) по валовым выбросам должно быть своевремен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(b) Трудности и ограничения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Недостаточная обеспеченность современными измерительными приборами, устаревшие методики по проведению наблюдений и расчету, недостаточное финансирование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(c) Наличие баз данных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Госкомстат и его органы на местах располагают базами данных, охватывающие значительный временной ряд по данным показателям от стационарных источников в виде государственной статистической отчетности, а от передвижных источников на основе подсчета по количеству сжигаемого топли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156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едлагаемые экологические индикаторы  являются основой для оценки состояния окружающей среды в Узбекистане, разработки экологической политики и принятия решений. Вместе с тем, в процессе выполнения мониторинга, в целях совершенствования его системы возможно внесение отдельных изменений и дополнений в состав индикаторов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ктическое применение Руководства позволит проводить оценку экологической обстановки и следить за ее динамикой при проведении мониторинга окружающей среды не только на региональном и национальном, но и что очень важно, на локальном уровнях, определять конкретные участки с наиболее напряженной экологической обстановкой, намечать адресный план действий по ее стабилизации, разрабатывать экологическую политику Республики и принимать необходимы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258920" y="734400"/>
            <a:ext cx="655308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9068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ологические индикаторы подразделяются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следующие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етыре основные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2080" y="311508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А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описывающие воздействие на окружающую сре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2800" y="3881880"/>
            <a:ext cx="80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характеризующие состояние 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1000" y="4650120"/>
            <a:ext cx="86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писывающие последствия для 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1000" y="5418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писывающие принимаемые 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международной практике индикаторы классифицируютс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 их роли в оценке проблемы по схеме ДНСВ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движущие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груз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состоя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воз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реаг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65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950"/>
                            </p:stCondLst>
                            <p:childTnLst>
                              <p:par>
                                <p:cTn id="12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950"/>
                            </p:stCondLst>
                            <p:childTnLst>
                              <p:par>
                                <p:cTn id="1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950"/>
                            </p:stCondLst>
                            <p:childTnLst>
                              <p:par>
                                <p:cTn id="1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950"/>
                            </p:stCondLst>
                            <p:childTnLst>
                              <p:par>
                                <p:cTn id="15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db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Методология и структура экологических индикаторов принятая на международ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205272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зва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краткое определ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единицы измере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цели, решаемые конкретным индикатор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его отношение к устойчивому/неустойчивому развит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еждународные конвенции и соглашения, где присутствует индикатор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екомендуемые стандар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вязь с другими индикатор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етоды измере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имитирующие фактор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циональные и международные доступные результаты и источни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правочные данн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гентства и организации, имеющие отношение к развитию индикатор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сылки на имеющиеся публик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677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2003 году представителями стран ВЕКЦА, в том числе из Узбекистана,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з </a:t>
            </a:r>
            <a:r>
              <a:rPr b="1" i="1" lang="et-EE" sz="4000" spc="-1" strike="noStrike">
                <a:solidFill>
                  <a:srgbClr val="ffffff"/>
                </a:solidFill>
                <a:latin typeface="Arial"/>
              </a:rPr>
              <a:t>356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ндикаторов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ложенных 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ЕАО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спертным путем 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были </a:t>
            </a:r>
            <a:r>
              <a:rPr b="1" lang="et-EE" sz="4000" spc="-1" strike="noStrike">
                <a:solidFill>
                  <a:srgbClr val="ffffff"/>
                </a:solidFill>
                <a:latin typeface="Arial"/>
              </a:rPr>
              <a:t>отобраны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i="1" lang="et-EE" sz="4000" spc="-1" strike="noStrike">
                <a:solidFill>
                  <a:srgbClr val="ffffff"/>
                </a:solidFill>
                <a:latin typeface="Arial"/>
              </a:rPr>
              <a:t>118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ндикаторов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4000"/>
            </a:b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основании следующих критери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50920" y="134100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Связь с национальными экологическими приоритета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по тому, насколько они связаны с целями и задачами национальных стратегических документов по охране окружающей среды и рационального использования природных ресурсов (национальные стратегии по охране окружающей среды (ООС), по устойчивому развитию, по биоразнообразие, Национальный План Действий по Охране Окружающей Среды (НПДООС) и другие программные документ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50920" y="764640"/>
            <a:ext cx="820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Связь с международной экологической полити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по тому, насколько они связаны с выполнением международных соглашений и обязательств, а также обеспечивают сопоставимость на международном уров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3716280"/>
            <a:ext cx="820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Важность как средство коммуникации – информирования общественности о состоянии окружающей сре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по тому, насколько они понятны для широкой общественности и способны вызвать озабоченность состоянием окружающей сре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0:17:42Z</dcterms:created>
  <dc:creator>User</dc:creator>
  <dc:description/>
  <dc:language>en-US</dc:language>
  <cp:lastModifiedBy>Sherembetov</cp:lastModifiedBy>
  <dcterms:modified xsi:type="dcterms:W3CDTF">2005-03-22T04:49:54Z</dcterms:modified>
  <cp:revision>66</cp:revision>
  <dc:subject/>
  <dc:title>Слайд 1</dc:title>
</cp:coreProperties>
</file>