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A44-0555-4CAC-92B9-874EEA96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602-EDF3-4D1E-89B2-F9364B14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A6E-D992-4363-93BC-032428AD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75D5-F40C-4FD7-8A68-2B5D40E3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540B-D7B8-4084-A688-7BB25E91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4133-866C-4B28-B842-9D16EF05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C35D-20AC-4050-A159-59256C4B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0A7D-CD78-42A6-806E-05175087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686D-8915-4357-89D1-F50FB837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3576-5DB3-43FE-9022-0F9EA5BE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623E-EA52-4AB8-8D37-F59121A4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B8B-C4D3-42C8-BA37-6C0A5501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997A-23A2-4067-B56C-92F7A168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7E68-7660-4EF6-9AD8-835147E2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89F9-B0E5-4FA5-8042-649C04B6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DE0F-236C-4E73-B4BE-D8775BEE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2D52-8DCB-4B5D-8606-0CD9347E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B7E-9F17-4344-8112-1430FFB4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4DF-ACE7-403F-9F7F-C8ED8C7E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B25-1043-49C4-AC81-897B2D89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E3C-A396-4F1C-8BCF-DFE2A4F6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082-7D1B-4AAD-A83E-C74DD0E7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B10-311D-492D-8628-0248D991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C7B6-E0C1-4AAD-AAE3-B590D863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3E9A-EAEC-49B0-A28B-E10AF2F5B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7FC6-5C6A-4985-949E-D8B2E8217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Наш особенный ветер – норд-ост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выполнена:Кореньковой Еле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«Б» класс МОУ СОШ №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 Гелендж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71400" y="277920"/>
            <a:ext cx="78012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71400" y="277920"/>
            <a:ext cx="78012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71400" y="277920"/>
            <a:ext cx="78012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екабрь 1997 г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71400" y="277920"/>
            <a:ext cx="78012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Гипотезы укрощения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кладка тонн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тановка мощных ветряных двига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адка хвойных растений на склонах хреб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здана система раннего опове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орд-ост - дру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меньшение заболевших гриппом и другими вирусными инфекци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чистка улиц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чищение возду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чищение морской 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основать причины возникновения такого явления природы, как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орд-ос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выяснить причины его укро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387036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причины возникновения северо-восточного вет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двинуть гипотезы укрощения вет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читься принимать это явление, как приносящее поль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орд-ос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02920" y="1557360"/>
            <a:ext cx="5761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еверо-восточный вете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наз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Новороссийская бора» по имени бога северного ветра Бор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 января 163 года со дня рождения норд-о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77080" y="4076640"/>
            <a:ext cx="17240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848 год - ледяной кораб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72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929 год Обледенелый дом на берегу мор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17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едполож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олодный воздух задерживается и с огромной скоростью низвергается вн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7559640" cy="36734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682720" y="2803680"/>
            <a:ext cx="5581800" cy="993600"/>
          </a:xfrm>
          <a:custGeom>
            <a:avLst/>
            <a:gdLst/>
            <a:ahLst/>
            <a:rect l="l" t="t" r="r" b="b"/>
            <a:pathLst>
              <a:path w="15503" h="2763">
                <a:moveTo>
                  <a:pt x="8882" y="8406"/>
                </a:moveTo>
                <a:cubicBezTo>
                  <a:pt x="8936" y="8382"/>
                  <a:pt x="8992" y="8335"/>
                  <a:pt x="9049" y="8311"/>
                </a:cubicBezTo>
                <a:cubicBezTo>
                  <a:pt x="9109" y="8286"/>
                  <a:pt x="9182" y="8288"/>
                  <a:pt x="9239" y="8263"/>
                </a:cubicBezTo>
                <a:cubicBezTo>
                  <a:pt x="9320" y="8228"/>
                  <a:pt x="9416" y="8163"/>
                  <a:pt x="9501" y="8144"/>
                </a:cubicBezTo>
                <a:cubicBezTo>
                  <a:pt x="9555" y="8132"/>
                  <a:pt x="9614" y="8131"/>
                  <a:pt x="9668" y="8120"/>
                </a:cubicBezTo>
                <a:cubicBezTo>
                  <a:pt x="9781" y="8096"/>
                  <a:pt x="9893" y="8096"/>
                  <a:pt x="10001" y="8072"/>
                </a:cubicBezTo>
                <a:cubicBezTo>
                  <a:pt x="10069" y="8057"/>
                  <a:pt x="10152" y="8010"/>
                  <a:pt x="10216" y="8001"/>
                </a:cubicBezTo>
                <a:cubicBezTo>
                  <a:pt x="10303" y="7988"/>
                  <a:pt x="10369" y="7992"/>
                  <a:pt x="10454" y="7977"/>
                </a:cubicBezTo>
                <a:cubicBezTo>
                  <a:pt x="10499" y="7969"/>
                  <a:pt x="10529" y="7935"/>
                  <a:pt x="10573" y="7930"/>
                </a:cubicBezTo>
                <a:cubicBezTo>
                  <a:pt x="11011" y="7884"/>
                  <a:pt x="11458" y="7913"/>
                  <a:pt x="11882" y="7858"/>
                </a:cubicBezTo>
                <a:cubicBezTo>
                  <a:pt x="14236" y="7550"/>
                  <a:pt x="17271" y="7590"/>
                  <a:pt x="19574" y="7858"/>
                </a:cubicBezTo>
                <a:cubicBezTo>
                  <a:pt x="19771" y="7881"/>
                  <a:pt x="19972" y="7866"/>
                  <a:pt x="20169" y="7882"/>
                </a:cubicBezTo>
                <a:cubicBezTo>
                  <a:pt x="20301" y="7893"/>
                  <a:pt x="20441" y="7890"/>
                  <a:pt x="20574" y="7906"/>
                </a:cubicBezTo>
                <a:cubicBezTo>
                  <a:pt x="20639" y="7914"/>
                  <a:pt x="20729" y="7949"/>
                  <a:pt x="20788" y="7953"/>
                </a:cubicBezTo>
                <a:cubicBezTo>
                  <a:pt x="20979" y="7965"/>
                  <a:pt x="21154" y="7964"/>
                  <a:pt x="21336" y="8001"/>
                </a:cubicBezTo>
                <a:cubicBezTo>
                  <a:pt x="21411" y="8016"/>
                  <a:pt x="21475" y="8022"/>
                  <a:pt x="21550" y="8049"/>
                </a:cubicBezTo>
                <a:cubicBezTo>
                  <a:pt x="21677" y="8094"/>
                  <a:pt x="21837" y="8141"/>
                  <a:pt x="21955" y="8191"/>
                </a:cubicBezTo>
                <a:cubicBezTo>
                  <a:pt x="22041" y="8228"/>
                  <a:pt x="22037" y="8249"/>
                  <a:pt x="22098" y="8287"/>
                </a:cubicBezTo>
                <a:cubicBezTo>
                  <a:pt x="22147" y="8318"/>
                  <a:pt x="22168" y="8318"/>
                  <a:pt x="22217" y="8358"/>
                </a:cubicBezTo>
                <a:cubicBezTo>
                  <a:pt x="22262" y="8395"/>
                  <a:pt x="22288" y="8451"/>
                  <a:pt x="22312" y="8477"/>
                </a:cubicBezTo>
                <a:cubicBezTo>
                  <a:pt x="22348" y="8517"/>
                  <a:pt x="22369" y="8553"/>
                  <a:pt x="22408" y="8596"/>
                </a:cubicBezTo>
                <a:cubicBezTo>
                  <a:pt x="22427" y="8617"/>
                  <a:pt x="22425" y="8637"/>
                  <a:pt x="22455" y="8668"/>
                </a:cubicBezTo>
                <a:cubicBezTo>
                  <a:pt x="22523" y="8739"/>
                  <a:pt x="22569" y="8772"/>
                  <a:pt x="22646" y="8834"/>
                </a:cubicBezTo>
                <a:cubicBezTo>
                  <a:pt x="22673" y="8855"/>
                  <a:pt x="22749" y="8864"/>
                  <a:pt x="22765" y="8882"/>
                </a:cubicBezTo>
                <a:cubicBezTo>
                  <a:pt x="22790" y="8910"/>
                  <a:pt x="22843" y="8931"/>
                  <a:pt x="22860" y="8953"/>
                </a:cubicBezTo>
                <a:cubicBezTo>
                  <a:pt x="22879" y="8978"/>
                  <a:pt x="22870" y="9023"/>
                  <a:pt x="22884" y="9049"/>
                </a:cubicBezTo>
                <a:cubicBezTo>
                  <a:pt x="22899" y="9077"/>
                  <a:pt x="22946" y="9115"/>
                  <a:pt x="22955" y="9144"/>
                </a:cubicBezTo>
                <a:cubicBezTo>
                  <a:pt x="23018" y="9356"/>
                  <a:pt x="22981" y="9801"/>
                  <a:pt x="22884" y="9977"/>
                </a:cubicBezTo>
                <a:cubicBezTo>
                  <a:pt x="22869" y="10004"/>
                  <a:pt x="22850" y="10005"/>
                  <a:pt x="22836" y="10025"/>
                </a:cubicBezTo>
                <a:cubicBezTo>
                  <a:pt x="22805" y="10069"/>
                  <a:pt x="22798" y="10057"/>
                  <a:pt x="22765" y="10096"/>
                </a:cubicBezTo>
                <a:cubicBezTo>
                  <a:pt x="22737" y="10129"/>
                  <a:pt x="22714" y="10152"/>
                  <a:pt x="22693" y="10168"/>
                </a:cubicBezTo>
                <a:cubicBezTo>
                  <a:pt x="22657" y="10194"/>
                  <a:pt x="22637" y="10223"/>
                  <a:pt x="22598" y="10239"/>
                </a:cubicBezTo>
                <a:cubicBezTo>
                  <a:pt x="22587" y="10243"/>
                  <a:pt x="22562" y="10279"/>
                  <a:pt x="22527" y="10287"/>
                </a:cubicBezTo>
                <a:cubicBezTo>
                  <a:pt x="22242" y="10350"/>
                  <a:pt x="21826" y="10268"/>
                  <a:pt x="21526" y="10311"/>
                </a:cubicBezTo>
                <a:cubicBezTo>
                  <a:pt x="21424" y="10326"/>
                  <a:pt x="21334" y="10343"/>
                  <a:pt x="21241" y="10358"/>
                </a:cubicBezTo>
                <a:cubicBezTo>
                  <a:pt x="21194" y="10366"/>
                  <a:pt x="21170" y="10375"/>
                  <a:pt x="21122" y="10382"/>
                </a:cubicBezTo>
                <a:cubicBezTo>
                  <a:pt x="21021" y="10396"/>
                  <a:pt x="20937" y="10396"/>
                  <a:pt x="20836" y="10406"/>
                </a:cubicBezTo>
                <a:cubicBezTo>
                  <a:pt x="20773" y="10412"/>
                  <a:pt x="20712" y="10424"/>
                  <a:pt x="20645" y="10430"/>
                </a:cubicBezTo>
                <a:cubicBezTo>
                  <a:pt x="20515" y="10441"/>
                  <a:pt x="20392" y="10444"/>
                  <a:pt x="20264" y="10454"/>
                </a:cubicBezTo>
                <a:cubicBezTo>
                  <a:pt x="20113" y="10465"/>
                  <a:pt x="19984" y="10465"/>
                  <a:pt x="19836" y="10477"/>
                </a:cubicBezTo>
                <a:cubicBezTo>
                  <a:pt x="19777" y="10482"/>
                  <a:pt x="19718" y="10499"/>
                  <a:pt x="19669" y="10501"/>
                </a:cubicBezTo>
                <a:cubicBezTo>
                  <a:pt x="19515" y="10507"/>
                  <a:pt x="19365" y="10519"/>
                  <a:pt x="19217" y="10525"/>
                </a:cubicBezTo>
                <a:cubicBezTo>
                  <a:pt x="18697" y="10544"/>
                  <a:pt x="18151" y="10537"/>
                  <a:pt x="17669" y="10454"/>
                </a:cubicBezTo>
                <a:cubicBezTo>
                  <a:pt x="17608" y="10443"/>
                  <a:pt x="17554" y="10446"/>
                  <a:pt x="17502" y="10430"/>
                </a:cubicBezTo>
                <a:cubicBezTo>
                  <a:pt x="17419" y="10405"/>
                  <a:pt x="17360" y="10360"/>
                  <a:pt x="17288" y="10335"/>
                </a:cubicBezTo>
                <a:cubicBezTo>
                  <a:pt x="17201" y="10305"/>
                  <a:pt x="17128" y="10307"/>
                  <a:pt x="17050" y="10263"/>
                </a:cubicBezTo>
                <a:cubicBezTo>
                  <a:pt x="16993" y="10231"/>
                  <a:pt x="16956" y="10193"/>
                  <a:pt x="16907" y="10168"/>
                </a:cubicBezTo>
                <a:cubicBezTo>
                  <a:pt x="16842" y="10135"/>
                  <a:pt x="16784" y="10082"/>
                  <a:pt x="16716" y="10049"/>
                </a:cubicBezTo>
                <a:cubicBezTo>
                  <a:pt x="16652" y="10018"/>
                  <a:pt x="16568" y="10005"/>
                  <a:pt x="16502" y="9977"/>
                </a:cubicBezTo>
                <a:cubicBezTo>
                  <a:pt x="16425" y="9944"/>
                  <a:pt x="16346" y="9929"/>
                  <a:pt x="16264" y="9906"/>
                </a:cubicBezTo>
                <a:cubicBezTo>
                  <a:pt x="16193" y="9887"/>
                  <a:pt x="16105" y="9844"/>
                  <a:pt x="16026" y="9835"/>
                </a:cubicBezTo>
                <a:cubicBezTo>
                  <a:pt x="15507" y="9777"/>
                  <a:pt x="14974" y="9867"/>
                  <a:pt x="14478" y="9906"/>
                </a:cubicBezTo>
                <a:cubicBezTo>
                  <a:pt x="14369" y="9915"/>
                  <a:pt x="14277" y="9917"/>
                  <a:pt x="14168" y="9930"/>
                </a:cubicBezTo>
                <a:cubicBezTo>
                  <a:pt x="14053" y="9944"/>
                  <a:pt x="13939" y="9966"/>
                  <a:pt x="13835" y="9977"/>
                </a:cubicBezTo>
                <a:cubicBezTo>
                  <a:pt x="13630" y="9999"/>
                  <a:pt x="13420" y="10008"/>
                  <a:pt x="13216" y="10025"/>
                </a:cubicBezTo>
                <a:cubicBezTo>
                  <a:pt x="13149" y="10030"/>
                  <a:pt x="13110" y="10040"/>
                  <a:pt x="13049" y="10049"/>
                </a:cubicBezTo>
                <a:cubicBezTo>
                  <a:pt x="12937" y="10065"/>
                  <a:pt x="12847" y="10076"/>
                  <a:pt x="12740" y="10096"/>
                </a:cubicBezTo>
                <a:cubicBezTo>
                  <a:pt x="12654" y="10112"/>
                  <a:pt x="12583" y="10160"/>
                  <a:pt x="12502" y="10168"/>
                </a:cubicBezTo>
                <a:cubicBezTo>
                  <a:pt x="12349" y="10183"/>
                  <a:pt x="12199" y="10177"/>
                  <a:pt x="12049" y="10192"/>
                </a:cubicBezTo>
                <a:cubicBezTo>
                  <a:pt x="11941" y="10203"/>
                  <a:pt x="11815" y="10220"/>
                  <a:pt x="11716" y="10239"/>
                </a:cubicBezTo>
                <a:cubicBezTo>
                  <a:pt x="11587" y="10264"/>
                  <a:pt x="11464" y="10295"/>
                  <a:pt x="11335" y="10311"/>
                </a:cubicBezTo>
                <a:cubicBezTo>
                  <a:pt x="11230" y="10324"/>
                  <a:pt x="11128" y="10325"/>
                  <a:pt x="11025" y="10335"/>
                </a:cubicBezTo>
                <a:cubicBezTo>
                  <a:pt x="10909" y="10346"/>
                  <a:pt x="10803" y="10333"/>
                  <a:pt x="10692" y="10358"/>
                </a:cubicBezTo>
                <a:cubicBezTo>
                  <a:pt x="10598" y="10379"/>
                  <a:pt x="10500" y="10434"/>
                  <a:pt x="10406" y="10454"/>
                </a:cubicBezTo>
                <a:cubicBezTo>
                  <a:pt x="10345" y="10467"/>
                  <a:pt x="10271" y="10469"/>
                  <a:pt x="10216" y="10477"/>
                </a:cubicBezTo>
                <a:cubicBezTo>
                  <a:pt x="10170" y="10484"/>
                  <a:pt x="10136" y="10496"/>
                  <a:pt x="10096" y="10501"/>
                </a:cubicBezTo>
                <a:cubicBezTo>
                  <a:pt x="9928" y="10522"/>
                  <a:pt x="9766" y="10512"/>
                  <a:pt x="9596" y="10525"/>
                </a:cubicBezTo>
                <a:cubicBezTo>
                  <a:pt x="9383" y="10541"/>
                  <a:pt x="9143" y="10579"/>
                  <a:pt x="8930" y="10549"/>
                </a:cubicBezTo>
                <a:cubicBezTo>
                  <a:pt x="8833" y="10535"/>
                  <a:pt x="8760" y="10542"/>
                  <a:pt x="8692" y="10501"/>
                </a:cubicBezTo>
                <a:cubicBezTo>
                  <a:pt x="8674" y="10490"/>
                  <a:pt x="8598" y="10406"/>
                  <a:pt x="8572" y="10382"/>
                </a:cubicBezTo>
                <a:cubicBezTo>
                  <a:pt x="8536" y="10350"/>
                  <a:pt x="8533" y="10316"/>
                  <a:pt x="8501" y="10287"/>
                </a:cubicBezTo>
                <a:cubicBezTo>
                  <a:pt x="8441" y="10233"/>
                  <a:pt x="8435" y="10204"/>
                  <a:pt x="8382" y="10144"/>
                </a:cubicBezTo>
                <a:cubicBezTo>
                  <a:pt x="8353" y="10111"/>
                  <a:pt x="8297" y="10069"/>
                  <a:pt x="8263" y="10025"/>
                </a:cubicBezTo>
                <a:cubicBezTo>
                  <a:pt x="8222" y="9972"/>
                  <a:pt x="8186" y="9909"/>
                  <a:pt x="8144" y="9858"/>
                </a:cubicBezTo>
                <a:cubicBezTo>
                  <a:pt x="8112" y="9819"/>
                  <a:pt x="8088" y="9780"/>
                  <a:pt x="8049" y="9739"/>
                </a:cubicBezTo>
                <a:cubicBezTo>
                  <a:pt x="7941" y="9624"/>
                  <a:pt x="7830" y="9531"/>
                  <a:pt x="7739" y="9430"/>
                </a:cubicBezTo>
                <a:cubicBezTo>
                  <a:pt x="7696" y="9382"/>
                  <a:pt x="7691" y="9343"/>
                  <a:pt x="7644" y="9287"/>
                </a:cubicBezTo>
                <a:cubicBezTo>
                  <a:pt x="7551" y="9177"/>
                  <a:pt x="7590" y="9276"/>
                  <a:pt x="7549" y="9192"/>
                </a:cubicBezTo>
                <a:cubicBezTo>
                  <a:pt x="7539" y="9172"/>
                  <a:pt x="7495" y="9134"/>
                  <a:pt x="7477" y="9073"/>
                </a:cubicBezTo>
                <a:cubicBezTo>
                  <a:pt x="7448" y="8974"/>
                  <a:pt x="7465" y="8751"/>
                  <a:pt x="7477" y="8715"/>
                </a:cubicBezTo>
                <a:cubicBezTo>
                  <a:pt x="7522" y="8574"/>
                  <a:pt x="7472" y="8665"/>
                  <a:pt x="7549" y="8572"/>
                </a:cubicBezTo>
                <a:cubicBezTo>
                  <a:pt x="7571" y="8545"/>
                  <a:pt x="7625" y="8488"/>
                  <a:pt x="7668" y="8453"/>
                </a:cubicBezTo>
                <a:cubicBezTo>
                  <a:pt x="7731" y="8402"/>
                  <a:pt x="7816" y="8420"/>
                  <a:pt x="7882" y="8382"/>
                </a:cubicBezTo>
                <a:cubicBezTo>
                  <a:pt x="7966" y="8334"/>
                  <a:pt x="7993" y="8304"/>
                  <a:pt x="8096" y="8263"/>
                </a:cubicBezTo>
                <a:cubicBezTo>
                  <a:pt x="8186" y="8228"/>
                  <a:pt x="8278" y="8221"/>
                  <a:pt x="8358" y="8191"/>
                </a:cubicBezTo>
                <a:cubicBezTo>
                  <a:pt x="8446" y="8158"/>
                  <a:pt x="8576" y="8104"/>
                  <a:pt x="8644" y="8096"/>
                </a:cubicBezTo>
                <a:cubicBezTo>
                  <a:pt x="8869" y="8069"/>
                  <a:pt x="9074" y="8136"/>
                  <a:pt x="9287" y="8144"/>
                </a:cubicBezTo>
                <a:cubicBezTo>
                  <a:pt x="9378" y="8147"/>
                  <a:pt x="9585" y="8144"/>
                  <a:pt x="9596" y="81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На вершине хребта происходит борьба тёплого и холодного воздух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8360" y="1699920"/>
            <a:ext cx="8229600" cy="4105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332000" y="5013360"/>
            <a:ext cx="19447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76720" y="2420640"/>
            <a:ext cx="934920" cy="26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11640" y="2421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2421000"/>
            <a:ext cx="129528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5300640"/>
            <a:ext cx="20178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1844640"/>
            <a:ext cx="1657440" cy="432000"/>
          </a:xfrm>
          <a:prstGeom prst="rightArrow">
            <a:avLst>
              <a:gd name="adj1" fmla="val 50000"/>
              <a:gd name="adj2" fmla="val 9591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92720" y="1916280"/>
            <a:ext cx="1943280" cy="431640"/>
          </a:xfrm>
          <a:prstGeom prst="leftArrow">
            <a:avLst>
              <a:gd name="adj1" fmla="val 50000"/>
              <a:gd name="adj2" fmla="val 11255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58360" y="452916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94000" y="48164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79186E-006 C 0.00278 0.01087 0.01024 0.00786 0.01788 0.01087 C 0.0316 0.00763 0.03108 0.00763 0.04931 0.00925 C 0.06788 0.01364 0.0849 0.01457 0.10417 0.01457 E">
                                      <p:cBhvr>
                                        <p:cTn id="13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39593E-006 C -0.01007 -0.00694 -0.02327 2.39592999999984E-006 -0.0342 0.0037 C -0.03837 0.00254 -0.04219 -0.00185 -0.04653 -0.00185 C -0.06146 -0.00185 -0.07656 0.0037 -0.09167 0.0037 E">
                                      <p:cBhvr>
                                        <p:cTn id="2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Борьбу тёплого и холодного воздуха мы видим в виде бороды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636560" y="184464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3:42:52Z</dcterms:created>
  <dc:creator>Учитель</dc:creator>
  <dc:description/>
  <dc:language>en-US</dc:language>
  <cp:lastModifiedBy>XP Disney 2008</cp:lastModifiedBy>
  <dcterms:modified xsi:type="dcterms:W3CDTF">2011-01-23T13:12:17Z</dcterms:modified>
  <cp:revision>15</cp:revision>
  <dc:subject/>
  <dc:title>Наш особенный ветер – норд-ост</dc:title>
</cp:coreProperties>
</file>