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866A-4E7B-4DF1-BAE8-E09C73C451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F01C-1797-49C4-8E49-AD6929E6A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98E8-FB5E-4528-A42B-4E778B399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2CF-B3E8-4DF0-B2D2-FF80E6DE2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C8B7-702C-42B5-9A2D-3625A187B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273-DF47-404A-B944-1F9B85339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616-6F10-4814-AC08-F1858653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C04-A08E-43A2-9A49-0514FA82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FA0-1C1D-4C9A-A930-B5B71E06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C4D-2A7D-4713-90D9-D623853C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B89E-E439-4C10-A144-F2AAF758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DAB7-AD95-4F87-ABE1-48DF44C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BC7B-C597-4510-A343-9B3960BE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8A88-AA9D-49D6-9FBE-D00D52AC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444A-7B5A-487D-8878-2D065F0E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1A88-5AA4-4862-AF80-CAB02D61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B987-C4E1-423E-A109-00010BC0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77F-9588-490A-A348-C9EB4DF8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FDCE-E909-4408-95DA-33E71776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5996-AB53-40F2-8FF2-55D837F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36FC-167B-40EE-9BD7-21537D62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4095-9B89-4DEC-8E51-2B3EC806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8D8B-26A8-4941-B36B-61CD8A7A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FD9E-EE66-446A-90C6-7438C20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3152-F053-4B5A-B231-FBE5CA97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791A-155D-461A-BC24-1F5F1F4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050A-2B2D-4B5B-B56B-67FD47D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C1C5-070D-4778-BE62-B4B8CA9A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E56-E681-4A59-A035-64F49874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2A92-74DE-4D82-9FF9-C006A1F8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5C02-0E7B-4BAE-9857-28F51A91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84D2-66C6-41C3-9D48-3C22B2B7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FD4E-150F-4CEC-915C-9554613B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E3F6-3165-4DB5-AB0A-6E5E7837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5D2F-28BE-43AC-A0F5-12C745B1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C84E-2B35-4C0C-A3E8-F7DD7749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992-1EBA-41DF-A6AA-5AD829C6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FAA-C602-4D6A-A8A5-820AE313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56B-2939-4D56-B195-8609F272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0AF-510F-4B4E-99AC-F318977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C80-EAC8-49E6-84C5-B781473B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BE0-4D26-4B40-8B06-C5A56BDA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CE11-1DA3-418F-8E1E-5270B0E8E6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31CB-AD26-46A8-A245-44D70E4333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CF0B-40AA-48F6-881F-F0B5B83836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составлена Сырцовой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строение сечений тетраэдр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27"/>
          <p:cNvSpPr/>
          <p:nvPr/>
        </p:nvSpPr>
        <p:spPr>
          <a:xfrm>
            <a:off x="1454040" y="4297320"/>
            <a:ext cx="2114640" cy="1530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 flipH="1" flipV="1">
            <a:off x="1465200" y="4296960"/>
            <a:ext cx="617760" cy="66060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2082960" y="4957920"/>
            <a:ext cx="1485720" cy="86976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917280" y="1379520"/>
            <a:ext cx="4105440" cy="5184720"/>
            <a:chOff x="917280" y="1379520"/>
            <a:chExt cx="4105440" cy="5184720"/>
          </a:xfrm>
        </p:grpSpPr>
        <p:sp>
          <p:nvSpPr>
            <p:cNvPr id="299" name="Line 8"/>
            <p:cNvSpPr/>
            <p:nvPr/>
          </p:nvSpPr>
          <p:spPr>
            <a:xfrm flipH="1">
              <a:off x="917280" y="1379520"/>
              <a:ext cx="216036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9"/>
            <p:cNvSpPr/>
            <p:nvPr/>
          </p:nvSpPr>
          <p:spPr>
            <a:xfrm flipH="1">
              <a:off x="2933640" y="1379520"/>
              <a:ext cx="14400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0"/>
            <p:cNvSpPr/>
            <p:nvPr/>
          </p:nvSpPr>
          <p:spPr>
            <a:xfrm>
              <a:off x="917640" y="5268600"/>
              <a:ext cx="20160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 flipH="1">
              <a:off x="2933640" y="4187520"/>
              <a:ext cx="208872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 flipV="1">
              <a:off x="917640" y="4187520"/>
              <a:ext cx="410508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>
              <a:off x="3078000" y="1379520"/>
              <a:ext cx="194436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4"/>
          <p:cNvSpPr/>
          <p:nvPr/>
        </p:nvSpPr>
        <p:spPr>
          <a:xfrm>
            <a:off x="482760" y="5218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5154840" y="410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3192840" y="635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2017800" y="490536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1771920" y="5072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21"/>
              <p:cNvSpPr txBox="1"/>
              <p:nvPr/>
            </p:nvSpPr>
            <p:spPr>
              <a:xfrm>
                <a:off x="6551640" y="2046240"/>
                <a:ext cx="15159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3"/>
              <p:cNvSpPr txBox="1"/>
              <p:nvPr/>
            </p:nvSpPr>
            <p:spPr>
              <a:xfrm>
                <a:off x="6551640" y="3224160"/>
                <a:ext cx="15159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Line 24"/>
          <p:cNvSpPr/>
          <p:nvPr/>
        </p:nvSpPr>
        <p:spPr>
          <a:xfrm flipH="1" flipV="1">
            <a:off x="2952360" y="5122440"/>
            <a:ext cx="638280" cy="7160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"/>
          <p:cNvSpPr/>
          <p:nvPr/>
        </p:nvSpPr>
        <p:spPr>
          <a:xfrm>
            <a:off x="1465200" y="4297320"/>
            <a:ext cx="1498680" cy="8254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64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65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81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31"/>
          <p:cNvSpPr/>
          <p:nvPr/>
        </p:nvSpPr>
        <p:spPr>
          <a:xfrm flipH="1" flipV="1">
            <a:off x="1895040" y="4406400"/>
            <a:ext cx="770040" cy="20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1895400" y="2313000"/>
            <a:ext cx="1971720" cy="30304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4"/>
          <p:cNvSpPr/>
          <p:nvPr/>
        </p:nvSpPr>
        <p:spPr>
          <a:xfrm flipV="1">
            <a:off x="1895400" y="2301480"/>
            <a:ext cx="2016360" cy="209412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V="1">
            <a:off x="2225520" y="4846320"/>
            <a:ext cx="749520" cy="5079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9"/>
          <p:cNvSpPr/>
          <p:nvPr/>
        </p:nvSpPr>
        <p:spPr>
          <a:xfrm flipH="1">
            <a:off x="2236680" y="2324160"/>
            <a:ext cx="1619280" cy="453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8"/>
          <p:cNvSpPr/>
          <p:nvPr/>
        </p:nvSpPr>
        <p:spPr>
          <a:xfrm flipH="1">
            <a:off x="2952360" y="2335320"/>
            <a:ext cx="903240" cy="25336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917280" y="1379520"/>
            <a:ext cx="4105440" cy="4326120"/>
            <a:chOff x="917280" y="1379520"/>
            <a:chExt cx="4105440" cy="4326120"/>
          </a:xfrm>
        </p:grpSpPr>
        <p:sp>
          <p:nvSpPr>
            <p:cNvPr id="324" name="Line 8"/>
            <p:cNvSpPr/>
            <p:nvPr/>
          </p:nvSpPr>
          <p:spPr>
            <a:xfrm flipH="1">
              <a:off x="917280" y="1379520"/>
              <a:ext cx="2160360" cy="32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"/>
            <p:cNvSpPr/>
            <p:nvPr/>
          </p:nvSpPr>
          <p:spPr>
            <a:xfrm flipH="1">
              <a:off x="2933640" y="1379520"/>
              <a:ext cx="144000" cy="43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>
              <a:off x="917640" y="4624560"/>
              <a:ext cx="2016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 flipH="1">
              <a:off x="2933640" y="3722400"/>
              <a:ext cx="2088720" cy="19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 flipV="1">
              <a:off x="917640" y="3722040"/>
              <a:ext cx="4105080" cy="90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3078000" y="1379520"/>
              <a:ext cx="1944360" cy="23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4"/>
          <p:cNvSpPr/>
          <p:nvPr/>
        </p:nvSpPr>
        <p:spPr>
          <a:xfrm>
            <a:off x="395280" y="427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154840" y="34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061080" y="565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1951200" y="46846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3952800" y="198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4"/>
          <p:cNvSpPr/>
          <p:nvPr/>
        </p:nvSpPr>
        <p:spPr>
          <a:xfrm>
            <a:off x="2887560" y="4795920"/>
            <a:ext cx="14472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3083040" y="47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1452600" y="4578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7"/>
          <p:cNvSpPr/>
          <p:nvPr/>
        </p:nvSpPr>
        <p:spPr>
          <a:xfrm>
            <a:off x="3790800" y="2260440"/>
            <a:ext cx="14472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0"/>
          <p:cNvSpPr/>
          <p:nvPr/>
        </p:nvSpPr>
        <p:spPr>
          <a:xfrm flipH="1">
            <a:off x="1917360" y="3943440"/>
            <a:ext cx="2886120" cy="27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2"/>
          <p:cNvSpPr/>
          <p:nvPr/>
        </p:nvSpPr>
        <p:spPr>
          <a:xfrm flipH="1" flipV="1">
            <a:off x="1895040" y="4395600"/>
            <a:ext cx="330120" cy="93636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6"/>
          <p:cNvSpPr/>
          <p:nvPr/>
        </p:nvSpPr>
        <p:spPr>
          <a:xfrm>
            <a:off x="4705200" y="5388120"/>
            <a:ext cx="41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другой вариант возмож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9"/>
          <p:cNvSpPr/>
          <p:nvPr/>
        </p:nvSpPr>
        <p:spPr>
          <a:xfrm>
            <a:off x="1674720" y="2038320"/>
            <a:ext cx="2005200" cy="2995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0"/>
          <p:cNvSpPr/>
          <p:nvPr/>
        </p:nvSpPr>
        <p:spPr>
          <a:xfrm flipH="1">
            <a:off x="3006720" y="2071800"/>
            <a:ext cx="650880" cy="46332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6"/>
          <p:cNvSpPr/>
          <p:nvPr/>
        </p:nvSpPr>
        <p:spPr>
          <a:xfrm flipV="1">
            <a:off x="1697040" y="4275000"/>
            <a:ext cx="781200" cy="78120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9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348" name="Group 10"/>
          <p:cNvGrpSpPr/>
          <p:nvPr/>
        </p:nvGrpSpPr>
        <p:grpSpPr>
          <a:xfrm>
            <a:off x="917280" y="1379520"/>
            <a:ext cx="4105440" cy="4326120"/>
            <a:chOff x="917280" y="1379520"/>
            <a:chExt cx="4105440" cy="4326120"/>
          </a:xfrm>
        </p:grpSpPr>
        <p:sp>
          <p:nvSpPr>
            <p:cNvPr id="349" name="Line 11"/>
            <p:cNvSpPr/>
            <p:nvPr/>
          </p:nvSpPr>
          <p:spPr>
            <a:xfrm flipH="1">
              <a:off x="917280" y="1379520"/>
              <a:ext cx="2160360" cy="32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933640" y="1379520"/>
              <a:ext cx="144000" cy="43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>
              <a:off x="917640" y="4624560"/>
              <a:ext cx="2016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 flipH="1">
              <a:off x="2933640" y="3722400"/>
              <a:ext cx="2088720" cy="19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917640" y="3722040"/>
              <a:ext cx="4105080" cy="90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3078000" y="1379520"/>
              <a:ext cx="1944360" cy="23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17"/>
          <p:cNvSpPr/>
          <p:nvPr/>
        </p:nvSpPr>
        <p:spPr>
          <a:xfrm>
            <a:off x="395280" y="427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5154840" y="34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3061080" y="565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1"/>
          <p:cNvSpPr/>
          <p:nvPr/>
        </p:nvSpPr>
        <p:spPr>
          <a:xfrm>
            <a:off x="1951200" y="46846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3952800" y="198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3083040" y="47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1452600" y="4578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3790800" y="2260440"/>
            <a:ext cx="14472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4705200" y="5388120"/>
            <a:ext cx="41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другой вариант возмож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1674720" y="2500200"/>
            <a:ext cx="1343160" cy="257832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2500200" y="2103480"/>
            <a:ext cx="1135080" cy="217152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3"/>
          <p:cNvSpPr/>
          <p:nvPr/>
        </p:nvSpPr>
        <p:spPr>
          <a:xfrm>
            <a:off x="2887560" y="4795920"/>
            <a:ext cx="14472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8404E-007 L 0.00955 -0.33958 E">
                                      <p:cBhvr>
                                        <p:cTn id="254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9593E-006 L -0.02656 -0.03748 E">
                                      <p:cBhvr>
                                        <p:cTn id="25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23548E-006 L -0.05174 -0.38931 E">
                                      <p:cBhvr>
                                        <p:cTn id="25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45E-006 L -0.0434 -0.06662 E">
                                      <p:cBhvr>
                                        <p:cTn id="26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37"/>
          <p:cNvSpPr/>
          <p:nvPr/>
        </p:nvSpPr>
        <p:spPr>
          <a:xfrm>
            <a:off x="1204920" y="2914560"/>
            <a:ext cx="3098880" cy="18511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3033720" y="2925720"/>
            <a:ext cx="1270080" cy="15066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4"/>
          <p:cNvSpPr/>
          <p:nvPr/>
        </p:nvSpPr>
        <p:spPr>
          <a:xfrm flipH="1">
            <a:off x="1177920" y="2897280"/>
            <a:ext cx="1851120" cy="187308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9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373" name="Group 10"/>
          <p:cNvGrpSpPr/>
          <p:nvPr/>
        </p:nvGrpSpPr>
        <p:grpSpPr>
          <a:xfrm>
            <a:off x="917280" y="1379520"/>
            <a:ext cx="4105440" cy="4326120"/>
            <a:chOff x="917280" y="1379520"/>
            <a:chExt cx="4105440" cy="4326120"/>
          </a:xfrm>
        </p:grpSpPr>
        <p:sp>
          <p:nvSpPr>
            <p:cNvPr id="374" name="Line 11"/>
            <p:cNvSpPr/>
            <p:nvPr/>
          </p:nvSpPr>
          <p:spPr>
            <a:xfrm flipH="1">
              <a:off x="917280" y="1379520"/>
              <a:ext cx="2160360" cy="32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 flipH="1">
              <a:off x="2933640" y="1379520"/>
              <a:ext cx="144000" cy="43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3"/>
            <p:cNvSpPr/>
            <p:nvPr/>
          </p:nvSpPr>
          <p:spPr>
            <a:xfrm>
              <a:off x="917640" y="4624560"/>
              <a:ext cx="2016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4"/>
            <p:cNvSpPr/>
            <p:nvPr/>
          </p:nvSpPr>
          <p:spPr>
            <a:xfrm flipH="1">
              <a:off x="2933640" y="3722400"/>
              <a:ext cx="2088720" cy="19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917640" y="3722040"/>
              <a:ext cx="4105080" cy="90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6"/>
            <p:cNvSpPr/>
            <p:nvPr/>
          </p:nvSpPr>
          <p:spPr>
            <a:xfrm>
              <a:off x="3078000" y="1379520"/>
              <a:ext cx="1944360" cy="23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17"/>
          <p:cNvSpPr/>
          <p:nvPr/>
        </p:nvSpPr>
        <p:spPr>
          <a:xfrm>
            <a:off x="395280" y="427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5154840" y="34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3061080" y="565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1"/>
          <p:cNvSpPr/>
          <p:nvPr/>
        </p:nvSpPr>
        <p:spPr>
          <a:xfrm>
            <a:off x="2963880" y="28558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3422880" y="459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3"/>
          <p:cNvSpPr/>
          <p:nvPr/>
        </p:nvSpPr>
        <p:spPr>
          <a:xfrm>
            <a:off x="1754280" y="406872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1641600" y="3697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2465640" y="274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3724200" y="441972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2"/>
              <p:cNvSpPr txBox="1"/>
              <p:nvPr/>
            </p:nvSpPr>
            <p:spPr>
              <a:xfrm>
                <a:off x="6302520" y="229392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3"/>
              <p:cNvSpPr txBox="1"/>
              <p:nvPr/>
            </p:nvSpPr>
            <p:spPr>
              <a:xfrm>
                <a:off x="6337440" y="3130560"/>
                <a:ext cx="1800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Line 35"/>
          <p:cNvSpPr/>
          <p:nvPr/>
        </p:nvSpPr>
        <p:spPr>
          <a:xfrm flipV="1">
            <a:off x="1182600" y="4432320"/>
            <a:ext cx="3098880" cy="33336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35"/>
          <p:cNvSpPr/>
          <p:nvPr/>
        </p:nvSpPr>
        <p:spPr>
          <a:xfrm>
            <a:off x="1042920" y="2914560"/>
            <a:ext cx="3227400" cy="17971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9"/>
          <p:cNvSpPr/>
          <p:nvPr/>
        </p:nvSpPr>
        <p:spPr>
          <a:xfrm flipH="1">
            <a:off x="0" y="3905280"/>
            <a:ext cx="147312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 flipV="1">
            <a:off x="3022560" y="2925360"/>
            <a:ext cx="1247760" cy="153828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2"/>
          <p:cNvSpPr/>
          <p:nvPr/>
        </p:nvSpPr>
        <p:spPr>
          <a:xfrm flipV="1">
            <a:off x="1054080" y="4022280"/>
            <a:ext cx="258840" cy="67788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0"/>
          <p:cNvSpPr/>
          <p:nvPr/>
        </p:nvSpPr>
        <p:spPr>
          <a:xfrm flipV="1">
            <a:off x="-334800" y="4452840"/>
            <a:ext cx="46162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7"/>
          <p:cNvSpPr/>
          <p:nvPr/>
        </p:nvSpPr>
        <p:spPr>
          <a:xfrm flipH="1">
            <a:off x="1279080" y="2914560"/>
            <a:ext cx="1754280" cy="11304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6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10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917280" y="1379520"/>
            <a:ext cx="4105440" cy="4326120"/>
            <a:chOff x="917280" y="1379520"/>
            <a:chExt cx="4105440" cy="4326120"/>
          </a:xfrm>
        </p:grpSpPr>
        <p:sp>
          <p:nvSpPr>
            <p:cNvPr id="402" name="Line 8"/>
            <p:cNvSpPr/>
            <p:nvPr/>
          </p:nvSpPr>
          <p:spPr>
            <a:xfrm flipH="1">
              <a:off x="917280" y="1379520"/>
              <a:ext cx="2160360" cy="32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9"/>
            <p:cNvSpPr/>
            <p:nvPr/>
          </p:nvSpPr>
          <p:spPr>
            <a:xfrm flipH="1">
              <a:off x="2933640" y="1379520"/>
              <a:ext cx="144000" cy="43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917640" y="4624560"/>
              <a:ext cx="2016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1"/>
            <p:cNvSpPr/>
            <p:nvPr/>
          </p:nvSpPr>
          <p:spPr>
            <a:xfrm flipH="1">
              <a:off x="2933640" y="3722400"/>
              <a:ext cx="2088720" cy="19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2"/>
            <p:cNvSpPr/>
            <p:nvPr/>
          </p:nvSpPr>
          <p:spPr>
            <a:xfrm flipV="1">
              <a:off x="917640" y="3722040"/>
              <a:ext cx="4105080" cy="90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3"/>
            <p:cNvSpPr/>
            <p:nvPr/>
          </p:nvSpPr>
          <p:spPr>
            <a:xfrm>
              <a:off x="3078000" y="1379520"/>
              <a:ext cx="1944360" cy="23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4"/>
          <p:cNvSpPr/>
          <p:nvPr/>
        </p:nvSpPr>
        <p:spPr>
          <a:xfrm>
            <a:off x="557280" y="3925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5154840" y="3487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3061080" y="565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8"/>
          <p:cNvSpPr/>
          <p:nvPr/>
        </p:nvSpPr>
        <p:spPr>
          <a:xfrm>
            <a:off x="2963880" y="28558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9"/>
          <p:cNvSpPr/>
          <p:nvPr/>
        </p:nvSpPr>
        <p:spPr>
          <a:xfrm>
            <a:off x="3422880" y="459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0"/>
          <p:cNvSpPr/>
          <p:nvPr/>
        </p:nvSpPr>
        <p:spPr>
          <a:xfrm>
            <a:off x="1754280" y="364644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1"/>
          <p:cNvSpPr/>
          <p:nvPr/>
        </p:nvSpPr>
        <p:spPr>
          <a:xfrm>
            <a:off x="1641600" y="3274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2465640" y="274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3"/>
          <p:cNvSpPr/>
          <p:nvPr/>
        </p:nvSpPr>
        <p:spPr>
          <a:xfrm>
            <a:off x="3724200" y="441972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4"/>
              <p:cNvSpPr txBox="1"/>
              <p:nvPr/>
            </p:nvSpPr>
            <p:spPr>
              <a:xfrm>
                <a:off x="6302520" y="229392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5"/>
              <p:cNvSpPr txBox="1"/>
              <p:nvPr/>
            </p:nvSpPr>
            <p:spPr>
              <a:xfrm>
                <a:off x="6337440" y="3130560"/>
                <a:ext cx="1800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Line 28"/>
          <p:cNvSpPr/>
          <p:nvPr/>
        </p:nvSpPr>
        <p:spPr>
          <a:xfrm flipH="1">
            <a:off x="0" y="4603680"/>
            <a:ext cx="10224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 flipV="1">
            <a:off x="1033560" y="4452480"/>
            <a:ext cx="3193920" cy="25884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4, 75(б), 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j0123567"/>
          <p:cNvPicPr/>
          <p:nvPr/>
        </p:nvPicPr>
        <p:blipFill>
          <a:blip r:embed="rId1"/>
          <a:stretch/>
        </p:blipFill>
        <p:spPr>
          <a:xfrm flipH="1">
            <a:off x="957240" y="252360"/>
            <a:ext cx="72295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0"/>
          <p:cNvGrpSpPr/>
          <p:nvPr/>
        </p:nvGrpSpPr>
        <p:grpSpPr>
          <a:xfrm>
            <a:off x="3132000" y="1125360"/>
            <a:ext cx="4105440" cy="5185080"/>
            <a:chOff x="3132000" y="1125360"/>
            <a:chExt cx="4105440" cy="5185080"/>
          </a:xfrm>
        </p:grpSpPr>
        <p:sp>
          <p:nvSpPr>
            <p:cNvPr id="149" name="Line 4"/>
            <p:cNvSpPr/>
            <p:nvPr/>
          </p:nvSpPr>
          <p:spPr>
            <a:xfrm flipH="1">
              <a:off x="3132000" y="1125360"/>
              <a:ext cx="2160720" cy="388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 flipH="1">
              <a:off x="5148000" y="1125360"/>
              <a:ext cx="144360" cy="518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3132000" y="5014800"/>
              <a:ext cx="2016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H="1">
              <a:off x="5148000" y="3933720"/>
              <a:ext cx="2089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 flipV="1">
              <a:off x="3132000" y="3933360"/>
              <a:ext cx="4105440" cy="10810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5292720" y="1125360"/>
              <a:ext cx="194472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"/>
          <p:cNvSpPr/>
          <p:nvPr/>
        </p:nvSpPr>
        <p:spPr>
          <a:xfrm>
            <a:off x="2840040" y="2011320"/>
            <a:ext cx="5413320" cy="1994040"/>
          </a:xfrm>
          <a:prstGeom prst="pie">
            <a:avLst/>
          </a:pr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132000" y="1111320"/>
            <a:ext cx="4105440" cy="5184720"/>
            <a:chOff x="3132000" y="1111320"/>
            <a:chExt cx="4105440" cy="5184720"/>
          </a:xfrm>
        </p:grpSpPr>
        <p:sp>
          <p:nvSpPr>
            <p:cNvPr id="157" name="Line 4"/>
            <p:cNvSpPr/>
            <p:nvPr/>
          </p:nvSpPr>
          <p:spPr>
            <a:xfrm flipH="1">
              <a:off x="3132000" y="1111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"/>
            <p:cNvSpPr/>
            <p:nvPr/>
          </p:nvSpPr>
          <p:spPr>
            <a:xfrm flipH="1">
              <a:off x="5148000" y="1111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>
              <a:off x="3132000" y="5000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H="1">
              <a:off x="5148000" y="3919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 flipV="1">
              <a:off x="3132000" y="3919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5292720" y="1111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12"/>
          <p:cNvSpPr/>
          <p:nvPr/>
        </p:nvSpPr>
        <p:spPr>
          <a:xfrm flipH="1">
            <a:off x="3814560" y="2924280"/>
            <a:ext cx="479160" cy="86040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4211640" y="2852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5214960" y="3486240"/>
            <a:ext cx="17280" cy="33660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514836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6194520" y="2405160"/>
            <a:ext cx="787320" cy="115092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6084720" y="2349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9"/>
          <p:cNvSpPr/>
          <p:nvPr/>
        </p:nvSpPr>
        <p:spPr>
          <a:xfrm flipH="1">
            <a:off x="681840" y="704880"/>
            <a:ext cx="3427560" cy="1146240"/>
          </a:xfrm>
          <a:prstGeom prst="wedgeRoundRectCallout">
            <a:avLst>
              <a:gd name="adj1" fmla="val -34856"/>
              <a:gd name="adj2" fmla="val 135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ущ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231840" y="5442120"/>
            <a:ext cx="318276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тетраэдра лежат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роны от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9"/>
          <p:cNvSpPr/>
          <p:nvPr/>
        </p:nvSpPr>
        <p:spPr>
          <a:xfrm>
            <a:off x="2840040" y="2011320"/>
            <a:ext cx="5413320" cy="1994040"/>
          </a:xfrm>
          <a:prstGeom prst="pie">
            <a:avLst/>
          </a:pr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9"/>
          <p:cNvSpPr/>
          <p:nvPr/>
        </p:nvSpPr>
        <p:spPr>
          <a:xfrm>
            <a:off x="4275000" y="2401920"/>
            <a:ext cx="1871640" cy="1135080"/>
          </a:xfrm>
          <a:prstGeom prst="pie">
            <a:avLst/>
          </a:prstGeom>
          <a:solidFill>
            <a:srgbClr val="0000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3132000" y="1111320"/>
            <a:ext cx="4105440" cy="5184720"/>
            <a:chOff x="3132000" y="1111320"/>
            <a:chExt cx="4105440" cy="5184720"/>
          </a:xfrm>
        </p:grpSpPr>
        <p:sp>
          <p:nvSpPr>
            <p:cNvPr id="174" name="Line 3"/>
            <p:cNvSpPr/>
            <p:nvPr/>
          </p:nvSpPr>
          <p:spPr>
            <a:xfrm flipH="1">
              <a:off x="3132000" y="1111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"/>
            <p:cNvSpPr/>
            <p:nvPr/>
          </p:nvSpPr>
          <p:spPr>
            <a:xfrm flipH="1">
              <a:off x="5148000" y="1111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"/>
            <p:cNvSpPr/>
            <p:nvPr/>
          </p:nvSpPr>
          <p:spPr>
            <a:xfrm>
              <a:off x="3132000" y="5000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 flipH="1">
              <a:off x="5148000" y="3919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 flipV="1">
              <a:off x="3132000" y="3919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>
              <a:off x="5292720" y="1111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6"/>
          <p:cNvSpPr/>
          <p:nvPr/>
        </p:nvSpPr>
        <p:spPr>
          <a:xfrm flipH="1">
            <a:off x="3814560" y="2924280"/>
            <a:ext cx="479160" cy="86040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5214960" y="3486240"/>
            <a:ext cx="17280" cy="33660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514836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6194520" y="2405160"/>
            <a:ext cx="787320" cy="115092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4253040" y="2390400"/>
            <a:ext cx="1927080" cy="50652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4211640" y="2852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1"/>
          <p:cNvSpPr/>
          <p:nvPr/>
        </p:nvSpPr>
        <p:spPr>
          <a:xfrm>
            <a:off x="6084720" y="2349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1"/>
          <p:cNvSpPr/>
          <p:nvPr/>
        </p:nvSpPr>
        <p:spPr>
          <a:xfrm flipH="1">
            <a:off x="681840" y="704880"/>
            <a:ext cx="3427560" cy="1146240"/>
          </a:xfrm>
          <a:prstGeom prst="wedgeRoundRectCallout">
            <a:avLst>
              <a:gd name="adj1" fmla="val -34856"/>
              <a:gd name="adj2" fmla="val 135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ущая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2"/>
          <p:cNvSpPr/>
          <p:nvPr/>
        </p:nvSpPr>
        <p:spPr>
          <a:xfrm>
            <a:off x="5673600" y="627120"/>
            <a:ext cx="2908440" cy="1201680"/>
          </a:xfrm>
          <a:prstGeom prst="wedgeEllipseCallout">
            <a:avLst>
              <a:gd name="adj1" fmla="val -52185"/>
              <a:gd name="adj2" fmla="val 125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131760" y="5167440"/>
            <a:ext cx="3976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ущая плоскость пересекает грани тетраэдра по отрез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, сторонами которого являются эти отрезки – </a:t>
            </a:r>
            <a:r>
              <a:rPr b="1" lang="ru-RU" sz="1800" spc="-1" strike="noStrike" u="sng">
                <a:solidFill>
                  <a:srgbClr val="dd2323"/>
                </a:solidFill>
                <a:uFillTx/>
                <a:latin typeface="Arial"/>
              </a:rPr>
              <a:t>сечение тетраэд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87320" y="925560"/>
            <a:ext cx="7693200" cy="40100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 rot="3758400">
            <a:off x="8215920" y="3355200"/>
            <a:ext cx="40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 rot="20547600">
            <a:off x="7248600" y="4227480"/>
            <a:ext cx="14652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52520" y="532116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тетраэдр имеет четыре грани, то в сечении могут получиться либ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хуголь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reeform 47"/>
          <p:cNvSpPr/>
          <p:nvPr/>
        </p:nvSpPr>
        <p:spPr>
          <a:xfrm>
            <a:off x="4638600" y="2457360"/>
            <a:ext cx="2467080" cy="3051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4143240" y="1300320"/>
            <a:ext cx="4105440" cy="5184720"/>
            <a:chOff x="4143240" y="1300320"/>
            <a:chExt cx="4105440" cy="5184720"/>
          </a:xfrm>
        </p:grpSpPr>
        <p:sp>
          <p:nvSpPr>
            <p:cNvPr id="196" name="Line 5"/>
            <p:cNvSpPr/>
            <p:nvPr/>
          </p:nvSpPr>
          <p:spPr>
            <a:xfrm flipH="1">
              <a:off x="4143240" y="1300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"/>
            <p:cNvSpPr/>
            <p:nvPr/>
          </p:nvSpPr>
          <p:spPr>
            <a:xfrm flipH="1">
              <a:off x="6159240" y="1300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143240" y="5189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 flipH="1">
              <a:off x="6159240" y="4108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"/>
            <p:cNvSpPr/>
            <p:nvPr/>
          </p:nvSpPr>
          <p:spPr>
            <a:xfrm flipV="1">
              <a:off x="4143240" y="4108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"/>
            <p:cNvSpPr/>
            <p:nvPr/>
          </p:nvSpPr>
          <p:spPr>
            <a:xfrm>
              <a:off x="6303960" y="1300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2"/>
          <p:cNvSpPr/>
          <p:nvPr/>
        </p:nvSpPr>
        <p:spPr>
          <a:xfrm>
            <a:off x="165240" y="297000"/>
            <a:ext cx="8670960" cy="703800"/>
          </a:xfrm>
          <a:prstGeom prst="rect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строения сечений ищем отрезки, по которым секущая плоскость пересекает каждую гра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41920" y="485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8304480" y="419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64440" y="6318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442200" y="107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348440" y="3675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7212240" y="20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4546440" y="580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0"/>
              <p:cNvSpPr txBox="1"/>
              <p:nvPr/>
            </p:nvSpPr>
            <p:spPr>
              <a:xfrm>
                <a:off x="220680" y="136692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31"/>
              <p:cNvSpPr txBox="1"/>
              <p:nvPr/>
            </p:nvSpPr>
            <p:spPr>
              <a:xfrm>
                <a:off x="220680" y="193824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2"/>
              <p:cNvSpPr txBox="1"/>
              <p:nvPr/>
            </p:nvSpPr>
            <p:spPr>
              <a:xfrm>
                <a:off x="233280" y="2587680"/>
                <a:ext cx="2225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Line 33"/>
          <p:cNvSpPr/>
          <p:nvPr/>
        </p:nvSpPr>
        <p:spPr>
          <a:xfrm flipH="1">
            <a:off x="4770360" y="2489040"/>
            <a:ext cx="2301840" cy="162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 flipH="1">
            <a:off x="4660920" y="4087800"/>
            <a:ext cx="109440" cy="149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 flipH="1">
            <a:off x="2322000" y="4054320"/>
            <a:ext cx="250380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816120" y="5168880"/>
            <a:ext cx="3325680" cy="8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1884240" y="5508360"/>
            <a:ext cx="669780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1"/>
          <p:cNvSpPr/>
          <p:nvPr/>
        </p:nvSpPr>
        <p:spPr>
          <a:xfrm>
            <a:off x="2655720" y="54561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3"/>
              <p:cNvSpPr txBox="1"/>
              <p:nvPr/>
            </p:nvSpPr>
            <p:spPr>
              <a:xfrm>
                <a:off x="220680" y="318276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Line 44"/>
          <p:cNvSpPr/>
          <p:nvPr/>
        </p:nvSpPr>
        <p:spPr>
          <a:xfrm flipV="1">
            <a:off x="4672080" y="5519880"/>
            <a:ext cx="2357280" cy="10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 flipH="1">
            <a:off x="7007400" y="2489040"/>
            <a:ext cx="87120" cy="304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4705200" y="4011480"/>
            <a:ext cx="14472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7"/>
          <p:cNvSpPr/>
          <p:nvPr/>
        </p:nvSpPr>
        <p:spPr>
          <a:xfrm>
            <a:off x="7020000" y="240516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4595760" y="5479920"/>
            <a:ext cx="14436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2"/>
          <p:cNvSpPr/>
          <p:nvPr/>
        </p:nvSpPr>
        <p:spPr>
          <a:xfrm>
            <a:off x="69422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7036200" y="566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40"/>
          <p:cNvSpPr/>
          <p:nvPr/>
        </p:nvSpPr>
        <p:spPr>
          <a:xfrm>
            <a:off x="4638600" y="2897280"/>
            <a:ext cx="2951280" cy="2678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>
            <a:off x="7337520" y="2852640"/>
            <a:ext cx="252360" cy="200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 flipV="1">
            <a:off x="4692600" y="4836960"/>
            <a:ext cx="2908440" cy="72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6"/>
          <p:cNvSpPr/>
          <p:nvPr/>
        </p:nvSpPr>
        <p:spPr>
          <a:xfrm flipH="1">
            <a:off x="4681080" y="3503520"/>
            <a:ext cx="397080" cy="20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 flipV="1">
            <a:off x="5033880" y="2873520"/>
            <a:ext cx="2347920" cy="606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4143240" y="1300320"/>
            <a:ext cx="4105440" cy="5184720"/>
            <a:chOff x="4143240" y="1300320"/>
            <a:chExt cx="4105440" cy="5184720"/>
          </a:xfrm>
        </p:grpSpPr>
        <p:sp>
          <p:nvSpPr>
            <p:cNvPr id="233" name="Line 4"/>
            <p:cNvSpPr/>
            <p:nvPr/>
          </p:nvSpPr>
          <p:spPr>
            <a:xfrm flipH="1">
              <a:off x="4143240" y="1300320"/>
              <a:ext cx="216072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 flipH="1">
              <a:off x="6159240" y="1300320"/>
              <a:ext cx="14436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4143240" y="5189400"/>
              <a:ext cx="2016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H="1">
              <a:off x="6159240" y="4108320"/>
              <a:ext cx="208908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 flipV="1">
              <a:off x="4143240" y="4108320"/>
              <a:ext cx="410544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6303960" y="1300320"/>
              <a:ext cx="194472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0"/>
          <p:cNvSpPr/>
          <p:nvPr/>
        </p:nvSpPr>
        <p:spPr>
          <a:xfrm>
            <a:off x="165240" y="297000"/>
            <a:ext cx="8670960" cy="703800"/>
          </a:xfrm>
          <a:prstGeom prst="rect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строения сечений ищем отрезки, по которым секущая плоскость пересекает каждую гра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841920" y="485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8304480" y="419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364440" y="6318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6442200" y="107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712040" y="293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7212240" y="20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4546440" y="580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2323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8"/>
              <p:cNvSpPr txBox="1"/>
              <p:nvPr/>
            </p:nvSpPr>
            <p:spPr>
              <a:xfrm>
                <a:off x="220680" y="1989000"/>
                <a:ext cx="2251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9"/>
              <p:cNvSpPr txBox="1"/>
              <p:nvPr/>
            </p:nvSpPr>
            <p:spPr>
              <a:xfrm>
                <a:off x="254160" y="136224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7"/>
              <p:cNvSpPr txBox="1"/>
              <p:nvPr/>
            </p:nvSpPr>
            <p:spPr>
              <a:xfrm>
                <a:off x="309600" y="3246480"/>
                <a:ext cx="2251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Oval 30"/>
          <p:cNvSpPr/>
          <p:nvPr/>
        </p:nvSpPr>
        <p:spPr>
          <a:xfrm>
            <a:off x="5002200" y="342756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1"/>
          <p:cNvSpPr/>
          <p:nvPr/>
        </p:nvSpPr>
        <p:spPr>
          <a:xfrm>
            <a:off x="7284960" y="2800440"/>
            <a:ext cx="14472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2"/>
          <p:cNvSpPr/>
          <p:nvPr/>
        </p:nvSpPr>
        <p:spPr>
          <a:xfrm>
            <a:off x="4595760" y="5479920"/>
            <a:ext cx="144360" cy="14472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7"/>
              <p:cNvSpPr txBox="1"/>
              <p:nvPr/>
            </p:nvSpPr>
            <p:spPr>
              <a:xfrm>
                <a:off x="247680" y="2543040"/>
                <a:ext cx="5108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3"/>
          <p:cNvSpPr/>
          <p:nvPr/>
        </p:nvSpPr>
        <p:spPr>
          <a:xfrm>
            <a:off x="1795320" y="3029040"/>
            <a:ext cx="2413080" cy="15094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 flipV="1">
            <a:off x="1784520" y="3017880"/>
            <a:ext cx="2457360" cy="70632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1"/>
          <p:cNvSpPr/>
          <p:nvPr/>
        </p:nvSpPr>
        <p:spPr>
          <a:xfrm flipH="1">
            <a:off x="2997000" y="3017880"/>
            <a:ext cx="1222200" cy="152064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>
            <a:off x="1784520" y="3701880"/>
            <a:ext cx="1212840" cy="8478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6505560" y="1224000"/>
            <a:ext cx="203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72 (a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917280" y="1379520"/>
            <a:ext cx="4105440" cy="5184720"/>
            <a:chOff x="917280" y="1379520"/>
            <a:chExt cx="4105440" cy="5184720"/>
          </a:xfrm>
        </p:grpSpPr>
        <p:sp>
          <p:nvSpPr>
            <p:cNvPr id="261" name="Line 7"/>
            <p:cNvSpPr/>
            <p:nvPr/>
          </p:nvSpPr>
          <p:spPr>
            <a:xfrm flipH="1">
              <a:off x="917280" y="1379520"/>
              <a:ext cx="2160360" cy="38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8"/>
            <p:cNvSpPr/>
            <p:nvPr/>
          </p:nvSpPr>
          <p:spPr>
            <a:xfrm flipH="1">
              <a:off x="2933640" y="1379520"/>
              <a:ext cx="144000" cy="51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>
              <a:off x="917640" y="5268600"/>
              <a:ext cx="20160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 flipH="1">
              <a:off x="2933640" y="4187520"/>
              <a:ext cx="208872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V="1">
              <a:off x="917640" y="4187520"/>
              <a:ext cx="4105080" cy="10807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>
              <a:off x="3078000" y="1379520"/>
              <a:ext cx="1944360" cy="28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13"/>
          <p:cNvSpPr/>
          <p:nvPr/>
        </p:nvSpPr>
        <p:spPr>
          <a:xfrm>
            <a:off x="482760" y="5218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5154840" y="410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192840" y="635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2576880" y="114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7"/>
          <p:cNvSpPr/>
          <p:nvPr/>
        </p:nvSpPr>
        <p:spPr>
          <a:xfrm>
            <a:off x="1719360" y="3649680"/>
            <a:ext cx="144360" cy="144360"/>
          </a:xfrm>
          <a:prstGeom prst="ellipse">
            <a:avLst/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1363680" y="341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2323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7"/>
          <p:cNvSpPr txBox="1"/>
          <p:nvPr/>
        </p:nvSpPr>
        <p:spPr>
          <a:xfrm>
            <a:off x="6572160" y="1212840"/>
            <a:ext cx="216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№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2323"/>
                </a:solidFill>
                <a:latin typeface="Arial"/>
              </a:rPr>
              <a:t>75 (a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d2323"/>
              </a:solidFill>
              <a:latin typeface="Arial"/>
              <a:ea typeface="Arial"/>
            </a:endParaRPr>
          </a:p>
        </p:txBody>
      </p:sp>
      <p:grpSp>
        <p:nvGrpSpPr>
          <p:cNvPr id="275" name="Группа 22"/>
          <p:cNvGrpSpPr/>
          <p:nvPr/>
        </p:nvGrpSpPr>
        <p:grpSpPr>
          <a:xfrm>
            <a:off x="482760" y="1141560"/>
            <a:ext cx="5043240" cy="5580000"/>
            <a:chOff x="482760" y="1141560"/>
            <a:chExt cx="5043240" cy="5580000"/>
          </a:xfrm>
        </p:grpSpPr>
        <p:sp>
          <p:nvSpPr>
            <p:cNvPr id="276" name="Freeform 24"/>
            <p:cNvSpPr/>
            <p:nvPr/>
          </p:nvSpPr>
          <p:spPr>
            <a:xfrm>
              <a:off x="903240" y="1398600"/>
              <a:ext cx="3095640" cy="39560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 flipH="1" flipV="1">
              <a:off x="913680" y="5265720"/>
              <a:ext cx="3017880" cy="8856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2"/>
            <p:cNvSpPr/>
            <p:nvPr/>
          </p:nvSpPr>
          <p:spPr>
            <a:xfrm>
              <a:off x="3073320" y="1387440"/>
              <a:ext cx="903240" cy="3944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8"/>
            <p:cNvGrpSpPr/>
            <p:nvPr/>
          </p:nvGrpSpPr>
          <p:grpSpPr>
            <a:xfrm>
              <a:off x="917280" y="1379520"/>
              <a:ext cx="4105440" cy="5184720"/>
              <a:chOff x="917280" y="1379520"/>
              <a:chExt cx="4105440" cy="5184720"/>
            </a:xfrm>
          </p:grpSpPr>
          <p:sp>
            <p:nvSpPr>
              <p:cNvPr id="280" name="Line 9"/>
              <p:cNvSpPr/>
              <p:nvPr/>
            </p:nvSpPr>
            <p:spPr>
              <a:xfrm flipH="1">
                <a:off x="917280" y="1379520"/>
                <a:ext cx="2160720" cy="38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0"/>
              <p:cNvSpPr/>
              <p:nvPr/>
            </p:nvSpPr>
            <p:spPr>
              <a:xfrm flipH="1">
                <a:off x="2933280" y="1379520"/>
                <a:ext cx="144360" cy="518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1"/>
              <p:cNvSpPr/>
              <p:nvPr/>
            </p:nvSpPr>
            <p:spPr>
              <a:xfrm>
                <a:off x="917280" y="5268600"/>
                <a:ext cx="201636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2"/>
              <p:cNvSpPr/>
              <p:nvPr/>
            </p:nvSpPr>
            <p:spPr>
              <a:xfrm flipH="1">
                <a:off x="2933280" y="4187520"/>
                <a:ext cx="2089080" cy="237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3"/>
              <p:cNvSpPr/>
              <p:nvPr/>
            </p:nvSpPr>
            <p:spPr>
              <a:xfrm flipV="1">
                <a:off x="917280" y="4187520"/>
                <a:ext cx="410544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4"/>
              <p:cNvSpPr/>
              <p:nvPr/>
            </p:nvSpPr>
            <p:spPr>
              <a:xfrm>
                <a:off x="3078000" y="1379520"/>
                <a:ext cx="1944720" cy="28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15"/>
            <p:cNvSpPr/>
            <p:nvPr/>
          </p:nvSpPr>
          <p:spPr>
            <a:xfrm>
              <a:off x="482760" y="5218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2323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6"/>
            <p:cNvSpPr/>
            <p:nvPr/>
          </p:nvSpPr>
          <p:spPr>
            <a:xfrm>
              <a:off x="5154840" y="4105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192840" y="6353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8"/>
            <p:cNvSpPr/>
            <p:nvPr/>
          </p:nvSpPr>
          <p:spPr>
            <a:xfrm>
              <a:off x="2576520" y="1141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2323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9"/>
            <p:cNvSpPr/>
            <p:nvPr/>
          </p:nvSpPr>
          <p:spPr>
            <a:xfrm>
              <a:off x="3934080" y="5280120"/>
              <a:ext cx="144360" cy="144360"/>
            </a:xfrm>
            <a:prstGeom prst="ellipse">
              <a:avLst/>
            </a:prstGeom>
            <a:solidFill>
              <a:srgbClr val="dd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4095720" y="5292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232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 flipH="1">
              <a:off x="936360" y="1376280"/>
              <a:ext cx="2136960" cy="3889080"/>
            </a:xfrm>
            <a:prstGeom prst="line">
              <a:avLst/>
            </a:prstGeom>
            <a:ln w="57240">
              <a:solidFill>
                <a:srgbClr val="dd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23:52Z</dcterms:created>
  <dc:creator>Денис</dc:creator>
  <dc:description/>
  <dc:language>en-US</dc:language>
  <cp:lastModifiedBy>Денис</cp:lastModifiedBy>
  <dcterms:modified xsi:type="dcterms:W3CDTF">2009-08-24T06:26:00Z</dcterms:modified>
  <cp:revision>3</cp:revision>
  <dc:subject/>
  <dc:title>Построение сечений тетраэдра</dc:title>
</cp:coreProperties>
</file>