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796-684E-47E3-B194-2D39F93D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985-D603-4E1D-8FAD-41D4F8F3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C93-5FF1-4F73-AEE5-802207E8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E03-CECC-4F87-8DB5-0EF9556B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7E94-B864-4B4A-9184-6645A8B5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FB22-1A8E-479B-AB64-1DF79AD9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6BF0-3926-4E03-95D2-535C859B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B10F-1C79-462B-B5C6-89641B2A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D033-DC97-440A-8569-6A0D93D3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CD84-2A4D-4A1E-AB50-2C47EA18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D9F0-D6F7-4688-AE3A-B505267A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2CD-2D47-436F-BC79-6C55FC67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B2BB-5788-4468-9812-80986A77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908F-058A-49E9-91F4-8F3206F4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BC67-6BA3-4E97-8BFD-C2C44A08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1778-7529-40BC-AE4C-6B1E8B47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120E-1C12-414D-9665-9DF1B7DF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4D15-A643-419B-A605-DBBA8EBB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1CA72-13DD-4CD6-BFAD-A8C9DAA6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5795-7B94-4B1A-9303-933C929D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2F73A-0824-4C39-A468-09DF2C22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120C8-C1CF-4664-9210-7EFF7F45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9E0-3395-45E4-9067-68081F99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E85EA-25E8-4946-80E2-FDEF92E2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09CB-2CFD-4BE4-BE25-9D41F682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66A73-94A0-4E97-8F7B-800AB9E2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AA79B-60DA-4380-88CE-DE5B30B3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4926-4A1C-41AF-B7B0-C8EF1FA4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B0393-3A8B-4161-99A3-C3E0E0A5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C5465-FE82-4B9C-85B3-8CA73EA3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14EA3-BE22-41FB-AD33-F7447B1E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808D9-85A1-4A64-8ABB-BDB52664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C29D3-8B1E-40BC-93B2-CCF5339C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CAC-F4D0-47C9-BB0E-F5533130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1E41B-7D8D-4C13-8960-5EA91652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E1D2D-8031-4F30-9BAE-48520237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E2DFF-0EDA-48CF-9FD2-2C45699F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6B0A6-43C3-4EF5-B73D-78DD63A1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27AF7-2E20-44F7-8C6E-2AC16B95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72CCF-F212-4F82-8598-3FEDB07F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98151-AEBF-452B-A7E7-1FE3A32B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4CBF3-5EB1-412C-A18A-3834F706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665A0-0876-4A3C-AF3F-4F9686D2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945-0C09-43EE-937F-BF2AB565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C0FC-B01A-4886-B1F8-4EA2D529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82B3-064C-4855-BD3B-BB2478A7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9B3-AD33-4DED-B5B1-C7768F45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78C-8B15-4FB9-920C-A9CF2BDA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6d9e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FDA1-BE7A-4B17-BCBF-D58F574FF7C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6d9e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675A-00FD-4784-BB18-2F040A97930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6d9e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0CAF-2D7C-4070-94D2-276DD04575D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6d9e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B11B-5AC3-4A3B-82A3-B6D47FB368C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116000" y="-122400"/>
            <a:ext cx="773604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380000" y="-589680"/>
            <a:ext cx="205092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5867280" y="2354400"/>
            <a:ext cx="1873440" cy="2550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3"/>
          <a:stretch/>
        </p:blipFill>
        <p:spPr>
          <a:xfrm>
            <a:off x="1568520" y="3068640"/>
            <a:ext cx="2322360" cy="288144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5492880" y="749160"/>
            <a:ext cx="1901520" cy="2116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4211640" y="3213000"/>
            <a:ext cx="1143000" cy="792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3"/>
          <a:stretch/>
        </p:blipFill>
        <p:spPr>
          <a:xfrm>
            <a:off x="6156360" y="3213000"/>
            <a:ext cx="1295280" cy="576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4"/>
          <a:stretch/>
        </p:blipFill>
        <p:spPr>
          <a:xfrm>
            <a:off x="2195640" y="3141720"/>
            <a:ext cx="1143000" cy="819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"/>
          <p:cNvPicPr/>
          <p:nvPr/>
        </p:nvPicPr>
        <p:blipFill>
          <a:blip r:embed="rId5"/>
          <a:stretch/>
        </p:blipFill>
        <p:spPr>
          <a:xfrm>
            <a:off x="3584520" y="792000"/>
            <a:ext cx="1871640" cy="1963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"/>
          <p:cNvPicPr/>
          <p:nvPr/>
        </p:nvPicPr>
        <p:blipFill>
          <a:blip r:embed="rId6"/>
          <a:stretch/>
        </p:blipFill>
        <p:spPr>
          <a:xfrm>
            <a:off x="2030400" y="974880"/>
            <a:ext cx="1266840" cy="3120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"/>
          <p:cNvPicPr/>
          <p:nvPr/>
        </p:nvPicPr>
        <p:blipFill>
          <a:blip r:embed="rId7"/>
          <a:stretch/>
        </p:blipFill>
        <p:spPr>
          <a:xfrm>
            <a:off x="-60480" y="523800"/>
            <a:ext cx="1846440" cy="2305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/>
          <p:cNvPicPr/>
          <p:nvPr/>
        </p:nvPicPr>
        <p:blipFill>
          <a:blip r:embed="rId8"/>
          <a:stretch/>
        </p:blipFill>
        <p:spPr>
          <a:xfrm>
            <a:off x="298440" y="2919240"/>
            <a:ext cx="1590840" cy="176868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1"/>
          <p:cNvSpPr/>
          <p:nvPr/>
        </p:nvSpPr>
        <p:spPr>
          <a:xfrm>
            <a:off x="0" y="0"/>
            <a:ext cx="6858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Валентина Терешкова </a:t>
            </a: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- первая во всем мире женщина, совершившая полет в космос, Герой Советского Союза, имеет звание генерал-майор.Терешкова Валентина Владимировна первая из женщин, которая покорила космос, родилась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7 марта 1937 года</a:t>
            </a: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. Валентина Владимировна любила спорт и серьезно увлекалась прыжками с парашютом. После окончания своего обучения, она еще два года продолжала работать на Ярославском шинном заводе, но увлечение прыжками и любовь к небу, не прошло даром, она в 1962 году, была зачислена в отряд космонавтов. Из группы космонавтов-женщин, она удостоилась огромной чести стать первой в мире женщиной, покорившей космос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0" y="32846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Это произошло </a:t>
            </a:r>
            <a:r>
              <a:rPr b="0" lang="ru-RU" sz="1800" spc="-1" strike="noStrike">
                <a:solidFill>
                  <a:srgbClr val="0033cc"/>
                </a:solidFill>
                <a:latin typeface="Constantia"/>
              </a:rPr>
              <a:t>16-19 июля 1963 года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. Валентина Терешкова на корабле «Восток-6» в качестве пилота, совершила полет в космос, который длился </a:t>
            </a:r>
            <a:r>
              <a:rPr b="0" lang="ru-RU" sz="1800" spc="-1" strike="noStrike">
                <a:solidFill>
                  <a:srgbClr val="0033cc"/>
                </a:solidFill>
                <a:latin typeface="Constantia"/>
              </a:rPr>
              <a:t>2 суток и 23 час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0" y="39337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За выдающиеся заслуги перед родиной, она удостоилась звания Героя Советского Союз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78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Прямоугольник 1"/>
          <p:cNvGrpSpPr/>
          <p:nvPr/>
        </p:nvGrpSpPr>
        <p:grpSpPr>
          <a:xfrm>
            <a:off x="42840" y="-115920"/>
            <a:ext cx="8790120" cy="7403040"/>
            <a:chOff x="42840" y="-115920"/>
            <a:chExt cx="8790120" cy="7403040"/>
          </a:xfrm>
        </p:grpSpPr>
        <p:pic>
          <p:nvPicPr>
            <p:cNvPr id="24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2840" y="-115920"/>
              <a:ext cx="8790120" cy="70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24000" y="0"/>
              <a:ext cx="8172360" cy="72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8000"/>
                  </a:solidFill>
                  <a:latin typeface="Constantia"/>
                </a:rPr>
                <a:t>К сожалению, этот ее первый полет в космос, так и остался для нее последним. Хотя Валентина Владимировна и дальше продолжала заниматься предполетной подготовкой, но ей так и не суждено было больше полететь в космос. В ее повседневную жизнь вошла общественная работа. Она принимала участие во многих мероприятиях на просторах Советского Союза и за </a:t>
              </a:r>
              <a:r>
                <a:rPr b="0" lang="ru-RU" sz="4000" spc="-1" strike="noStrike">
                  <a:solidFill>
                    <a:srgbClr val="008000"/>
                  </a:solidFill>
                  <a:latin typeface="Constantia"/>
                </a:rPr>
                <a:t>рубежом. </a:t>
              </a:r>
              <a:endParaRPr b="0" lang="en-US" sz="4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advTm="40000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24000" y="532080"/>
            <a:ext cx="7561080" cy="399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Терешкова – почетный гражданин двух десятков городов разных стран. Ее именем названо множество улиц, а также кратер на Луне и малая планета. О ней сняты фильмы, написаны книги, ей посвящали песни. Терешковой присвоен почётный титул «Величайшая женщина XX столетия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25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43040" y="171468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onstantia"/>
              </a:rPr>
              <a:t>Выполнила ученица 5 класса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onstantia"/>
              </a:rPr>
              <a:t>                </a:t>
            </a:r>
            <a:r>
              <a:rPr b="1" lang="ru-RU" sz="2400" spc="-1" strike="noStrike">
                <a:solidFill>
                  <a:srgbClr val="3333ff"/>
                </a:solidFill>
                <a:latin typeface="Constantia"/>
              </a:rPr>
              <a:t>Курачёва Юл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70c0"/>
                </a:solidFill>
                <a:latin typeface="Calibri"/>
              </a:rPr>
              <a:t>Полёт В.Терешково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444600" y="2200320"/>
            <a:ext cx="4438440" cy="6022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5580000" y="2637000"/>
            <a:ext cx="209556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3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3745080" cy="367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3"/>
          <a:stretch/>
        </p:blipFill>
        <p:spPr>
          <a:xfrm>
            <a:off x="4859280" y="2781360"/>
            <a:ext cx="3241800" cy="331164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Заголовок 1"/>
          <p:cNvGrpSpPr/>
          <p:nvPr/>
        </p:nvGrpSpPr>
        <p:grpSpPr>
          <a:xfrm>
            <a:off x="12600" y="669960"/>
            <a:ext cx="8747280" cy="1287360"/>
            <a:chOff x="12600" y="669960"/>
            <a:chExt cx="8747280" cy="1287360"/>
          </a:xfrm>
        </p:grpSpPr>
        <p:pic>
          <p:nvPicPr>
            <p:cNvPr id="20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2600" y="669960"/>
              <a:ext cx="874728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57200" y="7048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ff0000"/>
                  </a:solidFill>
                  <a:latin typeface="Constantia"/>
                </a:rPr>
                <a:t>Свадьба В.Терешковой</a:t>
              </a:r>
              <a:endParaRPr b="0" lang="en-US" sz="5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08" name="Текст 2"/>
          <p:cNvGrpSpPr/>
          <p:nvPr/>
        </p:nvGrpSpPr>
        <p:grpSpPr>
          <a:xfrm>
            <a:off x="255600" y="1816200"/>
            <a:ext cx="4316400" cy="811080"/>
            <a:chOff x="255600" y="1816200"/>
            <a:chExt cx="4316400" cy="811080"/>
          </a:xfrm>
        </p:grpSpPr>
        <p:pic>
          <p:nvPicPr>
            <p:cNvPr id="209" name="Текст 2" descr=""/>
            <p:cNvPicPr/>
            <p:nvPr/>
          </p:nvPicPr>
          <p:blipFill>
            <a:blip r:embed="rId2"/>
            <a:stretch/>
          </p:blipFill>
          <p:spPr>
            <a:xfrm>
              <a:off x="255600" y="1816200"/>
              <a:ext cx="4316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57200" y="1855800"/>
              <a:ext cx="40402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4617b"/>
                  </a:solidFill>
                  <a:latin typeface="Constantia"/>
                </a:rPr>
                <a:t>В заксе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solidFill>
            <a:srgbClr val="cbeac0"/>
          </a:solidFill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Зак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>
            <a:off x="611280" y="2781360"/>
            <a:ext cx="2738520" cy="2879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4"/>
          <a:stretch/>
        </p:blipFill>
        <p:spPr>
          <a:xfrm>
            <a:off x="5003640" y="2997360"/>
            <a:ext cx="2916360" cy="280800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Заголовок 1"/>
          <p:cNvGrpSpPr/>
          <p:nvPr/>
        </p:nvGrpSpPr>
        <p:grpSpPr>
          <a:xfrm>
            <a:off x="6480" y="669960"/>
            <a:ext cx="8746920" cy="1287360"/>
            <a:chOff x="6480" y="669960"/>
            <a:chExt cx="8746920" cy="1287360"/>
          </a:xfrm>
        </p:grpSpPr>
        <p:pic>
          <p:nvPicPr>
            <p:cNvPr id="21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480" y="669960"/>
              <a:ext cx="874692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57200" y="7048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ffffff"/>
                  </a:solidFill>
                  <a:latin typeface="Constantia"/>
                </a:rPr>
                <a:t>Совещание В.Терешковой</a:t>
              </a:r>
              <a:endParaRPr b="0" lang="en-US" sz="5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6226200" cy="3500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Заголовок 1"/>
          <p:cNvGrpSpPr/>
          <p:nvPr/>
        </p:nvGrpSpPr>
        <p:grpSpPr>
          <a:xfrm>
            <a:off x="12600" y="669960"/>
            <a:ext cx="8747280" cy="1287360"/>
            <a:chOff x="12600" y="669960"/>
            <a:chExt cx="8747280" cy="1287360"/>
          </a:xfrm>
        </p:grpSpPr>
        <p:pic>
          <p:nvPicPr>
            <p:cNvPr id="21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2600" y="669960"/>
              <a:ext cx="874728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57200" y="7048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ffffff"/>
                  </a:solidFill>
                  <a:latin typeface="Constantia"/>
                </a:rPr>
                <a:t>Валентина с детьми</a:t>
              </a:r>
              <a:endParaRPr b="0" lang="en-US" sz="5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603360" y="1981080"/>
            <a:ext cx="6278400" cy="462132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219280" y="4868640"/>
            <a:ext cx="321156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1800"/>
            </a:b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Памятник Валентине Терешковой на аллее Космонавтов в Москв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5581800" y="-2430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rcRect l="5329" t="0" r="5329" b="0"/>
          <a:stretch/>
        </p:blipFill>
        <p:spPr>
          <a:xfrm>
            <a:off x="108000" y="83664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25" name="Рисунок 2"/>
          <p:cNvSpPr/>
          <p:nvPr/>
        </p:nvSpPr>
        <p:spPr>
          <a:xfrm>
            <a:off x="1763640" y="62064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2987640" y="1268280"/>
            <a:ext cx="23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nstantia"/>
              </a:rPr>
              <a:t>Валентина Терешкова и Владимир Путин. 2000 год</a:t>
            </a:r>
            <a:r>
              <a:rPr b="1" lang="ru-RU" sz="1800" spc="-1" strike="noStrike">
                <a:solidFill>
                  <a:srgbClr val="0033cc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6443640" y="549360"/>
            <a:ext cx="1905120" cy="2543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" descr=""/>
          <p:cNvPicPr/>
          <p:nvPr/>
        </p:nvPicPr>
        <p:blipFill>
          <a:blip r:embed="rId3"/>
          <a:stretch/>
        </p:blipFill>
        <p:spPr>
          <a:xfrm>
            <a:off x="108000" y="2852640"/>
            <a:ext cx="2786040" cy="2048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651120" cy="2738520"/>
          </a:xfrm>
          <a:prstGeom prst="rect">
            <a:avLst/>
          </a:prstGeom>
          <a:ln w="0">
            <a:noFill/>
          </a:ln>
        </p:spPr>
      </p:pic>
      <p:grpSp>
        <p:nvGrpSpPr>
          <p:cNvPr id="230" name="Прямоугольник 5"/>
          <p:cNvGrpSpPr/>
          <p:nvPr/>
        </p:nvGrpSpPr>
        <p:grpSpPr>
          <a:xfrm>
            <a:off x="4022640" y="-36360"/>
            <a:ext cx="3846600" cy="4028760"/>
            <a:chOff x="4022640" y="-36360"/>
            <a:chExt cx="3846600" cy="4028760"/>
          </a:xfrm>
        </p:grpSpPr>
        <p:pic>
          <p:nvPicPr>
            <p:cNvPr id="231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022640" y="-36360"/>
              <a:ext cx="3846600" cy="40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211640" y="0"/>
              <a:ext cx="358308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00"/>
                  </a:solidFill>
                  <a:latin typeface="Constanti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00"/>
                  </a:solidFill>
                  <a:latin typeface="Constantia"/>
                </a:rPr>
                <a:t>Памятник Валентине Терешковой в Баевском районе, недалеко от места приземления первой женщины-космонавта</a:t>
              </a:r>
              <a:endParaRPr b="0" lang="en-US" sz="2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advTm="10000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48000" y="629136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278480" y="6171840"/>
            <a:ext cx="45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0560" y="4797360"/>
            <a:ext cx="3600360" cy="20606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36" name="Прямоугольник 4"/>
          <p:cNvSpPr/>
          <p:nvPr/>
        </p:nvSpPr>
        <p:spPr>
          <a:xfrm flipH="1">
            <a:off x="0" y="0"/>
            <a:ext cx="8820000" cy="7043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Орден Дружбы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(12 апреля 2011 года</a:t>
            </a: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) — за большой вклад в развитие отечественной пилотируемой космонавтики и многолетнюю плодотворную общественную деятельн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Два ордена Ленина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(22 июня 1963 и 6 мая 1981) </a:t>
            </a: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— за успешную деятельность по развитию и укреплению связей с прогрессивной общественностью и миролюбивыми силами зарубежных стран (второй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Орден Октябрьской Революции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(1 декабря 1971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Орден Трудового Красного Знамени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(5 марта 1987) </a:t>
            </a: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— за общественную деятельн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Орден Дружбы Наро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Лётчик-космонавт ССС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Медал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Государственная премия Российской Федерации за выдающиеся достижения в области гуманитарной деятельности 2008 года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(4 июня 2009 года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Почётные грамоты Правительства Российской Федерации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(16 июня 2008, 12 июня 2003, 3 марта 1997) </a:t>
            </a:r>
            <a:r>
              <a:rPr b="0" lang="ru-RU" sz="1800" spc="-1" strike="noStrike">
                <a:solidFill>
                  <a:srgbClr val="3333ff"/>
                </a:solidFill>
                <a:latin typeface="Constantia"/>
              </a:rPr>
              <a:t>— за многолетнюю плодотворную государственную и общественную деятельность, большой личный вклад в развитие пилотируемой космонавтики и в связи с 45-летием осуществления космического полёта  за большой личный вклад в развитие пилотируемой космонавтики;  за заслуги в развитии космонавтики, укреплении международных научных и культурных связей и многолетний добросовестный труд</a:t>
            </a:r>
            <a:r>
              <a:rPr b="0" lang="ru-RU" sz="2000" spc="-1" strike="noStrike">
                <a:solidFill>
                  <a:srgbClr val="3333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80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0:30:16Z</dcterms:created>
  <dc:creator>c1</dc:creator>
  <dc:description/>
  <dc:language>en-US</dc:language>
  <cp:lastModifiedBy>Директор</cp:lastModifiedBy>
  <dcterms:modified xsi:type="dcterms:W3CDTF">2011-07-27T04:03:05Z</dcterms:modified>
  <cp:revision>54</cp:revision>
  <dc:subject/>
  <dc:title>В.В.Терешкова</dc:title>
</cp:coreProperties>
</file>