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F8B-4EFA-472B-AF3E-745C5C2D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AC8-595D-4ACB-A6EF-FC9378C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672-A5F3-4D4E-9523-656A4C91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DC4-440C-4E8E-9EFD-B0B9DF56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6049-A1DE-4EDE-903B-29343ED3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827A-EC7F-4052-B09F-75D5418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2DD3-6C6C-451A-9164-9C41CF8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3CD6-AE49-4EE0-B104-9330B3C1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843-0154-4997-8433-29A1B7BD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0515-0DD0-45AA-B930-841BC5C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6D9C-E74A-4ADD-BF82-EFDCA6E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E9E-33FD-4B3D-B88C-A4EC7CB9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EA6F-953A-4CC7-8095-DEA573D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59A5-FB18-4542-AFD8-D0E956C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AF96-2F45-4A62-AF10-B5E6162D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D898-928C-40C8-B92A-81CACC6A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217-3A90-47F5-BB18-B27DF62D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F503-54FB-422C-89C6-4A717F3A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2723-8525-4223-99F4-EB57E216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E70A-C88F-4DA0-91CC-6964846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5619-F4F5-47D6-B49C-F8FC2C7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195E-0F0D-4461-A1CD-EEFB6657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572-62AB-413D-B2E9-B69EA548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9FCB-9223-4EFF-B26C-DDA04150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2895-833A-4698-A935-6353780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0781-230B-4AF5-A42E-243A253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0451-C1CC-4F7E-BFF3-ED4A0AC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D4A3-F217-4122-96E1-698A75CB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9AF7-B89C-4251-ADE5-07AB2C2F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92C3-D20B-4A29-AC5D-554FDD0F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CD8E-7693-4320-9BE5-1F5CDC72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8797-A80C-4186-973B-9B0E1D5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E400-CB00-4436-B9CB-E697B78E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EEB-D189-420A-9761-519964E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DED6-69C2-4C88-98DB-4B87931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B3DE-DC36-4AA3-A5EF-48804DA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4C74-E23C-4057-8FFD-BF8399A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9B9E-F618-41C7-9EDE-FBA1E77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60FA-03B2-4F69-9B1C-89999BF8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449D-EC44-47E2-9AFD-FE48505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7602-5CF4-45E1-857E-A361402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3A67-CC8C-4976-A87C-1A84CD46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B012-7F48-401B-B6B8-9EE27C2B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99D-0F81-4D34-B32B-F54A3FC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5A9-8713-476A-A230-C894AB5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BE4-D1F6-4F17-AE78-2054599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7BC-8D53-486A-8BDB-1EF9273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75B-9592-4ED3-9BE9-099DBB1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241-F015-43BF-AF68-1728E841623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6744-2022-488F-BC65-3321FE6F404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559-B6C6-4213-8F80-61B1CD0CCA2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07B-B446-460F-8111-A1EB56E5F9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116000" y="-122400"/>
            <a:ext cx="773604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380000" y="-589680"/>
            <a:ext cx="205092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5867280" y="2354400"/>
            <a:ext cx="1873440" cy="2550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1568520" y="3068640"/>
            <a:ext cx="2322360" cy="288144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492880" y="749160"/>
            <a:ext cx="1901520" cy="2116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114300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295280" cy="576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4"/>
          <a:stretch/>
        </p:blipFill>
        <p:spPr>
          <a:xfrm>
            <a:off x="2195640" y="314172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5"/>
          <a:stretch/>
        </p:blipFill>
        <p:spPr>
          <a:xfrm>
            <a:off x="3584520" y="792000"/>
            <a:ext cx="1871640" cy="1963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6"/>
          <a:stretch/>
        </p:blipFill>
        <p:spPr>
          <a:xfrm>
            <a:off x="2030400" y="974880"/>
            <a:ext cx="1266840" cy="3120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7"/>
          <a:stretch/>
        </p:blipFill>
        <p:spPr>
          <a:xfrm>
            <a:off x="-60480" y="523800"/>
            <a:ext cx="1846440" cy="2305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8"/>
          <a:stretch/>
        </p:blipFill>
        <p:spPr>
          <a:xfrm>
            <a:off x="298440" y="2919240"/>
            <a:ext cx="1590840" cy="176868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0" y="0"/>
            <a:ext cx="685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алентина Терешкова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- первая во всем мире женщина, совершившая полет в космос, Герой Советского Союза, имеет звание генерал-майор.Терешкова Валентина Владимировна первая из женщин, которая покорила космос, родилась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7 марта 1937 года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. Валентина Владимировна любила спорт и серьезно увлекалась прыжками с парашютом. После окончания своего обучения, она еще два года продолжала работать на Ярославском шинном заводе, но увлечение прыжками и любовь к небу, не прошло даром, она в 1962 году, была зачислена в отряд космонавтов. Из группы космонавтов-женщин, она удостоилась огромной чести стать первой в мире женщиной, покорившей космо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0" y="3284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Это произошло </a:t>
            </a:r>
            <a:r>
              <a:rPr b="0" lang="ru-RU" sz="1800" spc="-1" strike="noStrike">
                <a:solidFill>
                  <a:srgbClr val="0033cc"/>
                </a:solidFill>
                <a:latin typeface="Constantia"/>
              </a:rPr>
              <a:t>16-19 июля 1963 года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. Валентина Терешкова на корабле «Восток-6» в качестве пилота, совершила полет в космос, который длился </a:t>
            </a:r>
            <a:r>
              <a:rPr b="0" lang="ru-RU" sz="1800" spc="-1" strike="noStrike">
                <a:solidFill>
                  <a:srgbClr val="0033cc"/>
                </a:solidFill>
                <a:latin typeface="Constantia"/>
              </a:rPr>
              <a:t>2 суток и 23 ча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0" y="3933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За выдающиеся заслуги перед родиной, она удостоилась звания Героя Советского Союз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78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Прямоугольник 1"/>
          <p:cNvGrpSpPr/>
          <p:nvPr/>
        </p:nvGrpSpPr>
        <p:grpSpPr>
          <a:xfrm>
            <a:off x="42840" y="-115920"/>
            <a:ext cx="8790120" cy="7403040"/>
            <a:chOff x="42840" y="-115920"/>
            <a:chExt cx="8790120" cy="7403040"/>
          </a:xfrm>
        </p:grpSpPr>
        <p:pic>
          <p:nvPicPr>
            <p:cNvPr id="24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2840" y="-115920"/>
              <a:ext cx="879012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24000" y="0"/>
              <a:ext cx="8172360" cy="72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Constantia"/>
                </a:rPr>
                <a:t>К сожалению, этот ее первый полет в космос, так и остался для нее последним. Хотя Валентина Владимировна и дальше продолжала заниматься предполетной подготовкой, но ей так и не суждено было больше полететь в космос. В ее повседневную жизнь вошла общественная работа. Она принимала участие во многих мероприятиях на просторах Советского Союза и за </a:t>
              </a:r>
              <a:r>
                <a:rPr b="0" lang="ru-RU" sz="4000" spc="-1" strike="noStrike">
                  <a:solidFill>
                    <a:srgbClr val="008000"/>
                  </a:solidFill>
                  <a:latin typeface="Constantia"/>
                </a:rPr>
                <a:t>рубежом.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advTm="40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24000" y="532080"/>
            <a:ext cx="756108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Терешкова – почетный гражданин двух десятков городов разных стран. Ее именем названо множество улиц, а также кратер на Луне и малая планета. О ней сняты фильмы, написаны книги, ей посвящали песни. Терешковой присвоен почётный титул «Величайшая женщина XX столетия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25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43040" y="171468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nstantia"/>
              </a:rPr>
              <a:t>Выполнила ученица 5 класса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nstantia"/>
              </a:rPr>
              <a:t>                </a:t>
            </a:r>
            <a:r>
              <a:rPr b="1" lang="ru-RU" sz="2400" spc="-1" strike="noStrike">
                <a:solidFill>
                  <a:srgbClr val="3333ff"/>
                </a:solidFill>
                <a:latin typeface="Constantia"/>
              </a:rPr>
              <a:t>Курачёва Юл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70c0"/>
                </a:solidFill>
                <a:latin typeface="Calibri"/>
              </a:rPr>
              <a:t>Полёт В.Терешково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44600" y="2200320"/>
            <a:ext cx="4438440" cy="6022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209556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45080" cy="36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>
            <a:off x="4859280" y="2781360"/>
            <a:ext cx="3241800" cy="331164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Заголовок 1"/>
          <p:cNvGrpSpPr/>
          <p:nvPr/>
        </p:nvGrpSpPr>
        <p:grpSpPr>
          <a:xfrm>
            <a:off x="12600" y="669960"/>
            <a:ext cx="8747280" cy="1287360"/>
            <a:chOff x="12600" y="669960"/>
            <a:chExt cx="8747280" cy="1287360"/>
          </a:xfrm>
        </p:grpSpPr>
        <p:pic>
          <p:nvPicPr>
            <p:cNvPr id="2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2600" y="669960"/>
              <a:ext cx="87472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0000"/>
                  </a:solidFill>
                  <a:latin typeface="Constantia"/>
                </a:rPr>
                <a:t>Свадьба В.Терешковой</a:t>
              </a:r>
              <a:endParaRPr b="0" lang="en-US" sz="5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8" name="Текст 2"/>
          <p:cNvGrpSpPr/>
          <p:nvPr/>
        </p:nvGrpSpPr>
        <p:grpSpPr>
          <a:xfrm>
            <a:off x="255600" y="1816200"/>
            <a:ext cx="4316400" cy="811080"/>
            <a:chOff x="255600" y="1816200"/>
            <a:chExt cx="4316400" cy="811080"/>
          </a:xfrm>
        </p:grpSpPr>
        <p:pic>
          <p:nvPicPr>
            <p:cNvPr id="209" name="Текст 2" descr=""/>
            <p:cNvPicPr/>
            <p:nvPr/>
          </p:nvPicPr>
          <p:blipFill>
            <a:blip r:embed="rId2"/>
            <a:stretch/>
          </p:blipFill>
          <p:spPr>
            <a:xfrm>
              <a:off x="255600" y="1816200"/>
              <a:ext cx="4316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" y="1855800"/>
              <a:ext cx="4040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4617b"/>
                  </a:solidFill>
                  <a:latin typeface="Constantia"/>
                </a:rPr>
                <a:t>В заксе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solidFill>
            <a:srgbClr val="cbeac0"/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2738520" cy="287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2916360" cy="280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Заголовок 1"/>
          <p:cNvGrpSpPr/>
          <p:nvPr/>
        </p:nvGrpSpPr>
        <p:grpSpPr>
          <a:xfrm>
            <a:off x="6480" y="669960"/>
            <a:ext cx="8746920" cy="1287360"/>
            <a:chOff x="6480" y="669960"/>
            <a:chExt cx="8746920" cy="1287360"/>
          </a:xfrm>
        </p:grpSpPr>
        <p:pic>
          <p:nvPicPr>
            <p:cNvPr id="2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480" y="669960"/>
              <a:ext cx="87469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Constantia"/>
                </a:rPr>
                <a:t>Совещание В.Терешковой</a:t>
              </a:r>
              <a:endParaRPr b="0" lang="en-US" sz="5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226200" cy="3500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Заголовок 1"/>
          <p:cNvGrpSpPr/>
          <p:nvPr/>
        </p:nvGrpSpPr>
        <p:grpSpPr>
          <a:xfrm>
            <a:off x="12600" y="669960"/>
            <a:ext cx="8747280" cy="1287360"/>
            <a:chOff x="12600" y="669960"/>
            <a:chExt cx="8747280" cy="1287360"/>
          </a:xfrm>
        </p:grpSpPr>
        <p:pic>
          <p:nvPicPr>
            <p:cNvPr id="21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2600" y="669960"/>
              <a:ext cx="87472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Constantia"/>
                </a:rPr>
                <a:t>Валентина с детьми</a:t>
              </a:r>
              <a:endParaRPr b="0" lang="en-US" sz="5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603360" y="1981080"/>
            <a:ext cx="6278400" cy="46213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19280" y="4868640"/>
            <a:ext cx="321156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амятник Валентине Терешковой на аллее Космонавтов в Москв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5581800" y="-243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5329" t="0" r="5329" b="0"/>
          <a:stretch/>
        </p:blipFill>
        <p:spPr>
          <a:xfrm>
            <a:off x="108000" y="836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5" name="Рисунок 2"/>
          <p:cNvSpPr/>
          <p:nvPr/>
        </p:nvSpPr>
        <p:spPr>
          <a:xfrm>
            <a:off x="1763640" y="62064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2987640" y="1268280"/>
            <a:ext cx="23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Валентина Терешкова и Владимир Путин. 2000 год</a:t>
            </a:r>
            <a:r>
              <a:rPr b="1" lang="ru-RU" sz="1800" spc="-1" strike="noStrike">
                <a:solidFill>
                  <a:srgbClr val="0033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6443640" y="54936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3"/>
          <a:stretch/>
        </p:blipFill>
        <p:spPr>
          <a:xfrm>
            <a:off x="108000" y="2852640"/>
            <a:ext cx="2786040" cy="204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651120" cy="2738520"/>
          </a:xfrm>
          <a:prstGeom prst="rect">
            <a:avLst/>
          </a:prstGeom>
          <a:ln w="0">
            <a:noFill/>
          </a:ln>
        </p:spPr>
      </p:pic>
      <p:grpSp>
        <p:nvGrpSpPr>
          <p:cNvPr id="230" name="Прямоугольник 5"/>
          <p:cNvGrpSpPr/>
          <p:nvPr/>
        </p:nvGrpSpPr>
        <p:grpSpPr>
          <a:xfrm>
            <a:off x="4022640" y="-36360"/>
            <a:ext cx="3846600" cy="4028760"/>
            <a:chOff x="4022640" y="-36360"/>
            <a:chExt cx="3846600" cy="4028760"/>
          </a:xfrm>
        </p:grpSpPr>
        <p:pic>
          <p:nvPicPr>
            <p:cNvPr id="23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022640" y="-36360"/>
              <a:ext cx="3846600" cy="40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211640" y="0"/>
              <a:ext cx="35830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0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00"/>
                  </a:solidFill>
                  <a:latin typeface="Constantia"/>
                </a:rPr>
                <a:t>Памятник Валентине Терешковой в Баевском районе, недалеко от места приземления первой женщины-космонавта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48000" y="62913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78480" y="6171840"/>
            <a:ext cx="45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560" y="4797360"/>
            <a:ext cx="3600360" cy="20606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6" name="Прямоугольник 4"/>
          <p:cNvSpPr/>
          <p:nvPr/>
        </p:nvSpPr>
        <p:spPr>
          <a:xfrm flipH="1">
            <a:off x="0" y="0"/>
            <a:ext cx="8820000" cy="7043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Дружбы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12 апреля 2011 года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) — за большой вклад в развитие отечественной пилотируемой космонавтики и многолетнюю плодотворную общественную дея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Два ордена Ленина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22 июня 1963 и 6 мая 1981)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— за успешную деятельность по развитию и укреплению связей с прогрессивной общественностью и миролюбивыми силами зарубежных стран (второй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Октябрьской Революци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1 декабря 1971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Трудового Красного Знамен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5 марта 1987)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— за общественную дея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Дружбы Наро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Лётчик-космонавт ССС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Меда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Государственная премия Российской Федерации за выдающиеся достижения в области гуманитарной деятельности 2008 года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4 июня 2009 год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Почётные грамоты Правительства Российской Федераци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16 июня 2008, 12 июня 2003, 3 марта 1997)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— за многолетнюю плодотворную государственную и общественную деятельность, большой личный вклад в развитие пилотируемой космонавтики и в связи с 45-летием осуществления космического полёта  за большой личный вклад в развитие пилотируемой космонавтики;  за заслуги в развитии космонавтики, укреплении международных научных и культурных связей и многолетний добросовестный труд</a:t>
            </a:r>
            <a:r>
              <a:rPr b="0" lang="ru-RU" sz="2000" spc="-1" strike="noStrike">
                <a:solidFill>
                  <a:srgbClr val="3333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80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0:30:16Z</dcterms:created>
  <dc:creator>c1</dc:creator>
  <dc:description/>
  <dc:language>en-US</dc:language>
  <cp:lastModifiedBy>Директор</cp:lastModifiedBy>
  <dcterms:modified xsi:type="dcterms:W3CDTF">2011-07-27T04:03:05Z</dcterms:modified>
  <cp:revision>54</cp:revision>
  <dc:subject/>
  <dc:title>В.В.Терешкова</dc:title>
</cp:coreProperties>
</file>