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A9A-A42F-4CAA-8398-6FBC202B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4D9-6E84-4742-B15A-C63B4586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FF9-34C9-4D4D-80E1-AA4217C1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653-284A-41EE-9DC8-20530000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D498-F3A4-4406-B332-988AEE72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906D-989E-4360-968B-B3277DD1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F2BC-0562-4281-BBC7-7D672B54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1828-6F03-4384-ABD3-B9000FE6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7062-994B-4E08-9D93-A70AC30E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5600" y="274320"/>
            <a:ext cx="690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504D-1FBC-4A11-9C95-B24AE18C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4F0C-DD80-4CE8-9ED2-E38E526F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0EC-EC67-447A-A12A-F1FA4753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1088-ADE3-4ECC-B2B0-8ABA17F0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4F40-C7C8-4B16-B40B-E233B94A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71C8-D871-4F17-8533-0DD310F2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DD72-358A-45A8-AC95-BCFE3996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6CCF-40B0-40EF-91E7-7CFDF599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748A-070F-4CAF-A2FA-31835F28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F35AB-3936-417B-B6C5-676689B4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1FB43-E7DE-4E51-8493-1C933E16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8597E-8CD0-4BC1-9186-E541441A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84D22-24B9-49D0-B6E5-5AA2A7E1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5AB-E3E3-4674-9606-CB72268B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85600" y="274320"/>
            <a:ext cx="690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192EC-80B6-4711-94CE-1B9F2F5D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91D0A-EDC6-4EA2-BC4B-5C3091DD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5523E-5A34-40A2-86CE-87BC543F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096B0-5C13-44F1-9C23-BDDF8B5E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FE79-EA7B-42F7-9CB6-56E645CB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698D0-D0CA-41FC-818C-E026605B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84817-5A25-41E5-B2E6-9669D17F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427-EB76-42D1-A9E3-C83D5530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309-67BB-426C-9EB9-3D7B714A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85600" y="274320"/>
            <a:ext cx="690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99D-C983-4AEB-A7C9-20051232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5BDC-5A3D-40C0-8819-1718B0A6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A7B-50DA-480C-8B11-658C31B8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8A7-8887-4914-860A-93AB0BD6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aboutus.png"/>
          <p:cNvPicPr/>
          <p:nvPr/>
        </p:nvPicPr>
        <p:blipFill>
          <a:blip r:embed="rId2"/>
          <a:stretch/>
        </p:blipFill>
        <p:spPr>
          <a:xfrm>
            <a:off x="0" y="428760"/>
            <a:ext cx="5524560" cy="617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325B-F947-4D95-933A-B54E673491C9}" type="slidenum">
              <a:rPr b="0" lang="ru-RU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18044.jpeg"/>
          <p:cNvPicPr/>
          <p:nvPr/>
        </p:nvPicPr>
        <p:blipFill>
          <a:blip r:embed="rId2"/>
          <a:stretch/>
        </p:blipFill>
        <p:spPr>
          <a:xfrm>
            <a:off x="-6480" y="36360"/>
            <a:ext cx="189576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DB80-8727-4AF4-8357-E9B91CD5441B}" type="slidenum">
              <a:rPr b="0" lang="ru-RU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7" descr="aboutus.png"/>
          <p:cNvPicPr/>
          <p:nvPr/>
        </p:nvPicPr>
        <p:blipFill>
          <a:blip r:embed="rId2"/>
          <a:stretch/>
        </p:blipFill>
        <p:spPr>
          <a:xfrm>
            <a:off x="3619440" y="357120"/>
            <a:ext cx="5524560" cy="6172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C739-E05D-424E-86B3-1FE18ADFC7B3}" type="slidenum">
              <a:rPr b="0" lang="ru-RU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6a0120a610bec4970c0148c7a78d31970c-500w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"/>
          <p:cNvSpPr/>
          <p:nvPr/>
        </p:nvSpPr>
        <p:spPr>
          <a:xfrm>
            <a:off x="468360" y="1916280"/>
            <a:ext cx="8136000" cy="2584440"/>
          </a:xfrm>
          <a:prstGeom prst="roundRect">
            <a:avLst>
              <a:gd name="adj" fmla="val 16667"/>
            </a:avLst>
          </a:prstGeom>
          <a:solidFill>
            <a:srgbClr val="003366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528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родовольственная проблема человечества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ути решения проблемы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кстенсивный путь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лючается а дальнейшем расширении пахотных, пастбищных и рыбопромысловых угодий. Но все самые плодородные земли уже освоены, поэтому этот путь требует больших затрат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тенсивный путь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лючается прежде всего в повышении биологической продуктивности существующих угодий. Решающее значение для этого будут играть биотехнология, использование новых, высокоурожайных сортов и новых методов обработки почвы, дальнейшее развитие механизации, химизации и мелиорации. Интенсивный путь является главным путем решения продовольственной проблемы человечества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Вывод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довольственная проблема является актуальной, многоаспектной проблемой, решение которой выходит за рамки сельского хозяйства. Она имеет свои особенности в государствах с различным общественным строем и отличается особой остротой в развивающихся странах. Но современная наука обладает большими возможностями для увеличения производства продовольствия в мире. Решение продовольственной проблемы будет зависеть от каждой страны, региона и усилий всего мирового сообщества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тиворечивость проблемы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лод - причина смерти миллионов людей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ько во второй половине 1970-х годов от голодной смерти погибло больше народа, чем за последние 150 лет в результате войн и социальных потрясений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штабы мирового производства продуктов питания в целом соответствуют продовольственным потребностям населения мира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 время как одни страны страдают от голода и недоедания, другие стремятся достичь гармоничного рациона питания; а некоторые вынуждены даже «бороться» либо с излишками пищевых продуктов, либо с их избыточным потреблением.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Факторы, влияющие на продовольственную ситуацию</a:t>
            </a: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900"/>
            </a:br>
            <a:endParaRPr b="1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еренос центра тяжести продовольственной проблемы в Африку;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езкий рост экспорта продовольствия из высокоразвитых стран Запада                       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сширение абсолютных масштабов бедности в развивающихся странах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сходы на военные нужды, которые отвлекают огромные средства от сельского хозяйств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например, в Бангладеш расходы на вооружение составляют 16%, что превышает государственные затраты на сельское хозяйство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целом, в мире ресурсы продовольствия достаточны для обеспечения удовлетворительного питания человечества. Мировая экономика располагает сельскохозяйственными ресурсами и технологиями для того, чтобы прокормить в 2 раза больше людей, чем проживает на Земле. Однако производство продовольствия не обеспечивает там, где в нем нуждаются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336123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руппы стран по продовольственному обеспечению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) страны, где население потребляет продовольствие ниже среднемирового уровня;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еверо – восток Бразилии, страны Африки, Западная,Южная и Юго-Восточная Азия, Карибский бассейн, Южная Америка)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) близко к среднемировому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ровню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требления;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) выш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еднемирового уровня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Массовый голод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ассовый голод - важный и печальный аспект отсталости развивающихся стран; кризис, угрожающий перерасти в катастрофу. Каждый пятый землянин (около 1 млрд. человек) сегодня живет впроголодь. Ежегодно от голода умирают от 12-18 млн. человек, из них 75% составляют дети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 работник сельского хозяйства кормит в странах «третьего мира» менее 2 человек, тогда как в странах Запада - более 20 человек; в том числе в США - 80, в Бельгии, Нидерландах - 100 человек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3703408_f520"/>
          <p:cNvPicPr/>
          <p:nvPr/>
        </p:nvPicPr>
        <p:blipFill>
          <a:blip r:embed="rId1"/>
          <a:stretch/>
        </p:blipFill>
        <p:spPr>
          <a:xfrm>
            <a:off x="611280" y="4827600"/>
            <a:ext cx="1944720" cy="1892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172890_image_large"/>
          <p:cNvPicPr/>
          <p:nvPr/>
        </p:nvPicPr>
        <p:blipFill>
          <a:blip r:embed="rId2"/>
          <a:stretch/>
        </p:blipFill>
        <p:spPr>
          <a:xfrm>
            <a:off x="3132000" y="4869000"/>
            <a:ext cx="2735280" cy="1823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123image3"/>
          <p:cNvPicPr/>
          <p:nvPr/>
        </p:nvPicPr>
        <p:blipFill>
          <a:blip r:embed="rId3"/>
          <a:stretch/>
        </p:blipFill>
        <p:spPr>
          <a:xfrm>
            <a:off x="6227640" y="4869000"/>
            <a:ext cx="2735280" cy="182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0_6ae12_3a2e9184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/>
          <p:cNvSpPr/>
          <p:nvPr/>
        </p:nvSpPr>
        <p:spPr>
          <a:xfrm>
            <a:off x="755640" y="1413000"/>
            <a:ext cx="8064360" cy="4824360"/>
          </a:xfrm>
          <a:prstGeom prst="roundRect">
            <a:avLst>
              <a:gd name="adj" fmla="val 16667"/>
            </a:avLst>
          </a:prstGeom>
          <a:solidFill>
            <a:srgbClr val="8000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ачество питания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странах с недостаточным обеспечением продовольствия первоочерёдной задачей является удовлетворение энергетических потребностей организма, и только в долгосрочной перспективе возникнет вопрос о повышении качества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иболее актуальны в настоящее время вопросы, связанные с белково-калорийной недостаточностью. В развивающихся странах она является причиной различных болезней, характеризующихся отставанием физического и умственного развития, снижением сопротивляемости организма инфекционным заболеваниям и прочих. Недостаточное и несбалансированное питание является и причиной высокой смертности, особенно детско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а продовольственную ситуацию в мире оказывают влияние:</a:t>
            </a: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900"/>
            </a:br>
            <a:endParaRPr b="1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зико-географические условия и размещение населения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мирового транспорта и мировая торговля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номическая отсталость большинства государств «третьего мира»            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лабая материально-техническая база сельского хозяйства, зависимость от погоды,                                                                                                     недостаточное применение органических и минеральных удобрений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ности мероприятий по орошению и мелиорации земел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ё это порождает низкую производительность труда в большинстве развивающихся стран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Большое влияние на продовольственную ситуацию оказывает быстро развивающийся в странах «третьего мира» процесс урбанизации: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 выражается в следующем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стрый рост населения, не участвующего в сельскохозяйственном производстве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ток из деревень в города наиболее работоспособных жителей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величение городской бедности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golod_31101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еры по решению проблемы: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довольственной проблемой занялись многие межгосударственные официальные и общественные организации, к ним присоединились и влиятельные банки: Международный банк реконструкции и развития (МБРР), региональные банки развития, специальный фонд ОПЕК (Организация стран-экспортёров нефти), которые финансируют многочисленные проекты подъема сельского хозяйства в развивающихся странах. Определённую роль в смягчении продовольственного кризиса в развивающихся странах играет продовольственная помощь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20:57:46Z</dcterms:created>
  <dc:creator>Танечка</dc:creator>
  <dc:description/>
  <dc:language>en-US</dc:language>
  <cp:lastModifiedBy>Дмитрий Каленюк</cp:lastModifiedBy>
  <dcterms:modified xsi:type="dcterms:W3CDTF">2012-05-24T16:44:34Z</dcterms:modified>
  <cp:revision>4</cp:revision>
  <dc:subject/>
  <dc:title>Продовольственная проблема человечества</dc:title>
</cp:coreProperties>
</file>