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B9A-4944-4873-8268-03C3BB61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115-D295-424D-A70A-2E973D3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F9A-8262-4990-AEEF-21DDBA8F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526-0F95-4AFC-84C7-61464B75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271-ED9F-41AB-A18F-58AE28FF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6FAA-4263-4CE1-8829-6EB243C1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73A-1E06-449F-B62A-29BEFA4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0B8F-A187-4C6F-8B3F-B99C1BE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564E-8032-45EB-A9BE-9EE9005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DD0E-6104-48FA-8AF7-F3C4B0F0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B054-0B65-47A8-9A3A-37FF46C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16F-9B8E-4CE3-9EC9-434A4568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7B48-A99F-407F-B7A3-0CD862F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12D-BB78-49C0-83C7-BB63380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F4D3-699B-403E-80BD-D0423928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79F2-551E-48A9-861F-2734A0C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670C-BBA2-4F36-9FCB-4D8422E0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8A03-CD0C-40D0-B29B-92F7EEA4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0FD6-1C2F-4CAF-9203-30FEB2B5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7CD3-D7CE-4416-8DCE-FB9489C0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B509F-8210-4439-A138-21807746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344E-F669-47E8-AB33-A367D09C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26-6CE0-4087-A381-0985F497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81AC-0C48-4ED4-B95F-E04BC614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80F0-4892-4F37-A3CD-C51C138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17511-0B0D-4703-812E-1E8EFEB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3ACCF-3714-4B02-8167-449E819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1368-2C06-433F-8BB7-67A621C5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18F8-F7BE-4106-AA0E-F486E9B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F169-C153-4DCF-B62B-B6A6109E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51E-F34D-4E05-8FE9-F0AF6E7F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C70-168A-4C57-A898-EBBCDC8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5600" y="274320"/>
            <a:ext cx="6900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FDB-51B0-45EC-816B-16115E4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349-EC6C-4995-9456-8152A582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C00-CF62-4A3D-95E4-FD04D467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B9-729B-431D-859D-8B5C4A8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aboutus.png"/>
          <p:cNvPicPr/>
          <p:nvPr/>
        </p:nvPicPr>
        <p:blipFill>
          <a:blip r:embed="rId2"/>
          <a:stretch/>
        </p:blipFill>
        <p:spPr>
          <a:xfrm>
            <a:off x="0" y="42876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311-D7EF-469E-83DE-2B905C210C31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18044.jpeg"/>
          <p:cNvPicPr/>
          <p:nvPr/>
        </p:nvPicPr>
        <p:blipFill>
          <a:blip r:embed="rId2"/>
          <a:stretch/>
        </p:blipFill>
        <p:spPr>
          <a:xfrm>
            <a:off x="-6480" y="36360"/>
            <a:ext cx="189576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CC6-9B26-409C-95AA-07D41FBB9BF8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aboutus.png"/>
          <p:cNvPicPr/>
          <p:nvPr/>
        </p:nvPicPr>
        <p:blipFill>
          <a:blip r:embed="rId2"/>
          <a:stretch/>
        </p:blipFill>
        <p:spPr>
          <a:xfrm>
            <a:off x="3619440" y="357120"/>
            <a:ext cx="5524560" cy="6172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8745-E780-4C1A-8A89-158869816D3A}" type="slidenum">
              <a:rPr b="0" lang="ru-RU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a0120a610bec4970c0148c7a78d31970c-5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68360" y="1916280"/>
            <a:ext cx="8136000" cy="2584440"/>
          </a:xfrm>
          <a:prstGeom prst="roundRect">
            <a:avLst>
              <a:gd name="adj" fmla="val 16667"/>
            </a:avLst>
          </a:prstGeom>
          <a:solidFill>
            <a:srgbClr val="003366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5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одовольственная проблема человечества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ути решения проблемы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с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а дальнейшем расширении пахотных, пастбищных и рыбопромысловых угодий. Но все самые плодородные земли уже освоены, поэтому этот путь требует больших затрат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нсивный путь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лючается прежде всего в повышении биологической продуктивности существующих угодий. Решающее значение для этого будут играть биотехнология, использование новых, высокоурожайных сортов и новых методов обработки почвы, дальнейшее развитие механизации, химизации и мелиорации. Интенсивный путь является главным путем решения продовольственной проблемы челове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Выв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овольственная проблема является актуальной, многоаспектной проблемой, решение которой выходит за рамки сельского хозяйства. Она имеет свои особенности в государствах с различным общественным строем и отличается особой остротой в развивающихся странах. Но современная наука обладает большими возможностями для увеличения производства продовольствия в мире. Решение продовольственной проблемы будет зависеть от каждой страны, региона и усилий всего мирового сообществ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тиворечивость проблемы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лод - причина смерти миллионов людей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о второй половине 1970-х годов от голодной смерти погибло больше народа, чем за последние 150 лет в результате войн и социальных потрясений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штабы мирового производства продуктов питания в целом соответствуют продовольственным потребностям населения мира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о время как одни страны страдают от голода и недоедания, другие стремятся достичь гармоничного рациона питания; а некоторые вынуждены даже «бороться» либо с излишками пищевых продуктов, либо с их избыточным потреблением.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Факторы, влияющие на продовольственную ситуацию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енос центра тяжести продовольственной проблемы в Африку;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зкий рост экспорта продовольствия из высокоразвитых стран Запада                      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ширение абсолютных масштабов бедности в развивающихся странах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ходы на военные нужды, которые отвлекают огромные средства от сельского хозяйств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пример, в Бангладеш расходы на вооружение составляют 16%, что превышает государственные затраты на сельское хозяйство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 целом, в мире ресурсы продовольствия достаточны для обеспечения удовлетворительного питания человечества. Мировая экономика располагает сельскохозяйственными ресурсами и технологиями для того, чтобы прокормить в 2 раза больше людей, чем проживает на Земле. Однако производство продовольствия не обеспечивает там, где в нем нуждаются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336123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руппы стран по продовольственному обеспечению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) страны, где население потребляет продовольствие ниже среднемирового уровня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еверо – восток Бразилии, страны Африки, Западная,Южная и Юго-Восточная Азия, Карибский бассейн, Южная Америка)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) близко к среднемировому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ровню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ления;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) выш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еднемирового уровня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Массовый голод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ассовый голод - важный и печальный аспект отсталости развивающихся стран; кризис, угрожающий перерасти в катастрофу. Каждый пятый землянин (около 1 млрд. человек) сегодня живет впроголодь. Ежегодно от голода умирают от 12-18 млн. человек, из них 75% составляют дети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 работник сельского хозяйства кормит в странах «третьего мира» менее 2 человек, тогда как в странах Запада - более 20 человек; в том числе в США - 80, в Бельгии, Нидерландах - 100 человек.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3703408_f520"/>
          <p:cNvPicPr/>
          <p:nvPr/>
        </p:nvPicPr>
        <p:blipFill>
          <a:blip r:embed="rId1"/>
          <a:stretch/>
        </p:blipFill>
        <p:spPr>
          <a:xfrm>
            <a:off x="611280" y="4827600"/>
            <a:ext cx="1944720" cy="189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72890_image_large"/>
          <p:cNvPicPr/>
          <p:nvPr/>
        </p:nvPicPr>
        <p:blipFill>
          <a:blip r:embed="rId2"/>
          <a:stretch/>
        </p:blipFill>
        <p:spPr>
          <a:xfrm>
            <a:off x="3132000" y="4869000"/>
            <a:ext cx="2735280" cy="182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23image3"/>
          <p:cNvPicPr/>
          <p:nvPr/>
        </p:nvPicPr>
        <p:blipFill>
          <a:blip r:embed="rId3"/>
          <a:stretch/>
        </p:blipFill>
        <p:spPr>
          <a:xfrm>
            <a:off x="6227640" y="4869000"/>
            <a:ext cx="2735280" cy="182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0_6ae12_3a2e9184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/>
          <p:cNvSpPr/>
          <p:nvPr/>
        </p:nvSpPr>
        <p:spPr>
          <a:xfrm>
            <a:off x="755640" y="1413000"/>
            <a:ext cx="806436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Качество питания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странах с недостаточным обеспечением продовольствия первоочерёдной задачей является удовлетворение энергетических потребностей организма, и только в долгосрочной перспективе возникнет вопрос о повышении качества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иболее актуальны в настоящее время вопросы, связанные с белково-калорийной недостаточностью. В развивающихся странах она является причиной различных болезней, характеризующихся отставанием физического и умственного развития, снижением сопротивляемости организма инфекционным заболеваниям и прочих. Недостаточное и несбалансированное питание является и причиной высокой смертности, особенно детско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 продовольственную ситуацию в мире оказывают влияние: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900"/>
            </a:br>
            <a:endParaRPr b="1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зико-географические условия и размещение населения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мирового транспорта и мировая торговля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номическая отсталость большинства государств «третьего мира»       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абая материально-техническая база сельского хозяйства, зависимость от погоды,                                                                                                     недостаточное применение органических и минеральных удобрений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ности мероприятий по орошению и мелиорации земел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ё это порождает низкую производительность труда в большинстве развивающихся стран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ольшое влияние на продовольственную ситуацию оказывает быстро развивающийся в странах «третьего мира» процесс урбанизации: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выражается в следующем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ый рост населения, не участвующего в сельскохозяйственном производстве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ток из деревень в города наиболее работоспособных жителей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величение городской бедности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golod_3110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еры по решению проблемы: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довольственной проблемой занялись многие межгосударственные официальные и общественные организации, к ним присоединились и влиятельные банки: Международный банк реконструкции и развития (МБРР), региональные банки развития, специальный фонд ОПЕК (Организация стран-экспортёров нефти), которые финансируют многочисленные проекты подъема сельского хозяйства в развивающихся странах. Определённую роль в смягчении продовольственного кризиса в развивающихся странах играет продовольственная помощь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20:57:46Z</dcterms:created>
  <dc:creator>Танечка</dc:creator>
  <dc:description/>
  <dc:language>en-US</dc:language>
  <cp:lastModifiedBy>Дмитрий Каленюк</cp:lastModifiedBy>
  <dcterms:modified xsi:type="dcterms:W3CDTF">2012-05-24T16:44:34Z</dcterms:modified>
  <cp:revision>4</cp:revision>
  <dc:subject/>
  <dc:title>Продовольственная проблема человечества</dc:title>
</cp:coreProperties>
</file>