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635-778E-41CF-A0D5-84DC89B7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C98-474E-4D3E-8DE0-96196187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A58-2C95-40F4-A27E-1474DE9C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62C-F1EB-48CE-B91C-0B99DFCB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4799-0F32-496E-894F-41DFDA53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7C5D-7864-4CF2-94C6-8F24C8A9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0E46-B649-4DCF-A2EB-7643735C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E83B-ECA7-4D54-91E2-DC77C815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E423-764B-48AD-B582-CA1D4553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5600" y="274320"/>
            <a:ext cx="690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AB0E-6130-44AC-BBF0-B19E4D9C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1973-D721-4F22-8414-E1E1BA2B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8AA-5432-494E-B5E9-AD4D77B2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2079-D4F4-4B44-AC8E-5AF29422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C0BB-3AE7-4FC3-9E0F-54BB945E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F55F-FA87-426D-8CD1-1157B240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51C9-E3C1-4447-BDD3-D485EA55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3813-5270-4E91-B640-08D2E4DE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03C46-DA18-4326-A507-15E16905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1B45-A627-4646-8618-14D0230F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F0EB-EAAF-438D-90B9-1F520F9F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860E-4340-4926-9D84-9738CF5F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9586-1F94-4584-82FA-46BE4246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347-1C0C-4392-B3CA-17254EE1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85600" y="274320"/>
            <a:ext cx="690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0969F-994D-44ED-8C42-AFD0BA44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9747A-512F-49A3-A8E4-448040B5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F1ED-6FA9-46BB-998E-6E9FBB7E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581B-4BEC-463F-8860-3B658D0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702F-824D-4D21-878B-7BB53D82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06AD7-C4FC-4C3E-8AF9-8AE286BE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FBF61-99BA-4F56-A929-640D0811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8CE-630E-495F-A0D0-F28E5B69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C7A-863F-4B4D-A972-87409797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5600" y="274320"/>
            <a:ext cx="690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198-5F6C-482C-B8FB-216FE937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1B3-0648-4400-AD67-F3A1C580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E6E-06C2-4119-BCEC-4351A0F4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E94-85FA-4D75-9081-908A0688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aboutus.png"/>
          <p:cNvPicPr/>
          <p:nvPr/>
        </p:nvPicPr>
        <p:blipFill>
          <a:blip r:embed="rId2"/>
          <a:stretch/>
        </p:blipFill>
        <p:spPr>
          <a:xfrm>
            <a:off x="0" y="428760"/>
            <a:ext cx="5524560" cy="617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7172-2817-4521-BB24-9DFC3EDFE481}" type="slidenum">
              <a:rPr b="0" lang="ru-RU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18044.jpeg"/>
          <p:cNvPicPr/>
          <p:nvPr/>
        </p:nvPicPr>
        <p:blipFill>
          <a:blip r:embed="rId2"/>
          <a:stretch/>
        </p:blipFill>
        <p:spPr>
          <a:xfrm>
            <a:off x="-6480" y="36360"/>
            <a:ext cx="189576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E9A0-069B-4C7E-B146-E8B9CD50EB9A}" type="slidenum">
              <a:rPr b="0" lang="ru-RU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7" descr="aboutus.png"/>
          <p:cNvPicPr/>
          <p:nvPr/>
        </p:nvPicPr>
        <p:blipFill>
          <a:blip r:embed="rId2"/>
          <a:stretch/>
        </p:blipFill>
        <p:spPr>
          <a:xfrm>
            <a:off x="3619440" y="357120"/>
            <a:ext cx="5524560" cy="6172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CA4C-7EAF-4818-8004-94D7F785A95F}" type="slidenum">
              <a:rPr b="0" lang="ru-RU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6a0120a610bec4970c0148c7a78d31970c-500w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468360" y="1916280"/>
            <a:ext cx="8136000" cy="2584440"/>
          </a:xfrm>
          <a:prstGeom prst="roundRect">
            <a:avLst>
              <a:gd name="adj" fmla="val 16667"/>
            </a:avLst>
          </a:prstGeom>
          <a:solidFill>
            <a:srgbClr val="003366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528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одовольственная проблема человечества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ути решения проблемы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стенсивный пу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лючается а дальнейшем расширении пахотных, пастбищных и рыбопромысловых угодий. Но все самые плодородные земли уже освоены, поэтому этот путь требует больших затрат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тенсивный пу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лючается прежде всего в повышении биологической продуктивности существующих угодий. Решающее значение для этого будут играть биотехнология, использование новых, высокоурожайных сортов и новых методов обработки почвы, дальнейшее развитие механизации, химизации и мелиорации. Интенсивный путь является главным путем решения продовольственной проблемы человечеств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Вывод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овольственная проблема является актуальной, многоаспектной проблемой, решение которой выходит за рамки сельского хозяйства. Она имеет свои особенности в государствах с различным общественным строем и отличается особой остротой в развивающихся странах. Но современная наука обладает большими возможностями для увеличения производства продовольствия в мире. Решение продовольственной проблемы будет зависеть от каждой страны, региона и усилий всего мирового сообщества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тиворечивость проблемы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лод - причина смерти миллионов людей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во второй половине 1970-х годов от голодной смерти погибло больше народа, чем за последние 150 лет в результате войн и социальных потрясений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штабы мирового производства продуктов питания в целом соответствуют продовольственным потребностям населения мира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 время как одни страны страдают от голода и недоедания, другие стремятся достичь гармоничного рациона питания; а некоторые вынуждены даже «бороться» либо с излишками пищевых продуктов, либо с их избыточным потреблением.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Факторы, влияющие на продовольственную ситуацию</a:t>
            </a: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900"/>
            </a:br>
            <a:endParaRPr b="1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ренос центра тяжести продовольственной проблемы в Африку;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зкий рост экспорта продовольствия из высокоразвитых стран Запада                      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ширение абсолютных масштабов бедности в развивающихся странах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ходы на военные нужды, которые отвлекают огромные средства от сельского хозяйств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например, в Бангладеш расходы на вооружение составляют 16%, что превышает государственные затраты на сельское хозяйство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целом, в мире ресурсы продовольствия достаточны для обеспечения удовлетворительного питания человечества. Мировая экономика располагает сельскохозяйственными ресурсами и технологиями для того, чтобы прокормить в 2 раза больше людей, чем проживает на Земле. Однако производство продовольствия не обеспечивает там, где в нем нуждаются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336123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уппы стран по продовольственному обеспечению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) страны, где население потребляет продовольствие ниже среднемирового уровня;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еверо – восток Бразилии, страны Африки, Западная,Южная и Юго-Восточная Азия, Карибский бассейн, Южная Америка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) близко к среднемировому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вню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ления;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) выш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еднемирового уровня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Массовый голод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ассовый голод - важный и печальный аспект отсталости развивающихся стран; кризис, угрожающий перерасти в катастрофу. Каждый пятый землянин (около 1 млрд. человек) сегодня живет впроголодь. Ежегодно от голода умирают от 12-18 млн. человек, из них 75% составляют дет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 работник сельского хозяйства кормит в странах «третьего мира» менее 2 человек, тогда как в странах Запада - более 20 человек; в том числе в США - 80, в Бельгии, Нидерландах - 100 человек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3703408_f520"/>
          <p:cNvPicPr/>
          <p:nvPr/>
        </p:nvPicPr>
        <p:blipFill>
          <a:blip r:embed="rId1"/>
          <a:stretch/>
        </p:blipFill>
        <p:spPr>
          <a:xfrm>
            <a:off x="611280" y="4827600"/>
            <a:ext cx="1944720" cy="1892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172890_image_large"/>
          <p:cNvPicPr/>
          <p:nvPr/>
        </p:nvPicPr>
        <p:blipFill>
          <a:blip r:embed="rId2"/>
          <a:stretch/>
        </p:blipFill>
        <p:spPr>
          <a:xfrm>
            <a:off x="3132000" y="4869000"/>
            <a:ext cx="2735280" cy="1823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23image3"/>
          <p:cNvPicPr/>
          <p:nvPr/>
        </p:nvPicPr>
        <p:blipFill>
          <a:blip r:embed="rId3"/>
          <a:stretch/>
        </p:blipFill>
        <p:spPr>
          <a:xfrm>
            <a:off x="6227640" y="4869000"/>
            <a:ext cx="2735280" cy="182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0_6ae12_3a2e9184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>
            <a:off x="755640" y="1413000"/>
            <a:ext cx="8064360" cy="4824360"/>
          </a:xfrm>
          <a:prstGeom prst="roundRect">
            <a:avLst>
              <a:gd name="adj" fmla="val 16667"/>
            </a:avLst>
          </a:prstGeom>
          <a:solidFill>
            <a:srgbClr val="800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чество питания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странах с недостаточным обеспечением продовольствия первоочерёдной задачей является удовлетворение энергетических потребностей организма, и только в долгосрочной перспективе возникнет вопрос о повышении качеств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иболее актуальны в настоящее время вопросы, связанные с белково-калорийной недостаточностью. В развивающихся странах она является причиной различных болезней, характеризующихся отставанием физического и умственного развития, снижением сопротивляемости организма инфекционным заболеваниям и прочих. Недостаточное и несбалансированное питание является и причиной высокой смертности, особенно детско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 продовольственную ситуацию в мире оказывают влияние:</a:t>
            </a: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900"/>
            </a:br>
            <a:endParaRPr b="1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зико-географические условия и размещение населения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мирового транспорта и мировая торговля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номическая отсталость большинства государств «третьего мира»          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абая материально-техническая база сельского хозяйства, зависимость от погоды,                                                                                                     недостаточное применение органических и минеральных удобрений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ности мероприятий по орошению и мелиорации земел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ё это порождает низкую производительность труда в большинстве развивающихся стран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Большое влияние на продовольственную ситуацию оказывает быстро развивающийся в странах «третьего мира» процесс урбанизации: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 выражается в следующем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ый рост населения, не участвующего в сельскохозяйственном производстве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ток из деревень в города наиболее работоспособных жителей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ение городской бедности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golod_31101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еры по решению проблемы: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довольственной проблемой занялись многие межгосударственные официальные и общественные организации, к ним присоединились и влиятельные банки: Международный банк реконструкции и развития (МБРР), региональные банки развития, специальный фонд ОПЕК (Организация стран-экспортёров нефти), которые финансируют многочисленные проекты подъема сельского хозяйства в развивающихся странах. Определённую роль в смягчении продовольственного кризиса в развивающихся странах играет продовольственная помощь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20:57:46Z</dcterms:created>
  <dc:creator>Танечка</dc:creator>
  <dc:description/>
  <dc:language>en-US</dc:language>
  <cp:lastModifiedBy>Дмитрий Каленюк</cp:lastModifiedBy>
  <dcterms:modified xsi:type="dcterms:W3CDTF">2012-05-24T16:44:34Z</dcterms:modified>
  <cp:revision>4</cp:revision>
  <dc:subject/>
  <dc:title>Продовольственная проблема человечества</dc:title>
</cp:coreProperties>
</file>