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831-DB84-4A0C-AB9D-22AFDD08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038-B6F8-4033-AD35-A5E77E7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A01-2223-4980-A427-65C72AE2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E43-26D5-4ECB-B2E1-0A5E551C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3D8F-17A0-4FFF-B8B3-63732353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9BB-8993-4F5F-B5CF-0FB50FFC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383E-2268-4FDF-ACFD-915A2636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DC8-1694-4A52-BC33-C328603D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25B-4C1F-40EB-9AC8-C7A3D80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069-6C9F-48AF-99DA-363CEC7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5270-A67A-4CA6-82FD-5CCA709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375-C712-4207-A8D1-8F3B5955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71A-17A2-4DFB-92D1-A1C25B8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4CF7-2072-41A0-9659-25CFDF5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8182-ADCF-4699-BE8A-7F497FB0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B3F-3652-4572-A3C6-44294D40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CD25-953D-4781-96DD-DB5B4290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2F5-0E96-47D8-B4ED-F599AB9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7F2-0D9F-432C-9DC9-45493B27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910-19B7-4EA4-9BF5-5D1AF5F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163-6601-4432-BF0D-302D5FB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C10-F95B-447C-9346-4381492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2B1-F75E-4D65-BFB6-8AD3E94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78B-5C5E-49DE-9E26-F861ED7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8a8df"/>
              </a:gs>
              <a:gs pos="100000">
                <a:srgbClr val="65c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6dc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5c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F25E-D97D-4D05-9A24-E05D92BBC275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BF2B-E90B-4DBE-8028-AD3E3F13D665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5c1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Презентация на тему</a:t>
            </a:r>
            <a:br>
              <a:rPr sz="5400"/>
            </a:b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« Конвенция о правах ребён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95320" y="3809880"/>
            <a:ext cx="4419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Подготовила учениц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10 а класс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Кожинова Елизавет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9. Все дети имеют право жить со 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, з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лючен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чаев, когд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невозможно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4647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0 и статья 22. Всем детям-беженцам долж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бы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оставлен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щит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уманитарн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 и помощ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ссоединени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 семьё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и-беженц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обую защи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2. Все дети имеют право свободно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раж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мнение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ребёнок имеет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аво на то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чтобы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его мнение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был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услышано и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инят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о внимание.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3 и статья 17. Все дети имеют прав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сказыв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воё мнение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 получ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нформацию.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96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9. Все дети имеют право на защиту от 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форм насил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эксплуатации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ключ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ексуально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лоупотребление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 сторо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ей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других лиц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ящихс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 ребёнке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534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0. Дети имеют право на особую защиту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, ес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 них не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можно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ть с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4952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1. В случае усыновления все дети имею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5105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3. Дети с ограниченными возможностя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особую заботу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образование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помогу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 развивать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ве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лноценну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достойн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знь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46479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152640" y="304560"/>
            <a:ext cx="46479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4. Дети имеют право получать медицинскую помощь и лечение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таким способом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ый наилучшим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м поможет им сохранить здоровье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а также получать информацию о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ах лечен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 об условиях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ных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повлиять н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х здоровье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8 и статья 29. Все дети имеют право на получение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вания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ое даёт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возможность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азвит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личности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ебёнка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3886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1. Все дети имеют право играть и отдыхать в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их условиях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пособствуют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х творческ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культурн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азвитию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нят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усством, музыкой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еатральны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становка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8. Все дети имеют право на защиту в военно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ремя. Военна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жба и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част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енны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йствиях н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пустимы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ля детей в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 18 лет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95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6dc9"/>
                </a:solidFill>
                <a:latin typeface="Arial"/>
              </a:rPr>
              <a:t>Что такое конвенция ООН о правах ребён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6dc9"/>
                </a:solidFill>
                <a:latin typeface="Arial"/>
              </a:rPr>
              <a:t>«Конвенция»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- это, по-русски,  международный Договор. Конвенция о правах ребёнка состоит из статей о правах ребёнка, которые обязаны соблюдать во всех странах. Следят за соблюдением Конвенции специальные люди – Уполномоченные по правам ребёнка, которые есть не только в столицах, но и в разных городах каждой страны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2. Все взрослые и дети должны знать об этой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нвен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ах,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зросл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оже долж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них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9880" y="990720"/>
            <a:ext cx="4610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. Ребёнком является каждый человек до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стижен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18-летнег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544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. Дети имеют право на защиту от дискримина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означает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что 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динаковые прав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езависимо о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цвета кожи, пол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религи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47242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. Все взрослые всегда должны поступа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, чтоб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беспечи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953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. Государство несёт ответственност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 соблюд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 дете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5 и статья 18. Родители несут основную дол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тветственности з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спитание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 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ребёнк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являют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метом 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новной заботы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7242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6. Все дети имеют право на жизнь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539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7 и статья 8. Все дети имеют право на имя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приобрет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ражданства, 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же они 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хранен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его имен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гражданств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953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0-05-21T12:49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