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13C-AE10-4875-A37A-C6EA1720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54A-8327-4326-8B03-0A609FE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82A-11F4-4FEB-B369-3278162B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CB5-D4D6-4719-BCC0-DD28C38E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13E7-558A-49CA-A0FE-FF1A2B74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57B8-0228-4BD4-AFCA-7A8016D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B7A9-F612-4A27-8286-15EFAE20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5CAE-C93F-43D8-B31D-BF81010A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D56-FC5C-4B03-B975-D13EAB1E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2442-DC66-40D9-9D09-34077B18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1D40-3C74-4F16-AF49-985E23D8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6E0-B415-4ED3-8CAB-DA687F1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7E6F-6327-4D40-BABF-8D0D766F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EE32-1526-4C0E-AA0E-02DE98D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0023-662D-489F-8CB9-A38E45F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555C-B885-482B-AC5D-D11178B5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E2D4-DEFC-425F-A768-4A006D74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CED-649D-4A40-9148-8D49683E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937-6085-47D9-B90A-44B74C51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B26-42FA-4AF1-8910-A4F2333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EC5-5711-47FB-A301-691AC8E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D8D-51DE-4AC3-87E0-3CBF13DC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DC2-6FC7-4D77-991E-CE0419B0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BB3-7A44-4C88-87B3-83C85E25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8a8df"/>
              </a:gs>
              <a:gs pos="100000">
                <a:srgbClr val="65c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6dc9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ac972"/>
                </a:gs>
                <a:gs pos="100000">
                  <a:srgbClr val="65c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6dc9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5a2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a2d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29d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c3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69c2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5c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CC1-DD2A-4B28-8D2D-EC9E259871ED}" type="slidenum"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ac972"/>
                </a:gs>
                <a:gs pos="100000">
                  <a:srgbClr val="65c1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6dc9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5a2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bae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8a8d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a2d7"/>
                  </a:gs>
                  <a:gs pos="100000">
                    <a:srgbClr val="65c1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aee7"/>
                  </a:gs>
                  <a:gs pos="100000">
                    <a:srgbClr val="65c1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29d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8a8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dc3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5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69c2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9c2fe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5eb4ef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5c1ff"/>
                  </a:gs>
                  <a:gs pos="100000">
                    <a:srgbClr val="5eb4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1baf6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972"/>
                  </a:gs>
                  <a:gs pos="100000">
                    <a:srgbClr val="65c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c1ff"/>
                  </a:gs>
                  <a:gs pos="100000">
                    <a:srgbClr val="fac9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96dc9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ac972"/>
                    </a:gs>
                    <a:gs pos="100000">
                      <a:srgbClr val="65c1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c1ff"/>
                    </a:gs>
                    <a:gs pos="100000">
                      <a:srgbClr val="fac9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196dc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6dc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652B-EED4-412E-842C-48E2B43C2736}" type="slidenum">
              <a:rPr b="0" lang="en-US" sz="1400" spc="-1" strike="noStrike">
                <a:solidFill>
                  <a:srgbClr val="196d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5c1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96d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6dc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96dc9"/>
                </a:solidFill>
                <a:latin typeface="Arial"/>
              </a:rPr>
              <a:t>Презентация на тему</a:t>
            </a:r>
            <a:br>
              <a:rPr sz="5400"/>
            </a:br>
            <a:r>
              <a:rPr b="1" lang="en-US" sz="5400" spc="-1" strike="noStrike">
                <a:solidFill>
                  <a:srgbClr val="196dc9"/>
                </a:solidFill>
                <a:latin typeface="Arial"/>
              </a:rPr>
              <a:t>« Конвенция о правах ребён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495320" y="3809880"/>
            <a:ext cx="4419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Подготовила ученица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10 а класса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6dc9"/>
                </a:solidFill>
                <a:latin typeface="Arial"/>
              </a:rPr>
              <a:t>Кожинова Елизавета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9. Все дети имеют право жить со свои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ями, за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сключением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лучаев, когд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это невозможно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62520" y="990720"/>
            <a:ext cx="4647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0 и статья 22. Всем детям-беженцам долж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бы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едоставлена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щит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гуманитарна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мощь и помощь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 воссоединени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 семьёй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и-беженц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собую защиту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татья 12. Все дети имеют право свободно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ыраж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мнение,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ребёнок имеет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право на то,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чтобы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его мнение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был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услышано и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принят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о внимание.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татья 13 и статья 17. Все дети имеют право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высказыв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своё мнение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и получать 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6dc9"/>
                </a:solidFill>
                <a:latin typeface="Arial"/>
              </a:rPr>
              <a:t>информацию.</a:t>
            </a:r>
            <a:endParaRPr b="0" lang="en-US" sz="28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96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9. Все дети имеют право на защиту от все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форм насили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эксплуатации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ключа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ексуально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лоупотребление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о сторон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ей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других лиц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ботящихся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 ребёнке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495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51920" y="304920"/>
            <a:ext cx="8534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0. Дети имеют право на особую защиту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мощь, есл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у них не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можност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жить с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вои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одителям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4952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1. В случае усыновления все дети имею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илучшую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боту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5105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3. Дети с ограниченными возможностя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 особую заботу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образование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торые помогу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 развиватьс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вест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лноценную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достойную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жизнь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464796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-152640" y="304560"/>
            <a:ext cx="46479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татья 24. Дети имеют право получать медицинскую помощь и лечение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таким способом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который наилучшим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образом поможет им сохранить здоровье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а также получать информацию о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пособах лечения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и об условиях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пособных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повлиять на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их здоровье.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Статья 28 и статья 29. Все дети имеют право на получение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образования,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которое даёт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возможность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развития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личности 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dc9"/>
                </a:solidFill>
                <a:latin typeface="Arial"/>
              </a:rPr>
              <a:t>ребёнка.</a:t>
            </a:r>
            <a:endParaRPr b="0" lang="en-US" sz="24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388620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1. Все дети имеют право играть и отдыхать в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их условиях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торы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пособствуют 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х творческому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культурному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развитию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нятием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скусством, музыкой,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еатральными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остановкам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4267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8. Все дети имеют право на защиту в военно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ремя. Военна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лужба ил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участ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 военны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йствиях н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пустимы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ля детей в 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 18 лет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953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96dc9"/>
                </a:solidFill>
                <a:latin typeface="Arial"/>
              </a:rPr>
              <a:t>Что такое конвенция ООН о правах ребёнка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96dc9"/>
                </a:solidFill>
                <a:latin typeface="Arial"/>
              </a:rPr>
              <a:t>«Конвенция»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- это, по-русски,  международный Договор. Конвенция о правах ребёнка состоит из статей о правах ребёнка, которые обязаны соблюдать во всех странах. Следят за соблюдением Конвенции специальные люди – Уполномоченные по правам ребёнка, которые есть не только в столицах, но и в разных городах каждой страны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42. Все взрослые и дети должны знать об этой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Конвенции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се дет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прав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нать о сво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ах,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зрослы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оже должн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нать о них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9880" y="990720"/>
            <a:ext cx="46101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1. Ребёнком является каждый человек до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остижени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18-летнего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а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5440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2. Дети имеют право на защиту от дискриминации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Это означает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что все дет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мею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динаковые прав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езависимо от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цвета кожи, пола,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зраст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ли религии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47242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3. Все взрослые всегда должны поступа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, чтоб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беспечить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илучш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нтересы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ей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4953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4. Государство несёт ответственность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за соблюдени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сех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 детей.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86200" y="9144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5 и статья 18. Родители несут основную долю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тветственности з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воспитание сво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детей. Наилучш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нтересы ребёнк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являются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едметом их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основной заботы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7242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6. Все дети имеют право на жизнь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5397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татья 7 и статья 8. Все дети имеют право на имя 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на приобретение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гражданства, 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также они имеют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право на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охранение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своего имени 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6dc9"/>
                </a:solidFill>
                <a:latin typeface="Arial"/>
              </a:rPr>
              <a:t>и гражданства.</a:t>
            </a:r>
            <a:endParaRPr b="0" lang="en-US" sz="3200" spc="-1" strike="noStrike">
              <a:solidFill>
                <a:srgbClr val="196dc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953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0-05-21T12:49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