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FCE-D12A-4467-9E66-A9756DF6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CA2-077F-4FF5-AF71-D5BCE9C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3EF-A31D-4D5F-8501-556C99ED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D46-4C98-4DC1-8D84-B1859FC0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61F8-5857-43C8-8015-E4E0AF4E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968A-1029-40AD-BEEC-1FDC5AA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D03A-18DC-422B-BFD6-28095C49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E123-C16B-4A39-B778-43EEC60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82C6-2D54-479E-B5DC-D5C47D0A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8EDA-6299-4737-B5E0-1145B7F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F00E-B6D8-418E-84CF-4F6E088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7A2-CAF9-46B9-A51C-9FDAFBA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263-2F8F-4D40-B564-94295DA3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CC3F-E635-412E-A174-0DBC36B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F9D5-4A5B-4471-99B0-36755E0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7AE-33BE-4BD0-AE0C-FBFFB33E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3AB9-2126-4044-9AE2-F6DB7FB7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C03-7115-489C-B959-391B75B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667-0257-4947-9092-01B1421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591-63CE-4132-9277-9221F1E1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242-5D1F-4B6A-88CB-EC8BF0C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AAB-AAA9-43C0-86DB-0C4FBE7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19E-6810-4B8A-95F8-2BFEE44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16D-1C76-418C-A958-618E872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8a8df"/>
              </a:gs>
              <a:gs pos="100000">
                <a:srgbClr val="65c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6dc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5c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806-BE3C-4F71-8FAA-FAE0B908491E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4654-B5BC-44D2-A255-B85E1764D6A1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5c1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Презентация на тему</a:t>
            </a:r>
            <a:br>
              <a:rPr sz="5400"/>
            </a:b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« Конвенция о правах ребён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95320" y="3809880"/>
            <a:ext cx="4419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Подготовила учениц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10 а класс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Кожинова Елизавет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9. Все дети имеют право жить со 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, з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лючен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чаев, когд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невозможно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4647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0 и статья 22. Всем детям-беженцам долж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бы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оставлен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щит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уманитарн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 и помощ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ссоединени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 семьё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и-беженц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обую защи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2. Все дети имеют право свободно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раж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мнение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ребёнок имеет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аво на то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чтобы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его мнение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был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услышано и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инят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о внимание.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3 и статья 17. Все дети имеют прав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сказыв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воё мнение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 получ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нформацию.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96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9. Все дети имеют право на защиту от 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форм насил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эксплуатации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ключ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ексуально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лоупотребление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 сторо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ей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других лиц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ящихс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 ребёнке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534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0. Дети имеют право на особую защиту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, ес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 них не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можно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ть с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4952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1. В случае усыновления все дети имею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5105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3. Дети с ограниченными возможностя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особую заботу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образование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помогу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 развивать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ве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лноценну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достойн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знь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46479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152640" y="304560"/>
            <a:ext cx="46479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4. Дети имеют право получать медицинскую помощь и лечение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таким способом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ый наилучшим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м поможет им сохранить здоровье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а также получать информацию о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ах лечен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 об условиях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ных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повлиять н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х здоровье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8 и статья 29. Все дети имеют право на получение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вания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ое даёт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возможность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азвит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личности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ебёнка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3886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1. Все дети имеют право играть и отдыхать в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их условиях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пособствуют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х творческ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культурн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азвитию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нят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усством, музыкой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еатральны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становка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8. Все дети имеют право на защиту в военно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ремя. Военна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жба и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част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енны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йствиях н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пустимы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ля детей в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 18 лет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95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6dc9"/>
                </a:solidFill>
                <a:latin typeface="Arial"/>
              </a:rPr>
              <a:t>Что такое конвенция ООН о правах ребён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6dc9"/>
                </a:solidFill>
                <a:latin typeface="Arial"/>
              </a:rPr>
              <a:t>«Конвенция»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- это, по-русски,  международный Договор. Конвенция о правах ребёнка состоит из статей о правах ребёнка, которые обязаны соблюдать во всех странах. Следят за соблюдением Конвенции специальные люди – Уполномоченные по правам ребёнка, которые есть не только в столицах, но и в разных городах каждой страны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2. Все взрослые и дети должны знать об этой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нвен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ах,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зросл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оже долж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них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9880" y="990720"/>
            <a:ext cx="4610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. Ребёнком является каждый человек до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стижен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18-летнег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544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. Дети имеют право на защиту от дискримина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означает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что 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динаковые прав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езависимо о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цвета кожи, пол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религи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47242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. Все взрослые всегда должны поступа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, чтоб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беспечи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953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. Государство несёт ответственност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 соблюд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 дете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5 и статья 18. Родители несут основную дол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тветственности з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спитание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 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ребёнк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являют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метом 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новной заботы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7242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6. Все дети имеют право на жизнь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539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7 и статья 8. Все дети имеют право на имя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приобрет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ражданства, 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же они 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хранен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его имен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гражданств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953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0-05-21T12:49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