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445C-C3EF-4DDB-B280-44BB9DD864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FD2-0BF4-4FC9-B73C-100C1408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737-4C05-40E5-84CA-D94D089A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7C1-D5C9-43CD-B8B1-171D6D64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89C-4A01-4630-8657-2B962A22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A10B-93FF-43F9-A2BB-C476AB9D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65B-0A68-4CC3-8DAD-B28CCD87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15F-D055-4DBD-8565-E924D43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82A8-0B5F-41A5-972A-E3C562A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652C-EF74-4C3D-B1C4-7532163F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55DC-330A-465E-9D00-DE39541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80A6-5D97-4618-A252-9FF6F80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AF0-5961-4576-84DC-277E7DC7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2556-E0E0-469D-9632-1E180DC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E328-302B-4BBA-883F-93DB3E1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2387-4EA4-4CF7-83A7-4018F72A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D21D-6094-47C2-B436-8BDD8328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6088-BBE0-462E-A93E-307B8630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5E3-8CA2-477B-90F2-162306D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071-1E1C-487B-8530-6D6863DA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2B8-341B-4757-B62D-A12D4E7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11A-25E1-499F-BB05-69E1EB1A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F86-8F94-48DB-82A8-C74DBD8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865-C2CE-4E9C-808F-E099A56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846-3A94-4977-9218-EB9E974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06D9-90B0-4CFE-9A12-DA3F9956B8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CC3-2AB4-479C-ADC9-7CE1DA3D63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357336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50000">
                <a:srgbClr val="ec7140">
                  <a:alpha val="50196"/>
                </a:srgbClr>
              </a:gs>
              <a:gs pos="100000">
                <a:srgbClr val="ffff00">
                  <a:alpha val="50196"/>
                </a:srgbClr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рем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4643280" cy="328464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боту 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ченица 4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охрякова Поли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ч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Ананина М.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«Время – это число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начали соизмерять сутки, месяц, год. Год получался где – то 360 суток плюс еще сколько – то. Но число 360 привело древних теоретиков в востор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*4*5*6=3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360 делится на все    числа от 2 до 6.  В Вавилоне это число считали даром б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Лу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ди заметили, что Луна проходит цикл фаз за 29,5 суток. Но за незнанием дробей месяц приняли за 30 су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:30=12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ь раздел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12 дневных час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ночь – на 12 ночных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лнечные сут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как было бы хорошо, если бы в году было ровно 360 суток, а в лунном цикле – 30. Не было бы проблем календ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Земля обходит Солнц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365 суток 5ч48 мин 45,84 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на пробегает вокруг Земли с очень разным личным результатом: от 29,25 до 29,85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этому построить во всех отношениях удобный календарь не удалось и по се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Измерение времен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с тех давних времен до нас дошло, что в сутках – 24 часа. В одном часе – 60 минут, в одной минуте 60 секу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500280"/>
            <a:ext cx="2484360" cy="3357720"/>
          </a:xfrm>
          <a:prstGeom prst="rect">
            <a:avLst/>
          </a:prstGeom>
          <a:gradFill rotWithShape="0">
            <a:gsLst>
              <a:gs pos="0">
                <a:srgbClr val="c58bf9"/>
              </a:gs>
              <a:gs pos="50000">
                <a:srgbClr val="5a4072"/>
              </a:gs>
              <a:gs pos="100000">
                <a:srgbClr val="c58b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лнечные ча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6920" y="1628280"/>
            <a:ext cx="6257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ейшими – солнечными часами был гномон. Чтобы гномон всегда показывал время правильно, его надо наклонить в направлении земной оси, т. е. на полярную звезду. Более двух тысячелетий этот прибор оставался главным измерителем времени. Обычно на циферблате отмечали только часы. В Средние века лишь астрономы для своих нужд делили часы на минуты. В повседневной жизни минуты смысла не имел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6640" t="0" r="5354" b="15256"/>
          <a:stretch/>
        </p:blipFill>
        <p:spPr>
          <a:xfrm>
            <a:off x="0" y="4005360"/>
            <a:ext cx="23763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00360" y="228240"/>
            <a:ext cx="433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амые большие </a:t>
            </a:r>
            <a:br>
              <a:rPr sz="3600"/>
            </a:b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лнечные ча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4360" y="1599840"/>
            <a:ext cx="45543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номоном служит лестница высотой 18м, устремлённая к Полярной звезде. Тень падает на дугообразную стену – циферблат, разделённую сверху на часы и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4837" t="2775" r="3856" b="157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19240" y="6021360"/>
            <a:ext cx="31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инная обсерват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естное врем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ев вечером, как повернута около Полярной звезды Большая Медведица, можно определить час звездного времени. Истинное солнечное время с помощью  солнечных часов. Если же быть совсем точным, как и подобает астроному, к названиям этих времён надо добавлять слово «местное»: местное звездное неб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124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ка в мире не было железных дорог с их поминутным расписанием поездов, каждый город жил по местному времени, а деревни – по петухам и по времени, «привезенному» в базарный день из города. А время во всех городах было сво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1599840"/>
            <a:ext cx="6400800" cy="2171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9280" y="3924000"/>
            <a:ext cx="716436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трономический календарь в сущности то же расписание движения. Для всех наблюдателей  на Земле оно начинается одновременно, но по какому времени? Конечно, по всемирному. З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семирное вре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нято среднее  солнечное время Гринвичское обсерватории  в Лондоне, через которую проведен нулевой меридиан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6804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11280" y="115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жба времени постоянно следит за неравномерностью вращения Земли по атомным часам и по мере необходимости добавляет, а иногда и отнимает «високосную» секунду в самом конце года, так же, как раз в четыре года в календарь  вставляют лишний день – 29 февраля. Поэтому в последней минуте перед Новым годом (по всемирному времени) может быть 59, и 60, и 61с. Об этом астрономическая служба оповещает заране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68560" y="1844640"/>
            <a:ext cx="707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зовут Полина, я учусь в 4 классе. На уроках математики мы изучали именованные числа и учились переводить единицы времени. Мне стало интересно, как люди научились определять врем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7525" t="0" r="4858" b="5287"/>
          <a:stretch/>
        </p:blipFill>
        <p:spPr>
          <a:xfrm>
            <a:off x="0" y="3473280"/>
            <a:ext cx="2195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жить в средней полосе России по одним часам с лондонцами неудобно. Это означает просыпаться в10-11ч утра и ложиться спать далеко за полночь. Поэтому  в развитий хорошей идеи всемирного времени придумал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ясное врем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Россия лежит в границах в 12 часовых поясов.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998" t="2802" r="0" b="5050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м полуденную линию с помощью гномона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полдень тени от всех предметах направлены вдоль линии, точно указывающей с юга на север. Она называется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полуде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Зная её направление можно установить солнечные ча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ть направление полуденной линии в любой точке Земли поможет древнейший астрономический прибор – гномон. Для того чтобы его изготовить, понадобится прямой шест, который необходимо вертикально вбить в землю, пользуясь отвесом. За один – два часа до полудня отметим конец тени от места колыш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ьмем шнур. Один конец его привяжем к основанию гномона. Используя свободную часть шнура как циркуль начертим на земле окружность, проходящую через вбитый колы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нь от шеста будет  сначала сокращаться , а потом  расти и при этом медленно поворачиваться. Когда она вновь коснется начерченной нами окружности, отметим конец тени другим колышком. Прямая, проходящая через середину линии, соединяющей первый и второй колышки, и основание гномона – полуденная линия. Теперь мы  в любой день сможем определить момент истинного полдня. Пронаблюдайте: совпадает ли он с полднем по вашим часам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брежный океан земной пе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Время, Время, кто тебя пости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ьих огорчений волны не ка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еркшие от вечных сл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ск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Времени безжалостный приб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кто будет поглощен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и Биши Шел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Цель работ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40000" y="12679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материал об истории времени, создать презентацию и рассказать об этом одноклассн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655" t="2180" r="0" b="1159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План работ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320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ездные и солнечные су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рение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ечные ча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7294" t="2081" r="3422" b="0"/>
          <a:stretch/>
        </p:blipFill>
        <p:spPr>
          <a:xfrm>
            <a:off x="0" y="3500280"/>
            <a:ext cx="2151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Что такое время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84360" y="1484280"/>
            <a:ext cx="640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м ясен смысл слова   «время», когда спрашивают: «Сколько времени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что содержит в себе понятие «время», на этот вопрос ответить нелегк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1240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500280"/>
            <a:ext cx="2195640" cy="3357720"/>
          </a:xfrm>
          <a:prstGeom prst="rect">
            <a:avLst/>
          </a:prstGeom>
          <a:gradFill rotWithShape="0">
            <a:gsLst>
              <a:gs pos="0">
                <a:srgbClr val="da774a"/>
              </a:gs>
              <a:gs pos="50000">
                <a:srgbClr val="643622"/>
              </a:gs>
              <a:gs pos="100000">
                <a:srgbClr val="da774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Биологические ча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точному ритму подчиняется все живое на Земле, природа наградила нас часами задолго до изобретения маятника. Биологические часы определяют биение сердца, ритм дыхания, сна и бодрствования. Они будят нас утром не менее точно, чем будильник. В человеке, в животных и растениях природой заложен и биологический календарь, обеспечивающий годовой и месячный ритмы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500280"/>
            <a:ext cx="2124000" cy="3357720"/>
          </a:xfrm>
          <a:prstGeom prst="rect">
            <a:avLst/>
          </a:prstGeom>
          <a:gradFill rotWithShape="0">
            <a:gsLst>
              <a:gs pos="0">
                <a:srgbClr val="c58bf9"/>
              </a:gs>
              <a:gs pos="50000">
                <a:srgbClr val="5a4072"/>
              </a:gs>
              <a:gs pos="100000">
                <a:srgbClr val="c58bf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Зарождение астроном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человек наблюдал простейшие, самые заметные периодические явления природы: суточное вращение звездного неба, месячное движение Луны и годовое движение Солнца по созвезд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огда человек впервые сказал, что за ночью обязательно придет день, а за зимой – весна, он предсказал будущ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0834" t="0" r="4451" b="0"/>
          <a:stretch/>
        </p:blipFill>
        <p:spPr>
          <a:xfrm>
            <a:off x="0" y="4149720"/>
            <a:ext cx="213516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5562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Астрономический прибор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3200" y="1628640"/>
            <a:ext cx="64008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день сначала поделили пополам, отметив момент, когда тень от вертикального столба была минимальной, а высота Солнца – самой большой. При этом оказалось, что дуга пути поднимающегося Солнца равна дуге Солнца опускающегося. И момент и момент его высшего положения назвали полднем. Вертикальный столб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ном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древнейший астрономический при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5640" y="228240"/>
            <a:ext cx="484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Гномо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64000" y="1125000"/>
            <a:ext cx="52927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денная тень его всегда обращена на север, поэтому гномон был и первым компасом. А когда от столба прочертили направление на север, он стал первыми часами, показывающими пока только один час – пол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3492" t="0" r="4334" b="4286"/>
          <a:stretch/>
        </p:blipFill>
        <p:spPr>
          <a:xfrm>
            <a:off x="0" y="0"/>
            <a:ext cx="3635280" cy="566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661000"/>
            <a:ext cx="3635280" cy="1197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номоны-обели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ицы Хатшепсут в Карна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п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36:45Z</dcterms:created>
  <dc:creator>Леша</dc:creator>
  <dc:description/>
  <dc:language>en-US</dc:language>
  <cp:lastModifiedBy>Владелец</cp:lastModifiedBy>
  <dcterms:modified xsi:type="dcterms:W3CDTF">2008-01-22T19:34:08Z</dcterms:modified>
  <cp:revision>8</cp:revision>
  <dc:subject/>
  <dc:title>Слайд 1</dc:title>
</cp:coreProperties>
</file>