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DC83-76FC-4761-B9B3-C739CDC96D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AD7-BCB8-4E14-AF90-1D5569E7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620-9505-45A9-A6E9-0C9D68D3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73D-8779-4590-8593-09931DFF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A5D-D6D1-4DA3-BEDE-8F9E95C9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C17E-A0F0-45A5-8F75-9CC51275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5849-94FD-4BF7-9400-D91F4CFB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D87D-1F08-4E45-AF02-134DAD5E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A46D-79BA-433E-8AD4-F8074CA4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CD8B-97E9-4C6C-9C1C-9E4CBEFE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6EC8-5B20-472F-ACF1-94C10A71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AAAC-74CB-43E8-8D2C-2C7A6517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E16-5692-4A71-9019-C119F80E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3088-6582-41EE-9C2E-2F606E5B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199A-56C3-4049-8FA2-8DC6944F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8A5A-BA7A-45A0-8445-B0093DCF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29AF-8AAF-48CE-B2F8-CC9E1E86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5A12-65CE-4D24-B0E8-53D39A9A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982-2604-487C-8A65-CF917EA1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A6B-91C5-41EF-92F0-152F6ACE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599-043A-4911-B391-C02EAF1B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C1E-1862-424F-AC2F-F5FC69F8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94E-34F1-43F4-AE30-60071E9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EF0-8B64-4C3F-926F-094861FB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D81-7D63-4DE8-8F77-02036740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90BB-4726-45E8-953D-B65BE1E4E9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39DC-ADED-4C4E-A51D-C800F01AC7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3280" cy="357336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50000">
                <a:srgbClr val="ec7140">
                  <a:alpha val="50196"/>
                </a:srgbClr>
              </a:gs>
              <a:gs pos="100000">
                <a:srgbClr val="ffff00">
                  <a:alpha val="50196"/>
                </a:srgbClr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рем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3573360"/>
            <a:ext cx="4643280" cy="328464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аботу выпол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Ученица 4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Хохрякова Поли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Учит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Ананина М.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«Время – это число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ди начали соизмерять сутки, месяц, год. Год получался где – то 360 суток плюс еще сколько – то. Но число 360 привело древних теоретиков в востор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*4*5*6=3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о 360 делится на все    числа от 2 до 6.  В Вавилоне это число считали даром б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Лун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ди заметили, что Луна проходит цикл фаз за 29,5 суток. Но за незнанием дробей месяц приняли за 30 су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:30=12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нь раздел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12 дневных час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ночь – на 12 ночных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олнечные сутк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х, как было бы хорошо, если бы в году было ровно 360 суток, а в лунном цикле – 30. Не было бы проблем календа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Земля обходит Солнц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365 суток 5ч48 мин 45,84 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на пробегает вокруг Земли с очень разным личным результатом: от 29,25 до 29,85 с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этому построить во всех отношениях удобный календарь не удалось и по се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Измерение времен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с тех давних времен до нас дошло, что в сутках – 24 часа. В одном часе – 60 минут, в одной минуте 60 секу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500280"/>
            <a:ext cx="2484360" cy="3357720"/>
          </a:xfrm>
          <a:prstGeom prst="rect">
            <a:avLst/>
          </a:prstGeom>
          <a:gradFill rotWithShape="0">
            <a:gsLst>
              <a:gs pos="0">
                <a:srgbClr val="c58bf9"/>
              </a:gs>
              <a:gs pos="50000">
                <a:srgbClr val="5a4072"/>
              </a:gs>
              <a:gs pos="100000">
                <a:srgbClr val="c58bf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олнечные час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26920" y="1628280"/>
            <a:ext cx="6257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евнейшими – солнечными часами был гномон. Чтобы гномон всегда показывал время правильно, его надо наклонить в направлении земной оси, т. е. на полярную звезду. Более двух тысячелетий этот прибор оставался главным измерителем времени. Обычно на циферблате отмечали только часы. В Средние века лишь астрономы для своих нужд делили часы на минуты. В повседневной жизни минуты смысла не имели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6640" t="0" r="5354" b="15256"/>
          <a:stretch/>
        </p:blipFill>
        <p:spPr>
          <a:xfrm>
            <a:off x="0" y="4005360"/>
            <a:ext cx="237636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00360" y="228240"/>
            <a:ext cx="4338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амые большие </a:t>
            </a:r>
            <a:br>
              <a:rPr sz="3600"/>
            </a:b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олнечные час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4360" y="1599840"/>
            <a:ext cx="45543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номоном служит лестница высотой 18м, устремлённая к Полярной звезде. Тень падает на дугообразную стену – циферблат, разделённую сверху на часы и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4837" t="2775" r="3856" b="157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719240" y="6021360"/>
            <a:ext cx="31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л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ринная обсервато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естное врем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мотрев вечером, как повернута около Полярной звезды Большая Медведица, можно определить час звездного времени. Истинное солнечное время с помощью  солнечных часов. Если же быть совсем точным, как и подобает астроному, к названиям этих времён надо добавлять слово «местное»: местное звездное неб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212400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ока в мире не было железных дорог с их поминутным расписанием поездов, каждый город жил по местному времени, а деревни – по петухам и по времени, «привезенному» в базарный день из города. А время во всех городах было сво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38280" y="1599840"/>
            <a:ext cx="6400800" cy="2171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9280" y="3924000"/>
            <a:ext cx="716436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трономический календарь в сущности то же расписание движения. Для всех наблюдателей  на Земле оно начинается одновременно, но по какому времени? Конечно, по всемирному. З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семирное вре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инято среднее  солнечное время Гринвичское обсерватории  в Лондоне, через которую проведен нулевой меридиан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68040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11280" y="115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ужба времени постоянно следит за неравномерностью вращения Земли по атомным часам и по мере необходимости добавляет, а иногда и отнимает «високосную» секунду в самом конце года, так же, как раз в четыре года в календарь  вставляют лишний день – 29 февраля. Поэтому в последней минуте перед Новым годом (по всемирному времени) может быть 59, и 60, и 61с. Об этом астрономическая служба оповещает заранее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914400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68560" y="1844640"/>
            <a:ext cx="707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я зовут Полина, я учусь в 4 классе. На уроках математики мы изучали именованные числа и учились переводить единицы времени. Мне стало интересно, как люди научились определять врем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7525" t="0" r="4858" b="5287"/>
          <a:stretch/>
        </p:blipFill>
        <p:spPr>
          <a:xfrm>
            <a:off x="0" y="3473280"/>
            <a:ext cx="219564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жить в средней полосе России по одним часам с лондонцами неудобно. Это означает просыпаться в10-11ч утра и ложиться спать далеко за полночь. Поэтому  в развитий хорошей идеи всемирного времени придумал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ясное врем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Россия лежит в границах в 12 часовых поясов.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998" t="2802" r="0" b="5050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м полуденную линию с помощью гномона.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полдень тени от всех предметах направлены вдоль линии, точно указывающей с юга на север. Она называется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полуден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Зная её направление можно установить солнечные ча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ределить направление полуденной линии в любой точке Земли поможет древнейший астрономический прибор – гномон. Для того чтобы его изготовить, понадобится прямой шест, который необходимо вертикально вбить в землю, пользуясь отвесом. За один – два часа до полудня отметим конец тени от места колыш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ьмем шнур. Один конец его привяжем к основанию гномона. Используя свободную часть шнура как циркуль начертим на земле окружность, проходящую через вбитый колы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нь от шеста будет  сначала сокращаться , а потом  расти и при этом медленно поворачиваться. Когда она вновь коснется начерченной нами окружности, отметим конец тени другим колышком. Прямая, проходящая через середину линии, соединяющей первый и второй колышки, и основание гномона – полуденная линия. Теперь мы  в любой день сможем определить момент истинного полдня. Пронаблюдайте: совпадает ли он с полднем по вашим часам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брежный океан земной печ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Время, Время, кто тебя пости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ьих огорчений волны не кач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еркшие от вечных сл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ск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Времени безжалостный приб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ще кто будет поглощен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и Биши Шел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Цель работ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40000" y="12679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материал об истории времени, создать презентацию и рассказать об этом одноклассни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4655" t="2180" r="0" b="11592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План работ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320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врем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вездные и солнечные су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рение врем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ечные ча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7294" t="2081" r="3422" b="0"/>
          <a:stretch/>
        </p:blipFill>
        <p:spPr>
          <a:xfrm>
            <a:off x="0" y="3500280"/>
            <a:ext cx="215100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Что такое время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84360" y="1484280"/>
            <a:ext cx="640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м ясен смысл слова   «время», когда спрашивают: «Сколько времени?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что содержит в себе понятие «время», на этот вопрос ответить нелегк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212400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500280"/>
            <a:ext cx="2195640" cy="3357720"/>
          </a:xfrm>
          <a:prstGeom prst="rect">
            <a:avLst/>
          </a:prstGeom>
          <a:gradFill rotWithShape="0">
            <a:gsLst>
              <a:gs pos="0">
                <a:srgbClr val="da774a"/>
              </a:gs>
              <a:gs pos="50000">
                <a:srgbClr val="643622"/>
              </a:gs>
              <a:gs pos="100000">
                <a:srgbClr val="da774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Биологические час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точному ритму подчиняется все живое на Земле, природа наградила нас часами задолго до изобретения маятника. Биологические часы определяют биение сердца, ритм дыхания, сна и бодрствования. Они будят нас утром не менее точно, чем будильник. В человеке, в животных и растениях природой заложен и биологический календарь, обеспечивающий годовой и месячный ритмы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21956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500280"/>
            <a:ext cx="2124000" cy="3357720"/>
          </a:xfrm>
          <a:prstGeom prst="rect">
            <a:avLst/>
          </a:prstGeom>
          <a:gradFill rotWithShape="0">
            <a:gsLst>
              <a:gs pos="0">
                <a:srgbClr val="c58bf9"/>
              </a:gs>
              <a:gs pos="50000">
                <a:srgbClr val="5a4072"/>
              </a:gs>
              <a:gs pos="100000">
                <a:srgbClr val="c58bf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Зарождение астрономи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ачала человек наблюдал простейшие, самые заметные периодические явления природы: суточное вращение звездного неба, месячное движение Луны и годовое движение Солнца по созвезд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когда человек впервые сказал, что за ночью обязательно придет день, а за зимой – весна, он предсказал будущ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0834" t="0" r="4451" b="0"/>
          <a:stretch/>
        </p:blipFill>
        <p:spPr>
          <a:xfrm>
            <a:off x="0" y="4149720"/>
            <a:ext cx="213516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76360" y="228240"/>
            <a:ext cx="5562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Астрономический прибор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43200" y="1628640"/>
            <a:ext cx="64008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день сначала поделили пополам, отметив момент, когда тень от вертикального столба была минимальной, а высота Солнца – самой большой. При этом оказалось, что дуга пути поднимающегося Солнца равна дуге Солнца опускающегося. И момент и момент его высшего положения назвали полднем. Вертикальный столб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ном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древнейший астрономический при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95640" y="228240"/>
            <a:ext cx="484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Гномо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64000" y="1125000"/>
            <a:ext cx="52927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денная тень его всегда обращена на север, поэтому гномон был и первым компасом. А когда от столба прочертили направление на север, он стал первыми часами, показывающими пока только один час – пол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3492" t="0" r="4334" b="4286"/>
          <a:stretch/>
        </p:blipFill>
        <p:spPr>
          <a:xfrm>
            <a:off x="0" y="0"/>
            <a:ext cx="3635280" cy="5661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5661000"/>
            <a:ext cx="3635280" cy="1197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номоны-обели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ицы Хатшепсут в Карна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ип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4:36:45Z</dcterms:created>
  <dc:creator>Леша</dc:creator>
  <dc:description/>
  <dc:language>en-US</dc:language>
  <cp:lastModifiedBy>Владелец</cp:lastModifiedBy>
  <dcterms:modified xsi:type="dcterms:W3CDTF">2008-01-22T19:34:08Z</dcterms:modified>
  <cp:revision>8</cp:revision>
  <dc:subject/>
  <dc:title>Слайд 1</dc:title>
</cp:coreProperties>
</file>