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089-C9AD-4C55-BDB8-51E1C529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4CB-766F-41D6-8A05-2ED9FD04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B18-603B-4F42-A9A7-F040890C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55B-8FA6-4496-A6B3-94F24E12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2B3D-2ED6-41DA-8DB5-A2B49E4B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FBAA-41AF-4509-8CFB-C5F3BDB0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AAE7-3237-477F-A43C-B14E941C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AD4-1675-4B9B-BBA2-80F1DE7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B057-A8D2-40D1-B2A0-21170E2F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AE27-DAD2-4296-992C-26559E44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CB7E-0AC9-4499-9975-6273F77A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3E3-8304-4E21-A439-FDDA60E2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232C-360E-4C0F-84A9-F12AFA0D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C0A5-3B7B-44C7-9DA7-051FECC3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B834-2A51-4058-B626-11BD4E49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7C63-76B2-4F07-A9DC-8950B385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A782-933C-4FBE-9961-C8EB1BA0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CF0-F91A-4EA4-9950-40075203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2DF-9B1C-4667-A5DE-A5C184E4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51E-9DC9-452C-A203-FA1A2B8B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D6A-65C7-4859-951C-53F6783C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D5C-B042-4E8F-89E0-BE1C12FE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22B-92B4-497D-BB47-5DF8095D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67B-D164-4D77-B0A7-7B1E1491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EEBF-F078-4588-AABB-16248390CF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5C80-994A-4638-B6CE-6417367B28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2923920"/>
            <a:ext cx="7238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  <a:ea typeface="Times New Roman"/>
              </a:rPr>
              <a:t>Фондовый рынок в РФ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23924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ссмотрим вопросы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14248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33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тория развития фондового рынка в современной РФ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руктура фондового рынка в РФ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блемы в развитии фондового рынка современной Росси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Этапы развития фондового рынка в современной Росс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0 – 1992 годы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ление фондового рынка после принятия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 декабря 1990 г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б утверждении Положения акционерных обществ»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 создавал предпосылки создания фондовых бирж и рынка акций коммерческих банков, формируется законодательная баз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т 1992 год – создание «Московской межбанковской биржи» (ММВБ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916280"/>
            <a:ext cx="8713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3 – 1994 год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поха приватизаци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овый рынок существовал в форме приватизационных чеков. Это было начало, расцвет и закрытие этого рынк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549360"/>
            <a:ext cx="83516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5 – 1998 год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поха акций и облигаци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кладывается новый фондовый рынок, на котором торговля ведется уже акциями существующих АО РФ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рмирование нормативной базы, создаются органы по регулированию рынка ценных бумаг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КЦ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нимаются закон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 рынке ценных бумаг», «Об акционерных обществах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692280"/>
            <a:ext cx="86421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 – 2007 год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бурного разви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ногие российские компании реального сектора экономики начали рассматривать фондовый рынок как эффективный механизм привлечений капитал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ние Российской Торговой Системы (РТ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313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фондового рынка в Росс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Регуляторы рын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ФСФ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регулирует деятельность брокерских фирм, управляющих компаний, лицензирует деятельность профессиональных участников рынка ценных бумаг, занимается обновлением законодательной базы рынка ценных бумаг в Р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ЦБ РФ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гулирует деятельность коммерческих бан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Участники фондового рынк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 лицензированные инвестиционные институты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(совершают сделки с ценными бумагами от себя лично и по поручению клиентов, управляют активами на рынке ценных бумаг)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5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щие компании: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вляют ресурсами пенсионных фондов, долгосрочных инвесторов типа страховых компани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зитар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изированные лицензированные институты, специализированные лицензированные институты, отвечающие за хранение ценных бума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держате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изированные лицензированные институты,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ящие информацию о правах собственности на ценные бумаг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рж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МВБ и РТ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ые консультанты и независимые аналитические цент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щие широкому кругу участников различные аналитические обзоры по различным секторам экономики и финансовых рынкам и отдельным корпорац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информационные ресурс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6726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блемы в развитии фондового рынка современной Росс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интенсивному развитию отечественного фондового рынка мешают как внутренние факторы, так и внешние обстоятельств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качестве внутренних факторов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рмозящих в настоящее время развитие российского фондового рынка, в первую очередь, следует выделить: консервативность российского населения (страшно узок круг инвесторов в России) и недооценка влияния фондового рынка на экономику страны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качестве внешнего фактор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гативно влияющего в настоящее время на развитие отечественного фондового рынка, стоит назвать неблагополучную конъюнктуру мировых финансовых рынков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3:57:41Z</dcterms:created>
  <dc:creator>Intel</dc:creator>
  <dc:description/>
  <dc:language>en-US</dc:language>
  <cp:lastModifiedBy>я</cp:lastModifiedBy>
  <dcterms:modified xsi:type="dcterms:W3CDTF">2012-12-10T16:28:12Z</dcterms:modified>
  <cp:revision>13</cp:revision>
  <dc:subject/>
  <dc:title>PowerPoint Presentation</dc:title>
</cp:coreProperties>
</file>