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DE2A-DC00-4433-A3EC-557B649F4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C0C4-0398-4749-8D33-8EB0F5D0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1A27-3B3B-4884-B0BD-F22072D92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62C6-61BC-4B99-AF86-2EC5D6708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1445-2C5D-4CFC-B079-25B641A0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1D6F-CE1F-4C2D-9B4F-69001AC6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175A-4D38-4299-9C32-BC22DD84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9D78-D641-42BB-A5A6-2D6704ED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E5FA-5C5C-4E93-B745-D2FE7EEC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78BA-EFA7-40B9-A9AE-969CA0F2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5DAB-75D4-4A1C-A992-CEEF9367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3F14-7A52-49E5-8423-0A56ED48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3384-FB20-4F5A-B49E-2CBED1CE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BDC4-5522-40B1-AD3C-978D8B9C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0403-AC12-475C-B86F-B362BE7B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7796-8744-4A4E-9750-281FF9BC0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609A-2A01-41AC-9670-97280189B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C144-046F-4710-A807-F48FD890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50CA-09BE-469F-A699-DB74C332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EDB8-4A40-4CAE-910B-091EF91B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C175-677A-4733-BC40-0618AF7C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1931-A2A6-4DA3-9C34-D27ECDFC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32DD-C0EC-4E12-8E45-AF9627E9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33C9-447B-46DC-8E4A-2A5C684D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03A7-7607-4A95-B1DC-BF6E097FDC2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E6CC-A791-4993-A838-C4A30242CD3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920" y="2923920"/>
            <a:ext cx="7238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Arial"/>
                <a:ea typeface="Times New Roman"/>
              </a:rPr>
              <a:t>Фондовый рынок в РФ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723924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Рассмотрим вопросы: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142480" cy="38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33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стория развития фондового рынка в современной РФ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труктура фондового рынка в РФ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облемы в развитии фондового рынка современной России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Этапы развития фондового рынка в современной Росси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этап: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990 – 1992 годы: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явление фондового рынка после принятия 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5 декабря 1990 г.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Об утверждении Положения акционерных обществ».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кон создавал предпосылки создания фондовых бирж и рынка акций коммерческих банков, формируется законодательная база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рт 1992 год – создание «Московской межбанковской биржи» (ММВБ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0920" y="1916280"/>
            <a:ext cx="87138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этап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993 – 1994 годы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поха приватизаци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довый рынок существовал в форме приватизационных чеков. Это было начало, расцвет и закрытие этого рынка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50920" y="549360"/>
            <a:ext cx="8351640" cy="57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этап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995 – 1998 годы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поха акций и облигаций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обенность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складывается новый фондовый рынок, на котором торговля ведется уже акциями существующих АО РФ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формирование нормативной базы, создаются органы по регулированию рынка ценных бумаг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КЦ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ринимаются законы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О рынке ценных бумаг», «Об акционерных обществах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692280"/>
            <a:ext cx="864216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000 – 2007 годы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иод бурного развит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обен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ногие российские компании реального сектора экономики начали рассматривать фондовый рынок как эффективный механизм привлечений капитал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разование Российской Торговой Системы (РТС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3137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фондового рынка в Росси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713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Регуляторы рынка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ФСФР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– регулирует деятельность брокерских фирм, управляющих компаний, лицензирует деятельность профессиональных участников рынка ценных бумаг, занимается обновлением законодательной базы рынка ценных бумаг в РФ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Б) ЦБ РФ 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регулирует деятельность коммерческих бан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Участники фондового рынк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- лицензированные инвестиционные институты: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(совершают сделки с ценными бумагами от себя лично и по поручению клиентов, управляют активами на рынке ценных бумаг)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65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яющие компании: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правляют ресурсами пенсионных фондов, долгосрочных инвесторов типа страховых компаний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озитари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ециализированные лицензированные институты, специализированные лицензированные институты, отвечающие за хранение ценных бума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естродержател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ециализированные лицензированные институты,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ящие информацию о правах собственности на ценные бумаг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рж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МВБ и РТ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онные консультанты и независимые аналитические центры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ющие широкому кругу участников различные аналитические обзоры по различным секторам экономики и финансовых рынкам и отдельным корпорация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информационные ресурсы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99640" y="549360"/>
            <a:ext cx="767268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облемы в развитии фондового рынка современной Росси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интенсивному развитию отечественного фондового рынка мешают как внутренние факторы, так и внешние обстоятельства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качестве внутренних факторов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рмозящих в настоящее время развитие российского фондового рынка, в первую очередь, следует выделить: консервативность российского населения (страшно узок круг инвесторов в России) и недооценка влияния фондового рынка на экономику страны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качестве внешнего факторы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гативно влияющего в настоящее время на развитие отечественного фондового рынка, стоит назвать неблагополучную конъюнктуру мировых финансовых рынков.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0T13:57:41Z</dcterms:created>
  <dc:creator>Intel</dc:creator>
  <dc:description/>
  <dc:language>en-US</dc:language>
  <cp:lastModifiedBy>я</cp:lastModifiedBy>
  <dcterms:modified xsi:type="dcterms:W3CDTF">2012-12-10T16:28:12Z</dcterms:modified>
  <cp:revision>13</cp:revision>
  <dc:subject/>
  <dc:title>PowerPoint Presentation</dc:title>
</cp:coreProperties>
</file>