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6176-2AD2-4202-87F0-C3746489D5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1906-BD01-4649-B773-EB6E382C90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D8D4-C790-47D6-8D70-A425DE6099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AE2-FD37-40FB-83FA-E238F6F1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CB1-0F5B-44CE-8167-D68A4B44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50C-EF6B-4AA2-8888-20B8311E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B7E1-0E4A-4144-8F79-060354D1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6472-7FCD-46C4-8549-D27CBBFC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DF0D-AE74-4498-8BDC-5E210771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1B3F-3E5D-4CB3-B401-91E0882C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1690-FA8A-47B6-9EDE-2F723077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90FF-1CE7-4762-9026-F98A85EE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1030-4542-4B73-A6F5-26B046DD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E523-2BE3-4544-BDD1-80834C61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247-E8AD-4DB4-B04D-FFE1C9D5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8E73-6245-4C41-B470-615597D5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60FD-5A9F-4806-B581-BB3C2CA0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9525-DEDC-40B0-A172-E0BDF114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302B-54A2-4C38-8C35-A363800E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4EB6-491A-4699-A1ED-2695AA44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E6F9F-E544-4E0E-A66F-008CA72A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3621E-B567-4730-88CD-21A4A79B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9C11-9507-4CFD-8F44-4A990687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F09F6-31E6-4C07-B4C7-D966631E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C461-7C17-486F-B740-B37507EC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78E-EBAF-4B5E-B0C2-DEAF93CE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E56D7-B773-45F8-91D9-B30D98A4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DFE1-A905-44FD-9532-77B235C7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F3946-8DA2-405B-BDA4-FD4A6DEA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CA86-F61C-43F4-8EA7-6296B14D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0797-2C68-4B45-A00A-DE9EBBC1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53562-9366-4B8F-BA28-C7E77EFD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1A0F6-8B60-413A-AB97-9189D318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5022A-4B42-4977-8FCB-141B4671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F0999-2486-4136-A45E-3F8325C8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7B9ED-E7C9-48AF-9B62-58B3ACCA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855-8243-4ECD-9B4E-EF0ADF21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1EAFB-D781-40EA-B1A0-25AFD7DD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3FE8B-EBE6-4FFC-BBF6-E0B94793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EA6B7-4936-419A-A3CA-BCA5773E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9D5F0-470B-413D-A4CE-A390C59E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07AAD-5A4D-4497-82E5-ADCA8EC9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BD5B2-4EB8-414E-BDA5-02F48E1C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D2E7D-5164-483E-A408-F8927913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5D864-F750-4C7D-ADE7-A614C0A6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6AF4B-699B-4EE5-856A-D4EAFF18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B7877-7D05-4F00-8613-3CC9DBD5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9F0-1E92-42A0-BC8A-40EFD3C4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1EA5F-0C18-491D-8AD6-99CC445E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2A5F8-2D99-4E64-8EFC-C80571F4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ECA2C-2517-4736-A636-856D74E6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69E0B-2E0A-4AD0-8B92-59464678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C7AE-E8FC-4699-8BC9-DD2D726E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4A20-5675-4F72-A6FC-5F329ED7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F075B-1A28-46D1-A74D-A27026AE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90111-CB81-4A37-A483-5EF4F487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8214D-D286-431B-8A1F-7F56C1C9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AF0E0-3A17-4FDC-9909-D035A725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29F-B8D6-4317-AEA7-84301D4A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67A0C-B7EB-4DB2-BAC5-7B33BE79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154B2-23AA-45DE-8E72-2F935B1D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CCF4C-4C29-43DB-A453-31E7DEB6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808A0-2CE0-47FE-A56D-900A1ACE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8B9E1-2859-4541-AE58-FF8D2E20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8DC97-016F-4207-B4A1-D728CBEA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7E977-AB10-4AA7-B948-AF4C2639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5759E-8022-4808-9119-B9FD033A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37A58-7971-49C5-AF19-B1FDB1E1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7E52C-8CBC-46A7-97C0-75685977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787-D815-4E33-BFBE-913D3CCB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C2168-1FCA-4512-8E38-60228655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444C3-6037-44C0-B47B-9E4F52F5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99BC8-6CAA-4AA9-B82E-CF023D3E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5CE-96D2-4BFA-A9A9-6D194548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722-CF8F-4BB1-A999-2714648E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7B8B-8A0D-421B-B6EA-81A7A6E0510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9C94-D4A6-4E4B-93F0-EFCA88CADCF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CE50-4280-4567-A9DD-7C3B78925CA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7CDE-D1A0-4748-86EF-BBFA6A7B39B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EFE4-A345-4F16-8650-302746690BE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123B-81D2-4012-95CF-BE0000758E4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Затраты-выпуск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ВЫБОРОЧНОЕ НАБЛЮДЕН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ЗА 2011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2920" y="4785840"/>
            <a:ext cx="80694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РТФЕЛЬ ИНТЕРВЬЮЕ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02920" y="530280"/>
            <a:ext cx="8211960" cy="4541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РШРУТНЫЙ ЛИСТ ИНТЕРВЬЮЕ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ЫЙ КУРС ОБУ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ЛФАВИТНО-ПРЕДМЕТНЫЙ УКАЗАТЕЛЬ ПО ТЕРМИНА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ЛАНКИ ФОР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№ТЗВ - МП, №ТЗВ - И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НАЯ КНИЖ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9604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Варианты проведения интервь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3" descr="uitleg"/>
          <p:cNvPicPr/>
          <p:nvPr/>
        </p:nvPicPr>
        <p:blipFill>
          <a:blip r:embed="rId1"/>
          <a:stretch/>
        </p:blipFill>
        <p:spPr>
          <a:xfrm>
            <a:off x="539640" y="1341360"/>
            <a:ext cx="2592360" cy="1800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297" name="Picture 4" descr="2895146_f520"/>
          <p:cNvPicPr/>
          <p:nvPr/>
        </p:nvPicPr>
        <p:blipFill>
          <a:blip r:embed="rId2"/>
          <a:stretch/>
        </p:blipFill>
        <p:spPr>
          <a:xfrm>
            <a:off x="3564000" y="1341360"/>
            <a:ext cx="2232000" cy="18082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298" name="Picture 7" descr="i?id=98828453-18-72"/>
          <p:cNvPicPr/>
          <p:nvPr/>
        </p:nvPicPr>
        <p:blipFill>
          <a:blip r:embed="rId3"/>
          <a:stretch/>
        </p:blipFill>
        <p:spPr>
          <a:xfrm>
            <a:off x="6443640" y="1341360"/>
            <a:ext cx="2089080" cy="180036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299" name="Text Box 5"/>
          <p:cNvSpPr/>
          <p:nvPr/>
        </p:nvSpPr>
        <p:spPr>
          <a:xfrm>
            <a:off x="611280" y="3573360"/>
            <a:ext cx="28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Предварительная договоренность о встреч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- Беседа с одновременным заполнением формы выборочного наблюд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3429000" y="3500280"/>
            <a:ext cx="266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99"/>
                </a:solidFill>
                <a:latin typeface="Verdana"/>
              </a:rPr>
              <a:t>- </a:t>
            </a: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Выдача бланка для самостоятельного заполн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99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Консультации в согласованной форме (по телефону, по </a:t>
            </a:r>
            <a:r>
              <a:rPr b="1" lang="en-US" sz="1600" spc="-1" strike="noStrike">
                <a:solidFill>
                  <a:srgbClr val="990099"/>
                </a:solidFill>
                <a:latin typeface="Verdana"/>
              </a:rPr>
              <a:t>e-mail </a:t>
            </a: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и т.д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99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Получение заполненного блан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156360" y="3500280"/>
            <a:ext cx="2736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Verdana"/>
              </a:rPr>
              <a:t>- Беседа по телефону с одновременным заполнением формы выборочного наблюд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Verdana"/>
              </a:rPr>
              <a:t>- Встреча с респондентом для заверения заполненной фор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32968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ОБУЧЕНИЕ ИНТЕРВЬЮЕРОВ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1. ТЕОРЕТИЧЕСКИЙ БЛОК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(ИНСТРУКТАЖ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2. ПРАКТИЧЕСКИЙ БЛОК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3. ПРОВЕРОЧНЫЙ БЛОК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(ТЕСТИРОВАНИЕ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58920" y="404640"/>
            <a:ext cx="684216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Times New Roman"/>
              </a:rPr>
              <a:t>Возможные нетипичные ситуации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286000" y="999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спондент избегает контакта (необходимо преодолеть «привратника»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4357800" y="17852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спондент отказывается от участ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643120" y="286092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спондент не помнит необходимые сведения и не хочет тратить время, чтобы вспомнить и 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4286160" y="37857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спондент помнит информацию, но не хочет ее предоставлять из-за опасения санкций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14" descr="i?id=8791978-57-72"/>
          <p:cNvPicPr/>
          <p:nvPr/>
        </p:nvPicPr>
        <p:blipFill>
          <a:blip r:embed="rId1"/>
          <a:stretch/>
        </p:blipFill>
        <p:spPr>
          <a:xfrm>
            <a:off x="826920" y="981000"/>
            <a:ext cx="1297080" cy="1297080"/>
          </a:xfrm>
          <a:prstGeom prst="rect">
            <a:avLst/>
          </a:prstGeom>
          <a:ln w="9360">
            <a:solidFill>
              <a:srgbClr val="e3ded1"/>
            </a:solidFill>
            <a:miter/>
          </a:ln>
        </p:spPr>
      </p:pic>
      <p:pic>
        <p:nvPicPr>
          <p:cNvPr id="310" name="Picture 16" descr="3610_1"/>
          <p:cNvPicPr/>
          <p:nvPr/>
        </p:nvPicPr>
        <p:blipFill>
          <a:blip r:embed="rId2"/>
          <a:stretch/>
        </p:blipFill>
        <p:spPr>
          <a:xfrm>
            <a:off x="2643120" y="1571760"/>
            <a:ext cx="1584360" cy="1109520"/>
          </a:xfrm>
          <a:prstGeom prst="rect">
            <a:avLst/>
          </a:prstGeom>
          <a:ln w="9360">
            <a:solidFill>
              <a:srgbClr val="e3ded1"/>
            </a:solidFill>
            <a:miter/>
          </a:ln>
        </p:spPr>
      </p:pic>
      <p:pic>
        <p:nvPicPr>
          <p:cNvPr id="311" name="Picture 20" descr="i?id=261130685-05-72"/>
          <p:cNvPicPr/>
          <p:nvPr/>
        </p:nvPicPr>
        <p:blipFill>
          <a:blip r:embed="rId3"/>
          <a:stretch/>
        </p:blipFill>
        <p:spPr>
          <a:xfrm>
            <a:off x="785880" y="2500200"/>
            <a:ext cx="1584360" cy="1046160"/>
          </a:xfrm>
          <a:prstGeom prst="rect">
            <a:avLst/>
          </a:prstGeom>
          <a:ln w="9360">
            <a:solidFill>
              <a:srgbClr val="e3ded1"/>
            </a:solidFill>
            <a:miter/>
          </a:ln>
        </p:spPr>
      </p:pic>
      <p:pic>
        <p:nvPicPr>
          <p:cNvPr id="312" name="Picture 24" descr="i?id=397519077-18-72"/>
          <p:cNvPicPr/>
          <p:nvPr/>
        </p:nvPicPr>
        <p:blipFill>
          <a:blip r:embed="rId4"/>
          <a:stretch/>
        </p:blipFill>
        <p:spPr>
          <a:xfrm>
            <a:off x="2571840" y="3786120"/>
            <a:ext cx="1582560" cy="1044720"/>
          </a:xfrm>
          <a:prstGeom prst="rect">
            <a:avLst/>
          </a:prstGeom>
          <a:ln w="9360">
            <a:solidFill>
              <a:srgbClr val="e3ded1"/>
            </a:solidFill>
            <a:miter/>
          </a:ln>
        </p:spPr>
      </p:pic>
      <p:sp>
        <p:nvSpPr>
          <p:cNvPr id="313" name="Rectangle 27"/>
          <p:cNvSpPr/>
          <p:nvPr/>
        </p:nvSpPr>
        <p:spPr>
          <a:xfrm>
            <a:off x="2286000" y="500580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ешнее негативное воздействие (телефонный звонок, необходимость срочно уйти и т.п.)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4" name="Picture 33" descr="i?id=332810201-56-72"/>
          <p:cNvPicPr/>
          <p:nvPr/>
        </p:nvPicPr>
        <p:blipFill>
          <a:blip r:embed="rId5"/>
          <a:stretch/>
        </p:blipFill>
        <p:spPr>
          <a:xfrm>
            <a:off x="571680" y="4357800"/>
            <a:ext cx="1114200" cy="1428480"/>
          </a:xfrm>
          <a:prstGeom prst="rect">
            <a:avLst/>
          </a:prstGeom>
          <a:ln w="9360">
            <a:solidFill>
              <a:srgbClr val="e3ded1"/>
            </a:solidFill>
            <a:miter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Times New Roman"/>
              </a:rPr>
              <a:t>Возможные вопросы респондентов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6" name="Picture 3" descr="a3d3ff185294"/>
          <p:cNvPicPr/>
          <p:nvPr/>
        </p:nvPicPr>
        <p:blipFill>
          <a:blip r:embed="rId1"/>
          <a:stretch/>
        </p:blipFill>
        <p:spPr>
          <a:xfrm>
            <a:off x="5435640" y="1136520"/>
            <a:ext cx="3097080" cy="222912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10"/>
          <p:cNvSpPr/>
          <p:nvPr/>
        </p:nvSpPr>
        <p:spPr>
          <a:xfrm>
            <a:off x="857160" y="1142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Что такое базовые таблицы «затраты-выпуск» и как они будут использоваться?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2484360" y="537084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Разве не хватает имеющейся информации для создания базовых таблиц? Зачем нужно проводить дополнительное обследова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642960" y="28544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очему именно я попал в выборк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126440" y="34297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Обязан ли я предоставлять свои данные интервьюеру?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2340000" y="44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Нужно ли предъявлять документы, подтверждающие предоставленные сведения?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27"/>
          <p:cNvSpPr/>
          <p:nvPr/>
        </p:nvSpPr>
        <p:spPr>
          <a:xfrm>
            <a:off x="571680" y="214272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Какая мне польза от этого обследовани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1386000" y="393444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Можно ли отвечать не на все вопросы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34" descr="i?id=414838859-55-72"/>
          <p:cNvPicPr/>
          <p:nvPr/>
        </p:nvPicPr>
        <p:blipFill>
          <a:blip r:embed="rId2"/>
          <a:stretch/>
        </p:blipFill>
        <p:spPr>
          <a:xfrm>
            <a:off x="826920" y="4437000"/>
            <a:ext cx="1265400" cy="174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971640" y="33336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Формы практических занят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900000" y="141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Verdana"/>
              </a:rPr>
              <a:t>Ролевая иг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5651640" y="306864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Verdana"/>
              </a:rPr>
              <a:t>Заполнение форм выборочного наблюдения по заданным данны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5580000" y="1268280"/>
            <a:ext cx="30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Verdana"/>
              </a:rPr>
              <a:t>Индивидуальный опрос, групповое обсуждение способов решения заданных пробл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1116000" y="5084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Проведение тес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15" descr="i?id=443361994-22-72"/>
          <p:cNvPicPr/>
          <p:nvPr/>
        </p:nvPicPr>
        <p:blipFill>
          <a:blip r:embed="rId1"/>
          <a:stretch/>
        </p:blipFill>
        <p:spPr>
          <a:xfrm>
            <a:off x="3643200" y="928800"/>
            <a:ext cx="1513080" cy="1473120"/>
          </a:xfrm>
          <a:prstGeom prst="rect">
            <a:avLst/>
          </a:prstGeom>
          <a:ln w="28440">
            <a:solidFill>
              <a:srgbClr val="cc0066"/>
            </a:solidFill>
            <a:miter/>
          </a:ln>
        </p:spPr>
      </p:pic>
      <p:pic>
        <p:nvPicPr>
          <p:cNvPr id="331" name="Picture 17" descr="i?id=199176615-61-72"/>
          <p:cNvPicPr/>
          <p:nvPr/>
        </p:nvPicPr>
        <p:blipFill>
          <a:blip r:embed="rId2"/>
          <a:stretch/>
        </p:blipFill>
        <p:spPr>
          <a:xfrm>
            <a:off x="3643200" y="2643120"/>
            <a:ext cx="1513080" cy="136368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sp>
        <p:nvSpPr>
          <p:cNvPr id="332" name="Text Box 18"/>
          <p:cNvSpPr/>
          <p:nvPr/>
        </p:nvSpPr>
        <p:spPr>
          <a:xfrm>
            <a:off x="5572080" y="47862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Запись на флеш-карту необходимой информ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21" descr="Обучение"/>
          <p:cNvPicPr/>
          <p:nvPr/>
        </p:nvPicPr>
        <p:blipFill>
          <a:blip r:embed="rId3"/>
          <a:stretch/>
        </p:blipFill>
        <p:spPr>
          <a:xfrm>
            <a:off x="3571920" y="4500720"/>
            <a:ext cx="1655640" cy="14270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334" name="Text Box 22"/>
          <p:cNvSpPr/>
          <p:nvPr/>
        </p:nvSpPr>
        <p:spPr>
          <a:xfrm>
            <a:off x="755640" y="3141720"/>
            <a:ext cx="26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Verdana"/>
              </a:rPr>
              <a:t>Разработка сценария преодоления заданной нетипичной ситу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785880" y="428760"/>
            <a:ext cx="741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Электронный курс для самостоятельного обучения интервью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857160" y="1571760"/>
            <a:ext cx="7643880" cy="4357440"/>
            <a:chOff x="857160" y="1571760"/>
            <a:chExt cx="7643880" cy="4357440"/>
          </a:xfrm>
        </p:grpSpPr>
        <p:pic>
          <p:nvPicPr>
            <p:cNvPr id="337" name="Picture 4" descr="7 Вопросы для тестирования"/>
            <p:cNvPicPr/>
            <p:nvPr/>
          </p:nvPicPr>
          <p:blipFill>
            <a:blip r:embed="rId1"/>
            <a:stretch/>
          </p:blipFill>
          <p:spPr>
            <a:xfrm>
              <a:off x="857160" y="1571760"/>
              <a:ext cx="7643880" cy="4357440"/>
            </a:xfrm>
            <a:prstGeom prst="rect">
              <a:avLst/>
            </a:prstGeom>
            <a:ln w="9360">
              <a:solidFill>
                <a:srgbClr val="008080"/>
              </a:solidFill>
              <a:miter/>
            </a:ln>
          </p:spPr>
        </p:pic>
        <p:pic>
          <p:nvPicPr>
            <p:cNvPr id="338" name="Picture 5" descr="i?id=68083744-35-72"/>
            <p:cNvPicPr/>
            <p:nvPr/>
          </p:nvPicPr>
          <p:blipFill>
            <a:blip r:embed="rId2"/>
            <a:stretch/>
          </p:blipFill>
          <p:spPr>
            <a:xfrm>
              <a:off x="7387200" y="4444200"/>
              <a:ext cx="1001520" cy="1402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опросы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Безымянный.JPG"/>
          <p:cNvPicPr/>
          <p:nvPr/>
        </p:nvPicPr>
        <p:blipFill>
          <a:blip r:embed="rId2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Безымянный.JPG"/>
          <p:cNvPicPr/>
          <p:nvPr/>
        </p:nvPicPr>
        <p:blipFill>
          <a:blip r:embed="rId3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Безымянный.JPG"/>
          <p:cNvPicPr/>
          <p:nvPr/>
        </p:nvPicPr>
        <p:blipFill>
          <a:blip r:embed="rId4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0" descr="Безымянный.JPG"/>
          <p:cNvPicPr/>
          <p:nvPr/>
        </p:nvPicPr>
        <p:blipFill>
          <a:blip r:embed="rId5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11" descr="Безымянный.JPG"/>
          <p:cNvPicPr/>
          <p:nvPr/>
        </p:nvPicPr>
        <p:blipFill>
          <a:blip r:embed="rId6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12" descr="Безымянный.JPG"/>
          <p:cNvPicPr/>
          <p:nvPr/>
        </p:nvPicPr>
        <p:blipFill>
          <a:blip r:embed="rId7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13" descr="Безымянный.JPG"/>
          <p:cNvPicPr/>
          <p:nvPr/>
        </p:nvPicPr>
        <p:blipFill>
          <a:blip r:embed="rId8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14" descr=""/>
          <p:cNvPicPr/>
          <p:nvPr/>
        </p:nvPicPr>
        <p:blipFill>
          <a:blip r:embed="rId9"/>
          <a:stretch/>
        </p:blipFill>
        <p:spPr>
          <a:xfrm>
            <a:off x="554040" y="2328840"/>
            <a:ext cx="8748720" cy="277956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15" descr="Безымянный.JPG"/>
          <p:cNvPicPr/>
          <p:nvPr/>
        </p:nvPicPr>
        <p:blipFill>
          <a:blip r:embed="rId10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6" descr="Безымянный.JPG"/>
          <p:cNvPicPr/>
          <p:nvPr/>
        </p:nvPicPr>
        <p:blipFill>
          <a:blip r:embed="rId11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7" descr="Безымянный.JPG"/>
          <p:cNvPicPr/>
          <p:nvPr/>
        </p:nvPicPr>
        <p:blipFill>
          <a:blip r:embed="rId12"/>
          <a:stretch/>
        </p:blipFill>
        <p:spPr>
          <a:xfrm>
            <a:off x="1143000" y="142920"/>
            <a:ext cx="74448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xit" presetID="1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5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2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5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5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5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5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5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5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5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5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8d3e"/>
                </a:solidFill>
                <a:latin typeface="Verdana"/>
              </a:rPr>
              <a:t>МАЛЫЕ ПРЕДПРИЯТИЯ</a:t>
            </a:r>
            <a:br>
              <a:rPr sz="4800"/>
            </a:br>
            <a:r>
              <a:rPr b="1" lang="ru-RU" sz="4800" spc="-1" strike="noStrike">
                <a:solidFill>
                  <a:srgbClr val="ff8d3e"/>
                </a:solidFill>
                <a:latin typeface="Verdana"/>
              </a:rPr>
              <a:t>И</a:t>
            </a:r>
            <a:br>
              <a:rPr sz="4800"/>
            </a:br>
            <a:r>
              <a:rPr b="1" lang="ru-RU" sz="4800" spc="-1" strike="noStrike">
                <a:solidFill>
                  <a:srgbClr val="ff8d3e"/>
                </a:solidFill>
                <a:latin typeface="Verdana"/>
              </a:rPr>
              <a:t>ИНДИВИДУАЛЬНЫЕ ПРЕДПРИНИМАТЕЛИ</a:t>
            </a:r>
            <a:br>
              <a:rPr sz="4800"/>
            </a:br>
            <a:br>
              <a:rPr sz="3200"/>
            </a:br>
            <a:br>
              <a:rPr sz="3200"/>
            </a:b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2160" y="928440"/>
            <a:ext cx="7707600" cy="25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ФОРМА № ТЗВ - МП</a:t>
            </a:r>
            <a:br>
              <a:rPr sz="4100"/>
            </a:b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ФОРМА № ТЗВ - ИП</a:t>
            </a:r>
            <a:br>
              <a:rPr sz="4100"/>
            </a:br>
            <a:br>
              <a:rPr sz="4100"/>
            </a:b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Утверждены Приказом Росстата от 31.03.2011г. № 83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21800" y="3684600"/>
            <a:ext cx="7921800" cy="2101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СРОК СДАЧИ ОТЧЕТНОСТ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5 АПРЕЛЯ 2012г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3786120"/>
            <a:ext cx="7961040" cy="16430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ПО РЕЗУЛЬТАТАМ</a:t>
            </a:r>
            <a:br>
              <a:rPr sz="4100"/>
            </a:b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СПЛОШНОГО НАБЛЮДЕНИЯ </a:t>
            </a:r>
            <a:br>
              <a:rPr sz="4100"/>
            </a:b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ПО МАЛОМУ БИЗНЕСУ</a:t>
            </a:r>
            <a:br>
              <a:rPr sz="4100"/>
            </a:b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ЗА 2010 ГОД</a:t>
            </a:r>
            <a:br>
              <a:rPr sz="4800"/>
            </a:br>
            <a:br>
              <a:rPr sz="48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4785840"/>
            <a:ext cx="8246880" cy="1428840"/>
          </a:xfrm>
          <a:prstGeom prst="rect">
            <a:avLst/>
          </a:prstGeom>
          <a:noFill/>
          <a:ln w="0">
            <a:noFill/>
          </a:ln>
        </p:spPr>
        <p:txBody>
          <a:bodyPr lIns="118800" rIns="90000" tIns="0" bIns="4680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РЕСПОНДЕНТЫ С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НЕНУЛЕВОЙ ВЫРУЧКО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ОДЛЕЖАТ ВЫБОРОЧНОМУ ОБСЛЕДОВАНИЮ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АЛЫЕ ПРЕДПРИЯТ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КА ОПРЕДЕЛЕНА НА УРОВН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Verdana"/>
              </a:rPr>
              <a:t>10 %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91440" bIns="4680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ДИВИДУАЛЬНЫЕ ПРЕДПРИНИМАТЕЛ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214520" y="1499760"/>
            <a:ext cx="4368600" cy="3436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БОРКА ОПРЕДЕЛЕНА НА УРОВНЕ     </a:t>
            </a:r>
            <a:r>
              <a:rPr b="1" lang="ru-RU" sz="4800" spc="-1" strike="noStrike">
                <a:solidFill>
                  <a:srgbClr val="0070c0"/>
                </a:solidFill>
                <a:latin typeface="Verdana"/>
              </a:rPr>
              <a:t>5 %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ТОРГОВЛЯ, ТРАНСПОРТ,  ОПЕРАЦИИ С  НЕДВИЖИМЫМ ИМУЩЕСТВО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О ОСТАЛЬНЫМ ВИДАМ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ЕЯТЕЛЬНОСТИ </a:t>
            </a:r>
            <a:r>
              <a:rPr b="1" lang="ru-RU" sz="4100" spc="-1" strike="noStrike">
                <a:solidFill>
                  <a:srgbClr val="0070c0"/>
                </a:solidFill>
                <a:latin typeface="Verdana"/>
              </a:rPr>
              <a:t>10 %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ИНСТРУМЕНТАРИЙ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Verdana"/>
              </a:rPr>
              <a:t>РАССЫЛКА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Verdana"/>
              </a:rPr>
              <a:t>БЛАНКОВ В ТОГС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Verdana"/>
              </a:rPr>
              <a:t>С 15 % РЕЗЕРВОМ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МЕТОДЫ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СБОРА ОТЧЕТНОСТИ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МАЛЫЕ ПРЕДПРИЯТ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Verdana"/>
              </a:rPr>
              <a:t>- ПОЧТОЙ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Verdana"/>
              </a:rPr>
              <a:t>- НАРОЧНЫМ ПУТЕМ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Verdana"/>
              </a:rPr>
              <a:t>- НА ЭЛЕКТРОННОМ НОСИТЕЛЕ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Verdana"/>
              </a:rPr>
              <a:t>- ЧЕРЕЗ СИСТЕМУ </a:t>
            </a:r>
            <a:r>
              <a:rPr b="1" lang="en-US" sz="3300" spc="-1" strike="noStrike">
                <a:solidFill>
                  <a:srgbClr val="0070c0"/>
                </a:solidFill>
                <a:latin typeface="Verdana"/>
              </a:rPr>
              <a:t>WEB-</a:t>
            </a:r>
            <a:r>
              <a:rPr b="1" lang="ru-RU" sz="3300" spc="-1" strike="noStrike">
                <a:solidFill>
                  <a:srgbClr val="0070c0"/>
                </a:solidFill>
                <a:latin typeface="Verdana"/>
              </a:rPr>
              <a:t>СБОРА РОССТАТ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МЕТОДЫ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СБОРА ОТЧЕТНОСТИ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ИНДИВИДУАЛЬНЫЕ ПРЕДПРИНИМАТЕЛ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Verdana"/>
              </a:rPr>
              <a:t>ОПРОС РЕСПОНДЕНТОВ 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Verdana"/>
              </a:rPr>
              <a:t>ИНТЕРВЬЮЕРАМИ-ЭКСПЕРТАМИ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РАЗДЕЛЫ ФОРМЫ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№ ТЗВ-ИП, № ТЗВ-МП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ВЫРУ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ОТДЕЛЬНЫЕ РАСХОДЫ НА ПРОИЗВОДСТВО И ПРОДАЖУ ПРОДУКЦИИ (ТОВАРОВ, РАБОТ, УСЛУГ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6:23:29Z</dcterms:created>
  <dc:creator>vng161</dc:creator>
  <dc:description/>
  <dc:language>en-US</dc:language>
  <cp:lastModifiedBy>Vng164</cp:lastModifiedBy>
  <dcterms:modified xsi:type="dcterms:W3CDTF">2011-12-27T05:31:29Z</dcterms:modified>
  <cp:revision>71</cp:revision>
  <dc:subject/>
  <dc:title>Презентация по малому бизнесу Затраты-Выпус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№">
    <vt:lpwstr>3.00000000000000</vt:lpwstr>
  </property>
</Properties>
</file>