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7B11-B1BE-492B-8441-FD12CA9D47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B0AC-1471-46A6-8372-47597F64FA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1ADF-7F43-4462-A248-D46BF85873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6D76-E2C6-4D00-86F7-CC9420C6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EDC9-8977-41E7-97F1-0DEEB29F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09BF-D6E0-4E42-9E1C-2CFE6A55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9F46-90D5-40B5-9BF6-A2A0976A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B49B-8102-4C77-B5D9-6700F170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E13A-A525-43CE-9714-48EF6164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B7B5-54D7-48DC-B381-0CF76817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972B-E411-40D1-BBFE-EE2563AD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53CC-F78D-4128-904A-652816AB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7559-B8F6-44A0-B946-2177613F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9C69-6C6C-45BA-A20F-825FE55B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959F-EBC7-4E09-BD38-C500067B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69DD-887C-4C96-AF63-5F7DECEC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DB9F-7879-472C-AA23-C74FF704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53A7-A9C6-4CF0-BAF5-62989379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6328-5AF7-4493-8993-23592C76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D011-9240-4F9A-A700-72CF4E6F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DE9B9-5455-44AB-B5EE-9B12554C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4B2C6-7ED2-4CA8-B06C-23E5EC39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22221-B4B8-43C6-A04B-F2CA2753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4E0B6-6831-4516-8866-3360DBC7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50FA3-5680-4E4F-B891-486C0B59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9E29-BBDB-45A6-B34B-7D439485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05C8E-E331-447F-BA7D-D1C5530F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55DCC-B91A-443B-BE30-E4737B65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553B0-4805-4EB0-8899-969C51D3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675B1-8D92-4D8B-B152-A3F94F8A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7376F-821A-4D80-8ACB-2F634E68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AB829-2B7B-4543-926C-4B6DD3C6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543CE-0536-47FF-B6D7-85C7EF5E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55A62-4A63-49AA-BB03-724B1109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545D1-A135-4A46-8AB3-2001C25A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8A6C9-2549-49FE-94C4-1A12E395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EE9D-783F-457C-AC8D-C2FEC9B8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1521E-10B0-4BD7-9B28-72408FD0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AFF55-FD81-4C4E-8948-3CF97EB8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BB24B-6876-4EBB-AEE6-08169CE0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E6186-60B7-44C2-B407-53DBED21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98CFE-1FF8-48C6-AC4F-97E656E2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C6CFC-2DA5-4164-A99F-B41CEB89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EFF33-B768-46A1-B5AA-A36CE105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B920D-CEF0-4B16-A3E1-6A8DC40B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83FEF-6782-482E-A250-146718FC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D05F3-A0DB-4E16-8A25-F359C30D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E16C-77CA-469D-BC63-38705866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FBA15-C5AB-4048-85A6-D20889A9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A1292-CB75-4983-9C70-70610F0E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E924A-BA26-425F-BE2A-CAA646B7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D16F0-2091-4D27-9AC2-F17500FB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84825-9413-4B0B-9B0B-C0FFB33E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9ACB5-D0A9-48F5-88D1-98A8C789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EEE93-9DD2-4C50-8026-2CB4D34D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116F1-F8DC-4F44-949E-D8A89DB0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FFBC1-D14D-4CDD-9238-6F2DB07F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BB7D5-BA00-43F9-A42D-F6FEB78C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0D9F-59D1-4590-B377-6AD57B79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47D2F-B894-4FE7-BC0F-99FB7B44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0427F-CC59-42ED-B498-914E79FA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02DFF-7607-4AFD-B2DD-7F8294B9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7476D-6E6F-4FDD-9A33-50D973FD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2F502-9BAC-4720-AEA4-C5DA95D5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6912F-A611-48E0-84FE-B64AF11E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0BE05-F195-4BD9-8370-0D24E830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A085F-FD04-407E-BBD5-DF6CA553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19363-7CA3-4996-B26C-30B944D5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4B3BB-DF84-404F-8963-9620770D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1DDF-50A2-4F39-B132-7F83337A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21ACD-997E-46C1-ABFC-B9188076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C3469-07E7-416B-A5DD-F9854C52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6BFC6-23DB-40B7-AF31-258015E1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B1A0-9DD0-4383-8855-4FD28E1A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48E7-F390-4119-9E1A-4B924A47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8FAF-5DB8-4B24-B027-5D523DB3A6A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578D-5326-4F2B-9E65-1C5E08E0715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B9DB-AD69-4323-B6F4-E96AF3C1F64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474C-380D-4E52-8252-33313217494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3CCF-27C9-4373-8810-8E5804064C5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02EB-BBBF-4760-B69B-321DCD4248D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19.jpeg"/><Relationship Id="rId8" Type="http://schemas.openxmlformats.org/officeDocument/2006/relationships/image" Target="../media/image19.jpeg"/><Relationship Id="rId9" Type="http://schemas.openxmlformats.org/officeDocument/2006/relationships/image" Target="../media/image20.png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8d3e"/>
                </a:solidFill>
                <a:latin typeface="Verdana"/>
              </a:rPr>
              <a:t>Затраты-выпуск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Verdana"/>
              </a:rPr>
              <a:t>ВЫБОРОЧНОЕ НАБЛЮДЕНИ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Verdana"/>
              </a:rPr>
              <a:t>ЗА 2011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2920" y="4785840"/>
            <a:ext cx="806940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ОРТФЕЛЬ ИНТЕРВЬЮЕ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02920" y="530280"/>
            <a:ext cx="8211960" cy="4541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РШРУТНЫЙ ЛИСТ ИНТЕРВЬЮЕ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СТРУ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ЛЕКТРОННЫЙ КУРС ОБУЧ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ЛФАВИТНО-ПРЕДМЕТНЫЙ УКАЗАТЕЛЬ ПО ТЕРМИНАМ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ЛАНКИ ФОРМ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№ТЗВ - МП, №ТЗВ - ИП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НАЯ КНИЖ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9604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Варианты проведения интервь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3" descr="uitleg"/>
          <p:cNvPicPr/>
          <p:nvPr/>
        </p:nvPicPr>
        <p:blipFill>
          <a:blip r:embed="rId1"/>
          <a:stretch/>
        </p:blipFill>
        <p:spPr>
          <a:xfrm>
            <a:off x="539640" y="1341360"/>
            <a:ext cx="2592360" cy="18003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297" name="Picture 4" descr="2895146_f520"/>
          <p:cNvPicPr/>
          <p:nvPr/>
        </p:nvPicPr>
        <p:blipFill>
          <a:blip r:embed="rId2"/>
          <a:stretch/>
        </p:blipFill>
        <p:spPr>
          <a:xfrm>
            <a:off x="3564000" y="1341360"/>
            <a:ext cx="2232000" cy="180828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298" name="Picture 7" descr="i?id=98828453-18-72"/>
          <p:cNvPicPr/>
          <p:nvPr/>
        </p:nvPicPr>
        <p:blipFill>
          <a:blip r:embed="rId3"/>
          <a:stretch/>
        </p:blipFill>
        <p:spPr>
          <a:xfrm>
            <a:off x="6443640" y="1341360"/>
            <a:ext cx="2089080" cy="180036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299" name="Text Box 5"/>
          <p:cNvSpPr/>
          <p:nvPr/>
        </p:nvSpPr>
        <p:spPr>
          <a:xfrm>
            <a:off x="611280" y="3573360"/>
            <a:ext cx="28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Предварительная договоренность о встреч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- Беседа с одновременным заполнением формы выборочного наблюд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3429000" y="3500280"/>
            <a:ext cx="266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99"/>
                </a:solidFill>
                <a:latin typeface="Verdana"/>
              </a:rPr>
              <a:t>- </a:t>
            </a: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Выдача бланка для самостоятельного заполн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99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Консультации в согласованной форме (по телефону, по </a:t>
            </a:r>
            <a:r>
              <a:rPr b="1" lang="en-US" sz="1600" spc="-1" strike="noStrike">
                <a:solidFill>
                  <a:srgbClr val="990099"/>
                </a:solidFill>
                <a:latin typeface="Verdana"/>
              </a:rPr>
              <a:t>e-mail </a:t>
            </a: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и т.д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99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Получение заполненного блан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156360" y="3500280"/>
            <a:ext cx="2736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60093"/>
                </a:solidFill>
                <a:latin typeface="Verdana"/>
              </a:rPr>
              <a:t>- Беседа по телефону с одновременным заполнением формы выборочного наблюд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60093"/>
                </a:solidFill>
                <a:latin typeface="Verdana"/>
              </a:rPr>
              <a:t>- Встреча с респондентом для заверения заполненной форм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329680" cy="33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ОБУЧЕНИЕ ИНТЕРВЬЮЕРОВ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1. ТЕОРЕТИЧЕСКИЙ БЛОК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(ИНСТРУКТАЖ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2. ПРАКТИЧЕСКИЙ БЛОК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3. ПРОВЕРОЧНЫЙ БЛОК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(ТЕСТИРОВАНИЕ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58920" y="404640"/>
            <a:ext cx="684216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ff"/>
                </a:solidFill>
                <a:latin typeface="Times New Roman"/>
              </a:rPr>
              <a:t>Возможные нетипичные ситуации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286000" y="9997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еспондент избегает контакта (необходимо преодолеть «привратника»)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4357800" y="17852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еспондент отказывается от участ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643120" y="2860920"/>
            <a:ext cx="51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еспондент не помнит необходимые сведения и не хочет тратить время, чтобы вспомнить и п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4286160" y="37857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еспондент помнит информацию, но не хочет ее предоставлять из-за опасения санкций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14" descr="i?id=8791978-57-72"/>
          <p:cNvPicPr/>
          <p:nvPr/>
        </p:nvPicPr>
        <p:blipFill>
          <a:blip r:embed="rId1"/>
          <a:stretch/>
        </p:blipFill>
        <p:spPr>
          <a:xfrm>
            <a:off x="826920" y="981000"/>
            <a:ext cx="1297080" cy="1297080"/>
          </a:xfrm>
          <a:prstGeom prst="rect">
            <a:avLst/>
          </a:prstGeom>
          <a:ln w="9360">
            <a:solidFill>
              <a:srgbClr val="e3ded1"/>
            </a:solidFill>
            <a:miter/>
          </a:ln>
        </p:spPr>
      </p:pic>
      <p:pic>
        <p:nvPicPr>
          <p:cNvPr id="310" name="Picture 16" descr="3610_1"/>
          <p:cNvPicPr/>
          <p:nvPr/>
        </p:nvPicPr>
        <p:blipFill>
          <a:blip r:embed="rId2"/>
          <a:stretch/>
        </p:blipFill>
        <p:spPr>
          <a:xfrm>
            <a:off x="2643120" y="1571760"/>
            <a:ext cx="1584360" cy="1109520"/>
          </a:xfrm>
          <a:prstGeom prst="rect">
            <a:avLst/>
          </a:prstGeom>
          <a:ln w="9360">
            <a:solidFill>
              <a:srgbClr val="e3ded1"/>
            </a:solidFill>
            <a:miter/>
          </a:ln>
        </p:spPr>
      </p:pic>
      <p:pic>
        <p:nvPicPr>
          <p:cNvPr id="311" name="Picture 20" descr="i?id=261130685-05-72"/>
          <p:cNvPicPr/>
          <p:nvPr/>
        </p:nvPicPr>
        <p:blipFill>
          <a:blip r:embed="rId3"/>
          <a:stretch/>
        </p:blipFill>
        <p:spPr>
          <a:xfrm>
            <a:off x="785880" y="2500200"/>
            <a:ext cx="1584360" cy="1046160"/>
          </a:xfrm>
          <a:prstGeom prst="rect">
            <a:avLst/>
          </a:prstGeom>
          <a:ln w="9360">
            <a:solidFill>
              <a:srgbClr val="e3ded1"/>
            </a:solidFill>
            <a:miter/>
          </a:ln>
        </p:spPr>
      </p:pic>
      <p:pic>
        <p:nvPicPr>
          <p:cNvPr id="312" name="Picture 24" descr="i?id=397519077-18-72"/>
          <p:cNvPicPr/>
          <p:nvPr/>
        </p:nvPicPr>
        <p:blipFill>
          <a:blip r:embed="rId4"/>
          <a:stretch/>
        </p:blipFill>
        <p:spPr>
          <a:xfrm>
            <a:off x="2571840" y="3786120"/>
            <a:ext cx="1582560" cy="1044720"/>
          </a:xfrm>
          <a:prstGeom prst="rect">
            <a:avLst/>
          </a:prstGeom>
          <a:ln w="9360">
            <a:solidFill>
              <a:srgbClr val="e3ded1"/>
            </a:solidFill>
            <a:miter/>
          </a:ln>
        </p:spPr>
      </p:pic>
      <p:sp>
        <p:nvSpPr>
          <p:cNvPr id="313" name="Rectangle 27"/>
          <p:cNvSpPr/>
          <p:nvPr/>
        </p:nvSpPr>
        <p:spPr>
          <a:xfrm>
            <a:off x="2286000" y="500580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нешнее негативное воздействие (телефонный звонок, необходимость срочно уйти и т.п.)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4" name="Picture 33" descr="i?id=332810201-56-72"/>
          <p:cNvPicPr/>
          <p:nvPr/>
        </p:nvPicPr>
        <p:blipFill>
          <a:blip r:embed="rId5"/>
          <a:stretch/>
        </p:blipFill>
        <p:spPr>
          <a:xfrm>
            <a:off x="571680" y="4357800"/>
            <a:ext cx="1114200" cy="1428480"/>
          </a:xfrm>
          <a:prstGeom prst="rect">
            <a:avLst/>
          </a:prstGeom>
          <a:ln w="9360">
            <a:solidFill>
              <a:srgbClr val="e3ded1"/>
            </a:solidFill>
            <a:miter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32000" y="404280"/>
            <a:ext cx="6696000" cy="5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ff"/>
                </a:solidFill>
                <a:latin typeface="Times New Roman"/>
              </a:rPr>
              <a:t>Возможные вопросы респондентов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16" name="Picture 3" descr="a3d3ff185294"/>
          <p:cNvPicPr/>
          <p:nvPr/>
        </p:nvPicPr>
        <p:blipFill>
          <a:blip r:embed="rId1"/>
          <a:stretch/>
        </p:blipFill>
        <p:spPr>
          <a:xfrm>
            <a:off x="5435640" y="1136520"/>
            <a:ext cx="3097080" cy="222912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10"/>
          <p:cNvSpPr/>
          <p:nvPr/>
        </p:nvSpPr>
        <p:spPr>
          <a:xfrm>
            <a:off x="857160" y="114264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Что такое базовые таблицы «затраты-выпуск» и как они будут использоваться?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12"/>
          <p:cNvSpPr/>
          <p:nvPr/>
        </p:nvSpPr>
        <p:spPr>
          <a:xfrm>
            <a:off x="2484360" y="537084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Разве не хватает имеющейся информации для создания базовых таблиц? Зачем нужно проводить дополнительное обследовани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642960" y="285444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очему именно я попал в выборку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1126440" y="342972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Обязан ли я предоставлять свои данные интервьюеру?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2340000" y="4436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Нужно ли предъявлять документы, подтверждающие предоставленные сведения?</a:t>
            </a: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27"/>
          <p:cNvSpPr/>
          <p:nvPr/>
        </p:nvSpPr>
        <p:spPr>
          <a:xfrm>
            <a:off x="571680" y="214272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Какая мне польза от этого обследования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Rectangle 28"/>
          <p:cNvSpPr/>
          <p:nvPr/>
        </p:nvSpPr>
        <p:spPr>
          <a:xfrm>
            <a:off x="1386000" y="3934440"/>
            <a:ext cx="49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Можно ли отвечать не на все вопросы?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34" descr="i?id=414838859-55-72"/>
          <p:cNvPicPr/>
          <p:nvPr/>
        </p:nvPicPr>
        <p:blipFill>
          <a:blip r:embed="rId2"/>
          <a:stretch/>
        </p:blipFill>
        <p:spPr>
          <a:xfrm>
            <a:off x="826920" y="4437000"/>
            <a:ext cx="1265400" cy="174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3"/>
          <p:cNvSpPr/>
          <p:nvPr/>
        </p:nvSpPr>
        <p:spPr>
          <a:xfrm>
            <a:off x="971640" y="33336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Формы практических занят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900000" y="1413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Verdana"/>
              </a:rPr>
              <a:t>Ролевая иг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8"/>
          <p:cNvSpPr/>
          <p:nvPr/>
        </p:nvSpPr>
        <p:spPr>
          <a:xfrm>
            <a:off x="5651640" y="3068640"/>
            <a:ext cx="25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Verdana"/>
              </a:rPr>
              <a:t>Заполнение форм выборочного наблюдения по заданным данны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5580000" y="1268280"/>
            <a:ext cx="309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Verdana"/>
              </a:rPr>
              <a:t>Индивидуальный опрос, групповое обсуждение способов решения заданных пробле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1116000" y="508464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Проведение тестир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15" descr="i?id=443361994-22-72"/>
          <p:cNvPicPr/>
          <p:nvPr/>
        </p:nvPicPr>
        <p:blipFill>
          <a:blip r:embed="rId1"/>
          <a:stretch/>
        </p:blipFill>
        <p:spPr>
          <a:xfrm>
            <a:off x="3643200" y="928800"/>
            <a:ext cx="1513080" cy="1473120"/>
          </a:xfrm>
          <a:prstGeom prst="rect">
            <a:avLst/>
          </a:prstGeom>
          <a:ln w="28440">
            <a:solidFill>
              <a:srgbClr val="cc0066"/>
            </a:solidFill>
            <a:miter/>
          </a:ln>
        </p:spPr>
      </p:pic>
      <p:pic>
        <p:nvPicPr>
          <p:cNvPr id="331" name="Picture 17" descr="i?id=199176615-61-72"/>
          <p:cNvPicPr/>
          <p:nvPr/>
        </p:nvPicPr>
        <p:blipFill>
          <a:blip r:embed="rId2"/>
          <a:stretch/>
        </p:blipFill>
        <p:spPr>
          <a:xfrm>
            <a:off x="3643200" y="2643120"/>
            <a:ext cx="1513080" cy="136368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  <p:sp>
        <p:nvSpPr>
          <p:cNvPr id="332" name="Text Box 18"/>
          <p:cNvSpPr/>
          <p:nvPr/>
        </p:nvSpPr>
        <p:spPr>
          <a:xfrm>
            <a:off x="5572080" y="478620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Запись на флеш-карту необходимой информа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" name="Picture 21" descr="Обучение"/>
          <p:cNvPicPr/>
          <p:nvPr/>
        </p:nvPicPr>
        <p:blipFill>
          <a:blip r:embed="rId3"/>
          <a:stretch/>
        </p:blipFill>
        <p:spPr>
          <a:xfrm>
            <a:off x="3571920" y="4500720"/>
            <a:ext cx="1655640" cy="142704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334" name="Text Box 22"/>
          <p:cNvSpPr/>
          <p:nvPr/>
        </p:nvSpPr>
        <p:spPr>
          <a:xfrm>
            <a:off x="755640" y="3141720"/>
            <a:ext cx="26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Verdana"/>
              </a:rPr>
              <a:t>Разработка сценария преодоления заданной нетипичной ситуа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785880" y="428760"/>
            <a:ext cx="741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Электронный курс для самостоятельного обучения интервью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6" name="Group 6"/>
          <p:cNvGrpSpPr/>
          <p:nvPr/>
        </p:nvGrpSpPr>
        <p:grpSpPr>
          <a:xfrm>
            <a:off x="857160" y="1571760"/>
            <a:ext cx="7643880" cy="4357440"/>
            <a:chOff x="857160" y="1571760"/>
            <a:chExt cx="7643880" cy="4357440"/>
          </a:xfrm>
        </p:grpSpPr>
        <p:pic>
          <p:nvPicPr>
            <p:cNvPr id="337" name="Picture 4" descr="7 Вопросы для тестирования"/>
            <p:cNvPicPr/>
            <p:nvPr/>
          </p:nvPicPr>
          <p:blipFill>
            <a:blip r:embed="rId1"/>
            <a:stretch/>
          </p:blipFill>
          <p:spPr>
            <a:xfrm>
              <a:off x="857160" y="1571760"/>
              <a:ext cx="7643880" cy="4357440"/>
            </a:xfrm>
            <a:prstGeom prst="rect">
              <a:avLst/>
            </a:prstGeom>
            <a:ln w="9360">
              <a:solidFill>
                <a:srgbClr val="008080"/>
              </a:solidFill>
              <a:miter/>
            </a:ln>
          </p:spPr>
        </p:pic>
        <p:pic>
          <p:nvPicPr>
            <p:cNvPr id="338" name="Picture 5" descr="i?id=68083744-35-72"/>
            <p:cNvPicPr/>
            <p:nvPr/>
          </p:nvPicPr>
          <p:blipFill>
            <a:blip r:embed="rId2"/>
            <a:stretch/>
          </p:blipFill>
          <p:spPr>
            <a:xfrm>
              <a:off x="7387200" y="4444200"/>
              <a:ext cx="1001520" cy="1402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ы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Рисунок 4" descr="Безымянный.JPG"/>
          <p:cNvPicPr/>
          <p:nvPr/>
        </p:nvPicPr>
        <p:blipFill>
          <a:blip r:embed="rId1"/>
          <a:stretch/>
        </p:blipFill>
        <p:spPr>
          <a:xfrm>
            <a:off x="1143000" y="142920"/>
            <a:ext cx="744480" cy="108756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7" descr="Безымянный.JPG"/>
          <p:cNvPicPr/>
          <p:nvPr/>
        </p:nvPicPr>
        <p:blipFill>
          <a:blip r:embed="rId2"/>
          <a:stretch/>
        </p:blipFill>
        <p:spPr>
          <a:xfrm>
            <a:off x="1143000" y="142920"/>
            <a:ext cx="744480" cy="108756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8" descr="Безымянный.JPG"/>
          <p:cNvPicPr/>
          <p:nvPr/>
        </p:nvPicPr>
        <p:blipFill>
          <a:blip r:embed="rId3"/>
          <a:stretch/>
        </p:blipFill>
        <p:spPr>
          <a:xfrm>
            <a:off x="1143000" y="142920"/>
            <a:ext cx="744480" cy="108756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9" descr="Безымянный.JPG"/>
          <p:cNvPicPr/>
          <p:nvPr/>
        </p:nvPicPr>
        <p:blipFill>
          <a:blip r:embed="rId4"/>
          <a:stretch/>
        </p:blipFill>
        <p:spPr>
          <a:xfrm>
            <a:off x="1143000" y="142920"/>
            <a:ext cx="744480" cy="108756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10" descr="Безымянный.JPG"/>
          <p:cNvPicPr/>
          <p:nvPr/>
        </p:nvPicPr>
        <p:blipFill>
          <a:blip r:embed="rId5"/>
          <a:stretch/>
        </p:blipFill>
        <p:spPr>
          <a:xfrm>
            <a:off x="1143000" y="142920"/>
            <a:ext cx="744480" cy="108756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11" descr="Безымянный.JPG"/>
          <p:cNvPicPr/>
          <p:nvPr/>
        </p:nvPicPr>
        <p:blipFill>
          <a:blip r:embed="rId6"/>
          <a:stretch/>
        </p:blipFill>
        <p:spPr>
          <a:xfrm>
            <a:off x="1143000" y="142920"/>
            <a:ext cx="744480" cy="108756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12" descr="Безымянный.JPG"/>
          <p:cNvPicPr/>
          <p:nvPr/>
        </p:nvPicPr>
        <p:blipFill>
          <a:blip r:embed="rId7"/>
          <a:stretch/>
        </p:blipFill>
        <p:spPr>
          <a:xfrm>
            <a:off x="1143000" y="142920"/>
            <a:ext cx="744480" cy="108756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13" descr="Безымянный.JPG"/>
          <p:cNvPicPr/>
          <p:nvPr/>
        </p:nvPicPr>
        <p:blipFill>
          <a:blip r:embed="rId8"/>
          <a:stretch/>
        </p:blipFill>
        <p:spPr>
          <a:xfrm>
            <a:off x="1143000" y="142920"/>
            <a:ext cx="744480" cy="1087560"/>
          </a:xfrm>
          <a:prstGeom prst="rect">
            <a:avLst/>
          </a:prstGeom>
          <a:ln w="0">
            <a:noFill/>
          </a:ln>
        </p:spPr>
      </p:pic>
      <p:pic>
        <p:nvPicPr>
          <p:cNvPr id="348" name="Прямоугольник 14" descr=""/>
          <p:cNvPicPr/>
          <p:nvPr/>
        </p:nvPicPr>
        <p:blipFill>
          <a:blip r:embed="rId9"/>
          <a:stretch/>
        </p:blipFill>
        <p:spPr>
          <a:xfrm>
            <a:off x="554040" y="2328840"/>
            <a:ext cx="8748720" cy="277956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15" descr="Безымянный.JPG"/>
          <p:cNvPicPr/>
          <p:nvPr/>
        </p:nvPicPr>
        <p:blipFill>
          <a:blip r:embed="rId10"/>
          <a:stretch/>
        </p:blipFill>
        <p:spPr>
          <a:xfrm>
            <a:off x="1143000" y="142920"/>
            <a:ext cx="744480" cy="108756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16" descr="Безымянный.JPG"/>
          <p:cNvPicPr/>
          <p:nvPr/>
        </p:nvPicPr>
        <p:blipFill>
          <a:blip r:embed="rId11"/>
          <a:stretch/>
        </p:blipFill>
        <p:spPr>
          <a:xfrm>
            <a:off x="1143000" y="142920"/>
            <a:ext cx="744480" cy="108756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17" descr="Безымянный.JPG"/>
          <p:cNvPicPr/>
          <p:nvPr/>
        </p:nvPicPr>
        <p:blipFill>
          <a:blip r:embed="rId12"/>
          <a:stretch/>
        </p:blipFill>
        <p:spPr>
          <a:xfrm>
            <a:off x="1143000" y="142920"/>
            <a:ext cx="74448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xit" presetID="1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2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5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2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5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2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5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2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5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2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2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5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5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5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5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5">
                                  <p:stCondLst>
                                    <p:cond delay="2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8d3e"/>
                </a:solidFill>
                <a:latin typeface="Verdana"/>
              </a:rPr>
              <a:t>МАЛЫЕ ПРЕДПРИЯТИЯ</a:t>
            </a:r>
            <a:br>
              <a:rPr sz="4800"/>
            </a:br>
            <a:r>
              <a:rPr b="1" lang="ru-RU" sz="4800" spc="-1" strike="noStrike">
                <a:solidFill>
                  <a:srgbClr val="ff8d3e"/>
                </a:solidFill>
                <a:latin typeface="Verdana"/>
              </a:rPr>
              <a:t>И</a:t>
            </a:r>
            <a:br>
              <a:rPr sz="4800"/>
            </a:br>
            <a:r>
              <a:rPr b="1" lang="ru-RU" sz="4800" spc="-1" strike="noStrike">
                <a:solidFill>
                  <a:srgbClr val="ff8d3e"/>
                </a:solidFill>
                <a:latin typeface="Verdana"/>
              </a:rPr>
              <a:t>ИНДИВИДУАЛЬНЫЕ ПРЕДПРИНИМАТЕЛИ</a:t>
            </a:r>
            <a:br>
              <a:rPr sz="4800"/>
            </a:br>
            <a:br>
              <a:rPr sz="3200"/>
            </a:br>
            <a:br>
              <a:rPr sz="3200"/>
            </a:b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22160" y="928440"/>
            <a:ext cx="7707600" cy="257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70c0"/>
                </a:solidFill>
                <a:latin typeface="Verdana"/>
              </a:rPr>
              <a:t>ФОРМА № ТЗВ - МП</a:t>
            </a:r>
            <a:br>
              <a:rPr sz="4100"/>
            </a:br>
            <a:r>
              <a:rPr b="1" lang="ru-RU" sz="4100" spc="-1" strike="noStrike">
                <a:solidFill>
                  <a:srgbClr val="0070c0"/>
                </a:solidFill>
                <a:latin typeface="Verdana"/>
              </a:rPr>
              <a:t>ФОРМА № ТЗВ - ИП</a:t>
            </a:r>
            <a:br>
              <a:rPr sz="4100"/>
            </a:br>
            <a:br>
              <a:rPr sz="4100"/>
            </a:b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Утверждены Приказом Росстата от 31.03.2011г. № 83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721800" y="3684600"/>
            <a:ext cx="7921800" cy="2101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СРОК СДАЧИ ОТЧЕТНОСТИ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5 АПРЕЛЯ 2012г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8760" y="3786120"/>
            <a:ext cx="7961040" cy="16430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70c0"/>
                </a:solidFill>
                <a:latin typeface="Verdana"/>
              </a:rPr>
              <a:t>ПО РЕЗУЛЬТАТАМ</a:t>
            </a:r>
            <a:br>
              <a:rPr sz="4100"/>
            </a:br>
            <a:r>
              <a:rPr b="1" lang="ru-RU" sz="4100" spc="-1" strike="noStrike">
                <a:solidFill>
                  <a:srgbClr val="0070c0"/>
                </a:solidFill>
                <a:latin typeface="Verdana"/>
              </a:rPr>
              <a:t>СПЛОШНОГО НАБЛЮДЕНИЯ </a:t>
            </a:r>
            <a:br>
              <a:rPr sz="4100"/>
            </a:br>
            <a:r>
              <a:rPr b="1" lang="ru-RU" sz="4100" spc="-1" strike="noStrike">
                <a:solidFill>
                  <a:srgbClr val="0070c0"/>
                </a:solidFill>
                <a:latin typeface="Verdana"/>
              </a:rPr>
              <a:t>ПО МАЛОМУ БИЗНЕСУ</a:t>
            </a:r>
            <a:br>
              <a:rPr sz="4100"/>
            </a:br>
            <a:r>
              <a:rPr b="1" lang="ru-RU" sz="4100" spc="-1" strike="noStrike">
                <a:solidFill>
                  <a:srgbClr val="0070c0"/>
                </a:solidFill>
                <a:latin typeface="Verdana"/>
              </a:rPr>
              <a:t>ЗА 2010 ГОД</a:t>
            </a:r>
            <a:br>
              <a:rPr sz="4800"/>
            </a:br>
            <a:br>
              <a:rPr sz="4800"/>
            </a:b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4785840"/>
            <a:ext cx="8246880" cy="1428840"/>
          </a:xfrm>
          <a:prstGeom prst="rect">
            <a:avLst/>
          </a:prstGeom>
          <a:noFill/>
          <a:ln w="0">
            <a:noFill/>
          </a:ln>
        </p:spPr>
        <p:txBody>
          <a:bodyPr lIns="118800" rIns="90000" tIns="0" bIns="4680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РЕСПОНДЕНТЫ С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НЕНУЛЕВОЙ ВЫРУЧКО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ОДЛЕЖАТ ВЫБОРОЧНОМУ ОБСЛЕДОВАНИЮ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МАЛЫЕ ПРЕДПРИЯТ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ОРКА ОПРЕДЕЛЕНА НА УРОВН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Verdana"/>
              </a:rPr>
              <a:t>10 %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rIns="90000" tIns="91440" bIns="4680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НДИВИДУАЛЬНЫЕ ПРЕДПРИНИМАТЕЛ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214520" y="1499760"/>
            <a:ext cx="4368600" cy="3436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ЫБОРКА ОПРЕДЕЛЕНА НА УРОВНЕ     </a:t>
            </a:r>
            <a:r>
              <a:rPr b="1" lang="ru-RU" sz="4800" spc="-1" strike="noStrike">
                <a:solidFill>
                  <a:srgbClr val="0070c0"/>
                </a:solidFill>
                <a:latin typeface="Verdana"/>
              </a:rPr>
              <a:t>5 %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ТОРГОВЛЯ, ТРАНСПОРТ,  ОПЕРАЦИИ С  НЕДВИЖИМЫМ ИМУЩЕСТВОМ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О ОСТАЛЬНЫМ ВИДАМ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ЕЯТЕЛЬНОСТИ </a:t>
            </a:r>
            <a:r>
              <a:rPr b="1" lang="ru-RU" sz="4100" spc="-1" strike="noStrike">
                <a:solidFill>
                  <a:srgbClr val="0070c0"/>
                </a:solidFill>
                <a:latin typeface="Verdana"/>
              </a:rPr>
              <a:t>10 %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ИНСТРУМЕНТАРИЙ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Verdana"/>
              </a:rPr>
              <a:t>РАССЫЛКА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Verdana"/>
              </a:rPr>
              <a:t>БЛАНКОВ В ТОГС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Verdana"/>
              </a:rPr>
              <a:t>С 15 % РЕЗЕРВОМ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МЕТОДЫ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СБОРА ОТЧЕТНОСТИ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МАЛЫЕ ПРЕДПРИЯТ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70c0"/>
                </a:solidFill>
                <a:latin typeface="Verdana"/>
              </a:rPr>
              <a:t>- ПОЧТОЙ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70c0"/>
                </a:solidFill>
                <a:latin typeface="Verdana"/>
              </a:rPr>
              <a:t>- НАРОЧНЫМ ПУТЕМ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70c0"/>
                </a:solidFill>
                <a:latin typeface="Verdana"/>
              </a:rPr>
              <a:t>- НА ЭЛЕКТРОННОМ НОСИТЕЛЕ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70c0"/>
                </a:solidFill>
                <a:latin typeface="Verdana"/>
              </a:rPr>
              <a:t>- ЧЕРЕЗ СИСТЕМУ </a:t>
            </a:r>
            <a:r>
              <a:rPr b="1" lang="en-US" sz="3300" spc="-1" strike="noStrike">
                <a:solidFill>
                  <a:srgbClr val="0070c0"/>
                </a:solidFill>
                <a:latin typeface="Verdana"/>
              </a:rPr>
              <a:t>WEB-</a:t>
            </a:r>
            <a:r>
              <a:rPr b="1" lang="ru-RU" sz="3300" spc="-1" strike="noStrike">
                <a:solidFill>
                  <a:srgbClr val="0070c0"/>
                </a:solidFill>
                <a:latin typeface="Verdana"/>
              </a:rPr>
              <a:t>СБОРА РОССТАТА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МЕТОДЫ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СБОРА ОТЧЕТНОСТИ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ИНДИВИДУАЛЬНЫЕ ПРЕДПРИНИМАТЕЛ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Verdana"/>
              </a:rPr>
              <a:t>ОПРОС РЕСПОНДЕНТОВ 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Verdana"/>
              </a:rPr>
              <a:t>ИНТЕРВЬЮЕРАМИ-ЭКСПЕРТАМИ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РАЗДЕЛЫ ФОРМЫ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№ ТЗВ-ИП, № ТЗВ-МП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ВЫРУЧ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ОТДЕЛЬНЫЕ РАСХОДЫ НА ПРОИЗВОДСТВО И ПРОДАЖУ ПРОДУКЦИИ (ТОВАРОВ, РАБОТ, УСЛУГ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6:23:29Z</dcterms:created>
  <dc:creator>vng161</dc:creator>
  <dc:description/>
  <dc:language>en-US</dc:language>
  <cp:lastModifiedBy>Vng164</cp:lastModifiedBy>
  <dcterms:modified xsi:type="dcterms:W3CDTF">2011-12-27T05:31:29Z</dcterms:modified>
  <cp:revision>71</cp:revision>
  <dc:subject/>
  <dc:title>Презентация по малому бизнесу Затраты-Выпус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Документ</vt:lpwstr>
  </property>
  <property fmtid="{D5CDD505-2E9C-101B-9397-08002B2CF9AE}" pid="3" name="№">
    <vt:lpwstr>3.00000000000000</vt:lpwstr>
  </property>
</Properties>
</file>