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i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1BFE61-4C02-4AFD-88B9-08518975B6C6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4699CB9-C0E6-4EFB-9356-94DA32FDD05B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 – чтобы проводить этот инструктаж, ВЫ ДОЛЖНЫ ИМЕТЬ ДЕЙСТВИТЕЛЬНЫЙ СЕРТИФИКАТ О ПРОХОЖДЕНИИ КУРСА ОХРАНЫ ТРУДА В РФ (ОБНОВЛЯЕТСЯ КАЖДЫЕ 3 ГОД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иветствуйте собравш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ните с инструктажа по безопасности – пожарная сигнализация, эвакуационные выходы, места сбора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о представьте собравшихся по круг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AF91B41-2E0B-4578-ACEC-1D39EBCF1662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, как разделены 10 правил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– 5, 3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верим, что если сосредоточимся на соблюдении этих 10 правил, которые затрагивают ключевые риски в «Сахалин Энерджи», это может спасти чью-то жизн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ас спросят, как смертей можно было бы избежать, если бы эти правила соблюдались, приведите 2 приме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цидент у ворот № 4 на СПГ в 2008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езд эскаватора на работника в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59B57E0-E77F-4CB1-8A4B-A3083780D021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ило не является новым – оно уже включено в контракты сотрудников и его нарушение ведет за собой четкие последствия (немедленно увольне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если вы выпили вечером, это еще не означает, что вы абсолютно трезвы с у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и со средним телосложением и массой тела могут выйти 2-3 стакана вина до девяти вечера и быть в порядке с утра. Как бы то ни было, вы обязаны самостоятельно проверить, что содержание паров алкоголя в выдыхаемом воздухе не превышает нормы, когда вы приходите на рабо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84C8403-287D-4EF3-81B4-555FEE725DE2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мяните, что употребление алкоголя – это главная проблема в Российской Федерации. Как бы то ни было, ожидается, что проблемы, связанные с употреблением наркотиков, станут более насущными одновременно с увеличением свобод в обществ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ило не является новым – оно уже включено в контракты сотрудников и его нарушение ведет за собой четкие последствия (немедленно увольне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ахалин Энерджи» не проводит случайных проверок на содержание наркотических веществ в организме, так как на площадках нет такой возмож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оверка на содержание наркотических веществ в организме в случае обнаружения наркотиков будет проводиться в местном наркологическом диспансере РФ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акже тестирование является частью ежегодного медицинского осмо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22C098B-8DB0-4775-85D7-FBC2403FCCD7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главное правило в сфере производства нефти и г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она наличия углеводородов начинается с забор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е трубопровода курение запрещено только на огороженных территориях – например, на узлах крановых задвижек, камерах приема скребка, насосно-компрессорной станции №2. На полосе землеотвода разрешено курить, если не ведется никаких работ, требующих запрещения использования источников воспламенения (должно быть учтено в разрешении на производство работ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20A25E4-02D2-4057-A193-7658D2D52692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проносить электронные часы и слуховые аппара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фровые камеры можно проносить только при наличии разрешения (и после того, как проведен газовый анализ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в отношении мобильных телефонов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На земле</a:t>
            </a:r>
            <a:r>
              <a:rPr b="0" lang="en-GB" sz="1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апрещено использовать на огороженных участках, например, СПГ, ОБТК, насосно-компрессорная станиция №2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злах крановых задвижек, камерах приема скребка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В море</a:t>
            </a:r>
            <a:r>
              <a:rPr b="0" lang="en-GB" sz="1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не разрешено нигде, кроме каю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469B23F-1069-465E-9BF3-FC209DE7A838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ом участке действия,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требующие разрешения на работу, должны быть включены в инструктажи по безопасност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4E81AA4-1BF4-491D-83DC-E9850FFE1F42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снения к фотографии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водителя был в наличии сертификат о прохождении курса по безопасному вождению, и он был пристегнут. Он врезался в стоящий грузовик на скорости 80 км/ч. Знает ли кто-нибудь, почему это произошл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нагнулся, чтобы ответить на свой сотовый. Благодаря ремню безопасности и качественному автомобилю, он вернулся к работе на следующий ден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жизнь была спасена, потому что он следовал одному из жизненно важных правил безопас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нарушил другое правило, которое мы обсудим позж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о №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9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е буду пользоваться телефоном или рацией во время вожд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о в отношении ремня безопасности применяется ко всем рабочим поездкам и как к передним, так и к задним ремням безопасности (так же, как в законах РФ, не считая автобусов) и ко всему транспорту компании (включая автобусы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же если машина оборудована подушками безопасности и другими дополнительными системами пассивной безопасности (СПБ), вы должны использовать ремни на передних и задних сидень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ите внимание, что на проекте мы удалим сотрудника с проекта за одно нарушение этого правила, хоть он и не будет уволе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4C02481-0E88-42E9-AC1B-9F7384FE1BE3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само за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802F021-3024-43BA-8A33-EBE46094CD84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3300"/>
                </a:solidFill>
                <a:latin typeface="Verdana"/>
              </a:rPr>
              <a:t>Дорожно-транспортное происшествие на скорости 60 км/ч в четыре раза сильнее, чем произошедшее на скорости 30 км/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дители должны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ездить в соответствии с дорожными условиями – скорость, соответствующая условиям, может сильно отличаться от предписанной правилам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системы бортового мониторинга НЕ являются основным свидетельством в случае превышений скорости. Основным доказательством должны быть свидетельские показания. Тем не менее, эти данные могут являться дополнительным свидетельств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ило не распространяется на вождение личного транспорта по дорогам общего пользования, но будет применяться в поселке «Зим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FC79A0F-5060-40DC-ADED-1648B78F3804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задачи инструктажа – говорят сами за себ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6B5CC1F-D91A-485F-BAAC-BC6E1136B74E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Verdana"/>
              </a:rPr>
              <a:t>Использование гарнитур разрешено законами РФ, но не поощряется в компании как в отношении транспорта компании, так и личного транспор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0641576-F1C6-4849-BE0E-300E98B3AAD7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управления поездками необходима, когда сотрудник или сотрудники компании выполняют работу, связанную с передвижениями на транспорте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не менее, это не включает в себя поездки по Южно-Сахалинску или регулярные поездки не далее чем на 60 км. от  Южно-Сахалинс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персонал должен каждый раз, когда возможно, осведомляться друг у друг перед поездкой, которую планируется совершить – необходима ли поездка? Можно ли выполнить работу, не совершая поездку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9143A9A-983F-4AA6-8043-9722B9442419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стоит за десятью жизненно важными правилами безопасности (в отношении законов и процедур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законов РФ и существующих в «Сахалин Энерджи» процедур – все из которых вы должны знать и выполня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ять жизненно важных правил безопасности являются наиболее важными, и поэтому за их несоблюдение будут применяться определенные дисциплинарные ме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4A712CC-DD35-4D4A-9B42-20CAF0AFAAE1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 важность «упрощения – сосредоточения – внедрения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жите 10 жизненно важных правил безопасности с 3 первыми, выделенными в прямоугольник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йдите к следующему слайду, рассказывающему о системе управления последстви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E5A6882-7DA8-4B01-8C76-3E5E16CBED6B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показана структура системы управления последствиями – любое нарушение одного из 10 жизненно важных правил безопасности влечет за собой послед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авила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дленное увольнение (1 нарушение приводит к увольн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казатель личных результатов деятельности не может быть больш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0.8)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говор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казатель личных результатов деятельности не может быть больш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0.0)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(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я приводят к увольнению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бое особенно грубое нарушение (приведшее к катастрофическим последствиям) приведет к немедленному увольн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дисциплинарных взысканий состоит в процессе вынесения предупреждения, выговора и увольнения в течение 12-месячного периода, который начинается в момент первого нарушения (предупрежде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 и подрядчики не должны рассчитывать, что они могут продолжать получать предупреждения и выговоры, но не быть уволены, так как каждый раз проходит более 12 месяцев. Ваш непосредственный руководитель заметит это и у вас будет неприятный разговор по поводу нарушения правил, даже если прошло более 12 месяцев, и показатель по результатам рабочей деятельности будет сниже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D361D2E-5C1B-4548-89D1-5F976EC9574A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, вы затратили много времени на обсуждение последств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важно сбалансировать этот инструктаж с точки зрения того, зачем вы вводим эти правила – ЧТОБЫ СПАСТИ ЖИЗНИ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шлитесь, если возможно, на ваш личный опыт: сталкивались ли вы со смертями или травмами на производстве и моральные обязательства этого избеж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т слайд также поможет вам объяснить, как компания награждает за высокие показатели в сфере ОТОСБ – мы не можем положиться только на соблюдение прави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D50A025-7178-43A6-A409-B14881712551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безопасность является задачей номер один в 2008 г. и наверняка останется первоочередной задачей в 2009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ая работа – это то, что нужно в первую очередь нам самим, нашим семьям и коллег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ахалин Энерджи» обязана с юридический и моральной стороны предоставлять работникам безопасное место работы, и понятные правила безопасности играют в этом важную р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E1615A9-B1E1-4165-8FED-463C31DDFD21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чень важно, чтобы вы сделали эту презентацию как можно более личн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 можете говорить о вашем личном опыте. Приходилось ли вам когда-нибудь сообщать чьей-то жене/мужу/семье, что их любимый человек погиб или получил серьезные травмы на рабочем месте? Постарайтесь рассказать действительно впечатляющую историю, которая затронет всех присутствующих – в конце концов, это нужно для общей безопасности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причина, почему безопасность так важна – чтобы вы и ваши коллеги всегда возвращались к своим семь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ен Крэйг в своем письме к сотрудникам говорит: «</a:t>
            </a:r>
            <a:r>
              <a:rPr b="0" lang="ru-RU" sz="1200" spc="-1" strike="noStrike">
                <a:solidFill>
                  <a:srgbClr val="333333"/>
                </a:solidFill>
                <a:latin typeface="Verdana"/>
                <a:ea typeface="Arial"/>
              </a:rPr>
              <a:t>Должен отметить, что наша главная цель при в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недрении</a:t>
            </a:r>
            <a:r>
              <a:rPr b="0" lang="ru-RU" sz="1200" spc="-1" strike="noStrike">
                <a:solidFill>
                  <a:srgbClr val="333333"/>
                </a:solidFill>
                <a:latin typeface="Verdana"/>
                <a:ea typeface="Arial"/>
              </a:rPr>
              <a:t> этих правил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–</a:t>
            </a:r>
            <a:r>
              <a:rPr b="0" lang="ru-RU" sz="1200" spc="-1" strike="noStrike">
                <a:solidFill>
                  <a:srgbClr val="333333"/>
                </a:solidFill>
                <a:latin typeface="Verdana"/>
                <a:ea typeface="Arial"/>
              </a:rPr>
              <a:t> спасти человеческую жизнь. Я искренне надеюсь, что нам удастся избежать и нарушений, и увольнений.  И я бы скорее предпочел объяснить вам, почему необходимо следовать правилам, которые спасут жизнь, чем объяснять родным и близким наших сотрудников, что люди погибли из-за нарушения простых правил безопас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A45AD63-6479-486B-A5C3-A8FCA58D4D7D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жите, как «Сахалин Энерджи» определяет высокие показатели в сфере ОТОСБ и приведите приме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можете сказать, что приведенные вами примеры действий могут быть награждены наградой за высокие показатели в области безопасности от главного исполнительного директ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также можете поговорить о нетехнической стороне работы: как каждый сотрудник играет свою роль и что он может сделать, работая в отделах финансов, кадров, связей с общественностью и т.д.  Это не связано только с рабочими объектами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4429614-C573-4A91-A8CE-8A9B2C5E917C}" type="slidenum">
              <a:rPr b="1" i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B17E9CF-FE87-466F-B22B-DEF7E951EA9F}" type="slidenum">
              <a:rPr b="1" i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96D4F95-C3E4-4532-AB4A-7BED5911A7AD}" type="slidenum">
              <a:rPr b="1" i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эти три основных правила остаются неизменными и все еще применяются в «Сахалин Энерджи» - по сути, это «всеобъемлющие принцип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т слайд анимирован, так что проводящий инструктаж может выделить каждое слово одновременно с произнесением его аудитори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ите у собравшихся, в чем заключаются «золотые» правила безопас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только собравшиеся называют их, вы можете вынести соответствующие слова на слай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кто не может вспомнить правила, вы можете назвать их сами по одно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еркните, что в этой презентации мы обращаем особое внимание на соблюдение правил – это означает упрощение – сосредоточение – внед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0E4-9710-42E4-8946-224C3F3A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999-F276-4FB6-82E7-6E5BA707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774-9207-44DC-927D-DF41BD95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92C-42FF-4AF1-B068-EB50747F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59FF1-63A2-47BC-9AFC-3897F0278F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D8D68-DDCD-4E04-B032-0EBFA6A1C5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183D0-A0E7-4103-B808-B523576A82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5D06B-5A25-4769-8EF5-8BA999E87A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FE7B6-1E14-4112-935A-60932740EC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25E0C-39AE-4194-82E9-9879ACE318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1DEDD-FF02-423E-82C5-7AAFB05EE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363-AFD1-4E59-9384-19E22D56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E49A5-7A43-4637-A20C-754786F88E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F2C1C-A55E-477C-9F31-120195498E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99EAE-162E-4E04-B4B0-BD763CF9DE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9DBAA-A80B-4CCD-B445-A2C1AD7180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9ABA7-3DB3-41C9-A134-3750924AF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879-CB92-4CC6-B840-3E604B0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69A-8D98-4CA0-8548-39ECCDC4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EB3-C9FA-4640-A5FA-CA9877CE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1E9-AC32-4C09-A1D7-EF38E89F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5C0-70FE-4275-A520-D824BE5C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198-5D9D-47FD-8CB5-0869087F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46B-F9BF-418C-8491-36F597D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3F58-F804-4001-9F6D-6F86A21AF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C:\Documents and Settings\Olga.Semenchik\clip arts\sakhalin logo.gif"/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:\Documents and Settings\Olga.Semenchik\clip arts\sakhalin logo.gif"/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438-485C-47E5-847D-8F6792A6D9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hkolazhizni.ru/img/content/i3/3983.jpg&amp;imgrefurl=http://www.shkolazhizni.ru/archive/0/n-1866/&amp;h=180&amp;w=240&amp;sz=11&amp;hl=ru&amp;start=16&amp;sig2=Tr3b2yK1V1B7iXk0PmVYpg&amp;um=1&amp;usg=__ckHEOnrdbh5mkIUX_eUiV8C9bgQ=&amp;tbnid=lKr0RKmNcaW5xM:&amp;tbnh=83&amp;tbnw=110&amp;ei=8lH9SJ3oG4vo7QXVk_2HAg&amp;prev=/images%3Fq%3D%25D0%25B0%25D0%25BB%25D0%25BA%25D0%25BE%25D0%25B3%25D0%25BE%25D0%25BB%25D0%25B8%25D0%25BA%26um%3D1%26hl%3Dru%26sa%3D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3226-D878-411C-8B36-B8841A9E3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73152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ощени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орите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полнени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873080" y="2895480"/>
            <a:ext cx="71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ЖИЗНЕННО ВАЖНЫЕ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АВИЛА БЕЗОПАСНОСТИ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191916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"/>
          <p:cNvPicPr/>
          <p:nvPr/>
        </p:nvPicPr>
        <p:blipFill>
          <a:blip r:embed="rId2"/>
          <a:stretch/>
        </p:blipFill>
        <p:spPr>
          <a:xfrm>
            <a:off x="0" y="1278000"/>
            <a:ext cx="1908000" cy="154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"/>
          <p:cNvPicPr/>
          <p:nvPr/>
        </p:nvPicPr>
        <p:blipFill>
          <a:blip r:embed="rId3"/>
          <a:stretch/>
        </p:blipFill>
        <p:spPr>
          <a:xfrm>
            <a:off x="0" y="2678040"/>
            <a:ext cx="1889280" cy="1360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4"/>
          <a:stretch/>
        </p:blipFill>
        <p:spPr>
          <a:xfrm>
            <a:off x="0" y="4038480"/>
            <a:ext cx="1884240" cy="1432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"/>
          <p:cNvPicPr/>
          <p:nvPr/>
        </p:nvPicPr>
        <p:blipFill>
          <a:blip r:embed="rId5"/>
          <a:stretch/>
        </p:blipFill>
        <p:spPr>
          <a:xfrm>
            <a:off x="0" y="5467320"/>
            <a:ext cx="1879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8EB3-16D3-4AD7-AEE0-ABB6131FE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7162920" cy="9144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такое Жизненно важные правила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2895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ледующие правила могут спасти вашу жиз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DFE1-346E-4794-BFC7-C4191D4CB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ЧЕМУ ИМЕННО ЭТИ ПРАВИЛА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546200"/>
            <a:ext cx="840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сять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ЖИЗНЕННО ВАЖНЫХ ПРАВИЛ БЕЗОПАСНОСТ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носятся к ключевым рискам компании. Среди них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ять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авил по безопасности дорожного движ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и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авила, связанных с работой в зонах наличия углеводород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ва правила, относящихся к употреблению алкоголя и наркотик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В 2007-2008 гг. большинство смертей можно было бы избежать, если бы эти правила соблюдалис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8D52-A804-4BF0-9A8C-88AB2EB4F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ПРИДУ НА РАБОТУ В СОСТОЯНИИ АЛКОГОЛЬНОГО ОПЬЯНЕНИЯ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4600" y="2247840"/>
            <a:ext cx="7912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Это нарушение закон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лкоголь негативно влияет на мои способ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лкоголь может стать причиной несчастного случа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лкоголь может стать причиной моей смер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28"/>
          <p:cNvSpPr/>
          <p:nvPr/>
        </p:nvSpPr>
        <p:spPr>
          <a:xfrm>
            <a:off x="304920" y="1371600"/>
            <a:ext cx="8092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ебования компании описаны в стандарте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 контролю и предупреждению употребления наркотиков и алкоголя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1029" descr="http://tbn0.google.com/images?q=tbn:lKr0RKmNcaW5xM:http://www.shkolazhizni.ru/img/content/i3/398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81320" y="4579920"/>
            <a:ext cx="277992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EA17-307C-4677-8061-755E156BA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БУДУ ХРАНИТЬ ИЛИ ИСПОЛЬЗОВАТЬ НАРКОТИКИ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стандарте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 контролю и предупреждению употребления наркотиков и алкого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69960" y="2763720"/>
            <a:ext cx="717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533520" y="2438280"/>
            <a:ext cx="4902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уголовное преступление.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ркотики негативно влияют на мои способности.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ркотики могут стать причиной несчастного случая.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ркотики вызывают привыкание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ркотики могут стать причиной моей смерти.</a:t>
            </a: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14" descr="cocaine_use"/>
          <p:cNvPicPr/>
          <p:nvPr/>
        </p:nvPicPr>
        <p:blipFill>
          <a:blip r:embed="rId1"/>
          <a:stretch/>
        </p:blipFill>
        <p:spPr>
          <a:xfrm>
            <a:off x="5613480" y="2513160"/>
            <a:ext cx="293364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3ED3-CCBA-427D-BA59-07BC5F2C6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БУДУ КУРИТЬ В ЗОНЕ НАЛИЧИЯ УГЛЕВОДОРОДОВ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стандарте в отношении курения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8088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нарушение закона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зоне наличия углеводородов могут находиться легко воспламеняющиеся пары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рение или использование источников воспламенения может стать причиной воспламенения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рыв паров углеводородов может стать причиной моей смерти или смерти моих коллег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2233440" y="4537080"/>
            <a:ext cx="41054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A361-6EF7-4EEA-AC3A-9BAE0B493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ПРАВИЛО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№ 4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Я НЕ БУДУ НОСИТЬ ИЛИ ИСПОЛЬЗОВАТЬ ЭЛЕКТРОННЫЕ  ПРИБОРЫ И ДРУГИЕ ИСТОЧНИКИ ВОСПЛАМЕНЕНИЯ В ЗОНЕ НАЛИЧИЯ УГЛЕВОДОРОДОВ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842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политике и процедуре контроля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0880" y="2155680"/>
            <a:ext cx="4876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нарушение закона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оне наличия углеводородов могут находиться легко воспламеняющиеся пары.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электронных устройств, например, камер и мобильных телефонов может стать причиной воспламенения углеводородов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рыв паров углеводородов может стать причиной моей смерти или смерти моих коллег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518080" y="2467080"/>
            <a:ext cx="29545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AD08-D30A-40C6-BF7B-04CDC5FB0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ПРИСТУПЛЮ К РАБОТЕ БЕЗ РАЗРЕШЕНИЯ НА ПРОВЕДЕНИЕ РАБОТ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стандарте по разрешениям на производство рабо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124080" y="2133720"/>
            <a:ext cx="550080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нарушение закона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е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зрешения на проведение работ, я могу подвергаться опасностям, которых я не вижу или о которых не знаю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сок действий, требующих разрешения на работу, включен в инструктажи по безопасности на каждой площадке. 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могу подвергнуть опасности своих коллег и погибнуть, работая без должной подготовки и защиты. 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99960" y="4292640"/>
            <a:ext cx="253044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474840" y="2230560"/>
            <a:ext cx="2349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DB51-95D1-4455-831B-B186FBC51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6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БУДУ ПЕРЕЖВИГАТЬСЯ В ТС, НЕ ПРИСТЕГНУВ РЕМЕНЬ БЕЗОПАСНОСТИ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7920" y="133308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е пристегивать ремень безопасности указано в стандарте по управлению автомобильным транспортом в рамках ОТОСБ и в стандарте по вождению и водительской квал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80880" y="2670120"/>
            <a:ext cx="5689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арушение закона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з ремня безопасности я с большей вероятностью могу погибнуть в ДТП.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же если я соблюдаю осторожность, причиной ДТП может стать другое транспортное средство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в машине есть непристегнутый человек, при ДТП он может стать причиной моей смерти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12" descr=""/>
          <p:cNvPicPr/>
          <p:nvPr/>
        </p:nvPicPr>
        <p:blipFill>
          <a:blip r:embed="rId1"/>
          <a:stretch/>
        </p:blipFill>
        <p:spPr>
          <a:xfrm>
            <a:off x="6181560" y="2793960"/>
            <a:ext cx="27212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C010-8CF1-4AB8-A8B4-9880D2218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7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СЯДУ ЗА РУЛЬ ТС КОМПАНИИ, НЕ ПРОЙДЯ КУРС БЕЗОПАСНОГО ВОЖДЕНИЯ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е о наличии сертификата указано в стандарте по управлению автомобильным транспортом в рамках и в стандарте по вождению и водительской квалифик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28600" y="2514600"/>
            <a:ext cx="8839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 должен управлять автомобилем, соблюдая правила безопасности, во время деловых поездок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анным статистики, управляя автомобилем без прохождения курса безопасного вождения, я могу с большей вероятностью попасть в ДТП.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 или мои коллеги могут погибнуть в ДТП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06720" y="4935600"/>
            <a:ext cx="30844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2AD1-767E-44FA-86CF-C5AEF6F38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ПРЕВЫШУ СКОРОСТЬ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308240"/>
            <a:ext cx="899172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е соблюдать скоростной режим указано в стандарте по управлению автомобильным транспортом в рамках ОТОСБ и в стандарте по вождению и водительской квал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70"/>
          <p:cNvSpPr/>
          <p:nvPr/>
        </p:nvSpPr>
        <p:spPr>
          <a:xfrm>
            <a:off x="272880" y="2378160"/>
            <a:ext cx="59040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арушение закона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вышение скорости – главная причина большинства ДТП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вышение скорости увеличивает последствия ДТП и может стать причиной моей смерти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егда ездите в соответствии с дорожными условиями – скорость, соответствующая условиям, может сильно отличаться от предписанной правилами. 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езд на скорости свыш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25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 может стать смертельным для пешехода.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172" descr=""/>
          <p:cNvPicPr/>
          <p:nvPr/>
        </p:nvPicPr>
        <p:blipFill>
          <a:blip r:embed="rId1"/>
          <a:stretch/>
        </p:blipFill>
        <p:spPr>
          <a:xfrm>
            <a:off x="5983200" y="2506680"/>
            <a:ext cx="28288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564-0BE5-47DC-BC27-1A40D3165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И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3800" y="1486080"/>
            <a:ext cx="8458200" cy="4572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помнить о 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десяти</a:t>
            </a:r>
            <a:r>
              <a:rPr b="1" lang="en-GB" sz="2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Жизненно важных правилах безопасност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торые созданы для того, чтобы сделать нашу работу более безопасн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дробно объяснить</a:t>
            </a:r>
            <a:r>
              <a:rPr b="1" lang="en-GB" sz="2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Жизненно важные правила безопас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ъяснить последствия за несоблюдение </a:t>
            </a: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Жизненно важных правил безопас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ветить на ваши вопрос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2B3-8405-493C-B3EA-D0BE71C29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9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БУДУ ПОЛЬЗОВАТЬСЯ ТЕЛЕФОНОМ ИЛИ РАЦИЕЙ ВО ВРЕМЯ ВОЖДЕНИЯ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358640"/>
            <a:ext cx="849636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бования в отношении средств связи указаны в стандарте по управлению автомобильным транспортом в рамках ОТОСБ и в стандарте по вождению и водительской квал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19040" y="2484360"/>
            <a:ext cx="5499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арушение закона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обильного телефона во время вождения повышает вероятность попасть в ДТП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ждение требует полной концентрации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теря внимания на дороге может стать причиной моей смерти или смерти других участников движения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5756400" y="2852640"/>
            <a:ext cx="26352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F926-B717-4522-B158-F3789F0F3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АВИЛО №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0: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НЕ СЯДУ ЗА РУЛЬ БЕЗ РАЗРЕШЕНИЯ НА ПОЕЗДКУ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Требования компании описаны в Процедуре управления поезд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114800" y="2209680"/>
            <a:ext cx="4876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збегать ненужных поездок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я попаду в ДТП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ания должна иметь возможность найти меня и оказать помощ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оценивать и управлять возможными рисками каждой поездки, иначе это может стоить вам жизни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638280" y="2871720"/>
            <a:ext cx="31082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CC25-5AB0-402D-A2AE-9FEAA1A53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6794640" y="2209680"/>
            <a:ext cx="0" cy="4701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2273040" y="2133720"/>
            <a:ext cx="12600" cy="520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ОИТ ЗА ЭТИМИ ПРАВИЛАМИ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414360" y="1447920"/>
            <a:ext cx="3395520" cy="703800"/>
          </a:xfrm>
          <a:prstGeom prst="rect">
            <a:avLst/>
          </a:prstGeom>
          <a:solidFill>
            <a:srgbClr val="66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Законы Российской Федерации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334120" y="1447920"/>
            <a:ext cx="2971800" cy="580680"/>
          </a:xfrm>
          <a:prstGeom prst="rect">
            <a:avLst/>
          </a:prstGeom>
          <a:solidFill>
            <a:srgbClr val="66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Стандарты и процедуры «Сахалин Энерджи»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80880" y="2679840"/>
            <a:ext cx="8382240" cy="444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3300"/>
                </a:solidFill>
                <a:latin typeface="Verdana"/>
                <a:ea typeface="Times New Roman"/>
              </a:rPr>
              <a:t>10 ЖИЗНЕННО ВАЖНЫХ ПРАВИЛ БЕЗОПАСНОСТИ</a:t>
            </a:r>
            <a:endParaRPr b="1" i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3809880" y="1828800"/>
            <a:ext cx="15242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0480" y="4036680"/>
            <a:ext cx="8407080" cy="27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онодательство и наши стандарты содержат множество правил, которые мы должны знать и выполня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За несоблюдение жизненно важных правил безопасности будут применяться определенные 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9DE1-22AE-4FF5-9E41-A1D2D2469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ПРОЩЕНИЕ – СОСРЕДОТОЧЕНИЕ - ВНЕДРЕНИ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0 ЖИЗНЕННО ВАЖНЫХ ПРАВИЛ БЕЗОПАСНОСТИ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2503"/>
                </a:solidFill>
                <a:latin typeface="Verdana"/>
              </a:rPr>
              <a:t>Я не буд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ходить на работу в состоянии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алкогольного опьян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ранить или использовать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наркот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1250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2503"/>
                </a:solidFill>
                <a:latin typeface="Verdana"/>
              </a:rPr>
              <a:t>Кури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зоне наличия углеводоро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сить или использовать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электронные и другие источники воспламен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зоне наличия углеводородов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ть без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азрешения на проведение раб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здить в транспортных средствах, не пристегнув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емень безопас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диться за руль транспортного средства компании, не пройдя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курс безопасного во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вышать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скор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ьзоваться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телефоном или раци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о время во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диться за руль без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азрешения на поездку.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579600" y="1789200"/>
            <a:ext cx="7607160" cy="1166760"/>
          </a:xfrm>
          <a:prstGeom prst="rect">
            <a:avLst/>
          </a:prstGeom>
          <a:noFill/>
          <a:ln w="28440">
            <a:solidFill>
              <a:srgbClr val="f12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5606-B110-496F-8262-D50B2A5F1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2"/>
          <p:cNvSpPr/>
          <p:nvPr/>
        </p:nvSpPr>
        <p:spPr>
          <a:xfrm flipH="1">
            <a:off x="4444920" y="4051440"/>
            <a:ext cx="12960" cy="1638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4444920" y="2362320"/>
            <a:ext cx="12960" cy="7617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ВЛЕНИЕ ПОСЛЕДСТВИЯМИ В СЛУЧАЕ НАРУШЕНИ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69800" y="3086280"/>
            <a:ext cx="1965600" cy="398880"/>
          </a:xfrm>
          <a:prstGeom prst="rect">
            <a:avLst/>
          </a:prstGeom>
          <a:solidFill>
            <a:srgbClr val="ff00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рушение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6356520" y="3936960"/>
            <a:ext cx="211428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Предупреждение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0" y="1892160"/>
            <a:ext cx="2349360" cy="459720"/>
          </a:xfrm>
          <a:prstGeom prst="rect">
            <a:avLst/>
          </a:prstGeom>
          <a:solidFill>
            <a:srgbClr val="66f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3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3409920" y="3111480"/>
            <a:ext cx="1949400" cy="1128960"/>
          </a:xfrm>
          <a:prstGeom prst="rect">
            <a:avLst/>
          </a:prstGeom>
          <a:solidFill>
            <a:srgbClr val="ff00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рушение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грубое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/</a:t>
            </a:r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иведшее к катастрофическим последствиям</a:t>
            </a:r>
            <a:endParaRPr b="1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6348240" y="3111480"/>
            <a:ext cx="2008440" cy="398880"/>
          </a:xfrm>
          <a:prstGeom prst="rect">
            <a:avLst/>
          </a:prstGeom>
          <a:solidFill>
            <a:srgbClr val="ff00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рушение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93840" y="5638680"/>
            <a:ext cx="8229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УВОЛЬНЕНИЕ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362320" y="1892160"/>
            <a:ext cx="6781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7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0" y="1409760"/>
            <a:ext cx="91440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10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ЖИЗНЕННО ВАЖНЫХ ПРАВИЛ БЕЗОПАСНОСТИ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1308240" y="2349360"/>
            <a:ext cx="12600" cy="7495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7429680" y="2362320"/>
            <a:ext cx="12600" cy="7617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7467480" y="3517920"/>
            <a:ext cx="0" cy="39384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7493040" y="5232240"/>
            <a:ext cx="0" cy="432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18"/>
          <p:cNvSpPr/>
          <p:nvPr/>
        </p:nvSpPr>
        <p:spPr>
          <a:xfrm flipH="1">
            <a:off x="1295280" y="3492360"/>
            <a:ext cx="12960" cy="21844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6616800" y="4813200"/>
            <a:ext cx="1854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Выговор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480440" y="4343400"/>
            <a:ext cx="0" cy="4446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5210280" y="4241880"/>
            <a:ext cx="1731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аксим. показатель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IPF 0.8)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5238720" y="4791240"/>
            <a:ext cx="195120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аксим. показатель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IPF 0.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AutoShape 24"/>
          <p:cNvSpPr/>
          <p:nvPr/>
        </p:nvSpPr>
        <p:spPr>
          <a:xfrm>
            <a:off x="8825040" y="2612880"/>
            <a:ext cx="318960" cy="3453120"/>
          </a:xfrm>
          <a:prstGeom prst="upDownArrow">
            <a:avLst>
              <a:gd name="adj1" fmla="val 50000"/>
              <a:gd name="adj2" fmla="val 21552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5"/>
          <p:cNvSpPr/>
          <p:nvPr/>
        </p:nvSpPr>
        <p:spPr>
          <a:xfrm rot="16200000">
            <a:off x="7292520" y="4072320"/>
            <a:ext cx="2885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ff3300"/>
                </a:solidFill>
                <a:latin typeface="Verdana"/>
              </a:rPr>
              <a:t>В течение 12 месяцев</a:t>
            </a: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4AC0-1BC2-4CC1-AD0D-7B34FA345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2"/>
          <p:cNvSpPr/>
          <p:nvPr/>
        </p:nvSpPr>
        <p:spPr>
          <a:xfrm>
            <a:off x="1803240" y="2679840"/>
            <a:ext cx="0" cy="6094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СОКИЕ ПОКАЗАТЕЛИ В СФЕРЕ ОТОСБ ДОЛЖНЫ ВОЗНАГРАЖДАТЬС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79360" y="1714680"/>
            <a:ext cx="3048120" cy="1008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Достижения в области безопасности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22200" y="3317760"/>
            <a:ext cx="3048120" cy="1326240"/>
          </a:xfrm>
          <a:prstGeom prst="rect">
            <a:avLst/>
          </a:prstGeom>
          <a:solidFill>
            <a:srgbClr val="66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Благодарность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града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изнание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416400" y="1768320"/>
            <a:ext cx="555300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ас поблагодарит ваш руководитель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 можете получить награду от главного исполнительного директора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SzPct val="9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аши коллеги оценят это. 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0" y="5527800"/>
            <a:ext cx="696420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омнит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1A7-ECC3-4EDD-B973-93D7898D6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62080" y="1800360"/>
          <a:ext cx="8664480" cy="3636720"/>
        </p:xfrm>
        <a:graphic>
          <a:graphicData uri="http://schemas.openxmlformats.org/drawingml/2006/table">
            <a:tbl>
              <a:tblPr/>
              <a:tblGrid>
                <a:gridCol w="1495440"/>
                <a:gridCol w="7169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ртельных случаев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ельных случая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дрение Жизненно важных правил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ельных случаев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7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1" i="1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й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ТП, повлекших травмы</a:t>
                      </a:r>
                      <a:endParaRPr b="1" i="1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CB8D-6471-45BD-92BB-42519FC3E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просы и ответ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07FA-FC1C-4025-ADB0-26881DF34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92160" y="151920"/>
            <a:ext cx="725184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БЕЗОПАСНОСТЬ – ПРИОРИТЕТ № 1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03160" y="2031840"/>
            <a:ext cx="59310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ЕНИЕ ГРАФ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ОНОМИЧЕСКАЯ ЭФФЕКТИ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36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B4BC-C1FF-488A-A3BC-169F755B7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ПОЧЕМУ БЕЗОПАСНОСТЬ ТАК ВАЖНА?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80720"/>
            <a:ext cx="8418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бы все мы могли возвращатьс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оровыми к своим семьям после каждого рабочего дня или см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4686480"/>
            <a:ext cx="69040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42F5-A78B-4B33-9454-EF23763DC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716292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ФФЕКТИВНАЯ ДЕЯТЕЛЬНОСТЬ В СФЕРЕ ОТОСБ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35240" y="1447560"/>
            <a:ext cx="6748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, наприме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ллегам работать более безопасно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ледование правилам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редоствление отчетности по всем происшествиям, включая происшествия без последств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емонстрация личного приме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6812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78000" y="4046400"/>
            <a:ext cx="87296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дположительно, с Джонни произошло следующее: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  <a:ea typeface="Arial"/>
              </a:rPr>
              <a:t>- Пошел проверить изоляцию трубы за ограждением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  <a:ea typeface="Arial"/>
              </a:rPr>
              <a:t>- Перелез через ограждение</a:t>
            </a:r>
            <a:r>
              <a:rPr b="0" i="1" lang="en-AU" sz="2000" spc="-1" strike="noStrike">
                <a:solidFill>
                  <a:srgbClr val="ff3300"/>
                </a:solidFill>
                <a:latin typeface="Verdana"/>
                <a:ea typeface="Arial"/>
              </a:rPr>
              <a:t>,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  <a:ea typeface="Arial"/>
              </a:rPr>
              <a:t>вероятно, глядя вверх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  <a:ea typeface="Arial"/>
              </a:rPr>
              <a:t>- Соскользнул и упал в море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6252" t="8330" r="7815" b="6257"/>
          <a:stretch/>
        </p:blipFill>
        <p:spPr>
          <a:xfrm>
            <a:off x="896760" y="1380960"/>
            <a:ext cx="3108600" cy="2316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rcRect l="6250" t="8333" r="7811" b="6251"/>
          <a:stretch/>
        </p:blipFill>
        <p:spPr>
          <a:xfrm>
            <a:off x="4978440" y="1368360"/>
            <a:ext cx="3125880" cy="23288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28600" y="152280"/>
            <a:ext cx="8763120" cy="804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Несчастный случай с Джонни Куэто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 причале отгрузки СПГ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80880" y="55260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жонни, вероятно, полагал, что для него и компании будет лучше, если он выполнит работу быстро,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вместо того, чтобы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выполнить ее правильно.</a:t>
            </a:r>
            <a:endParaRPr b="1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6812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28600" y="76320"/>
            <a:ext cx="8763120" cy="99036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Смертельный случай, произошедший с участием представителей третьей стороны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</a:t>
            </a:r>
            <a:br>
              <a:rPr sz="2300"/>
            </a:br>
            <a:r>
              <a:rPr b="1" i="1" lang="ru-RU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ДТП у ворот № 4 завода по производству СПГ</a:t>
            </a:r>
            <a:endParaRPr b="1" i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5823000"/>
            <a:ext cx="8686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Водитель, превысивший скорость, предположил, что никто другой не совершит ошибку.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459560" y="4013280"/>
            <a:ext cx="1554120" cy="276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Нарушение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082000" y="4303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754040" y="4622760"/>
            <a:ext cx="941040" cy="276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100360" y="4956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530480" y="5280120"/>
            <a:ext cx="1436400" cy="276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Катастрофа</a:t>
            </a:r>
            <a:endParaRPr b="1" i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-73080" y="3692520"/>
            <a:ext cx="809316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66760">
              <a:lnSpc>
                <a:spcPct val="120000"/>
              </a:lnSpc>
              <a:spcBef>
                <a:spcPts val="400"/>
              </a:spcBef>
              <a:buClr>
                <a:srgbClr val="ff33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00"/>
                </a:solidFill>
                <a:latin typeface="Verdana"/>
                <a:ea typeface="Arial"/>
              </a:rPr>
              <a:t>Водитель третьей стороны превысил скорость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66760">
              <a:lnSpc>
                <a:spcPct val="110000"/>
              </a:lnSpc>
              <a:spcBef>
                <a:spcPts val="400"/>
              </a:spcBef>
              <a:buClr>
                <a:srgbClr val="ff33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00"/>
                </a:solidFill>
                <a:latin typeface="Verdana"/>
                <a:ea typeface="Arial"/>
              </a:rPr>
              <a:t>Водитель грузовика не заметил ехавшей с превышением скорости машины и начал совершать поворот.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66760">
              <a:lnSpc>
                <a:spcPct val="110000"/>
              </a:lnSpc>
              <a:spcBef>
                <a:spcPts val="1001"/>
              </a:spcBef>
              <a:buClr>
                <a:srgbClr val="ff33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3300"/>
                </a:solidFill>
                <a:latin typeface="Verdana"/>
                <a:ea typeface="Arial"/>
              </a:rPr>
              <a:t>Машина третьей стороны врезалась в грузовик</a:t>
            </a:r>
            <a:r>
              <a:rPr b="0" i="1" lang="en-AU" sz="1600" spc="-1" strike="noStrike">
                <a:solidFill>
                  <a:srgbClr val="ff3300"/>
                </a:solidFill>
                <a:latin typeface="Verdana"/>
                <a:ea typeface="Arial"/>
              </a:rPr>
              <a:t>, </a:t>
            </a:r>
            <a:r>
              <a:rPr b="0" i="1" lang="ru-RU" sz="1600" spc="-1" strike="noStrike">
                <a:solidFill>
                  <a:srgbClr val="ff3300"/>
                </a:solidFill>
                <a:latin typeface="Verdana"/>
                <a:ea typeface="Arial"/>
              </a:rPr>
              <a:t>что повлекло за собой лтальный исход для находящегося в ней пассажира.</a:t>
            </a:r>
            <a:endParaRPr b="1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1130400" y="1312920"/>
            <a:ext cx="2733480" cy="1819080"/>
          </a:xfrm>
          <a:prstGeom prst="rect">
            <a:avLst/>
          </a:prstGeom>
          <a:ln w="9360">
            <a:solidFill>
              <a:srgbClr val="0072bd"/>
            </a:solidFill>
            <a:miter/>
          </a:ln>
        </p:spPr>
      </p:pic>
      <p:grpSp>
        <p:nvGrpSpPr>
          <p:cNvPr id="128" name="Group 12"/>
          <p:cNvGrpSpPr/>
          <p:nvPr/>
        </p:nvGrpSpPr>
        <p:grpSpPr>
          <a:xfrm>
            <a:off x="4284720" y="1330200"/>
            <a:ext cx="3506760" cy="2471760"/>
            <a:chOff x="4284720" y="1330200"/>
            <a:chExt cx="3506760" cy="2471760"/>
          </a:xfrm>
        </p:grpSpPr>
        <p:pic>
          <p:nvPicPr>
            <p:cNvPr id="129" name="Picture 13" descr="L:\Overview a.jpg"/>
            <p:cNvPicPr/>
            <p:nvPr/>
          </p:nvPicPr>
          <p:blipFill>
            <a:blip r:embed="rId2"/>
            <a:stretch/>
          </p:blipFill>
          <p:spPr>
            <a:xfrm>
              <a:off x="4284720" y="1330200"/>
              <a:ext cx="3506760" cy="2471760"/>
            </a:xfrm>
            <a:prstGeom prst="rect">
              <a:avLst/>
            </a:prstGeom>
            <a:ln w="9360">
              <a:solidFill>
                <a:srgbClr val="0072bd"/>
              </a:solidFill>
              <a:miter/>
            </a:ln>
          </p:spPr>
        </p:pic>
        <p:sp>
          <p:nvSpPr>
            <p:cNvPr id="130" name="Oval 14"/>
            <p:cNvSpPr/>
            <p:nvPr/>
          </p:nvSpPr>
          <p:spPr>
            <a:xfrm>
              <a:off x="5783760" y="2450160"/>
              <a:ext cx="652680" cy="257400"/>
            </a:xfrm>
            <a:prstGeom prst="ellipse">
              <a:avLst/>
            </a:prstGeom>
            <a:noFill/>
            <a:ln w="38160">
              <a:solidFill>
                <a:srgbClr val="007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5843880" y="1842480"/>
              <a:ext cx="160920" cy="565200"/>
            </a:xfrm>
            <a:prstGeom prst="line">
              <a:avLst/>
            </a:prstGeom>
            <a:ln w="38160">
              <a:solidFill>
                <a:srgbClr val="0072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4346280" y="1556640"/>
              <a:ext cx="1522800" cy="313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7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buClr>
                  <a:srgbClr val="0072bd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2bd"/>
                  </a:solidFill>
                  <a:latin typeface="Times New Roman"/>
                </a:rPr>
                <a:t>Ворота № 4</a:t>
              </a: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6551640" y="2104920"/>
              <a:ext cx="1092960" cy="53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7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buClr>
                  <a:srgbClr val="0072bd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2bd"/>
                  </a:solidFill>
                  <a:latin typeface="Times New Roman"/>
                </a:rPr>
                <a:t>3-я сторона</a:t>
              </a: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>
              <a:off x="6166080" y="3045960"/>
              <a:ext cx="1274400" cy="53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7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buClr>
                  <a:srgbClr val="0072bd"/>
                </a:buClr>
                <a:buSzPct val="9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2bd"/>
                  </a:solidFill>
                  <a:latin typeface="Times New Roman"/>
                </a:rPr>
                <a:t>Грузовик «</a:t>
              </a:r>
              <a:r>
                <a:rPr b="1" i="1" lang="en-US" sz="1800" spc="-1" strike="noStrike">
                  <a:solidFill>
                    <a:srgbClr val="0072bd"/>
                  </a:solidFill>
                  <a:latin typeface="Times New Roman"/>
                </a:rPr>
                <a:t>СиТСД</a:t>
              </a:r>
              <a:r>
                <a:rPr b="1" i="1" lang="ru-RU" sz="1800" spc="-1" strike="noStrike">
                  <a:solidFill>
                    <a:srgbClr val="0072bd"/>
                  </a:solidFill>
                  <a:latin typeface="Times New Roman"/>
                </a:rPr>
                <a:t>»</a:t>
              </a: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Arc 19"/>
            <p:cNvSpPr/>
            <p:nvPr/>
          </p:nvSpPr>
          <p:spPr>
            <a:xfrm flipH="1" flipV="1" rot="1312800">
              <a:off x="6107760" y="2670840"/>
              <a:ext cx="261720" cy="262440"/>
            </a:xfrm>
            <a:custGeom>
              <a:avLst/>
              <a:gdLst>
                <a:gd name="textAreaLeft" fmla="*/ 0 w 261720"/>
                <a:gd name="textAreaRight" fmla="*/ 261720 w 261720"/>
                <a:gd name="textAreaTop" fmla="*/ -360 h 262440"/>
                <a:gd name="textAreaBottom" fmla="*/ 262440 h 262440"/>
              </a:gdLst>
              <a:ahLst/>
              <a:rect l="textAreaLeft" t="textAreaTop" r="textAreaRight" b="textAreaBottom"/>
              <a:pathLst>
                <a:path fill="none" w="21600" h="20488">
                  <a:moveTo>
                    <a:pt x="6840" y="-1"/>
                  </a:moveTo>
                  <a:cubicBezTo>
                    <a:pt x="15655" y="2942"/>
                    <a:pt x="21600" y="11194"/>
                    <a:pt x="21600" y="20488"/>
                  </a:cubicBezTo>
                </a:path>
                <a:path stroke="0" w="21600" h="20488">
                  <a:moveTo>
                    <a:pt x="6840" y="-1"/>
                  </a:moveTo>
                  <a:cubicBezTo>
                    <a:pt x="15655" y="2942"/>
                    <a:pt x="21600" y="11194"/>
                    <a:pt x="21600" y="20488"/>
                  </a:cubicBezTo>
                  <a:lnTo>
                    <a:pt x="0" y="20488"/>
                  </a:lnTo>
                  <a:lnTo>
                    <a:pt x="6840" y="-1"/>
                  </a:lnTo>
                  <a:close/>
                </a:path>
              </a:pathLst>
            </a:custGeom>
            <a:noFill/>
            <a:ln w="19080">
              <a:solidFill>
                <a:srgbClr val="0072b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Arc 20"/>
            <p:cNvSpPr/>
            <p:nvPr/>
          </p:nvSpPr>
          <p:spPr>
            <a:xfrm flipV="1" rot="17767200">
              <a:off x="6143760" y="2580120"/>
              <a:ext cx="44280" cy="56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360 h 56160"/>
                <a:gd name="textAreaBottom" fmla="*/ 56880 h 56160"/>
              </a:gdLst>
              <a:ahLst/>
              <a:rect l="textAreaLeft" t="textAreaTop" r="textAreaRight" b="textAreaBottom"/>
              <a:pathLst>
                <a:path fill="none" w="21443" h="21600">
                  <a:moveTo>
                    <a:pt x="-1" y="0"/>
                  </a:moveTo>
                  <a:cubicBezTo>
                    <a:pt x="10924" y="0"/>
                    <a:pt x="20128" y="8156"/>
                    <a:pt x="21443" y="19000"/>
                  </a:cubicBezTo>
                </a:path>
                <a:path stroke="0" w="21443" h="21600">
                  <a:moveTo>
                    <a:pt x="-1" y="0"/>
                  </a:moveTo>
                  <a:cubicBezTo>
                    <a:pt x="10924" y="0"/>
                    <a:pt x="20128" y="8156"/>
                    <a:pt x="21443" y="190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72b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Arc 21"/>
            <p:cNvSpPr/>
            <p:nvPr/>
          </p:nvSpPr>
          <p:spPr>
            <a:xfrm rot="9287400">
              <a:off x="6252120" y="2910240"/>
              <a:ext cx="90720" cy="108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72bd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6374520" y="3000600"/>
              <a:ext cx="397440" cy="0"/>
            </a:xfrm>
            <a:prstGeom prst="line">
              <a:avLst/>
            </a:prstGeom>
            <a:ln w="19080">
              <a:solidFill>
                <a:srgbClr val="0072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6167520" y="2370960"/>
              <a:ext cx="929160" cy="201600"/>
            </a:xfrm>
            <a:prstGeom prst="line">
              <a:avLst/>
            </a:prstGeom>
            <a:ln w="19080">
              <a:solidFill>
                <a:srgbClr val="0072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16000" y="1028880"/>
          <a:ext cx="2692440" cy="4657680"/>
        </p:xfrm>
        <a:graphic>
          <a:graphicData uri="http://schemas.openxmlformats.org/drawingml/2006/table">
            <a:tbl>
              <a:tblPr/>
              <a:tblGrid>
                <a:gridCol w="2692440"/>
              </a:tblGrid>
              <a:tr h="41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мертельный исход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ада Нива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мобиль этой марки не соответствует стандартам безопасности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итель не прошел курсы безопасного вождения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здка не была должным образом согласована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ень безопасности заблокирован винтом для удобства водителя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251160" y="1028880"/>
          <a:ext cx="2692440" cy="4790880"/>
        </p:xfrm>
        <a:graphic>
          <a:graphicData uri="http://schemas.openxmlformats.org/drawingml/2006/table">
            <a:tbl>
              <a:tblPr/>
              <a:tblGrid>
                <a:gridCol w="2692440"/>
              </a:tblGrid>
              <a:tr h="39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ерьезные травмы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ада Нива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нялись различные меры контроля, которые оказались действенными даже для этой машины: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орошее техническое состояние транспортного средства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 ремней безопасности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ован план поездки. 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ь прошел алкотест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итель прошел курсы безопасного вождения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22" descr=""/>
          <p:cNvPicPr/>
          <p:nvPr/>
        </p:nvPicPr>
        <p:blipFill>
          <a:blip r:embed="rId1"/>
          <a:stretch/>
        </p:blipFill>
        <p:spPr>
          <a:xfrm>
            <a:off x="279360" y="1562040"/>
            <a:ext cx="2438280" cy="183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3" descr=""/>
          <p:cNvPicPr/>
          <p:nvPr/>
        </p:nvPicPr>
        <p:blipFill>
          <a:blip r:embed="rId2"/>
          <a:stretch/>
        </p:blipFill>
        <p:spPr>
          <a:xfrm>
            <a:off x="3403440" y="1562040"/>
            <a:ext cx="2438640" cy="181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"/>
          <p:cNvPicPr/>
          <p:nvPr/>
        </p:nvPicPr>
        <p:blipFill>
          <a:blip r:embed="rId3"/>
          <a:stretch/>
        </p:blipFill>
        <p:spPr>
          <a:xfrm>
            <a:off x="6400800" y="1562040"/>
            <a:ext cx="243828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6299280" y="1015920"/>
          <a:ext cx="2692440" cy="4816440"/>
        </p:xfrm>
        <a:graphic>
          <a:graphicData uri="http://schemas.openxmlformats.org/drawingml/2006/table">
            <a:tbl>
              <a:tblPr/>
              <a:tblGrid>
                <a:gridCol w="26924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ернулся к работе на       следующий день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цубис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20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нялись меры контроля: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ояние транспортного средства (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P)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ни безопасности пристегнуты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ь не превышалась и соответствовала дорожными условиями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итель прошел алкотест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"/>
                        </a:spcBef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итель прошел курсы безопасного вождения.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AutoShape 35"/>
          <p:cNvSpPr/>
          <p:nvPr/>
        </p:nvSpPr>
        <p:spPr>
          <a:xfrm>
            <a:off x="2892600" y="353232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6"/>
          <p:cNvSpPr/>
          <p:nvPr/>
        </p:nvSpPr>
        <p:spPr>
          <a:xfrm>
            <a:off x="5927760" y="3532320"/>
            <a:ext cx="363600" cy="60156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AutoShape 37"/>
          <p:cNvSpPr/>
          <p:nvPr/>
        </p:nvSpPr>
        <p:spPr>
          <a:xfrm>
            <a:off x="2892600" y="4794120"/>
            <a:ext cx="363240" cy="60192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8"/>
          <p:cNvSpPr/>
          <p:nvPr/>
        </p:nvSpPr>
        <p:spPr>
          <a:xfrm>
            <a:off x="5927760" y="4794120"/>
            <a:ext cx="363600" cy="60192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AutoShape 39"/>
          <p:cNvSpPr/>
          <p:nvPr/>
        </p:nvSpPr>
        <p:spPr>
          <a:xfrm>
            <a:off x="2892600" y="227016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40"/>
          <p:cNvSpPr/>
          <p:nvPr/>
        </p:nvSpPr>
        <p:spPr>
          <a:xfrm>
            <a:off x="5927760" y="2270160"/>
            <a:ext cx="363600" cy="60156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AutoShape 41"/>
          <p:cNvSpPr/>
          <p:nvPr/>
        </p:nvSpPr>
        <p:spPr>
          <a:xfrm>
            <a:off x="2892600" y="100980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AutoShape 42"/>
          <p:cNvSpPr/>
          <p:nvPr/>
        </p:nvSpPr>
        <p:spPr>
          <a:xfrm>
            <a:off x="5927760" y="1009800"/>
            <a:ext cx="363600" cy="60156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AutoShape 43"/>
          <p:cNvSpPr/>
          <p:nvPr/>
        </p:nvSpPr>
        <p:spPr>
          <a:xfrm>
            <a:off x="2892600" y="416736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44"/>
          <p:cNvSpPr/>
          <p:nvPr/>
        </p:nvSpPr>
        <p:spPr>
          <a:xfrm>
            <a:off x="2892600" y="2905200"/>
            <a:ext cx="363240" cy="60156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45"/>
          <p:cNvSpPr/>
          <p:nvPr/>
        </p:nvSpPr>
        <p:spPr>
          <a:xfrm>
            <a:off x="2892600" y="1644480"/>
            <a:ext cx="363240" cy="601920"/>
          </a:xfrm>
          <a:custGeom>
            <a:avLst/>
            <a:gdLst>
              <a:gd name="textAreaLeft" fmla="*/ 0 w 363240"/>
              <a:gd name="textAreaRight" fmla="*/ 363600 w 36324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46"/>
          <p:cNvSpPr/>
          <p:nvPr/>
        </p:nvSpPr>
        <p:spPr>
          <a:xfrm>
            <a:off x="5927760" y="4167360"/>
            <a:ext cx="363600" cy="60156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AutoShape 47"/>
          <p:cNvSpPr/>
          <p:nvPr/>
        </p:nvSpPr>
        <p:spPr>
          <a:xfrm>
            <a:off x="5943600" y="2895480"/>
            <a:ext cx="363600" cy="60192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48"/>
          <p:cNvSpPr/>
          <p:nvPr/>
        </p:nvSpPr>
        <p:spPr>
          <a:xfrm>
            <a:off x="5927760" y="1644480"/>
            <a:ext cx="363600" cy="601920"/>
          </a:xfrm>
          <a:custGeom>
            <a:avLst/>
            <a:gdLst>
              <a:gd name="textAreaLeft" fmla="*/ 0 w 363600"/>
              <a:gd name="textAreaRight" fmla="*/ 363960 w 36360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477720" y="101520"/>
            <a:ext cx="8115480" cy="7844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ДТП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</a:t>
            </a:r>
            <a:r>
              <a:rPr b="1" i="1" lang="ru-RU" sz="23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имеры уменьшения числа происшествий</a:t>
            </a:r>
            <a:endParaRPr b="1" i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9090-F94C-4DE4-960B-C3B7D48FB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0520" y="151920"/>
            <a:ext cx="8548560" cy="1024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ОЛОТЫЕ ПРАВИЛ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САХАЛИН ЭНЕРДЖИ»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34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облюдать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законов, стандартов, процед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Принимать меры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немедленной остановки любых работ, выполняемых небезопас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33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Проявлять уважение и забот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 окружающ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1:07:09Z</dcterms:created>
  <dc:creator>Registered User</dc:creator>
  <dc:description/>
  <dc:language>en-US</dc:language>
  <cp:lastModifiedBy>ZooM</cp:lastModifiedBy>
  <dcterms:modified xsi:type="dcterms:W3CDTF">2013-10-28T11:41:16Z</dcterms:modified>
  <cp:revision>433</cp:revision>
  <dc:subject/>
  <dc:title>PowerPoint Presentation</dc:title>
</cp:coreProperties>
</file>