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FC3-0AF0-432A-B84E-A1EC9593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CC9-873E-4BA3-9D35-E2BE6C6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0B3-84A4-446B-A39A-964B9019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E0D-5D56-4F31-B322-D4E873F5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080-5753-48BF-977C-0ED1A795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DFA-8FDB-4533-B99B-F9AC232D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D35-CC10-4A19-AB59-9F85A53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B01-BF09-4D98-8E43-0185635D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D10-FC85-46CB-9B27-96F6C25E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68B-16E0-41C1-9E60-879516E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FDA-B863-420F-960D-DCF74E9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3C0-8FB2-4B7D-8881-1F27CFC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0917-F56F-41A9-8689-24D601D32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Викторина по математик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для 5-6 клас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3889440"/>
            <a:ext cx="2663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5.Самолёт покрывает расстояние от города А до города Б за 1 час 20 минут. Однако обратный перелёт он совершает за 80 минут. Как вы это объясн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48000" y="3941640"/>
            <a:ext cx="2448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8229600" cy="590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 час = 60 мину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час 20 минут=80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51280" y="3860640"/>
            <a:ext cx="25210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6.Если 3 лягушки ловят за 3 минуты 3 мухи, сколько нужно лягушек чтобы они за 1 час поймали 60 му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6720" cy="2173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1783080" cy="1747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708360" y="4365720"/>
            <a:ext cx="165564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0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ри ляг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1827360" cy="161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1827360" cy="1611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372360" y="1700280"/>
            <a:ext cx="1827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В вашем распоряжении пять двоек и любые знаки математических действий. Выразите с помощью только этого цифрового материала число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= + - </a:t>
            </a:r>
            <a:r>
              <a:rPr b="1" i="1" lang="ru-RU" sz="8800" spc="-1" strike="noStrike">
                <a:solidFill>
                  <a:srgbClr val="000000"/>
                </a:solidFill>
                <a:latin typeface="Arial"/>
              </a:rPr>
              <a:t>: ( ) 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2/2+2-2=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По углам и сторонам квадрата на расстоянии 2 м друг от друга вбиты колыш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всего колышков вбито, если сторона квадрата равна 10 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3357720"/>
            <a:ext cx="208728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20 колышк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9.У Сережи 3 брата и 2 сестр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колько братьев и сестёр у его сестры Ната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1879560" cy="195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4 брата и 1 сест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3933720"/>
            <a:ext cx="1879560" cy="1952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1.Половина-треть числ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Какое это числ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9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.Во время прогулки по лесу Сергей через каждые 40 метров находил по одному гри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путь прошёл Сергей от первого гриба до последнего, если всего было найдено 25 гри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482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960 метр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1.Пятнадцать рыцарей были приглашены королём на пир. Прежде чем занять свои места за столом, каждый рыцарь поздоровался с каждым из остальных рыцарей за ру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всего рукопожатий было сдел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372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05 рукопожат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.В  день рождения сына родители дарили ему книгу. Такой же подарок сын получал от родителей в каждый день рождения. В год окончания университета в свой день рождения сын вновь получил от родителей книгу  и приложил её к тем пяти , которые были ему подарены ран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го числа родился сын и во сколько лет он закончил университ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9 феврал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4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266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3.Есть ли в ХХ столетии такой год, который нисколько не изменится, если его перевернуть «головой вниз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сть только один такой год в ХХ столет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404640"/>
            <a:ext cx="8229600" cy="5865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4.Который год 19 столетия увеличивается в 4 ½ раза, если на него смотреть в зерка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451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динственные цифры, которые не искажаются в зеркале,- это 1,0 и 8. Значит, искомый год может содержать в себе только такие цифры. Первые его цифры 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й год в зеркале превратится в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818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й : это ровно в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а больше , чем 18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3/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2.За книгу заплатили 60 рублей. И ещё 1/3 стоимости кни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колько стоит кни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Arial"/>
              </a:rPr>
              <a:t>90 рубле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3.Как изменится дробь, если её числитель увеличить на знаменате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90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Увеличится на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пример:   (2+3)/3 =5/3=1 2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4.Пять землекопов за 5 часов выкапывают 5 метров канавы. Сколько землекопов за 100 часов выкопают 100 метров кана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ять землекоп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53:05Z</dcterms:created>
  <dc:creator>Марина</dc:creator>
  <dc:description/>
  <dc:language>en-US</dc:language>
  <cp:lastModifiedBy>Марина</cp:lastModifiedBy>
  <dcterms:modified xsi:type="dcterms:W3CDTF">2009-01-27T18:17:56Z</dcterms:modified>
  <cp:revision>2</cp:revision>
  <dc:subject/>
  <dc:title>Слайд 1</dc:title>
</cp:coreProperties>
</file>