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AFA-ACC4-4BA3-B54D-C43155FF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6EA-992E-47C0-9A5C-51E242E9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B96-F48F-40F8-893C-3D106E77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A06-E479-4B41-A6FF-15C6D133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1D7-3CAF-418A-8C9D-E0BB1ED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F8B-56E8-4ACD-8E76-783584D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2AA-9487-45FD-AB92-2EECAA6B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797-F29F-4840-8E32-C5C0955E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72E-4881-4675-BEAA-F96A2F6C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A58-12E0-4B2D-B04C-DE1EB0FF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7A3-F5F0-464D-AF43-8B925AE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4BA-2A11-41AD-8D0F-B09629D2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28B5-0773-41DF-B071-30235EF3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Викторина по математик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для 5-6 класс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3889440"/>
            <a:ext cx="2663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-5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5.Самолёт покрывает расстояние от города А до города Б за 1 час 20 минут. Однако обратный перелёт он совершает за 80 минут. Как вы это объяснит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00" y="3941640"/>
            <a:ext cx="2448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90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 час = 60 мину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час 20 минут=80 мину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51280" y="3860640"/>
            <a:ext cx="25210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6.Если 3 лягушки ловят за 3 минуты 3 мухи, сколько нужно лягушек чтобы они за 1 час поймали 60 му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736720" cy="2173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1783080" cy="1747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708360" y="4365720"/>
            <a:ext cx="165564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90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Три ляг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51280" y="3860640"/>
            <a:ext cx="1827360" cy="1611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372360" y="1700280"/>
            <a:ext cx="1827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В вашем распоряжении пять двоек и любые знаки математических действий. Выразите с помощью только этого цифрового материала число 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= + - </a:t>
            </a:r>
            <a:r>
              <a:rPr b="1" i="1" lang="ru-RU" sz="8800" spc="-1" strike="noStrike">
                <a:solidFill>
                  <a:srgbClr val="000000"/>
                </a:solidFill>
                <a:latin typeface="Arial"/>
              </a:rPr>
              <a:t>: ( ) 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2/2+2-2=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По углам и сторонам квадрата на расстоянии 2 м друг от друга вбиты колы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колышков вбито, если сторона квадрата равна 10 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3357720"/>
            <a:ext cx="2087280" cy="20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20 колышко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9.У Сережи 3 брата и 2 сестр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Сколько братьев и сестёр у его сестры Наташ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3357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4 брата и 1 сес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27640" y="3933720"/>
            <a:ext cx="1879560" cy="1952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2305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1.Половина-треть числа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Какое это число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40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9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0.Во время прогулки по лесу Сергей через каждые 40 метров находил по одному гри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й путь прошёл Сергей от первого гриба до последнего, если всего было найдено 25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482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960 метр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1.Пятнадцать рыцарей были приглашены королём на пир. Прежде чем занять свои места за столом, каждый рыцарь поздоровался с каждым из остальных рыцарей за ру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колько всего рукопожатий было сдел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2372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05 рукопожат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.В  день рождения сына родители дарили ему книгу. Такой же подарок сын получал от родителей в каждый день рождения. В год окончания университета в свой день рождения сын вновь получил от родителей книгу  и приложил её к тем пяти , которые были ему подарены рань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го числа родился сын и во сколько лет он закончил университ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4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9 февраля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4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666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3.Есть ли в ХХ столетии такой год, который нисколько не изменится, если его перевернуть «головой вниз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сть только один такой год в ХХ столет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8229600" cy="5865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4.Который год 19 столетия увеличивается в 4 ½ раза, если на него смотреть в зерка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4514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Единственные цифры, которые не искажаются в зеркале,- это 1,0 и 8. Значит, искомый год может содержать в себе только такие цифры. Первые его цифры 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год в зеркале превратится в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818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й : это ровно в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раза больше , чем 18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2.За книгу заплатили 60 рублей. И ещё 1/3 стоимости книг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Сколько стоит кни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Arial"/>
              </a:rPr>
              <a:t>90 рубле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3.Как изменится дробь, если её числитель увеличить на знаменател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90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Увеличится на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пример:   (2+3)/3 =5/3=1 2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4.Пять землекопов за 5 часов выкапывают 5 метров канавы. Сколько землекопов за 100 часов выкопают 100 метров канавы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ять землекоп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53:05Z</dcterms:created>
  <dc:creator>Марина</dc:creator>
  <dc:description/>
  <dc:language>en-US</dc:language>
  <cp:lastModifiedBy>Марина</cp:lastModifiedBy>
  <dcterms:modified xsi:type="dcterms:W3CDTF">2009-01-27T18:17:56Z</dcterms:modified>
  <cp:revision>2</cp:revision>
  <dc:subject/>
  <dc:title>Слайд 1</dc:title>
</cp:coreProperties>
</file>