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A32D-6F85-442D-A6C2-27E15AD5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8C03-C44F-4320-8C64-9FFCA3DC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2359-2957-46B7-AC1C-BA11FB7D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9403-DB7A-403E-BA53-5B52A83E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D56-A17F-478A-8B50-49210BA6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D1A1-EC34-498F-85C2-9E0E8376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CF14-36ED-4AB6-8548-87577538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02F3-D05D-4006-B011-EEA75410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22AA-0544-4B8D-8B06-15152628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3B64-9D00-46A8-B61C-42193E52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C5BC-5297-4914-B651-7288565F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34F8-1FF6-419A-AFB8-0079385E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AE8E-FCFA-4F8C-AA1D-96C6D5A6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2030-686A-4722-ADAB-44CD64F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FDC0-D522-4012-9799-B673ECEF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FF0C-7613-4E18-8CC2-DB6FDD4E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8C6D-6F85-4A0F-B945-7646303C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B2FB-2B09-4B2F-9DB7-59116F2D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A6A1-2E91-4C96-A9AC-E960AC34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53380-249D-413E-9BC5-42C619C6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E396-4853-4CD1-A360-763B05CE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E51E-7AED-44EF-9CB5-DD6D8E4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D0E5-B036-4589-B5A7-57B825F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4510-1530-4A7E-A2E7-A14E408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BDCA-89CC-4686-889B-9881E1F5638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789E-CA49-4171-9348-9B4ECDEE06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ррупция в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мер влияния коррупции на качество жиз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езультатам исследования Южного регионального ресурсного центра, коррупционная нагрузка на цену квадратного метра жилья на первичном рынке составляет в Краснодарском крае около 40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чищенная от коррупции» цена метра жилья на Кубани составляет около 15 тысяч рубле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входит в коррупционную нагрузку на новое жиль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онные издержки на получение разрешения на строи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онные нагрузки на покупку зем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я при приобретении строительных материалов (если строительная организация не имеет своего производства стройматериалов): коррупционные издержки производителей стройматериалов включены в их це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Уровень коррупции регионально глубоко дифференцирова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одарский край в рейтинге коррупционной активности ФОМ занимает 2 место (с Татарстаном) – 41% жителей заявил, что регулярно включаются в коррупционные схе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рае отсутствует ряд формальных показателей, свидетельствующих о наличии политической воли противодействия корруп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Индикаторы «политической воли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8400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региональной программы противодействия коррупции (есть план мероприяти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обязательной внешней экспертизы проектов административных регламентов оказания государственных услуг и выполнения государственных функ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открытых для общества обобщений  результатов антикоррупционной деятельности в кра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зкое качество Закона Краснодарского края «О противодействии коррупции в Краснодарском кра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облемы краевого антикоррупционного зако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дополнительных по отношению к федеральному законодательству механизмов противодейств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такого направления деятельности, как снижение административных барье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закрепления системного внешнего (негосударственного) участия в противодействии коррупции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ильная сторона краевого зако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статьи 7. «Независимая антикоррупционная экспертиз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Институты гражданского общества, граждане могут в порядке, предусмотренном нормативными правовыми актами Российской Федерации и Краснодарского края, за счет собственных средств проводить независимую антикоррупционную экспертизу нормативных правовых актов Краснодарского края (их проектов), муниципальных правовых актов (их проектов), за исключением имеющих индивидуальный характ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Заключение по результатам независимой антикоррупционной экспертизы должно содержать выявленные в нормативном правовом акте (его проекте) коррупциогенные факторы и способы их устра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лючение по результатам независимой антикоррупционной экспертизы носит рекомендательный характер и подлежит обязательному рассмотрению органом, принявшим (издавшим) нормативный правовой акт (его проект), в тридцатидневный срок со дня его получения. По результатам рассмотрения заключения направляется мотивированный ответ, за исключением случаев, когда в заключении отсутствует указание способа устранения выявленных коррупциогенных факто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 то же время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обращению Общественного совета при ГУВД к губернатору (решение Совета от 16.06.2010г.) в настоящее время создана рабочая группа и обсуждается новая редакция Закона Краснодарского края «О противодействии корруп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езультаты отсутствия политической вол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ение пакета разрешительных документов на крупный и средний бизнес – до 30% ак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оустройство в ОГВ и ОМСУ на уровень «ведущий специалист» - от 30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лучение регистрации, права на работу при отсутствии законных оснований – около 6000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азвитие коррупционных механизм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ход (возврат) коррупционного оборота к бивалютной корзине в ходе кризи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новение и развитие практики продажи должностей во власти на определенный ср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исполнение подчиненными прямых указаний начальников, если эти указания противоречат их коррупционным интереса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тратегия наступления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я в России становится все более системной: в коррупционный оборот посредством «вертикальных схем» включаются должностные лица, которые не хотят этого (или же эти люди уходят из системы власт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дейно в стране побеждает ущербная идея победы коррупции исключительно силами власти: механизмы внешнего противодействия коррупции в своей массе являются имитацион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труктура выступле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37396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корруп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окультурные особенности коррупции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ые и экономические эффекты корруп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иональные особенности коррупции (на примере Краснодарского кра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нденции развития коррупционных механизм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равления антикоррупционной дея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мер имит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 зам. главы города Сочи О.В.Ясюка от 19.07.2010г. №6370/01-02-12 на запрос о предоставлении дополнительной информации для проведения независимой антикоррупционной экспертизы: отказ с обоснованием «все нормативно-правовые акты администрации города Сочи проходят независимую антикоррупционную экспертизу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тратегия и направления антикоррупционной оборон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ратег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массовое введение детализированных антикоррупционных процедур и широкого общественного контро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полнения и корректировка антикоррупционного законода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становление системы сдержек и противовесов между ветвями вла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ие и упорядочение функционала исполнительной власти на уровне субъектов РФ и МС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едрение системы внешнего контроля за имущественным положением представителей вла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ктическая реализация федеральных законов о раскрытии информации о деятельности государственной и муниципальной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Главная проблема сегодняшнего дня: регламенты оказания услуг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езультатам деятельности прокуратуры края в первом полугодии 2010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и наиболее распространенных коррупциогенных факторов в нормативных актах органов местного самоуправления: широта дискреционных полномочий - отсутствие или неопределенность сроков, условий или оснований принятия решения; наличие дублирующих полномочий органов государственной власти или органов местного самоуправления (их должностных лиц);  отсутствие или неполнота административных процедур -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пасибо за вним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оссии отношение к коррупции – это выбор между долгосрочной и краткосрочной перспектив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коррупция удобна многим, борьба с ней требует большого напряж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стратегически коррупция подрывает конкурентоспособность страны в условиях усиления конкуренции на международной арен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нятие коррупции (в соответствии с ФЗ «О противодействии коррупции»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нег, ценностей, иного иму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услуг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ущественног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совершение деяний, указанных в подпункте "а" настоящего пункта, от имени или в интересах юридического л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облема определения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через имущественную выгоду ограничивает понятие корруп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сно результатов контент-анализа региональных печатных СМИ, в период 2005-2008 гг., 16% сообщений от общего числа публикаций, размещенных PR-службой Законодательного Собрания Краснодарского края, посвящены деятельности коммерческих структур, которые представляют действующие депута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бъем корруп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данным Всемирного банка, ежегодно в мире в форме взяток выплачивается около 1 трлн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$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о оценке фонда ИНДЕМ, объем деловой коррупции в России – около 316 млрд. долларов в го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Коррупция неравномерно распределена в мире: Россия находится в одной группе с Албанией и Нигери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Балльный показатель коррупции в России в 4 раза выше, чем в Финляндии и Сингап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инамика коррупции в Росс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6868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деловой коррупции (т.е. коррупции в отношениях бизнеса и власти) в 2001-2005гг. вырос в 9 р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оциокультурные особенности коррупции в России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риятие ее в общественном сознании в качестве оправданной необходим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ятки в России вымогаются только в 30% случае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имперском законодательстве существовало  различие санкций за «мздоимство» и «лихоимство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Экономические эффекты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полнительные затраты бизнеса (накануне начала административной реформы издержки бизнеса составляли около 7,5% от выручк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полнительные затраты населения в результате бытовой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престижного потребления коррупционеров и, как результат, «вымывание» средств из реального сектора российской экономик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ъективность и непрозрачность взаимодействий бизнеса и вла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худшение качества государственного и муниципального управления (в частности, неэффективность бюджетных расходов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оциальные эффекты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рможение роста качества жизни социально ущемленных групп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социального расслоение (рост децильного коэффициент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недоверия граждан к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социальной депривации, что особенно опасно в условиях кризиса, поскольку создает условия для массовых протестных действ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56:32Z</dcterms:created>
  <dc:creator>Михаил Савва</dc:creator>
  <dc:description/>
  <dc:language>en-US</dc:language>
  <cp:lastModifiedBy>Admin</cp:lastModifiedBy>
  <dcterms:modified xsi:type="dcterms:W3CDTF">2011-09-02T20:23:10Z</dcterms:modified>
  <cp:revision>25</cp:revision>
  <dc:subject/>
  <dc:title>Противодействие коррупции как фактор экономической безопасности</dc:title>
</cp:coreProperties>
</file>