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BA13-D75C-401C-A665-70B22AC1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1DD8-0F68-428F-9108-4C71746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06B4-9C98-4F69-B5C7-6E7F3A4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68AB-6014-4866-BF4E-3BC7B27A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7E67-27AE-43C5-BD25-E9482C59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A555-857C-4750-9B08-72899DF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2FAD-E12B-4F64-BF75-642FD6B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44E-0EFC-466A-A84F-5CC99348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827A-1E3D-4AB6-B48B-AC345C1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30E-B0CA-41A4-9441-9E06B39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B8C-4C4A-49A1-B511-13436C5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E406-6C04-4CB7-A56F-6FEF36BE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7F2-8205-4AAF-A9B5-A081297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6D0-C8D5-4EDD-A909-31F03E5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A5D-55AB-434C-AA74-F6AA6ADB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6785-CC21-4F49-B7EB-B371BF0F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9E6B-1089-46A8-9386-6CA22DAA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B041-3139-433A-B518-E68FA88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1053-1809-412F-9C43-A609B247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1F82-CB92-4F6F-BC3F-399D9AA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8E36-50AC-4D22-A7D8-E89C442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8167-0632-4F16-B3E0-28C15B6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5F51-999C-42E1-82C1-77AD756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F4B9-0724-4EFA-80AB-3D83482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6F00-F8DF-45B9-9F4E-4A0608E1B5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D27-E329-4D19-A358-A2E8857BAF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ррупц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мер влияния коррупции на качество жиз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езультатам исследования Южного регионального ресурсного центра, коррупционная нагрузка на цену квадратного метра жилья на первичном рынке составляет в Краснодарском крае около 40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чищенная от коррупции» цена метра жилья на Кубани составляет около 15 тысяч рубле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входит в коррупционную нагрузку на новое жиль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издержки на получение разрешения на строи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нагрузки на покупку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при приобретении строительных материалов (если строительная организация не имеет своего производства стройматериалов): коррупционные издержки производителей стройматериалов включены в их це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Уровень коррупции регионально глубоко дифференцирова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одарский край в рейтинге коррупционной активности ФОМ занимает 2 место (с Татарстаном) – 41% жителей заявил, что регулярно включаются в коррупционные сх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рае отсутствует ряд формальных показателей, свидетельствующих о наличии политической воли противодействия корруп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ндикаторы «политической воли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региональной программы противодействия коррупции (есть план мероприяти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бязательной внешней экспертизы проектов административных регламентов оказания государственных услуг и выполнения государственны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ткрытых для общества обобщений  результатов антикоррупционной деятельности в кра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ое качество Закона Краснодарского края «О противодействии коррупции в Краснодарском кра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ы краевого антикоррупционн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дополнительных по отношению к федеральному законодательству механизмов противодей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такого направления деятельности, как снижение административных барье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закрепления системного внешнего (негосударственного) участия в противодействии коррупци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ильная сторона краев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статьи 7. «Независимая антикоррупционная экспертиз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Институты гражданского общества, граждане могут в порядке, предусмотренном нормативными правовыми актами Российской Федерации и Краснодарского края, за счет собственных средств проводить независимую антикоррупционную экспертизу нормативных правовых актов Краснодарского края (их проектов), муниципальных правовых актов (их проектов), за исключением имеющих индивидуальный харак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ключение по результатам независимой антикоррупционной экспертизы должно содержать выявленные в нормативном правовом акте (его проекте) коррупциогенные факторы и способы их устра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лючение по результатам независимой антикоррупционной экспертизы носит рекомендательный характер и подлежит обязательному рассмотрению органом, принявшим (издавшим) нормативный правовой акт (его проект), в тридцатидневный срок со дня его получения. По результатам рассмотрения заключения направляется мотивированный ответ, за исключением случаев, когда в заключении отсутствует указание способа устранения выявленных коррупциогенных факто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то же врем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бращению Общественного совета при ГУВД к губернатору (решение Совета от 16.06.2010г.) в настоящее время создана рабочая группа и обсуждается новая редакция Закона Краснодарского края «О противодействии корруп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зультаты отсутствия политической вол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ение пакета разрешительных документов на крупный и средний бизнес – до 30% ак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устройство в ОГВ и ОМСУ на уровень «ведущий специалист» - от 30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чение регистрации, права на работу при отсутствии законных оснований – около 6000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звитие коррупционных механизм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 (возврат) коррупционного оборота к бивалютной корзине в ходе кризи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 развитие практики продажи должностей во власти на определенный ср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исполнение подчиненными прямых указаний начальников, если эти указания противоречат их коррупционным интерес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наступ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в России становится все более системной: в коррупционный оборот посредством «вертикальных схем» включаются должностные лица, которые не хотят этого (или же эти люди уходят из системы власт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йно в стране побеждает ущербная идея победы коррупции исключительно силами власти: механизмы внешнего противодействия коррупции в своей массе являются имитацион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руктура выступле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37396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окультурные особенности коррупции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е и экономические эффекты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ональные особенности коррупции (на примере Краснодарского кр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нденции развития коррупционных механиз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авления антикоррупционн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мер имит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зам. главы города Сочи О.В.Ясюка от 19.07.2010г. №6370/01-02-12 на запрос о предоставлении дополнительной информации для проведения независимой антикоррупционной экспертизы: отказ с обоснованием «все нормативно-правовые акты администрации города Сочи проходят независимую антикоррупционную экспертиз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и направления антикоррупционной оборон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атег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ассовое введение детализированных антикоррупционных процедур и широкого общественного контр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полнения и корректировка антикоррупционного законод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становление системы сдержек и противовесов между ветвями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ие и упорядочение функционала исполнительной власти на уровне субъектов РФ 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едрение системы внешнего контроля за имущественным положением представителей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ктическая реализация федеральных законов о раскрытии информации о деятельности государственной и муниципаль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лавная проблема сегодняшнего дня: регламенты оказания услуг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езультатам деятельности прокуратуры края в первом полугодии 2010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и наиболее распространенных коррупциогенных факторов в нормативных актах органов местного самоуправления: широта дискреционных полномочий - отсутствие или неопределенность сроков, условий или оснований принятия решения; наличие дублирующих полномочий органов государственной власти или органов местного самоуправления (их должностных лиц);  отсутствие или неполнота административных процедур -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отношение к коррупции – это выбор между долгосрочной и краткосрочной перспекти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коррупция удобна многим, борьба с ней требует большого напря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стратегически коррупция подрывает конкурентоспособность страны в условиях усиления конкуренции на международной аре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нятие коррупции (в соответствии с ФЗ «О противодействии коррупции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нег, ценностей, иного иму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услуг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щественн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совершение деяний, указанных в подпункте "а" настоящего пункта, от имени или в интересах юридического 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а опреде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через имущественную выгоду ограничивает понятие корруп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сно результатов контент-анализа региональных печатных СМИ, в период 2005-2008 гг., 16% сообщений от общего числа публикаций, размещенных PR-службой Законодательного Собрания Краснодарского края, посвящены деятельности коммерческих структур, которые представляют действующие депута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ъем корруп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анным Всемирного банка, ежегодно в мире в форме взяток выплачивается около 1 трлн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о оценке фонда ИНДЕМ, объем деловой коррупции в России – около 316 млрд. долларов в г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Коррупция неравномерно распределена в мире: Россия находится в одной группе с Албанией и Нигер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Балльный показатель коррупции в России в 4 раза выше, чем в Финляндии и Сингап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намика коррупции в Росс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868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деловой коррупции (т.е. коррупции в отношениях бизнеса и власти) в 2001-2005гг. вырос в 9 р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окультурные особенности коррупции в России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риятие ее в общественном сознании в качестве оправданной необходим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ки в России вымогаются только в 30% случае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мперском законодательстве существовало  различие санкций за «мздоимство» и «лихоимство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кономически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бизнеса (накануне начала административной реформы издержки бизнеса составляли около 7,5% от выручк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населения в результате бытовой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престижного потребления коррупционеров и, как результат, «вымывание» средств из реального сектора российской экономи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ъективность и непрозрачность взаимодействий бизнеса и вла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худшение качества государственного и муниципального управления (в частности, неэффективность бюджетных расходов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альны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рможение роста качества жизни социально ущемленных групп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социального расслоение (рост децильного коэффициент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недоверия граждан к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социальной депривации, что особенно опасно в условиях кризиса, поскольку создает условия для массовых протестных действ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56:32Z</dcterms:created>
  <dc:creator>Михаил Савва</dc:creator>
  <dc:description/>
  <dc:language>en-US</dc:language>
  <cp:lastModifiedBy>Admin</cp:lastModifiedBy>
  <dcterms:modified xsi:type="dcterms:W3CDTF">2011-09-02T20:23:10Z</dcterms:modified>
  <cp:revision>25</cp:revision>
  <dc:subject/>
  <dc:title>Противодействие коррупции как фактор экономической безопасности</dc:title>
</cp:coreProperties>
</file>