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F507-3465-46F5-A028-BDD0196B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8DE1-0993-4E15-87B3-640C80A2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1C8C-5B8E-4B70-AA80-08A8E79E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E874-4F5E-4C5F-8639-4F6B0FBD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3BC7-8916-4422-87B1-3B47B6F2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2A4-C599-4D8B-A50A-32458FC4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A2D3-860C-4EF8-AE9E-57AEF7B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27D3-6F59-4F5D-9113-1861A535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EDA6-C6D8-47B4-9C8D-A22920C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828E-2D62-43C1-AC94-983F837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D501-9FAA-44A4-8BD7-FB0ADB4E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A5F7-6189-4879-92CB-1C51C2E4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7D40-B4A7-4549-A6E6-B4CA93F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EDBB-67DF-48C4-817B-B18CDE0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EC24-6BEF-43B8-AFA9-B6CD182C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A4DE-E903-406E-8ED8-489EA54B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7186-512C-4137-9B2F-634DA24C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A446-3F47-4189-BA36-4DFBA0A7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6550-5564-42FA-91F4-50BA6C5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6F94-9BE0-4892-A6A6-8C6267C5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F7F0-9BD3-48F3-A2E0-75B63C7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C0F2-6CE9-4F00-8AB1-223EE83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34DF-6478-4EF9-804A-F0206FA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C13D-585C-4EB8-8DF0-F95FE68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09D-1F06-47ED-8D36-C6F5D7BE6E9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0C34-E3D5-4E61-8A33-FF2C56B4BB2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ррупция в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имер влияния коррупции на качество жиз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результатам исследования Южного регионального ресурсного центра, коррупционная нагрузка на цену квадратного метра жилья на первичном рынке составляет в Краснодарском крае около 40%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чищенная от коррупции» цена метра жилья на Кубани составляет около 15 тысяч рубле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входит в коррупционную нагрузку на новое жиль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онные издержки на получение разрешения на строи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онные нагрузки на покупку земл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я при приобретении строительных материалов (если строительная организация не имеет своего производства стройматериалов): коррупционные издержки производителей стройматериалов включены в их це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Уровень коррупции регионально глубоко дифференцирова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одарский край в рейтинге коррупционной активности ФОМ занимает 2 место (с Татарстаном) – 41% жителей заявил, что регулярно включаются в коррупционные схем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рае отсутствует ряд формальных показателей, свидетельствующих о наличии политической воли противодействия коррупц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ндикаторы «политической воли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региональной программы противодействия коррупции (есть план мероприяти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обязательной внешней экспертизы проектов административных регламентов оказания государственных услуг и выполнения государственных функ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открытых для общества обобщений  результатов антикоррупционной деятельности в кра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зкое качество Закона Краснодарского края «О противодействии коррупции в Краснодарском кра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облемы краевого антикоррупционного зако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дополнительных по отношению к федеральному законодательству механизмов противодейств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такого направления деятельности, как снижение административных барье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утствие закрепления системного внешнего (негосударственного) участия в противодействии коррупци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ильная сторона краевого зако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статьи 7. «Независимая антикоррупционная экспертиз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Институты гражданского общества, граждане могут в порядке, предусмотренном нормативными правовыми актами Российской Федерации и Краснодарского края, за счет собственных средств проводить независимую антикоррупционную экспертизу нормативных правовых актов Краснодарского края (их проектов), муниципальных правовых актов (их проектов), за исключением имеющих индивидуальный характе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ключение по результатам независимой антикоррупционной экспертизы должно содержать выявленные в нормативном правовом акте (его проекте) коррупциогенные факторы и способы их устра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лючение по результатам независимой антикоррупционной экспертизы носит рекомендательный характер и подлежит обязательному рассмотрению органом, принявшим (издавшим) нормативный правовой акт (его проект), в тридцатидневный срок со дня его получения. По результатам рассмотрения заключения направляется мотивированный ответ, за исключением случаев, когда в заключении отсутствует указание способа устранения выявленных коррупциогенных факто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 то же время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обращению Общественного совета при ГУВД к губернатору (решение Совета от 16.06.2010г.) в настоящее время создана рабочая группа и обсуждается новая редакция Закона Краснодарского края «О противодействии корруп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зультаты отсутствия политической вол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ение пакета разрешительных документов на крупный и средний бизнес – до 30% ак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устройство в ОГВ и ОМСУ на уровень «ведущий специалист» - от 300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$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Получение регистрации, права на работу при отсутствии законных оснований – около 6000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азвитие коррупционных механизмов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ход (возврат) коррупционного оборота к бивалютной корзине в ходе кризи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новение и развитие практики продажи должностей во власти на определенный сро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исполнение подчиненными прямых указаний начальников, если эти указания противоречат их коррупционным интерес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тратегия наступления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рупция в России становится все более системной: в коррупционный оборот посредством «вертикальных схем» включаются должностные лица, которые не хотят этого (или же эти люди уходят из системы власт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ейно в стране побеждает ущербная идея победы коррупции исключительно силами власти: механизмы внешнего противодействия коррупции в своей массе являются имитацион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труктура выступле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37396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м корруп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окультурные особенности коррупции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ьные и экономические эффекты корруп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гиональные особенности коррупции (на примере Краснодарского кра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нденции развития коррупционных механизм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равления антикоррупционн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имер имит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зам. главы города Сочи О.В.Ясюка от 19.07.2010г. №6370/01-02-12 на запрос о предоставлении дополнительной информации для проведения независимой антикоррупционной экспертизы: отказ с обоснованием «все нормативно-правовые акты администрации города Сочи проходят независимую антикоррупционную экспертизу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тратегия и направления антикоррупционной обороны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ратег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ассовое введение детализированных антикоррупционных процедур и широкого общественного контро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полнения и корректировка антикоррупционного законода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становление системы сдержек и противовесов между ветвями в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кращение и упорядочение функционала исполнительной власти на уровне субъектов РФ и МС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едрение системы внешнего контроля за имущественным положением представителей вла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актическая реализация федеральных законов о раскрытии информации о деятельности государственной и муниципаль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Главная проблема сегодняшнего дня: регламенты оказания услуг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результатам деятельности прокуратуры края в первом полугодии 2010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и наиболее распространенных коррупциогенных факторов в нормативных актах органов местного самоуправления: широта дискреционных полномочий - отсутствие или неопределенность сроков, условий или оснований принятия решения; наличие дублирующих полномочий органов государственной власти или органов местного самоуправления (их должностных лиц);  отсутствие или неполнота административных процедур -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асибо за вним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России отношение к коррупции – это выбор между долгосрочной и краткосрочной перспектив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коррупция удобна многим, борьба с ней требует большого напряж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стратегически коррупция подрывает конкурентоспособность страны в условиях усиления конкуренции на международной арен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нятие коррупции (в соответствии с ФЗ «О противодействии коррупции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нег, ценностей, иного иму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услуг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ущественн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совершение деяний, указанных в подпункте "а" настоящего пункта, от имени или в интересах юридического ли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облема определения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через имущественную выгоду ограничивает понятие корруп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гласно результатов контент-анализа региональных печатных СМИ, в период 2005-2008 гг., 16% сообщений от общего числа публикаций, размещенных PR-службой Законодательного Собрания Краснодарского края, посвящены деятельности коммерческих структур, которые представляют действующие депутат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бъем корруп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данным Всемирного банка, ежегодно в мире в форме взяток выплачивается около 1 трлн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$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По оценке фонда ИНДЕМ, объем деловой коррупции в России – около 316 млрд. долларов в г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Коррупция неравномерно распределена в мире: Россия находится в одной группе с Албанией и Нигери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Балльный показатель коррупции в России в 4 раза выше, чем в Финляндии и Сингапу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инамика коррупции в Росс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86868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 деловой коррупции (т.е. коррупции в отношениях бизнеса и власти) в 2001-2005гг. вырос в 9 р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оциокультурные особенности коррупции в России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риятие ее в общественном сознании в качестве оправданной необходим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ятки в России вымогаются только в 30% случае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имперском законодательстве существовало  различие санкций за «мздоимство» и «лихоимство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кономические эффекты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олнительные затраты бизнеса (накануне начала административной реформы издержки бизнеса составляли около 7,5% от выручк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полнительные затраты населения в результате бытовой корруп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престижного потребления коррупционеров и, как результат, «вымывание» средств из реального сектора российской экономик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ъективность и непрозрачность взаимодействий бизнеса и вла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худшение качества государственного и муниципального управления (в частности, неэффективность бюджетных расходов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оциальные эффекты коррупц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рможение роста качества жизни социально ущемленных групп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социального расслоение (рост децильного коэффициент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недоверия граждан к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ст социальной депривации, что особенно опасно в условиях кризиса, поскольку создает условия для массовых протестных действ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12:56:32Z</dcterms:created>
  <dc:creator>Михаил Савва</dc:creator>
  <dc:description/>
  <dc:language>en-US</dc:language>
  <cp:lastModifiedBy>Admin</cp:lastModifiedBy>
  <dcterms:modified xsi:type="dcterms:W3CDTF">2011-09-02T20:23:10Z</dcterms:modified>
  <cp:revision>25</cp:revision>
  <dc:subject/>
  <dc:title>Противодействие коррупции как фактор экономической безопасности</dc:title>
</cp:coreProperties>
</file>