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F55-E9D2-495C-9E67-BBB6D172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17E-891E-4C29-8CC8-1EDFA8E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65C18-C42E-47C8-B2FA-70C62410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BD389-A032-42F3-945B-8241FF3B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89310-EE15-4A42-A3F1-BE2302B6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967CB-4EB1-4790-8074-B035AEA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F21A2-C5C5-4D7B-885C-A083B04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BE300-ECC1-40D2-B23A-01CE4A1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94E9-C7F7-46A2-BC54-1C58B2EB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AF82-AD2D-4746-A5C6-8E2F73F9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7FDD8-1DC4-423C-91E6-1600A2D5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424A-83AE-4308-ADA2-E61971D1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951-70BD-48DF-8312-51EBA850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9D9D9-33FE-4ADB-9484-B195239E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8C08-5C66-4CE8-BB51-280DA2F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355C-6B35-4EE0-9085-B681B94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843B6-3F63-48D0-9AC7-EE32AF9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7BAE6-9C5D-4E9E-95BD-917BA332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48103-9D6F-4493-A01B-32A2E8B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4189F-A5D5-4B32-889B-ACE4A77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33D5-C6A2-4483-AEC8-85412E9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57CFA-C117-4217-BD65-1027C00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EFB27-4A0E-4E73-BC6D-DED2ADE9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E48-8CAE-440F-9791-E2797215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BA28B-0D8C-4097-96B8-8B9FEAAE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1651-027F-4D9A-8792-77D479B3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1FE8-D0F8-49FF-A56C-1D51B34D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7016B-0E2F-4A9D-999D-4EB0335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1D50-C197-4044-B923-9AA674B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5DE9-BC1D-446D-AA7C-049EB17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1D5AF-DC39-4FFE-9B73-D459EC81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918C3-4332-464C-ABE9-186818D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B4058-E57B-4D5D-B506-9100F18F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D1A1F-333D-4ADA-B80C-627686E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D94B-80AC-4EF4-A151-C006F8A1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6DD79-5C6F-4E7F-A164-A52450F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33578-3FC9-4E72-9ED0-A5584DC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86E0E-EF1F-413E-9C37-3CCA7ABF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9146D-AD78-4399-A02B-5B2CF785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7871-D729-4CA7-B573-B546344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9B2B8-600B-4F4B-AB49-AE7DF6F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B6088-DB4B-44A6-B83A-4422F4F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2127D-38DA-457E-BD08-5F0D935E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99E14-63E9-438D-9705-AC1915FC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B7AF3-4276-4F97-9DE8-5E218A84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866-DC54-4AAD-95C5-BF6327B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F4F72-299E-40D1-9FFF-E6B2AB4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B2A3-3C95-446A-AB8A-279E3BC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C6941-7108-4DDA-9065-B2B75DE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2841E-9CD5-454F-9BE1-E6ADB4A6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45AD4-405F-4CFB-A941-02C72B4C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BEFF6-A920-4E82-AC46-3FF1942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0C58E-ABFC-4D53-9B5E-A6DDA23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8C54E-A914-4F5C-8AAA-36AF3E35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B171E-052A-4D79-A80A-D0CF26FA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A5C8E-35FC-409F-8152-61546873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9BA-F4C7-42FB-9CBE-F081F30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671D9-6DBC-4B7A-B141-203BC28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FFC43-6538-4EBB-9393-6B1CF3D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B879A-7CD4-4A7C-B5BF-8CF2C82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2249D-A88E-4C1B-B875-9B103E4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92FBF-FD97-4F8F-A0B4-2184D044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8C311-1D55-450D-AD5D-614419D9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BEEB2-A555-4132-BB50-8044CB60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60C91-1383-4605-8117-F99BFCE3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E2609-8ADA-43AA-B25D-B79F3981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9BC1D-96E2-422D-905B-979ED82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7343-B760-4A85-B2DA-0D9580E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306AC-0CFF-4D91-83C6-A4AD252F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F6B1A-FBD7-4D80-9449-44C318A5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F576C-8E1F-4D21-B537-041F166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9DDDA-831F-4C6F-A903-BFCFB2F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95B7C-4FA4-41AB-BEEF-268E600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55D91-2872-40F3-8255-EF524E9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08A9C-2819-4480-A008-873F921B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31BDF-EA4A-440B-817B-1090E509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AFD58-5689-4CE6-9EE9-65F7BC82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4A7CA-163E-4857-9865-E4E5E9F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D0F9-EB03-4D8D-9EB8-56D59CFB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ECFA3-FA8B-4712-B6A6-4933E87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983CA-924E-4534-8E9A-3E14D3F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00257-2557-4F82-8138-68A1E5F4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B2606-8687-4429-90E6-CB53D29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F2D64-1666-4F0D-950E-60E27EB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0213B-1441-40B6-874C-F070CC9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4F6187-C578-41AB-A332-6298526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837A7-C7B6-4E94-8E0E-E6154B2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AA501-F5A1-4EC7-A132-805A365C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517A9-3B6B-490D-96BF-F86974AA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E7E-EFF5-4E40-9818-D08E27E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9B990-F48C-4DD7-A885-E1FECC2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E6F50-511A-44F0-9469-4A096393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73C5B-69D8-4F2E-9307-0DED7EC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838CA-E810-4BD0-AB8B-B969E88E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0EF08-3EEF-4168-BEE9-8A3045EE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18C49-BFFD-4462-82D6-02168FC0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E2068-3687-49CA-A8CF-F3AED39B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7982C-737B-4AB1-9267-22DE71D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8B45E-3394-4A15-9F20-94707DF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CF6A7-11ED-4622-B153-757B4CB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83F-3208-4F99-9CD5-26895B7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46821-5119-4113-BFF3-A230263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64D24-5F8A-491D-9DB5-15A017E4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D423F-F5BC-4DE4-B315-7552429C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871-2596-423F-B3C1-8B2480F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003-9C97-4B50-A051-FE3D808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41F-F3F7-4E13-960B-ECDAEDC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6A3-89AB-4A8B-80F2-6901BC25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178-E00B-4226-B299-3EE6CDA4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196F-8B8E-4A85-9176-74E42D1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76D2-9742-478B-86AF-A23C27DE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5E4C-2644-4D10-832C-09835002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CE8A-7AF6-4E07-AF9D-E15D884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4B42-1C51-4A35-BB85-6D04D53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0286-301D-42DE-B4AB-BE18C53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BEA-776C-43A2-86E6-044D7FE9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1B94-D509-46CE-9889-2ADC178C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3806-003D-4C73-AFAB-6AA1A51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D170-9BDF-44AE-BECF-9C92BA6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4F8C-8770-45DF-89C6-A8AF20E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AE44-4985-4FD7-A180-BEF5AA6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C552-E53E-4A43-B485-F3CC94D8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F33E-F932-4433-934B-93C6F499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5EA5-673E-4032-B1F1-0F8AC4F7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4472-3C20-4143-B759-840F0AD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EE97-B5F8-4B67-BCE8-D63896CD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E90-1F7D-4B08-93C8-ADB86B3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EFD8-6888-4466-9B63-D0495FB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10B2-7838-401C-A334-93EA172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5768-E540-486D-8CE3-C2B9E93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BE84-A10A-4EC2-B002-0465B4F0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DEE6-66F4-4197-AB3A-174CD52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3857-E081-47BA-A232-8359523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FAED-3A9E-42C6-AF13-6EAC2121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02C9-497D-435A-B881-4ED6C108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1755-43CB-4F54-B052-A2219645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62DA-3E2F-4F7C-9767-41D993A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9E0-C7AB-435D-B9C9-70EC704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068F-4999-4C42-9019-6EE1141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F0AC-D035-4DB8-BFE2-748D2C75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30E0-125D-47CE-93FA-8B3AF07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ED396-5AEC-45A7-8596-061FFF21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6372-4E2A-40B4-8786-6622B47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E35BF-3A2D-42ED-9CDC-1F513D2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7421-D040-4319-A578-9B3FED75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AFC1-ABED-4273-A234-2D17392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DE41-2944-4FCD-99C9-D6FF0E80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83B1-1FA8-430F-8A43-A3FF2525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202-3139-47CC-B04E-A65C762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81E7E-30DE-4CA4-884B-F53EB1CB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BA95-4D78-4865-AE95-48AC370B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0F39-7D87-4DD8-90BE-FFF86A50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7227-B46E-4620-823D-52F84DD0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1AEC-4BA0-4F16-B4EC-7B00F68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2342-9172-477E-BC3F-65BA8866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6205-45D3-40ED-9533-404CB53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9F3E3-2C30-49B6-A034-331CBF72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C5E7-643A-4059-A504-ECF8E3A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3717-0A32-4EB9-B535-9B26648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A2F-1533-48AA-A57F-AA20788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5017-0052-43AF-B3D2-57C5DF2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7B0D-A4FF-45DC-BC08-60484219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3F84-14D9-4D31-9BF6-9E81F442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FF2C7-8C36-4BF1-A75B-58AD1320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26E8-8661-49D2-8B3A-72A9490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E188-0A43-4EAA-A002-4E71050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EB9A-EF87-4085-9947-0297052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18BF-DB59-4AFA-9CDC-343472B2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FAAB-287E-42A3-B188-26731D76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3CBE-D9CF-4270-93FC-DBA10D0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C75-07E2-4ED6-824E-1BC9DD4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A39B-CA76-4171-B2F9-5A2D86A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D554B-8FDB-4735-8681-92EEC23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A3222-48A9-40A7-9B7B-365051F6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2A7B9-CB71-440F-A415-FBA82B19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54575-010D-4037-9D1A-582065CC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F9F1-A32E-4DAF-850F-4184C931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02443-D3B4-4FCD-BFB8-3618092C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D7D1-C25F-4350-8D9A-16935ED8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42F79-2F61-4259-A2CD-07B8E6A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7DCA-B0AF-47B9-9B2D-4A199753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D8A-6522-4261-96ED-CCC2268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7922-165E-4DB1-B85A-DB932C5C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5500C-6B6D-416F-A93D-B75A5FF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ADDDB-24FC-4689-A957-707DF63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66F84-7A08-4D7C-BCEE-4B43241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6B7F-6856-4801-B64F-BD9E562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FA57-B705-4929-92B4-9DC551FC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8DBB-5CAF-454A-B482-C95D11BA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4D5DA-BB3F-4B9A-88C8-52963F0F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43385-A9EE-4686-A9EA-D224426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D7903-1539-41A9-8BD1-A49F1653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3D09-8D4C-43B5-A91E-004F4E3848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55F-9ADA-414C-94D0-8CCE1DBE375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CBB-2917-4ABB-A36E-C3B61FC41F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8D09-72F7-4A1B-87EE-F859DE3E89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4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5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288-5EBB-4A7B-A810-37AC8336BFD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13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1204-C330-41C1-AD2C-0C795B8FEF66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6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552B-8852-4ADF-856D-B9EE629318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C035-FD82-4F1B-84C7-EA7C26E4E6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0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A2D-9CA3-4951-B908-7F36FED3D5E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FA6-F8C1-45FF-A951-B65C1EA18C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04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F77-8714-45B3-B35E-32A82984D0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ADC1-047F-41FB-89A2-93297E14AD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8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BC9-E208-4E73-9570-48E78A97EC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41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A285-E0DE-48B5-98A0-190BC1C0EF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5F15-D267-4C66-9EDF-62C4153F3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729-42C8-4256-8738-31B3D18A1E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борник задач по физик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435640" y="5105520"/>
            <a:ext cx="388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вейшая методика, разработанная Г.Осте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обрена Министерством Образования Рос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9" descr="90071103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035680" y="1700280"/>
            <a:ext cx="3713040" cy="40338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0" descr="1196942216"/>
          <p:cNvPicPr/>
          <p:nvPr/>
        </p:nvPicPr>
        <p:blipFill>
          <a:blip r:embed="rId2"/>
          <a:stretch/>
        </p:blipFill>
        <p:spPr>
          <a:xfrm>
            <a:off x="611280" y="2097000"/>
            <a:ext cx="3522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5" descr="oster"/>
          <p:cNvPicPr/>
          <p:nvPr/>
        </p:nvPicPr>
        <p:blipFill>
          <a:blip r:embed="rId1"/>
          <a:stretch/>
        </p:blipFill>
        <p:spPr>
          <a:xfrm>
            <a:off x="7380360" y="4797360"/>
            <a:ext cx="1763640" cy="193356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я ловил девчонок, окунал их в лужу и старательно измерял глубину погружения каждой девчонки, а Толя только стоял рядышком и смотрел, как девчонки барахтаются. Чем отличаются Колины действия от Толиных, и как такие действия называют физик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и физики, и химики назовут Колины и Толины действия хулиганством и надают по шее обоим. Но надо признать, что с точки зрения бесстрастной науки Толя производил наблюдения, а Коля ставил опы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4" descr="12889691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4211640" y="4508640"/>
            <a:ext cx="4511520" cy="23493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Петя ехал к бабушке на электричке, и всю дорогу над ним издевались какие-то два неведомые ему явления. Одно при каждой остановке толкало Петю вперед, а другое, когда вагон трогался - дергало назад. Что это за хулиганские явления, и может ли транспортная милиция с ними справить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Ответ: над Петей глумились инерция движения и инерция покоя. С этими двумя явлениями не то что милиция, с ними никакие сухопутно-воздушно-морские вооруженные до зубов силы не справя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дача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тый враг нежно прижался щекой к прикладу и нажал курок. Пуля массой 10 г выскочила из винтовки и понеслась искать невинную жертву со скоростью 800 м/с. А винтовка в результате отдачи со скоростью 2 м/с послала врага в нокаут. Вычисли массу, сбившую с ног вра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рага нокаутировало его собственное оружие массой в 4 кг. Кто к нам с чем придет - от того и упад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5" descr="126854"/>
          <p:cNvPicPr/>
          <p:nvPr/>
        </p:nvPicPr>
        <p:blipFill>
          <a:blip r:embed="rId1"/>
          <a:stretch/>
        </p:blipFill>
        <p:spPr>
          <a:xfrm>
            <a:off x="6588000" y="479736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4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Грабители отняли у потерпевшего деньги, документы, раздели его догола и решив, что взять с него больше нечего, кинули с моста в речку. Чем все-таки обладал потерпевший на полпути к холодной воде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потенциальной энергией, постепенно переходящей в кинетическую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1" name="Picture 4" descr="I-Fly"/>
          <p:cNvPicPr/>
          <p:nvPr/>
        </p:nvPicPr>
        <p:blipFill>
          <a:blip r:embed="rId1"/>
          <a:stretch/>
        </p:blipFill>
        <p:spPr>
          <a:xfrm>
            <a:off x="3995640" y="4829040"/>
            <a:ext cx="4392720" cy="1624320"/>
          </a:xfrm>
          <a:prstGeom prst="rect">
            <a:avLst/>
          </a:prstGeom>
          <a:ln w="0">
            <a:noFill/>
          </a:ln>
        </p:spPr>
      </p:pic>
      <p:sp>
        <p:nvSpPr>
          <p:cNvPr id="992" name="WordArt 5"/>
          <p:cNvSpPr txBox="1"/>
          <p:nvPr/>
        </p:nvSpPr>
        <p:spPr>
          <a:xfrm>
            <a:off x="3492360" y="189000"/>
            <a:ext cx="19432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4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Задача 5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беденном столе, в тарелке, обложенный со всех сторон солеными огурчиками, лежит крупный кирпич массой4 кг. Вычислите действующую на кирпич силу тяжести и скажите, как действует вес кирпича на огурчи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гурчики вес кирпича физически не действует, он действует на тарелку. Но вес кирпича действует огурчикам на нервы. А на сам кирпич в тарелке действует сила тяжести в 39,2ньютона. Приятного аппет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Picture 4" descr="007"/>
          <p:cNvPicPr/>
          <p:nvPr/>
        </p:nvPicPr>
        <p:blipFill>
          <a:blip r:embed="rId1"/>
          <a:stretch/>
        </p:blipFill>
        <p:spPr>
          <a:xfrm>
            <a:off x="2627280" y="5084640"/>
            <a:ext cx="29527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сса пустой бутылки 450 г. Масса этой же бутылки, наполненной водой, 950 г. А масса бутылки, наполненной той горькой кислятиной, которую врачи прописали печальному  дяде Боре пить три раза в день перед едой, 980 г. Зная плотность воды 1 г/куб.См, определи, не морщась, плотность этой целебной кислятины, которую с отвращением три раза в день хлещет дядя Бор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: плотность кислятины 1,06 г/куб.См. Дядя Боря хлещет ее с очень кислым выражением лиц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7" name="Picture 4" descr="4norm"/>
          <p:cNvPicPr/>
          <p:nvPr/>
        </p:nvPicPr>
        <p:blipFill>
          <a:blip r:embed="rId1"/>
          <a:stretch/>
        </p:blipFill>
        <p:spPr>
          <a:xfrm>
            <a:off x="5580000" y="515772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998" name="WordArt 7"/>
          <p:cNvSpPr txBox="1"/>
          <p:nvPr/>
        </p:nvSpPr>
        <p:spPr>
          <a:xfrm>
            <a:off x="3564000" y="333360"/>
            <a:ext cx="2114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а 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с интеллигентного, скромного и тактичного физика требуют деньги за два килограмма колбасы, а он видит, что весы с колбасой показывают всего один килограмм, то закричит ли физик на весь магазин: "нет уж, простите, вес вашей поганой колбасы не два - только один килограмм!"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не закричит. Вежливый физик не станет так грубо выражаться, потому что помнит: в килограммах выражается лишь одна физическая величина - масса. Вес выражается совсем в других величинах - в ньютон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WordArt 4"/>
          <p:cNvSpPr txBox="1"/>
          <p:nvPr/>
        </p:nvSpPr>
        <p:spPr>
          <a:xfrm>
            <a:off x="3635280" y="549360"/>
            <a:ext cx="18954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2:23Z</dcterms:created>
  <dc:creator>klass10t</dc:creator>
  <dc:description/>
  <dc:language>en-US</dc:language>
  <cp:lastModifiedBy>COMP</cp:lastModifiedBy>
  <dcterms:modified xsi:type="dcterms:W3CDTF">2011-10-25T06:39:08Z</dcterms:modified>
  <cp:revision>6</cp:revision>
  <dc:subject/>
  <dc:title>Задачи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