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EFD4-6E76-4200-8340-8DD987828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3C52-053C-44D9-9D63-1BB0F0E6E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E7386E-B5B9-44BE-BAB4-1E1541F8D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520889-25DF-4DB2-9531-916A1F1F1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27C884-707B-4101-92D6-6DA7A630D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715319-F609-4EE0-999D-55530CC35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D3E061-553B-41EA-9969-50ADC671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D1E0FB-8917-41CD-8862-5892A93E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DA279F-0628-4AAE-B202-41D82B7D3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D6C9DD-2820-4914-9D12-BB6E61D40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9475C5-56A6-42B7-81F3-18BE1E866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1C2589-E36F-4797-A07E-4629339CD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D121-E7D4-4FAB-8D02-4E5038710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DE82B3-A1BC-47FF-86A4-922384F3D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EF683A-4504-4F5C-9C7C-0C5DD6276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45A8B9-523B-4C96-9ABA-2B531B35C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D50D7D-17BF-4D88-8FC2-D58BD23FD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D335E7-41D3-4126-BA0B-8A5B571E9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01842F-9029-44FF-8345-04E71D99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57A73A-22E9-4619-A1B2-8E6AED6D0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DF9C2C-1F62-42BA-8DE7-A41CB9EAA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0215A5-2A4D-4C86-90A7-7EC233C25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817327-5246-4267-90C4-EC673E59E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1EB5-C55D-4615-8592-24AEFEA37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9757A1-E00C-475B-9D78-9B888CCC8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5F102B-386B-48FA-A4A3-C24357C16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44F381-CF76-4F92-8648-D6C2FBE2E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1AF5CB-903B-4D25-BD61-137180FD4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01931D-6095-4405-96C1-099611B18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C3DE15-C251-424B-B49A-DD859520B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8022C2-2AF1-4D4D-BBB6-097A6818D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A81A66-A957-432C-BB0D-0620C9C8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4B06FE-B9CA-4C28-AC41-647C49099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2F8D31-1948-4140-B7E0-B63169EFE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B035B-6227-4645-89EA-86FC6E22E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4A41FA-DA13-40E8-99AA-01C2F6E20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6BF434-9F2D-4E4F-974A-23698C107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717B47-8B5B-409A-8EE1-AB21079C8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0FAE3A-6298-4E8E-8BD2-3FFA35EA6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6A4904-9FBE-490C-996E-6E9807D68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3B734B-83C2-4FB5-AA76-27EB73B40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2B6D82-8DAC-43ED-975C-87678D83D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25FC68-BF34-49CF-816F-426C6CDEF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CAC54F-6C4C-4DEB-AFDC-7C3F99E7A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41BD8F-F072-4E66-B12B-A0CE6AC46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643E6-2EFD-41EB-8B98-49CEC60B7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F96DD7-BF60-41B0-9840-DB18DF7D4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8395E9-9AE8-4399-B659-BF1C13E1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77E59F-9E89-44C2-B1FB-79E8EBE2D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A8310F-7921-4584-8E65-FFA80FA50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BC1712-3854-482D-AE11-CFBD9308A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411AD1-5F5A-491A-936B-E0A044DB0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E2C1A2-BAFA-4800-9FDE-9A3734453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0ACA15-A188-4C3A-B9A1-C4D12D13E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D62D1F-1780-442B-B2AC-EDF563155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6927DF-BA6C-463C-9A61-09BCD2F91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E6CEA-2E34-4F48-8C86-5918F71A7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B64193-5C5C-48F3-A89D-6D520EE0A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7F0788-01DC-41A4-BD49-5DB726801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23011A-C60D-4798-95C8-C9278B02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747A8C-CA05-4744-9725-67232DC03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D6F986-A6F0-4316-90A9-0CE334525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81279D-4C69-4831-AC96-BB0261646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259E0F-6BFC-466D-A65D-7F1E22945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002611-8999-44E7-A109-8441C082A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6BDE22-539D-4791-A112-3E8E0F173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61CE2B-F11A-4AC9-9CF1-81AD66648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BD919-BA1B-4BEE-A0FB-4F1E19AEA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971DC7-9ECE-4DF0-AC35-D0DBB1C00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920FB8-CD1F-409F-9E0F-A2C2CD0F5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CE0AC1-074F-42AB-9323-79F7EC426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CF54D8-8CC3-45AB-88D0-DFEAFEED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935B6C-7542-416D-B43C-5CF02013D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BBA378-8626-4609-8757-7531CFE2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B5F4FF-8897-4AAD-908F-D15B2CE50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330CAC-06F9-404C-BBD7-5F5F842A5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4652C2-A2C5-4034-B820-F894A4F82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4AB080-B428-42C9-9005-85D815B70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1BC10-1DCB-49B8-8D15-33C94654C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1FA003-3374-4F54-AA1D-A30696CFC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616B96-EEA7-4627-A1D0-E8D211EFE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7CE7CD-D18D-414E-8298-891B8DCA8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EFD7D1-F148-4107-A39C-B64FB5697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9AD5E6-1701-487E-8AFF-7717BBE59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8D0DB9-ECF1-4594-BD12-C2D64E34D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662B07-F202-4B26-B2A8-2845972C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40D2AA-7ABA-4827-AC24-845B62FE4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08FFDC-EF76-4B85-A566-671688494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476FD5-2D76-4C50-9323-5591393E2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10E4F-38DB-49DA-931C-3BC785CA5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5221AA-46D4-41EC-A682-2C0D3D8F2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F9DD01-7BBB-4EFB-8671-5F72D7E72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8EEAEB-DA85-4367-85DF-8758A5ABD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FD8CD3-9A0B-48BE-B067-422B8DFFE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B6BB84-04B8-410C-B170-645756AF3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A3DD82-4174-4711-A3C9-17950243C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EBFAE3-03FF-4FD0-887E-36C6E4B91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105104-18D3-4AAA-AE0E-17276DAE4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B99BC8-E535-456F-BBD4-70E0CEF0B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C37195-3312-4ED9-BD47-E40EB419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14695-CFE2-455B-8246-5D440717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B8E939-0A69-4E65-828C-EC606C984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0072D1-6DB5-453F-B288-5A96271FD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3EF24E-4877-4BF1-AC9D-D3D74BCFA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5E0A-EDBB-473F-8B2B-2A4C676A5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FAC48-F9C9-462F-9536-80133E2F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57276-D868-436F-B786-5B9905CAE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2EF53-6037-4EB7-AA99-78A4D5429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10D64-6A84-4B14-8F8E-F5EDB6A13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3324F-5BDD-4A85-AEF5-63DD60215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7B7BC-D10D-4920-9D84-E117697A5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3C47A-1C12-4D79-A1D8-B4B1D11D7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AABAC-2B4A-4F83-84E2-E1EA750CD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0F317-E38F-42F2-8AF7-DECE5B268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C1A66-DEEB-4C51-A92C-A247BB433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BFE6-0CE5-44B3-86E9-430D36226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345BA-3131-4B9E-B3F6-253CD8534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3DA21-5CF6-412A-91B9-84BF3EBEA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15355-F864-4D51-AA02-D22E2B671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D059B-2C9C-4274-90AD-10834B22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6FDAE-4FEF-4EDD-B8DE-9D3AE5213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B4190-B42D-42DF-B5DC-1AE952031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7BACC-516E-403E-9B45-8A052D6AA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DF6EE-2FD4-4EBB-9BAA-00C50A836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B6B30-8F47-416F-A3F2-26DD28FC1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94D79-209D-48F8-970B-0996861C5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48B5-8D44-40C2-BFC8-E3224B2F9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B796B-0717-449A-AA34-5ADAB3994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0E8EF-EAFD-41F5-80E5-B753AD12E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19BB9-5CC5-4D6F-AF5B-2131F32DE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B6B7A-3C1F-42C2-B7C2-6C7B6D373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5BD77-176E-4B73-8F6F-D72390CF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5FF94-587A-49F2-89FC-101063A63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C9AA3-FEAC-4C3F-BB3A-961A9A933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F2BAC-EEB1-4F04-9D28-BD9C06AE9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230C9-C2E4-4479-A671-7A9AEB87D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EE777-0BA0-457C-BE19-62BC8C4A7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7DE3-D6CE-464B-8662-9EBB5F6D3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379F1-78A7-487D-BB23-5428CD7E7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9BCA5F-22E4-4938-949B-2DDECBAF5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0C3AB-0672-4C35-88D5-D9779D682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4D6B84-CA72-4898-ADAF-0171251CF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E015B7-0CEC-40F9-BDEF-EB95EA659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4BB400-F6A6-45A6-A06C-50CA73F1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4C6FBF-D0C5-41B4-9E75-68DF2D08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36E9BE-3A80-4CAE-8B7B-422EEFCE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78CDED-7FE2-4D54-99AF-750D68026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A264E4-F8D0-47AD-BFE8-DFB53AA97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8B4D-C926-4778-8A1C-8D4ABDF2A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3B0FA3-C87E-48C3-9CCF-719E44624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C729DB-50BE-41A1-8F2C-9CE0A71F0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198CB-B28A-493C-A01D-B87B8C443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10F205-0430-45B6-8ABC-4FDD9ABE8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D1D15E-1B9E-4D9C-A18F-0A81BCFF7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244DE7-AC09-4C31-B79B-41D35CD3B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73BF3C-A20F-4EC3-AB0A-BE360B566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DD186D-CBB6-4CA7-909A-5ADD72366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424C05-2CC1-40D5-A65A-49C7BABB8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A6DC01-4637-47E8-944D-327D91D4D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3299-E6E3-4DB6-984E-5429DE1B1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15C74F-A2CD-49AC-930B-95939B2AE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B09EC1-E7F6-49D8-893F-104CC42A9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FDB6E5-1BE5-4ADE-A5E2-C77A03F4B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05D5D0-2973-4042-AB1C-AE21636BB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1D5638-C652-43A1-9413-DD6421EE0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17180E-8F1C-4321-B2B1-D50D51578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4AAC6A-CB5D-40D2-A197-017F2F01E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529470-0268-4B58-BC84-AF9960011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62988D-5B39-4F9B-9AAF-1FB22C7BA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886428-53A0-436C-A7EB-84F86E86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548B-DEC7-44C8-8569-65435C901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AA8AD5-D533-44AC-BF0D-7F936673B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1526E9-B2D5-467C-9DBF-92EDCB80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89339D-CC49-4B00-A99A-A7CC8CF59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93EFF5-9877-4893-87AF-F2151BA3B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C52295-524C-442C-B989-F53513652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3A4FFC-BA0B-43FE-96F7-AAB2B4188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81CCF5-15BA-4848-A6DC-7DB96D441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1DC413-1E70-4128-A9E2-C82E2F049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BB000F-8F60-4EAC-B3DF-DE1002006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A71DFA-7655-469D-B929-7CC72CD2A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425B-B593-4873-9BE6-D25EB66E3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8DE5AC-B52B-4F59-B879-AF96FFB94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CC96DA-B3CD-4368-9CE5-6E676B6B7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AA6108-9CA3-4B4E-B6A9-48FC3BEE6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404903-528C-4464-9585-9D0BE7FF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03CAE5-F9FE-4BFF-9AB2-07A917711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01401F-2CD2-4EF5-A395-7AEC770FC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A61092-3D4D-4B3A-8B3A-5A664CF57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80D107-4125-4446-90BF-E5CDED8EE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0DDB3D-BD82-48C5-AC84-D44EE0285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D3566A-75E0-49F8-9409-C32BC9AF2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E1BD3-27DB-440F-891F-2892B3C2485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54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55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57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160E3-CCCE-4C52-A7B1-9F40C73BFAF2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62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 type="dt" idx="3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 type="ftr" idx="3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AB340-CA8C-46E3-A977-36079A0421A9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703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 type="dt" idx="3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 type="ftr" idx="3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 type="sldNum" idx="3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4B8A0-A651-4B73-9D0B-7D14E454F48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74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75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5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759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6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76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6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A084B-C9EF-4134-ADB9-5B3FE8EEE7BE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2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813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13C90-D05C-42EC-961E-1C8B0F678552}" type="slidenum"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86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 type="dt" idx="4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4620C-2899-4371-9CC1-1DBF57031FE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7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918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C459E-E56E-4CA5-BE41-286B63E0E32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50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4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7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8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79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4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0753A-2A9F-4F07-8899-58A43EEAAA7A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28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019ED-5F28-4C26-9062-15A9C40AE63F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204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0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1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D8096-7D67-4DF0-8F91-299B04A91BB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A6291-AE07-4901-B2D7-45A1D9DBF951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6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57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6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67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68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9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0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1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4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5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6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7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8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9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0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3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84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6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87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88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9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90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1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2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3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4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5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6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7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98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E705F-5C4B-4633-82C5-506979F5794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341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2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383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EC726-90C1-4125-AE0E-75185256297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40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67920-447E-4B64-9106-501C9B67145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FF7CD-7DA6-4361-ACB0-57083184E4C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Сборник задач по физике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 type="subTitle"/>
          </p:nvPr>
        </p:nvSpPr>
        <p:spPr>
          <a:xfrm>
            <a:off x="5435640" y="5105520"/>
            <a:ext cx="3881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овейшая методика, разработанная Г.Остеро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добрена Министерством Образования Росси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9" name="Picture 9" descr="90071103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5035680" y="1700280"/>
            <a:ext cx="3713040" cy="403380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0" descr="1196942216"/>
          <p:cNvPicPr/>
          <p:nvPr/>
        </p:nvPicPr>
        <p:blipFill>
          <a:blip r:embed="rId2"/>
          <a:stretch/>
        </p:blipFill>
        <p:spPr>
          <a:xfrm>
            <a:off x="611280" y="2097000"/>
            <a:ext cx="3522600" cy="31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9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9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1" name="Picture 5" descr="oster"/>
          <p:cNvPicPr/>
          <p:nvPr/>
        </p:nvPicPr>
        <p:blipFill>
          <a:blip r:embed="rId1"/>
          <a:stretch/>
        </p:blipFill>
        <p:spPr>
          <a:xfrm>
            <a:off x="7380360" y="4797360"/>
            <a:ext cx="1763640" cy="1933560"/>
          </a:xfrm>
          <a:prstGeom prst="rect">
            <a:avLst/>
          </a:prstGeom>
          <a:ln w="0">
            <a:noFill/>
          </a:ln>
        </p:spPr>
      </p:pic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Задача 1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ля ловил девчонок, окунал их в лужу и старательно измерял глубину погружения каждой девчонки, а Толя только стоял рядышком и смотрел, как девчонки барахтаются. Чем отличаются Колины действия от Толиных, и как такие действия называют физики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вет: и физики, и химики назовут Колины и Толины действия хулиганством и надают по шее обоим. Но надо признать, что с точки зрения бесстрастной науки Толя производил наблюдения, а Коля ставил опыты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300"/>
                            </p:stCondLst>
                            <p:childTnLst>
                              <p:par>
                                <p:cTn id="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3000"/>
                                        <p:tgtEl>
                                          <p:spTgt spid="9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" dur="500"/>
                                        <p:tgtEl>
                                          <p:spTgt spid="9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4" name="Picture 4" descr="12889691"/>
          <p:cNvPicPr/>
          <p:nvPr/>
        </p:nvPicPr>
        <p:blipFill>
          <a:blip r:embed="rId1">
            <a:grayscl/>
            <a:lum bright="6000"/>
          </a:blip>
          <a:stretch/>
        </p:blipFill>
        <p:spPr>
          <a:xfrm>
            <a:off x="4211640" y="4508640"/>
            <a:ext cx="4511520" cy="2349360"/>
          </a:xfrm>
          <a:prstGeom prst="rect">
            <a:avLst/>
          </a:prstGeom>
          <a:ln w="0">
            <a:noFill/>
          </a:ln>
        </p:spPr>
      </p:pic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Задача 2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66"/>
                </a:solidFill>
                <a:latin typeface="Verdana"/>
              </a:rPr>
              <a:t>Петя ехал к бабушке на электричке, и всю дорогу над ним издевались какие-то два неведомые ему явления. Одно при каждой остановке толкало Петю вперед, а другое, когда вагон трогался - дергало назад. Что это за хулиганские явления, и может ли транспортная милиция с ними справиться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66"/>
                </a:solidFill>
                <a:latin typeface="Verdana"/>
              </a:rPr>
              <a:t>Ответ: над Петей глумились инерция движения и инерция покоя. С этими двумя явлениями не то что милиция, с ними никакие сухопутно-воздушно-морские вооруженные до зубов силы не справятся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600"/>
                            </p:stCondLst>
                            <p:childTnLst>
                              <p:par>
                                <p:cTn id="6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Задача 3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Лютый враг нежно прижался щекой к прикладу и нажал курок. Пуля массой 10 г выскочила из винтовки и понеслась искать невинную жертву со скоростью 800 м/с. А винтовка в результате отдачи со скоростью 2 м/с послала врага в нокаут. Вычисли массу, сбившую с ног враг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Ответ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врага нокаутировало его собственное оружие массой в 4 кг. Кто к нам с чем придет - от того и упаде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9" name="Picture 5" descr="126854"/>
          <p:cNvPicPr/>
          <p:nvPr/>
        </p:nvPicPr>
        <p:blipFill>
          <a:blip r:embed="rId1"/>
          <a:stretch/>
        </p:blipFill>
        <p:spPr>
          <a:xfrm>
            <a:off x="6588000" y="4797360"/>
            <a:ext cx="142884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4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4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4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4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500"/>
                                        <p:tgtEl>
                                          <p:spTgt spid="9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9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9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9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/>
          </p:nvPr>
        </p:nvSpPr>
        <p:spPr>
          <a:xfrm>
            <a:off x="0" y="1628280"/>
            <a:ext cx="81532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2500" spc="-1" strike="noStrike">
                <a:solidFill>
                  <a:srgbClr val="000000"/>
                </a:solidFill>
                <a:latin typeface="Comic Sans MS"/>
              </a:rPr>
              <a:t>Грабители отняли у потерпевшего деньги, документы, раздели его догола и решив, что взять с него больше нечего, кинули с моста в речку. Чем все-таки обладал потерпевший на полпути к холодной воде?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25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r>
              <a:rPr b="1" lang="ru-RU" sz="25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ru-RU" sz="2500" spc="-1" strike="noStrike">
                <a:solidFill>
                  <a:srgbClr val="000000"/>
                </a:solidFill>
                <a:latin typeface="Comic Sans MS"/>
              </a:rPr>
              <a:t> потенциальной энергией, постепенно переходящей в кинетическую. 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91" name="Picture 4" descr="I-Fly"/>
          <p:cNvPicPr/>
          <p:nvPr/>
        </p:nvPicPr>
        <p:blipFill>
          <a:blip r:embed="rId1"/>
          <a:stretch/>
        </p:blipFill>
        <p:spPr>
          <a:xfrm>
            <a:off x="3995640" y="4829040"/>
            <a:ext cx="4392720" cy="1624320"/>
          </a:xfrm>
          <a:prstGeom prst="rect">
            <a:avLst/>
          </a:prstGeom>
          <a:ln w="0">
            <a:noFill/>
          </a:ln>
        </p:spPr>
      </p:pic>
      <p:sp>
        <p:nvSpPr>
          <p:cNvPr id="992" name="WordArt 5"/>
          <p:cNvSpPr txBox="1"/>
          <p:nvPr/>
        </p:nvSpPr>
        <p:spPr>
          <a:xfrm>
            <a:off x="3492360" y="189000"/>
            <a:ext cx="1943280" cy="139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дача 4</a:t>
            </a:r>
            <a:endParaRPr b="0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1000"/>
                                        <p:tgtEl>
                                          <p:spTgt spid="9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9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Задача 5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обеденном столе, в тарелке, обложенный со всех сторон солеными огурчиками, лежит крупный кирпич массой4 кг. Вычислите действующую на кирпич силу тяжести и скажите, как действует вес кирпича на огурчики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на огурчики вес кирпича физически не действует, он действует на тарелку. Но вес кирпича действует огурчикам на нервы. А на сам кирпич в тарелке действует сила тяжести в 39,2ньютона. Приятного аппетит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5" name="Picture 4" descr="007"/>
          <p:cNvPicPr/>
          <p:nvPr/>
        </p:nvPicPr>
        <p:blipFill>
          <a:blip r:embed="rId1"/>
          <a:stretch/>
        </p:blipFill>
        <p:spPr>
          <a:xfrm>
            <a:off x="2627280" y="5084640"/>
            <a:ext cx="2952720" cy="177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1000"/>
                                        <p:tgtEl>
                                          <p:spTgt spid="9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Масса пустой бутылки 450 г. Масса этой же бутылки, наполненной водой, 950 г. А масса бутылки, наполненной той горькой кислятиной, которую врачи прописали печальному  дяде Боре пить три раза в день перед едой, 980 г. Зная плотность воды 1 г/куб.См, определи, не морщась, плотность этой целебной кислятины, которую с отвращением три раза в день хлещет дядя Боря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Ответ: плотность кислятины 1,06 г/куб.См. Дядя Боря хлещет ее с очень кислым выражением лица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997" name="Picture 4" descr="4norm"/>
          <p:cNvPicPr/>
          <p:nvPr/>
        </p:nvPicPr>
        <p:blipFill>
          <a:blip r:embed="rId1"/>
          <a:stretch/>
        </p:blipFill>
        <p:spPr>
          <a:xfrm>
            <a:off x="5580000" y="5157720"/>
            <a:ext cx="1270080" cy="1270080"/>
          </a:xfrm>
          <a:prstGeom prst="rect">
            <a:avLst/>
          </a:prstGeom>
          <a:ln w="0">
            <a:noFill/>
          </a:ln>
        </p:spPr>
      </p:pic>
      <p:sp>
        <p:nvSpPr>
          <p:cNvPr id="998" name="WordArt 7"/>
          <p:cNvSpPr txBox="1"/>
          <p:nvPr/>
        </p:nvSpPr>
        <p:spPr>
          <a:xfrm>
            <a:off x="3564000" y="333360"/>
            <a:ext cx="2114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Задача 6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9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9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9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9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4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4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/>
          </p:nvPr>
        </p:nvSpPr>
        <p:spPr>
          <a:xfrm>
            <a:off x="25092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Если с интеллигентного, скромного и тактичного физика требуют деньги за два килограмма колбасы, а он видит, что весы с колбасой показывают всего один килограмм, то закричит ли физик на весь магазин: "нет уж, простите, вес вашей поганой колбасы не два - только один килограмм!"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вет: не закричит. Вежливый физик не станет так грубо выражаться, потому что помнит: в килограммах выражается лишь одна физическая величина - масса. Вес выражается совсем в других величинах - в ньютонах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0" name="WordArt 4"/>
          <p:cNvSpPr txBox="1"/>
          <p:nvPr/>
        </p:nvSpPr>
        <p:spPr>
          <a:xfrm>
            <a:off x="3635280" y="549360"/>
            <a:ext cx="189540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дача 7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9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9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9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9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30T03:42:23Z</dcterms:created>
  <dc:creator>klass10t</dc:creator>
  <dc:description/>
  <dc:language>en-US</dc:language>
  <cp:lastModifiedBy>COMP</cp:lastModifiedBy>
  <dcterms:modified xsi:type="dcterms:W3CDTF">2011-10-25T06:39:08Z</dcterms:modified>
  <cp:revision>6</cp:revision>
  <dc:subject/>
  <dc:title>Задачи по физик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005000000000001024140</vt:lpwstr>
  </property>
</Properties>
</file>