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CD4-DAE6-47E3-87E5-00B6B847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C76-7AE7-45DD-978C-6C3CAC6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19D3-F5CF-48FC-A749-D95F67EE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EA5A5-7EC0-47E2-9D9D-4A3F7742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B4CE9-BDDB-4810-9C3F-A15698D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2D6FD-F873-4A55-A433-23EE3A6B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597E4-2E94-4807-84DD-15F54AB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B84FC-BB2C-480C-B31E-3B97FDE9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B2C3C-85A7-4831-AF2A-1F35E212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21C1A-2E02-48F0-9AFE-1E45215D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205EF-FB27-4505-A0B3-6A545F49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1F109-5922-4F1A-A8D0-27DA6EBD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149-3A13-4AF5-851E-1992D058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4F485-F992-4ED6-8344-4B826CEE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33B44-CC65-4DBE-A579-0ED1E217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700C1-F3EE-406F-8F8D-2D3BDB0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301A0-9845-41D5-8BBD-DAC3723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7C9CC-493A-4E7C-98C0-414D2EB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E3E59-9C4D-426E-8341-40F622D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8A457-3D85-499C-93A8-246D1514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E2441-F0B5-45CA-AABC-8EC7A75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E2699-06CF-48B7-B890-58DF2093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9F3FB-0DFF-4838-9244-CBD42A43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93A-0B60-4C3B-A159-67361198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E8242-EC8F-4F39-AF74-493569CE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70AB6-F182-42CA-8CB8-D3466AD0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A6202-41AF-40B0-8F9F-5821E08D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DD256-86E0-46B7-ACF1-4EA71B5B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794EB-D262-433B-900B-66460AAD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1595B-0BFD-4A53-98C7-878BFEB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EA78-8D32-4C78-AE69-AB0076AD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5CB87-6B9A-4067-A1A3-5377C08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3C37F-DD36-4F05-90A5-364BA923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F77C7-B9CA-45F0-9BD2-4FD7124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90A6-30A2-4554-B3F0-DBEAC990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B1802-300D-4491-A95C-71E8DFCD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106E0-80E0-4F4E-9214-3CDF46C5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78B00-9B66-402A-AD7F-80D27F63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F9ABA-AEF3-4E1E-9A70-8306DE41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B57EE-489B-42E3-920F-4945F434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6B284-9975-4626-9C77-A36F7424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A0B8D-343C-4602-917B-C328178C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B27E4-2639-4199-A9EE-3C7275E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F7403-A3B7-4DBF-AEAB-2D505925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20443-8FD1-44DA-BBDB-877238A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AFE8-D0A3-40E9-8152-C197AA3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8C40B-1467-4E89-9BD9-D729396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E7994-2EE9-41DE-A400-28214B2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0295B-A81B-42F7-B228-A40B836C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2A3CA-38EC-4A24-9DA3-CF259C26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BF98C-76AC-4CB8-B0A5-1184A9E4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650B8-7B44-435B-B574-5542CBA6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FAE06-BFD6-4990-BA83-E3069B7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6F8BF-FD8A-4163-A35E-91B0FEF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D2A07-E715-4114-854F-C60AC6D5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36C98-FDF8-451A-9441-FAA75BBD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78D-0F27-4C1B-ABA6-3DD25A3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4154B-A9D6-4660-A65D-F705A56D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EEAF6-E800-4B5E-B7F9-F8ED8490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7631E-18E0-4F0B-BFEE-0D9EA1E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DA5D3-55C2-431D-997F-55B8B2E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32AFB-22A7-45C9-8091-C49CF034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D7105-AF41-4087-A7D6-E13A3C87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FF00E-B2B3-4983-8DEA-1161C527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9F4E6-9C8B-436A-8555-4D2C05E8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F2E04-25A8-43CF-A0B0-E1EA9FEF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B92D8-25D7-4611-840A-FA1C25E3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C387-7395-4B72-8344-91EEBF4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01E53-586E-4BFE-BE0E-73E64150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2EEEB-7CC5-4825-A81B-C639040A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A0969-A737-4DA3-A779-BA4302B6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3D91C-7EC4-42AD-908C-A25F579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B7F49-C34E-4770-B0F6-A114888D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E5E24-1556-462C-B2F7-74C02D7C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073B9-380E-44CE-A105-622E55E1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8C55F-BB2A-4C3F-88DE-DD41A915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2893D-509F-446F-9A03-06667D24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1E6D8-918A-4532-A642-6AE139B0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D984-942F-4383-A01D-79EA745A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C5A96-4768-47A6-9341-A8FA824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FE8A5-301F-40FC-A64E-55E416E1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B72D6-8675-47B5-B93F-40E0E05D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6516B-0BFD-4606-8E24-AA7B3F34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2B637-81ED-4F26-91DF-BF50DD34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EB271C-3645-4CDB-B370-6B7A0D0D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C9EA0-8A23-48AE-B5A1-045FEA9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B02EF9-5703-4127-AC34-67F64223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AC510-9934-4075-A8DC-289855C0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C130F-09A2-4715-A34C-CE12714C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940C-EA29-4964-B542-F5750F89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A0B2B-0B11-419B-A05D-C9AC6582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F956E-9D4F-498D-A0F9-EA9F9D7B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41CA6-59FF-4198-BF2D-F1A2172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10D81-64F9-49BF-9EF2-5213C19E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9B09B5-FC8A-44EF-8FD3-519B9829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8CE2D-71E2-4F06-930A-4922BFAF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92733-6733-4C8A-8648-DDE20C7F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0D710-FABB-4C49-AFB0-F590D088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FAAC7-394D-46C2-904E-8E0DA00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893BD-C648-4862-9EA0-29113C6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4688-3C40-498E-A922-490E6866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E7A4D-B882-47AF-B8A9-4FAA42C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1B3D3-3715-42C5-8688-0F2D1E25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5AB93-6A92-4F55-957C-E5AB5445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7AC-9BC5-474A-9999-51BF085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EEAF-E89F-43B7-BE38-61B6207C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6F6-B7A5-429D-88FB-1370757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29F3-7E28-4099-B6DF-7220ABBC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0D56-5C9B-4C9D-B544-434AF6AE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1086-5889-4920-B02C-5C94CF4D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6035-E03C-4001-9B86-BBBFE70B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34FC-295A-4295-BAFA-4FED3647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E838-26A5-4AB3-9568-915BE46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4285-E65B-49E6-8665-E31BCB75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2B08-91F0-46CC-B13C-DF9AB973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BCC-08B0-466E-B59A-132EA506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7C203-7B7E-4C83-933A-8F9E2D79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2003-B2CF-469A-BB9B-E73D2F5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0222-2E2D-4362-9C40-959BE83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E12B-965E-4A37-9D75-A190A2B9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06B7-FEA4-4432-B99A-45A09467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3FCCE-8F0A-4731-8320-5A9409E9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787A-E772-4CA9-B275-C2BEE389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0B66-83D2-476A-8477-4804778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C52C-9FA6-4F40-8B8B-90368D8B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29F3-1BDD-4115-BD4F-51011511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06C-D433-4744-9675-F8651277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CF45-F7E6-4D1A-B633-10FC80B7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3AF7-3CD7-461B-9483-B24B79FB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6D6B9-2DC3-4703-9E8A-51FCF021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E06B-69BC-45EA-94CD-C4388EE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FE512-20F3-4937-B139-87F9DB85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C4E7-8FD0-43EA-AF24-90E181D9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5024-152F-4FB6-8B9A-F8F87582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8AC05-5C26-4198-B23B-9BDF28D6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1FF9-C550-42E1-921E-2DB9B300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3829-8663-49A5-AB18-9FA7582B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8C9-011F-48F1-915C-7177430D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9B6C-8DB4-4B91-AA50-0085F0F4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D2174-D151-4F1E-9A18-369B58D2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E489-5B0D-4C4E-A33B-33B4474E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6518-FDD3-4C20-B387-62CA66F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15423-BACE-42A5-BAB5-258099A8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312B3-6213-466B-AEB0-FEDD09A0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DB30-DDFB-4A2F-96A5-2BFFA47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4F5E-1211-4AE5-9998-A9AE07C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5D7D-51E6-433B-9189-ADD2013B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8FD75-B33D-4701-84DD-96FDA705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44B-AAF2-4491-ABF9-BC03522C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882B-BC07-4EB6-ABF3-C59AB9BC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EB80-8D91-49EF-ADB5-AD05DD2A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727BC-90AD-4BA1-BA0D-8CFF976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224C9-11C7-490D-998D-030EF6BB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A21B-F21C-4EB9-B7BC-EAFAC31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2239-5BD8-492C-9A07-4DC4138B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47D5-D06D-4141-A759-B8108603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22E5B-9C81-4CA4-ACF3-6F8D658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7EFE2-4907-48B4-803D-97AA3EEC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990C-7942-4E00-AB2B-41EF919B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965-1BD9-449B-B996-EE8571D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024A8-EE29-46C9-9B12-31583F41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8738-66E4-43D3-8ACA-CC470C05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EE5E0-691B-4864-9DC4-A7CB5A9D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15DEA-F846-4505-AF32-03AC7797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1A45-3770-441B-A739-4091FA2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80A44-3598-40CA-9594-152DD60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0FC4F-E433-4C6C-9871-08FEEED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2E334-C04E-4CD6-9C17-26EA620B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8A94-A189-4C1B-952A-2F718805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ADB87-39AB-4EE4-A321-74E8675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24A-2259-42CB-9A13-8518486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F2D5-7FFA-441B-8732-5497694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987E-AFC7-4315-A9C6-BA59DFEF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CAB3A-40F8-40F8-9201-91D41135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D076-24E8-4B8F-ADEC-4DA4A0CB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7844-9D07-4672-A7A1-E5B7A93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3647F-6B8F-4865-B168-F31C0159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F080-0991-4B4B-B129-E266C72F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558F-9AF3-414E-A08A-FFA58100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54770-98F3-41FD-B2E5-5D13EBF2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215AF-DE47-4502-AC8A-82D4552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00E-CB41-4D3A-A88B-9B0D3DE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76789-2D72-45C4-BE44-9C158D53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D2A6-D0FB-4938-9859-AB597B9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EA030-0907-418B-9BF0-253AE11C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E23D1-19D5-44FA-85DA-1CF96FB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9CB54-8933-4026-B295-4AF72B6C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9586C-0676-4E02-B4BB-8D494CB6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6C71-A10B-418E-B8F4-23EEE496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F03F7-368C-47AF-921C-B18DB8A5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970C7-32A3-41AB-A2CD-DC0C40C7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74B8A-1463-4779-8634-5E2AD0B1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B11-3906-4143-893A-92DC281F91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4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7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D373-B4EE-40E8-9194-CD5B42E88C9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2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0335-2C29-4240-A1E0-AE47B958F1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70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704-FA30-4EF0-9522-EC9F025D7F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4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5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204B-AB76-447C-B45D-754F164D159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2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13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E51-7023-4535-BFC7-DDD238E99EE6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6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73E-F337-4D60-994C-AECD15D2B3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1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C117-A6A6-4431-B668-70C6D351A6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0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4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3B02-364B-42E6-94E6-6E663F9581E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788-47F4-4571-B050-D478B74E63F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04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CAF-619F-432E-8412-42980C4914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C28-2C6B-4606-936A-AB319E9EA0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6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8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8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EA1-F2CD-4934-9B9D-2DC3CCE41E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41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FF97-9B7F-4E65-A15C-179D0736C8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7510-3E35-4C84-A3DE-2467D8E190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130D-918A-4105-8268-FEA0ABAA78A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борник задач по физик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435640" y="5105520"/>
            <a:ext cx="388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вейшая методика, разработанная Г.Остер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добрена Министерством Образования Рос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9" name="Picture 9" descr="90071103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035680" y="1700280"/>
            <a:ext cx="3713040" cy="40338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0" descr="1196942216"/>
          <p:cNvPicPr/>
          <p:nvPr/>
        </p:nvPicPr>
        <p:blipFill>
          <a:blip r:embed="rId2"/>
          <a:stretch/>
        </p:blipFill>
        <p:spPr>
          <a:xfrm>
            <a:off x="611280" y="2097000"/>
            <a:ext cx="3522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5" descr="oster"/>
          <p:cNvPicPr/>
          <p:nvPr/>
        </p:nvPicPr>
        <p:blipFill>
          <a:blip r:embed="rId1"/>
          <a:stretch/>
        </p:blipFill>
        <p:spPr>
          <a:xfrm>
            <a:off x="7380360" y="4797360"/>
            <a:ext cx="1763640" cy="193356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я ловил девчонок, окунал их в лужу и старательно измерял глубину погружения каждой девчонки, а Толя только стоял рядышком и смотрел, как девчонки барахтаются. Чем отличаются Колины действия от Толиных, и как такие действия называют физик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: и физики, и химики назовут Колины и Толины действия хулиганством и надают по шее обоим. Но надо признать, что с точки зрения бесстрастной науки Толя производил наблюдения, а Коля ставил опы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3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4" descr="12889691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4211640" y="4508640"/>
            <a:ext cx="4511520" cy="23493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Петя ехал к бабушке на электричке, и всю дорогу над ним издевались какие-то два неведомые ему явления. Одно при каждой остановке толкало Петю вперед, а другое, когда вагон трогался - дергало назад. Что это за хулиганские явления, и может ли транспортная милиция с ними справить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Ответ: над Петей глумились инерция движения и инерция покоя. С этими двумя явлениями не то что милиция, с ними никакие сухопутно-воздушно-морские вооруженные до зубов силы не справятс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Задача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Лютый враг нежно прижался щекой к прикладу и нажал курок. Пуля массой 10 г выскочила из винтовки и понеслась искать невинную жертву со скоростью 800 м/с. А винтовка в результате отдачи со скоростью 2 м/с послала врага в нокаут. Вычисли массу, сбившую с ног враг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вет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врага нокаутировало его собственное оружие массой в 4 кг. Кто к нам с чем придет - от того и упаде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5" descr="126854"/>
          <p:cNvPicPr/>
          <p:nvPr/>
        </p:nvPicPr>
        <p:blipFill>
          <a:blip r:embed="rId1"/>
          <a:stretch/>
        </p:blipFill>
        <p:spPr>
          <a:xfrm>
            <a:off x="6588000" y="479736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4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Грабители отняли у потерпевшего деньги, документы, раздели его догола и решив, что взять с него больше нечего, кинули с моста в речку. Чем все-таки обладал потерпевший на полпути к холодной воде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omic Sans MS"/>
              </a:rPr>
              <a:t> потенциальной энергией, постепенно переходящей в кинетическую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1" name="Picture 4" descr="I-Fly"/>
          <p:cNvPicPr/>
          <p:nvPr/>
        </p:nvPicPr>
        <p:blipFill>
          <a:blip r:embed="rId1"/>
          <a:stretch/>
        </p:blipFill>
        <p:spPr>
          <a:xfrm>
            <a:off x="3995640" y="4829040"/>
            <a:ext cx="4392720" cy="1624320"/>
          </a:xfrm>
          <a:prstGeom prst="rect">
            <a:avLst/>
          </a:prstGeom>
          <a:ln w="0">
            <a:noFill/>
          </a:ln>
        </p:spPr>
      </p:pic>
      <p:sp>
        <p:nvSpPr>
          <p:cNvPr id="992" name="WordArt 5"/>
          <p:cNvSpPr txBox="1"/>
          <p:nvPr/>
        </p:nvSpPr>
        <p:spPr>
          <a:xfrm>
            <a:off x="3492360" y="189000"/>
            <a:ext cx="194328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4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Задача 5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беденном столе, в тарелке, обложенный со всех сторон солеными огурчиками, лежит крупный кирпич массой4 кг. Вычислите действующую на кирпич силу тяжести и скажите, как действует вес кирпича на огурчи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гурчики вес кирпича физически не действует, он действует на тарелку. Но вес кирпича действует огурчикам на нервы. А на сам кирпич в тарелке действует сила тяжести в 39,2ньютона. Приятного аппети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Picture 4" descr="007"/>
          <p:cNvPicPr/>
          <p:nvPr/>
        </p:nvPicPr>
        <p:blipFill>
          <a:blip r:embed="rId1"/>
          <a:stretch/>
        </p:blipFill>
        <p:spPr>
          <a:xfrm>
            <a:off x="2627280" y="5084640"/>
            <a:ext cx="29527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сса пустой бутылки 450 г. Масса этой же бутылки, наполненной водой, 950 г. А масса бутылки, наполненной той горькой кислятиной, которую врачи прописали печальному  дяде Боре пить три раза в день перед едой, 980 г. Зная плотность воды 1 г/куб.См, определи, не морщась, плотность этой целебной кислятины, которую с отвращением три раза в день хлещет дядя Бор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: плотность кислятины 1,06 г/куб.См. Дядя Боря хлещет ее с очень кислым выражением лиц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97" name="Picture 4" descr="4norm"/>
          <p:cNvPicPr/>
          <p:nvPr/>
        </p:nvPicPr>
        <p:blipFill>
          <a:blip r:embed="rId1"/>
          <a:stretch/>
        </p:blipFill>
        <p:spPr>
          <a:xfrm>
            <a:off x="5580000" y="515772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998" name="WordArt 7"/>
          <p:cNvSpPr txBox="1"/>
          <p:nvPr/>
        </p:nvSpPr>
        <p:spPr>
          <a:xfrm>
            <a:off x="3564000" y="333360"/>
            <a:ext cx="2114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ча 6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с интеллигентного, скромного и тактичного физика требуют деньги за два килограмма колбасы, а он видит, что весы с колбасой показывают всего один килограмм, то закричит ли физик на весь магазин: "нет уж, простите, вес вашей поганой колбасы не два - только один килограмм!"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не закричит. Вежливый физик не станет так грубо выражаться, потому что помнит: в килограммах выражается лишь одна физическая величина - масса. Вес выражается совсем в других величинах - в ньютона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WordArt 4"/>
          <p:cNvSpPr txBox="1"/>
          <p:nvPr/>
        </p:nvSpPr>
        <p:spPr>
          <a:xfrm>
            <a:off x="3635280" y="549360"/>
            <a:ext cx="18954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 7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2:23Z</dcterms:created>
  <dc:creator>klass10t</dc:creator>
  <dc:description/>
  <dc:language>en-US</dc:language>
  <cp:lastModifiedBy>COMP</cp:lastModifiedBy>
  <dcterms:modified xsi:type="dcterms:W3CDTF">2011-10-25T06:39:08Z</dcterms:modified>
  <cp:revision>6</cp:revision>
  <dc:subject/>
  <dc:title>Задачи по физ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