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1D2-3CE4-4896-B2CC-E1C5976A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F97-D942-4034-ABED-6646EEDE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1A6E8-0361-44CC-8C9B-14554549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11B50-CA71-45B7-BD02-87BE4D01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45B7C-DE45-4B52-8405-E22A5AE5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19B82-A480-4F21-B4EA-4B2BBF2C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D2E19-0D8B-4E5C-948F-AAB6AF68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71881-E1E6-412A-A673-D336E5E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624BA-9118-4964-B28B-8D2D7113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9DB61-6E64-4862-9277-7B46BDBC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E3D27-9C9E-44FD-B28A-1A535D7B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B55-4C98-4D3E-93CD-0B257D99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C8B-DD68-4000-BB2A-98AF76AB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A17B-1306-46C4-934F-4A4DB816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1320-1401-4BFD-A100-64001247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22F4-EF7E-4EB4-8A0B-70B9303D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96F2-EFE1-4263-AC0F-1B87BC10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6D83-80E5-48DE-8507-CCC5C987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D084-890C-4BF9-96F7-AA0792C4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2BB2-422E-4731-B4D4-CF0E704B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3C7-2D46-4F79-B426-AFFE275E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29EC-A190-4710-857C-5E49C63B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C476-702F-4188-B433-77267118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07F1-B321-4258-BA19-63E13628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AF4B-1FC1-42F2-AB5B-F1012530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5854-D1AD-4E3F-A15B-736BF750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E1DF-BA93-4072-8E06-2B31435F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93F2-A13C-4AC9-A418-73AB9992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727C-B9FB-42B5-B217-5E47DB2A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B578-10AE-4439-BE5C-982B337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34F9-28FB-4E40-83DF-D0A7755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A25-F53A-4868-9683-597251C3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5F38-2270-4317-BA27-CC0A0A8B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DCDE0-A7EB-4DD7-B2ED-880B5CE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731A-D3D6-4C0B-A051-C6D2D726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75E3-59ED-4D30-8900-F51F4558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D04B-D06A-45AB-93E2-7AAE6039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90DC-83B8-454B-A56B-4C93884B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CFC1-A7D7-4681-99FD-CA6F35D4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D69A-6EE9-4FDA-803A-68F19863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79130-6B42-4CDD-929F-F3EE6E30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CEAB-A80D-49A7-9A3A-975347CC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7DB-58B1-43A0-8369-E994DAA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AA5AA-CA80-4A43-A941-D9AC8B17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5D73-BA67-4FCC-A814-F52D136D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8201A-54C3-4B43-B668-65398CB5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84199-C372-4171-94DF-68D6E24B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649A-C614-44B8-9A02-304424FD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E240-C0A9-4782-9104-F826DF6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9D69-5D08-4BB7-9886-BC487110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D13E-32A3-497C-8278-CC29F7EF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C3C9F-E931-4657-9F1C-7548E0C5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887C5-6A6D-487D-BCAC-75E51724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36C-0956-4ED5-B237-B368119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0E1D-45DA-4CC5-B115-BE0C4FE8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FF704-516A-423C-8178-F32DB41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E185E-439C-4EF6-81A5-537D260B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E029-C458-4E2C-A1D3-6C5EFF92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FD2F-15AE-4839-A045-FA5842B9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4F067-8CCF-4809-A3B0-D140E2D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EAC95-7D3D-42F9-92FB-5690A9E6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961C-C0EC-4200-B84A-01E0D7E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EAF01-1B8C-4CBC-B794-86995FC8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1739F-26CA-4EC5-A5CF-1F44EB93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6BE-5794-4236-9A5B-25D94D14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7F70C-BCAF-436F-A7C6-E1F32C68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7971F-B481-4A92-8709-CFD45DAC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691B-1CB7-4555-B9E8-766FC012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D314-E53D-4832-A689-6131C19A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54AC2-9077-4E57-8078-730FB233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3B10-6CDA-4649-BDC0-F0B51720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0EC7D-BAB9-4BD8-9710-C56692E1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3CF96-D37E-4739-9AC4-A0CA0AC2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7A40D-9511-4F7C-84A4-A946B595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3C65-D3DB-408A-8B10-68C894E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A35-38AD-4C41-BF8F-C66F289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938AC-702B-4C87-BAFF-794421B6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472A-6180-49A1-92EE-3DEA2702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6F9A-DFFC-4A72-9EC1-F8C54E87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2FCFF-21B6-4212-9427-10E2ED98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D5623-9938-4F36-8359-5FB8EFE6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604B0-46FE-4DF7-8A10-A15F5EC8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DC10C-293D-4184-9352-AF445FE6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F2A8E-1963-4194-A03E-9A8E28D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3FA4B-5C3B-4973-A04A-13765FB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15B45-B3CC-42B7-B73E-5FFEECE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AA7-D438-4E67-9CFE-F2B6E81B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F7850-6047-48A2-A5A2-CA6B08F9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C8D9A-D51F-4668-BBE3-82B1E8B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30EAD-2CFD-4BE8-A95F-7B6FA27A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C5C3E-086A-4DBF-B4C2-94A5B8AE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69D2-0425-4DD8-A87A-21C4DADA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5FA25-D283-4442-B36A-17567288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6F26-9A06-4A97-807A-9B956A9B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9728A-5658-4D67-9D6B-8EC27F0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A4840-6BC9-4780-9B73-BEC177BC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D5841-A62C-4266-B3EB-163E3916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970-034F-456E-A65C-05E3B51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AEEA-4B22-4FDB-ACE0-6524C0C2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57121-9738-4C12-B631-A5F07685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3C7A0-CDC4-4CE9-A17E-644B01E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CEEC9-2746-4766-AD47-2C9FDA5B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D973D-CEFB-4803-8537-C37A5A2F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876A6-27C7-445C-ADCA-4B5B5587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C2C3B-A062-4684-B0E1-D3BEDF67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AE400-C9CB-4D09-8DC6-F572379B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A17F9-436B-47BE-BC88-F0318F23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B425D-6FFE-43F1-83D0-767EE059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8EEE-0332-44E3-B951-6091BA0322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76A9-275F-4923-A175-7F095928FD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5ADB-8E5D-4142-A5D4-A7C58233D0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0AA-09CC-4EE9-A835-F47A33403F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C564-7B88-4EC2-8559-8A22880687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A914-CAD5-401F-B69E-B719883C5B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06F0-DE5D-4FE1-B572-2FA692F49B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F731-D2D9-47DE-8080-EEA881A103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F489-1080-42D9-89DE-57945544CB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2600" y="133200"/>
            <a:ext cx="889344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99972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округе больше всего национальных республик?    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Южном ФО, 8 республ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меньше всего субъектов РФ?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Уральском ФО; 6 субъект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больше всего субъектов РФ?      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Центральном ФО, 17 областей, город федерального знач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расположена единственная в РФ автономная область?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Дальневосточном Ф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Скругленный прямоугольник 3"/>
          <p:cNvSpPr/>
          <p:nvPr/>
        </p:nvSpPr>
        <p:spPr>
          <a:xfrm>
            <a:off x="3071880" y="1500120"/>
            <a:ext cx="5143320" cy="571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Скругленный прямоугольник 4"/>
          <p:cNvSpPr/>
          <p:nvPr/>
        </p:nvSpPr>
        <p:spPr>
          <a:xfrm>
            <a:off x="357120" y="2500200"/>
            <a:ext cx="5286600" cy="571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Скругленный прямоугольник 5"/>
          <p:cNvSpPr/>
          <p:nvPr/>
        </p:nvSpPr>
        <p:spPr>
          <a:xfrm>
            <a:off x="428760" y="5500800"/>
            <a:ext cx="4357440" cy="571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Скругленный прямоугольник 6"/>
          <p:cNvSpPr/>
          <p:nvPr/>
        </p:nvSpPr>
        <p:spPr>
          <a:xfrm>
            <a:off x="571680" y="3500280"/>
            <a:ext cx="7286400" cy="10004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14200" y="571320"/>
            <a:ext cx="86868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овите случаи не совпадения названия области и ее центра.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Ленинград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Санкт – Петербург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Амур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Благовещенс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ахалин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Южно- Сахалинс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вердловская область -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Екатеринбур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области не имеют сухопутной границы с другими субъектами РФ? В каких ФО они расположены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алининград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СЗФО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ахалинская область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- ДФО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Скругленный прямоугольник 4"/>
          <p:cNvSpPr/>
          <p:nvPr/>
        </p:nvSpPr>
        <p:spPr>
          <a:xfrm>
            <a:off x="214200" y="1500120"/>
            <a:ext cx="8358480" cy="2214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Скругленный прямоугольник 5"/>
          <p:cNvSpPr/>
          <p:nvPr/>
        </p:nvSpPr>
        <p:spPr>
          <a:xfrm>
            <a:off x="214200" y="5000760"/>
            <a:ext cx="6429600" cy="13572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2792520"/>
            <a:ext cx="901080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3" descr="Россия - копия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428760"/>
            <a:ext cx="9183600" cy="6143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3" descr="Россия. федеральные окрцуга.gif"/>
          <p:cNvPicPr/>
          <p:nvPr/>
        </p:nvPicPr>
        <p:blipFill>
          <a:blip r:embed="rId1"/>
          <a:stretch/>
        </p:blipFill>
        <p:spPr>
          <a:xfrm>
            <a:off x="285840" y="1071720"/>
            <a:ext cx="85960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-23760"/>
            <a:ext cx="8437680" cy="114624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214280" y="785880"/>
            <a:ext cx="7232760" cy="5786280"/>
          </a:xfrm>
          <a:prstGeom prst="rect">
            <a:avLst/>
          </a:prstGeom>
          <a:ln w="0">
            <a:noFill/>
          </a:ln>
        </p:spPr>
      </p:pic>
      <p:sp>
        <p:nvSpPr>
          <p:cNvPr id="405" name="Ink 2"/>
          <p:cNvSpPr/>
          <p:nvPr/>
        </p:nvSpPr>
        <p:spPr>
          <a:xfrm>
            <a:off x="2224080" y="1625760"/>
            <a:ext cx="3089160" cy="2374920"/>
          </a:xfrm>
          <a:custGeom>
            <a:avLst/>
            <a:gdLst/>
            <a:ahLst/>
            <a:rect l="l" t="t" r="r" b="b"/>
            <a:pathLst>
              <a:path w="8584" h="6599">
                <a:moveTo>
                  <a:pt x="6176" y="5705"/>
                </a:moveTo>
                <a:lnTo>
                  <a:pt x="6180" y="5704"/>
                </a:lnTo>
                <a:lnTo>
                  <a:pt x="6268" y="5688"/>
                </a:lnTo>
                <a:lnTo>
                  <a:pt x="6300" y="5680"/>
                </a:lnTo>
                <a:lnTo>
                  <a:pt x="6353" y="5668"/>
                </a:lnTo>
                <a:lnTo>
                  <a:pt x="6424" y="5664"/>
                </a:lnTo>
                <a:lnTo>
                  <a:pt x="6449" y="5655"/>
                </a:lnTo>
                <a:lnTo>
                  <a:pt x="6487" y="5642"/>
                </a:lnTo>
                <a:lnTo>
                  <a:pt x="6512" y="5622"/>
                </a:lnTo>
                <a:lnTo>
                  <a:pt x="6548" y="5606"/>
                </a:lnTo>
                <a:lnTo>
                  <a:pt x="6563" y="5599"/>
                </a:lnTo>
                <a:lnTo>
                  <a:pt x="6662" y="5542"/>
                </a:lnTo>
                <a:lnTo>
                  <a:pt x="6672" y="5531"/>
                </a:lnTo>
                <a:lnTo>
                  <a:pt x="6711" y="5488"/>
                </a:lnTo>
                <a:lnTo>
                  <a:pt x="6720" y="5491"/>
                </a:lnTo>
                <a:lnTo>
                  <a:pt x="6747" y="5432"/>
                </a:lnTo>
                <a:lnTo>
                  <a:pt x="6761" y="5403"/>
                </a:lnTo>
                <a:lnTo>
                  <a:pt x="6758" y="5363"/>
                </a:lnTo>
                <a:lnTo>
                  <a:pt x="6772" y="5333"/>
                </a:lnTo>
                <a:lnTo>
                  <a:pt x="6816" y="5240"/>
                </a:lnTo>
                <a:lnTo>
                  <a:pt x="6827" y="5183"/>
                </a:lnTo>
                <a:lnTo>
                  <a:pt x="6871" y="5110"/>
                </a:lnTo>
                <a:lnTo>
                  <a:pt x="6891" y="5077"/>
                </a:lnTo>
                <a:lnTo>
                  <a:pt x="6905" y="5037"/>
                </a:lnTo>
                <a:lnTo>
                  <a:pt x="6921" y="5011"/>
                </a:lnTo>
                <a:lnTo>
                  <a:pt x="6934" y="4991"/>
                </a:lnTo>
                <a:lnTo>
                  <a:pt x="6979" y="4974"/>
                </a:lnTo>
                <a:lnTo>
                  <a:pt x="6995" y="4936"/>
                </a:lnTo>
                <a:lnTo>
                  <a:pt x="7012" y="4896"/>
                </a:lnTo>
                <a:lnTo>
                  <a:pt x="7003" y="4893"/>
                </a:lnTo>
                <a:lnTo>
                  <a:pt x="7020" y="4862"/>
                </a:lnTo>
                <a:lnTo>
                  <a:pt x="7034" y="4835"/>
                </a:lnTo>
                <a:lnTo>
                  <a:pt x="7026" y="4789"/>
                </a:lnTo>
                <a:lnTo>
                  <a:pt x="7045" y="4762"/>
                </a:lnTo>
                <a:lnTo>
                  <a:pt x="7062" y="4738"/>
                </a:lnTo>
                <a:lnTo>
                  <a:pt x="7078" y="4732"/>
                </a:lnTo>
                <a:lnTo>
                  <a:pt x="7094" y="4713"/>
                </a:lnTo>
                <a:lnTo>
                  <a:pt x="7137" y="4661"/>
                </a:lnTo>
                <a:lnTo>
                  <a:pt x="7174" y="4592"/>
                </a:lnTo>
                <a:lnTo>
                  <a:pt x="7243" y="4589"/>
                </a:lnTo>
                <a:lnTo>
                  <a:pt x="7296" y="4587"/>
                </a:lnTo>
                <a:lnTo>
                  <a:pt x="7313" y="4609"/>
                </a:lnTo>
                <a:lnTo>
                  <a:pt x="7367" y="4614"/>
                </a:lnTo>
                <a:lnTo>
                  <a:pt x="7448" y="4621"/>
                </a:lnTo>
                <a:lnTo>
                  <a:pt x="7490" y="4657"/>
                </a:lnTo>
                <a:lnTo>
                  <a:pt x="7565" y="4688"/>
                </a:lnTo>
                <a:lnTo>
                  <a:pt x="7610" y="4707"/>
                </a:lnTo>
                <a:lnTo>
                  <a:pt x="7652" y="4743"/>
                </a:lnTo>
                <a:lnTo>
                  <a:pt x="7714" y="4762"/>
                </a:lnTo>
                <a:lnTo>
                  <a:pt x="7729" y="4767"/>
                </a:lnTo>
                <a:lnTo>
                  <a:pt x="7761" y="4808"/>
                </a:lnTo>
                <a:lnTo>
                  <a:pt x="7789" y="4812"/>
                </a:lnTo>
                <a:lnTo>
                  <a:pt x="7896" y="4826"/>
                </a:lnTo>
                <a:lnTo>
                  <a:pt x="8210" y="4876"/>
                </a:lnTo>
                <a:lnTo>
                  <a:pt x="8285" y="4862"/>
                </a:lnTo>
                <a:lnTo>
                  <a:pt x="8392" y="4843"/>
                </a:lnTo>
                <a:lnTo>
                  <a:pt x="8390" y="4814"/>
                </a:lnTo>
                <a:lnTo>
                  <a:pt x="8483" y="4762"/>
                </a:lnTo>
                <a:lnTo>
                  <a:pt x="8507" y="4748"/>
                </a:lnTo>
                <a:lnTo>
                  <a:pt x="8541" y="4717"/>
                </a:lnTo>
                <a:lnTo>
                  <a:pt x="8582" y="4688"/>
                </a:lnTo>
                <a:lnTo>
                  <a:pt x="8600" y="4675"/>
                </a:lnTo>
                <a:lnTo>
                  <a:pt x="8628" y="4603"/>
                </a:lnTo>
                <a:lnTo>
                  <a:pt x="8657" y="4589"/>
                </a:lnTo>
                <a:lnTo>
                  <a:pt x="8676" y="4580"/>
                </a:lnTo>
                <a:lnTo>
                  <a:pt x="8714" y="4554"/>
                </a:lnTo>
                <a:lnTo>
                  <a:pt x="8756" y="4539"/>
                </a:lnTo>
                <a:lnTo>
                  <a:pt x="8793" y="4525"/>
                </a:lnTo>
                <a:lnTo>
                  <a:pt x="8868" y="4519"/>
                </a:lnTo>
                <a:lnTo>
                  <a:pt x="8905" y="4514"/>
                </a:lnTo>
                <a:lnTo>
                  <a:pt x="9021" y="4498"/>
                </a:lnTo>
                <a:lnTo>
                  <a:pt x="9155" y="4502"/>
                </a:lnTo>
                <a:lnTo>
                  <a:pt x="9227" y="4564"/>
                </a:lnTo>
                <a:lnTo>
                  <a:pt x="9249" y="4583"/>
                </a:lnTo>
                <a:lnTo>
                  <a:pt x="9276" y="4657"/>
                </a:lnTo>
                <a:lnTo>
                  <a:pt x="9302" y="4688"/>
                </a:lnTo>
                <a:lnTo>
                  <a:pt x="9317" y="4706"/>
                </a:lnTo>
                <a:lnTo>
                  <a:pt x="9332" y="4764"/>
                </a:lnTo>
                <a:lnTo>
                  <a:pt x="9351" y="4787"/>
                </a:lnTo>
                <a:lnTo>
                  <a:pt x="9369" y="4758"/>
                </a:lnTo>
                <a:lnTo>
                  <a:pt x="9431" y="4735"/>
                </a:lnTo>
                <a:lnTo>
                  <a:pt x="9451" y="4688"/>
                </a:lnTo>
                <a:lnTo>
                  <a:pt x="9462" y="4662"/>
                </a:lnTo>
                <a:lnTo>
                  <a:pt x="9463" y="4611"/>
                </a:lnTo>
                <a:lnTo>
                  <a:pt x="9475" y="4589"/>
                </a:lnTo>
                <a:lnTo>
                  <a:pt x="9526" y="4583"/>
                </a:lnTo>
                <a:lnTo>
                  <a:pt x="9513" y="4567"/>
                </a:lnTo>
                <a:lnTo>
                  <a:pt x="9550" y="4564"/>
                </a:lnTo>
                <a:lnTo>
                  <a:pt x="9606" y="4560"/>
                </a:lnTo>
                <a:lnTo>
                  <a:pt x="9667" y="4570"/>
                </a:lnTo>
                <a:lnTo>
                  <a:pt x="9723" y="4564"/>
                </a:lnTo>
                <a:lnTo>
                  <a:pt x="9754" y="4582"/>
                </a:lnTo>
                <a:lnTo>
                  <a:pt x="9731" y="4670"/>
                </a:lnTo>
                <a:lnTo>
                  <a:pt x="9798" y="4688"/>
                </a:lnTo>
                <a:lnTo>
                  <a:pt x="9843" y="4700"/>
                </a:lnTo>
                <a:lnTo>
                  <a:pt x="9869" y="4708"/>
                </a:lnTo>
                <a:lnTo>
                  <a:pt x="9897" y="4713"/>
                </a:lnTo>
                <a:lnTo>
                  <a:pt x="10021" y="4736"/>
                </a:lnTo>
                <a:lnTo>
                  <a:pt x="10169" y="4710"/>
                </a:lnTo>
                <a:lnTo>
                  <a:pt x="10294" y="4713"/>
                </a:lnTo>
                <a:lnTo>
                  <a:pt x="10311" y="4780"/>
                </a:lnTo>
                <a:lnTo>
                  <a:pt x="10310" y="4757"/>
                </a:lnTo>
                <a:lnTo>
                  <a:pt x="10319" y="4837"/>
                </a:lnTo>
                <a:lnTo>
                  <a:pt x="10325" y="4894"/>
                </a:lnTo>
                <a:lnTo>
                  <a:pt x="10325" y="4913"/>
                </a:lnTo>
                <a:lnTo>
                  <a:pt x="10344" y="4961"/>
                </a:lnTo>
                <a:lnTo>
                  <a:pt x="10368" y="5023"/>
                </a:lnTo>
                <a:lnTo>
                  <a:pt x="10340" y="5082"/>
                </a:lnTo>
                <a:lnTo>
                  <a:pt x="10393" y="5135"/>
                </a:lnTo>
                <a:lnTo>
                  <a:pt x="10426" y="5168"/>
                </a:lnTo>
                <a:lnTo>
                  <a:pt x="10452" y="5186"/>
                </a:lnTo>
                <a:lnTo>
                  <a:pt x="10492" y="5209"/>
                </a:lnTo>
                <a:lnTo>
                  <a:pt x="10509" y="5219"/>
                </a:lnTo>
                <a:lnTo>
                  <a:pt x="10651" y="5260"/>
                </a:lnTo>
                <a:lnTo>
                  <a:pt x="10666" y="5259"/>
                </a:lnTo>
                <a:lnTo>
                  <a:pt x="10749" y="5256"/>
                </a:lnTo>
                <a:lnTo>
                  <a:pt x="10707" y="5233"/>
                </a:lnTo>
                <a:lnTo>
                  <a:pt x="10765" y="5209"/>
                </a:lnTo>
                <a:lnTo>
                  <a:pt x="10783" y="5202"/>
                </a:lnTo>
                <a:lnTo>
                  <a:pt x="10811" y="5160"/>
                </a:lnTo>
                <a:lnTo>
                  <a:pt x="10815" y="5159"/>
                </a:lnTo>
                <a:lnTo>
                  <a:pt x="10865" y="5148"/>
                </a:lnTo>
                <a:lnTo>
                  <a:pt x="10817" y="5079"/>
                </a:lnTo>
                <a:lnTo>
                  <a:pt x="10889" y="5085"/>
                </a:lnTo>
                <a:lnTo>
                  <a:pt x="10936" y="5089"/>
                </a:lnTo>
                <a:lnTo>
                  <a:pt x="10950" y="5145"/>
                </a:lnTo>
                <a:lnTo>
                  <a:pt x="11013" y="5159"/>
                </a:lnTo>
                <a:lnTo>
                  <a:pt x="11075" y="5173"/>
                </a:lnTo>
                <a:lnTo>
                  <a:pt x="11109" y="5216"/>
                </a:lnTo>
                <a:lnTo>
                  <a:pt x="11162" y="5234"/>
                </a:lnTo>
                <a:lnTo>
                  <a:pt x="11224" y="5256"/>
                </a:lnTo>
                <a:lnTo>
                  <a:pt x="11338" y="5270"/>
                </a:lnTo>
                <a:lnTo>
                  <a:pt x="11385" y="5308"/>
                </a:lnTo>
                <a:lnTo>
                  <a:pt x="11434" y="5347"/>
                </a:lnTo>
                <a:lnTo>
                  <a:pt x="11443" y="5342"/>
                </a:lnTo>
                <a:lnTo>
                  <a:pt x="11485" y="5383"/>
                </a:lnTo>
                <a:lnTo>
                  <a:pt x="11541" y="5438"/>
                </a:lnTo>
                <a:lnTo>
                  <a:pt x="11510" y="5462"/>
                </a:lnTo>
                <a:lnTo>
                  <a:pt x="11584" y="5531"/>
                </a:lnTo>
                <a:lnTo>
                  <a:pt x="11623" y="5568"/>
                </a:lnTo>
                <a:lnTo>
                  <a:pt x="11668" y="5612"/>
                </a:lnTo>
                <a:lnTo>
                  <a:pt x="11708" y="5655"/>
                </a:lnTo>
                <a:lnTo>
                  <a:pt x="11733" y="5682"/>
                </a:lnTo>
                <a:lnTo>
                  <a:pt x="11771" y="5688"/>
                </a:lnTo>
                <a:lnTo>
                  <a:pt x="11782" y="5705"/>
                </a:lnTo>
                <a:lnTo>
                  <a:pt x="11806" y="5744"/>
                </a:lnTo>
                <a:lnTo>
                  <a:pt x="11805" y="5758"/>
                </a:lnTo>
                <a:lnTo>
                  <a:pt x="11832" y="5804"/>
                </a:lnTo>
                <a:lnTo>
                  <a:pt x="11843" y="5823"/>
                </a:lnTo>
                <a:lnTo>
                  <a:pt x="11821" y="5860"/>
                </a:lnTo>
                <a:lnTo>
                  <a:pt x="11832" y="5879"/>
                </a:lnTo>
                <a:lnTo>
                  <a:pt x="11917" y="5861"/>
                </a:lnTo>
                <a:lnTo>
                  <a:pt x="12003" y="5846"/>
                </a:lnTo>
                <a:lnTo>
                  <a:pt x="12055" y="5829"/>
                </a:lnTo>
                <a:lnTo>
                  <a:pt x="12087" y="5819"/>
                </a:lnTo>
                <a:lnTo>
                  <a:pt x="12088" y="5819"/>
                </a:lnTo>
                <a:lnTo>
                  <a:pt x="12129" y="5804"/>
                </a:lnTo>
                <a:lnTo>
                  <a:pt x="12168" y="5790"/>
                </a:lnTo>
                <a:lnTo>
                  <a:pt x="12259" y="5740"/>
                </a:lnTo>
                <a:lnTo>
                  <a:pt x="12328" y="5730"/>
                </a:lnTo>
                <a:lnTo>
                  <a:pt x="12434" y="5715"/>
                </a:lnTo>
                <a:lnTo>
                  <a:pt x="12486" y="5703"/>
                </a:lnTo>
                <a:lnTo>
                  <a:pt x="12601" y="5730"/>
                </a:lnTo>
                <a:lnTo>
                  <a:pt x="12630" y="5737"/>
                </a:lnTo>
                <a:lnTo>
                  <a:pt x="12638" y="5741"/>
                </a:lnTo>
                <a:lnTo>
                  <a:pt x="12675" y="5755"/>
                </a:lnTo>
                <a:lnTo>
                  <a:pt x="12706" y="5767"/>
                </a:lnTo>
                <a:lnTo>
                  <a:pt x="12710" y="5824"/>
                </a:lnTo>
                <a:lnTo>
                  <a:pt x="12725" y="5829"/>
                </a:lnTo>
                <a:lnTo>
                  <a:pt x="12761" y="5840"/>
                </a:lnTo>
                <a:lnTo>
                  <a:pt x="12786" y="5844"/>
                </a:lnTo>
                <a:lnTo>
                  <a:pt x="12824" y="5854"/>
                </a:lnTo>
                <a:lnTo>
                  <a:pt x="12888" y="5870"/>
                </a:lnTo>
                <a:lnTo>
                  <a:pt x="12948" y="5868"/>
                </a:lnTo>
                <a:lnTo>
                  <a:pt x="13022" y="5879"/>
                </a:lnTo>
                <a:lnTo>
                  <a:pt x="13096" y="5890"/>
                </a:lnTo>
                <a:lnTo>
                  <a:pt x="13190" y="5850"/>
                </a:lnTo>
                <a:lnTo>
                  <a:pt x="13246" y="5904"/>
                </a:lnTo>
                <a:lnTo>
                  <a:pt x="13262" y="5919"/>
                </a:lnTo>
                <a:lnTo>
                  <a:pt x="13256" y="5964"/>
                </a:lnTo>
                <a:lnTo>
                  <a:pt x="13271" y="5978"/>
                </a:lnTo>
                <a:lnTo>
                  <a:pt x="13314" y="6018"/>
                </a:lnTo>
                <a:lnTo>
                  <a:pt x="13283" y="6102"/>
                </a:lnTo>
                <a:lnTo>
                  <a:pt x="13370" y="6152"/>
                </a:lnTo>
                <a:lnTo>
                  <a:pt x="13456" y="6202"/>
                </a:lnTo>
                <a:lnTo>
                  <a:pt x="13578" y="6186"/>
                </a:lnTo>
                <a:lnTo>
                  <a:pt x="13667" y="6226"/>
                </a:lnTo>
                <a:lnTo>
                  <a:pt x="13684" y="6233"/>
                </a:lnTo>
                <a:lnTo>
                  <a:pt x="13684" y="6288"/>
                </a:lnTo>
                <a:lnTo>
                  <a:pt x="13717" y="6300"/>
                </a:lnTo>
                <a:lnTo>
                  <a:pt x="13824" y="6339"/>
                </a:lnTo>
                <a:lnTo>
                  <a:pt x="13887" y="6337"/>
                </a:lnTo>
                <a:lnTo>
                  <a:pt x="13965" y="6400"/>
                </a:lnTo>
                <a:lnTo>
                  <a:pt x="14001" y="6429"/>
                </a:lnTo>
                <a:lnTo>
                  <a:pt x="14014" y="6430"/>
                </a:lnTo>
                <a:lnTo>
                  <a:pt x="14039" y="6449"/>
                </a:lnTo>
                <a:lnTo>
                  <a:pt x="14071" y="6473"/>
                </a:lnTo>
                <a:lnTo>
                  <a:pt x="14091" y="6576"/>
                </a:lnTo>
                <a:lnTo>
                  <a:pt x="14163" y="6598"/>
                </a:lnTo>
                <a:lnTo>
                  <a:pt x="14259" y="6627"/>
                </a:lnTo>
                <a:lnTo>
                  <a:pt x="14385" y="6587"/>
                </a:lnTo>
                <a:lnTo>
                  <a:pt x="14486" y="6598"/>
                </a:lnTo>
                <a:lnTo>
                  <a:pt x="14523" y="6584"/>
                </a:lnTo>
                <a:lnTo>
                  <a:pt x="14461" y="6532"/>
                </a:lnTo>
                <a:lnTo>
                  <a:pt x="14560" y="6524"/>
                </a:lnTo>
                <a:lnTo>
                  <a:pt x="14608" y="6520"/>
                </a:lnTo>
                <a:lnTo>
                  <a:pt x="14662" y="6533"/>
                </a:lnTo>
                <a:lnTo>
                  <a:pt x="14709" y="6524"/>
                </a:lnTo>
                <a:lnTo>
                  <a:pt x="14703" y="6599"/>
                </a:lnTo>
                <a:lnTo>
                  <a:pt x="14650" y="6746"/>
                </a:lnTo>
                <a:lnTo>
                  <a:pt x="14660" y="6796"/>
                </a:lnTo>
                <a:lnTo>
                  <a:pt x="14668" y="6834"/>
                </a:lnTo>
                <a:lnTo>
                  <a:pt x="14678" y="6860"/>
                </a:lnTo>
                <a:lnTo>
                  <a:pt x="14684" y="6896"/>
                </a:lnTo>
                <a:lnTo>
                  <a:pt x="14691" y="6938"/>
                </a:lnTo>
                <a:lnTo>
                  <a:pt x="14747" y="6988"/>
                </a:lnTo>
                <a:lnTo>
                  <a:pt x="14759" y="7045"/>
                </a:lnTo>
                <a:lnTo>
                  <a:pt x="14759" y="7078"/>
                </a:lnTo>
                <a:lnTo>
                  <a:pt x="14759" y="7094"/>
                </a:lnTo>
                <a:lnTo>
                  <a:pt x="14759" y="7119"/>
                </a:lnTo>
                <a:lnTo>
                  <a:pt x="14720" y="7136"/>
                </a:lnTo>
                <a:lnTo>
                  <a:pt x="14715" y="7130"/>
                </a:lnTo>
                <a:lnTo>
                  <a:pt x="14684" y="7144"/>
                </a:lnTo>
                <a:lnTo>
                  <a:pt x="14620" y="7173"/>
                </a:lnTo>
                <a:lnTo>
                  <a:pt x="14594" y="7152"/>
                </a:lnTo>
                <a:lnTo>
                  <a:pt x="14536" y="7193"/>
                </a:lnTo>
                <a:lnTo>
                  <a:pt x="14512" y="7210"/>
                </a:lnTo>
                <a:lnTo>
                  <a:pt x="14505" y="7228"/>
                </a:lnTo>
                <a:lnTo>
                  <a:pt x="14486" y="7243"/>
                </a:lnTo>
                <a:lnTo>
                  <a:pt x="14453" y="7269"/>
                </a:lnTo>
                <a:lnTo>
                  <a:pt x="14431" y="7274"/>
                </a:lnTo>
                <a:lnTo>
                  <a:pt x="14412" y="7293"/>
                </a:lnTo>
                <a:lnTo>
                  <a:pt x="14391" y="7314"/>
                </a:lnTo>
                <a:lnTo>
                  <a:pt x="14406" y="7342"/>
                </a:lnTo>
                <a:lnTo>
                  <a:pt x="14387" y="7367"/>
                </a:lnTo>
                <a:lnTo>
                  <a:pt x="14372" y="7386"/>
                </a:lnTo>
                <a:lnTo>
                  <a:pt x="14354" y="7392"/>
                </a:lnTo>
                <a:lnTo>
                  <a:pt x="14337" y="7417"/>
                </a:lnTo>
                <a:lnTo>
                  <a:pt x="14306" y="7463"/>
                </a:lnTo>
                <a:lnTo>
                  <a:pt x="14303" y="7494"/>
                </a:lnTo>
                <a:lnTo>
                  <a:pt x="14263" y="7541"/>
                </a:lnTo>
                <a:lnTo>
                  <a:pt x="14236" y="7573"/>
                </a:lnTo>
                <a:lnTo>
                  <a:pt x="14205" y="7599"/>
                </a:lnTo>
                <a:lnTo>
                  <a:pt x="14188" y="7615"/>
                </a:lnTo>
                <a:lnTo>
                  <a:pt x="14163" y="7640"/>
                </a:lnTo>
                <a:lnTo>
                  <a:pt x="14132" y="7701"/>
                </a:lnTo>
                <a:lnTo>
                  <a:pt x="14089" y="7714"/>
                </a:lnTo>
                <a:lnTo>
                  <a:pt x="13960" y="7752"/>
                </a:lnTo>
                <a:lnTo>
                  <a:pt x="14044" y="7725"/>
                </a:lnTo>
                <a:lnTo>
                  <a:pt x="13915" y="7714"/>
                </a:lnTo>
                <a:lnTo>
                  <a:pt x="13881" y="7711"/>
                </a:lnTo>
                <a:lnTo>
                  <a:pt x="13823" y="7667"/>
                </a:lnTo>
                <a:lnTo>
                  <a:pt x="13816" y="7665"/>
                </a:lnTo>
                <a:lnTo>
                  <a:pt x="13772" y="7650"/>
                </a:lnTo>
                <a:lnTo>
                  <a:pt x="13734" y="7638"/>
                </a:lnTo>
                <a:lnTo>
                  <a:pt x="13692" y="7615"/>
                </a:lnTo>
                <a:lnTo>
                  <a:pt x="13586" y="7557"/>
                </a:lnTo>
                <a:lnTo>
                  <a:pt x="13480" y="7459"/>
                </a:lnTo>
                <a:lnTo>
                  <a:pt x="13395" y="7417"/>
                </a:lnTo>
                <a:lnTo>
                  <a:pt x="13363" y="7401"/>
                </a:lnTo>
                <a:lnTo>
                  <a:pt x="13273" y="7335"/>
                </a:lnTo>
                <a:lnTo>
                  <a:pt x="13246" y="7342"/>
                </a:lnTo>
                <a:lnTo>
                  <a:pt x="13162" y="7363"/>
                </a:lnTo>
                <a:lnTo>
                  <a:pt x="13225" y="7381"/>
                </a:lnTo>
                <a:lnTo>
                  <a:pt x="13171" y="7417"/>
                </a:lnTo>
                <a:lnTo>
                  <a:pt x="13140" y="7438"/>
                </a:lnTo>
                <a:lnTo>
                  <a:pt x="13142" y="7465"/>
                </a:lnTo>
                <a:lnTo>
                  <a:pt x="13097" y="7491"/>
                </a:lnTo>
                <a:lnTo>
                  <a:pt x="13081" y="7500"/>
                </a:lnTo>
                <a:lnTo>
                  <a:pt x="13097" y="7574"/>
                </a:lnTo>
                <a:lnTo>
                  <a:pt x="13047" y="7590"/>
                </a:lnTo>
                <a:lnTo>
                  <a:pt x="12943" y="7623"/>
                </a:lnTo>
                <a:lnTo>
                  <a:pt x="12774" y="7585"/>
                </a:lnTo>
                <a:lnTo>
                  <a:pt x="12675" y="7565"/>
                </a:lnTo>
                <a:lnTo>
                  <a:pt x="12646" y="7559"/>
                </a:lnTo>
                <a:lnTo>
                  <a:pt x="12578" y="7491"/>
                </a:lnTo>
                <a:lnTo>
                  <a:pt x="12576" y="7491"/>
                </a:lnTo>
                <a:lnTo>
                  <a:pt x="12497" y="7481"/>
                </a:lnTo>
                <a:lnTo>
                  <a:pt x="12365" y="7472"/>
                </a:lnTo>
                <a:lnTo>
                  <a:pt x="12303" y="7516"/>
                </a:lnTo>
                <a:lnTo>
                  <a:pt x="12280" y="7532"/>
                </a:lnTo>
                <a:lnTo>
                  <a:pt x="12297" y="7568"/>
                </a:lnTo>
                <a:lnTo>
                  <a:pt x="12278" y="7590"/>
                </a:lnTo>
                <a:lnTo>
                  <a:pt x="12257" y="7614"/>
                </a:lnTo>
                <a:lnTo>
                  <a:pt x="12252" y="7638"/>
                </a:lnTo>
                <a:lnTo>
                  <a:pt x="12229" y="7689"/>
                </a:lnTo>
                <a:lnTo>
                  <a:pt x="12202" y="7748"/>
                </a:lnTo>
                <a:lnTo>
                  <a:pt x="12206" y="7793"/>
                </a:lnTo>
                <a:lnTo>
                  <a:pt x="12179" y="7838"/>
                </a:lnTo>
                <a:lnTo>
                  <a:pt x="12145" y="7894"/>
                </a:lnTo>
                <a:lnTo>
                  <a:pt x="12123" y="7888"/>
                </a:lnTo>
                <a:lnTo>
                  <a:pt x="12080" y="7938"/>
                </a:lnTo>
                <a:lnTo>
                  <a:pt x="12063" y="7958"/>
                </a:lnTo>
                <a:lnTo>
                  <a:pt x="12042" y="7999"/>
                </a:lnTo>
                <a:lnTo>
                  <a:pt x="12030" y="8012"/>
                </a:lnTo>
                <a:lnTo>
                  <a:pt x="12030" y="8045"/>
                </a:lnTo>
                <a:lnTo>
                  <a:pt x="12022" y="8053"/>
                </a:lnTo>
                <a:lnTo>
                  <a:pt x="11981" y="8037"/>
                </a:lnTo>
                <a:lnTo>
                  <a:pt x="11974" y="8087"/>
                </a:lnTo>
                <a:lnTo>
                  <a:pt x="11967" y="8117"/>
                </a:lnTo>
                <a:lnTo>
                  <a:pt x="11956" y="8161"/>
                </a:lnTo>
                <a:lnTo>
                  <a:pt x="11943" y="8215"/>
                </a:lnTo>
                <a:lnTo>
                  <a:pt x="11908" y="8309"/>
                </a:lnTo>
                <a:lnTo>
                  <a:pt x="11906" y="8334"/>
                </a:lnTo>
                <a:lnTo>
                  <a:pt x="11895" y="8460"/>
                </a:lnTo>
                <a:lnTo>
                  <a:pt x="11893" y="8544"/>
                </a:lnTo>
                <a:lnTo>
                  <a:pt x="11857" y="8632"/>
                </a:lnTo>
                <a:lnTo>
                  <a:pt x="11843" y="8666"/>
                </a:lnTo>
                <a:lnTo>
                  <a:pt x="11917" y="8728"/>
                </a:lnTo>
                <a:lnTo>
                  <a:pt x="11881" y="8731"/>
                </a:lnTo>
                <a:lnTo>
                  <a:pt x="11841" y="8734"/>
                </a:lnTo>
                <a:lnTo>
                  <a:pt x="11870" y="8642"/>
                </a:lnTo>
                <a:lnTo>
                  <a:pt x="11832" y="8632"/>
                </a:lnTo>
                <a:lnTo>
                  <a:pt x="11757" y="8612"/>
                </a:lnTo>
                <a:lnTo>
                  <a:pt x="11700" y="8556"/>
                </a:lnTo>
                <a:lnTo>
                  <a:pt x="11633" y="8533"/>
                </a:lnTo>
                <a:lnTo>
                  <a:pt x="11573" y="8513"/>
                </a:lnTo>
                <a:lnTo>
                  <a:pt x="11550" y="8491"/>
                </a:lnTo>
                <a:lnTo>
                  <a:pt x="11460" y="8483"/>
                </a:lnTo>
                <a:lnTo>
                  <a:pt x="11385" y="8476"/>
                </a:lnTo>
                <a:lnTo>
                  <a:pt x="11300" y="8488"/>
                </a:lnTo>
                <a:lnTo>
                  <a:pt x="11261" y="8508"/>
                </a:lnTo>
                <a:lnTo>
                  <a:pt x="11233" y="8523"/>
                </a:lnTo>
                <a:lnTo>
                  <a:pt x="11232" y="8545"/>
                </a:lnTo>
                <a:lnTo>
                  <a:pt x="11212" y="8558"/>
                </a:lnTo>
                <a:lnTo>
                  <a:pt x="11193" y="8570"/>
                </a:lnTo>
                <a:lnTo>
                  <a:pt x="11160" y="8640"/>
                </a:lnTo>
                <a:lnTo>
                  <a:pt x="11137" y="8657"/>
                </a:lnTo>
                <a:lnTo>
                  <a:pt x="11119" y="8670"/>
                </a:lnTo>
                <a:lnTo>
                  <a:pt x="11102" y="8697"/>
                </a:lnTo>
                <a:lnTo>
                  <a:pt x="11088" y="8706"/>
                </a:lnTo>
                <a:lnTo>
                  <a:pt x="11040" y="8738"/>
                </a:lnTo>
                <a:lnTo>
                  <a:pt x="11017" y="8752"/>
                </a:lnTo>
                <a:lnTo>
                  <a:pt x="10964" y="8781"/>
                </a:lnTo>
                <a:lnTo>
                  <a:pt x="10912" y="8809"/>
                </a:lnTo>
                <a:lnTo>
                  <a:pt x="10854" y="8813"/>
                </a:lnTo>
                <a:lnTo>
                  <a:pt x="10815" y="8830"/>
                </a:lnTo>
                <a:lnTo>
                  <a:pt x="10767" y="8851"/>
                </a:lnTo>
                <a:lnTo>
                  <a:pt x="10713" y="8858"/>
                </a:lnTo>
                <a:lnTo>
                  <a:pt x="10666" y="8880"/>
                </a:lnTo>
                <a:lnTo>
                  <a:pt x="10629" y="8897"/>
                </a:lnTo>
                <a:lnTo>
                  <a:pt x="10626" y="8916"/>
                </a:lnTo>
                <a:lnTo>
                  <a:pt x="10592" y="8930"/>
                </a:lnTo>
                <a:lnTo>
                  <a:pt x="10551" y="8930"/>
                </a:lnTo>
                <a:lnTo>
                  <a:pt x="10534" y="8921"/>
                </a:lnTo>
                <a:lnTo>
                  <a:pt x="10542" y="8954"/>
                </a:lnTo>
                <a:lnTo>
                  <a:pt x="10559" y="8994"/>
                </a:lnTo>
                <a:lnTo>
                  <a:pt x="10598" y="8970"/>
                </a:lnTo>
                <a:lnTo>
                  <a:pt x="10616" y="9029"/>
                </a:lnTo>
                <a:lnTo>
                  <a:pt x="10636" y="9097"/>
                </a:lnTo>
                <a:lnTo>
                  <a:pt x="10651" y="9159"/>
                </a:lnTo>
                <a:lnTo>
                  <a:pt x="10666" y="9227"/>
                </a:lnTo>
                <a:lnTo>
                  <a:pt x="10676" y="9275"/>
                </a:lnTo>
                <a:lnTo>
                  <a:pt x="10688" y="9360"/>
                </a:lnTo>
                <a:lnTo>
                  <a:pt x="10691" y="9401"/>
                </a:lnTo>
                <a:lnTo>
                  <a:pt x="10704" y="9578"/>
                </a:lnTo>
                <a:lnTo>
                  <a:pt x="10681" y="9745"/>
                </a:lnTo>
                <a:lnTo>
                  <a:pt x="10616" y="9847"/>
                </a:lnTo>
                <a:lnTo>
                  <a:pt x="10595" y="9880"/>
                </a:lnTo>
                <a:lnTo>
                  <a:pt x="10562" y="9924"/>
                </a:lnTo>
                <a:lnTo>
                  <a:pt x="10542" y="9947"/>
                </a:lnTo>
                <a:lnTo>
                  <a:pt x="10527" y="9965"/>
                </a:lnTo>
                <a:lnTo>
                  <a:pt x="10488" y="9976"/>
                </a:lnTo>
                <a:lnTo>
                  <a:pt x="10468" y="9996"/>
                </a:lnTo>
                <a:lnTo>
                  <a:pt x="10460" y="9996"/>
                </a:lnTo>
                <a:lnTo>
                  <a:pt x="10451" y="9996"/>
                </a:lnTo>
                <a:lnTo>
                  <a:pt x="10443" y="9996"/>
                </a:lnTo>
                <a:lnTo>
                  <a:pt x="10409" y="10017"/>
                </a:lnTo>
                <a:lnTo>
                  <a:pt x="10435" y="10016"/>
                </a:lnTo>
                <a:lnTo>
                  <a:pt x="10368" y="10046"/>
                </a:lnTo>
                <a:lnTo>
                  <a:pt x="10320" y="10068"/>
                </a:lnTo>
                <a:lnTo>
                  <a:pt x="10284" y="10094"/>
                </a:lnTo>
                <a:lnTo>
                  <a:pt x="10244" y="10120"/>
                </a:lnTo>
                <a:lnTo>
                  <a:pt x="10209" y="10143"/>
                </a:lnTo>
                <a:lnTo>
                  <a:pt x="10160" y="10129"/>
                </a:lnTo>
                <a:lnTo>
                  <a:pt x="10120" y="10170"/>
                </a:lnTo>
                <a:lnTo>
                  <a:pt x="10107" y="10183"/>
                </a:lnTo>
                <a:lnTo>
                  <a:pt x="10049" y="10264"/>
                </a:lnTo>
                <a:lnTo>
                  <a:pt x="10046" y="10269"/>
                </a:lnTo>
                <a:lnTo>
                  <a:pt x="10029" y="10296"/>
                </a:lnTo>
                <a:lnTo>
                  <a:pt x="10031" y="10320"/>
                </a:lnTo>
                <a:lnTo>
                  <a:pt x="10021" y="10344"/>
                </a:lnTo>
                <a:lnTo>
                  <a:pt x="10003" y="10386"/>
                </a:lnTo>
                <a:lnTo>
                  <a:pt x="10006" y="10420"/>
                </a:lnTo>
                <a:lnTo>
                  <a:pt x="9996" y="10468"/>
                </a:lnTo>
                <a:lnTo>
                  <a:pt x="9971" y="10583"/>
                </a:lnTo>
                <a:lnTo>
                  <a:pt x="9961" y="10712"/>
                </a:lnTo>
                <a:lnTo>
                  <a:pt x="9947" y="10815"/>
                </a:lnTo>
                <a:lnTo>
                  <a:pt x="9931" y="10852"/>
                </a:lnTo>
                <a:lnTo>
                  <a:pt x="9931" y="10843"/>
                </a:lnTo>
                <a:lnTo>
                  <a:pt x="9922" y="10889"/>
                </a:lnTo>
                <a:lnTo>
                  <a:pt x="9915" y="10924"/>
                </a:lnTo>
                <a:lnTo>
                  <a:pt x="9918" y="10961"/>
                </a:lnTo>
                <a:lnTo>
                  <a:pt x="9897" y="10988"/>
                </a:lnTo>
                <a:lnTo>
                  <a:pt x="9838" y="11063"/>
                </a:lnTo>
                <a:lnTo>
                  <a:pt x="9888" y="11049"/>
                </a:lnTo>
                <a:lnTo>
                  <a:pt x="9798" y="11112"/>
                </a:lnTo>
                <a:lnTo>
                  <a:pt x="9774" y="11129"/>
                </a:lnTo>
                <a:lnTo>
                  <a:pt x="9724" y="11097"/>
                </a:lnTo>
                <a:lnTo>
                  <a:pt x="9699" y="11112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Ink 3"/>
          <p:cNvSpPr/>
          <p:nvPr/>
        </p:nvSpPr>
        <p:spPr>
          <a:xfrm>
            <a:off x="5322960" y="1901880"/>
            <a:ext cx="2062080" cy="3332160"/>
          </a:xfrm>
          <a:custGeom>
            <a:avLst/>
            <a:gdLst/>
            <a:ahLst/>
            <a:rect l="l" t="t" r="r" b="b"/>
            <a:pathLst>
              <a:path w="5730" h="9254">
                <a:moveTo>
                  <a:pt x="14808" y="6573"/>
                </a:moveTo>
                <a:lnTo>
                  <a:pt x="14820" y="6493"/>
                </a:lnTo>
                <a:lnTo>
                  <a:pt x="14882" y="6335"/>
                </a:lnTo>
                <a:lnTo>
                  <a:pt x="14883" y="6325"/>
                </a:lnTo>
                <a:lnTo>
                  <a:pt x="14888" y="6244"/>
                </a:lnTo>
                <a:lnTo>
                  <a:pt x="14862" y="6166"/>
                </a:lnTo>
                <a:lnTo>
                  <a:pt x="14858" y="6102"/>
                </a:lnTo>
                <a:lnTo>
                  <a:pt x="14855" y="6051"/>
                </a:lnTo>
                <a:lnTo>
                  <a:pt x="14742" y="6065"/>
                </a:lnTo>
                <a:lnTo>
                  <a:pt x="14784" y="5978"/>
                </a:lnTo>
                <a:lnTo>
                  <a:pt x="14797" y="5952"/>
                </a:lnTo>
                <a:lnTo>
                  <a:pt x="14843" y="5925"/>
                </a:lnTo>
                <a:lnTo>
                  <a:pt x="14858" y="5904"/>
                </a:lnTo>
                <a:lnTo>
                  <a:pt x="14861" y="5899"/>
                </a:lnTo>
                <a:lnTo>
                  <a:pt x="14981" y="5853"/>
                </a:lnTo>
                <a:lnTo>
                  <a:pt x="15007" y="5829"/>
                </a:lnTo>
                <a:lnTo>
                  <a:pt x="15023" y="5814"/>
                </a:lnTo>
                <a:lnTo>
                  <a:pt x="15050" y="5782"/>
                </a:lnTo>
                <a:lnTo>
                  <a:pt x="15081" y="5755"/>
                </a:lnTo>
                <a:lnTo>
                  <a:pt x="15123" y="5719"/>
                </a:lnTo>
                <a:lnTo>
                  <a:pt x="15139" y="5711"/>
                </a:lnTo>
                <a:lnTo>
                  <a:pt x="15180" y="5680"/>
                </a:lnTo>
                <a:lnTo>
                  <a:pt x="15214" y="5654"/>
                </a:lnTo>
                <a:lnTo>
                  <a:pt x="15234" y="5650"/>
                </a:lnTo>
                <a:lnTo>
                  <a:pt x="15255" y="5631"/>
                </a:lnTo>
                <a:lnTo>
                  <a:pt x="15290" y="5599"/>
                </a:lnTo>
                <a:lnTo>
                  <a:pt x="15322" y="5543"/>
                </a:lnTo>
                <a:lnTo>
                  <a:pt x="15354" y="5507"/>
                </a:lnTo>
                <a:lnTo>
                  <a:pt x="15387" y="5470"/>
                </a:lnTo>
                <a:lnTo>
                  <a:pt x="15394" y="5468"/>
                </a:lnTo>
                <a:lnTo>
                  <a:pt x="15429" y="5432"/>
                </a:lnTo>
                <a:lnTo>
                  <a:pt x="15479" y="5381"/>
                </a:lnTo>
                <a:lnTo>
                  <a:pt x="15499" y="5333"/>
                </a:lnTo>
                <a:lnTo>
                  <a:pt x="15553" y="5283"/>
                </a:lnTo>
                <a:lnTo>
                  <a:pt x="15561" y="5283"/>
                </a:lnTo>
                <a:lnTo>
                  <a:pt x="15569" y="5283"/>
                </a:lnTo>
                <a:lnTo>
                  <a:pt x="15577" y="5283"/>
                </a:lnTo>
                <a:lnTo>
                  <a:pt x="15608" y="5347"/>
                </a:lnTo>
                <a:lnTo>
                  <a:pt x="15611" y="5393"/>
                </a:lnTo>
                <a:lnTo>
                  <a:pt x="15652" y="5457"/>
                </a:lnTo>
                <a:lnTo>
                  <a:pt x="15670" y="5486"/>
                </a:lnTo>
                <a:lnTo>
                  <a:pt x="15687" y="5509"/>
                </a:lnTo>
                <a:lnTo>
                  <a:pt x="15701" y="5531"/>
                </a:lnTo>
                <a:lnTo>
                  <a:pt x="15722" y="5564"/>
                </a:lnTo>
                <a:lnTo>
                  <a:pt x="15788" y="5607"/>
                </a:lnTo>
                <a:lnTo>
                  <a:pt x="15801" y="5655"/>
                </a:lnTo>
                <a:lnTo>
                  <a:pt x="15829" y="5759"/>
                </a:lnTo>
                <a:lnTo>
                  <a:pt x="15827" y="5823"/>
                </a:lnTo>
                <a:lnTo>
                  <a:pt x="15801" y="5928"/>
                </a:lnTo>
                <a:lnTo>
                  <a:pt x="15785" y="5995"/>
                </a:lnTo>
                <a:lnTo>
                  <a:pt x="15782" y="5955"/>
                </a:lnTo>
                <a:lnTo>
                  <a:pt x="15751" y="6028"/>
                </a:lnTo>
                <a:lnTo>
                  <a:pt x="15734" y="6069"/>
                </a:lnTo>
                <a:lnTo>
                  <a:pt x="15726" y="6085"/>
                </a:lnTo>
                <a:lnTo>
                  <a:pt x="15701" y="6127"/>
                </a:lnTo>
                <a:lnTo>
                  <a:pt x="15670" y="6180"/>
                </a:lnTo>
                <a:lnTo>
                  <a:pt x="15661" y="6155"/>
                </a:lnTo>
                <a:lnTo>
                  <a:pt x="15627" y="6226"/>
                </a:lnTo>
                <a:lnTo>
                  <a:pt x="15604" y="6275"/>
                </a:lnTo>
                <a:lnTo>
                  <a:pt x="15594" y="6296"/>
                </a:lnTo>
                <a:lnTo>
                  <a:pt x="15577" y="6350"/>
                </a:lnTo>
                <a:lnTo>
                  <a:pt x="15561" y="6401"/>
                </a:lnTo>
                <a:lnTo>
                  <a:pt x="15525" y="6490"/>
                </a:lnTo>
                <a:lnTo>
                  <a:pt x="15528" y="6548"/>
                </a:lnTo>
                <a:lnTo>
                  <a:pt x="15531" y="6600"/>
                </a:lnTo>
                <a:lnTo>
                  <a:pt x="15550" y="6683"/>
                </a:lnTo>
                <a:lnTo>
                  <a:pt x="15553" y="6697"/>
                </a:lnTo>
                <a:lnTo>
                  <a:pt x="15558" y="6722"/>
                </a:lnTo>
                <a:lnTo>
                  <a:pt x="15585" y="6760"/>
                </a:lnTo>
                <a:lnTo>
                  <a:pt x="15602" y="6796"/>
                </a:lnTo>
                <a:lnTo>
                  <a:pt x="15620" y="6834"/>
                </a:lnTo>
                <a:lnTo>
                  <a:pt x="15610" y="6841"/>
                </a:lnTo>
                <a:lnTo>
                  <a:pt x="15627" y="6871"/>
                </a:lnTo>
                <a:lnTo>
                  <a:pt x="15646" y="6905"/>
                </a:lnTo>
                <a:lnTo>
                  <a:pt x="15688" y="6901"/>
                </a:lnTo>
                <a:lnTo>
                  <a:pt x="15701" y="6921"/>
                </a:lnTo>
                <a:lnTo>
                  <a:pt x="15718" y="6947"/>
                </a:lnTo>
                <a:lnTo>
                  <a:pt x="15711" y="6995"/>
                </a:lnTo>
                <a:lnTo>
                  <a:pt x="15726" y="7020"/>
                </a:lnTo>
                <a:lnTo>
                  <a:pt x="15732" y="7030"/>
                </a:lnTo>
                <a:lnTo>
                  <a:pt x="15821" y="7077"/>
                </a:lnTo>
                <a:lnTo>
                  <a:pt x="15825" y="7094"/>
                </a:lnTo>
                <a:lnTo>
                  <a:pt x="15848" y="7186"/>
                </a:lnTo>
                <a:lnTo>
                  <a:pt x="15815" y="7298"/>
                </a:lnTo>
                <a:lnTo>
                  <a:pt x="15825" y="7392"/>
                </a:lnTo>
                <a:lnTo>
                  <a:pt x="15843" y="7370"/>
                </a:lnTo>
                <a:lnTo>
                  <a:pt x="15884" y="7367"/>
                </a:lnTo>
                <a:lnTo>
                  <a:pt x="15900" y="7342"/>
                </a:lnTo>
                <a:lnTo>
                  <a:pt x="15917" y="7315"/>
                </a:lnTo>
                <a:lnTo>
                  <a:pt x="15932" y="7263"/>
                </a:lnTo>
                <a:lnTo>
                  <a:pt x="15949" y="7243"/>
                </a:lnTo>
                <a:lnTo>
                  <a:pt x="15956" y="7234"/>
                </a:lnTo>
                <a:lnTo>
                  <a:pt x="15981" y="7157"/>
                </a:lnTo>
                <a:lnTo>
                  <a:pt x="15999" y="7144"/>
                </a:lnTo>
                <a:lnTo>
                  <a:pt x="16037" y="7115"/>
                </a:lnTo>
                <a:lnTo>
                  <a:pt x="16062" y="7094"/>
                </a:lnTo>
                <a:lnTo>
                  <a:pt x="16098" y="7069"/>
                </a:lnTo>
                <a:lnTo>
                  <a:pt x="16135" y="7043"/>
                </a:lnTo>
                <a:lnTo>
                  <a:pt x="16241" y="7002"/>
                </a:lnTo>
                <a:lnTo>
                  <a:pt x="16272" y="6995"/>
                </a:lnTo>
                <a:lnTo>
                  <a:pt x="16411" y="6963"/>
                </a:lnTo>
                <a:lnTo>
                  <a:pt x="16620" y="6961"/>
                </a:lnTo>
                <a:lnTo>
                  <a:pt x="16743" y="6945"/>
                </a:lnTo>
                <a:lnTo>
                  <a:pt x="16907" y="6923"/>
                </a:lnTo>
                <a:lnTo>
                  <a:pt x="16950" y="6933"/>
                </a:lnTo>
                <a:lnTo>
                  <a:pt x="17090" y="6846"/>
                </a:lnTo>
                <a:lnTo>
                  <a:pt x="17124" y="6825"/>
                </a:lnTo>
                <a:lnTo>
                  <a:pt x="17248" y="6750"/>
                </a:lnTo>
                <a:lnTo>
                  <a:pt x="17264" y="6722"/>
                </a:lnTo>
                <a:lnTo>
                  <a:pt x="17306" y="6647"/>
                </a:lnTo>
                <a:lnTo>
                  <a:pt x="17282" y="6515"/>
                </a:lnTo>
                <a:lnTo>
                  <a:pt x="17314" y="6449"/>
                </a:lnTo>
                <a:lnTo>
                  <a:pt x="17331" y="6413"/>
                </a:lnTo>
                <a:lnTo>
                  <a:pt x="17347" y="6396"/>
                </a:lnTo>
                <a:lnTo>
                  <a:pt x="17363" y="6375"/>
                </a:lnTo>
                <a:lnTo>
                  <a:pt x="17384" y="6347"/>
                </a:lnTo>
                <a:lnTo>
                  <a:pt x="17417" y="6259"/>
                </a:lnTo>
                <a:lnTo>
                  <a:pt x="17438" y="6251"/>
                </a:lnTo>
                <a:lnTo>
                  <a:pt x="17509" y="6225"/>
                </a:lnTo>
                <a:lnTo>
                  <a:pt x="17539" y="6220"/>
                </a:lnTo>
                <a:lnTo>
                  <a:pt x="17611" y="6251"/>
                </a:lnTo>
                <a:lnTo>
                  <a:pt x="17641" y="6264"/>
                </a:lnTo>
                <a:lnTo>
                  <a:pt x="17670" y="6332"/>
                </a:lnTo>
                <a:lnTo>
                  <a:pt x="17711" y="6350"/>
                </a:lnTo>
                <a:lnTo>
                  <a:pt x="17770" y="6376"/>
                </a:lnTo>
                <a:lnTo>
                  <a:pt x="17787" y="6427"/>
                </a:lnTo>
                <a:lnTo>
                  <a:pt x="17859" y="6449"/>
                </a:lnTo>
                <a:lnTo>
                  <a:pt x="17970" y="6483"/>
                </a:lnTo>
                <a:lnTo>
                  <a:pt x="18021" y="6431"/>
                </a:lnTo>
                <a:lnTo>
                  <a:pt x="18107" y="6499"/>
                </a:lnTo>
                <a:lnTo>
                  <a:pt x="18132" y="6519"/>
                </a:lnTo>
                <a:lnTo>
                  <a:pt x="18174" y="6645"/>
                </a:lnTo>
                <a:lnTo>
                  <a:pt x="18182" y="6648"/>
                </a:lnTo>
                <a:lnTo>
                  <a:pt x="18215" y="6661"/>
                </a:lnTo>
                <a:lnTo>
                  <a:pt x="18248" y="6660"/>
                </a:lnTo>
                <a:lnTo>
                  <a:pt x="18281" y="6672"/>
                </a:lnTo>
                <a:lnTo>
                  <a:pt x="18360" y="6700"/>
                </a:lnTo>
                <a:lnTo>
                  <a:pt x="18500" y="6685"/>
                </a:lnTo>
                <a:lnTo>
                  <a:pt x="18579" y="6697"/>
                </a:lnTo>
                <a:lnTo>
                  <a:pt x="18657" y="6709"/>
                </a:lnTo>
                <a:lnTo>
                  <a:pt x="18730" y="6714"/>
                </a:lnTo>
                <a:lnTo>
                  <a:pt x="18802" y="6722"/>
                </a:lnTo>
                <a:lnTo>
                  <a:pt x="18948" y="6738"/>
                </a:lnTo>
                <a:lnTo>
                  <a:pt x="19135" y="6782"/>
                </a:lnTo>
                <a:lnTo>
                  <a:pt x="19273" y="6722"/>
                </a:lnTo>
                <a:lnTo>
                  <a:pt x="19326" y="6699"/>
                </a:lnTo>
                <a:lnTo>
                  <a:pt x="19370" y="6566"/>
                </a:lnTo>
                <a:lnTo>
                  <a:pt x="19422" y="6573"/>
                </a:lnTo>
                <a:lnTo>
                  <a:pt x="19507" y="6584"/>
                </a:lnTo>
                <a:lnTo>
                  <a:pt x="19498" y="6603"/>
                </a:lnTo>
                <a:lnTo>
                  <a:pt x="19571" y="6648"/>
                </a:lnTo>
                <a:lnTo>
                  <a:pt x="19619" y="6678"/>
                </a:lnTo>
                <a:lnTo>
                  <a:pt x="19599" y="6754"/>
                </a:lnTo>
                <a:lnTo>
                  <a:pt x="19621" y="6772"/>
                </a:lnTo>
                <a:lnTo>
                  <a:pt x="19763" y="6783"/>
                </a:lnTo>
                <a:lnTo>
                  <a:pt x="19921" y="6800"/>
                </a:lnTo>
                <a:lnTo>
                  <a:pt x="20017" y="6821"/>
                </a:lnTo>
                <a:lnTo>
                  <a:pt x="20099" y="6839"/>
                </a:lnTo>
                <a:lnTo>
                  <a:pt x="20096" y="6858"/>
                </a:lnTo>
                <a:lnTo>
                  <a:pt x="20141" y="6871"/>
                </a:lnTo>
                <a:lnTo>
                  <a:pt x="20220" y="6894"/>
                </a:lnTo>
                <a:lnTo>
                  <a:pt x="20318" y="6874"/>
                </a:lnTo>
                <a:lnTo>
                  <a:pt x="20389" y="6921"/>
                </a:lnTo>
                <a:lnTo>
                  <a:pt x="20409" y="6934"/>
                </a:lnTo>
                <a:lnTo>
                  <a:pt x="20473" y="6923"/>
                </a:lnTo>
                <a:lnTo>
                  <a:pt x="20489" y="6945"/>
                </a:lnTo>
                <a:lnTo>
                  <a:pt x="20551" y="7028"/>
                </a:lnTo>
                <a:lnTo>
                  <a:pt x="20503" y="7183"/>
                </a:lnTo>
                <a:lnTo>
                  <a:pt x="20489" y="7268"/>
                </a:lnTo>
                <a:lnTo>
                  <a:pt x="20482" y="7309"/>
                </a:lnTo>
                <a:lnTo>
                  <a:pt x="20476" y="7327"/>
                </a:lnTo>
                <a:lnTo>
                  <a:pt x="20464" y="7367"/>
                </a:lnTo>
                <a:lnTo>
                  <a:pt x="20438" y="7454"/>
                </a:lnTo>
                <a:lnTo>
                  <a:pt x="20406" y="7611"/>
                </a:lnTo>
                <a:lnTo>
                  <a:pt x="20365" y="7689"/>
                </a:lnTo>
                <a:lnTo>
                  <a:pt x="20344" y="7730"/>
                </a:lnTo>
                <a:lnTo>
                  <a:pt x="20331" y="7735"/>
                </a:lnTo>
                <a:lnTo>
                  <a:pt x="20315" y="7764"/>
                </a:lnTo>
                <a:lnTo>
                  <a:pt x="20306" y="7779"/>
                </a:lnTo>
                <a:lnTo>
                  <a:pt x="20256" y="7805"/>
                </a:lnTo>
                <a:lnTo>
                  <a:pt x="20241" y="7838"/>
                </a:lnTo>
                <a:lnTo>
                  <a:pt x="20224" y="7877"/>
                </a:lnTo>
                <a:lnTo>
                  <a:pt x="20209" y="7924"/>
                </a:lnTo>
                <a:lnTo>
                  <a:pt x="20191" y="7962"/>
                </a:lnTo>
                <a:lnTo>
                  <a:pt x="20182" y="7981"/>
                </a:lnTo>
                <a:lnTo>
                  <a:pt x="20182" y="8040"/>
                </a:lnTo>
                <a:lnTo>
                  <a:pt x="20166" y="8062"/>
                </a:lnTo>
                <a:lnTo>
                  <a:pt x="20154" y="8079"/>
                </a:lnTo>
                <a:lnTo>
                  <a:pt x="20133" y="8116"/>
                </a:lnTo>
                <a:lnTo>
                  <a:pt x="20117" y="8136"/>
                </a:lnTo>
                <a:lnTo>
                  <a:pt x="20102" y="8155"/>
                </a:lnTo>
                <a:lnTo>
                  <a:pt x="20071" y="8157"/>
                </a:lnTo>
                <a:lnTo>
                  <a:pt x="20042" y="8186"/>
                </a:lnTo>
                <a:lnTo>
                  <a:pt x="20025" y="8203"/>
                </a:lnTo>
                <a:lnTo>
                  <a:pt x="20010" y="8218"/>
                </a:lnTo>
                <a:lnTo>
                  <a:pt x="19993" y="8235"/>
                </a:lnTo>
                <a:lnTo>
                  <a:pt x="19962" y="8265"/>
                </a:lnTo>
                <a:lnTo>
                  <a:pt x="19929" y="8279"/>
                </a:lnTo>
                <a:lnTo>
                  <a:pt x="19893" y="8310"/>
                </a:lnTo>
                <a:lnTo>
                  <a:pt x="19856" y="8341"/>
                </a:lnTo>
                <a:lnTo>
                  <a:pt x="19814" y="8391"/>
                </a:lnTo>
                <a:lnTo>
                  <a:pt x="19794" y="8409"/>
                </a:lnTo>
                <a:lnTo>
                  <a:pt x="19766" y="8434"/>
                </a:lnTo>
                <a:lnTo>
                  <a:pt x="19770" y="8431"/>
                </a:lnTo>
                <a:lnTo>
                  <a:pt x="19745" y="8458"/>
                </a:lnTo>
                <a:lnTo>
                  <a:pt x="19712" y="8493"/>
                </a:lnTo>
                <a:lnTo>
                  <a:pt x="19685" y="8504"/>
                </a:lnTo>
                <a:lnTo>
                  <a:pt x="19670" y="8533"/>
                </a:lnTo>
                <a:lnTo>
                  <a:pt x="19659" y="8554"/>
                </a:lnTo>
                <a:lnTo>
                  <a:pt x="19628" y="8603"/>
                </a:lnTo>
                <a:lnTo>
                  <a:pt x="19621" y="8632"/>
                </a:lnTo>
                <a:lnTo>
                  <a:pt x="19576" y="8817"/>
                </a:lnTo>
                <a:lnTo>
                  <a:pt x="19583" y="9134"/>
                </a:lnTo>
                <a:lnTo>
                  <a:pt x="19571" y="9302"/>
                </a:lnTo>
                <a:lnTo>
                  <a:pt x="19557" y="9505"/>
                </a:lnTo>
                <a:lnTo>
                  <a:pt x="19593" y="9699"/>
                </a:lnTo>
                <a:lnTo>
                  <a:pt x="19621" y="9872"/>
                </a:lnTo>
                <a:lnTo>
                  <a:pt x="19483" y="9891"/>
                </a:lnTo>
                <a:lnTo>
                  <a:pt x="19398" y="9861"/>
                </a:lnTo>
                <a:lnTo>
                  <a:pt x="19298" y="9922"/>
                </a:lnTo>
                <a:lnTo>
                  <a:pt x="19248" y="9952"/>
                </a:lnTo>
                <a:lnTo>
                  <a:pt x="19194" y="10006"/>
                </a:lnTo>
                <a:lnTo>
                  <a:pt x="19174" y="10046"/>
                </a:lnTo>
                <a:lnTo>
                  <a:pt x="19149" y="10095"/>
                </a:lnTo>
                <a:lnTo>
                  <a:pt x="19170" y="10145"/>
                </a:lnTo>
                <a:lnTo>
                  <a:pt x="19149" y="10195"/>
                </a:lnTo>
                <a:lnTo>
                  <a:pt x="19107" y="10297"/>
                </a:lnTo>
                <a:lnTo>
                  <a:pt x="19204" y="10353"/>
                </a:lnTo>
                <a:lnTo>
                  <a:pt x="19075" y="10418"/>
                </a:lnTo>
                <a:lnTo>
                  <a:pt x="18977" y="10467"/>
                </a:lnTo>
                <a:lnTo>
                  <a:pt x="18862" y="10414"/>
                </a:lnTo>
                <a:lnTo>
                  <a:pt x="18777" y="10468"/>
                </a:lnTo>
                <a:lnTo>
                  <a:pt x="18777" y="10492"/>
                </a:lnTo>
                <a:lnTo>
                  <a:pt x="18777" y="10501"/>
                </a:lnTo>
                <a:lnTo>
                  <a:pt x="18777" y="10517"/>
                </a:lnTo>
                <a:lnTo>
                  <a:pt x="18742" y="10552"/>
                </a:lnTo>
                <a:lnTo>
                  <a:pt x="18721" y="10561"/>
                </a:lnTo>
                <a:lnTo>
                  <a:pt x="18678" y="10616"/>
                </a:lnTo>
                <a:lnTo>
                  <a:pt x="18662" y="10637"/>
                </a:lnTo>
                <a:lnTo>
                  <a:pt x="18632" y="10626"/>
                </a:lnTo>
                <a:lnTo>
                  <a:pt x="18604" y="10666"/>
                </a:lnTo>
                <a:lnTo>
                  <a:pt x="18582" y="10698"/>
                </a:lnTo>
                <a:lnTo>
                  <a:pt x="18573" y="10745"/>
                </a:lnTo>
                <a:lnTo>
                  <a:pt x="18554" y="10765"/>
                </a:lnTo>
                <a:lnTo>
                  <a:pt x="18534" y="10787"/>
                </a:lnTo>
                <a:lnTo>
                  <a:pt x="18536" y="10808"/>
                </a:lnTo>
                <a:lnTo>
                  <a:pt x="18504" y="10840"/>
                </a:lnTo>
                <a:lnTo>
                  <a:pt x="18494" y="10850"/>
                </a:lnTo>
                <a:lnTo>
                  <a:pt x="18441" y="10875"/>
                </a:lnTo>
                <a:lnTo>
                  <a:pt x="18430" y="10889"/>
                </a:lnTo>
                <a:lnTo>
                  <a:pt x="18387" y="10941"/>
                </a:lnTo>
                <a:lnTo>
                  <a:pt x="18331" y="10956"/>
                </a:lnTo>
                <a:lnTo>
                  <a:pt x="18306" y="11013"/>
                </a:lnTo>
                <a:lnTo>
                  <a:pt x="18282" y="11066"/>
                </a:lnTo>
                <a:lnTo>
                  <a:pt x="18348" y="11054"/>
                </a:lnTo>
                <a:lnTo>
                  <a:pt x="18331" y="11088"/>
                </a:lnTo>
                <a:lnTo>
                  <a:pt x="18311" y="11128"/>
                </a:lnTo>
                <a:lnTo>
                  <a:pt x="18318" y="11158"/>
                </a:lnTo>
                <a:lnTo>
                  <a:pt x="18306" y="11187"/>
                </a:lnTo>
                <a:lnTo>
                  <a:pt x="18280" y="11249"/>
                </a:lnTo>
                <a:lnTo>
                  <a:pt x="18261" y="11233"/>
                </a:lnTo>
                <a:lnTo>
                  <a:pt x="18231" y="11286"/>
                </a:lnTo>
                <a:lnTo>
                  <a:pt x="18198" y="11344"/>
                </a:lnTo>
                <a:lnTo>
                  <a:pt x="18199" y="11378"/>
                </a:lnTo>
                <a:lnTo>
                  <a:pt x="18157" y="11435"/>
                </a:lnTo>
                <a:lnTo>
                  <a:pt x="18122" y="11482"/>
                </a:lnTo>
                <a:lnTo>
                  <a:pt x="18006" y="11546"/>
                </a:lnTo>
                <a:lnTo>
                  <a:pt x="18008" y="11584"/>
                </a:lnTo>
                <a:lnTo>
                  <a:pt x="18015" y="11699"/>
                </a:lnTo>
                <a:lnTo>
                  <a:pt x="18034" y="11641"/>
                </a:lnTo>
                <a:lnTo>
                  <a:pt x="18107" y="11683"/>
                </a:lnTo>
                <a:lnTo>
                  <a:pt x="18133" y="11698"/>
                </a:lnTo>
                <a:lnTo>
                  <a:pt x="18159" y="11690"/>
                </a:lnTo>
                <a:lnTo>
                  <a:pt x="18207" y="11708"/>
                </a:lnTo>
                <a:lnTo>
                  <a:pt x="18297" y="11742"/>
                </a:lnTo>
                <a:lnTo>
                  <a:pt x="18308" y="11696"/>
                </a:lnTo>
                <a:lnTo>
                  <a:pt x="18380" y="11757"/>
                </a:lnTo>
                <a:lnTo>
                  <a:pt x="18415" y="11787"/>
                </a:lnTo>
                <a:lnTo>
                  <a:pt x="18422" y="11777"/>
                </a:lnTo>
                <a:lnTo>
                  <a:pt x="18455" y="11832"/>
                </a:lnTo>
                <a:lnTo>
                  <a:pt x="18469" y="11854"/>
                </a:lnTo>
                <a:lnTo>
                  <a:pt x="18467" y="11906"/>
                </a:lnTo>
                <a:lnTo>
                  <a:pt x="18479" y="11931"/>
                </a:lnTo>
                <a:lnTo>
                  <a:pt x="18491" y="11958"/>
                </a:lnTo>
                <a:lnTo>
                  <a:pt x="18497" y="12002"/>
                </a:lnTo>
                <a:lnTo>
                  <a:pt x="18504" y="12030"/>
                </a:lnTo>
                <a:lnTo>
                  <a:pt x="18515" y="12076"/>
                </a:lnTo>
                <a:lnTo>
                  <a:pt x="18522" y="12070"/>
                </a:lnTo>
                <a:lnTo>
                  <a:pt x="18529" y="12105"/>
                </a:lnTo>
                <a:lnTo>
                  <a:pt x="18544" y="12178"/>
                </a:lnTo>
                <a:lnTo>
                  <a:pt x="18575" y="12232"/>
                </a:lnTo>
                <a:lnTo>
                  <a:pt x="18554" y="12303"/>
                </a:lnTo>
                <a:lnTo>
                  <a:pt x="18535" y="12367"/>
                </a:lnTo>
                <a:lnTo>
                  <a:pt x="18533" y="12383"/>
                </a:lnTo>
                <a:lnTo>
                  <a:pt x="18504" y="12427"/>
                </a:lnTo>
                <a:lnTo>
                  <a:pt x="18479" y="12465"/>
                </a:lnTo>
                <a:lnTo>
                  <a:pt x="18428" y="12457"/>
                </a:lnTo>
                <a:lnTo>
                  <a:pt x="18405" y="12477"/>
                </a:lnTo>
                <a:lnTo>
                  <a:pt x="18365" y="12512"/>
                </a:lnTo>
                <a:lnTo>
                  <a:pt x="18379" y="12522"/>
                </a:lnTo>
                <a:lnTo>
                  <a:pt x="18331" y="12551"/>
                </a:lnTo>
                <a:lnTo>
                  <a:pt x="18302" y="12568"/>
                </a:lnTo>
                <a:lnTo>
                  <a:pt x="18269" y="12555"/>
                </a:lnTo>
                <a:lnTo>
                  <a:pt x="18231" y="12576"/>
                </a:lnTo>
                <a:lnTo>
                  <a:pt x="18181" y="12603"/>
                </a:lnTo>
                <a:lnTo>
                  <a:pt x="18142" y="12617"/>
                </a:lnTo>
                <a:lnTo>
                  <a:pt x="18083" y="12626"/>
                </a:lnTo>
                <a:lnTo>
                  <a:pt x="17963" y="12644"/>
                </a:lnTo>
                <a:lnTo>
                  <a:pt x="18098" y="12651"/>
                </a:lnTo>
                <a:lnTo>
                  <a:pt x="17959" y="12626"/>
                </a:lnTo>
                <a:lnTo>
                  <a:pt x="17806" y="12598"/>
                </a:lnTo>
                <a:lnTo>
                  <a:pt x="17856" y="12589"/>
                </a:lnTo>
                <a:lnTo>
                  <a:pt x="17735" y="12526"/>
                </a:lnTo>
                <a:lnTo>
                  <a:pt x="17716" y="12516"/>
                </a:lnTo>
                <a:lnTo>
                  <a:pt x="17699" y="12467"/>
                </a:lnTo>
                <a:lnTo>
                  <a:pt x="17661" y="12452"/>
                </a:lnTo>
                <a:lnTo>
                  <a:pt x="17636" y="12442"/>
                </a:lnTo>
                <a:lnTo>
                  <a:pt x="17575" y="12407"/>
                </a:lnTo>
                <a:lnTo>
                  <a:pt x="17512" y="12427"/>
                </a:lnTo>
                <a:lnTo>
                  <a:pt x="17390" y="12466"/>
                </a:lnTo>
                <a:lnTo>
                  <a:pt x="17459" y="12439"/>
                </a:lnTo>
                <a:lnTo>
                  <a:pt x="17413" y="12551"/>
                </a:lnTo>
                <a:lnTo>
                  <a:pt x="17325" y="12766"/>
                </a:lnTo>
                <a:lnTo>
                  <a:pt x="17475" y="12972"/>
                </a:lnTo>
                <a:lnTo>
                  <a:pt x="17611" y="13097"/>
                </a:lnTo>
                <a:lnTo>
                  <a:pt x="17651" y="13134"/>
                </a:lnTo>
                <a:lnTo>
                  <a:pt x="17689" y="13172"/>
                </a:lnTo>
                <a:lnTo>
                  <a:pt x="17735" y="13196"/>
                </a:lnTo>
                <a:lnTo>
                  <a:pt x="17775" y="13217"/>
                </a:lnTo>
                <a:lnTo>
                  <a:pt x="17791" y="13234"/>
                </a:lnTo>
                <a:lnTo>
                  <a:pt x="17835" y="13246"/>
                </a:lnTo>
                <a:lnTo>
                  <a:pt x="17904" y="13265"/>
                </a:lnTo>
                <a:lnTo>
                  <a:pt x="18220" y="13334"/>
                </a:lnTo>
                <a:lnTo>
                  <a:pt x="18256" y="13320"/>
                </a:lnTo>
                <a:lnTo>
                  <a:pt x="18343" y="13287"/>
                </a:lnTo>
                <a:lnTo>
                  <a:pt x="18347" y="13186"/>
                </a:lnTo>
                <a:lnTo>
                  <a:pt x="18405" y="13146"/>
                </a:lnTo>
                <a:lnTo>
                  <a:pt x="18393" y="13242"/>
                </a:lnTo>
                <a:lnTo>
                  <a:pt x="18401" y="13357"/>
                </a:lnTo>
                <a:lnTo>
                  <a:pt x="18380" y="13419"/>
                </a:lnTo>
                <a:lnTo>
                  <a:pt x="18369" y="13452"/>
                </a:lnTo>
                <a:lnTo>
                  <a:pt x="18343" y="13483"/>
                </a:lnTo>
                <a:lnTo>
                  <a:pt x="18331" y="13519"/>
                </a:lnTo>
                <a:lnTo>
                  <a:pt x="18316" y="13564"/>
                </a:lnTo>
                <a:lnTo>
                  <a:pt x="18302" y="13600"/>
                </a:lnTo>
                <a:lnTo>
                  <a:pt x="18281" y="13643"/>
                </a:lnTo>
                <a:lnTo>
                  <a:pt x="18264" y="13678"/>
                </a:lnTo>
                <a:lnTo>
                  <a:pt x="18270" y="13688"/>
                </a:lnTo>
                <a:lnTo>
                  <a:pt x="18256" y="13717"/>
                </a:lnTo>
                <a:lnTo>
                  <a:pt x="18246" y="13737"/>
                </a:lnTo>
                <a:lnTo>
                  <a:pt x="18225" y="13768"/>
                </a:lnTo>
                <a:lnTo>
                  <a:pt x="18207" y="13791"/>
                </a:lnTo>
                <a:lnTo>
                  <a:pt x="18204" y="13795"/>
                </a:lnTo>
                <a:lnTo>
                  <a:pt x="18167" y="13885"/>
                </a:lnTo>
                <a:lnTo>
                  <a:pt x="18157" y="13891"/>
                </a:lnTo>
                <a:lnTo>
                  <a:pt x="18131" y="13908"/>
                </a:lnTo>
                <a:lnTo>
                  <a:pt x="18014" y="13933"/>
                </a:lnTo>
                <a:lnTo>
                  <a:pt x="17983" y="13940"/>
                </a:lnTo>
                <a:lnTo>
                  <a:pt x="17820" y="13978"/>
                </a:lnTo>
                <a:lnTo>
                  <a:pt x="17783" y="13905"/>
                </a:lnTo>
                <a:lnTo>
                  <a:pt x="17686" y="14015"/>
                </a:lnTo>
                <a:lnTo>
                  <a:pt x="17658" y="14047"/>
                </a:lnTo>
                <a:lnTo>
                  <a:pt x="17649" y="14076"/>
                </a:lnTo>
                <a:lnTo>
                  <a:pt x="17636" y="14114"/>
                </a:lnTo>
                <a:lnTo>
                  <a:pt x="17612" y="14183"/>
                </a:lnTo>
                <a:lnTo>
                  <a:pt x="17626" y="14219"/>
                </a:lnTo>
                <a:lnTo>
                  <a:pt x="17611" y="14288"/>
                </a:lnTo>
                <a:lnTo>
                  <a:pt x="17603" y="14328"/>
                </a:lnTo>
                <a:lnTo>
                  <a:pt x="17617" y="14372"/>
                </a:lnTo>
                <a:lnTo>
                  <a:pt x="17611" y="14412"/>
                </a:lnTo>
                <a:lnTo>
                  <a:pt x="17582" y="14433"/>
                </a:lnTo>
                <a:lnTo>
                  <a:pt x="17549" y="14427"/>
                </a:lnTo>
                <a:lnTo>
                  <a:pt x="17512" y="14461"/>
                </a:lnTo>
                <a:lnTo>
                  <a:pt x="17478" y="14492"/>
                </a:lnTo>
                <a:lnTo>
                  <a:pt x="17460" y="14518"/>
                </a:lnTo>
                <a:lnTo>
                  <a:pt x="17438" y="14536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Ink 4"/>
          <p:cNvSpPr/>
          <p:nvPr/>
        </p:nvSpPr>
        <p:spPr>
          <a:xfrm>
            <a:off x="3589200" y="3990960"/>
            <a:ext cx="180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9971" y="11088"/>
                </a:moveTo>
                <a:cubicBezTo>
                  <a:pt x="9971" y="11096"/>
                  <a:pt x="9971" y="11104"/>
                  <a:pt x="9971" y="11112"/>
                </a:cubicBezTo>
              </a:path>
              <a:path w="1" h="25">
                <a:moveTo>
                  <a:pt x="9971" y="11112"/>
                </a:moveTo>
                <a:lnTo>
                  <a:pt x="9971" y="111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Ink 7"/>
          <p:cNvSpPr/>
          <p:nvPr/>
        </p:nvSpPr>
        <p:spPr>
          <a:xfrm>
            <a:off x="-971640" y="4786200"/>
            <a:ext cx="36720" cy="63720"/>
          </a:xfrm>
          <a:custGeom>
            <a:avLst/>
            <a:gdLst/>
            <a:ahLst/>
            <a:rect l="l" t="t" r="r" b="b"/>
            <a:pathLst>
              <a:path w="101" h="175">
                <a:moveTo>
                  <a:pt x="-2704" y="13295"/>
                </a:moveTo>
                <a:lnTo>
                  <a:pt x="-2684" y="13336"/>
                </a:lnTo>
                <a:lnTo>
                  <a:pt x="-2675" y="13342"/>
                </a:lnTo>
                <a:lnTo>
                  <a:pt x="-2679" y="13370"/>
                </a:lnTo>
                <a:lnTo>
                  <a:pt x="-2669" y="13373"/>
                </a:lnTo>
                <a:lnTo>
                  <a:pt x="-2615" y="13428"/>
                </a:lnTo>
                <a:lnTo>
                  <a:pt x="-2604" y="13444"/>
                </a:lnTo>
                <a:lnTo>
                  <a:pt x="-2604" y="13452"/>
                </a:lnTo>
                <a:lnTo>
                  <a:pt x="-2604" y="13461"/>
                </a:lnTo>
                <a:lnTo>
                  <a:pt x="-2604" y="13469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Ink 8"/>
          <p:cNvSpPr/>
          <p:nvPr/>
        </p:nvSpPr>
        <p:spPr>
          <a:xfrm>
            <a:off x="1652760" y="2098800"/>
            <a:ext cx="4911480" cy="4187880"/>
          </a:xfrm>
          <a:custGeom>
            <a:avLst/>
            <a:gdLst/>
            <a:ahLst/>
            <a:rect l="l" t="t" r="r" b="b"/>
            <a:pathLst>
              <a:path w="13643" h="11634">
                <a:moveTo>
                  <a:pt x="6102" y="5829"/>
                </a:moveTo>
                <a:cubicBezTo>
                  <a:pt x="6074" y="5838"/>
                  <a:pt x="6030" y="5841"/>
                  <a:pt x="6003" y="5854"/>
                </a:cubicBezTo>
                <a:cubicBezTo>
                  <a:pt x="5983" y="5864"/>
                  <a:pt x="5951" y="5886"/>
                  <a:pt x="5928" y="5904"/>
                </a:cubicBezTo>
                <a:cubicBezTo>
                  <a:pt x="5885" y="5938"/>
                  <a:pt x="5886" y="5933"/>
                  <a:pt x="5854" y="5978"/>
                </a:cubicBezTo>
                <a:cubicBezTo>
                  <a:pt x="5833" y="6008"/>
                  <a:pt x="5793" y="6059"/>
                  <a:pt x="5779" y="6077"/>
                </a:cubicBezTo>
                <a:cubicBezTo>
                  <a:pt x="5763" y="6097"/>
                  <a:pt x="5748" y="6122"/>
                  <a:pt x="5730" y="6152"/>
                </a:cubicBezTo>
                <a:cubicBezTo>
                  <a:pt x="5709" y="6187"/>
                  <a:pt x="5696" y="6215"/>
                  <a:pt x="5680" y="6251"/>
                </a:cubicBezTo>
                <a:cubicBezTo>
                  <a:pt x="5674" y="6264"/>
                  <a:pt x="5642" y="6355"/>
                  <a:pt x="5631" y="6375"/>
                </a:cubicBezTo>
                <a:cubicBezTo>
                  <a:pt x="5607" y="6420"/>
                  <a:pt x="5606" y="6446"/>
                  <a:pt x="5581" y="6499"/>
                </a:cubicBezTo>
                <a:cubicBezTo>
                  <a:pt x="5564" y="6534"/>
                  <a:pt x="5535" y="6601"/>
                  <a:pt x="5531" y="6623"/>
                </a:cubicBezTo>
                <a:cubicBezTo>
                  <a:pt x="5515" y="6719"/>
                  <a:pt x="5550" y="6817"/>
                  <a:pt x="5556" y="6896"/>
                </a:cubicBezTo>
                <a:cubicBezTo>
                  <a:pt x="5563" y="6995"/>
                  <a:pt x="5577" y="7157"/>
                  <a:pt x="5581" y="7218"/>
                </a:cubicBezTo>
                <a:cubicBezTo>
                  <a:pt x="5594" y="7397"/>
                  <a:pt x="5594" y="7599"/>
                  <a:pt x="5606" y="7764"/>
                </a:cubicBezTo>
                <a:cubicBezTo>
                  <a:pt x="5610" y="7818"/>
                  <a:pt x="5621" y="7899"/>
                  <a:pt x="5581" y="7938"/>
                </a:cubicBezTo>
                <a:cubicBezTo>
                  <a:pt x="5509" y="8008"/>
                  <a:pt x="5500" y="7974"/>
                  <a:pt x="5407" y="7987"/>
                </a:cubicBezTo>
                <a:cubicBezTo>
                  <a:pt x="5391" y="7987"/>
                  <a:pt x="5374" y="7987"/>
                  <a:pt x="5358" y="7987"/>
                </a:cubicBezTo>
                <a:cubicBezTo>
                  <a:pt x="5346" y="7930"/>
                  <a:pt x="5351" y="7868"/>
                  <a:pt x="5333" y="7813"/>
                </a:cubicBezTo>
                <a:cubicBezTo>
                  <a:pt x="5324" y="7786"/>
                  <a:pt x="5288" y="7702"/>
                  <a:pt x="5259" y="7689"/>
                </a:cubicBezTo>
                <a:cubicBezTo>
                  <a:pt x="5190" y="7658"/>
                  <a:pt x="4970" y="7685"/>
                  <a:pt x="4936" y="7714"/>
                </a:cubicBezTo>
                <a:cubicBezTo>
                  <a:pt x="4904" y="7742"/>
                  <a:pt x="4909" y="7784"/>
                  <a:pt x="4887" y="7813"/>
                </a:cubicBezTo>
                <a:cubicBezTo>
                  <a:pt x="4868" y="7838"/>
                  <a:pt x="4824" y="7883"/>
                  <a:pt x="4812" y="7913"/>
                </a:cubicBezTo>
                <a:cubicBezTo>
                  <a:pt x="4795" y="7955"/>
                  <a:pt x="4745" y="8042"/>
                  <a:pt x="4738" y="8062"/>
                </a:cubicBezTo>
                <a:cubicBezTo>
                  <a:pt x="4721" y="8113"/>
                  <a:pt x="4698" y="8177"/>
                  <a:pt x="4688" y="8210"/>
                </a:cubicBezTo>
                <a:cubicBezTo>
                  <a:pt x="4672" y="8263"/>
                  <a:pt x="4677" y="8330"/>
                  <a:pt x="4663" y="8384"/>
                </a:cubicBezTo>
                <a:cubicBezTo>
                  <a:pt x="4656" y="8413"/>
                  <a:pt x="4649" y="8475"/>
                  <a:pt x="4638" y="8508"/>
                </a:cubicBezTo>
                <a:cubicBezTo>
                  <a:pt x="4621" y="8556"/>
                  <a:pt x="4598" y="8551"/>
                  <a:pt x="4589" y="8607"/>
                </a:cubicBezTo>
                <a:cubicBezTo>
                  <a:pt x="4566" y="8747"/>
                  <a:pt x="4589" y="8912"/>
                  <a:pt x="4589" y="9054"/>
                </a:cubicBezTo>
                <a:cubicBezTo>
                  <a:pt x="4734" y="9054"/>
                  <a:pt x="4874" y="9049"/>
                  <a:pt x="5011" y="9079"/>
                </a:cubicBezTo>
                <a:cubicBezTo>
                  <a:pt x="5064" y="9091"/>
                  <a:pt x="5161" y="9145"/>
                  <a:pt x="5184" y="9153"/>
                </a:cubicBezTo>
                <a:cubicBezTo>
                  <a:pt x="5246" y="9174"/>
                  <a:pt x="5253" y="9162"/>
                  <a:pt x="5308" y="9203"/>
                </a:cubicBezTo>
                <a:cubicBezTo>
                  <a:pt x="5384" y="9259"/>
                  <a:pt x="5332" y="9222"/>
                  <a:pt x="5383" y="9302"/>
                </a:cubicBezTo>
                <a:cubicBezTo>
                  <a:pt x="5396" y="9323"/>
                  <a:pt x="5392" y="9338"/>
                  <a:pt x="5407" y="9376"/>
                </a:cubicBezTo>
                <a:cubicBezTo>
                  <a:pt x="5415" y="9396"/>
                  <a:pt x="5443" y="9468"/>
                  <a:pt x="5457" y="9500"/>
                </a:cubicBezTo>
                <a:cubicBezTo>
                  <a:pt x="5485" y="9564"/>
                  <a:pt x="5523" y="9602"/>
                  <a:pt x="5531" y="9674"/>
                </a:cubicBezTo>
                <a:cubicBezTo>
                  <a:pt x="5538" y="9737"/>
                  <a:pt x="5518" y="9794"/>
                  <a:pt x="5507" y="9823"/>
                </a:cubicBezTo>
                <a:cubicBezTo>
                  <a:pt x="5493" y="9860"/>
                  <a:pt x="5468" y="9880"/>
                  <a:pt x="5457" y="9897"/>
                </a:cubicBezTo>
                <a:cubicBezTo>
                  <a:pt x="5435" y="9929"/>
                  <a:pt x="5417" y="9968"/>
                  <a:pt x="5383" y="9996"/>
                </a:cubicBezTo>
                <a:cubicBezTo>
                  <a:pt x="5347" y="10027"/>
                  <a:pt x="5337" y="10029"/>
                  <a:pt x="5308" y="10046"/>
                </a:cubicBezTo>
                <a:cubicBezTo>
                  <a:pt x="5275" y="10066"/>
                  <a:pt x="5190" y="10073"/>
                  <a:pt x="5159" y="10096"/>
                </a:cubicBezTo>
                <a:cubicBezTo>
                  <a:pt x="5116" y="10128"/>
                  <a:pt x="5080" y="10146"/>
                  <a:pt x="5060" y="10195"/>
                </a:cubicBezTo>
                <a:cubicBezTo>
                  <a:pt x="5044" y="10235"/>
                  <a:pt x="5040" y="10353"/>
                  <a:pt x="5035" y="10393"/>
                </a:cubicBezTo>
                <a:cubicBezTo>
                  <a:pt x="5028" y="10458"/>
                  <a:pt x="5033" y="10515"/>
                  <a:pt x="5060" y="10567"/>
                </a:cubicBezTo>
                <a:cubicBezTo>
                  <a:pt x="5077" y="10600"/>
                  <a:pt x="5120" y="10653"/>
                  <a:pt x="5135" y="10666"/>
                </a:cubicBezTo>
                <a:cubicBezTo>
                  <a:pt x="5169" y="10696"/>
                  <a:pt x="5218" y="10702"/>
                  <a:pt x="5259" y="10716"/>
                </a:cubicBezTo>
                <a:cubicBezTo>
                  <a:pt x="5308" y="10732"/>
                  <a:pt x="5354" y="10699"/>
                  <a:pt x="5383" y="10765"/>
                </a:cubicBezTo>
                <a:cubicBezTo>
                  <a:pt x="5405" y="10816"/>
                  <a:pt x="5364" y="10872"/>
                  <a:pt x="5358" y="10914"/>
                </a:cubicBezTo>
                <a:cubicBezTo>
                  <a:pt x="5351" y="10960"/>
                  <a:pt x="5348" y="10994"/>
                  <a:pt x="5333" y="11038"/>
                </a:cubicBezTo>
                <a:cubicBezTo>
                  <a:pt x="5318" y="11082"/>
                  <a:pt x="5290" y="11144"/>
                  <a:pt x="5283" y="11187"/>
                </a:cubicBezTo>
                <a:cubicBezTo>
                  <a:pt x="5273" y="11248"/>
                  <a:pt x="5283" y="11282"/>
                  <a:pt x="5259" y="11336"/>
                </a:cubicBezTo>
                <a:cubicBezTo>
                  <a:pt x="5245" y="11366"/>
                  <a:pt x="5217" y="11396"/>
                  <a:pt x="5209" y="11410"/>
                </a:cubicBezTo>
              </a:path>
              <a:path w="13643" h="11634">
                <a:moveTo>
                  <a:pt x="5953" y="11981"/>
                </a:moveTo>
                <a:cubicBezTo>
                  <a:pt x="5953" y="11973"/>
                  <a:pt x="5953" y="11964"/>
                  <a:pt x="5953" y="11956"/>
                </a:cubicBezTo>
                <a:cubicBezTo>
                  <a:pt x="6008" y="11986"/>
                  <a:pt x="6000" y="12002"/>
                  <a:pt x="6028" y="12030"/>
                </a:cubicBezTo>
                <a:cubicBezTo>
                  <a:pt x="6086" y="12089"/>
                  <a:pt x="6077" y="12082"/>
                  <a:pt x="6077" y="12179"/>
                </a:cubicBezTo>
                <a:cubicBezTo>
                  <a:pt x="6077" y="12342"/>
                  <a:pt x="6024" y="12628"/>
                  <a:pt x="6127" y="12750"/>
                </a:cubicBezTo>
                <a:cubicBezTo>
                  <a:pt x="6145" y="12772"/>
                  <a:pt x="6170" y="12828"/>
                  <a:pt x="6201" y="12849"/>
                </a:cubicBezTo>
                <a:cubicBezTo>
                  <a:pt x="6230" y="12868"/>
                  <a:pt x="6295" y="12910"/>
                  <a:pt x="6325" y="12923"/>
                </a:cubicBezTo>
                <a:cubicBezTo>
                  <a:pt x="6333" y="12923"/>
                  <a:pt x="6342" y="12923"/>
                  <a:pt x="6350" y="12923"/>
                </a:cubicBezTo>
                <a:cubicBezTo>
                  <a:pt x="6389" y="12992"/>
                  <a:pt x="6392" y="13009"/>
                  <a:pt x="6400" y="13097"/>
                </a:cubicBezTo>
                <a:cubicBezTo>
                  <a:pt x="6439" y="13119"/>
                  <a:pt x="6462" y="13120"/>
                  <a:pt x="6474" y="13171"/>
                </a:cubicBezTo>
                <a:cubicBezTo>
                  <a:pt x="6488" y="13230"/>
                  <a:pt x="6474" y="13308"/>
                  <a:pt x="6474" y="13370"/>
                </a:cubicBezTo>
                <a:cubicBezTo>
                  <a:pt x="6538" y="13354"/>
                  <a:pt x="6556" y="13368"/>
                  <a:pt x="6598" y="13320"/>
                </a:cubicBezTo>
                <a:cubicBezTo>
                  <a:pt x="6631" y="13282"/>
                  <a:pt x="6667" y="13251"/>
                  <a:pt x="6697" y="13221"/>
                </a:cubicBezTo>
                <a:cubicBezTo>
                  <a:pt x="6722" y="13221"/>
                  <a:pt x="6730" y="13221"/>
                  <a:pt x="6747" y="13221"/>
                </a:cubicBezTo>
              </a:path>
              <a:path w="13643" h="11634">
                <a:moveTo>
                  <a:pt x="6747" y="13320"/>
                </a:moveTo>
                <a:cubicBezTo>
                  <a:pt x="6801" y="13338"/>
                  <a:pt x="6821" y="13346"/>
                  <a:pt x="6871" y="13370"/>
                </a:cubicBezTo>
                <a:cubicBezTo>
                  <a:pt x="6919" y="13393"/>
                  <a:pt x="6956" y="13446"/>
                  <a:pt x="6995" y="13469"/>
                </a:cubicBezTo>
                <a:cubicBezTo>
                  <a:pt x="7039" y="13495"/>
                  <a:pt x="7044" y="13485"/>
                  <a:pt x="7094" y="13494"/>
                </a:cubicBezTo>
                <a:cubicBezTo>
                  <a:pt x="7261" y="13523"/>
                  <a:pt x="7463" y="13485"/>
                  <a:pt x="7615" y="13469"/>
                </a:cubicBezTo>
                <a:cubicBezTo>
                  <a:pt x="7639" y="13466"/>
                  <a:pt x="7665" y="13473"/>
                  <a:pt x="7689" y="13469"/>
                </a:cubicBezTo>
                <a:cubicBezTo>
                  <a:pt x="7709" y="13454"/>
                  <a:pt x="7720" y="13431"/>
                  <a:pt x="7764" y="13419"/>
                </a:cubicBezTo>
                <a:cubicBezTo>
                  <a:pt x="7772" y="13419"/>
                  <a:pt x="7781" y="13419"/>
                  <a:pt x="7789" y="13419"/>
                </a:cubicBezTo>
                <a:cubicBezTo>
                  <a:pt x="7815" y="13383"/>
                  <a:pt x="7856" y="13337"/>
                  <a:pt x="7888" y="13295"/>
                </a:cubicBezTo>
                <a:cubicBezTo>
                  <a:pt x="7914" y="13261"/>
                  <a:pt x="7922" y="13234"/>
                  <a:pt x="7938" y="13196"/>
                </a:cubicBezTo>
                <a:cubicBezTo>
                  <a:pt x="7955" y="13157"/>
                  <a:pt x="7951" y="13140"/>
                  <a:pt x="7962" y="13097"/>
                </a:cubicBezTo>
                <a:cubicBezTo>
                  <a:pt x="7967" y="13076"/>
                  <a:pt x="7986" y="13010"/>
                  <a:pt x="7987" y="12998"/>
                </a:cubicBezTo>
                <a:cubicBezTo>
                  <a:pt x="7990" y="12974"/>
                  <a:pt x="7982" y="12947"/>
                  <a:pt x="7987" y="12923"/>
                </a:cubicBezTo>
                <a:cubicBezTo>
                  <a:pt x="7998" y="12904"/>
                  <a:pt x="8022" y="12868"/>
                  <a:pt x="8037" y="12824"/>
                </a:cubicBezTo>
                <a:cubicBezTo>
                  <a:pt x="8048" y="12808"/>
                  <a:pt x="8090" y="12761"/>
                  <a:pt x="8111" y="12725"/>
                </a:cubicBezTo>
                <a:cubicBezTo>
                  <a:pt x="8134" y="12702"/>
                  <a:pt x="8142" y="12698"/>
                  <a:pt x="8136" y="12675"/>
                </a:cubicBezTo>
                <a:cubicBezTo>
                  <a:pt x="8166" y="12663"/>
                  <a:pt x="8173" y="12666"/>
                  <a:pt x="8210" y="12650"/>
                </a:cubicBezTo>
                <a:cubicBezTo>
                  <a:pt x="8260" y="12628"/>
                  <a:pt x="8303" y="12616"/>
                  <a:pt x="8359" y="12601"/>
                </a:cubicBezTo>
                <a:cubicBezTo>
                  <a:pt x="8361" y="12601"/>
                  <a:pt x="8400" y="12579"/>
                  <a:pt x="8434" y="12576"/>
                </a:cubicBezTo>
                <a:cubicBezTo>
                  <a:pt x="8490" y="12570"/>
                  <a:pt x="8514" y="12585"/>
                  <a:pt x="8558" y="12601"/>
                </a:cubicBezTo>
                <a:cubicBezTo>
                  <a:pt x="8580" y="12624"/>
                  <a:pt x="8585" y="12632"/>
                  <a:pt x="8607" y="12626"/>
                </a:cubicBezTo>
                <a:cubicBezTo>
                  <a:pt x="8614" y="12652"/>
                  <a:pt x="8617" y="12655"/>
                  <a:pt x="8632" y="12675"/>
                </a:cubicBezTo>
                <a:cubicBezTo>
                  <a:pt x="8669" y="12685"/>
                  <a:pt x="8698" y="12690"/>
                  <a:pt x="8731" y="12700"/>
                </a:cubicBezTo>
                <a:cubicBezTo>
                  <a:pt x="8762" y="12710"/>
                  <a:pt x="8800" y="12721"/>
                  <a:pt x="8830" y="12725"/>
                </a:cubicBezTo>
                <a:cubicBezTo>
                  <a:pt x="8886" y="12732"/>
                  <a:pt x="8911" y="12711"/>
                  <a:pt x="8954" y="12700"/>
                </a:cubicBezTo>
                <a:cubicBezTo>
                  <a:pt x="8983" y="12693"/>
                  <a:pt x="9001" y="12684"/>
                  <a:pt x="9029" y="12675"/>
                </a:cubicBezTo>
                <a:cubicBezTo>
                  <a:pt x="9038" y="12641"/>
                  <a:pt x="9037" y="12628"/>
                  <a:pt x="9054" y="12576"/>
                </a:cubicBezTo>
                <a:cubicBezTo>
                  <a:pt x="9067" y="12536"/>
                  <a:pt x="9074" y="12524"/>
                  <a:pt x="9079" y="12477"/>
                </a:cubicBezTo>
                <a:cubicBezTo>
                  <a:pt x="9083" y="12437"/>
                  <a:pt x="9079" y="12393"/>
                  <a:pt x="9079" y="12353"/>
                </a:cubicBezTo>
                <a:cubicBezTo>
                  <a:pt x="9091" y="12337"/>
                  <a:pt x="9105" y="12307"/>
                  <a:pt x="9128" y="12278"/>
                </a:cubicBezTo>
                <a:cubicBezTo>
                  <a:pt x="9170" y="12226"/>
                  <a:pt x="9235" y="12190"/>
                  <a:pt x="9277" y="12154"/>
                </a:cubicBezTo>
                <a:cubicBezTo>
                  <a:pt x="9317" y="12134"/>
                  <a:pt x="9334" y="12136"/>
                  <a:pt x="9327" y="12105"/>
                </a:cubicBezTo>
                <a:cubicBezTo>
                  <a:pt x="9365" y="12091"/>
                  <a:pt x="9390" y="12070"/>
                  <a:pt x="9426" y="12055"/>
                </a:cubicBezTo>
                <a:cubicBezTo>
                  <a:pt x="9434" y="12055"/>
                  <a:pt x="9443" y="12055"/>
                  <a:pt x="9451" y="12055"/>
                </a:cubicBezTo>
                <a:cubicBezTo>
                  <a:pt x="9472" y="12038"/>
                  <a:pt x="9517" y="12020"/>
                  <a:pt x="9550" y="11981"/>
                </a:cubicBezTo>
                <a:cubicBezTo>
                  <a:pt x="9550" y="11973"/>
                  <a:pt x="9550" y="11964"/>
                  <a:pt x="9550" y="11956"/>
                </a:cubicBezTo>
                <a:cubicBezTo>
                  <a:pt x="9595" y="11936"/>
                  <a:pt x="9613" y="11900"/>
                  <a:pt x="9649" y="11881"/>
                </a:cubicBezTo>
                <a:cubicBezTo>
                  <a:pt x="9657" y="11881"/>
                  <a:pt x="9666" y="11881"/>
                  <a:pt x="9674" y="11881"/>
                </a:cubicBezTo>
                <a:cubicBezTo>
                  <a:pt x="9690" y="11853"/>
                  <a:pt x="9703" y="11847"/>
                  <a:pt x="9723" y="11807"/>
                </a:cubicBezTo>
                <a:cubicBezTo>
                  <a:pt x="9736" y="11781"/>
                  <a:pt x="9764" y="11736"/>
                  <a:pt x="9773" y="11708"/>
                </a:cubicBezTo>
                <a:cubicBezTo>
                  <a:pt x="9773" y="11691"/>
                  <a:pt x="9773" y="11675"/>
                  <a:pt x="9773" y="11658"/>
                </a:cubicBezTo>
                <a:cubicBezTo>
                  <a:pt x="9781" y="11641"/>
                  <a:pt x="9817" y="11609"/>
                  <a:pt x="9823" y="11559"/>
                </a:cubicBezTo>
                <a:cubicBezTo>
                  <a:pt x="9829" y="11511"/>
                  <a:pt x="9820" y="11459"/>
                  <a:pt x="9823" y="11410"/>
                </a:cubicBezTo>
                <a:cubicBezTo>
                  <a:pt x="9823" y="11409"/>
                  <a:pt x="9844" y="11368"/>
                  <a:pt x="9847" y="11336"/>
                </a:cubicBezTo>
                <a:cubicBezTo>
                  <a:pt x="9851" y="11295"/>
                  <a:pt x="9847" y="11253"/>
                  <a:pt x="9847" y="11212"/>
                </a:cubicBezTo>
              </a:path>
              <a:path w="13643" h="11634">
                <a:moveTo>
                  <a:pt x="9054" y="12626"/>
                </a:moveTo>
                <a:cubicBezTo>
                  <a:pt x="9071" y="12676"/>
                  <a:pt x="9090" y="12716"/>
                  <a:pt x="9103" y="12750"/>
                </a:cubicBezTo>
                <a:cubicBezTo>
                  <a:pt x="9123" y="12803"/>
                  <a:pt x="9135" y="12850"/>
                  <a:pt x="9153" y="12898"/>
                </a:cubicBezTo>
                <a:cubicBezTo>
                  <a:pt x="9164" y="12927"/>
                  <a:pt x="9164" y="12997"/>
                  <a:pt x="9178" y="13022"/>
                </a:cubicBezTo>
                <a:cubicBezTo>
                  <a:pt x="9199" y="13060"/>
                  <a:pt x="9218" y="13090"/>
                  <a:pt x="9252" y="13122"/>
                </a:cubicBezTo>
                <a:cubicBezTo>
                  <a:pt x="9276" y="13145"/>
                  <a:pt x="9268" y="13154"/>
                  <a:pt x="9302" y="13171"/>
                </a:cubicBezTo>
                <a:cubicBezTo>
                  <a:pt x="9396" y="13218"/>
                  <a:pt x="9515" y="13184"/>
                  <a:pt x="9624" y="13196"/>
                </a:cubicBezTo>
                <a:cubicBezTo>
                  <a:pt x="9736" y="13208"/>
                  <a:pt x="9795" y="13181"/>
                  <a:pt x="9872" y="13246"/>
                </a:cubicBezTo>
                <a:cubicBezTo>
                  <a:pt x="9884" y="13256"/>
                  <a:pt x="9886" y="13307"/>
                  <a:pt x="9897" y="13320"/>
                </a:cubicBezTo>
                <a:cubicBezTo>
                  <a:pt x="9918" y="13343"/>
                  <a:pt x="9926" y="13377"/>
                  <a:pt x="9947" y="13419"/>
                </a:cubicBezTo>
                <a:cubicBezTo>
                  <a:pt x="9978" y="13480"/>
                  <a:pt x="10011" y="13555"/>
                  <a:pt x="10021" y="13618"/>
                </a:cubicBezTo>
                <a:cubicBezTo>
                  <a:pt x="10032" y="13690"/>
                  <a:pt x="10037" y="13802"/>
                  <a:pt x="10046" y="13841"/>
                </a:cubicBezTo>
                <a:cubicBezTo>
                  <a:pt x="10058" y="13895"/>
                  <a:pt x="10042" y="13926"/>
                  <a:pt x="10071" y="13965"/>
                </a:cubicBezTo>
                <a:cubicBezTo>
                  <a:pt x="10090" y="13990"/>
                  <a:pt x="10100" y="13994"/>
                  <a:pt x="10120" y="14015"/>
                </a:cubicBezTo>
                <a:cubicBezTo>
                  <a:pt x="10175" y="14073"/>
                  <a:pt x="10159" y="14021"/>
                  <a:pt x="10220" y="14064"/>
                </a:cubicBezTo>
                <a:cubicBezTo>
                  <a:pt x="10262" y="14094"/>
                  <a:pt x="10269" y="14150"/>
                  <a:pt x="10319" y="14163"/>
                </a:cubicBezTo>
                <a:cubicBezTo>
                  <a:pt x="10388" y="14181"/>
                  <a:pt x="10521" y="14123"/>
                  <a:pt x="10567" y="14188"/>
                </a:cubicBezTo>
                <a:cubicBezTo>
                  <a:pt x="10625" y="14270"/>
                  <a:pt x="10544" y="14414"/>
                  <a:pt x="10616" y="14511"/>
                </a:cubicBezTo>
                <a:cubicBezTo>
                  <a:pt x="10635" y="14537"/>
                  <a:pt x="10689" y="14569"/>
                  <a:pt x="10716" y="14610"/>
                </a:cubicBezTo>
                <a:cubicBezTo>
                  <a:pt x="10721" y="14617"/>
                  <a:pt x="10788" y="14655"/>
                  <a:pt x="10790" y="14660"/>
                </a:cubicBezTo>
                <a:cubicBezTo>
                  <a:pt x="10794" y="14672"/>
                  <a:pt x="10805" y="14720"/>
                  <a:pt x="10815" y="14759"/>
                </a:cubicBezTo>
                <a:cubicBezTo>
                  <a:pt x="10839" y="14852"/>
                  <a:pt x="10822" y="14967"/>
                  <a:pt x="10840" y="15056"/>
                </a:cubicBezTo>
                <a:cubicBezTo>
                  <a:pt x="10858" y="15143"/>
                  <a:pt x="10870" y="15197"/>
                  <a:pt x="10889" y="15255"/>
                </a:cubicBezTo>
                <a:cubicBezTo>
                  <a:pt x="10925" y="15368"/>
                  <a:pt x="10913" y="15389"/>
                  <a:pt x="10988" y="15478"/>
                </a:cubicBezTo>
                <a:cubicBezTo>
                  <a:pt x="10993" y="15484"/>
                  <a:pt x="11059" y="15551"/>
                  <a:pt x="11063" y="15553"/>
                </a:cubicBezTo>
                <a:cubicBezTo>
                  <a:pt x="11083" y="15564"/>
                  <a:pt x="11163" y="15601"/>
                  <a:pt x="11187" y="15602"/>
                </a:cubicBezTo>
                <a:cubicBezTo>
                  <a:pt x="11286" y="15607"/>
                  <a:pt x="11320" y="15577"/>
                  <a:pt x="11361" y="15528"/>
                </a:cubicBezTo>
                <a:cubicBezTo>
                  <a:pt x="11393" y="15490"/>
                  <a:pt x="11395" y="15459"/>
                  <a:pt x="11410" y="15429"/>
                </a:cubicBezTo>
                <a:cubicBezTo>
                  <a:pt x="11434" y="15383"/>
                  <a:pt x="11423" y="15279"/>
                  <a:pt x="11435" y="15230"/>
                </a:cubicBezTo>
                <a:cubicBezTo>
                  <a:pt x="11443" y="15196"/>
                  <a:pt x="11447" y="15116"/>
                  <a:pt x="11460" y="15081"/>
                </a:cubicBezTo>
                <a:cubicBezTo>
                  <a:pt x="11472" y="15050"/>
                  <a:pt x="11472" y="15012"/>
                  <a:pt x="11485" y="14982"/>
                </a:cubicBezTo>
                <a:cubicBezTo>
                  <a:pt x="11507" y="14931"/>
                  <a:pt x="11603" y="14827"/>
                  <a:pt x="11633" y="14808"/>
                </a:cubicBezTo>
                <a:cubicBezTo>
                  <a:pt x="11655" y="14794"/>
                  <a:pt x="11708" y="14772"/>
                  <a:pt x="11757" y="14759"/>
                </a:cubicBezTo>
                <a:cubicBezTo>
                  <a:pt x="11866" y="14729"/>
                  <a:pt x="12104" y="14693"/>
                  <a:pt x="12154" y="14684"/>
                </a:cubicBezTo>
                <a:cubicBezTo>
                  <a:pt x="12200" y="14676"/>
                  <a:pt x="12234" y="14672"/>
                  <a:pt x="12278" y="14660"/>
                </a:cubicBezTo>
                <a:cubicBezTo>
                  <a:pt x="12323" y="14647"/>
                  <a:pt x="12409" y="14641"/>
                  <a:pt x="12427" y="14635"/>
                </a:cubicBezTo>
                <a:cubicBezTo>
                  <a:pt x="12516" y="14607"/>
                  <a:pt x="12596" y="14596"/>
                  <a:pt x="12675" y="14560"/>
                </a:cubicBezTo>
                <a:cubicBezTo>
                  <a:pt x="12708" y="14545"/>
                  <a:pt x="12735" y="14520"/>
                  <a:pt x="12750" y="14511"/>
                </a:cubicBezTo>
                <a:cubicBezTo>
                  <a:pt x="12776" y="14495"/>
                  <a:pt x="12809" y="14463"/>
                  <a:pt x="12849" y="14436"/>
                </a:cubicBezTo>
                <a:cubicBezTo>
                  <a:pt x="12857" y="14428"/>
                  <a:pt x="12866" y="14420"/>
                  <a:pt x="12874" y="14412"/>
                </a:cubicBezTo>
                <a:cubicBezTo>
                  <a:pt x="12907" y="14536"/>
                  <a:pt x="12869" y="14640"/>
                  <a:pt x="12948" y="14709"/>
                </a:cubicBezTo>
                <a:cubicBezTo>
                  <a:pt x="13021" y="14773"/>
                  <a:pt x="13087" y="14785"/>
                  <a:pt x="13171" y="14808"/>
                </a:cubicBezTo>
                <a:cubicBezTo>
                  <a:pt x="13236" y="14826"/>
                  <a:pt x="13324" y="14847"/>
                  <a:pt x="13395" y="14833"/>
                </a:cubicBezTo>
                <a:cubicBezTo>
                  <a:pt x="13440" y="14824"/>
                  <a:pt x="13470" y="14797"/>
                  <a:pt x="13519" y="14784"/>
                </a:cubicBezTo>
                <a:cubicBezTo>
                  <a:pt x="13553" y="14775"/>
                  <a:pt x="13548" y="14748"/>
                  <a:pt x="13593" y="14734"/>
                </a:cubicBezTo>
                <a:cubicBezTo>
                  <a:pt x="13601" y="14734"/>
                  <a:pt x="13610" y="14734"/>
                  <a:pt x="13618" y="14734"/>
                </a:cubicBezTo>
                <a:cubicBezTo>
                  <a:pt x="13630" y="14768"/>
                  <a:pt x="13629" y="14800"/>
                  <a:pt x="13643" y="14833"/>
                </a:cubicBezTo>
                <a:cubicBezTo>
                  <a:pt x="13664" y="14884"/>
                  <a:pt x="13663" y="14963"/>
                  <a:pt x="13692" y="15007"/>
                </a:cubicBezTo>
                <a:cubicBezTo>
                  <a:pt x="13703" y="15025"/>
                  <a:pt x="13772" y="15071"/>
                  <a:pt x="13791" y="15106"/>
                </a:cubicBezTo>
                <a:cubicBezTo>
                  <a:pt x="13812" y="15145"/>
                  <a:pt x="13882" y="15212"/>
                  <a:pt x="13891" y="15230"/>
                </a:cubicBezTo>
                <a:cubicBezTo>
                  <a:pt x="13905" y="15259"/>
                  <a:pt x="13910" y="15343"/>
                  <a:pt x="13915" y="15354"/>
                </a:cubicBezTo>
                <a:cubicBezTo>
                  <a:pt x="13929" y="15387"/>
                  <a:pt x="13942" y="15386"/>
                  <a:pt x="13965" y="15429"/>
                </a:cubicBezTo>
                <a:cubicBezTo>
                  <a:pt x="13983" y="15462"/>
                  <a:pt x="13973" y="15521"/>
                  <a:pt x="13990" y="15553"/>
                </a:cubicBezTo>
                <a:cubicBezTo>
                  <a:pt x="14001" y="15573"/>
                  <a:pt x="14069" y="15610"/>
                  <a:pt x="14089" y="15652"/>
                </a:cubicBezTo>
                <a:cubicBezTo>
                  <a:pt x="14089" y="15668"/>
                  <a:pt x="14089" y="15685"/>
                  <a:pt x="14089" y="15701"/>
                </a:cubicBezTo>
                <a:cubicBezTo>
                  <a:pt x="14103" y="15720"/>
                  <a:pt x="14164" y="15704"/>
                  <a:pt x="14188" y="15751"/>
                </a:cubicBezTo>
                <a:cubicBezTo>
                  <a:pt x="14210" y="15796"/>
                  <a:pt x="14250" y="15825"/>
                  <a:pt x="14263" y="15875"/>
                </a:cubicBezTo>
                <a:cubicBezTo>
                  <a:pt x="14303" y="16029"/>
                  <a:pt x="14218" y="16215"/>
                  <a:pt x="14387" y="16297"/>
                </a:cubicBezTo>
                <a:cubicBezTo>
                  <a:pt x="14437" y="16321"/>
                  <a:pt x="14392" y="16355"/>
                  <a:pt x="14461" y="16346"/>
                </a:cubicBezTo>
                <a:cubicBezTo>
                  <a:pt x="14517" y="16338"/>
                  <a:pt x="14509" y="16292"/>
                  <a:pt x="14536" y="16272"/>
                </a:cubicBezTo>
                <a:cubicBezTo>
                  <a:pt x="14587" y="16234"/>
                  <a:pt x="14612" y="16136"/>
                  <a:pt x="14635" y="16073"/>
                </a:cubicBezTo>
                <a:cubicBezTo>
                  <a:pt x="14648" y="16037"/>
                  <a:pt x="14624" y="15986"/>
                  <a:pt x="14635" y="15949"/>
                </a:cubicBezTo>
                <a:cubicBezTo>
                  <a:pt x="14654" y="15996"/>
                  <a:pt x="14660" y="16081"/>
                  <a:pt x="14684" y="16123"/>
                </a:cubicBezTo>
                <a:cubicBezTo>
                  <a:pt x="14709" y="16166"/>
                  <a:pt x="14713" y="16191"/>
                  <a:pt x="14734" y="16222"/>
                </a:cubicBezTo>
                <a:cubicBezTo>
                  <a:pt x="14767" y="16268"/>
                  <a:pt x="14823" y="16322"/>
                  <a:pt x="14858" y="16346"/>
                </a:cubicBezTo>
                <a:cubicBezTo>
                  <a:pt x="14902" y="16377"/>
                  <a:pt x="14914" y="16377"/>
                  <a:pt x="14957" y="16396"/>
                </a:cubicBezTo>
                <a:cubicBezTo>
                  <a:pt x="14990" y="16410"/>
                  <a:pt x="15047" y="16413"/>
                  <a:pt x="15081" y="16421"/>
                </a:cubicBezTo>
                <a:cubicBezTo>
                  <a:pt x="15132" y="16433"/>
                  <a:pt x="15259" y="16456"/>
                  <a:pt x="15304" y="16446"/>
                </a:cubicBezTo>
                <a:cubicBezTo>
                  <a:pt x="15389" y="16428"/>
                  <a:pt x="15405" y="16378"/>
                  <a:pt x="15478" y="16346"/>
                </a:cubicBezTo>
                <a:cubicBezTo>
                  <a:pt x="15517" y="16329"/>
                  <a:pt x="15523" y="16308"/>
                  <a:pt x="15553" y="16297"/>
                </a:cubicBezTo>
                <a:cubicBezTo>
                  <a:pt x="15621" y="16272"/>
                  <a:pt x="15594" y="16275"/>
                  <a:pt x="15677" y="16247"/>
                </a:cubicBezTo>
                <a:cubicBezTo>
                  <a:pt x="15735" y="16247"/>
                  <a:pt x="15743" y="16247"/>
                  <a:pt x="15776" y="16247"/>
                </a:cubicBezTo>
                <a:cubicBezTo>
                  <a:pt x="15824" y="16370"/>
                  <a:pt x="15767" y="16424"/>
                  <a:pt x="15875" y="16520"/>
                </a:cubicBezTo>
                <a:cubicBezTo>
                  <a:pt x="15889" y="16533"/>
                  <a:pt x="15912" y="16560"/>
                  <a:pt x="15925" y="16570"/>
                </a:cubicBezTo>
                <a:cubicBezTo>
                  <a:pt x="15940" y="16581"/>
                  <a:pt x="16004" y="16587"/>
                  <a:pt x="16024" y="16594"/>
                </a:cubicBezTo>
                <a:cubicBezTo>
                  <a:pt x="16059" y="16606"/>
                  <a:pt x="16061" y="16645"/>
                  <a:pt x="16098" y="16644"/>
                </a:cubicBezTo>
                <a:cubicBezTo>
                  <a:pt x="16197" y="16643"/>
                  <a:pt x="16209" y="16610"/>
                  <a:pt x="16297" y="16570"/>
                </a:cubicBezTo>
                <a:cubicBezTo>
                  <a:pt x="16331" y="16555"/>
                  <a:pt x="16325" y="16521"/>
                  <a:pt x="16371" y="16495"/>
                </a:cubicBezTo>
                <a:cubicBezTo>
                  <a:pt x="16390" y="16566"/>
                  <a:pt x="16405" y="16616"/>
                  <a:pt x="16421" y="16669"/>
                </a:cubicBezTo>
                <a:cubicBezTo>
                  <a:pt x="16440" y="16732"/>
                  <a:pt x="16444" y="16783"/>
                  <a:pt x="16470" y="16842"/>
                </a:cubicBezTo>
                <a:cubicBezTo>
                  <a:pt x="16499" y="16910"/>
                  <a:pt x="16537" y="16953"/>
                  <a:pt x="16570" y="17016"/>
                </a:cubicBezTo>
                <a:cubicBezTo>
                  <a:pt x="16585" y="17045"/>
                  <a:pt x="16619" y="17050"/>
                  <a:pt x="16644" y="17090"/>
                </a:cubicBezTo>
                <a:cubicBezTo>
                  <a:pt x="16675" y="17139"/>
                  <a:pt x="16671" y="17182"/>
                  <a:pt x="16694" y="17214"/>
                </a:cubicBezTo>
                <a:cubicBezTo>
                  <a:pt x="16731" y="17265"/>
                  <a:pt x="16738" y="17332"/>
                  <a:pt x="16793" y="17363"/>
                </a:cubicBezTo>
                <a:cubicBezTo>
                  <a:pt x="16811" y="17373"/>
                  <a:pt x="16837" y="17407"/>
                  <a:pt x="16867" y="17413"/>
                </a:cubicBezTo>
                <a:cubicBezTo>
                  <a:pt x="16989" y="17435"/>
                  <a:pt x="16987" y="17364"/>
                  <a:pt x="17066" y="17314"/>
                </a:cubicBezTo>
                <a:cubicBezTo>
                  <a:pt x="17091" y="17298"/>
                  <a:pt x="17104" y="17268"/>
                  <a:pt x="17140" y="17239"/>
                </a:cubicBezTo>
                <a:cubicBezTo>
                  <a:pt x="17182" y="17205"/>
                  <a:pt x="17175" y="17199"/>
                  <a:pt x="17214" y="17165"/>
                </a:cubicBezTo>
                <a:cubicBezTo>
                  <a:pt x="17266" y="17165"/>
                  <a:pt x="17284" y="17163"/>
                  <a:pt x="17289" y="17115"/>
                </a:cubicBezTo>
                <a:cubicBezTo>
                  <a:pt x="17309" y="17219"/>
                  <a:pt x="17246" y="17337"/>
                  <a:pt x="17338" y="17413"/>
                </a:cubicBezTo>
                <a:cubicBezTo>
                  <a:pt x="17359" y="17430"/>
                  <a:pt x="17378" y="17447"/>
                  <a:pt x="17413" y="17462"/>
                </a:cubicBezTo>
                <a:cubicBezTo>
                  <a:pt x="17524" y="17510"/>
                  <a:pt x="17749" y="17452"/>
                  <a:pt x="17835" y="17413"/>
                </a:cubicBezTo>
                <a:cubicBezTo>
                  <a:pt x="17892" y="17387"/>
                  <a:pt x="17932" y="17356"/>
                  <a:pt x="17983" y="17314"/>
                </a:cubicBezTo>
                <a:cubicBezTo>
                  <a:pt x="18014" y="17288"/>
                  <a:pt x="18032" y="17270"/>
                  <a:pt x="18058" y="17239"/>
                </a:cubicBezTo>
                <a:cubicBezTo>
                  <a:pt x="18092" y="17199"/>
                  <a:pt x="18106" y="17156"/>
                  <a:pt x="18132" y="17115"/>
                </a:cubicBezTo>
                <a:cubicBezTo>
                  <a:pt x="18145" y="17095"/>
                  <a:pt x="18173" y="17063"/>
                  <a:pt x="18182" y="17041"/>
                </a:cubicBezTo>
                <a:cubicBezTo>
                  <a:pt x="18202" y="16994"/>
                  <a:pt x="18225" y="16889"/>
                  <a:pt x="18231" y="16842"/>
                </a:cubicBezTo>
                <a:cubicBezTo>
                  <a:pt x="18252" y="16684"/>
                  <a:pt x="18230" y="16583"/>
                  <a:pt x="18107" y="16495"/>
                </a:cubicBezTo>
                <a:cubicBezTo>
                  <a:pt x="18087" y="16481"/>
                  <a:pt x="18031" y="16486"/>
                  <a:pt x="18008" y="16470"/>
                </a:cubicBezTo>
                <a:cubicBezTo>
                  <a:pt x="17961" y="16438"/>
                  <a:pt x="17861" y="16445"/>
                  <a:pt x="17835" y="16396"/>
                </a:cubicBezTo>
                <a:cubicBezTo>
                  <a:pt x="17740" y="16218"/>
                  <a:pt x="17905" y="15918"/>
                  <a:pt x="17884" y="15751"/>
                </a:cubicBezTo>
                <a:cubicBezTo>
                  <a:pt x="17876" y="15686"/>
                  <a:pt x="17879" y="15659"/>
                  <a:pt x="17859" y="15627"/>
                </a:cubicBezTo>
                <a:cubicBezTo>
                  <a:pt x="17844" y="15603"/>
                  <a:pt x="17820" y="15582"/>
                  <a:pt x="17785" y="15553"/>
                </a:cubicBezTo>
                <a:cubicBezTo>
                  <a:pt x="17756" y="15529"/>
                  <a:pt x="17670" y="15524"/>
                  <a:pt x="17636" y="15503"/>
                </a:cubicBezTo>
                <a:cubicBezTo>
                  <a:pt x="17594" y="15477"/>
                  <a:pt x="17561" y="15452"/>
                  <a:pt x="17512" y="15429"/>
                </a:cubicBezTo>
                <a:cubicBezTo>
                  <a:pt x="17486" y="15417"/>
                  <a:pt x="17447" y="15424"/>
                  <a:pt x="17413" y="15404"/>
                </a:cubicBezTo>
                <a:cubicBezTo>
                  <a:pt x="17375" y="15382"/>
                  <a:pt x="17294" y="15363"/>
                  <a:pt x="17264" y="15329"/>
                </a:cubicBezTo>
                <a:cubicBezTo>
                  <a:pt x="17238" y="15299"/>
                  <a:pt x="17204" y="15239"/>
                  <a:pt x="17190" y="15205"/>
                </a:cubicBezTo>
                <a:cubicBezTo>
                  <a:pt x="17143" y="15094"/>
                  <a:pt x="17207" y="14922"/>
                  <a:pt x="17239" y="14858"/>
                </a:cubicBezTo>
                <a:cubicBezTo>
                  <a:pt x="17266" y="14803"/>
                  <a:pt x="17327" y="14758"/>
                  <a:pt x="17363" y="14709"/>
                </a:cubicBezTo>
                <a:cubicBezTo>
                  <a:pt x="17384" y="14681"/>
                  <a:pt x="17394" y="14632"/>
                  <a:pt x="17413" y="14610"/>
                </a:cubicBezTo>
                <a:cubicBezTo>
                  <a:pt x="17429" y="14602"/>
                  <a:pt x="17446" y="14593"/>
                  <a:pt x="17462" y="14585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437680" cy="130500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4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000080" y="1000080"/>
            <a:ext cx="7683480" cy="535788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оугольник 5" descr=""/>
          <p:cNvPicPr/>
          <p:nvPr/>
        </p:nvPicPr>
        <p:blipFill>
          <a:blip r:embed="rId3"/>
          <a:stretch/>
        </p:blipFill>
        <p:spPr>
          <a:xfrm>
            <a:off x="-274680" y="2803680"/>
            <a:ext cx="1854360" cy="1877760"/>
          </a:xfrm>
          <a:prstGeom prst="rect">
            <a:avLst/>
          </a:prstGeom>
          <a:ln w="0">
            <a:noFill/>
          </a:ln>
        </p:spPr>
      </p:pic>
      <p:sp>
        <p:nvSpPr>
          <p:cNvPr id="413" name="Ink 2"/>
          <p:cNvSpPr/>
          <p:nvPr/>
        </p:nvSpPr>
        <p:spPr>
          <a:xfrm>
            <a:off x="3251160" y="1687680"/>
            <a:ext cx="1812960" cy="1608120"/>
          </a:xfrm>
          <a:custGeom>
            <a:avLst/>
            <a:gdLst/>
            <a:ahLst/>
            <a:rect l="l" t="t" r="r" b="b"/>
            <a:pathLst>
              <a:path w="5036" h="4466">
                <a:moveTo>
                  <a:pt x="14064" y="4738"/>
                </a:moveTo>
                <a:lnTo>
                  <a:pt x="13967" y="4730"/>
                </a:lnTo>
                <a:lnTo>
                  <a:pt x="13865" y="4697"/>
                </a:lnTo>
                <a:lnTo>
                  <a:pt x="13791" y="4688"/>
                </a:lnTo>
                <a:lnTo>
                  <a:pt x="13664" y="4673"/>
                </a:lnTo>
                <a:lnTo>
                  <a:pt x="13531" y="4699"/>
                </a:lnTo>
                <a:lnTo>
                  <a:pt x="13419" y="4713"/>
                </a:lnTo>
                <a:lnTo>
                  <a:pt x="13405" y="4721"/>
                </a:lnTo>
                <a:lnTo>
                  <a:pt x="13349" y="4768"/>
                </a:lnTo>
                <a:lnTo>
                  <a:pt x="13320" y="4787"/>
                </a:lnTo>
                <a:lnTo>
                  <a:pt x="13298" y="4801"/>
                </a:lnTo>
                <a:lnTo>
                  <a:pt x="13262" y="4825"/>
                </a:lnTo>
                <a:lnTo>
                  <a:pt x="13246" y="4837"/>
                </a:lnTo>
                <a:lnTo>
                  <a:pt x="13226" y="4864"/>
                </a:lnTo>
                <a:lnTo>
                  <a:pt x="13190" y="4827"/>
                </a:lnTo>
                <a:lnTo>
                  <a:pt x="13171" y="4887"/>
                </a:lnTo>
                <a:lnTo>
                  <a:pt x="13171" y="4903"/>
                </a:lnTo>
                <a:lnTo>
                  <a:pt x="13171" y="4920"/>
                </a:lnTo>
                <a:lnTo>
                  <a:pt x="13171" y="4936"/>
                </a:lnTo>
                <a:lnTo>
                  <a:pt x="13144" y="4965"/>
                </a:lnTo>
                <a:lnTo>
                  <a:pt x="13134" y="4958"/>
                </a:lnTo>
                <a:lnTo>
                  <a:pt x="13097" y="5011"/>
                </a:lnTo>
                <a:lnTo>
                  <a:pt x="13074" y="5033"/>
                </a:lnTo>
                <a:lnTo>
                  <a:pt x="13066" y="5038"/>
                </a:lnTo>
                <a:lnTo>
                  <a:pt x="13072" y="5060"/>
                </a:lnTo>
                <a:lnTo>
                  <a:pt x="13040" y="5089"/>
                </a:lnTo>
                <a:lnTo>
                  <a:pt x="12985" y="5119"/>
                </a:lnTo>
                <a:lnTo>
                  <a:pt x="12948" y="5159"/>
                </a:lnTo>
                <a:lnTo>
                  <a:pt x="12926" y="5182"/>
                </a:lnTo>
                <a:lnTo>
                  <a:pt x="12926" y="5231"/>
                </a:lnTo>
                <a:lnTo>
                  <a:pt x="12898" y="5259"/>
                </a:lnTo>
                <a:lnTo>
                  <a:pt x="12890" y="5259"/>
                </a:lnTo>
                <a:lnTo>
                  <a:pt x="12882" y="5259"/>
                </a:lnTo>
                <a:lnTo>
                  <a:pt x="12874" y="5259"/>
                </a:lnTo>
                <a:lnTo>
                  <a:pt x="12862" y="5306"/>
                </a:lnTo>
                <a:lnTo>
                  <a:pt x="12869" y="5282"/>
                </a:lnTo>
                <a:lnTo>
                  <a:pt x="12849" y="5308"/>
                </a:lnTo>
                <a:lnTo>
                  <a:pt x="12832" y="5366"/>
                </a:lnTo>
                <a:lnTo>
                  <a:pt x="12841" y="5348"/>
                </a:lnTo>
                <a:lnTo>
                  <a:pt x="12799" y="5383"/>
                </a:lnTo>
                <a:lnTo>
                  <a:pt x="12788" y="5418"/>
                </a:lnTo>
                <a:lnTo>
                  <a:pt x="12755" y="5476"/>
                </a:lnTo>
                <a:lnTo>
                  <a:pt x="12750" y="5507"/>
                </a:lnTo>
                <a:lnTo>
                  <a:pt x="12746" y="5530"/>
                </a:lnTo>
                <a:lnTo>
                  <a:pt x="12756" y="5558"/>
                </a:lnTo>
                <a:lnTo>
                  <a:pt x="12750" y="5581"/>
                </a:lnTo>
                <a:lnTo>
                  <a:pt x="12748" y="5586"/>
                </a:lnTo>
                <a:lnTo>
                  <a:pt x="12734" y="5626"/>
                </a:lnTo>
                <a:lnTo>
                  <a:pt x="12725" y="5655"/>
                </a:lnTo>
                <a:lnTo>
                  <a:pt x="12710" y="5705"/>
                </a:lnTo>
                <a:lnTo>
                  <a:pt x="12688" y="5732"/>
                </a:lnTo>
                <a:lnTo>
                  <a:pt x="12675" y="5779"/>
                </a:lnTo>
                <a:lnTo>
                  <a:pt x="12675" y="5787"/>
                </a:lnTo>
                <a:lnTo>
                  <a:pt x="12675" y="5796"/>
                </a:lnTo>
                <a:lnTo>
                  <a:pt x="12675" y="5804"/>
                </a:lnTo>
                <a:lnTo>
                  <a:pt x="12651" y="5824"/>
                </a:lnTo>
                <a:lnTo>
                  <a:pt x="12635" y="5823"/>
                </a:lnTo>
                <a:lnTo>
                  <a:pt x="12601" y="5854"/>
                </a:lnTo>
                <a:lnTo>
                  <a:pt x="12522" y="5926"/>
                </a:lnTo>
                <a:lnTo>
                  <a:pt x="12460" y="6043"/>
                </a:lnTo>
                <a:lnTo>
                  <a:pt x="12402" y="6102"/>
                </a:lnTo>
                <a:lnTo>
                  <a:pt x="12361" y="6144"/>
                </a:lnTo>
                <a:lnTo>
                  <a:pt x="12308" y="6194"/>
                </a:lnTo>
                <a:lnTo>
                  <a:pt x="12278" y="6226"/>
                </a:lnTo>
                <a:lnTo>
                  <a:pt x="12255" y="6251"/>
                </a:lnTo>
                <a:lnTo>
                  <a:pt x="12220" y="6282"/>
                </a:lnTo>
                <a:lnTo>
                  <a:pt x="12204" y="6300"/>
                </a:lnTo>
                <a:lnTo>
                  <a:pt x="12184" y="6326"/>
                </a:lnTo>
                <a:lnTo>
                  <a:pt x="12189" y="6361"/>
                </a:lnTo>
                <a:lnTo>
                  <a:pt x="12154" y="6400"/>
                </a:lnTo>
                <a:lnTo>
                  <a:pt x="12146" y="6400"/>
                </a:lnTo>
                <a:lnTo>
                  <a:pt x="12137" y="6400"/>
                </a:lnTo>
                <a:lnTo>
                  <a:pt x="12129" y="6400"/>
                </a:lnTo>
                <a:lnTo>
                  <a:pt x="12104" y="6439"/>
                </a:lnTo>
                <a:lnTo>
                  <a:pt x="12090" y="6476"/>
                </a:lnTo>
                <a:lnTo>
                  <a:pt x="12055" y="6524"/>
                </a:lnTo>
                <a:lnTo>
                  <a:pt x="12031" y="6557"/>
                </a:lnTo>
                <a:lnTo>
                  <a:pt x="12004" y="6586"/>
                </a:lnTo>
                <a:lnTo>
                  <a:pt x="11981" y="6623"/>
                </a:lnTo>
                <a:lnTo>
                  <a:pt x="11959" y="6645"/>
                </a:lnTo>
                <a:lnTo>
                  <a:pt x="11950" y="6650"/>
                </a:lnTo>
                <a:lnTo>
                  <a:pt x="11956" y="6672"/>
                </a:lnTo>
                <a:lnTo>
                  <a:pt x="11908" y="6684"/>
                </a:lnTo>
                <a:lnTo>
                  <a:pt x="11932" y="6677"/>
                </a:lnTo>
                <a:lnTo>
                  <a:pt x="11906" y="6697"/>
                </a:lnTo>
                <a:lnTo>
                  <a:pt x="11878" y="6718"/>
                </a:lnTo>
                <a:lnTo>
                  <a:pt x="11838" y="6720"/>
                </a:lnTo>
                <a:lnTo>
                  <a:pt x="11807" y="6747"/>
                </a:lnTo>
                <a:lnTo>
                  <a:pt x="11758" y="6790"/>
                </a:lnTo>
                <a:lnTo>
                  <a:pt x="11720" y="6858"/>
                </a:lnTo>
                <a:lnTo>
                  <a:pt x="11683" y="6896"/>
                </a:lnTo>
                <a:lnTo>
                  <a:pt x="11643" y="6916"/>
                </a:lnTo>
                <a:lnTo>
                  <a:pt x="11626" y="6914"/>
                </a:lnTo>
                <a:lnTo>
                  <a:pt x="11633" y="6945"/>
                </a:lnTo>
                <a:lnTo>
                  <a:pt x="11606" y="6951"/>
                </a:lnTo>
                <a:lnTo>
                  <a:pt x="11583" y="6960"/>
                </a:lnTo>
                <a:lnTo>
                  <a:pt x="11559" y="6970"/>
                </a:lnTo>
                <a:lnTo>
                  <a:pt x="11537" y="6996"/>
                </a:lnTo>
                <a:lnTo>
                  <a:pt x="11506" y="7036"/>
                </a:lnTo>
                <a:lnTo>
                  <a:pt x="11485" y="7069"/>
                </a:lnTo>
                <a:lnTo>
                  <a:pt x="11473" y="7087"/>
                </a:lnTo>
                <a:lnTo>
                  <a:pt x="11427" y="7108"/>
                </a:lnTo>
                <a:lnTo>
                  <a:pt x="11410" y="7144"/>
                </a:lnTo>
                <a:lnTo>
                  <a:pt x="11394" y="7179"/>
                </a:lnTo>
                <a:lnTo>
                  <a:pt x="11368" y="7232"/>
                </a:lnTo>
                <a:lnTo>
                  <a:pt x="11361" y="7268"/>
                </a:lnTo>
                <a:lnTo>
                  <a:pt x="11338" y="7391"/>
                </a:lnTo>
                <a:lnTo>
                  <a:pt x="11361" y="7540"/>
                </a:lnTo>
                <a:lnTo>
                  <a:pt x="11361" y="7665"/>
                </a:lnTo>
                <a:lnTo>
                  <a:pt x="11342" y="7678"/>
                </a:lnTo>
                <a:lnTo>
                  <a:pt x="11266" y="7736"/>
                </a:lnTo>
                <a:lnTo>
                  <a:pt x="11261" y="7739"/>
                </a:lnTo>
                <a:lnTo>
                  <a:pt x="11233" y="7768"/>
                </a:lnTo>
                <a:lnTo>
                  <a:pt x="11220" y="7776"/>
                </a:lnTo>
                <a:lnTo>
                  <a:pt x="11187" y="7764"/>
                </a:lnTo>
                <a:lnTo>
                  <a:pt x="11173" y="7783"/>
                </a:lnTo>
                <a:lnTo>
                  <a:pt x="11128" y="7810"/>
                </a:lnTo>
                <a:lnTo>
                  <a:pt x="11112" y="7838"/>
                </a:lnTo>
                <a:lnTo>
                  <a:pt x="11112" y="7846"/>
                </a:lnTo>
                <a:lnTo>
                  <a:pt x="11112" y="7855"/>
                </a:lnTo>
                <a:lnTo>
                  <a:pt x="11112" y="7863"/>
                </a:lnTo>
                <a:lnTo>
                  <a:pt x="11104" y="7878"/>
                </a:lnTo>
                <a:lnTo>
                  <a:pt x="11072" y="7898"/>
                </a:lnTo>
                <a:lnTo>
                  <a:pt x="11063" y="7938"/>
                </a:lnTo>
                <a:lnTo>
                  <a:pt x="11055" y="7974"/>
                </a:lnTo>
                <a:lnTo>
                  <a:pt x="11045" y="8017"/>
                </a:lnTo>
                <a:lnTo>
                  <a:pt x="11038" y="8062"/>
                </a:lnTo>
                <a:lnTo>
                  <a:pt x="11038" y="8078"/>
                </a:lnTo>
                <a:lnTo>
                  <a:pt x="11038" y="8095"/>
                </a:lnTo>
                <a:lnTo>
                  <a:pt x="11038" y="8111"/>
                </a:lnTo>
                <a:lnTo>
                  <a:pt x="11034" y="8125"/>
                </a:lnTo>
                <a:lnTo>
                  <a:pt x="10991" y="8136"/>
                </a:lnTo>
                <a:lnTo>
                  <a:pt x="10988" y="8186"/>
                </a:lnTo>
                <a:lnTo>
                  <a:pt x="10982" y="8293"/>
                </a:lnTo>
                <a:lnTo>
                  <a:pt x="10988" y="8401"/>
                </a:lnTo>
                <a:lnTo>
                  <a:pt x="10988" y="8508"/>
                </a:lnTo>
                <a:lnTo>
                  <a:pt x="10985" y="8515"/>
                </a:lnTo>
                <a:lnTo>
                  <a:pt x="10972" y="8552"/>
                </a:lnTo>
                <a:lnTo>
                  <a:pt x="10964" y="8582"/>
                </a:lnTo>
                <a:lnTo>
                  <a:pt x="10957" y="8607"/>
                </a:lnTo>
                <a:lnTo>
                  <a:pt x="10946" y="8626"/>
                </a:lnTo>
                <a:lnTo>
                  <a:pt x="10939" y="8657"/>
                </a:lnTo>
                <a:lnTo>
                  <a:pt x="10907" y="8679"/>
                </a:lnTo>
                <a:lnTo>
                  <a:pt x="10931" y="8704"/>
                </a:lnTo>
                <a:lnTo>
                  <a:pt x="10889" y="8731"/>
                </a:lnTo>
                <a:lnTo>
                  <a:pt x="10856" y="8752"/>
                </a:lnTo>
                <a:lnTo>
                  <a:pt x="10800" y="8743"/>
                </a:lnTo>
                <a:lnTo>
                  <a:pt x="10765" y="8756"/>
                </a:lnTo>
                <a:lnTo>
                  <a:pt x="10700" y="8780"/>
                </a:lnTo>
                <a:lnTo>
                  <a:pt x="10611" y="8827"/>
                </a:lnTo>
                <a:lnTo>
                  <a:pt x="10542" y="8855"/>
                </a:lnTo>
                <a:lnTo>
                  <a:pt x="10484" y="8878"/>
                </a:lnTo>
                <a:lnTo>
                  <a:pt x="10488" y="8887"/>
                </a:lnTo>
                <a:lnTo>
                  <a:pt x="10418" y="8905"/>
                </a:lnTo>
                <a:lnTo>
                  <a:pt x="10371" y="8917"/>
                </a:lnTo>
                <a:lnTo>
                  <a:pt x="10343" y="8925"/>
                </a:lnTo>
                <a:lnTo>
                  <a:pt x="10294" y="8930"/>
                </a:lnTo>
                <a:lnTo>
                  <a:pt x="10262" y="8934"/>
                </a:lnTo>
                <a:lnTo>
                  <a:pt x="10227" y="8929"/>
                </a:lnTo>
                <a:lnTo>
                  <a:pt x="10195" y="8930"/>
                </a:lnTo>
                <a:lnTo>
                  <a:pt x="10160" y="8940"/>
                </a:lnTo>
                <a:lnTo>
                  <a:pt x="10156" y="8975"/>
                </a:lnTo>
                <a:lnTo>
                  <a:pt x="10120" y="8979"/>
                </a:lnTo>
                <a:lnTo>
                  <a:pt x="10017" y="8990"/>
                </a:lnTo>
                <a:lnTo>
                  <a:pt x="9922" y="8989"/>
                </a:lnTo>
                <a:lnTo>
                  <a:pt x="9823" y="9004"/>
                </a:lnTo>
                <a:lnTo>
                  <a:pt x="9768" y="9012"/>
                </a:lnTo>
                <a:lnTo>
                  <a:pt x="9722" y="9021"/>
                </a:lnTo>
                <a:lnTo>
                  <a:pt x="9674" y="9029"/>
                </a:lnTo>
                <a:lnTo>
                  <a:pt x="9630" y="9036"/>
                </a:lnTo>
                <a:lnTo>
                  <a:pt x="9602" y="9050"/>
                </a:lnTo>
                <a:lnTo>
                  <a:pt x="9550" y="9054"/>
                </a:lnTo>
                <a:lnTo>
                  <a:pt x="9409" y="9064"/>
                </a:lnTo>
                <a:lnTo>
                  <a:pt x="9252" y="9030"/>
                </a:lnTo>
                <a:lnTo>
                  <a:pt x="9128" y="9079"/>
                </a:lnTo>
                <a:lnTo>
                  <a:pt x="9087" y="9095"/>
                </a:lnTo>
                <a:lnTo>
                  <a:pt x="9069" y="9131"/>
                </a:lnTo>
                <a:lnTo>
                  <a:pt x="9029" y="9153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Ink 3"/>
          <p:cNvSpPr/>
          <p:nvPr/>
        </p:nvSpPr>
        <p:spPr>
          <a:xfrm>
            <a:off x="1455840" y="3795840"/>
            <a:ext cx="438120" cy="384120"/>
          </a:xfrm>
          <a:custGeom>
            <a:avLst/>
            <a:gdLst/>
            <a:ahLst/>
            <a:rect l="l" t="t" r="r" b="b"/>
            <a:pathLst>
              <a:path w="1217" h="1068">
                <a:moveTo>
                  <a:pt x="4911" y="10542"/>
                </a:moveTo>
                <a:lnTo>
                  <a:pt x="4911" y="10594"/>
                </a:lnTo>
                <a:lnTo>
                  <a:pt x="4903" y="10626"/>
                </a:lnTo>
                <a:lnTo>
                  <a:pt x="4936" y="10666"/>
                </a:lnTo>
                <a:lnTo>
                  <a:pt x="4946" y="10679"/>
                </a:lnTo>
                <a:lnTo>
                  <a:pt x="4970" y="10718"/>
                </a:lnTo>
                <a:lnTo>
                  <a:pt x="4986" y="10740"/>
                </a:lnTo>
                <a:lnTo>
                  <a:pt x="5003" y="10762"/>
                </a:lnTo>
                <a:lnTo>
                  <a:pt x="5018" y="10793"/>
                </a:lnTo>
                <a:lnTo>
                  <a:pt x="5035" y="10840"/>
                </a:lnTo>
                <a:lnTo>
                  <a:pt x="5048" y="10877"/>
                </a:lnTo>
                <a:lnTo>
                  <a:pt x="5064" y="10934"/>
                </a:lnTo>
                <a:lnTo>
                  <a:pt x="5085" y="10964"/>
                </a:lnTo>
                <a:lnTo>
                  <a:pt x="5116" y="11008"/>
                </a:lnTo>
                <a:lnTo>
                  <a:pt x="5152" y="11024"/>
                </a:lnTo>
                <a:lnTo>
                  <a:pt x="5184" y="11063"/>
                </a:lnTo>
                <a:lnTo>
                  <a:pt x="5214" y="11099"/>
                </a:lnTo>
                <a:lnTo>
                  <a:pt x="5245" y="11087"/>
                </a:lnTo>
                <a:lnTo>
                  <a:pt x="5259" y="11137"/>
                </a:lnTo>
                <a:lnTo>
                  <a:pt x="5274" y="11189"/>
                </a:lnTo>
                <a:lnTo>
                  <a:pt x="5250" y="11218"/>
                </a:lnTo>
                <a:lnTo>
                  <a:pt x="5234" y="11237"/>
                </a:lnTo>
                <a:lnTo>
                  <a:pt x="5208" y="11269"/>
                </a:lnTo>
                <a:lnTo>
                  <a:pt x="5175" y="11295"/>
                </a:lnTo>
                <a:lnTo>
                  <a:pt x="5159" y="11311"/>
                </a:lnTo>
                <a:lnTo>
                  <a:pt x="5133" y="11338"/>
                </a:lnTo>
                <a:lnTo>
                  <a:pt x="5140" y="11333"/>
                </a:lnTo>
                <a:lnTo>
                  <a:pt x="5085" y="11336"/>
                </a:lnTo>
                <a:lnTo>
                  <a:pt x="5032" y="11339"/>
                </a:lnTo>
                <a:lnTo>
                  <a:pt x="5029" y="11359"/>
                </a:lnTo>
                <a:lnTo>
                  <a:pt x="4986" y="11385"/>
                </a:lnTo>
                <a:lnTo>
                  <a:pt x="4931" y="11419"/>
                </a:lnTo>
                <a:lnTo>
                  <a:pt x="4897" y="11429"/>
                </a:lnTo>
                <a:lnTo>
                  <a:pt x="4862" y="11485"/>
                </a:lnTo>
                <a:lnTo>
                  <a:pt x="4832" y="11534"/>
                </a:lnTo>
                <a:lnTo>
                  <a:pt x="4835" y="11556"/>
                </a:lnTo>
                <a:lnTo>
                  <a:pt x="4812" y="11584"/>
                </a:lnTo>
                <a:lnTo>
                  <a:pt x="4803" y="11595"/>
                </a:lnTo>
                <a:lnTo>
                  <a:pt x="4772" y="11599"/>
                </a:lnTo>
                <a:lnTo>
                  <a:pt x="4762" y="11609"/>
                </a:lnTo>
                <a:lnTo>
                  <a:pt x="4742" y="11586"/>
                </a:lnTo>
                <a:lnTo>
                  <a:pt x="4709" y="11546"/>
                </a:lnTo>
                <a:lnTo>
                  <a:pt x="4688" y="11509"/>
                </a:lnTo>
                <a:lnTo>
                  <a:pt x="4667" y="11472"/>
                </a:lnTo>
                <a:lnTo>
                  <a:pt x="4624" y="11422"/>
                </a:lnTo>
                <a:lnTo>
                  <a:pt x="4614" y="11385"/>
                </a:lnTo>
                <a:lnTo>
                  <a:pt x="4600" y="11332"/>
                </a:lnTo>
                <a:lnTo>
                  <a:pt x="4615" y="11309"/>
                </a:lnTo>
                <a:lnTo>
                  <a:pt x="4589" y="11261"/>
                </a:lnTo>
                <a:lnTo>
                  <a:pt x="4562" y="11211"/>
                </a:lnTo>
                <a:lnTo>
                  <a:pt x="4522" y="11195"/>
                </a:lnTo>
                <a:lnTo>
                  <a:pt x="4490" y="11162"/>
                </a:lnTo>
                <a:lnTo>
                  <a:pt x="4451" y="11123"/>
                </a:lnTo>
                <a:lnTo>
                  <a:pt x="4412" y="11101"/>
                </a:lnTo>
                <a:lnTo>
                  <a:pt x="4366" y="11063"/>
                </a:lnTo>
                <a:lnTo>
                  <a:pt x="4332" y="11034"/>
                </a:lnTo>
                <a:lnTo>
                  <a:pt x="4313" y="11033"/>
                </a:lnTo>
                <a:lnTo>
                  <a:pt x="4291" y="11013"/>
                </a:lnTo>
                <a:lnTo>
                  <a:pt x="4257" y="10983"/>
                </a:lnTo>
                <a:lnTo>
                  <a:pt x="4227" y="10974"/>
                </a:lnTo>
                <a:lnTo>
                  <a:pt x="4192" y="10939"/>
                </a:lnTo>
                <a:lnTo>
                  <a:pt x="4147" y="10894"/>
                </a:lnTo>
                <a:lnTo>
                  <a:pt x="4113" y="10884"/>
                </a:lnTo>
                <a:lnTo>
                  <a:pt x="4068" y="10840"/>
                </a:lnTo>
                <a:lnTo>
                  <a:pt x="4040" y="10812"/>
                </a:lnTo>
                <a:lnTo>
                  <a:pt x="4031" y="10798"/>
                </a:lnTo>
                <a:lnTo>
                  <a:pt x="4043" y="10765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Ink 4"/>
          <p:cNvSpPr/>
          <p:nvPr/>
        </p:nvSpPr>
        <p:spPr>
          <a:xfrm>
            <a:off x="2544840" y="3205080"/>
            <a:ext cx="5072040" cy="1760760"/>
          </a:xfrm>
          <a:custGeom>
            <a:avLst/>
            <a:gdLst/>
            <a:ahLst/>
            <a:rect l="l" t="t" r="r" b="b"/>
            <a:pathLst>
              <a:path w="14090" h="4887">
                <a:moveTo>
                  <a:pt x="8458" y="9922"/>
                </a:moveTo>
                <a:lnTo>
                  <a:pt x="8403" y="9952"/>
                </a:lnTo>
                <a:lnTo>
                  <a:pt x="8318" y="9956"/>
                </a:lnTo>
                <a:lnTo>
                  <a:pt x="8260" y="9996"/>
                </a:lnTo>
                <a:lnTo>
                  <a:pt x="8224" y="10021"/>
                </a:lnTo>
                <a:lnTo>
                  <a:pt x="8210" y="10050"/>
                </a:lnTo>
                <a:lnTo>
                  <a:pt x="8186" y="10071"/>
                </a:lnTo>
                <a:lnTo>
                  <a:pt x="8159" y="10095"/>
                </a:lnTo>
                <a:lnTo>
                  <a:pt x="8110" y="10143"/>
                </a:lnTo>
                <a:lnTo>
                  <a:pt x="8086" y="10170"/>
                </a:lnTo>
                <a:lnTo>
                  <a:pt x="8072" y="10185"/>
                </a:lnTo>
                <a:lnTo>
                  <a:pt x="8055" y="10219"/>
                </a:lnTo>
                <a:lnTo>
                  <a:pt x="8037" y="10244"/>
                </a:lnTo>
                <a:lnTo>
                  <a:pt x="8009" y="10284"/>
                </a:lnTo>
                <a:lnTo>
                  <a:pt x="7978" y="10324"/>
                </a:lnTo>
                <a:lnTo>
                  <a:pt x="7962" y="10344"/>
                </a:lnTo>
                <a:lnTo>
                  <a:pt x="7933" y="10380"/>
                </a:lnTo>
                <a:lnTo>
                  <a:pt x="7908" y="10446"/>
                </a:lnTo>
                <a:lnTo>
                  <a:pt x="7888" y="10468"/>
                </a:lnTo>
                <a:lnTo>
                  <a:pt x="7868" y="10490"/>
                </a:lnTo>
                <a:lnTo>
                  <a:pt x="7857" y="10498"/>
                </a:lnTo>
                <a:lnTo>
                  <a:pt x="7838" y="10517"/>
                </a:lnTo>
                <a:lnTo>
                  <a:pt x="7812" y="10544"/>
                </a:lnTo>
                <a:lnTo>
                  <a:pt x="7785" y="10571"/>
                </a:lnTo>
                <a:lnTo>
                  <a:pt x="7764" y="10592"/>
                </a:lnTo>
                <a:lnTo>
                  <a:pt x="7744" y="10612"/>
                </a:lnTo>
                <a:lnTo>
                  <a:pt x="7694" y="10628"/>
                </a:lnTo>
                <a:lnTo>
                  <a:pt x="7665" y="10666"/>
                </a:lnTo>
                <a:lnTo>
                  <a:pt x="7649" y="10687"/>
                </a:lnTo>
                <a:lnTo>
                  <a:pt x="7632" y="10688"/>
                </a:lnTo>
                <a:lnTo>
                  <a:pt x="7615" y="10716"/>
                </a:lnTo>
                <a:lnTo>
                  <a:pt x="7600" y="10741"/>
                </a:lnTo>
                <a:lnTo>
                  <a:pt x="7585" y="10783"/>
                </a:lnTo>
                <a:lnTo>
                  <a:pt x="7565" y="10815"/>
                </a:lnTo>
                <a:lnTo>
                  <a:pt x="7545" y="10847"/>
                </a:lnTo>
                <a:lnTo>
                  <a:pt x="7537" y="10904"/>
                </a:lnTo>
                <a:lnTo>
                  <a:pt x="7516" y="10939"/>
                </a:lnTo>
                <a:lnTo>
                  <a:pt x="7500" y="10967"/>
                </a:lnTo>
                <a:lnTo>
                  <a:pt x="7509" y="10980"/>
                </a:lnTo>
                <a:lnTo>
                  <a:pt x="7491" y="11013"/>
                </a:lnTo>
                <a:lnTo>
                  <a:pt x="7485" y="11024"/>
                </a:lnTo>
                <a:lnTo>
                  <a:pt x="7432" y="11057"/>
                </a:lnTo>
                <a:lnTo>
                  <a:pt x="7417" y="11088"/>
                </a:lnTo>
                <a:lnTo>
                  <a:pt x="7400" y="11123"/>
                </a:lnTo>
                <a:lnTo>
                  <a:pt x="7406" y="11133"/>
                </a:lnTo>
                <a:lnTo>
                  <a:pt x="7392" y="11162"/>
                </a:lnTo>
                <a:lnTo>
                  <a:pt x="7378" y="11192"/>
                </a:lnTo>
                <a:lnTo>
                  <a:pt x="7358" y="11234"/>
                </a:lnTo>
                <a:lnTo>
                  <a:pt x="7342" y="11261"/>
                </a:lnTo>
                <a:lnTo>
                  <a:pt x="7328" y="11285"/>
                </a:lnTo>
                <a:lnTo>
                  <a:pt x="7299" y="11326"/>
                </a:lnTo>
                <a:lnTo>
                  <a:pt x="7293" y="11336"/>
                </a:lnTo>
                <a:lnTo>
                  <a:pt x="7263" y="11386"/>
                </a:lnTo>
                <a:lnTo>
                  <a:pt x="7268" y="11420"/>
                </a:lnTo>
                <a:lnTo>
                  <a:pt x="7243" y="11460"/>
                </a:lnTo>
                <a:lnTo>
                  <a:pt x="7235" y="11472"/>
                </a:lnTo>
                <a:lnTo>
                  <a:pt x="7185" y="11503"/>
                </a:lnTo>
                <a:lnTo>
                  <a:pt x="7169" y="11534"/>
                </a:lnTo>
                <a:lnTo>
                  <a:pt x="7152" y="11566"/>
                </a:lnTo>
                <a:lnTo>
                  <a:pt x="7154" y="11582"/>
                </a:lnTo>
                <a:lnTo>
                  <a:pt x="7144" y="11609"/>
                </a:lnTo>
                <a:lnTo>
                  <a:pt x="7142" y="11614"/>
                </a:lnTo>
                <a:lnTo>
                  <a:pt x="7076" y="11657"/>
                </a:lnTo>
                <a:lnTo>
                  <a:pt x="7069" y="11683"/>
                </a:lnTo>
                <a:lnTo>
                  <a:pt x="7016" y="11894"/>
                </a:lnTo>
                <a:lnTo>
                  <a:pt x="7097" y="12059"/>
                </a:lnTo>
                <a:lnTo>
                  <a:pt x="7169" y="12204"/>
                </a:lnTo>
                <a:lnTo>
                  <a:pt x="7199" y="12264"/>
                </a:lnTo>
                <a:lnTo>
                  <a:pt x="7277" y="12321"/>
                </a:lnTo>
                <a:lnTo>
                  <a:pt x="7317" y="12378"/>
                </a:lnTo>
                <a:lnTo>
                  <a:pt x="7334" y="12402"/>
                </a:lnTo>
                <a:lnTo>
                  <a:pt x="7352" y="12408"/>
                </a:lnTo>
                <a:lnTo>
                  <a:pt x="7367" y="12427"/>
                </a:lnTo>
                <a:lnTo>
                  <a:pt x="7408" y="12478"/>
                </a:lnTo>
                <a:lnTo>
                  <a:pt x="7459" y="12580"/>
                </a:lnTo>
                <a:lnTo>
                  <a:pt x="7491" y="12601"/>
                </a:lnTo>
                <a:lnTo>
                  <a:pt x="7528" y="12625"/>
                </a:lnTo>
                <a:lnTo>
                  <a:pt x="7594" y="12663"/>
                </a:lnTo>
                <a:lnTo>
                  <a:pt x="7640" y="12675"/>
                </a:lnTo>
                <a:lnTo>
                  <a:pt x="7743" y="12703"/>
                </a:lnTo>
                <a:lnTo>
                  <a:pt x="7809" y="12721"/>
                </a:lnTo>
                <a:lnTo>
                  <a:pt x="7888" y="12650"/>
                </a:lnTo>
                <a:lnTo>
                  <a:pt x="8003" y="12548"/>
                </a:lnTo>
                <a:lnTo>
                  <a:pt x="7902" y="12477"/>
                </a:lnTo>
                <a:lnTo>
                  <a:pt x="7962" y="12353"/>
                </a:lnTo>
                <a:lnTo>
                  <a:pt x="7983" y="12309"/>
                </a:lnTo>
                <a:lnTo>
                  <a:pt x="7996" y="12285"/>
                </a:lnTo>
                <a:lnTo>
                  <a:pt x="8012" y="12254"/>
                </a:lnTo>
                <a:lnTo>
                  <a:pt x="8026" y="12225"/>
                </a:lnTo>
                <a:lnTo>
                  <a:pt x="8044" y="12152"/>
                </a:lnTo>
                <a:lnTo>
                  <a:pt x="8062" y="12129"/>
                </a:lnTo>
                <a:lnTo>
                  <a:pt x="8096" y="12085"/>
                </a:lnTo>
                <a:lnTo>
                  <a:pt x="8093" y="12090"/>
                </a:lnTo>
                <a:lnTo>
                  <a:pt x="8136" y="12055"/>
                </a:lnTo>
                <a:lnTo>
                  <a:pt x="8173" y="12025"/>
                </a:lnTo>
                <a:lnTo>
                  <a:pt x="8160" y="11996"/>
                </a:lnTo>
                <a:lnTo>
                  <a:pt x="8210" y="11981"/>
                </a:lnTo>
                <a:lnTo>
                  <a:pt x="8350" y="11940"/>
                </a:lnTo>
                <a:lnTo>
                  <a:pt x="8459" y="12025"/>
                </a:lnTo>
                <a:lnTo>
                  <a:pt x="8582" y="12055"/>
                </a:lnTo>
                <a:lnTo>
                  <a:pt x="8626" y="12066"/>
                </a:lnTo>
                <a:lnTo>
                  <a:pt x="8658" y="12095"/>
                </a:lnTo>
                <a:lnTo>
                  <a:pt x="8706" y="12105"/>
                </a:lnTo>
                <a:lnTo>
                  <a:pt x="8738" y="12112"/>
                </a:lnTo>
                <a:lnTo>
                  <a:pt x="8741" y="12149"/>
                </a:lnTo>
                <a:lnTo>
                  <a:pt x="8781" y="12154"/>
                </a:lnTo>
                <a:lnTo>
                  <a:pt x="8863" y="12164"/>
                </a:lnTo>
                <a:lnTo>
                  <a:pt x="8961" y="12136"/>
                </a:lnTo>
                <a:lnTo>
                  <a:pt x="9004" y="12129"/>
                </a:lnTo>
                <a:lnTo>
                  <a:pt x="9122" y="12109"/>
                </a:lnTo>
                <a:lnTo>
                  <a:pt x="9141" y="12083"/>
                </a:lnTo>
                <a:lnTo>
                  <a:pt x="9203" y="12055"/>
                </a:lnTo>
                <a:lnTo>
                  <a:pt x="9249" y="12034"/>
                </a:lnTo>
                <a:lnTo>
                  <a:pt x="9253" y="11978"/>
                </a:lnTo>
                <a:lnTo>
                  <a:pt x="9302" y="11956"/>
                </a:lnTo>
                <a:lnTo>
                  <a:pt x="9337" y="11940"/>
                </a:lnTo>
                <a:lnTo>
                  <a:pt x="9366" y="11920"/>
                </a:lnTo>
                <a:lnTo>
                  <a:pt x="9401" y="11906"/>
                </a:lnTo>
                <a:lnTo>
                  <a:pt x="9438" y="11891"/>
                </a:lnTo>
                <a:lnTo>
                  <a:pt x="9446" y="11889"/>
                </a:lnTo>
                <a:lnTo>
                  <a:pt x="9475" y="11881"/>
                </a:lnTo>
                <a:lnTo>
                  <a:pt x="9517" y="11869"/>
                </a:lnTo>
                <a:lnTo>
                  <a:pt x="9548" y="11860"/>
                </a:lnTo>
                <a:lnTo>
                  <a:pt x="9575" y="11857"/>
                </a:lnTo>
                <a:lnTo>
                  <a:pt x="9701" y="11842"/>
                </a:lnTo>
                <a:lnTo>
                  <a:pt x="9831" y="11862"/>
                </a:lnTo>
                <a:lnTo>
                  <a:pt x="9947" y="11881"/>
                </a:lnTo>
                <a:lnTo>
                  <a:pt x="9999" y="11890"/>
                </a:lnTo>
                <a:lnTo>
                  <a:pt x="9981" y="11926"/>
                </a:lnTo>
                <a:lnTo>
                  <a:pt x="10021" y="11931"/>
                </a:lnTo>
                <a:lnTo>
                  <a:pt x="10138" y="11946"/>
                </a:lnTo>
                <a:lnTo>
                  <a:pt x="10276" y="11931"/>
                </a:lnTo>
                <a:lnTo>
                  <a:pt x="10393" y="11956"/>
                </a:lnTo>
                <a:lnTo>
                  <a:pt x="10510" y="11981"/>
                </a:lnTo>
                <a:lnTo>
                  <a:pt x="10563" y="11935"/>
                </a:lnTo>
                <a:lnTo>
                  <a:pt x="10641" y="12005"/>
                </a:lnTo>
                <a:lnTo>
                  <a:pt x="10655" y="12018"/>
                </a:lnTo>
                <a:lnTo>
                  <a:pt x="10672" y="12088"/>
                </a:lnTo>
                <a:lnTo>
                  <a:pt x="10691" y="12105"/>
                </a:lnTo>
                <a:lnTo>
                  <a:pt x="10767" y="12170"/>
                </a:lnTo>
                <a:lnTo>
                  <a:pt x="10658" y="12237"/>
                </a:lnTo>
                <a:lnTo>
                  <a:pt x="10815" y="12303"/>
                </a:lnTo>
                <a:lnTo>
                  <a:pt x="10855" y="12320"/>
                </a:lnTo>
                <a:lnTo>
                  <a:pt x="10896" y="12317"/>
                </a:lnTo>
                <a:lnTo>
                  <a:pt x="10939" y="12328"/>
                </a:lnTo>
                <a:lnTo>
                  <a:pt x="11108" y="12370"/>
                </a:lnTo>
                <a:lnTo>
                  <a:pt x="11276" y="12306"/>
                </a:lnTo>
                <a:lnTo>
                  <a:pt x="11385" y="12378"/>
                </a:lnTo>
                <a:lnTo>
                  <a:pt x="11410" y="12394"/>
                </a:lnTo>
                <a:lnTo>
                  <a:pt x="11427" y="12420"/>
                </a:lnTo>
                <a:lnTo>
                  <a:pt x="11460" y="12452"/>
                </a:lnTo>
                <a:lnTo>
                  <a:pt x="11497" y="12488"/>
                </a:lnTo>
                <a:lnTo>
                  <a:pt x="11510" y="12541"/>
                </a:lnTo>
                <a:lnTo>
                  <a:pt x="11534" y="12576"/>
                </a:lnTo>
                <a:lnTo>
                  <a:pt x="11560" y="12613"/>
                </a:lnTo>
                <a:lnTo>
                  <a:pt x="11612" y="12787"/>
                </a:lnTo>
                <a:lnTo>
                  <a:pt x="11633" y="12799"/>
                </a:lnTo>
                <a:lnTo>
                  <a:pt x="11735" y="12854"/>
                </a:lnTo>
                <a:lnTo>
                  <a:pt x="11927" y="12821"/>
                </a:lnTo>
                <a:lnTo>
                  <a:pt x="12005" y="12799"/>
                </a:lnTo>
                <a:lnTo>
                  <a:pt x="12036" y="12790"/>
                </a:lnTo>
                <a:lnTo>
                  <a:pt x="12073" y="12762"/>
                </a:lnTo>
                <a:lnTo>
                  <a:pt x="12105" y="12750"/>
                </a:lnTo>
                <a:lnTo>
                  <a:pt x="12162" y="12729"/>
                </a:lnTo>
                <a:lnTo>
                  <a:pt x="12130" y="12668"/>
                </a:lnTo>
                <a:lnTo>
                  <a:pt x="12204" y="12650"/>
                </a:lnTo>
                <a:lnTo>
                  <a:pt x="12260" y="12636"/>
                </a:lnTo>
                <a:lnTo>
                  <a:pt x="12247" y="12625"/>
                </a:lnTo>
                <a:lnTo>
                  <a:pt x="12303" y="12626"/>
                </a:lnTo>
                <a:lnTo>
                  <a:pt x="12409" y="12628"/>
                </a:lnTo>
                <a:lnTo>
                  <a:pt x="12428" y="12623"/>
                </a:lnTo>
                <a:lnTo>
                  <a:pt x="12502" y="12675"/>
                </a:lnTo>
                <a:lnTo>
                  <a:pt x="12559" y="12715"/>
                </a:lnTo>
                <a:lnTo>
                  <a:pt x="12542" y="12744"/>
                </a:lnTo>
                <a:lnTo>
                  <a:pt x="12576" y="12774"/>
                </a:lnTo>
                <a:lnTo>
                  <a:pt x="12597" y="12792"/>
                </a:lnTo>
                <a:lnTo>
                  <a:pt x="12609" y="12899"/>
                </a:lnTo>
                <a:lnTo>
                  <a:pt x="12650" y="12923"/>
                </a:lnTo>
                <a:lnTo>
                  <a:pt x="12729" y="12970"/>
                </a:lnTo>
                <a:lnTo>
                  <a:pt x="12818" y="12955"/>
                </a:lnTo>
                <a:lnTo>
                  <a:pt x="12898" y="12998"/>
                </a:lnTo>
                <a:lnTo>
                  <a:pt x="12934" y="13017"/>
                </a:lnTo>
                <a:lnTo>
                  <a:pt x="12956" y="13031"/>
                </a:lnTo>
                <a:lnTo>
                  <a:pt x="12998" y="13047"/>
                </a:lnTo>
                <a:lnTo>
                  <a:pt x="13052" y="13067"/>
                </a:lnTo>
                <a:lnTo>
                  <a:pt x="13134" y="13134"/>
                </a:lnTo>
                <a:lnTo>
                  <a:pt x="13171" y="13146"/>
                </a:lnTo>
                <a:lnTo>
                  <a:pt x="13242" y="13168"/>
                </a:lnTo>
                <a:lnTo>
                  <a:pt x="13329" y="13179"/>
                </a:lnTo>
                <a:lnTo>
                  <a:pt x="13395" y="13196"/>
                </a:lnTo>
                <a:lnTo>
                  <a:pt x="13591" y="13247"/>
                </a:lnTo>
                <a:lnTo>
                  <a:pt x="13655" y="13221"/>
                </a:lnTo>
                <a:lnTo>
                  <a:pt x="13767" y="13171"/>
                </a:lnTo>
                <a:lnTo>
                  <a:pt x="13833" y="13141"/>
                </a:lnTo>
                <a:lnTo>
                  <a:pt x="13808" y="13091"/>
                </a:lnTo>
                <a:lnTo>
                  <a:pt x="13866" y="13047"/>
                </a:lnTo>
                <a:lnTo>
                  <a:pt x="13886" y="13032"/>
                </a:lnTo>
                <a:lnTo>
                  <a:pt x="13954" y="13011"/>
                </a:lnTo>
                <a:lnTo>
                  <a:pt x="13965" y="12998"/>
                </a:lnTo>
                <a:lnTo>
                  <a:pt x="13995" y="12960"/>
                </a:lnTo>
                <a:lnTo>
                  <a:pt x="14065" y="12912"/>
                </a:lnTo>
                <a:lnTo>
                  <a:pt x="14089" y="12874"/>
                </a:lnTo>
                <a:lnTo>
                  <a:pt x="14126" y="12815"/>
                </a:lnTo>
                <a:lnTo>
                  <a:pt x="14119" y="12719"/>
                </a:lnTo>
                <a:lnTo>
                  <a:pt x="14163" y="12650"/>
                </a:lnTo>
                <a:lnTo>
                  <a:pt x="14183" y="12619"/>
                </a:lnTo>
                <a:lnTo>
                  <a:pt x="14183" y="12582"/>
                </a:lnTo>
                <a:lnTo>
                  <a:pt x="14213" y="12551"/>
                </a:lnTo>
                <a:lnTo>
                  <a:pt x="14232" y="12532"/>
                </a:lnTo>
                <a:lnTo>
                  <a:pt x="14228" y="12500"/>
                </a:lnTo>
                <a:lnTo>
                  <a:pt x="14263" y="12477"/>
                </a:lnTo>
                <a:lnTo>
                  <a:pt x="14282" y="12464"/>
                </a:lnTo>
                <a:lnTo>
                  <a:pt x="14330" y="12445"/>
                </a:lnTo>
                <a:lnTo>
                  <a:pt x="14362" y="12427"/>
                </a:lnTo>
                <a:lnTo>
                  <a:pt x="14400" y="12405"/>
                </a:lnTo>
                <a:lnTo>
                  <a:pt x="14471" y="12446"/>
                </a:lnTo>
                <a:lnTo>
                  <a:pt x="14511" y="12427"/>
                </a:lnTo>
                <a:lnTo>
                  <a:pt x="14497" y="12747"/>
                </a:lnTo>
                <a:lnTo>
                  <a:pt x="14423" y="12946"/>
                </a:lnTo>
                <a:lnTo>
                  <a:pt x="14362" y="13196"/>
                </a:lnTo>
                <a:lnTo>
                  <a:pt x="14353" y="13232"/>
                </a:lnTo>
                <a:lnTo>
                  <a:pt x="14311" y="13234"/>
                </a:lnTo>
                <a:lnTo>
                  <a:pt x="14312" y="13271"/>
                </a:lnTo>
                <a:lnTo>
                  <a:pt x="14313" y="13307"/>
                </a:lnTo>
                <a:lnTo>
                  <a:pt x="14278" y="13344"/>
                </a:lnTo>
                <a:lnTo>
                  <a:pt x="14288" y="13370"/>
                </a:lnTo>
                <a:lnTo>
                  <a:pt x="14309" y="13425"/>
                </a:lnTo>
                <a:lnTo>
                  <a:pt x="14369" y="13420"/>
                </a:lnTo>
                <a:lnTo>
                  <a:pt x="14387" y="13444"/>
                </a:lnTo>
                <a:lnTo>
                  <a:pt x="14441" y="13518"/>
                </a:lnTo>
                <a:lnTo>
                  <a:pt x="14534" y="13529"/>
                </a:lnTo>
                <a:lnTo>
                  <a:pt x="14585" y="13593"/>
                </a:lnTo>
                <a:lnTo>
                  <a:pt x="14616" y="13632"/>
                </a:lnTo>
                <a:lnTo>
                  <a:pt x="14562" y="13704"/>
                </a:lnTo>
                <a:lnTo>
                  <a:pt x="14610" y="13717"/>
                </a:lnTo>
                <a:lnTo>
                  <a:pt x="14780" y="13763"/>
                </a:lnTo>
                <a:lnTo>
                  <a:pt x="14400" y="13736"/>
                </a:lnTo>
                <a:lnTo>
                  <a:pt x="14660" y="13717"/>
                </a:lnTo>
                <a:lnTo>
                  <a:pt x="14694" y="13715"/>
                </a:lnTo>
                <a:lnTo>
                  <a:pt x="14686" y="13621"/>
                </a:lnTo>
                <a:lnTo>
                  <a:pt x="14709" y="13618"/>
                </a:lnTo>
                <a:lnTo>
                  <a:pt x="14758" y="13612"/>
                </a:lnTo>
                <a:lnTo>
                  <a:pt x="14784" y="13600"/>
                </a:lnTo>
                <a:lnTo>
                  <a:pt x="14833" y="13593"/>
                </a:lnTo>
                <a:lnTo>
                  <a:pt x="15055" y="13561"/>
                </a:lnTo>
                <a:lnTo>
                  <a:pt x="15433" y="13684"/>
                </a:lnTo>
                <a:lnTo>
                  <a:pt x="15602" y="13519"/>
                </a:lnTo>
                <a:lnTo>
                  <a:pt x="15637" y="13485"/>
                </a:lnTo>
                <a:lnTo>
                  <a:pt x="15653" y="13402"/>
                </a:lnTo>
                <a:lnTo>
                  <a:pt x="15677" y="13370"/>
                </a:lnTo>
                <a:lnTo>
                  <a:pt x="15725" y="13305"/>
                </a:lnTo>
                <a:lnTo>
                  <a:pt x="15647" y="13192"/>
                </a:lnTo>
                <a:lnTo>
                  <a:pt x="15776" y="13146"/>
                </a:lnTo>
                <a:lnTo>
                  <a:pt x="15904" y="13100"/>
                </a:lnTo>
                <a:lnTo>
                  <a:pt x="15991" y="13137"/>
                </a:lnTo>
                <a:lnTo>
                  <a:pt x="16123" y="13171"/>
                </a:lnTo>
                <a:lnTo>
                  <a:pt x="16221" y="13196"/>
                </a:lnTo>
                <a:lnTo>
                  <a:pt x="16290" y="13204"/>
                </a:lnTo>
                <a:lnTo>
                  <a:pt x="16371" y="13271"/>
                </a:lnTo>
                <a:lnTo>
                  <a:pt x="16395" y="13291"/>
                </a:lnTo>
                <a:lnTo>
                  <a:pt x="16347" y="13398"/>
                </a:lnTo>
                <a:lnTo>
                  <a:pt x="16371" y="13419"/>
                </a:lnTo>
                <a:lnTo>
                  <a:pt x="16520" y="13411"/>
                </a:lnTo>
                <a:lnTo>
                  <a:pt x="16674" y="13392"/>
                </a:lnTo>
                <a:lnTo>
                  <a:pt x="16818" y="13395"/>
                </a:lnTo>
                <a:lnTo>
                  <a:pt x="16990" y="13398"/>
                </a:lnTo>
                <a:lnTo>
                  <a:pt x="17128" y="13422"/>
                </a:lnTo>
                <a:lnTo>
                  <a:pt x="17264" y="13444"/>
                </a:lnTo>
                <a:lnTo>
                  <a:pt x="17350" y="13458"/>
                </a:lnTo>
                <a:lnTo>
                  <a:pt x="17413" y="13442"/>
                </a:lnTo>
                <a:lnTo>
                  <a:pt x="17487" y="13469"/>
                </a:lnTo>
                <a:lnTo>
                  <a:pt x="17531" y="13485"/>
                </a:lnTo>
                <a:lnTo>
                  <a:pt x="17567" y="13529"/>
                </a:lnTo>
                <a:lnTo>
                  <a:pt x="17611" y="13543"/>
                </a:lnTo>
                <a:lnTo>
                  <a:pt x="17668" y="13561"/>
                </a:lnTo>
                <a:lnTo>
                  <a:pt x="17714" y="13607"/>
                </a:lnTo>
                <a:lnTo>
                  <a:pt x="17760" y="13618"/>
                </a:lnTo>
                <a:lnTo>
                  <a:pt x="17807" y="13630"/>
                </a:lnTo>
                <a:lnTo>
                  <a:pt x="17862" y="13606"/>
                </a:lnTo>
                <a:lnTo>
                  <a:pt x="17909" y="13618"/>
                </a:lnTo>
                <a:lnTo>
                  <a:pt x="17939" y="13547"/>
                </a:lnTo>
                <a:lnTo>
                  <a:pt x="17920" y="13578"/>
                </a:lnTo>
                <a:lnTo>
                  <a:pt x="17983" y="13543"/>
                </a:lnTo>
                <a:lnTo>
                  <a:pt x="17998" y="13499"/>
                </a:lnTo>
                <a:lnTo>
                  <a:pt x="17994" y="13503"/>
                </a:lnTo>
                <a:lnTo>
                  <a:pt x="18008" y="13469"/>
                </a:lnTo>
                <a:lnTo>
                  <a:pt x="18027" y="13425"/>
                </a:lnTo>
                <a:lnTo>
                  <a:pt x="18040" y="13365"/>
                </a:lnTo>
                <a:lnTo>
                  <a:pt x="18058" y="13320"/>
                </a:lnTo>
                <a:lnTo>
                  <a:pt x="18071" y="13287"/>
                </a:lnTo>
                <a:lnTo>
                  <a:pt x="18089" y="13290"/>
                </a:lnTo>
                <a:lnTo>
                  <a:pt x="18107" y="13246"/>
                </a:lnTo>
                <a:lnTo>
                  <a:pt x="18120" y="13214"/>
                </a:lnTo>
                <a:lnTo>
                  <a:pt x="18119" y="13179"/>
                </a:lnTo>
                <a:lnTo>
                  <a:pt x="18132" y="13146"/>
                </a:lnTo>
                <a:lnTo>
                  <a:pt x="18141" y="13121"/>
                </a:lnTo>
                <a:lnTo>
                  <a:pt x="18188" y="13048"/>
                </a:lnTo>
                <a:lnTo>
                  <a:pt x="18207" y="12998"/>
                </a:lnTo>
                <a:lnTo>
                  <a:pt x="18219" y="12966"/>
                </a:lnTo>
                <a:lnTo>
                  <a:pt x="18219" y="12930"/>
                </a:lnTo>
                <a:lnTo>
                  <a:pt x="18231" y="12898"/>
                </a:lnTo>
                <a:lnTo>
                  <a:pt x="18256" y="12831"/>
                </a:lnTo>
                <a:lnTo>
                  <a:pt x="18315" y="12749"/>
                </a:lnTo>
                <a:lnTo>
                  <a:pt x="18331" y="12700"/>
                </a:lnTo>
                <a:lnTo>
                  <a:pt x="18344" y="12659"/>
                </a:lnTo>
                <a:lnTo>
                  <a:pt x="18342" y="12616"/>
                </a:lnTo>
                <a:lnTo>
                  <a:pt x="18355" y="12576"/>
                </a:lnTo>
                <a:lnTo>
                  <a:pt x="18367" y="12539"/>
                </a:lnTo>
                <a:lnTo>
                  <a:pt x="18366" y="12489"/>
                </a:lnTo>
                <a:lnTo>
                  <a:pt x="18380" y="12452"/>
                </a:lnTo>
                <a:lnTo>
                  <a:pt x="18399" y="12403"/>
                </a:lnTo>
                <a:lnTo>
                  <a:pt x="18410" y="12399"/>
                </a:lnTo>
                <a:lnTo>
                  <a:pt x="18430" y="12353"/>
                </a:lnTo>
                <a:lnTo>
                  <a:pt x="18443" y="12322"/>
                </a:lnTo>
                <a:lnTo>
                  <a:pt x="18439" y="12284"/>
                </a:lnTo>
                <a:lnTo>
                  <a:pt x="18455" y="12254"/>
                </a:lnTo>
                <a:lnTo>
                  <a:pt x="18472" y="12222"/>
                </a:lnTo>
                <a:lnTo>
                  <a:pt x="18518" y="12197"/>
                </a:lnTo>
                <a:lnTo>
                  <a:pt x="18529" y="12179"/>
                </a:lnTo>
                <a:lnTo>
                  <a:pt x="18547" y="12148"/>
                </a:lnTo>
                <a:lnTo>
                  <a:pt x="18557" y="12113"/>
                </a:lnTo>
                <a:lnTo>
                  <a:pt x="18579" y="12080"/>
                </a:lnTo>
                <a:lnTo>
                  <a:pt x="18594" y="12058"/>
                </a:lnTo>
                <a:lnTo>
                  <a:pt x="18617" y="12047"/>
                </a:lnTo>
                <a:lnTo>
                  <a:pt x="18628" y="12030"/>
                </a:lnTo>
                <a:lnTo>
                  <a:pt x="18653" y="11993"/>
                </a:lnTo>
                <a:lnTo>
                  <a:pt x="18659" y="11980"/>
                </a:lnTo>
                <a:lnTo>
                  <a:pt x="18678" y="11956"/>
                </a:lnTo>
                <a:lnTo>
                  <a:pt x="18721" y="11900"/>
                </a:lnTo>
                <a:lnTo>
                  <a:pt x="18744" y="11850"/>
                </a:lnTo>
                <a:lnTo>
                  <a:pt x="18777" y="11807"/>
                </a:lnTo>
                <a:lnTo>
                  <a:pt x="18823" y="11746"/>
                </a:lnTo>
                <a:lnTo>
                  <a:pt x="18931" y="11626"/>
                </a:lnTo>
                <a:lnTo>
                  <a:pt x="18976" y="11584"/>
                </a:lnTo>
                <a:lnTo>
                  <a:pt x="18991" y="11570"/>
                </a:lnTo>
                <a:lnTo>
                  <a:pt x="19013" y="11519"/>
                </a:lnTo>
                <a:lnTo>
                  <a:pt x="19025" y="11509"/>
                </a:lnTo>
                <a:lnTo>
                  <a:pt x="19049" y="11488"/>
                </a:lnTo>
                <a:lnTo>
                  <a:pt x="19095" y="11485"/>
                </a:lnTo>
                <a:lnTo>
                  <a:pt x="19124" y="11460"/>
                </a:lnTo>
                <a:lnTo>
                  <a:pt x="19158" y="11431"/>
                </a:lnTo>
                <a:lnTo>
                  <a:pt x="19177" y="11430"/>
                </a:lnTo>
                <a:lnTo>
                  <a:pt x="19199" y="11410"/>
                </a:lnTo>
                <a:lnTo>
                  <a:pt x="19220" y="11391"/>
                </a:lnTo>
                <a:lnTo>
                  <a:pt x="19241" y="11341"/>
                </a:lnTo>
                <a:lnTo>
                  <a:pt x="19248" y="11336"/>
                </a:lnTo>
                <a:lnTo>
                  <a:pt x="19291" y="11306"/>
                </a:lnTo>
                <a:lnTo>
                  <a:pt x="19309" y="11284"/>
                </a:lnTo>
                <a:lnTo>
                  <a:pt x="19348" y="11261"/>
                </a:lnTo>
                <a:lnTo>
                  <a:pt x="19376" y="11245"/>
                </a:lnTo>
                <a:lnTo>
                  <a:pt x="19383" y="11235"/>
                </a:lnTo>
                <a:lnTo>
                  <a:pt x="19422" y="11212"/>
                </a:lnTo>
                <a:lnTo>
                  <a:pt x="19453" y="11194"/>
                </a:lnTo>
                <a:lnTo>
                  <a:pt x="19470" y="11200"/>
                </a:lnTo>
                <a:lnTo>
                  <a:pt x="19496" y="11187"/>
                </a:lnTo>
                <a:lnTo>
                  <a:pt x="19533" y="11168"/>
                </a:lnTo>
                <a:lnTo>
                  <a:pt x="19586" y="11180"/>
                </a:lnTo>
                <a:lnTo>
                  <a:pt x="19621" y="11162"/>
                </a:lnTo>
                <a:lnTo>
                  <a:pt x="19648" y="11149"/>
                </a:lnTo>
                <a:lnTo>
                  <a:pt x="19686" y="11092"/>
                </a:lnTo>
                <a:lnTo>
                  <a:pt x="19695" y="11088"/>
                </a:lnTo>
                <a:lnTo>
                  <a:pt x="19751" y="11063"/>
                </a:lnTo>
                <a:lnTo>
                  <a:pt x="19791" y="11067"/>
                </a:lnTo>
                <a:lnTo>
                  <a:pt x="19844" y="11038"/>
                </a:lnTo>
                <a:lnTo>
                  <a:pt x="19902" y="11006"/>
                </a:lnTo>
                <a:lnTo>
                  <a:pt x="19951" y="10983"/>
                </a:lnTo>
                <a:lnTo>
                  <a:pt x="20017" y="10939"/>
                </a:lnTo>
                <a:lnTo>
                  <a:pt x="20082" y="10895"/>
                </a:lnTo>
                <a:lnTo>
                  <a:pt x="20150" y="10838"/>
                </a:lnTo>
                <a:lnTo>
                  <a:pt x="20216" y="10790"/>
                </a:lnTo>
                <a:lnTo>
                  <a:pt x="20256" y="10761"/>
                </a:lnTo>
                <a:lnTo>
                  <a:pt x="20294" y="10744"/>
                </a:lnTo>
                <a:lnTo>
                  <a:pt x="20340" y="10716"/>
                </a:lnTo>
                <a:lnTo>
                  <a:pt x="20350" y="10710"/>
                </a:lnTo>
                <a:lnTo>
                  <a:pt x="20390" y="10680"/>
                </a:lnTo>
                <a:lnTo>
                  <a:pt x="20414" y="10666"/>
                </a:lnTo>
                <a:lnTo>
                  <a:pt x="20429" y="10657"/>
                </a:lnTo>
                <a:lnTo>
                  <a:pt x="20479" y="10614"/>
                </a:lnTo>
                <a:lnTo>
                  <a:pt x="20513" y="10592"/>
                </a:lnTo>
                <a:lnTo>
                  <a:pt x="20558" y="10563"/>
                </a:lnTo>
                <a:lnTo>
                  <a:pt x="20615" y="10569"/>
                </a:lnTo>
                <a:lnTo>
                  <a:pt x="20662" y="10542"/>
                </a:lnTo>
                <a:lnTo>
                  <a:pt x="20693" y="10524"/>
                </a:lnTo>
                <a:lnTo>
                  <a:pt x="20725" y="10489"/>
                </a:lnTo>
                <a:lnTo>
                  <a:pt x="20762" y="10468"/>
                </a:lnTo>
                <a:lnTo>
                  <a:pt x="20809" y="10442"/>
                </a:lnTo>
                <a:lnTo>
                  <a:pt x="20838" y="10428"/>
                </a:lnTo>
                <a:lnTo>
                  <a:pt x="20886" y="10393"/>
                </a:lnTo>
                <a:lnTo>
                  <a:pt x="20904" y="10380"/>
                </a:lnTo>
                <a:lnTo>
                  <a:pt x="20941" y="10384"/>
                </a:lnTo>
                <a:lnTo>
                  <a:pt x="20960" y="10368"/>
                </a:lnTo>
                <a:lnTo>
                  <a:pt x="20972" y="10358"/>
                </a:lnTo>
                <a:lnTo>
                  <a:pt x="21021" y="10334"/>
                </a:lnTo>
                <a:lnTo>
                  <a:pt x="21034" y="10319"/>
                </a:lnTo>
                <a:lnTo>
                  <a:pt x="21058" y="10291"/>
                </a:lnTo>
                <a:lnTo>
                  <a:pt x="21066" y="10276"/>
                </a:lnTo>
                <a:lnTo>
                  <a:pt x="21084" y="10244"/>
                </a:lnTo>
                <a:lnTo>
                  <a:pt x="21139" y="10150"/>
                </a:lnTo>
                <a:lnTo>
                  <a:pt x="21186" y="10031"/>
                </a:lnTo>
                <a:lnTo>
                  <a:pt x="21134" y="9922"/>
                </a:lnTo>
                <a:lnTo>
                  <a:pt x="21109" y="9869"/>
                </a:lnTo>
                <a:lnTo>
                  <a:pt x="20990" y="9845"/>
                </a:lnTo>
                <a:lnTo>
                  <a:pt x="20985" y="9823"/>
                </a:lnTo>
                <a:lnTo>
                  <a:pt x="20981" y="9804"/>
                </a:lnTo>
                <a:lnTo>
                  <a:pt x="20908" y="9815"/>
                </a:lnTo>
                <a:lnTo>
                  <a:pt x="20910" y="9773"/>
                </a:lnTo>
                <a:lnTo>
                  <a:pt x="20913" y="9714"/>
                </a:lnTo>
                <a:lnTo>
                  <a:pt x="20949" y="9701"/>
                </a:lnTo>
                <a:lnTo>
                  <a:pt x="20960" y="9649"/>
                </a:lnTo>
                <a:lnTo>
                  <a:pt x="20976" y="9571"/>
                </a:lnTo>
                <a:lnTo>
                  <a:pt x="21101" y="9528"/>
                </a:lnTo>
                <a:lnTo>
                  <a:pt x="21109" y="9451"/>
                </a:lnTo>
                <a:lnTo>
                  <a:pt x="21125" y="9284"/>
                </a:lnTo>
                <a:lnTo>
                  <a:pt x="21077" y="9134"/>
                </a:lnTo>
                <a:lnTo>
                  <a:pt x="21109" y="8979"/>
                </a:lnTo>
                <a:lnTo>
                  <a:pt x="21131" y="8936"/>
                </a:lnTo>
                <a:lnTo>
                  <a:pt x="21135" y="8925"/>
                </a:lnTo>
                <a:lnTo>
                  <a:pt x="21158" y="8905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71520" y="-6480"/>
            <a:ext cx="8437680" cy="130500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928880" y="928800"/>
            <a:ext cx="5643360" cy="5634000"/>
          </a:xfrm>
          <a:prstGeom prst="rect">
            <a:avLst/>
          </a:prstGeom>
          <a:ln w="0">
            <a:noFill/>
          </a:ln>
        </p:spPr>
      </p:pic>
      <p:sp>
        <p:nvSpPr>
          <p:cNvPr id="418" name="Ink 2"/>
          <p:cNvSpPr/>
          <p:nvPr/>
        </p:nvSpPr>
        <p:spPr>
          <a:xfrm>
            <a:off x="3581280" y="1830240"/>
            <a:ext cx="1919520" cy="1965600"/>
          </a:xfrm>
          <a:custGeom>
            <a:avLst/>
            <a:gdLst/>
            <a:ahLst/>
            <a:rect l="l" t="t" r="r" b="b"/>
            <a:pathLst>
              <a:path w="5334" h="5458">
                <a:moveTo>
                  <a:pt x="9971" y="7144"/>
                </a:moveTo>
                <a:lnTo>
                  <a:pt x="9987" y="7104"/>
                </a:lnTo>
                <a:lnTo>
                  <a:pt x="9949" y="7082"/>
                </a:lnTo>
                <a:lnTo>
                  <a:pt x="9971" y="7045"/>
                </a:lnTo>
                <a:lnTo>
                  <a:pt x="9971" y="7012"/>
                </a:lnTo>
                <a:lnTo>
                  <a:pt x="9979" y="7003"/>
                </a:lnTo>
                <a:lnTo>
                  <a:pt x="10021" y="7020"/>
                </a:lnTo>
                <a:lnTo>
                  <a:pt x="10035" y="7005"/>
                </a:lnTo>
                <a:lnTo>
                  <a:pt x="10026" y="6937"/>
                </a:lnTo>
                <a:lnTo>
                  <a:pt x="10046" y="6921"/>
                </a:lnTo>
                <a:lnTo>
                  <a:pt x="10053" y="6915"/>
                </a:lnTo>
                <a:lnTo>
                  <a:pt x="10144" y="6847"/>
                </a:lnTo>
                <a:lnTo>
                  <a:pt x="10145" y="6846"/>
                </a:lnTo>
                <a:lnTo>
                  <a:pt x="10195" y="6820"/>
                </a:lnTo>
                <a:lnTo>
                  <a:pt x="10289" y="6816"/>
                </a:lnTo>
                <a:lnTo>
                  <a:pt x="10344" y="6796"/>
                </a:lnTo>
                <a:lnTo>
                  <a:pt x="10389" y="6780"/>
                </a:lnTo>
                <a:lnTo>
                  <a:pt x="10418" y="6784"/>
                </a:lnTo>
                <a:lnTo>
                  <a:pt x="10468" y="6772"/>
                </a:lnTo>
                <a:lnTo>
                  <a:pt x="10477" y="6770"/>
                </a:lnTo>
                <a:lnTo>
                  <a:pt x="10497" y="6741"/>
                </a:lnTo>
                <a:lnTo>
                  <a:pt x="10542" y="6747"/>
                </a:lnTo>
                <a:lnTo>
                  <a:pt x="10598" y="6755"/>
                </a:lnTo>
                <a:lnTo>
                  <a:pt x="10618" y="6756"/>
                </a:lnTo>
                <a:lnTo>
                  <a:pt x="10666" y="6772"/>
                </a:lnTo>
                <a:lnTo>
                  <a:pt x="10700" y="6783"/>
                </a:lnTo>
                <a:lnTo>
                  <a:pt x="10799" y="6873"/>
                </a:lnTo>
                <a:lnTo>
                  <a:pt x="10840" y="6871"/>
                </a:lnTo>
                <a:lnTo>
                  <a:pt x="10893" y="6869"/>
                </a:lnTo>
                <a:lnTo>
                  <a:pt x="10890" y="6861"/>
                </a:lnTo>
                <a:lnTo>
                  <a:pt x="10914" y="6846"/>
                </a:lnTo>
                <a:lnTo>
                  <a:pt x="10969" y="6812"/>
                </a:lnTo>
                <a:lnTo>
                  <a:pt x="10970" y="6748"/>
                </a:lnTo>
                <a:lnTo>
                  <a:pt x="10988" y="6697"/>
                </a:lnTo>
                <a:lnTo>
                  <a:pt x="11005" y="6650"/>
                </a:lnTo>
                <a:lnTo>
                  <a:pt x="11000" y="6596"/>
                </a:lnTo>
                <a:lnTo>
                  <a:pt x="11013" y="6548"/>
                </a:lnTo>
                <a:lnTo>
                  <a:pt x="11030" y="6487"/>
                </a:lnTo>
                <a:lnTo>
                  <a:pt x="11046" y="6489"/>
                </a:lnTo>
                <a:lnTo>
                  <a:pt x="11063" y="6449"/>
                </a:lnTo>
                <a:lnTo>
                  <a:pt x="11080" y="6409"/>
                </a:lnTo>
                <a:lnTo>
                  <a:pt x="11063" y="6364"/>
                </a:lnTo>
                <a:lnTo>
                  <a:pt x="11088" y="6325"/>
                </a:lnTo>
                <a:lnTo>
                  <a:pt x="11094" y="6315"/>
                </a:lnTo>
                <a:lnTo>
                  <a:pt x="11145" y="6271"/>
                </a:lnTo>
                <a:lnTo>
                  <a:pt x="11162" y="6251"/>
                </a:lnTo>
                <a:lnTo>
                  <a:pt x="11178" y="6231"/>
                </a:lnTo>
                <a:lnTo>
                  <a:pt x="11208" y="6231"/>
                </a:lnTo>
                <a:lnTo>
                  <a:pt x="11237" y="6201"/>
                </a:lnTo>
                <a:lnTo>
                  <a:pt x="11271" y="6165"/>
                </a:lnTo>
                <a:lnTo>
                  <a:pt x="11265" y="6187"/>
                </a:lnTo>
                <a:lnTo>
                  <a:pt x="11311" y="6152"/>
                </a:lnTo>
                <a:lnTo>
                  <a:pt x="11340" y="6130"/>
                </a:lnTo>
                <a:lnTo>
                  <a:pt x="11372" y="6100"/>
                </a:lnTo>
                <a:lnTo>
                  <a:pt x="11410" y="6077"/>
                </a:lnTo>
                <a:lnTo>
                  <a:pt x="11463" y="6046"/>
                </a:lnTo>
                <a:lnTo>
                  <a:pt x="11426" y="6048"/>
                </a:lnTo>
                <a:lnTo>
                  <a:pt x="11485" y="6028"/>
                </a:lnTo>
                <a:lnTo>
                  <a:pt x="11531" y="6012"/>
                </a:lnTo>
                <a:lnTo>
                  <a:pt x="11510" y="6012"/>
                </a:lnTo>
                <a:lnTo>
                  <a:pt x="11584" y="6003"/>
                </a:lnTo>
                <a:lnTo>
                  <a:pt x="11860" y="5970"/>
                </a:lnTo>
                <a:lnTo>
                  <a:pt x="12167" y="6015"/>
                </a:lnTo>
                <a:lnTo>
                  <a:pt x="12402" y="5953"/>
                </a:lnTo>
                <a:lnTo>
                  <a:pt x="12467" y="5936"/>
                </a:lnTo>
                <a:lnTo>
                  <a:pt x="12511" y="5939"/>
                </a:lnTo>
                <a:lnTo>
                  <a:pt x="12576" y="5904"/>
                </a:lnTo>
                <a:lnTo>
                  <a:pt x="12615" y="5883"/>
                </a:lnTo>
                <a:lnTo>
                  <a:pt x="12657" y="5843"/>
                </a:lnTo>
                <a:lnTo>
                  <a:pt x="12675" y="5829"/>
                </a:lnTo>
                <a:lnTo>
                  <a:pt x="12714" y="5798"/>
                </a:lnTo>
                <a:lnTo>
                  <a:pt x="12728" y="5807"/>
                </a:lnTo>
                <a:lnTo>
                  <a:pt x="12750" y="5779"/>
                </a:lnTo>
                <a:lnTo>
                  <a:pt x="12775" y="5746"/>
                </a:lnTo>
                <a:lnTo>
                  <a:pt x="12790" y="5674"/>
                </a:lnTo>
                <a:lnTo>
                  <a:pt x="12799" y="5631"/>
                </a:lnTo>
                <a:lnTo>
                  <a:pt x="12813" y="5566"/>
                </a:lnTo>
                <a:lnTo>
                  <a:pt x="12810" y="5493"/>
                </a:lnTo>
                <a:lnTo>
                  <a:pt x="12824" y="5457"/>
                </a:lnTo>
                <a:lnTo>
                  <a:pt x="12847" y="5399"/>
                </a:lnTo>
                <a:lnTo>
                  <a:pt x="12868" y="5369"/>
                </a:lnTo>
                <a:lnTo>
                  <a:pt x="12898" y="5333"/>
                </a:lnTo>
                <a:lnTo>
                  <a:pt x="12919" y="5309"/>
                </a:lnTo>
                <a:lnTo>
                  <a:pt x="12960" y="5271"/>
                </a:lnTo>
                <a:lnTo>
                  <a:pt x="12998" y="5234"/>
                </a:lnTo>
                <a:lnTo>
                  <a:pt x="13017" y="5216"/>
                </a:lnTo>
                <a:lnTo>
                  <a:pt x="13059" y="5172"/>
                </a:lnTo>
                <a:lnTo>
                  <a:pt x="13072" y="5159"/>
                </a:lnTo>
                <a:lnTo>
                  <a:pt x="13101" y="5151"/>
                </a:lnTo>
                <a:lnTo>
                  <a:pt x="13151" y="5113"/>
                </a:lnTo>
                <a:lnTo>
                  <a:pt x="13171" y="5110"/>
                </a:lnTo>
                <a:lnTo>
                  <a:pt x="13244" y="5099"/>
                </a:lnTo>
                <a:lnTo>
                  <a:pt x="13233" y="5088"/>
                </a:lnTo>
                <a:lnTo>
                  <a:pt x="13320" y="5110"/>
                </a:lnTo>
                <a:lnTo>
                  <a:pt x="13357" y="5119"/>
                </a:lnTo>
                <a:lnTo>
                  <a:pt x="13361" y="5138"/>
                </a:lnTo>
                <a:lnTo>
                  <a:pt x="13419" y="5159"/>
                </a:lnTo>
                <a:lnTo>
                  <a:pt x="13466" y="5176"/>
                </a:lnTo>
                <a:lnTo>
                  <a:pt x="13498" y="5162"/>
                </a:lnTo>
                <a:lnTo>
                  <a:pt x="13543" y="5184"/>
                </a:lnTo>
                <a:lnTo>
                  <a:pt x="13612" y="5218"/>
                </a:lnTo>
                <a:lnTo>
                  <a:pt x="13629" y="5255"/>
                </a:lnTo>
                <a:lnTo>
                  <a:pt x="13692" y="5283"/>
                </a:lnTo>
                <a:lnTo>
                  <a:pt x="13709" y="5290"/>
                </a:lnTo>
                <a:lnTo>
                  <a:pt x="13779" y="5325"/>
                </a:lnTo>
                <a:lnTo>
                  <a:pt x="13791" y="5333"/>
                </a:lnTo>
                <a:lnTo>
                  <a:pt x="13823" y="5356"/>
                </a:lnTo>
                <a:lnTo>
                  <a:pt x="13870" y="5355"/>
                </a:lnTo>
                <a:lnTo>
                  <a:pt x="13891" y="5383"/>
                </a:lnTo>
                <a:lnTo>
                  <a:pt x="13911" y="5410"/>
                </a:lnTo>
                <a:lnTo>
                  <a:pt x="13925" y="5496"/>
                </a:lnTo>
                <a:lnTo>
                  <a:pt x="13940" y="5531"/>
                </a:lnTo>
                <a:lnTo>
                  <a:pt x="13949" y="5552"/>
                </a:lnTo>
                <a:lnTo>
                  <a:pt x="13931" y="5585"/>
                </a:lnTo>
                <a:lnTo>
                  <a:pt x="13940" y="5606"/>
                </a:lnTo>
                <a:lnTo>
                  <a:pt x="14045" y="5614"/>
                </a:lnTo>
                <a:lnTo>
                  <a:pt x="14116" y="5633"/>
                </a:lnTo>
                <a:lnTo>
                  <a:pt x="14188" y="5655"/>
                </a:lnTo>
                <a:lnTo>
                  <a:pt x="14244" y="5672"/>
                </a:lnTo>
                <a:lnTo>
                  <a:pt x="14317" y="5661"/>
                </a:lnTo>
                <a:lnTo>
                  <a:pt x="14362" y="5705"/>
                </a:lnTo>
                <a:lnTo>
                  <a:pt x="14387" y="5729"/>
                </a:lnTo>
                <a:lnTo>
                  <a:pt x="14378" y="5765"/>
                </a:lnTo>
                <a:lnTo>
                  <a:pt x="14412" y="5804"/>
                </a:lnTo>
                <a:lnTo>
                  <a:pt x="14457" y="5855"/>
                </a:lnTo>
                <a:lnTo>
                  <a:pt x="14446" y="5852"/>
                </a:lnTo>
                <a:lnTo>
                  <a:pt x="14486" y="5879"/>
                </a:lnTo>
                <a:lnTo>
                  <a:pt x="14523" y="5904"/>
                </a:lnTo>
                <a:lnTo>
                  <a:pt x="14561" y="5890"/>
                </a:lnTo>
                <a:lnTo>
                  <a:pt x="14585" y="5928"/>
                </a:lnTo>
                <a:lnTo>
                  <a:pt x="14619" y="5981"/>
                </a:lnTo>
                <a:lnTo>
                  <a:pt x="14620" y="5993"/>
                </a:lnTo>
                <a:lnTo>
                  <a:pt x="14635" y="6077"/>
                </a:lnTo>
                <a:lnTo>
                  <a:pt x="14657" y="6200"/>
                </a:lnTo>
                <a:lnTo>
                  <a:pt x="14586" y="6379"/>
                </a:lnTo>
                <a:lnTo>
                  <a:pt x="14684" y="6474"/>
                </a:lnTo>
                <a:lnTo>
                  <a:pt x="14704" y="6494"/>
                </a:lnTo>
                <a:lnTo>
                  <a:pt x="14781" y="6500"/>
                </a:lnTo>
                <a:lnTo>
                  <a:pt x="14808" y="6524"/>
                </a:lnTo>
                <a:lnTo>
                  <a:pt x="14855" y="6567"/>
                </a:lnTo>
                <a:lnTo>
                  <a:pt x="14929" y="6617"/>
                </a:lnTo>
                <a:lnTo>
                  <a:pt x="14982" y="6648"/>
                </a:lnTo>
                <a:lnTo>
                  <a:pt x="15018" y="6669"/>
                </a:lnTo>
                <a:lnTo>
                  <a:pt x="15103" y="6733"/>
                </a:lnTo>
                <a:lnTo>
                  <a:pt x="15131" y="6747"/>
                </a:lnTo>
                <a:lnTo>
                  <a:pt x="15147" y="6747"/>
                </a:lnTo>
                <a:lnTo>
                  <a:pt x="15164" y="6747"/>
                </a:lnTo>
                <a:lnTo>
                  <a:pt x="15180" y="6747"/>
                </a:lnTo>
                <a:lnTo>
                  <a:pt x="15191" y="6844"/>
                </a:lnTo>
                <a:lnTo>
                  <a:pt x="15176" y="6933"/>
                </a:lnTo>
                <a:lnTo>
                  <a:pt x="15205" y="7020"/>
                </a:lnTo>
                <a:lnTo>
                  <a:pt x="15217" y="7055"/>
                </a:lnTo>
                <a:lnTo>
                  <a:pt x="15274" y="7081"/>
                </a:lnTo>
                <a:lnTo>
                  <a:pt x="15280" y="7119"/>
                </a:lnTo>
                <a:lnTo>
                  <a:pt x="15302" y="7260"/>
                </a:lnTo>
                <a:lnTo>
                  <a:pt x="15274" y="7330"/>
                </a:lnTo>
                <a:lnTo>
                  <a:pt x="15180" y="7392"/>
                </a:lnTo>
                <a:lnTo>
                  <a:pt x="15169" y="7399"/>
                </a:lnTo>
                <a:lnTo>
                  <a:pt x="15126" y="7404"/>
                </a:lnTo>
                <a:lnTo>
                  <a:pt x="15106" y="7417"/>
                </a:lnTo>
                <a:lnTo>
                  <a:pt x="15043" y="7459"/>
                </a:lnTo>
                <a:lnTo>
                  <a:pt x="15023" y="7445"/>
                </a:lnTo>
                <a:lnTo>
                  <a:pt x="14957" y="7516"/>
                </a:lnTo>
                <a:lnTo>
                  <a:pt x="14933" y="7542"/>
                </a:lnTo>
                <a:lnTo>
                  <a:pt x="14903" y="7582"/>
                </a:lnTo>
                <a:lnTo>
                  <a:pt x="14883" y="7615"/>
                </a:lnTo>
                <a:lnTo>
                  <a:pt x="14870" y="7636"/>
                </a:lnTo>
                <a:lnTo>
                  <a:pt x="14871" y="7697"/>
                </a:lnTo>
                <a:lnTo>
                  <a:pt x="14858" y="7714"/>
                </a:lnTo>
                <a:lnTo>
                  <a:pt x="14827" y="7753"/>
                </a:lnTo>
                <a:lnTo>
                  <a:pt x="14785" y="7796"/>
                </a:lnTo>
                <a:lnTo>
                  <a:pt x="14759" y="7838"/>
                </a:lnTo>
                <a:lnTo>
                  <a:pt x="14748" y="7855"/>
                </a:lnTo>
                <a:lnTo>
                  <a:pt x="14724" y="7890"/>
                </a:lnTo>
                <a:lnTo>
                  <a:pt x="14709" y="7913"/>
                </a:lnTo>
                <a:lnTo>
                  <a:pt x="14682" y="7955"/>
                </a:lnTo>
                <a:lnTo>
                  <a:pt x="14653" y="7991"/>
                </a:lnTo>
                <a:lnTo>
                  <a:pt x="14635" y="8012"/>
                </a:lnTo>
                <a:lnTo>
                  <a:pt x="14614" y="8037"/>
                </a:lnTo>
                <a:lnTo>
                  <a:pt x="14605" y="8068"/>
                </a:lnTo>
                <a:lnTo>
                  <a:pt x="14585" y="8086"/>
                </a:lnTo>
                <a:lnTo>
                  <a:pt x="14545" y="8121"/>
                </a:lnTo>
                <a:lnTo>
                  <a:pt x="14510" y="8112"/>
                </a:lnTo>
                <a:lnTo>
                  <a:pt x="14486" y="8136"/>
                </a:lnTo>
                <a:lnTo>
                  <a:pt x="14476" y="8146"/>
                </a:lnTo>
                <a:lnTo>
                  <a:pt x="14415" y="8177"/>
                </a:lnTo>
                <a:lnTo>
                  <a:pt x="14412" y="8186"/>
                </a:lnTo>
                <a:lnTo>
                  <a:pt x="14362" y="8326"/>
                </a:lnTo>
                <a:lnTo>
                  <a:pt x="14364" y="8827"/>
                </a:lnTo>
                <a:lnTo>
                  <a:pt x="14387" y="8954"/>
                </a:lnTo>
                <a:lnTo>
                  <a:pt x="14405" y="9052"/>
                </a:lnTo>
                <a:lnTo>
                  <a:pt x="14426" y="9049"/>
                </a:lnTo>
                <a:lnTo>
                  <a:pt x="14461" y="9128"/>
                </a:lnTo>
                <a:lnTo>
                  <a:pt x="14476" y="9161"/>
                </a:lnTo>
                <a:lnTo>
                  <a:pt x="14496" y="9194"/>
                </a:lnTo>
                <a:lnTo>
                  <a:pt x="14511" y="9227"/>
                </a:lnTo>
                <a:lnTo>
                  <a:pt x="14525" y="9257"/>
                </a:lnTo>
                <a:lnTo>
                  <a:pt x="14544" y="9300"/>
                </a:lnTo>
                <a:lnTo>
                  <a:pt x="14560" y="9327"/>
                </a:lnTo>
                <a:lnTo>
                  <a:pt x="14573" y="9349"/>
                </a:lnTo>
                <a:lnTo>
                  <a:pt x="14635" y="9425"/>
                </a:lnTo>
                <a:lnTo>
                  <a:pt x="14635" y="9426"/>
                </a:lnTo>
                <a:lnTo>
                  <a:pt x="14651" y="9473"/>
                </a:lnTo>
                <a:lnTo>
                  <a:pt x="14652" y="9501"/>
                </a:lnTo>
                <a:lnTo>
                  <a:pt x="14660" y="9550"/>
                </a:lnTo>
                <a:lnTo>
                  <a:pt x="14708" y="9847"/>
                </a:lnTo>
                <a:lnTo>
                  <a:pt x="14651" y="10200"/>
                </a:lnTo>
                <a:lnTo>
                  <a:pt x="14610" y="10468"/>
                </a:lnTo>
                <a:lnTo>
                  <a:pt x="14610" y="10492"/>
                </a:lnTo>
                <a:lnTo>
                  <a:pt x="14610" y="10501"/>
                </a:lnTo>
                <a:lnTo>
                  <a:pt x="14610" y="10517"/>
                </a:lnTo>
                <a:lnTo>
                  <a:pt x="14633" y="10449"/>
                </a:lnTo>
                <a:lnTo>
                  <a:pt x="14639" y="10436"/>
                </a:lnTo>
                <a:lnTo>
                  <a:pt x="14660" y="10368"/>
                </a:lnTo>
                <a:lnTo>
                  <a:pt x="14668" y="10343"/>
                </a:lnTo>
                <a:lnTo>
                  <a:pt x="14676" y="10319"/>
                </a:lnTo>
                <a:lnTo>
                  <a:pt x="14684" y="10294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Ink 3"/>
          <p:cNvSpPr/>
          <p:nvPr/>
        </p:nvSpPr>
        <p:spPr>
          <a:xfrm>
            <a:off x="3251160" y="3857760"/>
            <a:ext cx="1392120" cy="1420560"/>
          </a:xfrm>
          <a:custGeom>
            <a:avLst/>
            <a:gdLst/>
            <a:ahLst/>
            <a:rect l="l" t="t" r="r" b="b"/>
            <a:pathLst>
              <a:path w="3870" h="3945">
                <a:moveTo>
                  <a:pt x="9029" y="10716"/>
                </a:moveTo>
                <a:lnTo>
                  <a:pt x="9061" y="10720"/>
                </a:lnTo>
                <a:lnTo>
                  <a:pt x="9070" y="10738"/>
                </a:lnTo>
                <a:lnTo>
                  <a:pt x="9103" y="10740"/>
                </a:lnTo>
                <a:lnTo>
                  <a:pt x="9246" y="10751"/>
                </a:lnTo>
                <a:lnTo>
                  <a:pt x="9384" y="10747"/>
                </a:lnTo>
                <a:lnTo>
                  <a:pt x="9525" y="10765"/>
                </a:lnTo>
                <a:lnTo>
                  <a:pt x="9532" y="10798"/>
                </a:lnTo>
                <a:lnTo>
                  <a:pt x="9532" y="10797"/>
                </a:lnTo>
                <a:lnTo>
                  <a:pt x="9550" y="10840"/>
                </a:lnTo>
                <a:lnTo>
                  <a:pt x="9559" y="10872"/>
                </a:lnTo>
                <a:lnTo>
                  <a:pt x="9566" y="10882"/>
                </a:lnTo>
                <a:lnTo>
                  <a:pt x="9575" y="10914"/>
                </a:lnTo>
                <a:lnTo>
                  <a:pt x="9595" y="10981"/>
                </a:lnTo>
                <a:lnTo>
                  <a:pt x="9600" y="11000"/>
                </a:lnTo>
                <a:lnTo>
                  <a:pt x="9624" y="11063"/>
                </a:lnTo>
                <a:lnTo>
                  <a:pt x="9638" y="11100"/>
                </a:lnTo>
                <a:lnTo>
                  <a:pt x="9657" y="11149"/>
                </a:lnTo>
                <a:lnTo>
                  <a:pt x="9674" y="11187"/>
                </a:lnTo>
                <a:lnTo>
                  <a:pt x="9691" y="11225"/>
                </a:lnTo>
                <a:lnTo>
                  <a:pt x="9705" y="11274"/>
                </a:lnTo>
                <a:lnTo>
                  <a:pt x="9723" y="11311"/>
                </a:lnTo>
                <a:lnTo>
                  <a:pt x="9739" y="11344"/>
                </a:lnTo>
                <a:lnTo>
                  <a:pt x="9758" y="11380"/>
                </a:lnTo>
                <a:lnTo>
                  <a:pt x="9773" y="11410"/>
                </a:lnTo>
                <a:lnTo>
                  <a:pt x="9790" y="11444"/>
                </a:lnTo>
                <a:lnTo>
                  <a:pt x="9792" y="11480"/>
                </a:lnTo>
                <a:lnTo>
                  <a:pt x="9823" y="11509"/>
                </a:lnTo>
                <a:lnTo>
                  <a:pt x="9858" y="11542"/>
                </a:lnTo>
                <a:lnTo>
                  <a:pt x="9844" y="11540"/>
                </a:lnTo>
                <a:lnTo>
                  <a:pt x="9897" y="11559"/>
                </a:lnTo>
                <a:lnTo>
                  <a:pt x="9975" y="11588"/>
                </a:lnTo>
                <a:lnTo>
                  <a:pt x="10106" y="11550"/>
                </a:lnTo>
                <a:lnTo>
                  <a:pt x="10170" y="11534"/>
                </a:lnTo>
                <a:lnTo>
                  <a:pt x="10198" y="11534"/>
                </a:lnTo>
                <a:lnTo>
                  <a:pt x="10209" y="11532"/>
                </a:lnTo>
                <a:lnTo>
                  <a:pt x="10220" y="11509"/>
                </a:lnTo>
                <a:lnTo>
                  <a:pt x="10248" y="11566"/>
                </a:lnTo>
                <a:lnTo>
                  <a:pt x="10246" y="11563"/>
                </a:lnTo>
                <a:lnTo>
                  <a:pt x="10269" y="11609"/>
                </a:lnTo>
                <a:lnTo>
                  <a:pt x="10292" y="11654"/>
                </a:lnTo>
                <a:lnTo>
                  <a:pt x="10309" y="11681"/>
                </a:lnTo>
                <a:lnTo>
                  <a:pt x="10319" y="11733"/>
                </a:lnTo>
                <a:lnTo>
                  <a:pt x="10339" y="11837"/>
                </a:lnTo>
                <a:lnTo>
                  <a:pt x="10326" y="11953"/>
                </a:lnTo>
                <a:lnTo>
                  <a:pt x="10344" y="12055"/>
                </a:lnTo>
                <a:lnTo>
                  <a:pt x="10350" y="12088"/>
                </a:lnTo>
                <a:lnTo>
                  <a:pt x="10361" y="12138"/>
                </a:lnTo>
                <a:lnTo>
                  <a:pt x="10368" y="12179"/>
                </a:lnTo>
                <a:lnTo>
                  <a:pt x="10378" y="12237"/>
                </a:lnTo>
                <a:lnTo>
                  <a:pt x="10385" y="12297"/>
                </a:lnTo>
                <a:lnTo>
                  <a:pt x="10393" y="12353"/>
                </a:lnTo>
                <a:lnTo>
                  <a:pt x="10445" y="12361"/>
                </a:lnTo>
                <a:lnTo>
                  <a:pt x="10498" y="12375"/>
                </a:lnTo>
                <a:lnTo>
                  <a:pt x="10542" y="12378"/>
                </a:lnTo>
                <a:lnTo>
                  <a:pt x="10661" y="12386"/>
                </a:lnTo>
                <a:lnTo>
                  <a:pt x="10775" y="12385"/>
                </a:lnTo>
                <a:lnTo>
                  <a:pt x="10889" y="12402"/>
                </a:lnTo>
                <a:lnTo>
                  <a:pt x="10905" y="12418"/>
                </a:lnTo>
                <a:lnTo>
                  <a:pt x="10935" y="12448"/>
                </a:lnTo>
                <a:lnTo>
                  <a:pt x="10964" y="12477"/>
                </a:lnTo>
                <a:lnTo>
                  <a:pt x="10972" y="12485"/>
                </a:lnTo>
                <a:lnTo>
                  <a:pt x="11005" y="12518"/>
                </a:lnTo>
                <a:lnTo>
                  <a:pt x="11013" y="12526"/>
                </a:lnTo>
                <a:lnTo>
                  <a:pt x="11036" y="12559"/>
                </a:lnTo>
                <a:lnTo>
                  <a:pt x="11064" y="12585"/>
                </a:lnTo>
                <a:lnTo>
                  <a:pt x="11088" y="12626"/>
                </a:lnTo>
                <a:lnTo>
                  <a:pt x="11107" y="12658"/>
                </a:lnTo>
                <a:lnTo>
                  <a:pt x="11098" y="12656"/>
                </a:lnTo>
                <a:lnTo>
                  <a:pt x="11112" y="12700"/>
                </a:lnTo>
                <a:lnTo>
                  <a:pt x="11124" y="12738"/>
                </a:lnTo>
                <a:lnTo>
                  <a:pt x="11124" y="12783"/>
                </a:lnTo>
                <a:lnTo>
                  <a:pt x="11137" y="12824"/>
                </a:lnTo>
                <a:lnTo>
                  <a:pt x="11152" y="12872"/>
                </a:lnTo>
                <a:lnTo>
                  <a:pt x="11176" y="12916"/>
                </a:lnTo>
                <a:lnTo>
                  <a:pt x="11187" y="12973"/>
                </a:lnTo>
                <a:lnTo>
                  <a:pt x="11201" y="13044"/>
                </a:lnTo>
                <a:lnTo>
                  <a:pt x="11214" y="13127"/>
                </a:lnTo>
                <a:lnTo>
                  <a:pt x="11237" y="13196"/>
                </a:lnTo>
                <a:lnTo>
                  <a:pt x="11247" y="13225"/>
                </a:lnTo>
                <a:lnTo>
                  <a:pt x="11274" y="13265"/>
                </a:lnTo>
                <a:lnTo>
                  <a:pt x="11286" y="13295"/>
                </a:lnTo>
                <a:lnTo>
                  <a:pt x="11290" y="13302"/>
                </a:lnTo>
                <a:lnTo>
                  <a:pt x="11323" y="13349"/>
                </a:lnTo>
                <a:lnTo>
                  <a:pt x="11336" y="13370"/>
                </a:lnTo>
                <a:lnTo>
                  <a:pt x="11374" y="13435"/>
                </a:lnTo>
                <a:lnTo>
                  <a:pt x="11375" y="13422"/>
                </a:lnTo>
                <a:lnTo>
                  <a:pt x="11410" y="13494"/>
                </a:lnTo>
                <a:lnTo>
                  <a:pt x="11432" y="13540"/>
                </a:lnTo>
                <a:lnTo>
                  <a:pt x="11458" y="13592"/>
                </a:lnTo>
                <a:lnTo>
                  <a:pt x="11485" y="13643"/>
                </a:lnTo>
                <a:lnTo>
                  <a:pt x="11498" y="13668"/>
                </a:lnTo>
                <a:lnTo>
                  <a:pt x="11525" y="13715"/>
                </a:lnTo>
                <a:lnTo>
                  <a:pt x="11534" y="13742"/>
                </a:lnTo>
                <a:lnTo>
                  <a:pt x="11551" y="13791"/>
                </a:lnTo>
                <a:lnTo>
                  <a:pt x="11553" y="13808"/>
                </a:lnTo>
                <a:lnTo>
                  <a:pt x="11559" y="13866"/>
                </a:lnTo>
                <a:lnTo>
                  <a:pt x="11577" y="14047"/>
                </a:lnTo>
                <a:lnTo>
                  <a:pt x="11528" y="14240"/>
                </a:lnTo>
                <a:lnTo>
                  <a:pt x="11584" y="14412"/>
                </a:lnTo>
                <a:lnTo>
                  <a:pt x="11591" y="14434"/>
                </a:lnTo>
                <a:lnTo>
                  <a:pt x="11621" y="14492"/>
                </a:lnTo>
                <a:lnTo>
                  <a:pt x="11633" y="14511"/>
                </a:lnTo>
                <a:lnTo>
                  <a:pt x="11648" y="14534"/>
                </a:lnTo>
                <a:lnTo>
                  <a:pt x="11678" y="14552"/>
                </a:lnTo>
                <a:lnTo>
                  <a:pt x="11683" y="14560"/>
                </a:lnTo>
                <a:lnTo>
                  <a:pt x="11730" y="14611"/>
                </a:lnTo>
                <a:lnTo>
                  <a:pt x="11648" y="14627"/>
                </a:lnTo>
                <a:lnTo>
                  <a:pt x="11733" y="14660"/>
                </a:lnTo>
                <a:lnTo>
                  <a:pt x="11787" y="14681"/>
                </a:lnTo>
                <a:lnTo>
                  <a:pt x="11841" y="14643"/>
                </a:lnTo>
                <a:lnTo>
                  <a:pt x="11881" y="14635"/>
                </a:lnTo>
                <a:lnTo>
                  <a:pt x="11952" y="14620"/>
                </a:lnTo>
                <a:lnTo>
                  <a:pt x="11988" y="14604"/>
                </a:lnTo>
                <a:lnTo>
                  <a:pt x="12055" y="14585"/>
                </a:lnTo>
                <a:lnTo>
                  <a:pt x="12105" y="14571"/>
                </a:lnTo>
                <a:lnTo>
                  <a:pt x="12157" y="14573"/>
                </a:lnTo>
                <a:lnTo>
                  <a:pt x="12204" y="14560"/>
                </a:lnTo>
                <a:lnTo>
                  <a:pt x="12226" y="14554"/>
                </a:lnTo>
                <a:lnTo>
                  <a:pt x="12253" y="14543"/>
                </a:lnTo>
                <a:lnTo>
                  <a:pt x="12278" y="14536"/>
                </a:lnTo>
                <a:lnTo>
                  <a:pt x="12292" y="14522"/>
                </a:lnTo>
                <a:lnTo>
                  <a:pt x="12339" y="14475"/>
                </a:lnTo>
                <a:lnTo>
                  <a:pt x="12353" y="14461"/>
                </a:lnTo>
                <a:lnTo>
                  <a:pt x="12366" y="14450"/>
                </a:lnTo>
                <a:lnTo>
                  <a:pt x="12443" y="14397"/>
                </a:lnTo>
                <a:lnTo>
                  <a:pt x="12452" y="14387"/>
                </a:lnTo>
                <a:lnTo>
                  <a:pt x="12470" y="14368"/>
                </a:lnTo>
                <a:lnTo>
                  <a:pt x="12516" y="14295"/>
                </a:lnTo>
                <a:lnTo>
                  <a:pt x="12526" y="14288"/>
                </a:lnTo>
                <a:lnTo>
                  <a:pt x="12613" y="14228"/>
                </a:lnTo>
                <a:lnTo>
                  <a:pt x="12626" y="14229"/>
                </a:lnTo>
                <a:lnTo>
                  <a:pt x="12750" y="14163"/>
                </a:lnTo>
                <a:lnTo>
                  <a:pt x="12799" y="14138"/>
                </a:lnTo>
                <a:lnTo>
                  <a:pt x="12849" y="14114"/>
                </a:lnTo>
                <a:lnTo>
                  <a:pt x="12898" y="14089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4608360" cy="130500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857760" y="428760"/>
            <a:ext cx="4819680" cy="6257880"/>
          </a:xfrm>
          <a:prstGeom prst="rect">
            <a:avLst/>
          </a:prstGeom>
          <a:ln w="0">
            <a:noFill/>
          </a:ln>
        </p:spPr>
      </p:pic>
      <p:sp>
        <p:nvSpPr>
          <p:cNvPr id="422" name="Ink 2"/>
          <p:cNvSpPr/>
          <p:nvPr/>
        </p:nvSpPr>
        <p:spPr>
          <a:xfrm>
            <a:off x="5946840" y="1295280"/>
            <a:ext cx="1982880" cy="3606840"/>
          </a:xfrm>
          <a:custGeom>
            <a:avLst/>
            <a:gdLst/>
            <a:ahLst/>
            <a:rect l="l" t="t" r="r" b="b"/>
            <a:pathLst>
              <a:path w="5508" h="10022">
                <a:moveTo>
                  <a:pt x="21183" y="3597"/>
                </a:moveTo>
                <a:lnTo>
                  <a:pt x="21172" y="3662"/>
                </a:lnTo>
                <a:lnTo>
                  <a:pt x="21166" y="3762"/>
                </a:lnTo>
                <a:lnTo>
                  <a:pt x="21158" y="3795"/>
                </a:lnTo>
                <a:lnTo>
                  <a:pt x="21147" y="3839"/>
                </a:lnTo>
                <a:lnTo>
                  <a:pt x="21143" y="3878"/>
                </a:lnTo>
                <a:lnTo>
                  <a:pt x="21134" y="3919"/>
                </a:lnTo>
                <a:lnTo>
                  <a:pt x="21124" y="3967"/>
                </a:lnTo>
                <a:lnTo>
                  <a:pt x="21084" y="4033"/>
                </a:lnTo>
                <a:lnTo>
                  <a:pt x="21084" y="4068"/>
                </a:lnTo>
                <a:lnTo>
                  <a:pt x="21084" y="4206"/>
                </a:lnTo>
                <a:lnTo>
                  <a:pt x="21158" y="4272"/>
                </a:lnTo>
                <a:lnTo>
                  <a:pt x="21183" y="4341"/>
                </a:lnTo>
                <a:lnTo>
                  <a:pt x="21198" y="4382"/>
                </a:lnTo>
                <a:lnTo>
                  <a:pt x="21219" y="4422"/>
                </a:lnTo>
                <a:lnTo>
                  <a:pt x="21233" y="4465"/>
                </a:lnTo>
                <a:lnTo>
                  <a:pt x="21246" y="4505"/>
                </a:lnTo>
                <a:lnTo>
                  <a:pt x="21253" y="4508"/>
                </a:lnTo>
                <a:lnTo>
                  <a:pt x="21258" y="4539"/>
                </a:lnTo>
                <a:lnTo>
                  <a:pt x="21267" y="4589"/>
                </a:lnTo>
                <a:lnTo>
                  <a:pt x="21296" y="4627"/>
                </a:lnTo>
                <a:lnTo>
                  <a:pt x="21282" y="4688"/>
                </a:lnTo>
                <a:lnTo>
                  <a:pt x="21270" y="4738"/>
                </a:lnTo>
                <a:lnTo>
                  <a:pt x="21286" y="4758"/>
                </a:lnTo>
                <a:lnTo>
                  <a:pt x="21258" y="4787"/>
                </a:lnTo>
                <a:lnTo>
                  <a:pt x="21218" y="4829"/>
                </a:lnTo>
                <a:lnTo>
                  <a:pt x="21153" y="4813"/>
                </a:lnTo>
                <a:lnTo>
                  <a:pt x="21109" y="4837"/>
                </a:lnTo>
                <a:lnTo>
                  <a:pt x="20997" y="4899"/>
                </a:lnTo>
                <a:lnTo>
                  <a:pt x="20909" y="4816"/>
                </a:lnTo>
                <a:lnTo>
                  <a:pt x="20836" y="4986"/>
                </a:lnTo>
                <a:lnTo>
                  <a:pt x="20804" y="5060"/>
                </a:lnTo>
                <a:lnTo>
                  <a:pt x="20851" y="5180"/>
                </a:lnTo>
                <a:lnTo>
                  <a:pt x="20836" y="5259"/>
                </a:lnTo>
                <a:lnTo>
                  <a:pt x="20882" y="5270"/>
                </a:lnTo>
                <a:lnTo>
                  <a:pt x="20876" y="5274"/>
                </a:lnTo>
                <a:lnTo>
                  <a:pt x="20910" y="5283"/>
                </a:lnTo>
                <a:lnTo>
                  <a:pt x="21043" y="5318"/>
                </a:lnTo>
                <a:lnTo>
                  <a:pt x="21160" y="5321"/>
                </a:lnTo>
                <a:lnTo>
                  <a:pt x="21307" y="5333"/>
                </a:lnTo>
                <a:lnTo>
                  <a:pt x="21335" y="5383"/>
                </a:lnTo>
                <a:lnTo>
                  <a:pt x="21378" y="5409"/>
                </a:lnTo>
                <a:lnTo>
                  <a:pt x="21406" y="5457"/>
                </a:lnTo>
                <a:lnTo>
                  <a:pt x="21417" y="5476"/>
                </a:lnTo>
                <a:lnTo>
                  <a:pt x="21448" y="5535"/>
                </a:lnTo>
                <a:lnTo>
                  <a:pt x="21456" y="5556"/>
                </a:lnTo>
                <a:lnTo>
                  <a:pt x="21473" y="5600"/>
                </a:lnTo>
                <a:lnTo>
                  <a:pt x="21499" y="5646"/>
                </a:lnTo>
                <a:lnTo>
                  <a:pt x="21506" y="5680"/>
                </a:lnTo>
                <a:lnTo>
                  <a:pt x="21534" y="5817"/>
                </a:lnTo>
                <a:lnTo>
                  <a:pt x="21484" y="5918"/>
                </a:lnTo>
                <a:lnTo>
                  <a:pt x="21456" y="6028"/>
                </a:lnTo>
                <a:lnTo>
                  <a:pt x="21446" y="6068"/>
                </a:lnTo>
                <a:lnTo>
                  <a:pt x="21419" y="6090"/>
                </a:lnTo>
                <a:lnTo>
                  <a:pt x="21406" y="6127"/>
                </a:lnTo>
                <a:lnTo>
                  <a:pt x="21392" y="6166"/>
                </a:lnTo>
                <a:lnTo>
                  <a:pt x="21390" y="6170"/>
                </a:lnTo>
                <a:lnTo>
                  <a:pt x="21382" y="6201"/>
                </a:lnTo>
                <a:lnTo>
                  <a:pt x="21369" y="6249"/>
                </a:lnTo>
                <a:lnTo>
                  <a:pt x="21339" y="6279"/>
                </a:lnTo>
                <a:lnTo>
                  <a:pt x="21332" y="6325"/>
                </a:lnTo>
                <a:lnTo>
                  <a:pt x="21301" y="6518"/>
                </a:lnTo>
                <a:lnTo>
                  <a:pt x="21384" y="6660"/>
                </a:lnTo>
                <a:lnTo>
                  <a:pt x="21431" y="6796"/>
                </a:lnTo>
                <a:lnTo>
                  <a:pt x="21443" y="6832"/>
                </a:lnTo>
                <a:lnTo>
                  <a:pt x="21504" y="6913"/>
                </a:lnTo>
                <a:lnTo>
                  <a:pt x="21506" y="6921"/>
                </a:lnTo>
                <a:lnTo>
                  <a:pt x="21535" y="7056"/>
                </a:lnTo>
                <a:lnTo>
                  <a:pt x="21495" y="7271"/>
                </a:lnTo>
                <a:lnTo>
                  <a:pt x="21481" y="7367"/>
                </a:lnTo>
                <a:lnTo>
                  <a:pt x="21469" y="7449"/>
                </a:lnTo>
                <a:lnTo>
                  <a:pt x="21445" y="7518"/>
                </a:lnTo>
                <a:lnTo>
                  <a:pt x="21431" y="7590"/>
                </a:lnTo>
                <a:lnTo>
                  <a:pt x="21504" y="7621"/>
                </a:lnTo>
                <a:lnTo>
                  <a:pt x="21646" y="7572"/>
                </a:lnTo>
                <a:lnTo>
                  <a:pt x="21704" y="7640"/>
                </a:lnTo>
                <a:lnTo>
                  <a:pt x="21748" y="7692"/>
                </a:lnTo>
                <a:lnTo>
                  <a:pt x="21725" y="7663"/>
                </a:lnTo>
                <a:lnTo>
                  <a:pt x="21754" y="7739"/>
                </a:lnTo>
                <a:lnTo>
                  <a:pt x="21807" y="7879"/>
                </a:lnTo>
                <a:lnTo>
                  <a:pt x="21724" y="8076"/>
                </a:lnTo>
                <a:lnTo>
                  <a:pt x="21729" y="8210"/>
                </a:lnTo>
                <a:lnTo>
                  <a:pt x="21730" y="8226"/>
                </a:lnTo>
                <a:lnTo>
                  <a:pt x="21754" y="8255"/>
                </a:lnTo>
                <a:lnTo>
                  <a:pt x="21754" y="8285"/>
                </a:lnTo>
                <a:lnTo>
                  <a:pt x="21861" y="8263"/>
                </a:lnTo>
                <a:lnTo>
                  <a:pt x="21906" y="8281"/>
                </a:lnTo>
                <a:lnTo>
                  <a:pt x="22002" y="8235"/>
                </a:lnTo>
                <a:lnTo>
                  <a:pt x="22002" y="8207"/>
                </a:lnTo>
                <a:lnTo>
                  <a:pt x="22004" y="8196"/>
                </a:lnTo>
                <a:lnTo>
                  <a:pt x="22027" y="8186"/>
                </a:lnTo>
                <a:lnTo>
                  <a:pt x="22027" y="8409"/>
                </a:lnTo>
                <a:lnTo>
                  <a:pt x="22025" y="8658"/>
                </a:lnTo>
                <a:lnTo>
                  <a:pt x="21977" y="8830"/>
                </a:lnTo>
                <a:lnTo>
                  <a:pt x="21968" y="8864"/>
                </a:lnTo>
                <a:lnTo>
                  <a:pt x="21932" y="8904"/>
                </a:lnTo>
                <a:lnTo>
                  <a:pt x="21927" y="8930"/>
                </a:lnTo>
                <a:lnTo>
                  <a:pt x="21918" y="8977"/>
                </a:lnTo>
                <a:lnTo>
                  <a:pt x="21909" y="8969"/>
                </a:lnTo>
                <a:lnTo>
                  <a:pt x="21903" y="9004"/>
                </a:lnTo>
                <a:lnTo>
                  <a:pt x="21875" y="9178"/>
                </a:lnTo>
                <a:lnTo>
                  <a:pt x="21935" y="9342"/>
                </a:lnTo>
                <a:lnTo>
                  <a:pt x="21853" y="9475"/>
                </a:lnTo>
                <a:lnTo>
                  <a:pt x="21815" y="9536"/>
                </a:lnTo>
                <a:lnTo>
                  <a:pt x="21774" y="9518"/>
                </a:lnTo>
                <a:lnTo>
                  <a:pt x="21729" y="9575"/>
                </a:lnTo>
                <a:lnTo>
                  <a:pt x="21707" y="9603"/>
                </a:lnTo>
                <a:lnTo>
                  <a:pt x="21663" y="9636"/>
                </a:lnTo>
                <a:lnTo>
                  <a:pt x="21654" y="9649"/>
                </a:lnTo>
                <a:lnTo>
                  <a:pt x="21639" y="9671"/>
                </a:lnTo>
                <a:lnTo>
                  <a:pt x="21619" y="9666"/>
                </a:lnTo>
                <a:lnTo>
                  <a:pt x="21605" y="9699"/>
                </a:lnTo>
                <a:lnTo>
                  <a:pt x="21590" y="9735"/>
                </a:lnTo>
                <a:lnTo>
                  <a:pt x="21587" y="9722"/>
                </a:lnTo>
                <a:lnTo>
                  <a:pt x="21580" y="9773"/>
                </a:lnTo>
                <a:lnTo>
                  <a:pt x="21570" y="9849"/>
                </a:lnTo>
                <a:lnTo>
                  <a:pt x="21580" y="9933"/>
                </a:lnTo>
                <a:lnTo>
                  <a:pt x="21605" y="9971"/>
                </a:lnTo>
                <a:lnTo>
                  <a:pt x="21632" y="10013"/>
                </a:lnTo>
                <a:lnTo>
                  <a:pt x="21743" y="10028"/>
                </a:lnTo>
                <a:lnTo>
                  <a:pt x="21754" y="10046"/>
                </a:lnTo>
                <a:lnTo>
                  <a:pt x="21772" y="10075"/>
                </a:lnTo>
                <a:lnTo>
                  <a:pt x="21816" y="10105"/>
                </a:lnTo>
                <a:lnTo>
                  <a:pt x="21828" y="10145"/>
                </a:lnTo>
                <a:lnTo>
                  <a:pt x="21850" y="10219"/>
                </a:lnTo>
                <a:lnTo>
                  <a:pt x="21857" y="10244"/>
                </a:lnTo>
                <a:lnTo>
                  <a:pt x="21828" y="10319"/>
                </a:lnTo>
                <a:lnTo>
                  <a:pt x="21808" y="10369"/>
                </a:lnTo>
                <a:lnTo>
                  <a:pt x="21749" y="10415"/>
                </a:lnTo>
                <a:lnTo>
                  <a:pt x="21729" y="10443"/>
                </a:lnTo>
                <a:lnTo>
                  <a:pt x="21725" y="10448"/>
                </a:lnTo>
                <a:lnTo>
                  <a:pt x="21648" y="10495"/>
                </a:lnTo>
                <a:lnTo>
                  <a:pt x="21630" y="10517"/>
                </a:lnTo>
                <a:lnTo>
                  <a:pt x="21611" y="10540"/>
                </a:lnTo>
                <a:lnTo>
                  <a:pt x="21601" y="10620"/>
                </a:lnTo>
                <a:lnTo>
                  <a:pt x="21580" y="10641"/>
                </a:lnTo>
                <a:lnTo>
                  <a:pt x="21565" y="10656"/>
                </a:lnTo>
                <a:lnTo>
                  <a:pt x="21518" y="10679"/>
                </a:lnTo>
                <a:lnTo>
                  <a:pt x="21506" y="10691"/>
                </a:lnTo>
                <a:lnTo>
                  <a:pt x="21498" y="10691"/>
                </a:lnTo>
                <a:lnTo>
                  <a:pt x="21489" y="10691"/>
                </a:lnTo>
                <a:lnTo>
                  <a:pt x="21481" y="10691"/>
                </a:lnTo>
                <a:lnTo>
                  <a:pt x="21464" y="10681"/>
                </a:lnTo>
                <a:lnTo>
                  <a:pt x="21438" y="10574"/>
                </a:lnTo>
                <a:lnTo>
                  <a:pt x="21406" y="10567"/>
                </a:lnTo>
                <a:lnTo>
                  <a:pt x="21346" y="10554"/>
                </a:lnTo>
                <a:lnTo>
                  <a:pt x="21339" y="10563"/>
                </a:lnTo>
                <a:lnTo>
                  <a:pt x="21282" y="10567"/>
                </a:lnTo>
                <a:lnTo>
                  <a:pt x="21220" y="10571"/>
                </a:lnTo>
                <a:lnTo>
                  <a:pt x="21185" y="10567"/>
                </a:lnTo>
                <a:lnTo>
                  <a:pt x="21134" y="10592"/>
                </a:lnTo>
                <a:lnTo>
                  <a:pt x="21129" y="10595"/>
                </a:lnTo>
                <a:lnTo>
                  <a:pt x="21090" y="10662"/>
                </a:lnTo>
                <a:lnTo>
                  <a:pt x="21084" y="10666"/>
                </a:lnTo>
                <a:lnTo>
                  <a:pt x="21055" y="10683"/>
                </a:lnTo>
                <a:lnTo>
                  <a:pt x="21038" y="10728"/>
                </a:lnTo>
                <a:lnTo>
                  <a:pt x="21010" y="10740"/>
                </a:lnTo>
                <a:lnTo>
                  <a:pt x="20988" y="10749"/>
                </a:lnTo>
                <a:lnTo>
                  <a:pt x="20969" y="10787"/>
                </a:lnTo>
                <a:lnTo>
                  <a:pt x="20960" y="10790"/>
                </a:lnTo>
                <a:lnTo>
                  <a:pt x="20869" y="10820"/>
                </a:lnTo>
                <a:lnTo>
                  <a:pt x="20694" y="10851"/>
                </a:lnTo>
                <a:lnTo>
                  <a:pt x="20613" y="10790"/>
                </a:lnTo>
                <a:lnTo>
                  <a:pt x="20537" y="10732"/>
                </a:lnTo>
                <a:lnTo>
                  <a:pt x="20613" y="10676"/>
                </a:lnTo>
                <a:lnTo>
                  <a:pt x="20563" y="10616"/>
                </a:lnTo>
                <a:lnTo>
                  <a:pt x="20346" y="10616"/>
                </a:lnTo>
                <a:lnTo>
                  <a:pt x="20110" y="10609"/>
                </a:lnTo>
                <a:lnTo>
                  <a:pt x="19943" y="10567"/>
                </a:lnTo>
                <a:lnTo>
                  <a:pt x="19901" y="10556"/>
                </a:lnTo>
                <a:lnTo>
                  <a:pt x="19865" y="10554"/>
                </a:lnTo>
                <a:lnTo>
                  <a:pt x="19819" y="10542"/>
                </a:lnTo>
                <a:lnTo>
                  <a:pt x="19753" y="10525"/>
                </a:lnTo>
                <a:lnTo>
                  <a:pt x="19729" y="10504"/>
                </a:lnTo>
                <a:lnTo>
                  <a:pt x="19670" y="10492"/>
                </a:lnTo>
                <a:lnTo>
                  <a:pt x="19645" y="10492"/>
                </a:lnTo>
                <a:lnTo>
                  <a:pt x="19637" y="10492"/>
                </a:lnTo>
                <a:lnTo>
                  <a:pt x="19621" y="10492"/>
                </a:lnTo>
                <a:lnTo>
                  <a:pt x="19585" y="10528"/>
                </a:lnTo>
                <a:lnTo>
                  <a:pt x="19590" y="10556"/>
                </a:lnTo>
                <a:lnTo>
                  <a:pt x="19546" y="10592"/>
                </a:lnTo>
                <a:lnTo>
                  <a:pt x="19520" y="10613"/>
                </a:lnTo>
                <a:lnTo>
                  <a:pt x="19446" y="10609"/>
                </a:lnTo>
                <a:lnTo>
                  <a:pt x="19422" y="10641"/>
                </a:lnTo>
                <a:lnTo>
                  <a:pt x="19409" y="10658"/>
                </a:lnTo>
                <a:lnTo>
                  <a:pt x="19387" y="10715"/>
                </a:lnTo>
                <a:lnTo>
                  <a:pt x="19372" y="10740"/>
                </a:lnTo>
                <a:lnTo>
                  <a:pt x="19364" y="10754"/>
                </a:lnTo>
                <a:lnTo>
                  <a:pt x="19363" y="10815"/>
                </a:lnTo>
                <a:lnTo>
                  <a:pt x="19348" y="10840"/>
                </a:lnTo>
                <a:lnTo>
                  <a:pt x="19327" y="10874"/>
                </a:lnTo>
                <a:lnTo>
                  <a:pt x="19315" y="10912"/>
                </a:lnTo>
                <a:lnTo>
                  <a:pt x="19298" y="10939"/>
                </a:lnTo>
                <a:lnTo>
                  <a:pt x="19281" y="10967"/>
                </a:lnTo>
                <a:lnTo>
                  <a:pt x="19264" y="10982"/>
                </a:lnTo>
                <a:lnTo>
                  <a:pt x="19248" y="11013"/>
                </a:lnTo>
                <a:lnTo>
                  <a:pt x="19228" y="11053"/>
                </a:lnTo>
                <a:lnTo>
                  <a:pt x="19201" y="11067"/>
                </a:lnTo>
                <a:lnTo>
                  <a:pt x="19174" y="11112"/>
                </a:lnTo>
                <a:lnTo>
                  <a:pt x="19146" y="11159"/>
                </a:lnTo>
                <a:lnTo>
                  <a:pt x="19140" y="11203"/>
                </a:lnTo>
                <a:lnTo>
                  <a:pt x="19124" y="11237"/>
                </a:lnTo>
                <a:lnTo>
                  <a:pt x="19105" y="11276"/>
                </a:lnTo>
                <a:lnTo>
                  <a:pt x="19072" y="11292"/>
                </a:lnTo>
                <a:lnTo>
                  <a:pt x="19050" y="11336"/>
                </a:lnTo>
                <a:lnTo>
                  <a:pt x="19039" y="11358"/>
                </a:lnTo>
                <a:lnTo>
                  <a:pt x="19038" y="11417"/>
                </a:lnTo>
                <a:lnTo>
                  <a:pt x="19025" y="11435"/>
                </a:lnTo>
                <a:lnTo>
                  <a:pt x="18991" y="11482"/>
                </a:lnTo>
                <a:lnTo>
                  <a:pt x="19003" y="11557"/>
                </a:lnTo>
                <a:lnTo>
                  <a:pt x="18951" y="11584"/>
                </a:lnTo>
                <a:lnTo>
                  <a:pt x="18892" y="11614"/>
                </a:lnTo>
                <a:lnTo>
                  <a:pt x="18843" y="11609"/>
                </a:lnTo>
                <a:lnTo>
                  <a:pt x="18777" y="11609"/>
                </a:lnTo>
                <a:lnTo>
                  <a:pt x="18704" y="11609"/>
                </a:lnTo>
                <a:lnTo>
                  <a:pt x="18778" y="11509"/>
                </a:lnTo>
                <a:lnTo>
                  <a:pt x="18777" y="11509"/>
                </a:lnTo>
                <a:lnTo>
                  <a:pt x="18777" y="11534"/>
                </a:lnTo>
                <a:lnTo>
                  <a:pt x="18777" y="11542"/>
                </a:lnTo>
                <a:lnTo>
                  <a:pt x="18752" y="11534"/>
                </a:lnTo>
                <a:lnTo>
                  <a:pt x="18752" y="11576"/>
                </a:lnTo>
                <a:lnTo>
                  <a:pt x="18780" y="11542"/>
                </a:lnTo>
                <a:lnTo>
                  <a:pt x="18777" y="11584"/>
                </a:lnTo>
                <a:lnTo>
                  <a:pt x="18769" y="11678"/>
                </a:lnTo>
                <a:lnTo>
                  <a:pt x="18754" y="11724"/>
                </a:lnTo>
                <a:lnTo>
                  <a:pt x="18728" y="11782"/>
                </a:lnTo>
                <a:lnTo>
                  <a:pt x="18713" y="11815"/>
                </a:lnTo>
                <a:lnTo>
                  <a:pt x="18730" y="11808"/>
                </a:lnTo>
                <a:lnTo>
                  <a:pt x="18703" y="11832"/>
                </a:lnTo>
                <a:lnTo>
                  <a:pt x="18669" y="11863"/>
                </a:lnTo>
                <a:lnTo>
                  <a:pt x="18705" y="11853"/>
                </a:lnTo>
                <a:lnTo>
                  <a:pt x="18653" y="11881"/>
                </a:lnTo>
                <a:lnTo>
                  <a:pt x="18595" y="11912"/>
                </a:lnTo>
                <a:lnTo>
                  <a:pt x="18525" y="11921"/>
                </a:lnTo>
                <a:lnTo>
                  <a:pt x="18455" y="11931"/>
                </a:lnTo>
                <a:lnTo>
                  <a:pt x="18375" y="11942"/>
                </a:lnTo>
                <a:lnTo>
                  <a:pt x="18288" y="11927"/>
                </a:lnTo>
                <a:lnTo>
                  <a:pt x="18207" y="11931"/>
                </a:lnTo>
                <a:lnTo>
                  <a:pt x="18192" y="11927"/>
                </a:lnTo>
                <a:lnTo>
                  <a:pt x="18200" y="11833"/>
                </a:lnTo>
                <a:lnTo>
                  <a:pt x="18132" y="11832"/>
                </a:lnTo>
                <a:lnTo>
                  <a:pt x="18028" y="11830"/>
                </a:lnTo>
                <a:lnTo>
                  <a:pt x="17868" y="11914"/>
                </a:lnTo>
                <a:lnTo>
                  <a:pt x="17810" y="11906"/>
                </a:lnTo>
                <a:lnTo>
                  <a:pt x="17747" y="11898"/>
                </a:lnTo>
                <a:lnTo>
                  <a:pt x="17724" y="11889"/>
                </a:lnTo>
                <a:lnTo>
                  <a:pt x="17686" y="11881"/>
                </a:lnTo>
                <a:lnTo>
                  <a:pt x="17646" y="11872"/>
                </a:lnTo>
                <a:lnTo>
                  <a:pt x="17623" y="11824"/>
                </a:lnTo>
                <a:lnTo>
                  <a:pt x="17587" y="11807"/>
                </a:lnTo>
                <a:lnTo>
                  <a:pt x="17505" y="11769"/>
                </a:lnTo>
                <a:lnTo>
                  <a:pt x="17524" y="11742"/>
                </a:lnTo>
                <a:lnTo>
                  <a:pt x="17512" y="11733"/>
                </a:lnTo>
                <a:lnTo>
                  <a:pt x="17478" y="11750"/>
                </a:lnTo>
                <a:lnTo>
                  <a:pt x="17362" y="11661"/>
                </a:lnTo>
                <a:lnTo>
                  <a:pt x="17314" y="11733"/>
                </a:lnTo>
                <a:lnTo>
                  <a:pt x="17259" y="11815"/>
                </a:lnTo>
                <a:lnTo>
                  <a:pt x="17267" y="11795"/>
                </a:lnTo>
                <a:lnTo>
                  <a:pt x="17239" y="11881"/>
                </a:lnTo>
                <a:lnTo>
                  <a:pt x="17215" y="11954"/>
                </a:lnTo>
                <a:lnTo>
                  <a:pt x="17242" y="12093"/>
                </a:lnTo>
                <a:lnTo>
                  <a:pt x="17239" y="12129"/>
                </a:lnTo>
                <a:lnTo>
                  <a:pt x="17239" y="12154"/>
                </a:lnTo>
                <a:lnTo>
                  <a:pt x="17239" y="12162"/>
                </a:lnTo>
                <a:lnTo>
                  <a:pt x="17239" y="12179"/>
                </a:lnTo>
                <a:lnTo>
                  <a:pt x="17274" y="12216"/>
                </a:lnTo>
                <a:lnTo>
                  <a:pt x="17349" y="12182"/>
                </a:lnTo>
                <a:lnTo>
                  <a:pt x="17388" y="12278"/>
                </a:lnTo>
                <a:lnTo>
                  <a:pt x="17408" y="12328"/>
                </a:lnTo>
                <a:lnTo>
                  <a:pt x="17454" y="12265"/>
                </a:lnTo>
                <a:lnTo>
                  <a:pt x="17462" y="12353"/>
                </a:lnTo>
                <a:lnTo>
                  <a:pt x="17466" y="12394"/>
                </a:lnTo>
                <a:lnTo>
                  <a:pt x="17413" y="12419"/>
                </a:lnTo>
                <a:lnTo>
                  <a:pt x="17413" y="12452"/>
                </a:lnTo>
                <a:lnTo>
                  <a:pt x="17413" y="12480"/>
                </a:lnTo>
                <a:lnTo>
                  <a:pt x="17397" y="12521"/>
                </a:lnTo>
                <a:lnTo>
                  <a:pt x="17388" y="12551"/>
                </a:lnTo>
                <a:lnTo>
                  <a:pt x="17364" y="12634"/>
                </a:lnTo>
                <a:lnTo>
                  <a:pt x="17376" y="12694"/>
                </a:lnTo>
                <a:lnTo>
                  <a:pt x="17289" y="12750"/>
                </a:lnTo>
                <a:lnTo>
                  <a:pt x="17250" y="12776"/>
                </a:lnTo>
                <a:lnTo>
                  <a:pt x="17232" y="12756"/>
                </a:lnTo>
                <a:lnTo>
                  <a:pt x="17190" y="12774"/>
                </a:lnTo>
                <a:lnTo>
                  <a:pt x="17155" y="12789"/>
                </a:lnTo>
                <a:lnTo>
                  <a:pt x="17102" y="12761"/>
                </a:lnTo>
                <a:lnTo>
                  <a:pt x="17066" y="12774"/>
                </a:lnTo>
                <a:lnTo>
                  <a:pt x="17066" y="12957"/>
                </a:lnTo>
                <a:lnTo>
                  <a:pt x="17084" y="13164"/>
                </a:lnTo>
                <a:lnTo>
                  <a:pt x="17016" y="13295"/>
                </a:lnTo>
                <a:lnTo>
                  <a:pt x="17007" y="13313"/>
                </a:lnTo>
                <a:lnTo>
                  <a:pt x="16933" y="13316"/>
                </a:lnTo>
                <a:lnTo>
                  <a:pt x="16917" y="13345"/>
                </a:lnTo>
                <a:lnTo>
                  <a:pt x="16899" y="13376"/>
                </a:lnTo>
                <a:lnTo>
                  <a:pt x="16886" y="13430"/>
                </a:lnTo>
                <a:lnTo>
                  <a:pt x="16867" y="13469"/>
                </a:lnTo>
                <a:lnTo>
                  <a:pt x="16847" y="13511"/>
                </a:lnTo>
                <a:lnTo>
                  <a:pt x="16832" y="13537"/>
                </a:lnTo>
                <a:lnTo>
                  <a:pt x="16818" y="13568"/>
                </a:lnTo>
                <a:lnTo>
                  <a:pt x="16818" y="13585"/>
                </a:lnTo>
                <a:lnTo>
                  <a:pt x="16818" y="13601"/>
                </a:lnTo>
                <a:lnTo>
                  <a:pt x="16818" y="13618"/>
                </a:lnTo>
                <a:lnTo>
                  <a:pt x="16777" y="13589"/>
                </a:lnTo>
                <a:lnTo>
                  <a:pt x="16747" y="13628"/>
                </a:lnTo>
                <a:lnTo>
                  <a:pt x="16718" y="13593"/>
                </a:lnTo>
                <a:lnTo>
                  <a:pt x="16683" y="13550"/>
                </a:lnTo>
                <a:lnTo>
                  <a:pt x="16676" y="13482"/>
                </a:lnTo>
                <a:lnTo>
                  <a:pt x="16644" y="13469"/>
                </a:lnTo>
                <a:lnTo>
                  <a:pt x="16587" y="13446"/>
                </a:lnTo>
                <a:lnTo>
                  <a:pt x="16547" y="13524"/>
                </a:lnTo>
                <a:lnTo>
                  <a:pt x="16520" y="13469"/>
                </a:lnTo>
                <a:lnTo>
                  <a:pt x="16502" y="13432"/>
                </a:lnTo>
                <a:lnTo>
                  <a:pt x="16530" y="13435"/>
                </a:lnTo>
                <a:lnTo>
                  <a:pt x="16520" y="13395"/>
                </a:lnTo>
                <a:lnTo>
                  <a:pt x="16506" y="13336"/>
                </a:lnTo>
                <a:lnTo>
                  <a:pt x="16548" y="13269"/>
                </a:lnTo>
                <a:lnTo>
                  <a:pt x="16545" y="13221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Ink 3"/>
          <p:cNvSpPr/>
          <p:nvPr/>
        </p:nvSpPr>
        <p:spPr>
          <a:xfrm>
            <a:off x="4606920" y="1670040"/>
            <a:ext cx="1805040" cy="3571920"/>
          </a:xfrm>
          <a:custGeom>
            <a:avLst/>
            <a:gdLst/>
            <a:ahLst/>
            <a:rect l="l" t="t" r="r" b="b"/>
            <a:pathLst>
              <a:path w="5012" h="9923">
                <a:moveTo>
                  <a:pt x="17686" y="4638"/>
                </a:moveTo>
                <a:lnTo>
                  <a:pt x="17702" y="4740"/>
                </a:lnTo>
                <a:lnTo>
                  <a:pt x="17676" y="4838"/>
                </a:lnTo>
                <a:lnTo>
                  <a:pt x="17711" y="4936"/>
                </a:lnTo>
                <a:lnTo>
                  <a:pt x="17723" y="4971"/>
                </a:lnTo>
                <a:lnTo>
                  <a:pt x="17742" y="4985"/>
                </a:lnTo>
                <a:lnTo>
                  <a:pt x="17760" y="5035"/>
                </a:lnTo>
                <a:lnTo>
                  <a:pt x="17773" y="5070"/>
                </a:lnTo>
                <a:lnTo>
                  <a:pt x="17795" y="5101"/>
                </a:lnTo>
                <a:lnTo>
                  <a:pt x="17810" y="5135"/>
                </a:lnTo>
                <a:lnTo>
                  <a:pt x="17806" y="5144"/>
                </a:lnTo>
                <a:lnTo>
                  <a:pt x="17747" y="5180"/>
                </a:lnTo>
                <a:lnTo>
                  <a:pt x="17735" y="5209"/>
                </a:lnTo>
                <a:lnTo>
                  <a:pt x="17719" y="5246"/>
                </a:lnTo>
                <a:lnTo>
                  <a:pt x="17665" y="5350"/>
                </a:lnTo>
                <a:lnTo>
                  <a:pt x="17661" y="5383"/>
                </a:lnTo>
                <a:lnTo>
                  <a:pt x="17644" y="5521"/>
                </a:lnTo>
                <a:lnTo>
                  <a:pt x="17763" y="5637"/>
                </a:lnTo>
                <a:lnTo>
                  <a:pt x="17760" y="5680"/>
                </a:lnTo>
                <a:lnTo>
                  <a:pt x="17755" y="5755"/>
                </a:lnTo>
                <a:lnTo>
                  <a:pt x="17730" y="5783"/>
                </a:lnTo>
                <a:lnTo>
                  <a:pt x="17711" y="5829"/>
                </a:lnTo>
                <a:lnTo>
                  <a:pt x="17705" y="5843"/>
                </a:lnTo>
                <a:lnTo>
                  <a:pt x="17655" y="5907"/>
                </a:lnTo>
                <a:lnTo>
                  <a:pt x="17636" y="5928"/>
                </a:lnTo>
                <a:lnTo>
                  <a:pt x="17600" y="5968"/>
                </a:lnTo>
                <a:lnTo>
                  <a:pt x="17586" y="6006"/>
                </a:lnTo>
                <a:lnTo>
                  <a:pt x="17537" y="6028"/>
                </a:lnTo>
                <a:lnTo>
                  <a:pt x="17419" y="6082"/>
                </a:lnTo>
                <a:lnTo>
                  <a:pt x="17240" y="6081"/>
                </a:lnTo>
                <a:lnTo>
                  <a:pt x="17140" y="6127"/>
                </a:lnTo>
                <a:lnTo>
                  <a:pt x="17100" y="6145"/>
                </a:lnTo>
                <a:lnTo>
                  <a:pt x="17058" y="6179"/>
                </a:lnTo>
                <a:lnTo>
                  <a:pt x="17016" y="6201"/>
                </a:lnTo>
                <a:lnTo>
                  <a:pt x="16963" y="6228"/>
                </a:lnTo>
                <a:lnTo>
                  <a:pt x="16975" y="6236"/>
                </a:lnTo>
                <a:lnTo>
                  <a:pt x="16917" y="6276"/>
                </a:lnTo>
                <a:lnTo>
                  <a:pt x="16888" y="6297"/>
                </a:lnTo>
                <a:lnTo>
                  <a:pt x="16840" y="6310"/>
                </a:lnTo>
                <a:lnTo>
                  <a:pt x="16818" y="6325"/>
                </a:lnTo>
                <a:lnTo>
                  <a:pt x="16744" y="6375"/>
                </a:lnTo>
                <a:lnTo>
                  <a:pt x="16687" y="6407"/>
                </a:lnTo>
                <a:lnTo>
                  <a:pt x="16619" y="6449"/>
                </a:lnTo>
                <a:lnTo>
                  <a:pt x="16580" y="6473"/>
                </a:lnTo>
                <a:lnTo>
                  <a:pt x="16518" y="6509"/>
                </a:lnTo>
                <a:lnTo>
                  <a:pt x="16495" y="6524"/>
                </a:lnTo>
                <a:lnTo>
                  <a:pt x="16454" y="6551"/>
                </a:lnTo>
                <a:lnTo>
                  <a:pt x="16415" y="6568"/>
                </a:lnTo>
                <a:lnTo>
                  <a:pt x="16371" y="6598"/>
                </a:lnTo>
                <a:lnTo>
                  <a:pt x="16358" y="6607"/>
                </a:lnTo>
                <a:lnTo>
                  <a:pt x="16308" y="6663"/>
                </a:lnTo>
                <a:lnTo>
                  <a:pt x="16297" y="6672"/>
                </a:lnTo>
                <a:lnTo>
                  <a:pt x="16261" y="6700"/>
                </a:lnTo>
                <a:lnTo>
                  <a:pt x="16246" y="6703"/>
                </a:lnTo>
                <a:lnTo>
                  <a:pt x="16222" y="6722"/>
                </a:lnTo>
                <a:lnTo>
                  <a:pt x="16199" y="6741"/>
                </a:lnTo>
                <a:lnTo>
                  <a:pt x="16178" y="6784"/>
                </a:lnTo>
                <a:lnTo>
                  <a:pt x="16148" y="6796"/>
                </a:lnTo>
                <a:lnTo>
                  <a:pt x="16101" y="6814"/>
                </a:lnTo>
                <a:lnTo>
                  <a:pt x="16001" y="6807"/>
                </a:lnTo>
                <a:lnTo>
                  <a:pt x="15949" y="6821"/>
                </a:lnTo>
                <a:lnTo>
                  <a:pt x="15877" y="6840"/>
                </a:lnTo>
                <a:lnTo>
                  <a:pt x="15819" y="6817"/>
                </a:lnTo>
                <a:lnTo>
                  <a:pt x="15776" y="6846"/>
                </a:lnTo>
                <a:lnTo>
                  <a:pt x="15681" y="6910"/>
                </a:lnTo>
                <a:lnTo>
                  <a:pt x="15636" y="7012"/>
                </a:lnTo>
                <a:lnTo>
                  <a:pt x="15577" y="7094"/>
                </a:lnTo>
                <a:lnTo>
                  <a:pt x="15521" y="7172"/>
                </a:lnTo>
                <a:lnTo>
                  <a:pt x="15515" y="7243"/>
                </a:lnTo>
                <a:lnTo>
                  <a:pt x="15478" y="7317"/>
                </a:lnTo>
                <a:lnTo>
                  <a:pt x="15453" y="7367"/>
                </a:lnTo>
                <a:lnTo>
                  <a:pt x="15450" y="7416"/>
                </a:lnTo>
                <a:lnTo>
                  <a:pt x="15429" y="7466"/>
                </a:lnTo>
                <a:lnTo>
                  <a:pt x="15413" y="7504"/>
                </a:lnTo>
                <a:lnTo>
                  <a:pt x="15393" y="7525"/>
                </a:lnTo>
                <a:lnTo>
                  <a:pt x="15379" y="7565"/>
                </a:lnTo>
                <a:lnTo>
                  <a:pt x="15379" y="7565"/>
                </a:lnTo>
                <a:lnTo>
                  <a:pt x="15364" y="7644"/>
                </a:lnTo>
                <a:lnTo>
                  <a:pt x="15354" y="7665"/>
                </a:lnTo>
                <a:lnTo>
                  <a:pt x="15330" y="7717"/>
                </a:lnTo>
                <a:lnTo>
                  <a:pt x="15304" y="7763"/>
                </a:lnTo>
                <a:lnTo>
                  <a:pt x="15280" y="7813"/>
                </a:lnTo>
                <a:lnTo>
                  <a:pt x="15263" y="7848"/>
                </a:lnTo>
                <a:lnTo>
                  <a:pt x="15244" y="7855"/>
                </a:lnTo>
                <a:lnTo>
                  <a:pt x="15230" y="7888"/>
                </a:lnTo>
                <a:lnTo>
                  <a:pt x="15217" y="7919"/>
                </a:lnTo>
                <a:lnTo>
                  <a:pt x="15159" y="8000"/>
                </a:lnTo>
                <a:lnTo>
                  <a:pt x="15156" y="8012"/>
                </a:lnTo>
                <a:lnTo>
                  <a:pt x="15128" y="8130"/>
                </a:lnTo>
                <a:lnTo>
                  <a:pt x="15132" y="8276"/>
                </a:lnTo>
                <a:lnTo>
                  <a:pt x="15106" y="8359"/>
                </a:lnTo>
                <a:lnTo>
                  <a:pt x="15087" y="8420"/>
                </a:lnTo>
                <a:lnTo>
                  <a:pt x="15080" y="8431"/>
                </a:lnTo>
                <a:lnTo>
                  <a:pt x="15056" y="8483"/>
                </a:lnTo>
                <a:lnTo>
                  <a:pt x="15037" y="8525"/>
                </a:lnTo>
                <a:lnTo>
                  <a:pt x="15033" y="8590"/>
                </a:lnTo>
                <a:lnTo>
                  <a:pt x="15007" y="8632"/>
                </a:lnTo>
                <a:lnTo>
                  <a:pt x="14992" y="8656"/>
                </a:lnTo>
                <a:lnTo>
                  <a:pt x="14940" y="8691"/>
                </a:lnTo>
                <a:lnTo>
                  <a:pt x="14932" y="8706"/>
                </a:lnTo>
                <a:lnTo>
                  <a:pt x="14917" y="8732"/>
                </a:lnTo>
                <a:lnTo>
                  <a:pt x="14891" y="8769"/>
                </a:lnTo>
                <a:lnTo>
                  <a:pt x="14883" y="8781"/>
                </a:lnTo>
                <a:lnTo>
                  <a:pt x="14865" y="8808"/>
                </a:lnTo>
                <a:lnTo>
                  <a:pt x="14851" y="8849"/>
                </a:lnTo>
                <a:lnTo>
                  <a:pt x="14833" y="8880"/>
                </a:lnTo>
                <a:lnTo>
                  <a:pt x="14812" y="8916"/>
                </a:lnTo>
                <a:lnTo>
                  <a:pt x="14803" y="8940"/>
                </a:lnTo>
                <a:lnTo>
                  <a:pt x="14784" y="8979"/>
                </a:lnTo>
                <a:lnTo>
                  <a:pt x="14767" y="9015"/>
                </a:lnTo>
                <a:lnTo>
                  <a:pt x="14753" y="9041"/>
                </a:lnTo>
                <a:lnTo>
                  <a:pt x="14734" y="9079"/>
                </a:lnTo>
                <a:lnTo>
                  <a:pt x="14716" y="9115"/>
                </a:lnTo>
                <a:lnTo>
                  <a:pt x="14731" y="9127"/>
                </a:lnTo>
                <a:lnTo>
                  <a:pt x="14709" y="9178"/>
                </a:lnTo>
                <a:lnTo>
                  <a:pt x="14706" y="9185"/>
                </a:lnTo>
                <a:lnTo>
                  <a:pt x="14671" y="9225"/>
                </a:lnTo>
                <a:lnTo>
                  <a:pt x="14660" y="9252"/>
                </a:lnTo>
                <a:lnTo>
                  <a:pt x="14647" y="9283"/>
                </a:lnTo>
                <a:lnTo>
                  <a:pt x="14655" y="9308"/>
                </a:lnTo>
                <a:lnTo>
                  <a:pt x="14635" y="9351"/>
                </a:lnTo>
                <a:lnTo>
                  <a:pt x="14612" y="9400"/>
                </a:lnTo>
                <a:lnTo>
                  <a:pt x="14581" y="9432"/>
                </a:lnTo>
                <a:lnTo>
                  <a:pt x="14560" y="9475"/>
                </a:lnTo>
                <a:lnTo>
                  <a:pt x="14543" y="9509"/>
                </a:lnTo>
                <a:lnTo>
                  <a:pt x="14530" y="9540"/>
                </a:lnTo>
                <a:lnTo>
                  <a:pt x="14511" y="9575"/>
                </a:lnTo>
                <a:lnTo>
                  <a:pt x="14492" y="9609"/>
                </a:lnTo>
                <a:lnTo>
                  <a:pt x="14479" y="9613"/>
                </a:lnTo>
                <a:lnTo>
                  <a:pt x="14461" y="9649"/>
                </a:lnTo>
                <a:lnTo>
                  <a:pt x="14440" y="9691"/>
                </a:lnTo>
                <a:lnTo>
                  <a:pt x="14436" y="9681"/>
                </a:lnTo>
                <a:lnTo>
                  <a:pt x="14412" y="9723"/>
                </a:lnTo>
                <a:lnTo>
                  <a:pt x="14394" y="9755"/>
                </a:lnTo>
                <a:lnTo>
                  <a:pt x="14379" y="9764"/>
                </a:lnTo>
                <a:lnTo>
                  <a:pt x="14362" y="9798"/>
                </a:lnTo>
                <a:lnTo>
                  <a:pt x="14344" y="9833"/>
                </a:lnTo>
                <a:lnTo>
                  <a:pt x="14329" y="9884"/>
                </a:lnTo>
                <a:lnTo>
                  <a:pt x="14312" y="9922"/>
                </a:lnTo>
                <a:lnTo>
                  <a:pt x="14304" y="9940"/>
                </a:lnTo>
                <a:lnTo>
                  <a:pt x="14300" y="9981"/>
                </a:lnTo>
                <a:lnTo>
                  <a:pt x="14288" y="10021"/>
                </a:lnTo>
                <a:lnTo>
                  <a:pt x="14259" y="10116"/>
                </a:lnTo>
                <a:lnTo>
                  <a:pt x="14264" y="10176"/>
                </a:lnTo>
                <a:lnTo>
                  <a:pt x="14263" y="10244"/>
                </a:lnTo>
                <a:lnTo>
                  <a:pt x="14262" y="10295"/>
                </a:lnTo>
                <a:lnTo>
                  <a:pt x="14287" y="10381"/>
                </a:lnTo>
                <a:lnTo>
                  <a:pt x="14288" y="10393"/>
                </a:lnTo>
                <a:lnTo>
                  <a:pt x="14298" y="10482"/>
                </a:lnTo>
                <a:lnTo>
                  <a:pt x="14301" y="10557"/>
                </a:lnTo>
                <a:lnTo>
                  <a:pt x="14312" y="10641"/>
                </a:lnTo>
                <a:lnTo>
                  <a:pt x="14312" y="10649"/>
                </a:lnTo>
                <a:lnTo>
                  <a:pt x="14312" y="10658"/>
                </a:lnTo>
                <a:lnTo>
                  <a:pt x="14312" y="10666"/>
                </a:lnTo>
                <a:lnTo>
                  <a:pt x="14219" y="10676"/>
                </a:lnTo>
                <a:lnTo>
                  <a:pt x="14129" y="10682"/>
                </a:lnTo>
                <a:lnTo>
                  <a:pt x="14039" y="10691"/>
                </a:lnTo>
                <a:lnTo>
                  <a:pt x="14024" y="10713"/>
                </a:lnTo>
                <a:lnTo>
                  <a:pt x="14032" y="10766"/>
                </a:lnTo>
                <a:lnTo>
                  <a:pt x="14015" y="10790"/>
                </a:lnTo>
                <a:lnTo>
                  <a:pt x="14002" y="10808"/>
                </a:lnTo>
                <a:lnTo>
                  <a:pt x="13976" y="10882"/>
                </a:lnTo>
                <a:lnTo>
                  <a:pt x="13965" y="10889"/>
                </a:lnTo>
                <a:lnTo>
                  <a:pt x="13940" y="10907"/>
                </a:lnTo>
                <a:lnTo>
                  <a:pt x="13913" y="10931"/>
                </a:lnTo>
                <a:lnTo>
                  <a:pt x="13891" y="10939"/>
                </a:lnTo>
                <a:lnTo>
                  <a:pt x="13777" y="10980"/>
                </a:lnTo>
                <a:lnTo>
                  <a:pt x="13702" y="10906"/>
                </a:lnTo>
                <a:lnTo>
                  <a:pt x="13618" y="10988"/>
                </a:lnTo>
                <a:lnTo>
                  <a:pt x="13589" y="11017"/>
                </a:lnTo>
                <a:lnTo>
                  <a:pt x="13540" y="11096"/>
                </a:lnTo>
                <a:lnTo>
                  <a:pt x="13519" y="11137"/>
                </a:lnTo>
                <a:lnTo>
                  <a:pt x="13498" y="11178"/>
                </a:lnTo>
                <a:lnTo>
                  <a:pt x="13484" y="11268"/>
                </a:lnTo>
                <a:lnTo>
                  <a:pt x="13469" y="11311"/>
                </a:lnTo>
                <a:lnTo>
                  <a:pt x="13448" y="11373"/>
                </a:lnTo>
                <a:lnTo>
                  <a:pt x="13434" y="11447"/>
                </a:lnTo>
                <a:lnTo>
                  <a:pt x="13419" y="11485"/>
                </a:lnTo>
                <a:lnTo>
                  <a:pt x="13409" y="11511"/>
                </a:lnTo>
                <a:lnTo>
                  <a:pt x="13408" y="11561"/>
                </a:lnTo>
                <a:lnTo>
                  <a:pt x="13395" y="11584"/>
                </a:lnTo>
                <a:lnTo>
                  <a:pt x="13383" y="11605"/>
                </a:lnTo>
                <a:lnTo>
                  <a:pt x="13348" y="11652"/>
                </a:lnTo>
                <a:lnTo>
                  <a:pt x="13345" y="11658"/>
                </a:lnTo>
                <a:lnTo>
                  <a:pt x="13322" y="11701"/>
                </a:lnTo>
                <a:lnTo>
                  <a:pt x="13305" y="11697"/>
                </a:lnTo>
                <a:lnTo>
                  <a:pt x="13295" y="11733"/>
                </a:lnTo>
                <a:lnTo>
                  <a:pt x="13271" y="11822"/>
                </a:lnTo>
                <a:lnTo>
                  <a:pt x="13230" y="11828"/>
                </a:lnTo>
                <a:lnTo>
                  <a:pt x="13271" y="11956"/>
                </a:lnTo>
                <a:lnTo>
                  <a:pt x="13275" y="11970"/>
                </a:lnTo>
                <a:lnTo>
                  <a:pt x="13331" y="12016"/>
                </a:lnTo>
                <a:lnTo>
                  <a:pt x="13345" y="12030"/>
                </a:lnTo>
                <a:lnTo>
                  <a:pt x="13359" y="12044"/>
                </a:lnTo>
                <a:lnTo>
                  <a:pt x="13383" y="12097"/>
                </a:lnTo>
                <a:lnTo>
                  <a:pt x="13395" y="12105"/>
                </a:lnTo>
                <a:lnTo>
                  <a:pt x="13469" y="12155"/>
                </a:lnTo>
                <a:lnTo>
                  <a:pt x="13537" y="12060"/>
                </a:lnTo>
                <a:lnTo>
                  <a:pt x="13593" y="12154"/>
                </a:lnTo>
                <a:lnTo>
                  <a:pt x="13618" y="12195"/>
                </a:lnTo>
                <a:lnTo>
                  <a:pt x="13602" y="12232"/>
                </a:lnTo>
                <a:lnTo>
                  <a:pt x="13618" y="12278"/>
                </a:lnTo>
                <a:lnTo>
                  <a:pt x="13638" y="12336"/>
                </a:lnTo>
                <a:lnTo>
                  <a:pt x="13608" y="12416"/>
                </a:lnTo>
                <a:lnTo>
                  <a:pt x="13618" y="12477"/>
                </a:lnTo>
                <a:lnTo>
                  <a:pt x="13543" y="12460"/>
                </a:lnTo>
                <a:lnTo>
                  <a:pt x="13503" y="12444"/>
                </a:lnTo>
                <a:lnTo>
                  <a:pt x="13444" y="12427"/>
                </a:lnTo>
                <a:lnTo>
                  <a:pt x="13395" y="12413"/>
                </a:lnTo>
                <a:lnTo>
                  <a:pt x="13367" y="12358"/>
                </a:lnTo>
                <a:lnTo>
                  <a:pt x="13320" y="12378"/>
                </a:lnTo>
                <a:lnTo>
                  <a:pt x="13274" y="12398"/>
                </a:lnTo>
                <a:lnTo>
                  <a:pt x="13253" y="12376"/>
                </a:lnTo>
                <a:lnTo>
                  <a:pt x="13221" y="12402"/>
                </a:lnTo>
                <a:lnTo>
                  <a:pt x="13196" y="12423"/>
                </a:lnTo>
                <a:lnTo>
                  <a:pt x="13244" y="12526"/>
                </a:lnTo>
                <a:lnTo>
                  <a:pt x="13221" y="12551"/>
                </a:lnTo>
                <a:lnTo>
                  <a:pt x="13195" y="12527"/>
                </a:lnTo>
                <a:lnTo>
                  <a:pt x="13148" y="12510"/>
                </a:lnTo>
                <a:lnTo>
                  <a:pt x="13122" y="12477"/>
                </a:lnTo>
                <a:lnTo>
                  <a:pt x="13073" y="12415"/>
                </a:lnTo>
                <a:lnTo>
                  <a:pt x="13091" y="12363"/>
                </a:lnTo>
                <a:lnTo>
                  <a:pt x="13022" y="12328"/>
                </a:lnTo>
                <a:lnTo>
                  <a:pt x="13008" y="12321"/>
                </a:lnTo>
                <a:lnTo>
                  <a:pt x="12956" y="12318"/>
                </a:lnTo>
                <a:lnTo>
                  <a:pt x="12923" y="12303"/>
                </a:lnTo>
                <a:lnTo>
                  <a:pt x="12903" y="12294"/>
                </a:lnTo>
                <a:lnTo>
                  <a:pt x="12870" y="12312"/>
                </a:lnTo>
                <a:lnTo>
                  <a:pt x="12849" y="12303"/>
                </a:lnTo>
                <a:lnTo>
                  <a:pt x="12837" y="12372"/>
                </a:lnTo>
                <a:lnTo>
                  <a:pt x="12804" y="12448"/>
                </a:lnTo>
                <a:lnTo>
                  <a:pt x="12799" y="12502"/>
                </a:lnTo>
                <a:lnTo>
                  <a:pt x="12788" y="12624"/>
                </a:lnTo>
                <a:lnTo>
                  <a:pt x="12769" y="12834"/>
                </a:lnTo>
                <a:lnTo>
                  <a:pt x="12849" y="12898"/>
                </a:lnTo>
                <a:lnTo>
                  <a:pt x="12857" y="12904"/>
                </a:lnTo>
                <a:lnTo>
                  <a:pt x="12962" y="12945"/>
                </a:lnTo>
                <a:lnTo>
                  <a:pt x="12973" y="12948"/>
                </a:lnTo>
                <a:lnTo>
                  <a:pt x="13097" y="12986"/>
                </a:lnTo>
                <a:lnTo>
                  <a:pt x="13220" y="12907"/>
                </a:lnTo>
                <a:lnTo>
                  <a:pt x="13295" y="12898"/>
                </a:lnTo>
                <a:lnTo>
                  <a:pt x="13355" y="12891"/>
                </a:lnTo>
                <a:lnTo>
                  <a:pt x="13443" y="12880"/>
                </a:lnTo>
                <a:lnTo>
                  <a:pt x="13469" y="12874"/>
                </a:lnTo>
                <a:lnTo>
                  <a:pt x="13477" y="12874"/>
                </a:lnTo>
                <a:lnTo>
                  <a:pt x="13486" y="12874"/>
                </a:lnTo>
                <a:lnTo>
                  <a:pt x="13494" y="12874"/>
                </a:lnTo>
                <a:lnTo>
                  <a:pt x="13492" y="12932"/>
                </a:lnTo>
                <a:lnTo>
                  <a:pt x="13523" y="12964"/>
                </a:lnTo>
                <a:lnTo>
                  <a:pt x="13519" y="13022"/>
                </a:lnTo>
                <a:lnTo>
                  <a:pt x="13512" y="13122"/>
                </a:lnTo>
                <a:lnTo>
                  <a:pt x="13540" y="13188"/>
                </a:lnTo>
                <a:lnTo>
                  <a:pt x="13469" y="13246"/>
                </a:lnTo>
                <a:lnTo>
                  <a:pt x="13428" y="13279"/>
                </a:lnTo>
                <a:lnTo>
                  <a:pt x="13298" y="13263"/>
                </a:lnTo>
                <a:lnTo>
                  <a:pt x="13246" y="13295"/>
                </a:lnTo>
                <a:lnTo>
                  <a:pt x="13200" y="13323"/>
                </a:lnTo>
                <a:lnTo>
                  <a:pt x="13193" y="13311"/>
                </a:lnTo>
                <a:lnTo>
                  <a:pt x="13146" y="13345"/>
                </a:lnTo>
                <a:lnTo>
                  <a:pt x="13123" y="13361"/>
                </a:lnTo>
                <a:lnTo>
                  <a:pt x="13105" y="13389"/>
                </a:lnTo>
                <a:lnTo>
                  <a:pt x="13072" y="13419"/>
                </a:lnTo>
                <a:lnTo>
                  <a:pt x="13048" y="13441"/>
                </a:lnTo>
                <a:lnTo>
                  <a:pt x="13043" y="13442"/>
                </a:lnTo>
                <a:lnTo>
                  <a:pt x="13022" y="13469"/>
                </a:lnTo>
                <a:lnTo>
                  <a:pt x="12954" y="13559"/>
                </a:lnTo>
                <a:lnTo>
                  <a:pt x="12917" y="13637"/>
                </a:lnTo>
                <a:lnTo>
                  <a:pt x="12898" y="13742"/>
                </a:lnTo>
                <a:lnTo>
                  <a:pt x="12864" y="13927"/>
                </a:lnTo>
                <a:lnTo>
                  <a:pt x="12898" y="14149"/>
                </a:lnTo>
                <a:lnTo>
                  <a:pt x="12898" y="14337"/>
                </a:lnTo>
                <a:lnTo>
                  <a:pt x="12996" y="14386"/>
                </a:lnTo>
                <a:lnTo>
                  <a:pt x="13021" y="14296"/>
                </a:lnTo>
                <a:lnTo>
                  <a:pt x="13097" y="14387"/>
                </a:lnTo>
                <a:lnTo>
                  <a:pt x="13132" y="14430"/>
                </a:lnTo>
                <a:lnTo>
                  <a:pt x="13107" y="14392"/>
                </a:lnTo>
                <a:lnTo>
                  <a:pt x="13146" y="14461"/>
                </a:lnTo>
                <a:lnTo>
                  <a:pt x="13160" y="14486"/>
                </a:lnTo>
                <a:lnTo>
                  <a:pt x="13131" y="14535"/>
                </a:lnTo>
                <a:lnTo>
                  <a:pt x="13146" y="14560"/>
                </a:lnTo>
                <a:lnTo>
                  <a:pt x="13285" y="14516"/>
                </a:lnTo>
                <a:lnTo>
                  <a:pt x="13296" y="14565"/>
                </a:lnTo>
                <a:lnTo>
                  <a:pt x="13395" y="14486"/>
                </a:lnTo>
                <a:lnTo>
                  <a:pt x="13434" y="14455"/>
                </a:lnTo>
                <a:lnTo>
                  <a:pt x="13444" y="14457"/>
                </a:lnTo>
                <a:lnTo>
                  <a:pt x="13469" y="14412"/>
                </a:lnTo>
                <a:lnTo>
                  <a:pt x="13491" y="14374"/>
                </a:lnTo>
                <a:lnTo>
                  <a:pt x="13497" y="14340"/>
                </a:lnTo>
                <a:lnTo>
                  <a:pt x="13519" y="14312"/>
                </a:lnTo>
                <a:lnTo>
                  <a:pt x="13565" y="14253"/>
                </a:lnTo>
                <a:lnTo>
                  <a:pt x="13494" y="14191"/>
                </a:lnTo>
                <a:lnTo>
                  <a:pt x="13593" y="14163"/>
                </a:lnTo>
                <a:lnTo>
                  <a:pt x="13690" y="14135"/>
                </a:lnTo>
                <a:lnTo>
                  <a:pt x="13776" y="14203"/>
                </a:lnTo>
                <a:lnTo>
                  <a:pt x="13866" y="14213"/>
                </a:lnTo>
                <a:lnTo>
                  <a:pt x="13908" y="14218"/>
                </a:lnTo>
                <a:lnTo>
                  <a:pt x="13926" y="14231"/>
                </a:lnTo>
                <a:lnTo>
                  <a:pt x="13965" y="14238"/>
                </a:lnTo>
                <a:lnTo>
                  <a:pt x="13965" y="14012"/>
                </a:lnTo>
                <a:lnTo>
                  <a:pt x="13936" y="13791"/>
                </a:lnTo>
                <a:lnTo>
                  <a:pt x="13915" y="13593"/>
                </a:lnTo>
                <a:lnTo>
                  <a:pt x="13912" y="13569"/>
                </a:lnTo>
                <a:lnTo>
                  <a:pt x="13919" y="13543"/>
                </a:lnTo>
                <a:lnTo>
                  <a:pt x="13915" y="13519"/>
                </a:lnTo>
                <a:lnTo>
                  <a:pt x="14010" y="13533"/>
                </a:lnTo>
                <a:lnTo>
                  <a:pt x="14106" y="13497"/>
                </a:lnTo>
                <a:lnTo>
                  <a:pt x="14188" y="13543"/>
                </a:lnTo>
                <a:lnTo>
                  <a:pt x="14237" y="13570"/>
                </a:lnTo>
                <a:lnTo>
                  <a:pt x="14279" y="13631"/>
                </a:lnTo>
                <a:lnTo>
                  <a:pt x="14312" y="13643"/>
                </a:lnTo>
                <a:lnTo>
                  <a:pt x="14343" y="13654"/>
                </a:lnTo>
                <a:lnTo>
                  <a:pt x="14345" y="13683"/>
                </a:lnTo>
                <a:lnTo>
                  <a:pt x="14412" y="13692"/>
                </a:lnTo>
                <a:lnTo>
                  <a:pt x="14518" y="13707"/>
                </a:lnTo>
                <a:lnTo>
                  <a:pt x="14659" y="13621"/>
                </a:lnTo>
                <a:lnTo>
                  <a:pt x="14734" y="13643"/>
                </a:lnTo>
                <a:lnTo>
                  <a:pt x="14770" y="13654"/>
                </a:lnTo>
                <a:lnTo>
                  <a:pt x="14802" y="13683"/>
                </a:lnTo>
                <a:lnTo>
                  <a:pt x="14833" y="13692"/>
                </a:lnTo>
                <a:lnTo>
                  <a:pt x="14835" y="13693"/>
                </a:lnTo>
                <a:lnTo>
                  <a:pt x="14885" y="13763"/>
                </a:lnTo>
                <a:lnTo>
                  <a:pt x="14908" y="13767"/>
                </a:lnTo>
                <a:lnTo>
                  <a:pt x="14909" y="13767"/>
                </a:lnTo>
                <a:lnTo>
                  <a:pt x="14974" y="13787"/>
                </a:lnTo>
                <a:lnTo>
                  <a:pt x="15007" y="13791"/>
                </a:lnTo>
                <a:lnTo>
                  <a:pt x="15062" y="13764"/>
                </a:lnTo>
                <a:lnTo>
                  <a:pt x="15085" y="13756"/>
                </a:lnTo>
                <a:lnTo>
                  <a:pt x="15131" y="13767"/>
                </a:lnTo>
                <a:lnTo>
                  <a:pt x="15146" y="13741"/>
                </a:lnTo>
                <a:lnTo>
                  <a:pt x="15138" y="13693"/>
                </a:lnTo>
                <a:lnTo>
                  <a:pt x="15156" y="13667"/>
                </a:lnTo>
                <a:lnTo>
                  <a:pt x="15185" y="13625"/>
                </a:lnTo>
                <a:lnTo>
                  <a:pt x="15203" y="13642"/>
                </a:lnTo>
                <a:lnTo>
                  <a:pt x="15230" y="13593"/>
                </a:lnTo>
                <a:lnTo>
                  <a:pt x="15243" y="13569"/>
                </a:lnTo>
                <a:lnTo>
                  <a:pt x="15247" y="13555"/>
                </a:lnTo>
                <a:lnTo>
                  <a:pt x="15255" y="13543"/>
                </a:lnTo>
                <a:lnTo>
                  <a:pt x="15277" y="13552"/>
                </a:lnTo>
                <a:lnTo>
                  <a:pt x="15291" y="13641"/>
                </a:lnTo>
                <a:lnTo>
                  <a:pt x="15304" y="13643"/>
                </a:lnTo>
                <a:lnTo>
                  <a:pt x="15443" y="13664"/>
                </a:lnTo>
                <a:lnTo>
                  <a:pt x="15575" y="13620"/>
                </a:lnTo>
                <a:lnTo>
                  <a:pt x="15701" y="13618"/>
                </a:lnTo>
                <a:lnTo>
                  <a:pt x="15852" y="13616"/>
                </a:lnTo>
                <a:lnTo>
                  <a:pt x="15969" y="13614"/>
                </a:lnTo>
                <a:lnTo>
                  <a:pt x="16098" y="13568"/>
                </a:lnTo>
                <a:lnTo>
                  <a:pt x="16133" y="13555"/>
                </a:lnTo>
                <a:lnTo>
                  <a:pt x="16129" y="13539"/>
                </a:lnTo>
                <a:lnTo>
                  <a:pt x="16173" y="13519"/>
                </a:lnTo>
                <a:lnTo>
                  <a:pt x="16215" y="13500"/>
                </a:lnTo>
                <a:lnTo>
                  <a:pt x="16255" y="13486"/>
                </a:lnTo>
                <a:lnTo>
                  <a:pt x="16297" y="13469"/>
                </a:lnTo>
                <a:lnTo>
                  <a:pt x="16313" y="13462"/>
                </a:lnTo>
                <a:lnTo>
                  <a:pt x="16346" y="13428"/>
                </a:lnTo>
                <a:lnTo>
                  <a:pt x="16371" y="13419"/>
                </a:lnTo>
                <a:lnTo>
                  <a:pt x="16413" y="13419"/>
                </a:lnTo>
                <a:lnTo>
                  <a:pt x="16421" y="13419"/>
                </a:lnTo>
                <a:lnTo>
                  <a:pt x="16446" y="13419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4278240" cy="13032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857760" y="285840"/>
            <a:ext cx="4929120" cy="62992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4" descr=""/>
          <p:cNvPicPr/>
          <p:nvPr/>
        </p:nvPicPr>
        <p:blipFill>
          <a:blip r:embed="rId3"/>
          <a:stretch/>
        </p:blipFill>
        <p:spPr>
          <a:xfrm>
            <a:off x="7974000" y="4248000"/>
            <a:ext cx="1835280" cy="1860840"/>
          </a:xfrm>
          <a:prstGeom prst="rect">
            <a:avLst/>
          </a:prstGeom>
          <a:ln w="0">
            <a:noFill/>
          </a:ln>
        </p:spPr>
      </p:pic>
      <p:sp>
        <p:nvSpPr>
          <p:cNvPr id="427" name="Ink 3"/>
          <p:cNvSpPr/>
          <p:nvPr/>
        </p:nvSpPr>
        <p:spPr>
          <a:xfrm>
            <a:off x="4562640" y="2178000"/>
            <a:ext cx="831600" cy="2270160"/>
          </a:xfrm>
          <a:custGeom>
            <a:avLst/>
            <a:gdLst/>
            <a:ahLst/>
            <a:rect l="l" t="t" r="r" b="b"/>
            <a:pathLst>
              <a:path w="2308" h="6302">
                <a:moveTo>
                  <a:pt x="14288" y="6052"/>
                </a:moveTo>
                <a:lnTo>
                  <a:pt x="14292" y="6093"/>
                </a:lnTo>
                <a:lnTo>
                  <a:pt x="14314" y="6111"/>
                </a:lnTo>
                <a:lnTo>
                  <a:pt x="14312" y="6152"/>
                </a:lnTo>
                <a:lnTo>
                  <a:pt x="14309" y="6204"/>
                </a:lnTo>
                <a:lnTo>
                  <a:pt x="14308" y="6253"/>
                </a:lnTo>
                <a:lnTo>
                  <a:pt x="14288" y="6300"/>
                </a:lnTo>
                <a:lnTo>
                  <a:pt x="14270" y="6343"/>
                </a:lnTo>
                <a:lnTo>
                  <a:pt x="14237" y="6374"/>
                </a:lnTo>
                <a:lnTo>
                  <a:pt x="14213" y="6400"/>
                </a:lnTo>
                <a:lnTo>
                  <a:pt x="14189" y="6426"/>
                </a:lnTo>
                <a:lnTo>
                  <a:pt x="14190" y="6425"/>
                </a:lnTo>
                <a:lnTo>
                  <a:pt x="14163" y="6449"/>
                </a:lnTo>
                <a:lnTo>
                  <a:pt x="14155" y="6449"/>
                </a:lnTo>
                <a:lnTo>
                  <a:pt x="14147" y="6449"/>
                </a:lnTo>
                <a:lnTo>
                  <a:pt x="14139" y="6449"/>
                </a:lnTo>
                <a:lnTo>
                  <a:pt x="14162" y="6512"/>
                </a:lnTo>
                <a:lnTo>
                  <a:pt x="14148" y="6566"/>
                </a:lnTo>
                <a:lnTo>
                  <a:pt x="14188" y="6623"/>
                </a:lnTo>
                <a:lnTo>
                  <a:pt x="14193" y="6630"/>
                </a:lnTo>
                <a:lnTo>
                  <a:pt x="14272" y="6712"/>
                </a:lnTo>
                <a:lnTo>
                  <a:pt x="14288" y="6722"/>
                </a:lnTo>
                <a:lnTo>
                  <a:pt x="14321" y="6722"/>
                </a:lnTo>
                <a:lnTo>
                  <a:pt x="14337" y="6722"/>
                </a:lnTo>
                <a:lnTo>
                  <a:pt x="14362" y="6722"/>
                </a:lnTo>
                <a:lnTo>
                  <a:pt x="14362" y="6772"/>
                </a:lnTo>
                <a:lnTo>
                  <a:pt x="14362" y="6821"/>
                </a:lnTo>
                <a:lnTo>
                  <a:pt x="14362" y="6871"/>
                </a:lnTo>
                <a:lnTo>
                  <a:pt x="14330" y="6878"/>
                </a:lnTo>
                <a:lnTo>
                  <a:pt x="14320" y="6887"/>
                </a:lnTo>
                <a:lnTo>
                  <a:pt x="14288" y="6896"/>
                </a:lnTo>
                <a:lnTo>
                  <a:pt x="14231" y="6911"/>
                </a:lnTo>
                <a:lnTo>
                  <a:pt x="14196" y="6897"/>
                </a:lnTo>
                <a:lnTo>
                  <a:pt x="14163" y="6921"/>
                </a:lnTo>
                <a:lnTo>
                  <a:pt x="14105" y="6963"/>
                </a:lnTo>
                <a:lnTo>
                  <a:pt x="14127" y="6970"/>
                </a:lnTo>
                <a:lnTo>
                  <a:pt x="14089" y="7020"/>
                </a:lnTo>
                <a:lnTo>
                  <a:pt x="14051" y="7070"/>
                </a:lnTo>
                <a:lnTo>
                  <a:pt x="14030" y="7082"/>
                </a:lnTo>
                <a:lnTo>
                  <a:pt x="14015" y="7144"/>
                </a:lnTo>
                <a:lnTo>
                  <a:pt x="13994" y="7232"/>
                </a:lnTo>
                <a:lnTo>
                  <a:pt x="14015" y="7349"/>
                </a:lnTo>
                <a:lnTo>
                  <a:pt x="14015" y="7441"/>
                </a:lnTo>
                <a:lnTo>
                  <a:pt x="14056" y="7458"/>
                </a:lnTo>
                <a:lnTo>
                  <a:pt x="14098" y="7472"/>
                </a:lnTo>
                <a:lnTo>
                  <a:pt x="14139" y="7491"/>
                </a:lnTo>
                <a:lnTo>
                  <a:pt x="14187" y="7513"/>
                </a:lnTo>
                <a:lnTo>
                  <a:pt x="14210" y="7544"/>
                </a:lnTo>
                <a:lnTo>
                  <a:pt x="14263" y="7541"/>
                </a:lnTo>
                <a:lnTo>
                  <a:pt x="14351" y="7536"/>
                </a:lnTo>
                <a:lnTo>
                  <a:pt x="14311" y="7513"/>
                </a:lnTo>
                <a:lnTo>
                  <a:pt x="14362" y="7491"/>
                </a:lnTo>
                <a:lnTo>
                  <a:pt x="14370" y="7483"/>
                </a:lnTo>
                <a:lnTo>
                  <a:pt x="14379" y="7474"/>
                </a:lnTo>
                <a:lnTo>
                  <a:pt x="14387" y="7466"/>
                </a:lnTo>
                <a:lnTo>
                  <a:pt x="14395" y="7466"/>
                </a:lnTo>
                <a:lnTo>
                  <a:pt x="14404" y="7466"/>
                </a:lnTo>
                <a:lnTo>
                  <a:pt x="14412" y="7466"/>
                </a:lnTo>
                <a:lnTo>
                  <a:pt x="14412" y="7573"/>
                </a:lnTo>
                <a:lnTo>
                  <a:pt x="14401" y="7720"/>
                </a:lnTo>
                <a:lnTo>
                  <a:pt x="14436" y="7789"/>
                </a:lnTo>
                <a:lnTo>
                  <a:pt x="14450" y="7817"/>
                </a:lnTo>
                <a:lnTo>
                  <a:pt x="14533" y="7882"/>
                </a:lnTo>
                <a:lnTo>
                  <a:pt x="14536" y="7888"/>
                </a:lnTo>
                <a:lnTo>
                  <a:pt x="14555" y="7933"/>
                </a:lnTo>
                <a:lnTo>
                  <a:pt x="14588" y="7927"/>
                </a:lnTo>
                <a:lnTo>
                  <a:pt x="14585" y="7987"/>
                </a:lnTo>
                <a:lnTo>
                  <a:pt x="14582" y="8039"/>
                </a:lnTo>
                <a:lnTo>
                  <a:pt x="14520" y="8052"/>
                </a:lnTo>
                <a:lnTo>
                  <a:pt x="14511" y="8086"/>
                </a:lnTo>
                <a:lnTo>
                  <a:pt x="14499" y="8130"/>
                </a:lnTo>
                <a:lnTo>
                  <a:pt x="14501" y="8168"/>
                </a:lnTo>
                <a:lnTo>
                  <a:pt x="14486" y="8210"/>
                </a:lnTo>
                <a:lnTo>
                  <a:pt x="14462" y="8276"/>
                </a:lnTo>
                <a:lnTo>
                  <a:pt x="14449" y="8242"/>
                </a:lnTo>
                <a:lnTo>
                  <a:pt x="14436" y="8334"/>
                </a:lnTo>
                <a:lnTo>
                  <a:pt x="14410" y="8520"/>
                </a:lnTo>
                <a:lnTo>
                  <a:pt x="14436" y="8783"/>
                </a:lnTo>
                <a:lnTo>
                  <a:pt x="14461" y="8930"/>
                </a:lnTo>
                <a:lnTo>
                  <a:pt x="14468" y="8970"/>
                </a:lnTo>
                <a:lnTo>
                  <a:pt x="14484" y="9046"/>
                </a:lnTo>
                <a:lnTo>
                  <a:pt x="14486" y="9054"/>
                </a:lnTo>
                <a:lnTo>
                  <a:pt x="14493" y="9090"/>
                </a:lnTo>
                <a:lnTo>
                  <a:pt x="14510" y="9148"/>
                </a:lnTo>
                <a:lnTo>
                  <a:pt x="14511" y="9153"/>
                </a:lnTo>
                <a:lnTo>
                  <a:pt x="14511" y="9178"/>
                </a:lnTo>
                <a:lnTo>
                  <a:pt x="14511" y="9186"/>
                </a:lnTo>
                <a:lnTo>
                  <a:pt x="14511" y="9203"/>
                </a:lnTo>
                <a:lnTo>
                  <a:pt x="14521" y="9224"/>
                </a:lnTo>
                <a:lnTo>
                  <a:pt x="14541" y="9227"/>
                </a:lnTo>
                <a:lnTo>
                  <a:pt x="14560" y="9277"/>
                </a:lnTo>
                <a:lnTo>
                  <a:pt x="14572" y="9310"/>
                </a:lnTo>
                <a:lnTo>
                  <a:pt x="14591" y="9363"/>
                </a:lnTo>
                <a:lnTo>
                  <a:pt x="14610" y="9401"/>
                </a:lnTo>
                <a:lnTo>
                  <a:pt x="14628" y="9437"/>
                </a:lnTo>
                <a:lnTo>
                  <a:pt x="14645" y="9464"/>
                </a:lnTo>
                <a:lnTo>
                  <a:pt x="14660" y="9500"/>
                </a:lnTo>
                <a:lnTo>
                  <a:pt x="14691" y="9571"/>
                </a:lnTo>
                <a:lnTo>
                  <a:pt x="14692" y="9535"/>
                </a:lnTo>
                <a:lnTo>
                  <a:pt x="14709" y="9599"/>
                </a:lnTo>
                <a:lnTo>
                  <a:pt x="14725" y="9658"/>
                </a:lnTo>
                <a:lnTo>
                  <a:pt x="14692" y="9697"/>
                </a:lnTo>
                <a:lnTo>
                  <a:pt x="14734" y="9748"/>
                </a:lnTo>
                <a:lnTo>
                  <a:pt x="14744" y="9761"/>
                </a:lnTo>
                <a:lnTo>
                  <a:pt x="14820" y="9792"/>
                </a:lnTo>
                <a:lnTo>
                  <a:pt x="14833" y="9798"/>
                </a:lnTo>
                <a:lnTo>
                  <a:pt x="14858" y="9798"/>
                </a:lnTo>
                <a:lnTo>
                  <a:pt x="14866" y="9798"/>
                </a:lnTo>
                <a:lnTo>
                  <a:pt x="14883" y="9798"/>
                </a:lnTo>
                <a:lnTo>
                  <a:pt x="14894" y="9832"/>
                </a:lnTo>
                <a:lnTo>
                  <a:pt x="14927" y="9836"/>
                </a:lnTo>
                <a:lnTo>
                  <a:pt x="14932" y="9872"/>
                </a:lnTo>
                <a:lnTo>
                  <a:pt x="14946" y="9964"/>
                </a:lnTo>
                <a:lnTo>
                  <a:pt x="14988" y="10027"/>
                </a:lnTo>
                <a:lnTo>
                  <a:pt x="14982" y="10120"/>
                </a:lnTo>
                <a:lnTo>
                  <a:pt x="14976" y="10205"/>
                </a:lnTo>
                <a:lnTo>
                  <a:pt x="14937" y="10198"/>
                </a:lnTo>
                <a:lnTo>
                  <a:pt x="14908" y="10269"/>
                </a:lnTo>
                <a:lnTo>
                  <a:pt x="14894" y="10304"/>
                </a:lnTo>
                <a:lnTo>
                  <a:pt x="14874" y="10361"/>
                </a:lnTo>
                <a:lnTo>
                  <a:pt x="14858" y="10393"/>
                </a:lnTo>
                <a:lnTo>
                  <a:pt x="14842" y="10426"/>
                </a:lnTo>
                <a:lnTo>
                  <a:pt x="14820" y="10433"/>
                </a:lnTo>
                <a:lnTo>
                  <a:pt x="14808" y="10468"/>
                </a:lnTo>
                <a:lnTo>
                  <a:pt x="14792" y="10518"/>
                </a:lnTo>
                <a:lnTo>
                  <a:pt x="14789" y="10588"/>
                </a:lnTo>
                <a:lnTo>
                  <a:pt x="14784" y="10641"/>
                </a:lnTo>
                <a:lnTo>
                  <a:pt x="14771" y="10769"/>
                </a:lnTo>
                <a:lnTo>
                  <a:pt x="14778" y="10851"/>
                </a:lnTo>
                <a:lnTo>
                  <a:pt x="14709" y="10964"/>
                </a:lnTo>
                <a:lnTo>
                  <a:pt x="14706" y="10969"/>
                </a:lnTo>
                <a:lnTo>
                  <a:pt x="14636" y="11009"/>
                </a:lnTo>
                <a:lnTo>
                  <a:pt x="14635" y="11013"/>
                </a:lnTo>
                <a:lnTo>
                  <a:pt x="14617" y="11081"/>
                </a:lnTo>
                <a:lnTo>
                  <a:pt x="14628" y="11209"/>
                </a:lnTo>
                <a:lnTo>
                  <a:pt x="14660" y="11261"/>
                </a:lnTo>
                <a:lnTo>
                  <a:pt x="14667" y="11273"/>
                </a:lnTo>
                <a:lnTo>
                  <a:pt x="14740" y="11313"/>
                </a:lnTo>
                <a:lnTo>
                  <a:pt x="14759" y="11336"/>
                </a:lnTo>
                <a:lnTo>
                  <a:pt x="14790" y="11374"/>
                </a:lnTo>
                <a:lnTo>
                  <a:pt x="14807" y="11398"/>
                </a:lnTo>
                <a:lnTo>
                  <a:pt x="14833" y="11435"/>
                </a:lnTo>
                <a:lnTo>
                  <a:pt x="14855" y="11466"/>
                </a:lnTo>
                <a:lnTo>
                  <a:pt x="14916" y="11519"/>
                </a:lnTo>
                <a:lnTo>
                  <a:pt x="14908" y="11559"/>
                </a:lnTo>
                <a:lnTo>
                  <a:pt x="14894" y="11624"/>
                </a:lnTo>
                <a:lnTo>
                  <a:pt x="14830" y="11629"/>
                </a:lnTo>
                <a:lnTo>
                  <a:pt x="14784" y="11658"/>
                </a:lnTo>
                <a:lnTo>
                  <a:pt x="14740" y="11686"/>
                </a:lnTo>
                <a:lnTo>
                  <a:pt x="14697" y="11686"/>
                </a:lnTo>
                <a:lnTo>
                  <a:pt x="14660" y="11708"/>
                </a:lnTo>
                <a:lnTo>
                  <a:pt x="14638" y="11721"/>
                </a:lnTo>
                <a:lnTo>
                  <a:pt x="14595" y="11762"/>
                </a:lnTo>
                <a:lnTo>
                  <a:pt x="14560" y="11782"/>
                </a:lnTo>
                <a:lnTo>
                  <a:pt x="14531" y="11799"/>
                </a:lnTo>
                <a:lnTo>
                  <a:pt x="14514" y="11819"/>
                </a:lnTo>
                <a:lnTo>
                  <a:pt x="14486" y="11832"/>
                </a:lnTo>
                <a:lnTo>
                  <a:pt x="14486" y="11799"/>
                </a:lnTo>
                <a:lnTo>
                  <a:pt x="14486" y="11766"/>
                </a:lnTo>
                <a:lnTo>
                  <a:pt x="14486" y="11733"/>
                </a:lnTo>
                <a:lnTo>
                  <a:pt x="14424" y="11716"/>
                </a:lnTo>
                <a:lnTo>
                  <a:pt x="14388" y="11750"/>
                </a:lnTo>
                <a:lnTo>
                  <a:pt x="14337" y="11708"/>
                </a:lnTo>
                <a:lnTo>
                  <a:pt x="14337" y="11683"/>
                </a:lnTo>
                <a:lnTo>
                  <a:pt x="14337" y="11675"/>
                </a:lnTo>
                <a:lnTo>
                  <a:pt x="14337" y="11658"/>
                </a:lnTo>
                <a:lnTo>
                  <a:pt x="14278" y="11686"/>
                </a:lnTo>
                <a:lnTo>
                  <a:pt x="14268" y="11673"/>
                </a:lnTo>
                <a:lnTo>
                  <a:pt x="14213" y="11708"/>
                </a:lnTo>
                <a:lnTo>
                  <a:pt x="14185" y="11726"/>
                </a:lnTo>
                <a:lnTo>
                  <a:pt x="14177" y="11729"/>
                </a:lnTo>
                <a:lnTo>
                  <a:pt x="14139" y="11757"/>
                </a:lnTo>
                <a:lnTo>
                  <a:pt x="14099" y="11787"/>
                </a:lnTo>
                <a:lnTo>
                  <a:pt x="14116" y="11815"/>
                </a:lnTo>
                <a:lnTo>
                  <a:pt x="14064" y="11832"/>
                </a:lnTo>
                <a:lnTo>
                  <a:pt x="14025" y="11845"/>
                </a:lnTo>
                <a:lnTo>
                  <a:pt x="13894" y="11880"/>
                </a:lnTo>
                <a:lnTo>
                  <a:pt x="13891" y="11881"/>
                </a:lnTo>
                <a:lnTo>
                  <a:pt x="13851" y="11888"/>
                </a:lnTo>
                <a:lnTo>
                  <a:pt x="13807" y="11873"/>
                </a:lnTo>
                <a:lnTo>
                  <a:pt x="13767" y="11881"/>
                </a:lnTo>
                <a:lnTo>
                  <a:pt x="13767" y="11823"/>
                </a:lnTo>
                <a:lnTo>
                  <a:pt x="13767" y="11766"/>
                </a:lnTo>
                <a:lnTo>
                  <a:pt x="13767" y="11708"/>
                </a:lnTo>
                <a:lnTo>
                  <a:pt x="13724" y="11725"/>
                </a:lnTo>
                <a:lnTo>
                  <a:pt x="13678" y="11749"/>
                </a:lnTo>
                <a:lnTo>
                  <a:pt x="13643" y="11757"/>
                </a:lnTo>
                <a:lnTo>
                  <a:pt x="13581" y="11772"/>
                </a:lnTo>
                <a:lnTo>
                  <a:pt x="13604" y="11776"/>
                </a:lnTo>
                <a:lnTo>
                  <a:pt x="13543" y="11782"/>
                </a:lnTo>
                <a:lnTo>
                  <a:pt x="13494" y="11787"/>
                </a:lnTo>
                <a:lnTo>
                  <a:pt x="13444" y="11780"/>
                </a:lnTo>
                <a:lnTo>
                  <a:pt x="13395" y="11782"/>
                </a:lnTo>
                <a:lnTo>
                  <a:pt x="13371" y="11747"/>
                </a:lnTo>
                <a:lnTo>
                  <a:pt x="13391" y="11688"/>
                </a:lnTo>
                <a:lnTo>
                  <a:pt x="13345" y="11658"/>
                </a:lnTo>
                <a:lnTo>
                  <a:pt x="13299" y="11628"/>
                </a:lnTo>
                <a:lnTo>
                  <a:pt x="13277" y="11637"/>
                </a:lnTo>
                <a:lnTo>
                  <a:pt x="13221" y="11633"/>
                </a:lnTo>
                <a:lnTo>
                  <a:pt x="13173" y="11630"/>
                </a:lnTo>
                <a:lnTo>
                  <a:pt x="13102" y="11660"/>
                </a:lnTo>
                <a:lnTo>
                  <a:pt x="13072" y="11658"/>
                </a:lnTo>
                <a:lnTo>
                  <a:pt x="12987" y="11653"/>
                </a:lnTo>
                <a:lnTo>
                  <a:pt x="12945" y="11627"/>
                </a:lnTo>
                <a:lnTo>
                  <a:pt x="12874" y="11609"/>
                </a:lnTo>
                <a:lnTo>
                  <a:pt x="12874" y="11728"/>
                </a:lnTo>
                <a:lnTo>
                  <a:pt x="12905" y="11906"/>
                </a:lnTo>
                <a:lnTo>
                  <a:pt x="12849" y="12005"/>
                </a:lnTo>
                <a:lnTo>
                  <a:pt x="12844" y="12013"/>
                </a:lnTo>
                <a:lnTo>
                  <a:pt x="12795" y="12059"/>
                </a:lnTo>
                <a:lnTo>
                  <a:pt x="12774" y="12080"/>
                </a:lnTo>
                <a:lnTo>
                  <a:pt x="12738" y="12117"/>
                </a:lnTo>
                <a:lnTo>
                  <a:pt x="12724" y="12105"/>
                </a:lnTo>
                <a:lnTo>
                  <a:pt x="12700" y="12154"/>
                </a:lnTo>
                <a:lnTo>
                  <a:pt x="12687" y="12180"/>
                </a:lnTo>
                <a:lnTo>
                  <a:pt x="12669" y="12213"/>
                </a:lnTo>
                <a:lnTo>
                  <a:pt x="12675" y="12278"/>
                </a:lnTo>
                <a:lnTo>
                  <a:pt x="12680" y="12332"/>
                </a:lnTo>
                <a:lnTo>
                  <a:pt x="12725" y="12353"/>
                </a:lnTo>
                <a:lnTo>
                  <a:pt x="12725" y="12353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Ink 4"/>
          <p:cNvSpPr/>
          <p:nvPr/>
        </p:nvSpPr>
        <p:spPr>
          <a:xfrm>
            <a:off x="5153040" y="5892840"/>
            <a:ext cx="2428920" cy="590400"/>
          </a:xfrm>
          <a:custGeom>
            <a:avLst/>
            <a:gdLst/>
            <a:ahLst/>
            <a:rect l="l" t="t" r="r" b="b"/>
            <a:pathLst>
              <a:path w="6748" h="1638">
                <a:moveTo>
                  <a:pt x="14312" y="17562"/>
                </a:moveTo>
                <a:lnTo>
                  <a:pt x="14335" y="17539"/>
                </a:lnTo>
                <a:lnTo>
                  <a:pt x="14339" y="17531"/>
                </a:lnTo>
                <a:lnTo>
                  <a:pt x="14362" y="17537"/>
                </a:lnTo>
                <a:lnTo>
                  <a:pt x="14371" y="17559"/>
                </a:lnTo>
                <a:lnTo>
                  <a:pt x="14373" y="17646"/>
                </a:lnTo>
                <a:lnTo>
                  <a:pt x="14387" y="17661"/>
                </a:lnTo>
                <a:lnTo>
                  <a:pt x="14433" y="17711"/>
                </a:lnTo>
                <a:lnTo>
                  <a:pt x="14402" y="17692"/>
                </a:lnTo>
                <a:lnTo>
                  <a:pt x="14461" y="17711"/>
                </a:lnTo>
                <a:lnTo>
                  <a:pt x="14514" y="17728"/>
                </a:lnTo>
                <a:lnTo>
                  <a:pt x="14633" y="17677"/>
                </a:lnTo>
                <a:lnTo>
                  <a:pt x="14660" y="17686"/>
                </a:lnTo>
                <a:lnTo>
                  <a:pt x="14709" y="17702"/>
                </a:lnTo>
                <a:lnTo>
                  <a:pt x="14715" y="17695"/>
                </a:lnTo>
                <a:lnTo>
                  <a:pt x="14759" y="17735"/>
                </a:lnTo>
                <a:lnTo>
                  <a:pt x="14780" y="17754"/>
                </a:lnTo>
                <a:lnTo>
                  <a:pt x="14770" y="17816"/>
                </a:lnTo>
                <a:lnTo>
                  <a:pt x="14784" y="17835"/>
                </a:lnTo>
                <a:lnTo>
                  <a:pt x="14807" y="17866"/>
                </a:lnTo>
                <a:lnTo>
                  <a:pt x="14840" y="17888"/>
                </a:lnTo>
                <a:lnTo>
                  <a:pt x="14858" y="17909"/>
                </a:lnTo>
                <a:lnTo>
                  <a:pt x="14877" y="17932"/>
                </a:lnTo>
                <a:lnTo>
                  <a:pt x="14889" y="17968"/>
                </a:lnTo>
                <a:lnTo>
                  <a:pt x="14932" y="17983"/>
                </a:lnTo>
                <a:lnTo>
                  <a:pt x="14947" y="17988"/>
                </a:lnTo>
                <a:lnTo>
                  <a:pt x="14959" y="18011"/>
                </a:lnTo>
                <a:lnTo>
                  <a:pt x="15007" y="18008"/>
                </a:lnTo>
                <a:lnTo>
                  <a:pt x="15050" y="18005"/>
                </a:lnTo>
                <a:lnTo>
                  <a:pt x="15066" y="17966"/>
                </a:lnTo>
                <a:lnTo>
                  <a:pt x="15081" y="17959"/>
                </a:lnTo>
                <a:lnTo>
                  <a:pt x="15133" y="17936"/>
                </a:lnTo>
                <a:lnTo>
                  <a:pt x="15159" y="17906"/>
                </a:lnTo>
                <a:lnTo>
                  <a:pt x="15205" y="17884"/>
                </a:lnTo>
                <a:lnTo>
                  <a:pt x="15230" y="17872"/>
                </a:lnTo>
                <a:lnTo>
                  <a:pt x="15281" y="17873"/>
                </a:lnTo>
                <a:lnTo>
                  <a:pt x="15304" y="17859"/>
                </a:lnTo>
                <a:lnTo>
                  <a:pt x="15344" y="17834"/>
                </a:lnTo>
                <a:lnTo>
                  <a:pt x="15341" y="17832"/>
                </a:lnTo>
                <a:lnTo>
                  <a:pt x="15379" y="17810"/>
                </a:lnTo>
                <a:lnTo>
                  <a:pt x="15426" y="17783"/>
                </a:lnTo>
                <a:lnTo>
                  <a:pt x="15457" y="17760"/>
                </a:lnTo>
                <a:lnTo>
                  <a:pt x="15503" y="17735"/>
                </a:lnTo>
                <a:lnTo>
                  <a:pt x="15536" y="17717"/>
                </a:lnTo>
                <a:lnTo>
                  <a:pt x="15586" y="17696"/>
                </a:lnTo>
                <a:lnTo>
                  <a:pt x="15602" y="17686"/>
                </a:lnTo>
                <a:lnTo>
                  <a:pt x="15634" y="17665"/>
                </a:lnTo>
                <a:lnTo>
                  <a:pt x="15676" y="17629"/>
                </a:lnTo>
                <a:lnTo>
                  <a:pt x="15701" y="17611"/>
                </a:lnTo>
                <a:lnTo>
                  <a:pt x="15723" y="17595"/>
                </a:lnTo>
                <a:lnTo>
                  <a:pt x="15740" y="17580"/>
                </a:lnTo>
                <a:lnTo>
                  <a:pt x="15776" y="17562"/>
                </a:lnTo>
                <a:lnTo>
                  <a:pt x="15814" y="17543"/>
                </a:lnTo>
                <a:lnTo>
                  <a:pt x="15861" y="17538"/>
                </a:lnTo>
                <a:lnTo>
                  <a:pt x="15900" y="17512"/>
                </a:lnTo>
                <a:lnTo>
                  <a:pt x="15918" y="17500"/>
                </a:lnTo>
                <a:lnTo>
                  <a:pt x="15958" y="17448"/>
                </a:lnTo>
                <a:lnTo>
                  <a:pt x="15974" y="17438"/>
                </a:lnTo>
                <a:lnTo>
                  <a:pt x="16008" y="17417"/>
                </a:lnTo>
                <a:lnTo>
                  <a:pt x="16031" y="17402"/>
                </a:lnTo>
                <a:lnTo>
                  <a:pt x="16049" y="17388"/>
                </a:lnTo>
                <a:lnTo>
                  <a:pt x="16075" y="17367"/>
                </a:lnTo>
                <a:lnTo>
                  <a:pt x="16117" y="17343"/>
                </a:lnTo>
                <a:lnTo>
                  <a:pt x="16148" y="17314"/>
                </a:lnTo>
                <a:lnTo>
                  <a:pt x="16188" y="17277"/>
                </a:lnTo>
                <a:lnTo>
                  <a:pt x="16242" y="17242"/>
                </a:lnTo>
                <a:lnTo>
                  <a:pt x="16272" y="17214"/>
                </a:lnTo>
                <a:lnTo>
                  <a:pt x="16302" y="17187"/>
                </a:lnTo>
                <a:lnTo>
                  <a:pt x="16284" y="17168"/>
                </a:lnTo>
                <a:lnTo>
                  <a:pt x="16346" y="17140"/>
                </a:lnTo>
                <a:lnTo>
                  <a:pt x="16428" y="17103"/>
                </a:lnTo>
                <a:lnTo>
                  <a:pt x="16506" y="17120"/>
                </a:lnTo>
                <a:lnTo>
                  <a:pt x="16594" y="17115"/>
                </a:lnTo>
                <a:lnTo>
                  <a:pt x="16710" y="17109"/>
                </a:lnTo>
                <a:lnTo>
                  <a:pt x="16784" y="17130"/>
                </a:lnTo>
                <a:lnTo>
                  <a:pt x="16892" y="17165"/>
                </a:lnTo>
                <a:lnTo>
                  <a:pt x="16942" y="17181"/>
                </a:lnTo>
                <a:lnTo>
                  <a:pt x="17000" y="17208"/>
                </a:lnTo>
                <a:lnTo>
                  <a:pt x="17016" y="17239"/>
                </a:lnTo>
                <a:lnTo>
                  <a:pt x="17048" y="17301"/>
                </a:lnTo>
                <a:lnTo>
                  <a:pt x="16983" y="17374"/>
                </a:lnTo>
                <a:lnTo>
                  <a:pt x="17041" y="17413"/>
                </a:lnTo>
                <a:lnTo>
                  <a:pt x="17094" y="17448"/>
                </a:lnTo>
                <a:lnTo>
                  <a:pt x="17131" y="17416"/>
                </a:lnTo>
                <a:lnTo>
                  <a:pt x="17190" y="17438"/>
                </a:lnTo>
                <a:lnTo>
                  <a:pt x="17240" y="17456"/>
                </a:lnTo>
                <a:lnTo>
                  <a:pt x="17285" y="17470"/>
                </a:lnTo>
                <a:lnTo>
                  <a:pt x="17338" y="17487"/>
                </a:lnTo>
                <a:lnTo>
                  <a:pt x="17372" y="17498"/>
                </a:lnTo>
                <a:lnTo>
                  <a:pt x="17402" y="17501"/>
                </a:lnTo>
                <a:lnTo>
                  <a:pt x="17438" y="17512"/>
                </a:lnTo>
                <a:lnTo>
                  <a:pt x="17483" y="17526"/>
                </a:lnTo>
                <a:lnTo>
                  <a:pt x="17533" y="17550"/>
                </a:lnTo>
                <a:lnTo>
                  <a:pt x="17587" y="17562"/>
                </a:lnTo>
                <a:lnTo>
                  <a:pt x="17630" y="17572"/>
                </a:lnTo>
                <a:lnTo>
                  <a:pt x="17630" y="17585"/>
                </a:lnTo>
                <a:lnTo>
                  <a:pt x="17661" y="17587"/>
                </a:lnTo>
                <a:lnTo>
                  <a:pt x="17716" y="17590"/>
                </a:lnTo>
                <a:lnTo>
                  <a:pt x="17738" y="17568"/>
                </a:lnTo>
                <a:lnTo>
                  <a:pt x="17785" y="17562"/>
                </a:lnTo>
                <a:lnTo>
                  <a:pt x="17855" y="17553"/>
                </a:lnTo>
                <a:lnTo>
                  <a:pt x="17890" y="17538"/>
                </a:lnTo>
                <a:lnTo>
                  <a:pt x="17934" y="17512"/>
                </a:lnTo>
                <a:lnTo>
                  <a:pt x="17971" y="17490"/>
                </a:lnTo>
                <a:lnTo>
                  <a:pt x="17987" y="17489"/>
                </a:lnTo>
                <a:lnTo>
                  <a:pt x="18008" y="17462"/>
                </a:lnTo>
                <a:lnTo>
                  <a:pt x="18047" y="17413"/>
                </a:lnTo>
                <a:lnTo>
                  <a:pt x="18057" y="17363"/>
                </a:lnTo>
                <a:lnTo>
                  <a:pt x="18083" y="17314"/>
                </a:lnTo>
                <a:lnTo>
                  <a:pt x="18093" y="17294"/>
                </a:lnTo>
                <a:lnTo>
                  <a:pt x="18105" y="17244"/>
                </a:lnTo>
                <a:lnTo>
                  <a:pt x="18107" y="17239"/>
                </a:lnTo>
                <a:lnTo>
                  <a:pt x="18123" y="17205"/>
                </a:lnTo>
                <a:lnTo>
                  <a:pt x="18117" y="17191"/>
                </a:lnTo>
                <a:lnTo>
                  <a:pt x="18132" y="17140"/>
                </a:lnTo>
                <a:lnTo>
                  <a:pt x="18134" y="17133"/>
                </a:lnTo>
                <a:lnTo>
                  <a:pt x="18153" y="17104"/>
                </a:lnTo>
                <a:lnTo>
                  <a:pt x="18157" y="17066"/>
                </a:lnTo>
                <a:lnTo>
                  <a:pt x="18165" y="16985"/>
                </a:lnTo>
                <a:lnTo>
                  <a:pt x="18139" y="16882"/>
                </a:lnTo>
                <a:lnTo>
                  <a:pt x="18132" y="16842"/>
                </a:lnTo>
                <a:lnTo>
                  <a:pt x="18124" y="16794"/>
                </a:lnTo>
                <a:lnTo>
                  <a:pt x="18106" y="16768"/>
                </a:lnTo>
                <a:lnTo>
                  <a:pt x="18107" y="16718"/>
                </a:lnTo>
                <a:lnTo>
                  <a:pt x="18108" y="16647"/>
                </a:lnTo>
                <a:lnTo>
                  <a:pt x="18104" y="16609"/>
                </a:lnTo>
                <a:lnTo>
                  <a:pt x="18132" y="16545"/>
                </a:lnTo>
                <a:lnTo>
                  <a:pt x="18140" y="16526"/>
                </a:lnTo>
                <a:lnTo>
                  <a:pt x="18195" y="16429"/>
                </a:lnTo>
                <a:lnTo>
                  <a:pt x="18207" y="16421"/>
                </a:lnTo>
                <a:lnTo>
                  <a:pt x="18220" y="16412"/>
                </a:lnTo>
                <a:lnTo>
                  <a:pt x="18316" y="16398"/>
                </a:lnTo>
                <a:lnTo>
                  <a:pt x="18331" y="16396"/>
                </a:lnTo>
                <a:lnTo>
                  <a:pt x="18427" y="16380"/>
                </a:lnTo>
                <a:lnTo>
                  <a:pt x="18522" y="16416"/>
                </a:lnTo>
                <a:lnTo>
                  <a:pt x="18604" y="16421"/>
                </a:lnTo>
                <a:lnTo>
                  <a:pt x="18697" y="16427"/>
                </a:lnTo>
                <a:lnTo>
                  <a:pt x="18717" y="16453"/>
                </a:lnTo>
                <a:lnTo>
                  <a:pt x="18777" y="16470"/>
                </a:lnTo>
                <a:lnTo>
                  <a:pt x="18820" y="16482"/>
                </a:lnTo>
                <a:lnTo>
                  <a:pt x="18857" y="16486"/>
                </a:lnTo>
                <a:lnTo>
                  <a:pt x="18876" y="16495"/>
                </a:lnTo>
                <a:lnTo>
                  <a:pt x="18909" y="16510"/>
                </a:lnTo>
                <a:lnTo>
                  <a:pt x="18908" y="16522"/>
                </a:lnTo>
                <a:lnTo>
                  <a:pt x="18951" y="16545"/>
                </a:lnTo>
                <a:lnTo>
                  <a:pt x="18977" y="16559"/>
                </a:lnTo>
                <a:lnTo>
                  <a:pt x="19025" y="16550"/>
                </a:lnTo>
                <a:lnTo>
                  <a:pt x="19050" y="16570"/>
                </a:lnTo>
                <a:lnTo>
                  <a:pt x="19095" y="16607"/>
                </a:lnTo>
                <a:lnTo>
                  <a:pt x="19092" y="16624"/>
                </a:lnTo>
                <a:lnTo>
                  <a:pt x="19124" y="16669"/>
                </a:lnTo>
                <a:lnTo>
                  <a:pt x="19154" y="16712"/>
                </a:lnTo>
                <a:lnTo>
                  <a:pt x="19160" y="16739"/>
                </a:lnTo>
                <a:lnTo>
                  <a:pt x="19174" y="16768"/>
                </a:lnTo>
                <a:lnTo>
                  <a:pt x="19192" y="16806"/>
                </a:lnTo>
                <a:lnTo>
                  <a:pt x="19204" y="16862"/>
                </a:lnTo>
                <a:lnTo>
                  <a:pt x="19224" y="16892"/>
                </a:lnTo>
                <a:lnTo>
                  <a:pt x="19239" y="16914"/>
                </a:lnTo>
                <a:lnTo>
                  <a:pt x="19256" y="16932"/>
                </a:lnTo>
                <a:lnTo>
                  <a:pt x="19273" y="16966"/>
                </a:lnTo>
                <a:lnTo>
                  <a:pt x="19288" y="16996"/>
                </a:lnTo>
                <a:lnTo>
                  <a:pt x="19278" y="17015"/>
                </a:lnTo>
                <a:lnTo>
                  <a:pt x="19298" y="17041"/>
                </a:lnTo>
                <a:lnTo>
                  <a:pt x="19307" y="17053"/>
                </a:lnTo>
                <a:lnTo>
                  <a:pt x="19347" y="17093"/>
                </a:lnTo>
                <a:lnTo>
                  <a:pt x="19372" y="17115"/>
                </a:lnTo>
                <a:lnTo>
                  <a:pt x="19387" y="17128"/>
                </a:lnTo>
                <a:lnTo>
                  <a:pt x="19417" y="17153"/>
                </a:lnTo>
                <a:lnTo>
                  <a:pt x="19447" y="17165"/>
                </a:lnTo>
                <a:lnTo>
                  <a:pt x="19498" y="17186"/>
                </a:lnTo>
                <a:lnTo>
                  <a:pt x="19535" y="17184"/>
                </a:lnTo>
                <a:lnTo>
                  <a:pt x="19596" y="17190"/>
                </a:lnTo>
                <a:lnTo>
                  <a:pt x="19722" y="17202"/>
                </a:lnTo>
                <a:lnTo>
                  <a:pt x="19912" y="17217"/>
                </a:lnTo>
                <a:lnTo>
                  <a:pt x="20017" y="17165"/>
                </a:lnTo>
                <a:lnTo>
                  <a:pt x="20021" y="17163"/>
                </a:lnTo>
                <a:lnTo>
                  <a:pt x="20058" y="17122"/>
                </a:lnTo>
                <a:lnTo>
                  <a:pt x="20067" y="17115"/>
                </a:lnTo>
                <a:lnTo>
                  <a:pt x="20096" y="17091"/>
                </a:lnTo>
                <a:lnTo>
                  <a:pt x="20099" y="17051"/>
                </a:lnTo>
                <a:lnTo>
                  <a:pt x="20117" y="17041"/>
                </a:lnTo>
                <a:lnTo>
                  <a:pt x="20199" y="16992"/>
                </a:lnTo>
                <a:lnTo>
                  <a:pt x="20153" y="17020"/>
                </a:lnTo>
                <a:lnTo>
                  <a:pt x="20241" y="16991"/>
                </a:lnTo>
                <a:lnTo>
                  <a:pt x="20251" y="16988"/>
                </a:lnTo>
                <a:lnTo>
                  <a:pt x="20276" y="16971"/>
                </a:lnTo>
                <a:lnTo>
                  <a:pt x="20315" y="16966"/>
                </a:lnTo>
                <a:lnTo>
                  <a:pt x="20483" y="16945"/>
                </a:lnTo>
                <a:lnTo>
                  <a:pt x="20713" y="17016"/>
                </a:lnTo>
                <a:lnTo>
                  <a:pt x="20861" y="16942"/>
                </a:lnTo>
                <a:lnTo>
                  <a:pt x="20887" y="16929"/>
                </a:lnTo>
                <a:lnTo>
                  <a:pt x="20924" y="16907"/>
                </a:lnTo>
                <a:lnTo>
                  <a:pt x="20935" y="16892"/>
                </a:lnTo>
                <a:lnTo>
                  <a:pt x="20970" y="16843"/>
                </a:lnTo>
                <a:lnTo>
                  <a:pt x="20966" y="16800"/>
                </a:lnTo>
                <a:lnTo>
                  <a:pt x="20985" y="16743"/>
                </a:lnTo>
                <a:lnTo>
                  <a:pt x="20999" y="16700"/>
                </a:lnTo>
                <a:lnTo>
                  <a:pt x="21002" y="16637"/>
                </a:lnTo>
                <a:lnTo>
                  <a:pt x="21010" y="16619"/>
                </a:lnTo>
                <a:lnTo>
                  <a:pt x="21025" y="16584"/>
                </a:lnTo>
                <a:lnTo>
                  <a:pt x="21044" y="16565"/>
                </a:lnTo>
                <a:lnTo>
                  <a:pt x="21059" y="16545"/>
                </a:lnTo>
                <a:lnTo>
                  <a:pt x="21034" y="16520"/>
                </a:lnTo>
                <a:lnTo>
                  <a:pt x="20995" y="16511"/>
                </a:lnTo>
                <a:lnTo>
                  <a:pt x="20985" y="16495"/>
                </a:lnTo>
                <a:lnTo>
                  <a:pt x="20959" y="16454"/>
                </a:lnTo>
                <a:lnTo>
                  <a:pt x="20951" y="16452"/>
                </a:lnTo>
                <a:lnTo>
                  <a:pt x="20935" y="16421"/>
                </a:lnTo>
                <a:lnTo>
                  <a:pt x="20935" y="16396"/>
                </a:lnTo>
                <a:lnTo>
                  <a:pt x="20935" y="16388"/>
                </a:lnTo>
                <a:lnTo>
                  <a:pt x="20935" y="16371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Ink 5"/>
          <p:cNvSpPr/>
          <p:nvPr/>
        </p:nvSpPr>
        <p:spPr>
          <a:xfrm>
            <a:off x="3857760" y="4375080"/>
            <a:ext cx="1295280" cy="1928880"/>
          </a:xfrm>
          <a:custGeom>
            <a:avLst/>
            <a:gdLst/>
            <a:ahLst/>
            <a:rect l="l" t="t" r="r" b="b"/>
            <a:pathLst>
              <a:path w="3597" h="5359">
                <a:moveTo>
                  <a:pt x="12700" y="12154"/>
                </a:moveTo>
                <a:lnTo>
                  <a:pt x="12700" y="12204"/>
                </a:lnTo>
                <a:lnTo>
                  <a:pt x="12700" y="12253"/>
                </a:lnTo>
                <a:lnTo>
                  <a:pt x="12700" y="12303"/>
                </a:lnTo>
                <a:lnTo>
                  <a:pt x="12599" y="12321"/>
                </a:lnTo>
                <a:lnTo>
                  <a:pt x="12532" y="12276"/>
                </a:lnTo>
                <a:lnTo>
                  <a:pt x="12452" y="12353"/>
                </a:lnTo>
                <a:lnTo>
                  <a:pt x="12427" y="12377"/>
                </a:lnTo>
                <a:lnTo>
                  <a:pt x="12382" y="12469"/>
                </a:lnTo>
                <a:lnTo>
                  <a:pt x="12378" y="12477"/>
                </a:lnTo>
                <a:lnTo>
                  <a:pt x="12366" y="12501"/>
                </a:lnTo>
                <a:lnTo>
                  <a:pt x="12356" y="12594"/>
                </a:lnTo>
                <a:lnTo>
                  <a:pt x="12353" y="12601"/>
                </a:lnTo>
                <a:lnTo>
                  <a:pt x="12337" y="12642"/>
                </a:lnTo>
                <a:lnTo>
                  <a:pt x="12349" y="12645"/>
                </a:lnTo>
                <a:lnTo>
                  <a:pt x="12328" y="12675"/>
                </a:lnTo>
                <a:lnTo>
                  <a:pt x="12315" y="12693"/>
                </a:lnTo>
                <a:lnTo>
                  <a:pt x="12289" y="12730"/>
                </a:lnTo>
                <a:lnTo>
                  <a:pt x="12254" y="12750"/>
                </a:lnTo>
                <a:lnTo>
                  <a:pt x="12212" y="12775"/>
                </a:lnTo>
                <a:lnTo>
                  <a:pt x="12168" y="12754"/>
                </a:lnTo>
                <a:lnTo>
                  <a:pt x="12129" y="12774"/>
                </a:lnTo>
                <a:lnTo>
                  <a:pt x="12089" y="12794"/>
                </a:lnTo>
                <a:lnTo>
                  <a:pt x="12079" y="12811"/>
                </a:lnTo>
                <a:lnTo>
                  <a:pt x="12055" y="12824"/>
                </a:lnTo>
                <a:lnTo>
                  <a:pt x="12008" y="12850"/>
                </a:lnTo>
                <a:lnTo>
                  <a:pt x="11954" y="12888"/>
                </a:lnTo>
                <a:lnTo>
                  <a:pt x="11906" y="12898"/>
                </a:lnTo>
                <a:lnTo>
                  <a:pt x="11736" y="12934"/>
                </a:lnTo>
                <a:lnTo>
                  <a:pt x="11632" y="12832"/>
                </a:lnTo>
                <a:lnTo>
                  <a:pt x="11509" y="12799"/>
                </a:lnTo>
                <a:lnTo>
                  <a:pt x="11436" y="12780"/>
                </a:lnTo>
                <a:lnTo>
                  <a:pt x="11364" y="12774"/>
                </a:lnTo>
                <a:lnTo>
                  <a:pt x="11311" y="12750"/>
                </a:lnTo>
                <a:lnTo>
                  <a:pt x="11265" y="12729"/>
                </a:lnTo>
                <a:lnTo>
                  <a:pt x="11251" y="12722"/>
                </a:lnTo>
                <a:lnTo>
                  <a:pt x="11212" y="12700"/>
                </a:lnTo>
                <a:lnTo>
                  <a:pt x="11202" y="12714"/>
                </a:lnTo>
                <a:lnTo>
                  <a:pt x="11178" y="12747"/>
                </a:lnTo>
                <a:lnTo>
                  <a:pt x="11162" y="12774"/>
                </a:lnTo>
                <a:lnTo>
                  <a:pt x="11139" y="12813"/>
                </a:lnTo>
                <a:lnTo>
                  <a:pt x="11060" y="12878"/>
                </a:lnTo>
                <a:lnTo>
                  <a:pt x="11063" y="12923"/>
                </a:lnTo>
                <a:lnTo>
                  <a:pt x="11069" y="13008"/>
                </a:lnTo>
                <a:lnTo>
                  <a:pt x="11080" y="12990"/>
                </a:lnTo>
                <a:lnTo>
                  <a:pt x="11137" y="13047"/>
                </a:lnTo>
                <a:lnTo>
                  <a:pt x="11164" y="13074"/>
                </a:lnTo>
                <a:lnTo>
                  <a:pt x="11195" y="13061"/>
                </a:lnTo>
                <a:lnTo>
                  <a:pt x="11212" y="13097"/>
                </a:lnTo>
                <a:lnTo>
                  <a:pt x="11219" y="13113"/>
                </a:lnTo>
                <a:lnTo>
                  <a:pt x="11227" y="13132"/>
                </a:lnTo>
                <a:lnTo>
                  <a:pt x="11237" y="13171"/>
                </a:lnTo>
                <a:lnTo>
                  <a:pt x="11255" y="13242"/>
                </a:lnTo>
                <a:lnTo>
                  <a:pt x="11243" y="13363"/>
                </a:lnTo>
                <a:lnTo>
                  <a:pt x="11212" y="13419"/>
                </a:lnTo>
                <a:lnTo>
                  <a:pt x="11188" y="13462"/>
                </a:lnTo>
                <a:lnTo>
                  <a:pt x="11108" y="13495"/>
                </a:lnTo>
                <a:lnTo>
                  <a:pt x="11088" y="13519"/>
                </a:lnTo>
                <a:lnTo>
                  <a:pt x="11062" y="13550"/>
                </a:lnTo>
                <a:lnTo>
                  <a:pt x="11028" y="13577"/>
                </a:lnTo>
                <a:lnTo>
                  <a:pt x="11013" y="13593"/>
                </a:lnTo>
                <a:lnTo>
                  <a:pt x="10996" y="13611"/>
                </a:lnTo>
                <a:lnTo>
                  <a:pt x="10979" y="13635"/>
                </a:lnTo>
                <a:lnTo>
                  <a:pt x="10964" y="13667"/>
                </a:lnTo>
                <a:lnTo>
                  <a:pt x="10949" y="13699"/>
                </a:lnTo>
                <a:lnTo>
                  <a:pt x="10960" y="13723"/>
                </a:lnTo>
                <a:lnTo>
                  <a:pt x="10939" y="13767"/>
                </a:lnTo>
                <a:lnTo>
                  <a:pt x="10921" y="13804"/>
                </a:lnTo>
                <a:lnTo>
                  <a:pt x="10903" y="13813"/>
                </a:lnTo>
                <a:lnTo>
                  <a:pt x="10889" y="13841"/>
                </a:lnTo>
                <a:lnTo>
                  <a:pt x="10862" y="13896"/>
                </a:lnTo>
                <a:lnTo>
                  <a:pt x="10842" y="13935"/>
                </a:lnTo>
                <a:lnTo>
                  <a:pt x="10815" y="13990"/>
                </a:lnTo>
                <a:lnTo>
                  <a:pt x="10803" y="14015"/>
                </a:lnTo>
                <a:lnTo>
                  <a:pt x="10768" y="14057"/>
                </a:lnTo>
                <a:lnTo>
                  <a:pt x="10765" y="14064"/>
                </a:lnTo>
                <a:lnTo>
                  <a:pt x="10754" y="14088"/>
                </a:lnTo>
                <a:lnTo>
                  <a:pt x="10720" y="14148"/>
                </a:lnTo>
                <a:lnTo>
                  <a:pt x="10716" y="14163"/>
                </a:lnTo>
                <a:lnTo>
                  <a:pt x="10692" y="14267"/>
                </a:lnTo>
                <a:lnTo>
                  <a:pt x="10719" y="14445"/>
                </a:lnTo>
                <a:lnTo>
                  <a:pt x="10740" y="14511"/>
                </a:lnTo>
                <a:lnTo>
                  <a:pt x="10755" y="14558"/>
                </a:lnTo>
                <a:lnTo>
                  <a:pt x="10739" y="14582"/>
                </a:lnTo>
                <a:lnTo>
                  <a:pt x="10765" y="14610"/>
                </a:lnTo>
                <a:lnTo>
                  <a:pt x="10785" y="14632"/>
                </a:lnTo>
                <a:lnTo>
                  <a:pt x="10815" y="14616"/>
                </a:lnTo>
                <a:lnTo>
                  <a:pt x="10840" y="14635"/>
                </a:lnTo>
                <a:lnTo>
                  <a:pt x="10860" y="14650"/>
                </a:lnTo>
                <a:lnTo>
                  <a:pt x="10923" y="14680"/>
                </a:lnTo>
                <a:lnTo>
                  <a:pt x="10939" y="14709"/>
                </a:lnTo>
                <a:lnTo>
                  <a:pt x="10969" y="14763"/>
                </a:lnTo>
                <a:lnTo>
                  <a:pt x="10942" y="14849"/>
                </a:lnTo>
                <a:lnTo>
                  <a:pt x="10988" y="14908"/>
                </a:lnTo>
                <a:lnTo>
                  <a:pt x="11030" y="14962"/>
                </a:lnTo>
                <a:lnTo>
                  <a:pt x="11013" y="14931"/>
                </a:lnTo>
                <a:lnTo>
                  <a:pt x="11063" y="14957"/>
                </a:lnTo>
                <a:lnTo>
                  <a:pt x="11112" y="14983"/>
                </a:lnTo>
                <a:lnTo>
                  <a:pt x="11132" y="14970"/>
                </a:lnTo>
                <a:lnTo>
                  <a:pt x="11187" y="14982"/>
                </a:lnTo>
                <a:lnTo>
                  <a:pt x="11212" y="14982"/>
                </a:lnTo>
                <a:lnTo>
                  <a:pt x="11220" y="14982"/>
                </a:lnTo>
                <a:lnTo>
                  <a:pt x="11237" y="14982"/>
                </a:lnTo>
                <a:lnTo>
                  <a:pt x="11270" y="15051"/>
                </a:lnTo>
                <a:lnTo>
                  <a:pt x="11325" y="15130"/>
                </a:lnTo>
                <a:lnTo>
                  <a:pt x="11361" y="15205"/>
                </a:lnTo>
                <a:lnTo>
                  <a:pt x="11361" y="15230"/>
                </a:lnTo>
                <a:lnTo>
                  <a:pt x="11361" y="15238"/>
                </a:lnTo>
                <a:lnTo>
                  <a:pt x="11361" y="15255"/>
                </a:lnTo>
                <a:lnTo>
                  <a:pt x="11381" y="15241"/>
                </a:lnTo>
                <a:lnTo>
                  <a:pt x="11442" y="15191"/>
                </a:lnTo>
                <a:lnTo>
                  <a:pt x="11460" y="15180"/>
                </a:lnTo>
                <a:lnTo>
                  <a:pt x="11490" y="15162"/>
                </a:lnTo>
                <a:lnTo>
                  <a:pt x="11508" y="15171"/>
                </a:lnTo>
                <a:lnTo>
                  <a:pt x="11534" y="15156"/>
                </a:lnTo>
                <a:lnTo>
                  <a:pt x="11543" y="15151"/>
                </a:lnTo>
                <a:lnTo>
                  <a:pt x="11580" y="15112"/>
                </a:lnTo>
                <a:lnTo>
                  <a:pt x="11609" y="15106"/>
                </a:lnTo>
                <a:lnTo>
                  <a:pt x="11674" y="15092"/>
                </a:lnTo>
                <a:lnTo>
                  <a:pt x="11771" y="15092"/>
                </a:lnTo>
                <a:lnTo>
                  <a:pt x="11807" y="15081"/>
                </a:lnTo>
                <a:lnTo>
                  <a:pt x="11850" y="15068"/>
                </a:lnTo>
                <a:lnTo>
                  <a:pt x="11893" y="15048"/>
                </a:lnTo>
                <a:lnTo>
                  <a:pt x="11931" y="15032"/>
                </a:lnTo>
                <a:lnTo>
                  <a:pt x="11969" y="15016"/>
                </a:lnTo>
                <a:lnTo>
                  <a:pt x="11988" y="14988"/>
                </a:lnTo>
                <a:lnTo>
                  <a:pt x="12030" y="14982"/>
                </a:lnTo>
                <a:lnTo>
                  <a:pt x="12102" y="14971"/>
                </a:lnTo>
                <a:lnTo>
                  <a:pt x="12181" y="14985"/>
                </a:lnTo>
                <a:lnTo>
                  <a:pt x="12254" y="14982"/>
                </a:lnTo>
                <a:lnTo>
                  <a:pt x="12234" y="15040"/>
                </a:lnTo>
                <a:lnTo>
                  <a:pt x="12246" y="15041"/>
                </a:lnTo>
                <a:lnTo>
                  <a:pt x="12229" y="15081"/>
                </a:lnTo>
                <a:lnTo>
                  <a:pt x="12206" y="15136"/>
                </a:lnTo>
                <a:lnTo>
                  <a:pt x="12193" y="15154"/>
                </a:lnTo>
                <a:lnTo>
                  <a:pt x="12179" y="15205"/>
                </a:lnTo>
                <a:lnTo>
                  <a:pt x="12165" y="15255"/>
                </a:lnTo>
                <a:lnTo>
                  <a:pt x="12154" y="15288"/>
                </a:lnTo>
                <a:lnTo>
                  <a:pt x="12154" y="15354"/>
                </a:lnTo>
                <a:lnTo>
                  <a:pt x="12154" y="15442"/>
                </a:lnTo>
                <a:lnTo>
                  <a:pt x="12180" y="15434"/>
                </a:lnTo>
                <a:lnTo>
                  <a:pt x="12204" y="15478"/>
                </a:lnTo>
                <a:lnTo>
                  <a:pt x="12231" y="15528"/>
                </a:lnTo>
                <a:lnTo>
                  <a:pt x="12294" y="15591"/>
                </a:lnTo>
                <a:lnTo>
                  <a:pt x="12353" y="15627"/>
                </a:lnTo>
                <a:lnTo>
                  <a:pt x="12380" y="15643"/>
                </a:lnTo>
                <a:lnTo>
                  <a:pt x="12462" y="15656"/>
                </a:lnTo>
                <a:lnTo>
                  <a:pt x="12477" y="15677"/>
                </a:lnTo>
                <a:lnTo>
                  <a:pt x="12505" y="15717"/>
                </a:lnTo>
                <a:lnTo>
                  <a:pt x="12534" y="15802"/>
                </a:lnTo>
                <a:lnTo>
                  <a:pt x="12551" y="15850"/>
                </a:lnTo>
                <a:lnTo>
                  <a:pt x="12551" y="15875"/>
                </a:lnTo>
                <a:lnTo>
                  <a:pt x="12551" y="15883"/>
                </a:lnTo>
                <a:lnTo>
                  <a:pt x="12551" y="15900"/>
                </a:lnTo>
                <a:lnTo>
                  <a:pt x="12592" y="15931"/>
                </a:lnTo>
                <a:lnTo>
                  <a:pt x="12650" y="15944"/>
                </a:lnTo>
                <a:lnTo>
                  <a:pt x="12700" y="15999"/>
                </a:lnTo>
                <a:lnTo>
                  <a:pt x="12740" y="16043"/>
                </a:lnTo>
                <a:lnTo>
                  <a:pt x="12757" y="16029"/>
                </a:lnTo>
                <a:lnTo>
                  <a:pt x="12774" y="16098"/>
                </a:lnTo>
                <a:lnTo>
                  <a:pt x="12792" y="16171"/>
                </a:lnTo>
                <a:lnTo>
                  <a:pt x="12817" y="16285"/>
                </a:lnTo>
                <a:lnTo>
                  <a:pt x="12824" y="16346"/>
                </a:lnTo>
                <a:lnTo>
                  <a:pt x="12835" y="16448"/>
                </a:lnTo>
                <a:lnTo>
                  <a:pt x="12826" y="16480"/>
                </a:lnTo>
                <a:lnTo>
                  <a:pt x="12874" y="16570"/>
                </a:lnTo>
                <a:lnTo>
                  <a:pt x="12897" y="16613"/>
                </a:lnTo>
                <a:lnTo>
                  <a:pt x="12929" y="16642"/>
                </a:lnTo>
                <a:lnTo>
                  <a:pt x="12948" y="16669"/>
                </a:lnTo>
                <a:lnTo>
                  <a:pt x="12972" y="16703"/>
                </a:lnTo>
                <a:lnTo>
                  <a:pt x="13007" y="16710"/>
                </a:lnTo>
                <a:lnTo>
                  <a:pt x="13022" y="16743"/>
                </a:lnTo>
                <a:lnTo>
                  <a:pt x="13034" y="16770"/>
                </a:lnTo>
                <a:lnTo>
                  <a:pt x="13008" y="16816"/>
                </a:lnTo>
                <a:lnTo>
                  <a:pt x="13022" y="16842"/>
                </a:lnTo>
                <a:lnTo>
                  <a:pt x="13031" y="16826"/>
                </a:lnTo>
                <a:lnTo>
                  <a:pt x="13059" y="16791"/>
                </a:lnTo>
                <a:lnTo>
                  <a:pt x="13072" y="16768"/>
                </a:lnTo>
                <a:lnTo>
                  <a:pt x="13083" y="16748"/>
                </a:lnTo>
                <a:lnTo>
                  <a:pt x="13120" y="16672"/>
                </a:lnTo>
                <a:lnTo>
                  <a:pt x="13122" y="16669"/>
                </a:lnTo>
                <a:lnTo>
                  <a:pt x="13187" y="16734"/>
                </a:lnTo>
                <a:lnTo>
                  <a:pt x="13279" y="16797"/>
                </a:lnTo>
                <a:lnTo>
                  <a:pt x="13345" y="16867"/>
                </a:lnTo>
                <a:lnTo>
                  <a:pt x="13403" y="16928"/>
                </a:lnTo>
                <a:lnTo>
                  <a:pt x="13445" y="17048"/>
                </a:lnTo>
                <a:lnTo>
                  <a:pt x="13543" y="17041"/>
                </a:lnTo>
                <a:lnTo>
                  <a:pt x="13562" y="17040"/>
                </a:lnTo>
                <a:lnTo>
                  <a:pt x="13590" y="16977"/>
                </a:lnTo>
                <a:lnTo>
                  <a:pt x="13618" y="16966"/>
                </a:lnTo>
                <a:lnTo>
                  <a:pt x="13666" y="16946"/>
                </a:lnTo>
                <a:lnTo>
                  <a:pt x="13629" y="16902"/>
                </a:lnTo>
                <a:lnTo>
                  <a:pt x="13692" y="16892"/>
                </a:lnTo>
                <a:lnTo>
                  <a:pt x="13723" y="16887"/>
                </a:lnTo>
                <a:lnTo>
                  <a:pt x="13947" y="16903"/>
                </a:lnTo>
                <a:lnTo>
                  <a:pt x="13965" y="16917"/>
                </a:lnTo>
                <a:lnTo>
                  <a:pt x="13997" y="16941"/>
                </a:lnTo>
                <a:lnTo>
                  <a:pt x="13996" y="16981"/>
                </a:lnTo>
                <a:lnTo>
                  <a:pt x="14015" y="17016"/>
                </a:lnTo>
                <a:lnTo>
                  <a:pt x="14051" y="17083"/>
                </a:lnTo>
                <a:lnTo>
                  <a:pt x="14029" y="17177"/>
                </a:lnTo>
                <a:lnTo>
                  <a:pt x="14064" y="17239"/>
                </a:lnTo>
                <a:lnTo>
                  <a:pt x="14078" y="17264"/>
                </a:lnTo>
                <a:lnTo>
                  <a:pt x="14104" y="17285"/>
                </a:lnTo>
                <a:lnTo>
                  <a:pt x="14139" y="17314"/>
                </a:lnTo>
                <a:lnTo>
                  <a:pt x="14186" y="17354"/>
                </a:lnTo>
                <a:lnTo>
                  <a:pt x="14244" y="17358"/>
                </a:lnTo>
                <a:lnTo>
                  <a:pt x="14288" y="17413"/>
                </a:lnTo>
                <a:lnTo>
                  <a:pt x="14302" y="17430"/>
                </a:lnTo>
                <a:lnTo>
                  <a:pt x="14305" y="17501"/>
                </a:lnTo>
                <a:lnTo>
                  <a:pt x="14312" y="17512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Ink 6"/>
          <p:cNvSpPr/>
          <p:nvPr/>
        </p:nvSpPr>
        <p:spPr>
          <a:xfrm>
            <a:off x="102665160" y="8703612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0042" y="16991"/>
                </a:moveTo>
                <a:lnTo>
                  <a:pt x="20042" y="1699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Ink 7"/>
          <p:cNvSpPr/>
          <p:nvPr/>
        </p:nvSpPr>
        <p:spPr>
          <a:xfrm>
            <a:off x="6686640" y="1814400"/>
            <a:ext cx="2014560" cy="4386240"/>
          </a:xfrm>
          <a:custGeom>
            <a:avLst/>
            <a:gdLst/>
            <a:ahLst/>
            <a:rect l="l" t="t" r="r" b="b"/>
            <a:pathLst>
              <a:path w="5597" h="12185">
                <a:moveTo>
                  <a:pt x="18852" y="5040"/>
                </a:moveTo>
                <a:cubicBezTo>
                  <a:pt x="18868" y="5100"/>
                  <a:pt x="18868" y="5143"/>
                  <a:pt x="18891" y="5199"/>
                </a:cubicBezTo>
                <a:cubicBezTo>
                  <a:pt x="18918" y="5265"/>
                  <a:pt x="18902" y="5267"/>
                  <a:pt x="18931" y="5318"/>
                </a:cubicBezTo>
                <a:cubicBezTo>
                  <a:pt x="18965" y="5378"/>
                  <a:pt x="19029" y="5384"/>
                  <a:pt x="19050" y="5437"/>
                </a:cubicBezTo>
                <a:cubicBezTo>
                  <a:pt x="19071" y="5491"/>
                  <a:pt x="19077" y="5531"/>
                  <a:pt x="19090" y="5556"/>
                </a:cubicBezTo>
                <a:cubicBezTo>
                  <a:pt x="19119" y="5610"/>
                  <a:pt x="19101" y="5631"/>
                  <a:pt x="19129" y="5675"/>
                </a:cubicBezTo>
                <a:cubicBezTo>
                  <a:pt x="19156" y="5717"/>
                  <a:pt x="19156" y="5745"/>
                  <a:pt x="19209" y="5794"/>
                </a:cubicBezTo>
                <a:cubicBezTo>
                  <a:pt x="19253" y="5835"/>
                  <a:pt x="19307" y="5846"/>
                  <a:pt x="19328" y="5874"/>
                </a:cubicBezTo>
                <a:cubicBezTo>
                  <a:pt x="19356" y="5913"/>
                  <a:pt x="19393" y="5887"/>
                  <a:pt x="19407" y="5953"/>
                </a:cubicBezTo>
                <a:cubicBezTo>
                  <a:pt x="19425" y="6037"/>
                  <a:pt x="19381" y="6082"/>
                  <a:pt x="19368" y="6112"/>
                </a:cubicBezTo>
                <a:cubicBezTo>
                  <a:pt x="19342" y="6172"/>
                  <a:pt x="19331" y="6154"/>
                  <a:pt x="19288" y="6191"/>
                </a:cubicBezTo>
                <a:cubicBezTo>
                  <a:pt x="19249" y="6225"/>
                  <a:pt x="19225" y="6198"/>
                  <a:pt x="19169" y="6231"/>
                </a:cubicBezTo>
                <a:cubicBezTo>
                  <a:pt x="19144" y="6245"/>
                  <a:pt x="19073" y="6249"/>
                  <a:pt x="19050" y="6271"/>
                </a:cubicBezTo>
                <a:cubicBezTo>
                  <a:pt x="18999" y="6318"/>
                  <a:pt x="18992" y="6346"/>
                  <a:pt x="18971" y="6390"/>
                </a:cubicBezTo>
                <a:cubicBezTo>
                  <a:pt x="18945" y="6445"/>
                  <a:pt x="18940" y="6485"/>
                  <a:pt x="18931" y="6548"/>
                </a:cubicBezTo>
                <a:cubicBezTo>
                  <a:pt x="18910" y="6691"/>
                  <a:pt x="18927" y="6853"/>
                  <a:pt x="18891" y="6945"/>
                </a:cubicBezTo>
                <a:cubicBezTo>
                  <a:pt x="18874" y="6987"/>
                  <a:pt x="18842" y="7044"/>
                  <a:pt x="18812" y="7104"/>
                </a:cubicBezTo>
                <a:cubicBezTo>
                  <a:pt x="18784" y="7160"/>
                  <a:pt x="18753" y="7196"/>
                  <a:pt x="18732" y="7223"/>
                </a:cubicBezTo>
                <a:cubicBezTo>
                  <a:pt x="18696" y="7269"/>
                  <a:pt x="18647" y="7262"/>
                  <a:pt x="18613" y="7342"/>
                </a:cubicBezTo>
                <a:cubicBezTo>
                  <a:pt x="18592" y="7392"/>
                  <a:pt x="18601" y="7431"/>
                  <a:pt x="18574" y="7501"/>
                </a:cubicBezTo>
                <a:cubicBezTo>
                  <a:pt x="18574" y="7514"/>
                  <a:pt x="18574" y="7528"/>
                  <a:pt x="18574" y="7541"/>
                </a:cubicBezTo>
                <a:cubicBezTo>
                  <a:pt x="18626" y="7564"/>
                  <a:pt x="18666" y="7564"/>
                  <a:pt x="18693" y="7580"/>
                </a:cubicBezTo>
                <a:cubicBezTo>
                  <a:pt x="18752" y="7615"/>
                  <a:pt x="18801" y="7574"/>
                  <a:pt x="18852" y="7660"/>
                </a:cubicBezTo>
                <a:cubicBezTo>
                  <a:pt x="18892" y="7727"/>
                  <a:pt x="18898" y="7772"/>
                  <a:pt x="18891" y="7858"/>
                </a:cubicBezTo>
                <a:cubicBezTo>
                  <a:pt x="18885" y="7928"/>
                  <a:pt x="18817" y="7920"/>
                  <a:pt x="18812" y="7977"/>
                </a:cubicBezTo>
                <a:cubicBezTo>
                  <a:pt x="18792" y="8212"/>
                  <a:pt x="18825" y="8521"/>
                  <a:pt x="18852" y="8692"/>
                </a:cubicBezTo>
                <a:cubicBezTo>
                  <a:pt x="18866" y="8781"/>
                  <a:pt x="18862" y="8847"/>
                  <a:pt x="18891" y="8930"/>
                </a:cubicBezTo>
                <a:cubicBezTo>
                  <a:pt x="18899" y="8954"/>
                  <a:pt x="18959" y="8977"/>
                  <a:pt x="18971" y="9049"/>
                </a:cubicBezTo>
                <a:cubicBezTo>
                  <a:pt x="19000" y="9223"/>
                  <a:pt x="18971" y="9427"/>
                  <a:pt x="18971" y="9604"/>
                </a:cubicBezTo>
                <a:cubicBezTo>
                  <a:pt x="19141" y="9611"/>
                  <a:pt x="19300" y="9597"/>
                  <a:pt x="19447" y="9644"/>
                </a:cubicBezTo>
                <a:cubicBezTo>
                  <a:pt x="19543" y="9675"/>
                  <a:pt x="19683" y="9735"/>
                  <a:pt x="19725" y="9803"/>
                </a:cubicBezTo>
                <a:cubicBezTo>
                  <a:pt x="19752" y="9848"/>
                  <a:pt x="19727" y="9884"/>
                  <a:pt x="19764" y="9922"/>
                </a:cubicBezTo>
                <a:cubicBezTo>
                  <a:pt x="19772" y="9931"/>
                  <a:pt x="19843" y="9999"/>
                  <a:pt x="19844" y="10001"/>
                </a:cubicBezTo>
                <a:cubicBezTo>
                  <a:pt x="19844" y="10041"/>
                  <a:pt x="19844" y="10054"/>
                  <a:pt x="19883" y="10041"/>
                </a:cubicBezTo>
                <a:cubicBezTo>
                  <a:pt x="19912" y="10032"/>
                  <a:pt x="19962" y="9962"/>
                  <a:pt x="19963" y="9962"/>
                </a:cubicBezTo>
                <a:cubicBezTo>
                  <a:pt x="20156" y="9940"/>
                  <a:pt x="20333" y="9957"/>
                  <a:pt x="20479" y="10081"/>
                </a:cubicBezTo>
                <a:cubicBezTo>
                  <a:pt x="20544" y="10136"/>
                  <a:pt x="20538" y="10104"/>
                  <a:pt x="20558" y="10200"/>
                </a:cubicBezTo>
                <a:cubicBezTo>
                  <a:pt x="20575" y="10282"/>
                  <a:pt x="20535" y="10289"/>
                  <a:pt x="20518" y="10319"/>
                </a:cubicBezTo>
                <a:cubicBezTo>
                  <a:pt x="20487" y="10371"/>
                  <a:pt x="20482" y="10361"/>
                  <a:pt x="20439" y="10398"/>
                </a:cubicBezTo>
                <a:cubicBezTo>
                  <a:pt x="20390" y="10440"/>
                  <a:pt x="20362" y="10386"/>
                  <a:pt x="20320" y="10438"/>
                </a:cubicBezTo>
                <a:cubicBezTo>
                  <a:pt x="20289" y="10477"/>
                  <a:pt x="20260" y="10456"/>
                  <a:pt x="20241" y="10517"/>
                </a:cubicBezTo>
                <a:cubicBezTo>
                  <a:pt x="20171" y="10740"/>
                  <a:pt x="20277" y="11012"/>
                  <a:pt x="20320" y="11192"/>
                </a:cubicBezTo>
                <a:cubicBezTo>
                  <a:pt x="20335" y="11256"/>
                  <a:pt x="20356" y="11223"/>
                  <a:pt x="20360" y="11311"/>
                </a:cubicBezTo>
                <a:cubicBezTo>
                  <a:pt x="20363" y="11364"/>
                  <a:pt x="20326" y="11377"/>
                  <a:pt x="20320" y="11430"/>
                </a:cubicBezTo>
                <a:cubicBezTo>
                  <a:pt x="20313" y="11492"/>
                  <a:pt x="20308" y="11537"/>
                  <a:pt x="20280" y="11589"/>
                </a:cubicBezTo>
                <a:cubicBezTo>
                  <a:pt x="20259" y="11627"/>
                  <a:pt x="20220" y="11649"/>
                  <a:pt x="20201" y="11708"/>
                </a:cubicBezTo>
                <a:cubicBezTo>
                  <a:pt x="20179" y="11778"/>
                  <a:pt x="20149" y="11816"/>
                  <a:pt x="20161" y="11906"/>
                </a:cubicBezTo>
                <a:cubicBezTo>
                  <a:pt x="20165" y="11939"/>
                  <a:pt x="20200" y="11994"/>
                  <a:pt x="20241" y="12025"/>
                </a:cubicBezTo>
                <a:cubicBezTo>
                  <a:pt x="20282" y="12056"/>
                  <a:pt x="20293" y="12037"/>
                  <a:pt x="20360" y="12065"/>
                </a:cubicBezTo>
                <a:cubicBezTo>
                  <a:pt x="20412" y="12087"/>
                  <a:pt x="20592" y="12106"/>
                  <a:pt x="20638" y="12105"/>
                </a:cubicBezTo>
                <a:cubicBezTo>
                  <a:pt x="20735" y="12103"/>
                  <a:pt x="20791" y="12114"/>
                  <a:pt x="20836" y="12065"/>
                </a:cubicBezTo>
                <a:cubicBezTo>
                  <a:pt x="20880" y="12018"/>
                  <a:pt x="20845" y="12022"/>
                  <a:pt x="20876" y="11946"/>
                </a:cubicBezTo>
                <a:cubicBezTo>
                  <a:pt x="20902" y="11882"/>
                  <a:pt x="20905" y="11772"/>
                  <a:pt x="20915" y="11708"/>
                </a:cubicBezTo>
                <a:cubicBezTo>
                  <a:pt x="20915" y="11695"/>
                  <a:pt x="20915" y="11681"/>
                  <a:pt x="20915" y="11668"/>
                </a:cubicBezTo>
                <a:cubicBezTo>
                  <a:pt x="21014" y="11684"/>
                  <a:pt x="21106" y="11693"/>
                  <a:pt x="21193" y="11708"/>
                </a:cubicBezTo>
                <a:cubicBezTo>
                  <a:pt x="21193" y="11576"/>
                  <a:pt x="21193" y="11443"/>
                  <a:pt x="21193" y="11311"/>
                </a:cubicBezTo>
                <a:cubicBezTo>
                  <a:pt x="21370" y="11311"/>
                  <a:pt x="21600" y="11345"/>
                  <a:pt x="21749" y="11271"/>
                </a:cubicBezTo>
                <a:cubicBezTo>
                  <a:pt x="21779" y="11256"/>
                  <a:pt x="21783" y="11171"/>
                  <a:pt x="21828" y="11152"/>
                </a:cubicBezTo>
                <a:cubicBezTo>
                  <a:pt x="21868" y="11152"/>
                  <a:pt x="21881" y="11152"/>
                  <a:pt x="21908" y="11152"/>
                </a:cubicBezTo>
                <a:cubicBezTo>
                  <a:pt x="21921" y="11215"/>
                  <a:pt x="21933" y="11252"/>
                  <a:pt x="21947" y="11311"/>
                </a:cubicBezTo>
                <a:cubicBezTo>
                  <a:pt x="21970" y="11406"/>
                  <a:pt x="21916" y="11463"/>
                  <a:pt x="21987" y="11509"/>
                </a:cubicBezTo>
                <a:cubicBezTo>
                  <a:pt x="22027" y="11535"/>
                  <a:pt x="22021" y="11544"/>
                  <a:pt x="22106" y="11549"/>
                </a:cubicBezTo>
                <a:cubicBezTo>
                  <a:pt x="22166" y="11553"/>
                  <a:pt x="22218" y="11471"/>
                  <a:pt x="22225" y="11470"/>
                </a:cubicBezTo>
                <a:cubicBezTo>
                  <a:pt x="22238" y="11470"/>
                  <a:pt x="22252" y="11470"/>
                  <a:pt x="22265" y="11470"/>
                </a:cubicBezTo>
                <a:cubicBezTo>
                  <a:pt x="22295" y="11498"/>
                  <a:pt x="22315" y="11520"/>
                  <a:pt x="22344" y="11549"/>
                </a:cubicBezTo>
                <a:cubicBezTo>
                  <a:pt x="22360" y="11565"/>
                  <a:pt x="22408" y="11618"/>
                  <a:pt x="22423" y="11628"/>
                </a:cubicBezTo>
                <a:cubicBezTo>
                  <a:pt x="22486" y="11673"/>
                  <a:pt x="22557" y="11695"/>
                  <a:pt x="22622" y="11748"/>
                </a:cubicBezTo>
                <a:cubicBezTo>
                  <a:pt x="22635" y="11759"/>
                  <a:pt x="22690" y="11814"/>
                  <a:pt x="22701" y="11827"/>
                </a:cubicBezTo>
                <a:cubicBezTo>
                  <a:pt x="22732" y="11866"/>
                  <a:pt x="22762" y="11844"/>
                  <a:pt x="22781" y="11906"/>
                </a:cubicBezTo>
                <a:cubicBezTo>
                  <a:pt x="22816" y="12020"/>
                  <a:pt x="22779" y="12149"/>
                  <a:pt x="22820" y="12224"/>
                </a:cubicBezTo>
                <a:cubicBezTo>
                  <a:pt x="22847" y="12274"/>
                  <a:pt x="22870" y="12267"/>
                  <a:pt x="22900" y="12303"/>
                </a:cubicBezTo>
                <a:cubicBezTo>
                  <a:pt x="22939" y="12350"/>
                  <a:pt x="23040" y="12376"/>
                  <a:pt x="23058" y="12422"/>
                </a:cubicBezTo>
                <a:cubicBezTo>
                  <a:pt x="23098" y="12522"/>
                  <a:pt x="23038" y="12595"/>
                  <a:pt x="23098" y="12660"/>
                </a:cubicBezTo>
                <a:cubicBezTo>
                  <a:pt x="23133" y="12697"/>
                  <a:pt x="23135" y="12708"/>
                  <a:pt x="23178" y="12740"/>
                </a:cubicBezTo>
                <a:cubicBezTo>
                  <a:pt x="23217" y="12740"/>
                  <a:pt x="23231" y="12740"/>
                  <a:pt x="23257" y="12740"/>
                </a:cubicBezTo>
                <a:cubicBezTo>
                  <a:pt x="23294" y="12831"/>
                  <a:pt x="23243" y="12879"/>
                  <a:pt x="23297" y="12938"/>
                </a:cubicBezTo>
                <a:cubicBezTo>
                  <a:pt x="23332" y="12977"/>
                  <a:pt x="23312" y="13003"/>
                  <a:pt x="23376" y="13018"/>
                </a:cubicBezTo>
                <a:cubicBezTo>
                  <a:pt x="23467" y="13040"/>
                  <a:pt x="23432" y="12963"/>
                  <a:pt x="23495" y="12978"/>
                </a:cubicBezTo>
                <a:cubicBezTo>
                  <a:pt x="23563" y="12994"/>
                  <a:pt x="23565" y="13015"/>
                  <a:pt x="23614" y="13018"/>
                </a:cubicBezTo>
                <a:cubicBezTo>
                  <a:pt x="23667" y="13021"/>
                  <a:pt x="23721" y="13013"/>
                  <a:pt x="23773" y="13018"/>
                </a:cubicBezTo>
                <a:cubicBezTo>
                  <a:pt x="23791" y="13143"/>
                  <a:pt x="23760" y="13260"/>
                  <a:pt x="23812" y="13335"/>
                </a:cubicBezTo>
                <a:cubicBezTo>
                  <a:pt x="23849" y="13388"/>
                  <a:pt x="23939" y="13378"/>
                  <a:pt x="23971" y="13414"/>
                </a:cubicBezTo>
                <a:cubicBezTo>
                  <a:pt x="23971" y="13427"/>
                  <a:pt x="23971" y="13441"/>
                  <a:pt x="23971" y="13454"/>
                </a:cubicBezTo>
                <a:cubicBezTo>
                  <a:pt x="23932" y="13414"/>
                  <a:pt x="23919" y="13401"/>
                  <a:pt x="23892" y="13375"/>
                </a:cubicBezTo>
                <a:cubicBezTo>
                  <a:pt x="23883" y="13454"/>
                  <a:pt x="23846" y="13494"/>
                  <a:pt x="23852" y="13573"/>
                </a:cubicBezTo>
                <a:cubicBezTo>
                  <a:pt x="23855" y="13613"/>
                  <a:pt x="23892" y="13612"/>
                  <a:pt x="23892" y="13652"/>
                </a:cubicBezTo>
                <a:cubicBezTo>
                  <a:pt x="23839" y="13622"/>
                  <a:pt x="23814" y="13592"/>
                  <a:pt x="23773" y="13573"/>
                </a:cubicBezTo>
                <a:cubicBezTo>
                  <a:pt x="23652" y="13518"/>
                  <a:pt x="23765" y="13542"/>
                  <a:pt x="23693" y="13533"/>
                </a:cubicBezTo>
                <a:cubicBezTo>
                  <a:pt x="23615" y="13523"/>
                  <a:pt x="23533" y="13537"/>
                  <a:pt x="23455" y="13533"/>
                </a:cubicBezTo>
                <a:cubicBezTo>
                  <a:pt x="23477" y="13468"/>
                  <a:pt x="23475" y="13448"/>
                  <a:pt x="23495" y="13414"/>
                </a:cubicBezTo>
              </a:path>
              <a:path w="5597" h="12185">
                <a:moveTo>
                  <a:pt x="23892" y="13414"/>
                </a:moveTo>
                <a:cubicBezTo>
                  <a:pt x="23892" y="13467"/>
                  <a:pt x="23892" y="13520"/>
                  <a:pt x="23892" y="13573"/>
                </a:cubicBezTo>
                <a:cubicBezTo>
                  <a:pt x="23893" y="13576"/>
                  <a:pt x="23919" y="13625"/>
                  <a:pt x="23932" y="13652"/>
                </a:cubicBezTo>
                <a:cubicBezTo>
                  <a:pt x="23981" y="13677"/>
                  <a:pt x="23961" y="13667"/>
                  <a:pt x="24011" y="13692"/>
                </a:cubicBezTo>
                <a:cubicBezTo>
                  <a:pt x="24024" y="13710"/>
                  <a:pt x="24168" y="13846"/>
                  <a:pt x="24170" y="13851"/>
                </a:cubicBezTo>
                <a:cubicBezTo>
                  <a:pt x="24218" y="13962"/>
                  <a:pt x="24170" y="14204"/>
                  <a:pt x="24170" y="14327"/>
                </a:cubicBezTo>
                <a:cubicBezTo>
                  <a:pt x="24077" y="14327"/>
                  <a:pt x="23985" y="14327"/>
                  <a:pt x="23892" y="14327"/>
                </a:cubicBezTo>
                <a:cubicBezTo>
                  <a:pt x="23867" y="14378"/>
                  <a:pt x="23877" y="14356"/>
                  <a:pt x="23852" y="14407"/>
                </a:cubicBezTo>
                <a:cubicBezTo>
                  <a:pt x="23845" y="14428"/>
                  <a:pt x="23815" y="14455"/>
                  <a:pt x="23812" y="14526"/>
                </a:cubicBezTo>
                <a:cubicBezTo>
                  <a:pt x="23810" y="14565"/>
                  <a:pt x="23812" y="14605"/>
                  <a:pt x="23812" y="14645"/>
                </a:cubicBezTo>
                <a:cubicBezTo>
                  <a:pt x="23840" y="14678"/>
                  <a:pt x="23864" y="14702"/>
                  <a:pt x="23892" y="14764"/>
                </a:cubicBezTo>
                <a:cubicBezTo>
                  <a:pt x="23957" y="14785"/>
                  <a:pt x="23925" y="14766"/>
                  <a:pt x="24011" y="14803"/>
                </a:cubicBezTo>
                <a:cubicBezTo>
                  <a:pt x="24032" y="14852"/>
                  <a:pt x="24025" y="14861"/>
                  <a:pt x="24051" y="14922"/>
                </a:cubicBezTo>
                <a:cubicBezTo>
                  <a:pt x="24061" y="14944"/>
                  <a:pt x="24075" y="14983"/>
                  <a:pt x="24090" y="15042"/>
                </a:cubicBezTo>
                <a:cubicBezTo>
                  <a:pt x="24105" y="15101"/>
                  <a:pt x="24127" y="15125"/>
                  <a:pt x="24130" y="15200"/>
                </a:cubicBezTo>
                <a:cubicBezTo>
                  <a:pt x="24132" y="15266"/>
                  <a:pt x="24130" y="15333"/>
                  <a:pt x="24130" y="15399"/>
                </a:cubicBezTo>
                <a:cubicBezTo>
                  <a:pt x="24137" y="15420"/>
                  <a:pt x="24167" y="15447"/>
                  <a:pt x="24170" y="15518"/>
                </a:cubicBezTo>
                <a:cubicBezTo>
                  <a:pt x="24178" y="15710"/>
                  <a:pt x="24153" y="15905"/>
                  <a:pt x="24130" y="16073"/>
                </a:cubicBezTo>
                <a:cubicBezTo>
                  <a:pt x="24130" y="16113"/>
                  <a:pt x="24130" y="16126"/>
                  <a:pt x="24130" y="16153"/>
                </a:cubicBezTo>
                <a:cubicBezTo>
                  <a:pt x="24079" y="16178"/>
                  <a:pt x="24101" y="16167"/>
                  <a:pt x="24051" y="16192"/>
                </a:cubicBezTo>
                <a:cubicBezTo>
                  <a:pt x="24026" y="16243"/>
                  <a:pt x="24036" y="16221"/>
                  <a:pt x="24011" y="16272"/>
                </a:cubicBezTo>
                <a:cubicBezTo>
                  <a:pt x="23954" y="16288"/>
                  <a:pt x="23907" y="16301"/>
                  <a:pt x="23852" y="16312"/>
                </a:cubicBezTo>
                <a:cubicBezTo>
                  <a:pt x="23839" y="16312"/>
                  <a:pt x="23825" y="16312"/>
                  <a:pt x="23812" y="16312"/>
                </a:cubicBezTo>
                <a:cubicBezTo>
                  <a:pt x="23798" y="16355"/>
                  <a:pt x="23787" y="16388"/>
                  <a:pt x="23773" y="16431"/>
                </a:cubicBezTo>
                <a:cubicBezTo>
                  <a:pt x="23772" y="16434"/>
                  <a:pt x="23746" y="16484"/>
                  <a:pt x="23733" y="16510"/>
                </a:cubicBezTo>
                <a:cubicBezTo>
                  <a:pt x="23602" y="16510"/>
                  <a:pt x="23486" y="16490"/>
                  <a:pt x="23376" y="16470"/>
                </a:cubicBezTo>
                <a:cubicBezTo>
                  <a:pt x="23363" y="16470"/>
                  <a:pt x="23349" y="16470"/>
                  <a:pt x="23336" y="16470"/>
                </a:cubicBezTo>
                <a:cubicBezTo>
                  <a:pt x="23323" y="16457"/>
                  <a:pt x="23270" y="16404"/>
                  <a:pt x="23257" y="16391"/>
                </a:cubicBezTo>
                <a:cubicBezTo>
                  <a:pt x="23232" y="16341"/>
                  <a:pt x="23242" y="16361"/>
                  <a:pt x="23217" y="16312"/>
                </a:cubicBezTo>
                <a:cubicBezTo>
                  <a:pt x="23191" y="16325"/>
                  <a:pt x="23140" y="16350"/>
                  <a:pt x="23138" y="16351"/>
                </a:cubicBezTo>
                <a:cubicBezTo>
                  <a:pt x="23087" y="16376"/>
                  <a:pt x="23109" y="16366"/>
                  <a:pt x="23058" y="16391"/>
                </a:cubicBezTo>
                <a:cubicBezTo>
                  <a:pt x="23058" y="16431"/>
                  <a:pt x="23058" y="16470"/>
                  <a:pt x="23058" y="16510"/>
                </a:cubicBezTo>
                <a:cubicBezTo>
                  <a:pt x="22997" y="16498"/>
                  <a:pt x="22918" y="16466"/>
                  <a:pt x="22860" y="16470"/>
                </a:cubicBezTo>
                <a:cubicBezTo>
                  <a:pt x="22767" y="16477"/>
                  <a:pt x="22785" y="16528"/>
                  <a:pt x="22741" y="16550"/>
                </a:cubicBezTo>
                <a:cubicBezTo>
                  <a:pt x="22700" y="16574"/>
                  <a:pt x="22571" y="16604"/>
                  <a:pt x="22542" y="16629"/>
                </a:cubicBezTo>
                <a:cubicBezTo>
                  <a:pt x="22507" y="16665"/>
                  <a:pt x="22494" y="16673"/>
                  <a:pt x="22503" y="16708"/>
                </a:cubicBezTo>
                <a:cubicBezTo>
                  <a:pt x="22452" y="16733"/>
                  <a:pt x="22474" y="16723"/>
                  <a:pt x="22423" y="16748"/>
                </a:cubicBezTo>
                <a:cubicBezTo>
                  <a:pt x="22409" y="16791"/>
                  <a:pt x="22398" y="16824"/>
                  <a:pt x="22384" y="16867"/>
                </a:cubicBezTo>
                <a:cubicBezTo>
                  <a:pt x="22304" y="16911"/>
                  <a:pt x="22341" y="16875"/>
                  <a:pt x="22265" y="16947"/>
                </a:cubicBezTo>
                <a:cubicBezTo>
                  <a:pt x="22248" y="16963"/>
                  <a:pt x="22200" y="17011"/>
                  <a:pt x="22185" y="17026"/>
                </a:cubicBezTo>
                <a:cubicBezTo>
                  <a:pt x="22158" y="17039"/>
                  <a:pt x="22109" y="17065"/>
                  <a:pt x="22106" y="17066"/>
                </a:cubicBezTo>
                <a:cubicBezTo>
                  <a:pt x="22057" y="17090"/>
                  <a:pt x="22054" y="17112"/>
                  <a:pt x="21987" y="17145"/>
                </a:cubicBezTo>
                <a:cubicBezTo>
                  <a:pt x="21974" y="17145"/>
                  <a:pt x="21960" y="17145"/>
                  <a:pt x="21947" y="17145"/>
                </a:cubicBezTo>
                <a:cubicBezTo>
                  <a:pt x="21916" y="17166"/>
                  <a:pt x="21902" y="17212"/>
                  <a:pt x="21828" y="17224"/>
                </a:cubicBezTo>
                <a:cubicBezTo>
                  <a:pt x="21620" y="17258"/>
                  <a:pt x="21377" y="17210"/>
                  <a:pt x="21193" y="17185"/>
                </a:cubicBezTo>
                <a:cubicBezTo>
                  <a:pt x="21153" y="17185"/>
                  <a:pt x="21140" y="17185"/>
                  <a:pt x="21114" y="17185"/>
                </a:cubicBezTo>
                <a:cubicBezTo>
                  <a:pt x="21089" y="17160"/>
                  <a:pt x="21076" y="17147"/>
                  <a:pt x="21034" y="17105"/>
                </a:cubicBezTo>
                <a:cubicBezTo>
                  <a:pt x="21034" y="17054"/>
                  <a:pt x="21034" y="17117"/>
                  <a:pt x="21034" y="17066"/>
                </a:cubicBezTo>
                <a:cubicBezTo>
                  <a:pt x="20989" y="17066"/>
                  <a:pt x="21202" y="17204"/>
                  <a:pt x="20995" y="17066"/>
                </a:cubicBezTo>
                <a:cubicBezTo>
                  <a:pt x="20962" y="17011"/>
                  <a:pt x="21010" y="17059"/>
                  <a:pt x="20955" y="17026"/>
                </a:cubicBezTo>
                <a:cubicBezTo>
                  <a:pt x="20915" y="16986"/>
                  <a:pt x="20902" y="16973"/>
                  <a:pt x="20876" y="16947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Содержимое 3" descr="Россия - копия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429000" y="262080"/>
            <a:ext cx="5429160" cy="6454800"/>
          </a:xfrm>
          <a:prstGeom prst="rect">
            <a:avLst/>
          </a:prstGeom>
          <a:ln w="0">
            <a:noFill/>
          </a:ln>
        </p:spPr>
      </p:pic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42840" y="212760"/>
            <a:ext cx="5681520" cy="148752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4" descr=""/>
          <p:cNvPicPr/>
          <p:nvPr/>
        </p:nvPicPr>
        <p:blipFill>
          <a:blip r:embed="rId3"/>
          <a:stretch/>
        </p:blipFill>
        <p:spPr>
          <a:xfrm>
            <a:off x="5425920" y="5284800"/>
            <a:ext cx="908280" cy="377640"/>
          </a:xfrm>
          <a:prstGeom prst="rect">
            <a:avLst/>
          </a:prstGeom>
          <a:ln w="0">
            <a:noFill/>
          </a:ln>
        </p:spPr>
      </p:pic>
      <p:sp>
        <p:nvSpPr>
          <p:cNvPr id="435" name="Ink 4"/>
          <p:cNvSpPr/>
          <p:nvPr/>
        </p:nvSpPr>
        <p:spPr>
          <a:xfrm>
            <a:off x="3828960" y="3800520"/>
            <a:ext cx="3286080" cy="2900160"/>
          </a:xfrm>
          <a:custGeom>
            <a:avLst/>
            <a:gdLst/>
            <a:ahLst/>
            <a:rect l="l" t="t" r="r" b="b"/>
            <a:pathLst>
              <a:path w="9129" h="8057">
                <a:moveTo>
                  <a:pt x="19685" y="18613"/>
                </a:moveTo>
                <a:cubicBezTo>
                  <a:pt x="19669" y="18553"/>
                  <a:pt x="19665" y="18511"/>
                  <a:pt x="19645" y="18455"/>
                </a:cubicBezTo>
                <a:cubicBezTo>
                  <a:pt x="19626" y="18402"/>
                  <a:pt x="19636" y="18344"/>
                  <a:pt x="19606" y="18296"/>
                </a:cubicBezTo>
                <a:cubicBezTo>
                  <a:pt x="19564" y="18229"/>
                  <a:pt x="19486" y="18155"/>
                  <a:pt x="19447" y="18098"/>
                </a:cubicBezTo>
                <a:cubicBezTo>
                  <a:pt x="19403" y="18087"/>
                  <a:pt x="19401" y="18083"/>
                  <a:pt x="19368" y="18058"/>
                </a:cubicBezTo>
                <a:cubicBezTo>
                  <a:pt x="19359" y="18014"/>
                  <a:pt x="19345" y="17978"/>
                  <a:pt x="19328" y="17939"/>
                </a:cubicBezTo>
                <a:cubicBezTo>
                  <a:pt x="19284" y="17928"/>
                  <a:pt x="19281" y="17924"/>
                  <a:pt x="19248" y="17899"/>
                </a:cubicBezTo>
                <a:cubicBezTo>
                  <a:pt x="19235" y="17827"/>
                  <a:pt x="19218" y="17765"/>
                  <a:pt x="19209" y="17701"/>
                </a:cubicBezTo>
                <a:cubicBezTo>
                  <a:pt x="19209" y="17688"/>
                  <a:pt x="19209" y="17674"/>
                  <a:pt x="19209" y="17661"/>
                </a:cubicBezTo>
                <a:cubicBezTo>
                  <a:pt x="19252" y="17650"/>
                  <a:pt x="19255" y="17646"/>
                  <a:pt x="19288" y="17621"/>
                </a:cubicBezTo>
                <a:cubicBezTo>
                  <a:pt x="19307" y="17545"/>
                  <a:pt x="19297" y="17583"/>
                  <a:pt x="19328" y="17542"/>
                </a:cubicBezTo>
                <a:cubicBezTo>
                  <a:pt x="19347" y="17465"/>
                  <a:pt x="19337" y="17504"/>
                  <a:pt x="19368" y="17462"/>
                </a:cubicBezTo>
                <a:cubicBezTo>
                  <a:pt x="19368" y="17422"/>
                  <a:pt x="19368" y="17383"/>
                  <a:pt x="19368" y="17343"/>
                </a:cubicBezTo>
                <a:cubicBezTo>
                  <a:pt x="19434" y="17328"/>
                  <a:pt x="19422" y="17322"/>
                  <a:pt x="19526" y="17304"/>
                </a:cubicBezTo>
                <a:cubicBezTo>
                  <a:pt x="19539" y="17304"/>
                  <a:pt x="19553" y="17304"/>
                  <a:pt x="19566" y="17304"/>
                </a:cubicBezTo>
                <a:cubicBezTo>
                  <a:pt x="19590" y="17326"/>
                  <a:pt x="19632" y="17389"/>
                  <a:pt x="19685" y="17423"/>
                </a:cubicBezTo>
                <a:cubicBezTo>
                  <a:pt x="19698" y="17423"/>
                  <a:pt x="19712" y="17423"/>
                  <a:pt x="19725" y="17423"/>
                </a:cubicBezTo>
                <a:cubicBezTo>
                  <a:pt x="19734" y="17359"/>
                  <a:pt x="19762" y="17335"/>
                  <a:pt x="19764" y="17264"/>
                </a:cubicBezTo>
                <a:cubicBezTo>
                  <a:pt x="19766" y="17185"/>
                  <a:pt x="19760" y="17105"/>
                  <a:pt x="19764" y="17026"/>
                </a:cubicBezTo>
                <a:cubicBezTo>
                  <a:pt x="19758" y="17013"/>
                  <a:pt x="19699" y="16950"/>
                  <a:pt x="19685" y="16907"/>
                </a:cubicBezTo>
                <a:cubicBezTo>
                  <a:pt x="19685" y="16894"/>
                  <a:pt x="19685" y="16880"/>
                  <a:pt x="19685" y="16867"/>
                </a:cubicBezTo>
                <a:cubicBezTo>
                  <a:pt x="19683" y="16859"/>
                  <a:pt x="19650" y="16806"/>
                  <a:pt x="19645" y="16748"/>
                </a:cubicBezTo>
                <a:cubicBezTo>
                  <a:pt x="19645" y="16735"/>
                  <a:pt x="19645" y="16721"/>
                  <a:pt x="19645" y="16708"/>
                </a:cubicBezTo>
                <a:cubicBezTo>
                  <a:pt x="19636" y="16656"/>
                  <a:pt x="19608" y="16642"/>
                  <a:pt x="19606" y="16589"/>
                </a:cubicBezTo>
                <a:cubicBezTo>
                  <a:pt x="19599" y="16347"/>
                  <a:pt x="19592" y="16094"/>
                  <a:pt x="19566" y="15875"/>
                </a:cubicBezTo>
                <a:cubicBezTo>
                  <a:pt x="19566" y="15862"/>
                  <a:pt x="19566" y="15848"/>
                  <a:pt x="19566" y="15835"/>
                </a:cubicBezTo>
                <a:cubicBezTo>
                  <a:pt x="19515" y="15805"/>
                  <a:pt x="19523" y="15807"/>
                  <a:pt x="19447" y="15796"/>
                </a:cubicBezTo>
                <a:cubicBezTo>
                  <a:pt x="19436" y="15839"/>
                  <a:pt x="19432" y="15842"/>
                  <a:pt x="19407" y="15875"/>
                </a:cubicBezTo>
                <a:cubicBezTo>
                  <a:pt x="19364" y="15884"/>
                  <a:pt x="19327" y="15898"/>
                  <a:pt x="19288" y="15915"/>
                </a:cubicBezTo>
                <a:cubicBezTo>
                  <a:pt x="19277" y="15958"/>
                  <a:pt x="19273" y="15961"/>
                  <a:pt x="19248" y="15994"/>
                </a:cubicBezTo>
                <a:cubicBezTo>
                  <a:pt x="19205" y="16005"/>
                  <a:pt x="19202" y="16009"/>
                  <a:pt x="19169" y="16034"/>
                </a:cubicBezTo>
                <a:cubicBezTo>
                  <a:pt x="19150" y="16110"/>
                  <a:pt x="19160" y="16072"/>
                  <a:pt x="19129" y="16113"/>
                </a:cubicBezTo>
                <a:cubicBezTo>
                  <a:pt x="19129" y="16179"/>
                  <a:pt x="19129" y="16246"/>
                  <a:pt x="19129" y="16312"/>
                </a:cubicBezTo>
                <a:cubicBezTo>
                  <a:pt x="19055" y="16330"/>
                  <a:pt x="19090" y="16322"/>
                  <a:pt x="19050" y="16351"/>
                </a:cubicBezTo>
                <a:cubicBezTo>
                  <a:pt x="18923" y="16358"/>
                  <a:pt x="18800" y="16374"/>
                  <a:pt x="18693" y="16391"/>
                </a:cubicBezTo>
                <a:cubicBezTo>
                  <a:pt x="18669" y="16344"/>
                  <a:pt x="18625" y="16255"/>
                  <a:pt x="18613" y="16232"/>
                </a:cubicBezTo>
                <a:cubicBezTo>
                  <a:pt x="18551" y="16210"/>
                  <a:pt x="18512" y="16226"/>
                  <a:pt x="18455" y="16192"/>
                </a:cubicBezTo>
                <a:cubicBezTo>
                  <a:pt x="18416" y="16169"/>
                  <a:pt x="18416" y="16133"/>
                  <a:pt x="18375" y="16113"/>
                </a:cubicBezTo>
                <a:cubicBezTo>
                  <a:pt x="18338" y="16082"/>
                  <a:pt x="18253" y="16044"/>
                  <a:pt x="18217" y="15994"/>
                </a:cubicBezTo>
                <a:cubicBezTo>
                  <a:pt x="18217" y="15981"/>
                  <a:pt x="18217" y="15967"/>
                  <a:pt x="18217" y="15954"/>
                </a:cubicBezTo>
                <a:cubicBezTo>
                  <a:pt x="18093" y="15918"/>
                  <a:pt x="18040" y="15895"/>
                  <a:pt x="17939" y="15835"/>
                </a:cubicBezTo>
                <a:cubicBezTo>
                  <a:pt x="17939" y="15875"/>
                  <a:pt x="17939" y="15914"/>
                  <a:pt x="17939" y="15954"/>
                </a:cubicBezTo>
                <a:cubicBezTo>
                  <a:pt x="17843" y="15959"/>
                  <a:pt x="17736" y="15987"/>
                  <a:pt x="17661" y="15994"/>
                </a:cubicBezTo>
                <a:cubicBezTo>
                  <a:pt x="17622" y="15998"/>
                  <a:pt x="17581" y="15988"/>
                  <a:pt x="17542" y="15994"/>
                </a:cubicBezTo>
                <a:cubicBezTo>
                  <a:pt x="17542" y="15941"/>
                  <a:pt x="17542" y="15888"/>
                  <a:pt x="17542" y="15835"/>
                </a:cubicBezTo>
                <a:cubicBezTo>
                  <a:pt x="17486" y="15798"/>
                  <a:pt x="17516" y="15837"/>
                  <a:pt x="17502" y="15756"/>
                </a:cubicBezTo>
                <a:cubicBezTo>
                  <a:pt x="17467" y="15725"/>
                  <a:pt x="17437" y="15722"/>
                  <a:pt x="17383" y="15677"/>
                </a:cubicBezTo>
                <a:cubicBezTo>
                  <a:pt x="17376" y="15671"/>
                  <a:pt x="17316" y="15608"/>
                  <a:pt x="17304" y="15597"/>
                </a:cubicBezTo>
                <a:cubicBezTo>
                  <a:pt x="17268" y="15525"/>
                  <a:pt x="17267" y="15550"/>
                  <a:pt x="17224" y="15478"/>
                </a:cubicBezTo>
                <a:cubicBezTo>
                  <a:pt x="17224" y="15465"/>
                  <a:pt x="17224" y="15451"/>
                  <a:pt x="17224" y="15438"/>
                </a:cubicBezTo>
                <a:cubicBezTo>
                  <a:pt x="17170" y="15402"/>
                  <a:pt x="17198" y="15438"/>
                  <a:pt x="17185" y="15359"/>
                </a:cubicBezTo>
                <a:cubicBezTo>
                  <a:pt x="17125" y="15329"/>
                  <a:pt x="17139" y="15331"/>
                  <a:pt x="17105" y="15280"/>
                </a:cubicBezTo>
                <a:cubicBezTo>
                  <a:pt x="17071" y="15254"/>
                  <a:pt x="17043" y="15230"/>
                  <a:pt x="16986" y="15200"/>
                </a:cubicBezTo>
                <a:cubicBezTo>
                  <a:pt x="16971" y="15192"/>
                  <a:pt x="16866" y="15142"/>
                  <a:pt x="16828" y="15121"/>
                </a:cubicBezTo>
                <a:cubicBezTo>
                  <a:pt x="16791" y="15066"/>
                  <a:pt x="16828" y="15094"/>
                  <a:pt x="16748" y="15081"/>
                </a:cubicBezTo>
                <a:cubicBezTo>
                  <a:pt x="16725" y="15062"/>
                  <a:pt x="16665" y="15044"/>
                  <a:pt x="16629" y="15002"/>
                </a:cubicBezTo>
                <a:cubicBezTo>
                  <a:pt x="16593" y="14966"/>
                  <a:pt x="16580" y="14958"/>
                  <a:pt x="16589" y="14922"/>
                </a:cubicBezTo>
                <a:cubicBezTo>
                  <a:pt x="16556" y="14896"/>
                  <a:pt x="16519" y="14871"/>
                  <a:pt x="16470" y="14843"/>
                </a:cubicBezTo>
                <a:cubicBezTo>
                  <a:pt x="16439" y="14781"/>
                  <a:pt x="16444" y="14799"/>
                  <a:pt x="16391" y="14764"/>
                </a:cubicBezTo>
                <a:cubicBezTo>
                  <a:pt x="16361" y="14704"/>
                  <a:pt x="16363" y="14718"/>
                  <a:pt x="16312" y="14684"/>
                </a:cubicBezTo>
                <a:cubicBezTo>
                  <a:pt x="16288" y="14664"/>
                  <a:pt x="16284" y="14584"/>
                  <a:pt x="16232" y="14565"/>
                </a:cubicBezTo>
                <a:cubicBezTo>
                  <a:pt x="16199" y="14553"/>
                  <a:pt x="16143" y="14581"/>
                  <a:pt x="16113" y="14565"/>
                </a:cubicBezTo>
                <a:cubicBezTo>
                  <a:pt x="16061" y="14574"/>
                  <a:pt x="16047" y="14603"/>
                  <a:pt x="15994" y="14605"/>
                </a:cubicBezTo>
                <a:cubicBezTo>
                  <a:pt x="15902" y="14608"/>
                  <a:pt x="15809" y="14605"/>
                  <a:pt x="15716" y="14605"/>
                </a:cubicBezTo>
                <a:cubicBezTo>
                  <a:pt x="15676" y="14629"/>
                  <a:pt x="15679" y="14633"/>
                  <a:pt x="15597" y="14645"/>
                </a:cubicBezTo>
                <a:cubicBezTo>
                  <a:pt x="15588" y="14688"/>
                  <a:pt x="15575" y="14725"/>
                  <a:pt x="15558" y="14764"/>
                </a:cubicBezTo>
                <a:cubicBezTo>
                  <a:pt x="15514" y="14753"/>
                  <a:pt x="15511" y="14749"/>
                  <a:pt x="15478" y="14724"/>
                </a:cubicBezTo>
                <a:cubicBezTo>
                  <a:pt x="15447" y="14673"/>
                  <a:pt x="15449" y="14682"/>
                  <a:pt x="15438" y="14605"/>
                </a:cubicBezTo>
                <a:cubicBezTo>
                  <a:pt x="15436" y="14598"/>
                  <a:pt x="15404" y="14543"/>
                  <a:pt x="15399" y="14486"/>
                </a:cubicBezTo>
                <a:cubicBezTo>
                  <a:pt x="15399" y="14473"/>
                  <a:pt x="15399" y="14459"/>
                  <a:pt x="15399" y="14446"/>
                </a:cubicBezTo>
                <a:cubicBezTo>
                  <a:pt x="15366" y="14420"/>
                  <a:pt x="15329" y="14395"/>
                  <a:pt x="15280" y="14367"/>
                </a:cubicBezTo>
                <a:cubicBezTo>
                  <a:pt x="15267" y="14302"/>
                  <a:pt x="15243" y="14337"/>
                  <a:pt x="15240" y="14248"/>
                </a:cubicBezTo>
                <a:cubicBezTo>
                  <a:pt x="15238" y="14195"/>
                  <a:pt x="15243" y="14142"/>
                  <a:pt x="15240" y="14089"/>
                </a:cubicBezTo>
                <a:cubicBezTo>
                  <a:pt x="15189" y="14058"/>
                  <a:pt x="15198" y="14060"/>
                  <a:pt x="15121" y="14049"/>
                </a:cubicBezTo>
                <a:cubicBezTo>
                  <a:pt x="15091" y="13990"/>
                  <a:pt x="15092" y="14004"/>
                  <a:pt x="15042" y="13970"/>
                </a:cubicBezTo>
                <a:cubicBezTo>
                  <a:pt x="15016" y="13937"/>
                  <a:pt x="14990" y="13900"/>
                  <a:pt x="14962" y="13851"/>
                </a:cubicBezTo>
                <a:cubicBezTo>
                  <a:pt x="14907" y="13815"/>
                  <a:pt x="14935" y="13851"/>
                  <a:pt x="14922" y="13772"/>
                </a:cubicBezTo>
                <a:cubicBezTo>
                  <a:pt x="14885" y="13759"/>
                  <a:pt x="14789" y="13696"/>
                  <a:pt x="14764" y="13692"/>
                </a:cubicBezTo>
                <a:cubicBezTo>
                  <a:pt x="14700" y="13681"/>
                  <a:pt x="14630" y="13699"/>
                  <a:pt x="14565" y="13692"/>
                </a:cubicBezTo>
                <a:cubicBezTo>
                  <a:pt x="14530" y="13632"/>
                  <a:pt x="14546" y="13599"/>
                  <a:pt x="14486" y="13533"/>
                </a:cubicBezTo>
                <a:cubicBezTo>
                  <a:pt x="14473" y="13533"/>
                  <a:pt x="14459" y="13533"/>
                  <a:pt x="14446" y="13533"/>
                </a:cubicBezTo>
                <a:cubicBezTo>
                  <a:pt x="14437" y="13490"/>
                  <a:pt x="14424" y="13453"/>
                  <a:pt x="14407" y="13414"/>
                </a:cubicBezTo>
                <a:cubicBezTo>
                  <a:pt x="14363" y="13403"/>
                  <a:pt x="14361" y="13400"/>
                  <a:pt x="14327" y="13375"/>
                </a:cubicBezTo>
                <a:cubicBezTo>
                  <a:pt x="14309" y="13300"/>
                  <a:pt x="14317" y="13335"/>
                  <a:pt x="14288" y="13295"/>
                </a:cubicBezTo>
                <a:cubicBezTo>
                  <a:pt x="14266" y="13248"/>
                  <a:pt x="14225" y="13185"/>
                  <a:pt x="14208" y="13137"/>
                </a:cubicBezTo>
                <a:cubicBezTo>
                  <a:pt x="14208" y="13124"/>
                  <a:pt x="14208" y="13110"/>
                  <a:pt x="14208" y="13097"/>
                </a:cubicBezTo>
                <a:cubicBezTo>
                  <a:pt x="14153" y="13061"/>
                  <a:pt x="14181" y="13097"/>
                  <a:pt x="14168" y="13018"/>
                </a:cubicBezTo>
                <a:cubicBezTo>
                  <a:pt x="14125" y="13007"/>
                  <a:pt x="14122" y="13003"/>
                  <a:pt x="14089" y="12978"/>
                </a:cubicBezTo>
                <a:cubicBezTo>
                  <a:pt x="14059" y="12908"/>
                  <a:pt x="14035" y="12853"/>
                  <a:pt x="14010" y="12779"/>
                </a:cubicBezTo>
                <a:cubicBezTo>
                  <a:pt x="14010" y="12766"/>
                  <a:pt x="14010" y="12753"/>
                  <a:pt x="14010" y="12740"/>
                </a:cubicBezTo>
                <a:cubicBezTo>
                  <a:pt x="13987" y="12701"/>
                  <a:pt x="13982" y="12702"/>
                  <a:pt x="13970" y="12621"/>
                </a:cubicBezTo>
                <a:cubicBezTo>
                  <a:pt x="13915" y="12584"/>
                  <a:pt x="13943" y="12621"/>
                  <a:pt x="13930" y="12541"/>
                </a:cubicBezTo>
                <a:cubicBezTo>
                  <a:pt x="13904" y="12515"/>
                  <a:pt x="13877" y="12488"/>
                  <a:pt x="13851" y="12462"/>
                </a:cubicBezTo>
              </a:path>
              <a:path w="9129" h="8057">
                <a:moveTo>
                  <a:pt x="13851" y="12422"/>
                </a:moveTo>
                <a:cubicBezTo>
                  <a:pt x="13792" y="12392"/>
                  <a:pt x="13795" y="12362"/>
                  <a:pt x="13732" y="12343"/>
                </a:cubicBezTo>
                <a:cubicBezTo>
                  <a:pt x="13662" y="12322"/>
                  <a:pt x="13639" y="12336"/>
                  <a:pt x="13573" y="12303"/>
                </a:cubicBezTo>
                <a:cubicBezTo>
                  <a:pt x="13513" y="12273"/>
                  <a:pt x="13475" y="12225"/>
                  <a:pt x="13414" y="12184"/>
                </a:cubicBezTo>
                <a:cubicBezTo>
                  <a:pt x="13369" y="12154"/>
                  <a:pt x="13246" y="12097"/>
                  <a:pt x="13216" y="12065"/>
                </a:cubicBezTo>
                <a:cubicBezTo>
                  <a:pt x="13184" y="12030"/>
                  <a:pt x="13175" y="12017"/>
                  <a:pt x="13137" y="11986"/>
                </a:cubicBezTo>
                <a:cubicBezTo>
                  <a:pt x="13124" y="11975"/>
                  <a:pt x="13075" y="11879"/>
                  <a:pt x="13057" y="11867"/>
                </a:cubicBezTo>
                <a:cubicBezTo>
                  <a:pt x="13044" y="11867"/>
                  <a:pt x="13031" y="11867"/>
                  <a:pt x="13018" y="11867"/>
                </a:cubicBezTo>
                <a:cubicBezTo>
                  <a:pt x="12972" y="11895"/>
                  <a:pt x="12957" y="11898"/>
                  <a:pt x="12898" y="11946"/>
                </a:cubicBezTo>
                <a:cubicBezTo>
                  <a:pt x="12843" y="11991"/>
                  <a:pt x="12804" y="12030"/>
                  <a:pt x="12779" y="12065"/>
                </a:cubicBezTo>
                <a:cubicBezTo>
                  <a:pt x="12748" y="12108"/>
                  <a:pt x="12717" y="12094"/>
                  <a:pt x="12700" y="12144"/>
                </a:cubicBezTo>
                <a:cubicBezTo>
                  <a:pt x="12669" y="12232"/>
                  <a:pt x="12737" y="12358"/>
                  <a:pt x="12740" y="12382"/>
                </a:cubicBezTo>
                <a:cubicBezTo>
                  <a:pt x="12756" y="12513"/>
                  <a:pt x="12713" y="12634"/>
                  <a:pt x="12700" y="12740"/>
                </a:cubicBezTo>
                <a:cubicBezTo>
                  <a:pt x="12689" y="12826"/>
                  <a:pt x="12694" y="12816"/>
                  <a:pt x="12660" y="12859"/>
                </a:cubicBezTo>
                <a:cubicBezTo>
                  <a:pt x="12630" y="12898"/>
                  <a:pt x="12641" y="12895"/>
                  <a:pt x="12581" y="12938"/>
                </a:cubicBezTo>
                <a:cubicBezTo>
                  <a:pt x="12547" y="12870"/>
                  <a:pt x="12539" y="12886"/>
                  <a:pt x="12502" y="12819"/>
                </a:cubicBezTo>
                <a:cubicBezTo>
                  <a:pt x="12478" y="12776"/>
                  <a:pt x="12458" y="12652"/>
                  <a:pt x="12422" y="12621"/>
                </a:cubicBezTo>
                <a:cubicBezTo>
                  <a:pt x="12409" y="12621"/>
                  <a:pt x="12395" y="12621"/>
                  <a:pt x="12382" y="12621"/>
                </a:cubicBezTo>
                <a:cubicBezTo>
                  <a:pt x="12334" y="12655"/>
                  <a:pt x="12334" y="12646"/>
                  <a:pt x="12303" y="12700"/>
                </a:cubicBezTo>
                <a:cubicBezTo>
                  <a:pt x="12268" y="12761"/>
                  <a:pt x="12285" y="12759"/>
                  <a:pt x="12263" y="12819"/>
                </a:cubicBezTo>
                <a:cubicBezTo>
                  <a:pt x="12174" y="12827"/>
                  <a:pt x="12138" y="12809"/>
                  <a:pt x="12065" y="12859"/>
                </a:cubicBezTo>
                <a:cubicBezTo>
                  <a:pt x="12034" y="12880"/>
                  <a:pt x="12016" y="12923"/>
                  <a:pt x="11946" y="12938"/>
                </a:cubicBezTo>
                <a:cubicBezTo>
                  <a:pt x="11909" y="12946"/>
                  <a:pt x="11865" y="12935"/>
                  <a:pt x="11827" y="12938"/>
                </a:cubicBezTo>
                <a:cubicBezTo>
                  <a:pt x="11827" y="12647"/>
                  <a:pt x="11879" y="12206"/>
                  <a:pt x="11787" y="11986"/>
                </a:cubicBezTo>
                <a:cubicBezTo>
                  <a:pt x="11761" y="11923"/>
                  <a:pt x="11773" y="11917"/>
                  <a:pt x="11748" y="11867"/>
                </a:cubicBezTo>
                <a:cubicBezTo>
                  <a:pt x="11715" y="11800"/>
                  <a:pt x="11692" y="11797"/>
                  <a:pt x="11668" y="11748"/>
                </a:cubicBezTo>
                <a:cubicBezTo>
                  <a:pt x="11634" y="11680"/>
                  <a:pt x="11599" y="11686"/>
                  <a:pt x="11589" y="11628"/>
                </a:cubicBezTo>
                <a:cubicBezTo>
                  <a:pt x="11576" y="11555"/>
                  <a:pt x="11565" y="11541"/>
                  <a:pt x="11549" y="11509"/>
                </a:cubicBezTo>
                <a:cubicBezTo>
                  <a:pt x="11521" y="11453"/>
                  <a:pt x="11532" y="11436"/>
                  <a:pt x="11509" y="11390"/>
                </a:cubicBezTo>
                <a:cubicBezTo>
                  <a:pt x="11481" y="11334"/>
                  <a:pt x="11493" y="11317"/>
                  <a:pt x="11470" y="11271"/>
                </a:cubicBezTo>
                <a:cubicBezTo>
                  <a:pt x="11442" y="11215"/>
                  <a:pt x="11453" y="11198"/>
                  <a:pt x="11430" y="11152"/>
                </a:cubicBezTo>
                <a:cubicBezTo>
                  <a:pt x="11409" y="11110"/>
                  <a:pt x="11422" y="11027"/>
                  <a:pt x="11390" y="10993"/>
                </a:cubicBezTo>
                <a:cubicBezTo>
                  <a:pt x="11363" y="10964"/>
                  <a:pt x="11280" y="10920"/>
                  <a:pt x="11271" y="10914"/>
                </a:cubicBezTo>
                <a:cubicBezTo>
                  <a:pt x="11223" y="10886"/>
                  <a:pt x="11162" y="10895"/>
                  <a:pt x="11112" y="10874"/>
                </a:cubicBezTo>
                <a:cubicBezTo>
                  <a:pt x="11104" y="10871"/>
                  <a:pt x="11004" y="10807"/>
                  <a:pt x="10993" y="10795"/>
                </a:cubicBezTo>
                <a:cubicBezTo>
                  <a:pt x="10955" y="10754"/>
                  <a:pt x="10967" y="10747"/>
                  <a:pt x="10914" y="10716"/>
                </a:cubicBezTo>
                <a:cubicBezTo>
                  <a:pt x="10862" y="10685"/>
                  <a:pt x="10872" y="10689"/>
                  <a:pt x="10795" y="10676"/>
                </a:cubicBezTo>
                <a:cubicBezTo>
                  <a:pt x="10705" y="10660"/>
                  <a:pt x="10679" y="10698"/>
                  <a:pt x="10636" y="10636"/>
                </a:cubicBezTo>
                <a:cubicBezTo>
                  <a:pt x="10636" y="10597"/>
                  <a:pt x="10636" y="10583"/>
                  <a:pt x="10636" y="10557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Ink 5"/>
          <p:cNvSpPr/>
          <p:nvPr/>
        </p:nvSpPr>
        <p:spPr>
          <a:xfrm>
            <a:off x="3700440" y="2257560"/>
            <a:ext cx="200160" cy="1457280"/>
          </a:xfrm>
          <a:custGeom>
            <a:avLst/>
            <a:gdLst/>
            <a:ahLst/>
            <a:rect l="l" t="t" r="r" b="b"/>
            <a:pathLst>
              <a:path w="557" h="4049">
                <a:moveTo>
                  <a:pt x="10557" y="10319"/>
                </a:moveTo>
                <a:cubicBezTo>
                  <a:pt x="10557" y="10120"/>
                  <a:pt x="10557" y="9922"/>
                  <a:pt x="10557" y="9723"/>
                </a:cubicBezTo>
                <a:cubicBezTo>
                  <a:pt x="10524" y="9698"/>
                  <a:pt x="10511" y="9709"/>
                  <a:pt x="10478" y="9684"/>
                </a:cubicBezTo>
                <a:cubicBezTo>
                  <a:pt x="10464" y="9603"/>
                  <a:pt x="10469" y="9646"/>
                  <a:pt x="10438" y="9604"/>
                </a:cubicBezTo>
                <a:cubicBezTo>
                  <a:pt x="10424" y="9524"/>
                  <a:pt x="10429" y="9566"/>
                  <a:pt x="10398" y="9525"/>
                </a:cubicBezTo>
                <a:cubicBezTo>
                  <a:pt x="10384" y="9443"/>
                  <a:pt x="10391" y="9489"/>
                  <a:pt x="10358" y="9446"/>
                </a:cubicBezTo>
                <a:cubicBezTo>
                  <a:pt x="10345" y="9367"/>
                  <a:pt x="10348" y="9406"/>
                  <a:pt x="10319" y="9366"/>
                </a:cubicBezTo>
                <a:cubicBezTo>
                  <a:pt x="10305" y="9286"/>
                  <a:pt x="10310" y="9328"/>
                  <a:pt x="10279" y="9287"/>
                </a:cubicBezTo>
                <a:cubicBezTo>
                  <a:pt x="10279" y="9181"/>
                  <a:pt x="10279" y="9075"/>
                  <a:pt x="10279" y="8969"/>
                </a:cubicBezTo>
                <a:cubicBezTo>
                  <a:pt x="10303" y="8930"/>
                  <a:pt x="10314" y="8935"/>
                  <a:pt x="10319" y="8850"/>
                </a:cubicBezTo>
                <a:cubicBezTo>
                  <a:pt x="10337" y="8548"/>
                  <a:pt x="10319" y="8240"/>
                  <a:pt x="10319" y="7938"/>
                </a:cubicBezTo>
                <a:cubicBezTo>
                  <a:pt x="10338" y="7919"/>
                  <a:pt x="10392" y="7845"/>
                  <a:pt x="10438" y="7818"/>
                </a:cubicBezTo>
                <a:cubicBezTo>
                  <a:pt x="10451" y="7818"/>
                  <a:pt x="10465" y="7818"/>
                  <a:pt x="10478" y="7818"/>
                </a:cubicBezTo>
                <a:cubicBezTo>
                  <a:pt x="10504" y="7726"/>
                  <a:pt x="10491" y="7755"/>
                  <a:pt x="10557" y="7699"/>
                </a:cubicBezTo>
                <a:cubicBezTo>
                  <a:pt x="10581" y="7667"/>
                  <a:pt x="10573" y="7652"/>
                  <a:pt x="10597" y="7620"/>
                </a:cubicBezTo>
                <a:cubicBezTo>
                  <a:pt x="10662" y="7596"/>
                  <a:pt x="10737" y="7570"/>
                  <a:pt x="10795" y="7541"/>
                </a:cubicBezTo>
                <a:cubicBezTo>
                  <a:pt x="10824" y="7492"/>
                  <a:pt x="10831" y="7498"/>
                  <a:pt x="10835" y="7422"/>
                </a:cubicBezTo>
                <a:cubicBezTo>
                  <a:pt x="10844" y="7277"/>
                  <a:pt x="10835" y="7130"/>
                  <a:pt x="10835" y="6985"/>
                </a:cubicBezTo>
                <a:cubicBezTo>
                  <a:pt x="10804" y="6944"/>
                  <a:pt x="10809" y="6986"/>
                  <a:pt x="10795" y="6906"/>
                </a:cubicBezTo>
                <a:cubicBezTo>
                  <a:pt x="10763" y="6882"/>
                  <a:pt x="10748" y="6890"/>
                  <a:pt x="10716" y="6866"/>
                </a:cubicBezTo>
                <a:cubicBezTo>
                  <a:pt x="10687" y="6830"/>
                  <a:pt x="10692" y="6790"/>
                  <a:pt x="10636" y="6747"/>
                </a:cubicBezTo>
                <a:cubicBezTo>
                  <a:pt x="10623" y="6747"/>
                  <a:pt x="10610" y="6747"/>
                  <a:pt x="10597" y="6747"/>
                </a:cubicBezTo>
              </a:path>
              <a:path w="557" h="4049">
                <a:moveTo>
                  <a:pt x="10636" y="6826"/>
                </a:moveTo>
                <a:cubicBezTo>
                  <a:pt x="10620" y="6762"/>
                  <a:pt x="10621" y="6763"/>
                  <a:pt x="10557" y="6747"/>
                </a:cubicBezTo>
                <a:cubicBezTo>
                  <a:pt x="10538" y="6691"/>
                  <a:pt x="10497" y="6705"/>
                  <a:pt x="10478" y="6628"/>
                </a:cubicBezTo>
                <a:cubicBezTo>
                  <a:pt x="10399" y="6608"/>
                  <a:pt x="10398" y="6590"/>
                  <a:pt x="10398" y="6509"/>
                </a:cubicBezTo>
                <a:cubicBezTo>
                  <a:pt x="10338" y="6489"/>
                  <a:pt x="10358" y="6462"/>
                  <a:pt x="10358" y="6390"/>
                </a:cubicBezTo>
                <a:cubicBezTo>
                  <a:pt x="10358" y="6350"/>
                  <a:pt x="10358" y="6311"/>
                  <a:pt x="10358" y="6271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39:00Z</dcterms:created>
  <dc:creator>1</dc:creator>
  <dc:description/>
  <dc:language>en-US</dc:language>
  <cp:lastModifiedBy>1</cp:lastModifiedBy>
  <dcterms:modified xsi:type="dcterms:W3CDTF">2011-01-22T10:32:34Z</dcterms:modified>
  <cp:revision>12</cp:revision>
  <dc:subject/>
  <dc:title>Федеральные округа</dc:title>
</cp:coreProperties>
</file>