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148C-C59C-44DC-84B6-1E12F620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CE2-711F-48BF-9C7A-614A2118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672-3329-45B0-9D24-B6BC04A3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F3E-8B16-45AD-8DD1-988CA439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6112-00CC-4326-9DC4-0156E5D1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20B2-7642-47F5-A35A-3C01B9A7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DD0D-AAA2-4A31-A9AD-D62FCCB9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E326-7F83-4911-AF9B-82559981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11C6-2BA1-4689-81B7-B349C805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7F98-932F-4ADB-9EF0-D4928ACB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A722-47CB-4CC5-949E-31801150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91F1-CA72-40D3-B61C-A1202407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034F-4646-4970-BDAB-17FE50D0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F92F-12DD-4BBA-B40B-5F21586F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1BC3-A3D5-4DD6-BB10-AEFCAC3D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7B20-ABAA-4329-BE1D-A9A95250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6781-3765-4138-BE70-8E964FAC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F8A4-FA11-45CA-872B-E5961C7B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B2C-AEA4-4566-A349-F00F3AE9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239-0A43-4BFB-828B-CAE5E423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1CEB-D964-4191-9EA8-94513F7F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9EC-71BE-4C9C-BD36-4487D5BF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DF4-2EF4-4892-8D48-E19DFEF6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2F7E-6738-478A-A077-3DB7C628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F8BB-75D2-4DDB-8B59-0973438494A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A9D7-BE38-42E6-9791-7E827F133E4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96720" y="420840"/>
            <a:ext cx="8528040" cy="2931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240" y="4857840"/>
            <a:ext cx="73436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узнецова Анна Александров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-249120"/>
            <a:ext cx="8242560" cy="8823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3214800" y="428760"/>
            <a:ext cx="2571480" cy="50004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3ea9"/>
                </a:solidFill>
                <a:latin typeface="Times New Roman"/>
              </a:rPr>
              <a:t>Целевой компонен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2643120" y="1143000"/>
            <a:ext cx="3643560" cy="42876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33ea9"/>
                </a:solidFill>
                <a:latin typeface="Times New Roman"/>
              </a:rPr>
              <a:t>Виды социально-педагогической рабо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2143080" y="1785960"/>
            <a:ext cx="4714920" cy="35712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Формы СП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1357200" y="2500200"/>
            <a:ext cx="1357560" cy="78588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Индивиду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3857760" y="2500200"/>
            <a:ext cx="1357200" cy="78588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Групп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6072120" y="2500200"/>
            <a:ext cx="1357560" cy="78588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Коллек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0"/>
          <p:cNvSpPr/>
          <p:nvPr/>
        </p:nvSpPr>
        <p:spPr>
          <a:xfrm>
            <a:off x="2643120" y="4214880"/>
            <a:ext cx="3714840" cy="42840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Содержание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1"/>
          <p:cNvSpPr/>
          <p:nvPr/>
        </p:nvSpPr>
        <p:spPr>
          <a:xfrm>
            <a:off x="2071800" y="4857840"/>
            <a:ext cx="4929120" cy="50004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Социально-педагогические условия СП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12"/>
          <p:cNvSpPr/>
          <p:nvPr/>
        </p:nvSpPr>
        <p:spPr>
          <a:xfrm>
            <a:off x="3143160" y="5572080"/>
            <a:ext cx="2786040" cy="42876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Факторы успеш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13"/>
          <p:cNvSpPr/>
          <p:nvPr/>
        </p:nvSpPr>
        <p:spPr>
          <a:xfrm>
            <a:off x="3000240" y="6215040"/>
            <a:ext cx="3143520" cy="35712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33ea9"/>
                </a:solidFill>
                <a:latin typeface="Times New Roman"/>
              </a:rPr>
              <a:t>Резуль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1428840" y="3429000"/>
            <a:ext cx="1214280" cy="57168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33ea9"/>
                </a:solidFill>
                <a:latin typeface="Times New Roman"/>
              </a:rPr>
              <a:t>Социально-педагогическое сопровожде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17"/>
          <p:cNvSpPr/>
          <p:nvPr/>
        </p:nvSpPr>
        <p:spPr>
          <a:xfrm>
            <a:off x="3929040" y="3429000"/>
            <a:ext cx="1214640" cy="57168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33ea9"/>
                </a:solidFill>
                <a:latin typeface="Times New Roman"/>
              </a:rPr>
              <a:t>Социальное обуче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18"/>
          <p:cNvSpPr/>
          <p:nvPr/>
        </p:nvSpPr>
        <p:spPr>
          <a:xfrm>
            <a:off x="6215040" y="3429000"/>
            <a:ext cx="1214640" cy="571680"/>
          </a:xfrm>
          <a:prstGeom prst="rect">
            <a:avLst/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33ea9"/>
                </a:solidFill>
                <a:latin typeface="Times New Roman"/>
              </a:rPr>
              <a:t>Социальное вос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Стрелка вниз 19"/>
          <p:cNvSpPr/>
          <p:nvPr/>
        </p:nvSpPr>
        <p:spPr>
          <a:xfrm>
            <a:off x="4357800" y="92880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Стрелка вниз 20"/>
          <p:cNvSpPr/>
          <p:nvPr/>
        </p:nvSpPr>
        <p:spPr>
          <a:xfrm>
            <a:off x="4429080" y="1571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6" name="Прямая со стрелкой 22"/>
          <p:cNvCxnSpPr/>
          <p:nvPr/>
        </p:nvCxnSpPr>
        <p:spPr>
          <a:xfrm flipH="1">
            <a:off x="2428560" y="2143080"/>
            <a:ext cx="929520" cy="286560"/>
          </a:xfrm>
          <a:prstGeom prst="straightConnector1">
            <a:avLst/>
          </a:prstGeom>
          <a:ln w="9360">
            <a:solidFill>
              <a:srgbClr val="9d8fa4"/>
            </a:solidFill>
            <a:miter/>
            <a:tailEnd len="med" type="arrow" w="med"/>
          </a:ln>
        </p:spPr>
      </p:cxnSp>
      <p:cxnSp>
        <p:nvCxnSpPr>
          <p:cNvPr id="117" name="Прямая со стрелкой 24"/>
          <p:cNvCxnSpPr>
            <a:stCxn id="103" idx="2"/>
          </p:cNvCxnSpPr>
          <p:nvPr/>
        </p:nvCxnSpPr>
        <p:spPr>
          <a:xfrm flipH="1">
            <a:off x="4498200" y="2143080"/>
            <a:ext cx="2520" cy="286560"/>
          </a:xfrm>
          <a:prstGeom prst="straightConnector1">
            <a:avLst/>
          </a:prstGeom>
          <a:ln w="9360">
            <a:solidFill>
              <a:srgbClr val="9d8fa4"/>
            </a:solidFill>
            <a:miter/>
            <a:tailEnd len="med" type="arrow" w="med"/>
          </a:ln>
        </p:spPr>
      </p:cxnSp>
      <p:cxnSp>
        <p:nvCxnSpPr>
          <p:cNvPr id="118" name="Прямая со стрелкой 26"/>
          <p:cNvCxnSpPr>
            <a:endCxn id="106" idx="0"/>
          </p:cNvCxnSpPr>
          <p:nvPr/>
        </p:nvCxnSpPr>
        <p:spPr>
          <a:xfrm>
            <a:off x="5928840" y="2143080"/>
            <a:ext cx="823320" cy="357840"/>
          </a:xfrm>
          <a:prstGeom prst="straightConnector1">
            <a:avLst/>
          </a:prstGeom>
          <a:ln w="9360">
            <a:solidFill>
              <a:srgbClr val="9d8fa4"/>
            </a:solidFill>
            <a:miter/>
            <a:tailEnd len="med" type="arrow" w="med"/>
          </a:ln>
        </p:spPr>
      </p:cxnSp>
      <p:sp>
        <p:nvSpPr>
          <p:cNvPr id="119" name="Стрелка вниз 27"/>
          <p:cNvSpPr/>
          <p:nvPr/>
        </p:nvSpPr>
        <p:spPr>
          <a:xfrm>
            <a:off x="1928880" y="3286080"/>
            <a:ext cx="21420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Стрелка вниз 28"/>
          <p:cNvSpPr/>
          <p:nvPr/>
        </p:nvSpPr>
        <p:spPr>
          <a:xfrm>
            <a:off x="4429080" y="3286080"/>
            <a:ext cx="21420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Стрелка вниз 29"/>
          <p:cNvSpPr/>
          <p:nvPr/>
        </p:nvSpPr>
        <p:spPr>
          <a:xfrm>
            <a:off x="6786720" y="3286080"/>
            <a:ext cx="21420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2" name="Прямая со стрелкой 31"/>
          <p:cNvCxnSpPr/>
          <p:nvPr/>
        </p:nvCxnSpPr>
        <p:spPr>
          <a:xfrm>
            <a:off x="2643120" y="4000680"/>
            <a:ext cx="929520" cy="143280"/>
          </a:xfrm>
          <a:prstGeom prst="straightConnector1">
            <a:avLst/>
          </a:prstGeom>
          <a:ln w="9360">
            <a:solidFill>
              <a:srgbClr val="9d8fa4"/>
            </a:solidFill>
            <a:miter/>
            <a:tailEnd len="med" type="arrow" w="med"/>
          </a:ln>
        </p:spPr>
      </p:cxnSp>
      <p:cxnSp>
        <p:nvCxnSpPr>
          <p:cNvPr id="123" name="Прямая со стрелкой 37"/>
          <p:cNvCxnSpPr>
            <a:stCxn id="112" idx="2"/>
            <a:endCxn id="107" idx="0"/>
          </p:cNvCxnSpPr>
          <p:nvPr/>
        </p:nvCxnSpPr>
        <p:spPr>
          <a:xfrm flipH="1">
            <a:off x="4500000" y="4000320"/>
            <a:ext cx="35640" cy="214920"/>
          </a:xfrm>
          <a:prstGeom prst="straightConnector1">
            <a:avLst/>
          </a:prstGeom>
          <a:ln w="9360">
            <a:solidFill>
              <a:srgbClr val="9d8fa4"/>
            </a:solidFill>
            <a:miter/>
            <a:tailEnd len="med" type="arrow" w="med"/>
          </a:ln>
        </p:spPr>
      </p:cxnSp>
      <p:cxnSp>
        <p:nvCxnSpPr>
          <p:cNvPr id="124" name="Прямая со стрелкой 39"/>
          <p:cNvCxnSpPr>
            <a:stCxn id="113" idx="2"/>
          </p:cNvCxnSpPr>
          <p:nvPr/>
        </p:nvCxnSpPr>
        <p:spPr>
          <a:xfrm flipH="1">
            <a:off x="5571360" y="4000320"/>
            <a:ext cx="1251720" cy="214920"/>
          </a:xfrm>
          <a:prstGeom prst="straightConnector1">
            <a:avLst/>
          </a:prstGeom>
          <a:ln w="9360">
            <a:solidFill>
              <a:srgbClr val="9d8fa4"/>
            </a:solidFill>
            <a:miter/>
            <a:tailEnd len="med" type="arrow" w="med"/>
          </a:ln>
        </p:spPr>
      </p:cxnSp>
      <p:sp>
        <p:nvSpPr>
          <p:cNvPr id="125" name="Стрелка вниз 40"/>
          <p:cNvSpPr/>
          <p:nvPr/>
        </p:nvSpPr>
        <p:spPr>
          <a:xfrm>
            <a:off x="4286160" y="4643280"/>
            <a:ext cx="57168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Стрелка вниз 41"/>
          <p:cNvSpPr/>
          <p:nvPr/>
        </p:nvSpPr>
        <p:spPr>
          <a:xfrm>
            <a:off x="4429080" y="5357880"/>
            <a:ext cx="35712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Стрелка вниз 42"/>
          <p:cNvSpPr/>
          <p:nvPr/>
        </p:nvSpPr>
        <p:spPr>
          <a:xfrm>
            <a:off x="4500720" y="6000840"/>
            <a:ext cx="35712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ac9e3"/>
          </a:solidFill>
          <a:ln w="25560">
            <a:solidFill>
              <a:srgbClr val="a09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414360" y="36360"/>
            <a:ext cx="8553600" cy="1560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533ea9"/>
                </a:solidFill>
                <a:latin typeface="Times New Roman"/>
              </a:rPr>
              <a:t>Целью опытно-экспериментальной работы</a:t>
            </a: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 является повышение уровня сближающего общения педагогов с проблемными деть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Для реализации данной цели были сформулированы следующие </a:t>
            </a:r>
            <a:r>
              <a:rPr b="0" i="1" lang="ru-RU" sz="2400" spc="-1" strike="noStrike">
                <a:solidFill>
                  <a:srgbClr val="533ea9"/>
                </a:solidFill>
                <a:latin typeface="Times New Roman"/>
              </a:rPr>
              <a:t>задачи </a:t>
            </a: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опытно-экспериментальной работы:</a:t>
            </a:r>
            <a:r>
              <a:rPr b="0" i="1" lang="ru-RU" sz="2400" spc="-1" strike="noStrike">
                <a:solidFill>
                  <a:srgbClr val="533ea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33ea9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выявить уровень сформированности сближающего общения у педагогов и учащихся на базе исследов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33ea9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реализовать программу и оценить ее влияние на процесс общ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33ea9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разработать рекоменда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3ea9"/>
                </a:solidFill>
                <a:latin typeface="Times New Roman"/>
              </a:rPr>
              <a:t>СПР по формированию сближающего общения будет успешной, есл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3ea9"/>
                </a:solidFill>
                <a:latin typeface="Times New Roman"/>
              </a:rPr>
              <a:t>будет организовано включение проблемных учащихся в процесс совместной результативной социально-полезной деятельности с педагогам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3ea9"/>
                </a:solidFill>
                <a:latin typeface="Times New Roman"/>
              </a:rPr>
              <a:t>если в процесс формирования сближающего общения будут внедрены инновационные технологии педагогической работ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33ea9"/>
                </a:solidFill>
                <a:latin typeface="Times New Roman"/>
              </a:rPr>
              <a:t>если социальный педагог образовательного учреждения будет проводить систематическую социально-педагогическую работу с учителями-предметниками по вопросам сближающего общения с проблемными деть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560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571680" y="1428840"/>
            <a:ext cx="8115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33ea9"/>
                </a:solidFill>
                <a:latin typeface="Times New Roman"/>
              </a:rPr>
              <a:t>Направления опытно-экспериментальной работы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снижение требований к проблемным ученикам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вовлечение в коллективные виды деятельности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организация ситуаций, в которых проблемный ребенок может достичь успехов, разработка мер поощрения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демонстрация и разъяснение педагогам позитивных образов поведения при общении с проблемными детьм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неукоснительное следование требованиям педагогического такта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создание доверительного тона и располагающей атмосферы занятия, обеспечение свободного общения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максимальный учет индивидуальных особенностей и межличностных взаимоотношений учащихся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АКТОРЫ УСПЕШНОСТИ СПР С ПЕДАГОГА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АКТОРЫ УСПЕШНОСТИ СПР С ПРОБЛЕМНЫМИ ДЕТЬ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Интерес к детям и работе с ними, наличие потребности и умений общения, коммуникативные каче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Гибкость, оперативно-творческое мышление, быстро изменяющееся речевое воздействие в зависимости от ситуации обще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Умение ощущать и поддерживать обратную связь в общен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Способность к педагогической импровизаци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Умение управлять собой, своим психическим состоянием, голосом, мимикой, настроением, мыслям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Положительная мотивация к общению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Грамотное владение собственной речью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Формирование социально цен­ных установок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Товарищество – близость, основанная на товарищеских (дружеских) отношениях; совместное участие в чем-нибудь на равных права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48e"/>
                </a:solidFill>
                <a:latin typeface="Times New Roman"/>
              </a:rPr>
              <a:t>Коммуникативные умения проблемных школьни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785880" y="857160"/>
          <a:ext cx="2071800" cy="442908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13413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Акция по восстановлению школьного Исторического музе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7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«Оформления школьного уголка, посвященного Году учител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39600" rIns="3960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Организация субботника на территории близлежащего ле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714840" y="857160"/>
          <a:ext cx="2071440" cy="5072040"/>
        </p:xfrm>
        <a:graphic>
          <a:graphicData uri="http://schemas.openxmlformats.org/drawingml/2006/table">
            <a:tbl>
              <a:tblPr/>
              <a:tblGrid>
                <a:gridCol w="2071440"/>
              </a:tblGrid>
              <a:tr h="1268640">
                <a:tc>
                  <a:txBody>
                    <a:bodyPr lIns="55080" rIns="5508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Тренинг «Новые знакомы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560">
                <a:tc>
                  <a:txBody>
                    <a:bodyPr lIns="55080" rIns="5508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Деловая игра «Давайте пообщаемс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2840">
                <a:tc>
                  <a:txBody>
                    <a:bodyPr lIns="55080" rIns="5508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Мозговой штурм «Наши проблемные дет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286680" y="857160"/>
          <a:ext cx="2143080" cy="4500720"/>
        </p:xfrm>
        <a:graphic>
          <a:graphicData uri="http://schemas.openxmlformats.org/drawingml/2006/table">
            <a:tbl>
              <a:tblPr/>
              <a:tblGrid>
                <a:gridCol w="2143080"/>
              </a:tblGrid>
              <a:tr h="1673280">
                <a:tc>
                  <a:txBody>
                    <a:bodyPr lIns="42480" rIns="42480" tIns="0" bIns="0" anchor="t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Круглый стол «Сближающее общение с проблемными детьми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42480" rIns="4248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педагогов-предметник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42480" rIns="42480" tIns="0" bIns="0" anchor="t">
                      <a:noAutofit/>
                    </a:bodyPr>
                    <a:p>
                      <a:pPr marL="1792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533ea9"/>
                          </a:solidFill>
                          <a:latin typeface="Times New Roman"/>
                          <a:ea typeface="Times New Roman"/>
                        </a:rPr>
                        <a:t>Семинар-тренинг «Толерантность учител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Диаграмма 3" descr=""/>
          <p:cNvPicPr/>
          <p:nvPr/>
        </p:nvPicPr>
        <p:blipFill>
          <a:blip r:embed="rId1"/>
          <a:stretch/>
        </p:blipFill>
        <p:spPr>
          <a:xfrm>
            <a:off x="0" y="0"/>
            <a:ext cx="6864480" cy="6437160"/>
          </a:xfrm>
          <a:prstGeom prst="rect">
            <a:avLst/>
          </a:prstGeom>
          <a:ln w="0">
            <a:noFill/>
          </a:ln>
        </p:spPr>
      </p:pic>
      <p:pic>
        <p:nvPicPr>
          <p:cNvPr id="145" name="Диаграмма 4" descr=""/>
          <p:cNvPicPr/>
          <p:nvPr/>
        </p:nvPicPr>
        <p:blipFill>
          <a:blip r:embed="rId2"/>
          <a:stretch/>
        </p:blipFill>
        <p:spPr>
          <a:xfrm>
            <a:off x="0" y="0"/>
            <a:ext cx="3718080" cy="3078000"/>
          </a:xfrm>
          <a:prstGeom prst="rect">
            <a:avLst/>
          </a:prstGeom>
          <a:ln w="0">
            <a:noFill/>
          </a:ln>
        </p:spPr>
      </p:pic>
      <p:pic>
        <p:nvPicPr>
          <p:cNvPr id="146" name="Диаграмма 5" descr=""/>
          <p:cNvPicPr/>
          <p:nvPr/>
        </p:nvPicPr>
        <p:blipFill>
          <a:blip r:embed="rId3"/>
          <a:stretch/>
        </p:blipFill>
        <p:spPr>
          <a:xfrm>
            <a:off x="0" y="0"/>
            <a:ext cx="8942400" cy="30052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9"/>
          <p:cNvSpPr/>
          <p:nvPr/>
        </p:nvSpPr>
        <p:spPr>
          <a:xfrm>
            <a:off x="142920" y="2928960"/>
            <a:ext cx="33573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b1a1f"/>
                </a:solidFill>
                <a:latin typeface="Arial"/>
              </a:rPr>
              <a:t>Диаграмма «Мониторинг влияния совместной социально-полезной деятельности на сближающее общение»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b1a1f"/>
                </a:solidFill>
                <a:latin typeface="Arial"/>
              </a:rPr>
              <a:t>На данном этапе проведения опытно-экспериментальной работы в совместной деятельности наиболее заинтересованы проблемные ученики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4929120" y="2857680"/>
            <a:ext cx="40719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b1a1f"/>
                </a:solidFill>
                <a:latin typeface="Arial"/>
              </a:rPr>
              <a:t>Диаграмма «Анализ влияния инновационных технологий на процесс сближающего общения с проблемными детьми»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b1a1f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b1a1f"/>
                </a:solidFill>
                <a:latin typeface="Arial"/>
              </a:rPr>
              <a:t>Ни у одного из участников не ухудшилось отношение друг к другу. 75% педагогов и 62% проблемных школьников ответили, что мероприятия позволили улучшить процесс общения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6929280" y="4857840"/>
            <a:ext cx="1785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b1a1f"/>
                </a:solidFill>
                <a:latin typeface="Arial"/>
              </a:rPr>
              <a:t>Диаграмма «Анализ результативности семинара-тренинга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1352520" y="493560"/>
            <a:ext cx="6657840" cy="8715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785960"/>
            <a:ext cx="382896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33ea9"/>
                </a:solidFill>
                <a:latin typeface="Times New Roman"/>
              </a:rPr>
              <a:t>Об эффективности созданной модели  и программы опытно-экспериментальной работы свидетельствуют данные  социально-педагогического мониторинга, сопровождавшего все этапы эксперимен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Была выявлена  устойчивая тенденция к существенному уменьшению  проблемных учащихся, считающих педагогов образовательного учреждения неготовыми к сближающему общению , а также рост числа педагогов, показавших высокий уровень сближающего обще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33ea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Диаграмма 5" descr=""/>
          <p:cNvPicPr/>
          <p:nvPr/>
        </p:nvPicPr>
        <p:blipFill>
          <a:blip r:embed="rId2"/>
          <a:stretch/>
        </p:blipFill>
        <p:spPr>
          <a:xfrm>
            <a:off x="4357800" y="1785960"/>
            <a:ext cx="4343400" cy="2158920"/>
          </a:xfrm>
          <a:prstGeom prst="rect">
            <a:avLst/>
          </a:prstGeom>
          <a:ln w="0">
            <a:noFill/>
          </a:ln>
        </p:spPr>
      </p:pic>
      <p:pic>
        <p:nvPicPr>
          <p:cNvPr id="153" name="Диаграмма 4" descr=""/>
          <p:cNvPicPr/>
          <p:nvPr/>
        </p:nvPicPr>
        <p:blipFill>
          <a:blip r:embed="rId3"/>
          <a:stretch/>
        </p:blipFill>
        <p:spPr>
          <a:xfrm>
            <a:off x="4500720" y="4500720"/>
            <a:ext cx="4254480" cy="185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4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884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1f67"/>
                </a:solidFill>
                <a:latin typeface="Times New Roman"/>
              </a:rPr>
              <a:t>Результаты опытно-экспериментальной работы подтверждают, что  сближающее общение педагогов и проблемных детей является управляемым процессом, а создание оптимальных  социально-педагогических условий  его организации позволяет повысить уровень эффективности СПР с педагогами в образовательном учрежден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1f67"/>
                </a:solidFill>
                <a:latin typeface="Times New Roman"/>
              </a:rPr>
              <a:t>Результаты работы могут быть использованы в практической деятельности в учреждениях образ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9152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Актуальность социально-педагогической работы с педагогами в стенах образовательного учреждения обусловлена постоянным интересом  социальных педагогов  к изучению межличностных и межгрупповых конфликтов в педагогическом взаимодействии учителя и проблемных учеников, к поиску эффективных способов их преодоления и предупрежд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33ea9"/>
                </a:solidFill>
                <a:latin typeface="Times New Roman"/>
              </a:rPr>
              <a:t>В этой связи важны навыки сближения педагогов с теми учащимися, поведение которых не соответствует требованиям этики современного общества. В практике работы школ таких учащихся называют “проблемными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4" descr=""/>
          <p:cNvPicPr/>
          <p:nvPr/>
        </p:nvPicPr>
        <p:blipFill>
          <a:blip r:embed="rId1"/>
          <a:stretch/>
        </p:blipFill>
        <p:spPr>
          <a:xfrm>
            <a:off x="195120" y="244440"/>
            <a:ext cx="8852040" cy="1182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3ea9"/>
                </a:solidFill>
                <a:latin typeface="Times New Roman"/>
              </a:rPr>
              <a:t>Объектом научного исследования выбрана социально-педагогическая работа с педагогами в условиях образовательного учрежд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33ea9"/>
                </a:solidFill>
                <a:latin typeface="Times New Roman"/>
              </a:rPr>
              <a:t>Предметом исследования является процесс сближающего общения педагогов образовательного учреждения с проблемными детьми.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41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3ea9"/>
                </a:solidFill>
                <a:latin typeface="Times New Roman"/>
              </a:rPr>
              <a:t>Целью данного исследования является создание модели социально-педагогической работы образовательного учреждения по формированию у педагогов навыков сближающего общения с проблемными деть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-23760"/>
            <a:ext cx="8242560" cy="124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33ea9"/>
                </a:solidFill>
                <a:latin typeface="Times New Roman"/>
              </a:rPr>
              <a:t>Изучение степени  разработанности проблемы формирования у педагогов навыков сближающего общения с проблемными детьми в отечественной и зарубежной литератур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33ea9"/>
                </a:solidFill>
                <a:latin typeface="Times New Roman"/>
              </a:rPr>
              <a:t>Выявление стимулирующих и сдерживающих факторов, влияющих на формирование у педагогов навыков сближающего общения с проблемными детьм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33ea9"/>
                </a:solidFill>
                <a:latin typeface="Times New Roman"/>
              </a:rPr>
              <a:t>Разработка модели социально-педагогической работы по формированию у педагогов навыков сближающего общения с проблемными детьм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33ea9"/>
                </a:solidFill>
                <a:latin typeface="Times New Roman"/>
              </a:rPr>
              <a:t>Изучение факторов эффективности модели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33ea9"/>
                </a:solidFill>
                <a:latin typeface="Times New Roman"/>
              </a:rPr>
              <a:t>Опытно-экспериментальная проверка эффективности модел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33ea9"/>
                </a:solidFill>
                <a:latin typeface="Times New Roman"/>
              </a:rPr>
              <a:t>Разработка рекомендаций по совершенствованию социально-педагогической работы с педагогами в образовательном учреждени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95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928800"/>
            <a:ext cx="82296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3ea9"/>
                </a:solidFill>
                <a:latin typeface="Times New Roman"/>
              </a:rPr>
              <a:t>Сближающее общение</a:t>
            </a: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 — эффективное общение, не приносящее дискомфорта, единое понимание партнерами ситуации общения и его целей, формирование единой системы взаимоотношений, которые обеспечат возможность правильно понимать друг друг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33ea9"/>
                </a:solidFill>
                <a:latin typeface="Times New Roman"/>
              </a:rPr>
              <a:t>Н. В. Седова </a:t>
            </a: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выделяет три основные функции сближающего общен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1. Регуляция совместной деятельнос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33ea9"/>
                </a:solidFill>
                <a:latin typeface="Times New Roman"/>
              </a:rPr>
              <a:t>2.</a:t>
            </a: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 Сближающее общение — первичный инструмент познания в учебно-воспитательном педагогическом процесс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3. Самоопределение личности проблемного ребен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Обеспечение сближающего общения педагогов с проблемными детьми, по мнению </a:t>
            </a:r>
            <a:r>
              <a:rPr b="1" lang="ru-RU" sz="1600" spc="-1" strike="noStrike">
                <a:solidFill>
                  <a:srgbClr val="533ea9"/>
                </a:solidFill>
                <a:latin typeface="Times New Roman"/>
              </a:rPr>
              <a:t>Т. В. Анохиной</a:t>
            </a: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, возможно тогда, когда в качестве </a:t>
            </a:r>
            <a:r>
              <a:rPr b="1" lang="ru-RU" sz="1600" spc="-1" strike="noStrike">
                <a:solidFill>
                  <a:srgbClr val="533ea9"/>
                </a:solidFill>
                <a:latin typeface="Times New Roman"/>
              </a:rPr>
              <a:t>принципов педагогического общения </a:t>
            </a: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учитель выбирает следующие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Согласие ребенка на поддержку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Опора на потенциал возможности личности учащегося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Вера в возможности проблемного школьника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Ориентир на способность ребенка самостоятельно преодолевать трудные жизненные ситуации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3ea9"/>
                </a:solidFill>
                <a:latin typeface="Times New Roman"/>
              </a:rPr>
              <a:t>Совместное сотрудничество, взаимодействие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6840" y="1599840"/>
            <a:ext cx="82580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41112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33ea9"/>
                </a:solidFill>
                <a:latin typeface="Times New Roman"/>
              </a:rPr>
              <a:t>На сегодняшний день проблеме социально-педагогической работы по формированию сближающего общения в учреждениях образования внимания уделяется не достаточно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33ea9"/>
                </a:solidFill>
                <a:latin typeface="Times New Roman"/>
              </a:rPr>
              <a:t>Основными причинами являются: 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33ea9"/>
                </a:solidFill>
                <a:latin typeface="Times New Roman"/>
              </a:rPr>
              <a:t>- неподготовленность педагогического состава к сближающему общению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33ea9"/>
                </a:solidFill>
                <a:latin typeface="Times New Roman"/>
              </a:rPr>
              <a:t>- отсутствие методической литературы по формированию сближающего общения педагогов и проблемных учеников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33ea9"/>
                </a:solidFill>
                <a:latin typeface="Times New Roman"/>
              </a:rPr>
              <a:t>- отсутствие опыта позитивного взаимодействия педагогов и проблемных учеников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33ea9"/>
                </a:solidFill>
                <a:latin typeface="Times New Roman"/>
              </a:rPr>
              <a:t>Что вызывает необходимость совершенствования социально-педагогической работы как с детьми, так и с педагогами, для чего могут быть эффективно использованы, созданная модель и программа социально-педагогической работы образовательного учреждения по формированию сближающего общения педагогов с проблемными детьми</a:t>
            </a:r>
            <a:r>
              <a:rPr b="1" lang="ru-RU" sz="2100" spc="-1" strike="noStrike">
                <a:solidFill>
                  <a:srgbClr val="533ea9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41112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17880" cy="1219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48e"/>
                </a:solidFill>
                <a:latin typeface="Times New Roman"/>
              </a:rPr>
              <a:t>Проведено анкетирование учителей и проблемных учеников с целью изучения уровня сближающего общения с проблемными деть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48e"/>
                </a:solidFill>
                <a:latin typeface="Times New Roman"/>
              </a:rPr>
              <a:t>Анализ результатов проводился по трем шкалам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48e"/>
                </a:solidFill>
                <a:latin typeface="Times New Roman"/>
              </a:rPr>
              <a:t>Самооценка педагог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48e"/>
                </a:solidFill>
                <a:latin typeface="Times New Roman"/>
              </a:rPr>
              <a:t>Приоритетные ценности при выполнении профессиональной деятель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48e"/>
                </a:solidFill>
                <a:latin typeface="Times New Roman"/>
              </a:rPr>
              <a:t>Стиль препода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Содержимое 6" descr=""/>
          <p:cNvPicPr/>
          <p:nvPr/>
        </p:nvPicPr>
        <p:blipFill>
          <a:blip r:embed="rId2"/>
          <a:stretch/>
        </p:blipFill>
        <p:spPr>
          <a:xfrm>
            <a:off x="0" y="0"/>
            <a:ext cx="8717040" cy="501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4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650080" cy="588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07:16:05Z</dcterms:created>
  <dc:creator>МиЛЕДИ</dc:creator>
  <dc:description/>
  <dc:language>en-US</dc:language>
  <cp:lastModifiedBy>JJ</cp:lastModifiedBy>
  <dcterms:modified xsi:type="dcterms:W3CDTF">2012-01-04T12:42:22Z</dcterms:modified>
  <cp:revision>29</cp:revision>
  <dc:subject/>
  <dc:title>Выпускная квалификационная работа  на тему: «Социально-педагогическая работа образовательного учреждения по формированию у педагогов навыков сближающего общения с проблемными детьми»</dc:title>
</cp:coreProperties>
</file>