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D33-0BBF-4DD6-BBAC-0CF53D5E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E0F-385B-4F15-87F3-3B548350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1B3-5F1A-45FD-A5D8-1634D7DA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52B-5F2E-48A3-9A8D-CC068838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C7FC-3289-4D28-83FB-D0F076DD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8F6D-1AB5-46AD-B174-D2FB73EF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BBAD-0B58-4AA3-B4C1-860A823A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314A-299F-4123-BB9F-DB15734A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F9EF-9DE5-4297-8219-7754C81E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ACD7-D705-447F-8647-332425DC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CCFE-0248-4B69-BD6F-5713EED1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B84-626F-48C4-BE1A-8AE2CB67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8287-B8D2-4B0E-B0A3-888F9D6D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EEE6-A4A0-469D-BCB6-2B75F37F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03AA-3FE4-43BE-B539-51BE0A8C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A021-D870-4488-915D-B0BD99F5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DBD9-0C97-4ECA-AE75-7FE192FB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500-82B1-46A8-A749-A363AC5D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923-963D-4DF3-B859-DE7ADD41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E84-61E2-480F-BAA9-C7D3F603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B56-563D-4EE4-9A19-AC04F819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571-86DB-4533-9A37-9A4CC9F5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8E2-0C7D-48FE-83E5-F07ACAFB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EF4-E315-4163-8A03-2E78B4C4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4895-A793-4186-9B8A-04EDC180D06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C923-8483-4B7A-9A35-289DA2D1684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96720" y="420840"/>
            <a:ext cx="8528040" cy="2931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240" y="4857840"/>
            <a:ext cx="73436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узнецова Анна Александров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-249120"/>
            <a:ext cx="8242560" cy="8823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3214800" y="428760"/>
            <a:ext cx="2571480" cy="50004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Целевой компоне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2643120" y="1143000"/>
            <a:ext cx="3643560" cy="42876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33ea9"/>
                </a:solidFill>
                <a:latin typeface="Times New Roman"/>
              </a:rPr>
              <a:t>Виды социально-педагогической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2143080" y="1785960"/>
            <a:ext cx="4714920" cy="35712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Формы С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1357200" y="2500200"/>
            <a:ext cx="1357560" cy="7858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Индивиду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3857760" y="2500200"/>
            <a:ext cx="1357200" cy="7858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Групп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6072120" y="2500200"/>
            <a:ext cx="1357560" cy="7858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Колле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2643120" y="4214880"/>
            <a:ext cx="3714840" cy="42840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Содержание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2071800" y="4857840"/>
            <a:ext cx="4929120" cy="50004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Социально-педагогические условия С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12"/>
          <p:cNvSpPr/>
          <p:nvPr/>
        </p:nvSpPr>
        <p:spPr>
          <a:xfrm>
            <a:off x="3143160" y="5572080"/>
            <a:ext cx="2786040" cy="42876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Факторы успеш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3000240" y="6215040"/>
            <a:ext cx="3143520" cy="35712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428840" y="3429000"/>
            <a:ext cx="1214280" cy="5716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33ea9"/>
                </a:solidFill>
                <a:latin typeface="Times New Roman"/>
              </a:rPr>
              <a:t>Социально-педагогическое сопровожд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17"/>
          <p:cNvSpPr/>
          <p:nvPr/>
        </p:nvSpPr>
        <p:spPr>
          <a:xfrm>
            <a:off x="3929040" y="3429000"/>
            <a:ext cx="1214640" cy="5716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33ea9"/>
                </a:solidFill>
                <a:latin typeface="Times New Roman"/>
              </a:rPr>
              <a:t>Социальное обуч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>
            <a:off x="6215040" y="3429000"/>
            <a:ext cx="1214640" cy="5716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33ea9"/>
                </a:solidFill>
                <a:latin typeface="Times New Roman"/>
              </a:rPr>
              <a:t>Социальное 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трелка вниз 19"/>
          <p:cNvSpPr/>
          <p:nvPr/>
        </p:nvSpPr>
        <p:spPr>
          <a:xfrm>
            <a:off x="4357800" y="92880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Стрелка вниз 20"/>
          <p:cNvSpPr/>
          <p:nvPr/>
        </p:nvSpPr>
        <p:spPr>
          <a:xfrm>
            <a:off x="4429080" y="1571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6" name="Прямая со стрелкой 22"/>
          <p:cNvCxnSpPr/>
          <p:nvPr/>
        </p:nvCxnSpPr>
        <p:spPr>
          <a:xfrm flipH="1">
            <a:off x="2428560" y="2143080"/>
            <a:ext cx="929520" cy="28656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17" name="Прямая со стрелкой 24"/>
          <p:cNvCxnSpPr>
            <a:stCxn id="103" idx="2"/>
          </p:cNvCxnSpPr>
          <p:nvPr/>
        </p:nvCxnSpPr>
        <p:spPr>
          <a:xfrm flipH="1">
            <a:off x="4498200" y="2143080"/>
            <a:ext cx="2520" cy="28656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18" name="Прямая со стрелкой 26"/>
          <p:cNvCxnSpPr>
            <a:endCxn id="106" idx="0"/>
          </p:cNvCxnSpPr>
          <p:nvPr/>
        </p:nvCxnSpPr>
        <p:spPr>
          <a:xfrm>
            <a:off x="5928840" y="2143080"/>
            <a:ext cx="823320" cy="35784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sp>
        <p:nvSpPr>
          <p:cNvPr id="119" name="Стрелка вниз 27"/>
          <p:cNvSpPr/>
          <p:nvPr/>
        </p:nvSpPr>
        <p:spPr>
          <a:xfrm>
            <a:off x="1928880" y="3286080"/>
            <a:ext cx="21420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Стрелка вниз 28"/>
          <p:cNvSpPr/>
          <p:nvPr/>
        </p:nvSpPr>
        <p:spPr>
          <a:xfrm>
            <a:off x="4429080" y="3286080"/>
            <a:ext cx="21420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трелка вниз 29"/>
          <p:cNvSpPr/>
          <p:nvPr/>
        </p:nvSpPr>
        <p:spPr>
          <a:xfrm>
            <a:off x="6786720" y="3286080"/>
            <a:ext cx="21420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Прямая со стрелкой 31"/>
          <p:cNvCxnSpPr/>
          <p:nvPr/>
        </p:nvCxnSpPr>
        <p:spPr>
          <a:xfrm>
            <a:off x="2643120" y="4000680"/>
            <a:ext cx="929520" cy="14328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23" name="Прямая со стрелкой 37"/>
          <p:cNvCxnSpPr>
            <a:stCxn id="112" idx="2"/>
            <a:endCxn id="107" idx="0"/>
          </p:cNvCxnSpPr>
          <p:nvPr/>
        </p:nvCxnSpPr>
        <p:spPr>
          <a:xfrm flipH="1">
            <a:off x="4500000" y="4000320"/>
            <a:ext cx="35640" cy="21492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24" name="Прямая со стрелкой 39"/>
          <p:cNvCxnSpPr>
            <a:stCxn id="113" idx="2"/>
          </p:cNvCxnSpPr>
          <p:nvPr/>
        </p:nvCxnSpPr>
        <p:spPr>
          <a:xfrm flipH="1">
            <a:off x="5571360" y="4000320"/>
            <a:ext cx="1251720" cy="21492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sp>
        <p:nvSpPr>
          <p:cNvPr id="125" name="Стрелка вниз 40"/>
          <p:cNvSpPr/>
          <p:nvPr/>
        </p:nvSpPr>
        <p:spPr>
          <a:xfrm>
            <a:off x="4286160" y="4643280"/>
            <a:ext cx="57168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Стрелка вниз 41"/>
          <p:cNvSpPr/>
          <p:nvPr/>
        </p:nvSpPr>
        <p:spPr>
          <a:xfrm>
            <a:off x="4429080" y="535788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Стрелка вниз 42"/>
          <p:cNvSpPr/>
          <p:nvPr/>
        </p:nvSpPr>
        <p:spPr>
          <a:xfrm>
            <a:off x="4500720" y="600084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14360" y="36360"/>
            <a:ext cx="8553600" cy="156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Целью опытно-экспериментальной работы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 является повышение уровня сближающего общения педагогов с проблемными деть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Для реализации данной цели были сформулированы следующие </a:t>
            </a: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задачи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опытно-экспериментальной работы:</a:t>
            </a: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выявить уровень сформированности сближающего общения у педагогов и учащихся на базе исследо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реализовать программу и оценить ее влияние на процесс общ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разработать рекоменд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СПР по формированию сближающего общения будет успешной, есл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будет организовано включение проблемных учащихся в процесс совместной результативной социально-полезной деятельности с педагога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если в процесс формирования сближающего общения будут внедрены инновационные технологии педагогической работ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если социальный педагог образовательного учреждения будет проводить систематическую социально-педагогическую работу с учителями-предметниками по вопросам сближающего общения с проблемными деть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6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571680" y="1428840"/>
            <a:ext cx="8115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3ea9"/>
                </a:solidFill>
                <a:latin typeface="Times New Roman"/>
              </a:rPr>
              <a:t>Направления опытно-экспериментальной работы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нижение требований к проблемным ученикам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вовлечение в коллективные виды деятельност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рганизация ситуаций, в которых проблемный ребенок может достичь успехов, разработка мер поощрени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демонстрация и разъяснение педагогам позитивных образов поведения при общении с проблемными деть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неукоснительное следование требованиям педагогического такта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оздание доверительного тона и располагающей атмосферы занятия, обеспечение свободного общени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максимальный учет индивидуальных особенностей и межличностных взаимоотношений учащихс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АКТОРЫ УСПЕШНОСТИ СПР С ПЕДАГОГ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АКТОРЫ УСПЕШНОСТИ СПР С ПРОБЛЕМНЫМИ ДЕТЬ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Интерес к детям и работе с ними, наличие потребности и умений общения, коммуникативные кач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Гибкость, оперативно-творческое мышление, быстро изменяющееся речевое воздействие в зависимости от ситуации общ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Умение ощущать и поддерживать обратную связь в общен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Способность к педагогической импровизаци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Умение управлять собой, своим психическим состоянием, голосом, мимикой, настроением, мысля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Положительная мотивация к общени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Грамотное владение собственной речь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Формирование социально цен­ных установ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Товарищество – близость, основанная на товарищеских (дружеских) отношениях; совместное участие в чем-нибудь на равных права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Коммуникативные умения проблемных школьн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785880" y="857160"/>
          <a:ext cx="2071800" cy="442908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3413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Акция по восстановлению школьного Исторического музе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«Оформления школьного уголка, посвященного Году учител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Организация субботника на территории близлежащего ле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714840" y="857160"/>
          <a:ext cx="2071440" cy="5072040"/>
        </p:xfrm>
        <a:graphic>
          <a:graphicData uri="http://schemas.openxmlformats.org/drawingml/2006/table">
            <a:tbl>
              <a:tblPr/>
              <a:tblGrid>
                <a:gridCol w="2071440"/>
              </a:tblGrid>
              <a:tr h="1268640">
                <a:tc>
                  <a:txBody>
                    <a:bodyPr lIns="55080" rIns="550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Тренинг «Новые знакомы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55080" rIns="550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Деловая игра «Давайте пообщаемс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55080" rIns="550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Мозговой штурм «Наши проблемные дет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286680" y="857160"/>
          <a:ext cx="2143080" cy="450072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1673280">
                <a:tc>
                  <a:txBody>
                    <a:bodyPr lIns="42480" rIns="4248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Круглый стол «Сближающее общение с проблемными деть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42480" rIns="424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педагогов-предметник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42480" rIns="424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Семинар-тренинг «Толерантность учител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Диаграмма 3" descr=""/>
          <p:cNvPicPr/>
          <p:nvPr/>
        </p:nvPicPr>
        <p:blipFill>
          <a:blip r:embed="rId1"/>
          <a:stretch/>
        </p:blipFill>
        <p:spPr>
          <a:xfrm>
            <a:off x="0" y="0"/>
            <a:ext cx="6864480" cy="6437160"/>
          </a:xfrm>
          <a:prstGeom prst="rect">
            <a:avLst/>
          </a:prstGeom>
          <a:ln w="0">
            <a:noFill/>
          </a:ln>
        </p:spPr>
      </p:pic>
      <p:pic>
        <p:nvPicPr>
          <p:cNvPr id="145" name="Диаграмма 4" descr=""/>
          <p:cNvPicPr/>
          <p:nvPr/>
        </p:nvPicPr>
        <p:blipFill>
          <a:blip r:embed="rId2"/>
          <a:stretch/>
        </p:blipFill>
        <p:spPr>
          <a:xfrm>
            <a:off x="0" y="0"/>
            <a:ext cx="3718080" cy="3078000"/>
          </a:xfrm>
          <a:prstGeom prst="rect">
            <a:avLst/>
          </a:prstGeom>
          <a:ln w="0">
            <a:noFill/>
          </a:ln>
        </p:spPr>
      </p:pic>
      <p:pic>
        <p:nvPicPr>
          <p:cNvPr id="146" name="Диаграмма 5" descr=""/>
          <p:cNvPicPr/>
          <p:nvPr/>
        </p:nvPicPr>
        <p:blipFill>
          <a:blip r:embed="rId3"/>
          <a:stretch/>
        </p:blipFill>
        <p:spPr>
          <a:xfrm>
            <a:off x="0" y="0"/>
            <a:ext cx="8942400" cy="3005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142920" y="2928960"/>
            <a:ext cx="3357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b1a1f"/>
                </a:solidFill>
                <a:latin typeface="Arial"/>
              </a:rPr>
              <a:t>Диаграмма «Мониторинг влияния совместной социально-полезной деятельности на сближающее общение»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b1a1f"/>
                </a:solidFill>
                <a:latin typeface="Arial"/>
              </a:rPr>
              <a:t>На данном этапе проведения опытно-экспериментальной работы в совместной деятельности наиболее заинтересованы проблемные ученики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4929120" y="2857680"/>
            <a:ext cx="40719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b1a1f"/>
                </a:solidFill>
                <a:latin typeface="Arial"/>
              </a:rPr>
              <a:t>Диаграмма «Анализ влияния инновационных технологий на процесс сближающего общения с проблемными детьми»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b1a1f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b1a1f"/>
                </a:solidFill>
                <a:latin typeface="Arial"/>
              </a:rPr>
              <a:t>Ни у одного из участников не ухудшилось отношение друг к другу. 75% педагогов и 62% проблемных школьников ответили, что мероприятия позволили улучшить процесс общения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6929280" y="4857840"/>
            <a:ext cx="1785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1a1f"/>
                </a:solidFill>
                <a:latin typeface="Arial"/>
              </a:rPr>
              <a:t>Диаграмма «Анализ результативности семинара-тренинга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1352520" y="493560"/>
            <a:ext cx="6657840" cy="871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38289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Times New Roman"/>
              </a:rPr>
              <a:t>Об эффективности созданной модели  и программы опытно-экспериментальной работы свидетельствуют данные  социально-педагогического мониторинга, сопровождавшего все этапы эксперимен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Была выявлена  устойчивая тенденция к существенному уменьшению  проблемных учащихся, считающих педагогов образовательного учреждения неготовыми к сближающему общению , а также рост числа педагогов, показавших высокий уровень сближающего общ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Диаграмма 5" descr=""/>
          <p:cNvPicPr/>
          <p:nvPr/>
        </p:nvPicPr>
        <p:blipFill>
          <a:blip r:embed="rId2"/>
          <a:stretch/>
        </p:blipFill>
        <p:spPr>
          <a:xfrm>
            <a:off x="4357800" y="1785960"/>
            <a:ext cx="4343400" cy="2158920"/>
          </a:xfrm>
          <a:prstGeom prst="rect">
            <a:avLst/>
          </a:prstGeom>
          <a:ln w="0">
            <a:noFill/>
          </a:ln>
        </p:spPr>
      </p:pic>
      <p:pic>
        <p:nvPicPr>
          <p:cNvPr id="153" name="Диаграмма 4" descr=""/>
          <p:cNvPicPr/>
          <p:nvPr/>
        </p:nvPicPr>
        <p:blipFill>
          <a:blip r:embed="rId3"/>
          <a:stretch/>
        </p:blipFill>
        <p:spPr>
          <a:xfrm>
            <a:off x="4500720" y="4500720"/>
            <a:ext cx="4254480" cy="185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4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1f67"/>
                </a:solidFill>
                <a:latin typeface="Times New Roman"/>
              </a:rPr>
              <a:t>Результаты опытно-экспериментальной работы подтверждают, что  сближающее общение педагогов и проблемных детей является управляемым процессом, а создание оптимальных  социально-педагогических условий  его организации позволяет повысить уровень эффективности СПР с педагогами в образовательном учрежде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1f67"/>
                </a:solidFill>
                <a:latin typeface="Times New Roman"/>
              </a:rPr>
              <a:t>Результаты работы могут быть использованы в практической деятельности в учреждениях образ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Актуальность социально-педагогической работы с педагогами в стенах образовательного учреждения обусловлена постоянным интересом  социальных педагогов  к изучению межличностных и межгрупповых конфликтов в педагогическом взаимодействии учителя и проблемных учеников, к поиску эффективных способов их преодоления и предупрежд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В этой связи важны навыки сближения педагогов с теми учащимися, поведение которых не соответствует требованиям этики современного общества. В практике работы школ таких учащихся называют “проблемными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852040" cy="118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3ea9"/>
                </a:solidFill>
                <a:latin typeface="Times New Roman"/>
              </a:rPr>
              <a:t>Объектом научного исследования выбрана социально-педагогическая работа с педагогами в условиях образовательного учреж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3ea9"/>
                </a:solidFill>
                <a:latin typeface="Times New Roman"/>
              </a:rPr>
              <a:t>Предметом исследования является процесс сближающего общения педагогов образовательного учреждения с проблемными детьми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3ea9"/>
                </a:solidFill>
                <a:latin typeface="Times New Roman"/>
              </a:rPr>
              <a:t>Целью данного исследования является создание модели социально-педагогической работы образовательного учреждения по формированию у педагогов навыков сближающего общения с проблемными деть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24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Изучение степени  разработанности проблемы формирования у педагогов навыков сближающего общения с проблемными детьми в отечественной и зарубежной литератур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Выявление стимулирующих и сдерживающих факторов, влияющих на формирование у педагогов навыков сближающего общения с проблемными деть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Разработка модели социально-педагогической работы по формированию у педагогов навыков сближающего общения с проблемными деть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Изучение факторов эффективности модели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Опытно-экспериментальная проверка эффективности модел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Разработка рекомендаций по совершенствованию социально-педагогической работы с педагогами в образовательном учрежден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95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928800"/>
            <a:ext cx="82296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Сближающее общение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 — эффективное общение, не приносящее дискомфорта, единое понимание партнерами ситуации общения и его целей, формирование единой системы взаимоотношений, которые обеспечат возможность правильно понимать друг друг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Н. В. Седова 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выделяет три основные функции сближающего обще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1. Регуляция совместной деятель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3ea9"/>
                </a:solidFill>
                <a:latin typeface="Times New Roman"/>
              </a:rPr>
              <a:t>2.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 Сближающее общение — первичный инструмент познания в учебно-воспитательном педагогическом процесс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3. Самоопределение личности проблемного ребен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беспечение сближающего общения педагогов с проблемными детьми, по мнению </a:t>
            </a: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Т. В. Анохиной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, возможно тогда, когда в качестве </a:t>
            </a: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принципов педагогического общения 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учитель выбирает следующ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огласие ребенка на поддержку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пора на потенциал возможности личности учащегос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Вера в возможности проблемного школьник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риентир на способность ребенка самостоятельно преодолевать трудные жизненные ситуаци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овместное сотрудничество, взаимодействи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82580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На сегодняшний день проблеме социально-педагогической работы по формированию сближающего общения в учреждениях образования внимания уделяется не достаточно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Основными причинами являются: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- неподготовленность педагогического состава к сближающему общению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- отсутствие методической литературы по формированию сближающего общения педагогов и проблемных учеников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- отсутствие опыта позитивного взаимодействия педагогов и проблемных учеников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Что вызывает необходимость совершенствования социально-педагогической работы как с детьми, так и с педагогами, для чего могут быть эффективно использованы, созданная модель и программа социально-педагогической работы образовательного учреждения по формированию сближающего общения педагогов с проблемными детьми</a:t>
            </a:r>
            <a:r>
              <a:rPr b="1" lang="ru-RU" sz="2100" spc="-1" strike="noStrike">
                <a:solidFill>
                  <a:srgbClr val="533ea9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1788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48e"/>
                </a:solidFill>
                <a:latin typeface="Times New Roman"/>
              </a:rPr>
              <a:t>Проведено анкетирование учителей и проблемных учеников с целью изучения уровня сближающего общения с проблемными деть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Анализ результатов проводился по трем шкалам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Самооценка педаго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Приоритетные ценности при выполнении профессиональной деятель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Стиль препода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6" descr=""/>
          <p:cNvPicPr/>
          <p:nvPr/>
        </p:nvPicPr>
        <p:blipFill>
          <a:blip r:embed="rId2"/>
          <a:stretch/>
        </p:blipFill>
        <p:spPr>
          <a:xfrm>
            <a:off x="0" y="0"/>
            <a:ext cx="8717040" cy="501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4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650080" cy="588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16:05Z</dcterms:created>
  <dc:creator>МиЛЕДИ</dc:creator>
  <dc:description/>
  <dc:language>en-US</dc:language>
  <cp:lastModifiedBy>JJ</cp:lastModifiedBy>
  <dcterms:modified xsi:type="dcterms:W3CDTF">2012-01-04T12:42:22Z</dcterms:modified>
  <cp:revision>29</cp:revision>
  <dc:subject/>
  <dc:title>Выпускная квалификационная работа  на тему: «Социально-педагогическая работа образовательного учреждения по формированию у педагогов навыков сближающего общения с проблемными детьми»</dc:title>
</cp:coreProperties>
</file>