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142-99C2-436A-B42E-2BDC83A6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B69-9D44-4EDB-A5ED-FC18CF8D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F09-5649-400F-AA5F-2EFD3736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C12-7DA4-4076-A53C-0E9948E8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8709-D91F-4DED-B4FE-F2935835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669B-A01B-4FF5-82DE-14D343B1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5325-5C6C-4909-841F-B0DC2481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7159-F46C-4A06-80F1-0DE474F4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251C-EB5A-4672-9909-38512997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C102-1044-41B6-8664-DA4665F1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33ED-FDFF-4B15-B700-38F40B3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CDF-6D84-428C-A94A-DA0E3EF9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34C8-3501-4A35-AF8A-2ACE48A9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E3D0-F193-4AD6-94CA-C81C133A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F65C-CA72-467F-AAD7-5AFB10CD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5310-3F45-432E-BFAA-070CEDC3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DB5F-2718-4E97-B883-FEA70C06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2B6-03E0-4C9B-B57E-41C3264E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32C-1E74-4063-BEAF-7AAB0296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0ED-7E96-47B7-929D-85E4546B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B28-3288-4F4F-BE66-84E4B869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F5D-BCC1-41F3-B89C-85B3FB53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B4B-085B-46B4-9DFA-DB117434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A9E-B4C4-43B7-B24E-CA502330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331640" y="6021360"/>
            <a:ext cx="5343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84C4-9D22-434F-B0C2-A0B1FAF442ED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1332000" y="5805000"/>
            <a:ext cx="518472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F04E-12A6-4E5C-8505-9229DA642D31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F:/&#1075;&#1086;&#1090;&#1086;&#1074;&#1099;&#1077;%20&#1084;&#1072;&#1090;&#1077;&#1088;&#1080;&#1072;&#1083;&#1099;2/&#1087;&#1072;&#1087;&#1082;&#1072;%202/&#1084;&#1077;&#1078;&#1087;&#1088;&#1077;&#1076;&#1084;&#1077;&#1090;&#1085;&#1099;&#1081;%20&#1087;&#1088;&#1086;&#1077;&#1082;&#1090;/&#1076;&#1077;&#1088;&#1077;&#1074;&#1085;&#1103;%20&#1086;&#1087;&#1072;&#1089;&#1085;&#1072;&#1103;%20&#1080;%20&#1073;&#1077;&#1079;&#1086;&#1087;&#1072;&#1089;&#1085;&#1072;&#1103;.pub" TargetMode="External"/><Relationship Id="rId2" Type="http://schemas.openxmlformats.org/officeDocument/2006/relationships/hyperlink" Target="file:///F:/&#1075;&#1086;&#1090;&#1086;&#1074;&#1099;&#1077;%20&#1084;&#1072;&#1090;&#1077;&#1088;&#1080;&#1072;&#1083;&#1099;2/&#1087;&#1072;&#1087;&#1082;&#1072;%202/&#1084;&#1077;&#1078;&#1087;&#1088;&#1077;&#1076;&#1084;&#1077;&#1090;&#1085;&#1099;&#1081;%20&#1087;&#1088;&#1086;&#1077;&#1082;&#1090;/&#1076;&#1077;&#1088;&#1077;&#1074;&#1085;&#1103;%20&#1086;&#1087;&#1072;&#1089;&#1085;&#1072;&#1103;%20&#1080;%20&#1073;&#1077;&#1079;&#1086;&#1087;&#1072;&#1089;&#1085;&#1072;&#1103;.pub" TargetMode="External"/><Relationship Id="rId3" Type="http://schemas.openxmlformats.org/officeDocument/2006/relationships/hyperlink" Target="file:///F:/&#1075;&#1086;&#1090;&#1086;&#1074;&#1099;&#1077;%20&#1084;&#1072;&#1090;&#1077;&#1088;&#1080;&#1072;&#1083;&#1099;2/&#1087;&#1072;&#1087;&#1082;&#1072;%202/&#1084;&#1077;&#1078;&#1087;&#1088;&#1077;&#1076;&#1084;&#1077;&#1090;&#1085;&#1099;&#1081;%20&#1087;&#1088;&#1086;&#1077;&#1082;&#1090;/&#1074;&#1086;&#1076;&#1072;.ppt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8804" t="13321" r="0" b="18593"/>
          <a:stretch/>
        </p:blipFill>
        <p:spPr>
          <a:xfrm rot="19578000">
            <a:off x="1646280" y="1693800"/>
            <a:ext cx="4130640" cy="3164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53272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Arial Black"/>
              </a:rPr>
              <a:t>Муниципальное общеобразовательное учреждение «Дмитриевская средняя общеобразовательная школа»</a:t>
            </a:r>
            <a:endParaRPr b="0" lang="en-US" sz="1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9280" y="1197000"/>
            <a:ext cx="676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"Экология и мы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C6F1-1283-4214-BEAB-2EC76B94C4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4751280" cy="29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Исследование №2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«Деревня опасная и безопасная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00000" y="2997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Цель: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определить наиболее экологически опасные мест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Объект исследования: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село Дмитриевк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Метод: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наблюдение, описание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2473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9483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ложение 2.1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BD5-F99F-415D-AC37-279E4579AB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80000" y="1196640"/>
            <a:ext cx="5364000" cy="6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Исследование №3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«Квартира как экосистема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3428640"/>
            <a:ext cx="816768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Цель: изучить и дать характеристику квартире как экосистеме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Объект исследования: современная квартира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Метод: наблюдение, описание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3095640" cy="3086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41A-63A6-47E6-86C2-FC28387632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Карта проект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27280" y="1628640"/>
            <a:ext cx="6516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en-US" sz="3600" spc="-1" strike="noStrike" u="sng">
                <a:solidFill>
                  <a:srgbClr val="9933ff"/>
                </a:solidFill>
                <a:uFillTx/>
                <a:latin typeface="Arial"/>
                <a:hlinkClick r:id="rId1"/>
              </a:rPr>
              <a:t>. </a:t>
            </a:r>
            <a:r>
              <a:rPr b="0" lang="en-US" sz="3600" spc="-1" strike="noStrike" u="sng">
                <a:solidFill>
                  <a:srgbClr val="9933ff"/>
                </a:solidFill>
                <a:uFillTx/>
                <a:latin typeface="Arial"/>
                <a:hlinkClick r:id="rId2"/>
              </a:rPr>
              <a:t>Экология сельскохозяйственных районов. Деревня опасная и безопасная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2. </a:t>
            </a:r>
            <a:r>
              <a:rPr b="0" lang="en-US" sz="3600" spc="-1" strike="noStrike" u="sng">
                <a:solidFill>
                  <a:srgbClr val="9933ff"/>
                </a:solidFill>
                <a:uFillTx/>
                <a:latin typeface="Arial"/>
                <a:hlinkClick r:id="rId3"/>
              </a:rPr>
              <a:t>Какую воду мы пьем?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3. Квартира как экосистема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4149720"/>
            <a:ext cx="1979640" cy="1486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2708280"/>
            <a:ext cx="1763640" cy="1322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rcRect l="25438" t="12197" r="26378" b="7169"/>
          <a:stretch/>
        </p:blipFill>
        <p:spPr>
          <a:xfrm>
            <a:off x="0" y="0"/>
            <a:ext cx="1928880" cy="2421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7708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6C9-4E10-47A3-BFBE-89B2685AA9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Вывод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777564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Проведя исследования мы поняли, что наш дом (место, где ты живёшь, дом, в котором ты живёшь) давно перестал быть «крепостью». Здоровье людей, их физическое состояние и самочувствие во многом зависят от </a:t>
            </a:r>
            <a:r>
              <a:rPr b="1" i="1" lang="en-US" sz="1800" spc="-1" strike="noStrike" u="sng">
                <a:solidFill>
                  <a:srgbClr val="000080"/>
                </a:solidFill>
                <a:uFillTx/>
                <a:latin typeface="Arial"/>
              </a:rPr>
              <a:t>качества окружающей среды</a:t>
            </a: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нова и снова мы слышим об опасности, грозящей окружающей среде и человеку, но до сих пор многие из нас считают их неприятным,  но неизбежным порождением цивилизации и полагают, что мы ещё успеем справиться со всеми выявившимися  затруднениями.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Создание </a:t>
            </a:r>
            <a:r>
              <a:rPr b="1" i="1" lang="en-US" sz="1800" spc="-1" strike="noStrike" u="sng">
                <a:solidFill>
                  <a:srgbClr val="000080"/>
                </a:solidFill>
                <a:uFillTx/>
                <a:latin typeface="Arial"/>
              </a:rPr>
              <a:t>оптимальных экологических условий жизни человека</a:t>
            </a: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относится к числу важнейших задач. 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Каждый проект преобразования природы, любое воздействие на неё должны оцениваться и с позиций </a:t>
            </a:r>
            <a:r>
              <a:rPr b="1" i="1" lang="en-US" sz="1800" spc="-1" strike="noStrike" u="sng">
                <a:solidFill>
                  <a:srgbClr val="000080"/>
                </a:solidFill>
                <a:uFillTx/>
                <a:latin typeface="Arial"/>
              </a:rPr>
              <a:t>экологии человека</a:t>
            </a: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01880" cy="2101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324560" y="2602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313-5EF0-4F17-91AA-34D1AF52DB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 Black"/>
              </a:rPr>
              <a:t>Основополагающий вопрос</a:t>
            </a:r>
            <a:endParaRPr b="0" lang="en-US" sz="2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71640" y="1125360"/>
            <a:ext cx="7885080" cy="410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Твой дом - твоя крепость?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4751280" cy="3884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948360" y="0"/>
            <a:ext cx="181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2A0-91F3-492A-A6B8-D0B33114CD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50920" y="620640"/>
            <a:ext cx="506412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Проблемные темы  и вопросы.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741348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Экология сельскохозяйственных районов. Оценка экологического состояния с. Дмитриевк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Комфортное жилище – это факт или фантазия. Квартира – как экосистем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Исследовательская работа «Какую воду мы пьём?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32C-1FE1-4468-A76B-833773E57B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Участники проекта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17938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Учащиеся  8 класса – Боровая Настя, Романова Настя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28464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Руководитель: учитель географии и биологии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Ромашкина О.П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3170160" cy="2377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0400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C0B-6101-450A-9553-9014687283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0360" y="22824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Этапы проведения проекта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340000" y="1468440"/>
            <a:ext cx="5904000" cy="4087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862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095-63ED-48F6-B2DB-492D579CF7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1789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87640" y="228240"/>
            <a:ext cx="59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Актуальность темы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77564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С 70-х годов ХХ века с нарушением взаимосвязей внутри экосистемы, необратимыми явлениями в биосфере, вызванными антропогенной деятельностью, стали все более актуальными проблемы рационального природопользования и охраны окружающей среды. Бурное развитие техники при явно недостаточных или малоэффективных природоохранных мероприятиях привело к заметному ухудшению экологической обстановки, что грозит тяжелейшими последствиями, которые разрушают как саму среду обитания человека, так и его здоровье. Существенное загрязнение окружающей среды биологически вредными веществами, обострение радиационной обстановки, усиление энергетических полей технических систем, в том числе электронных — вот факторы, которые негативно отражаются на чистоте воздуха, воды, почвы, продуктов питания в первую очередь. </a:t>
            </a:r>
            <a:br>
              <a:rPr sz="1400"/>
            </a:br>
            <a:endParaRPr b="0" lang="en-US" sz="1400" spc="-1" strike="noStrike">
              <a:solidFill>
                <a:srgbClr val="00008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Интенсификация производства, сельского хозяйства, внедрение информационных технологий, глобальная компьютеризация всех отраслей деятельности человека существенно меняют среду его жизнедеятельности.</a:t>
            </a:r>
            <a:endParaRPr b="0" lang="en-US" sz="1400" spc="-1" strike="noStrike">
              <a:solidFill>
                <a:srgbClr val="00008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Многообразие переплетающихся между собой процессов, связывающих человеческий организм и среду его обитания, требуют комплексной оценки последствий непреднамеренного воздействия на окружающую среду и целенаправленного преобразования природы. Поэтому в решение современной экологической проблемы должны вносить вклад все области научного знания и отрасли техники.</a:t>
            </a:r>
            <a:br>
              <a:rPr sz="1400"/>
            </a:br>
            <a:endParaRPr b="0" lang="en-US" sz="1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2000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384-2EA7-4C75-9F75-469F8F88C4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260280"/>
            <a:ext cx="809604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«Экология» -  в переводе с греческого,  дословно означает  - «описание жилища, дома», т. е. представляет собой науку о жилье и окружающей среде,  или </a:t>
            </a:r>
            <a:r>
              <a:rPr b="1" i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науку о местопребывании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2160720" cy="190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211640" y="3933720"/>
            <a:ext cx="107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2324160" cy="1743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241-4464-4C86-882B-A3FBE1980B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Использованная литература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1688040"/>
            <a:ext cx="83883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Фадеева Т.А.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"Экологические сказки(1-6 класс)" Учитель, Волг-д, 2003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В.В. Балабанова, Т.В. Максимцева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Пособие “Биология. Экология. Здоровый образ жизни” “Учитель”, В.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Е.А.Криксунов, В.В.Пасечник 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"Экология (9класс)" М.: Дрофа,1999.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Н.М. Мамедов, И.Т. Суравегина, С.Н. Глазачев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"Оcновы общей экологии (для старшеклассников)."(12 шт.) МДС., М.,2002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Е.А. Криксунов, В.В. Пасечник 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"Экология-10(11) класс." Дрофа, М., 2004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И.Н. Пономарева, Н.М. Чернова 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Методич. пособие к учебнику Н.М. Черновой “Основы экологии” Дрофа, М., 2001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Times New Roman"/>
              </a:rPr>
              <a:t>Н.М. Чернова , В.М. Галушин, В.М. Константинов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 "Основы экологии-9 класс", М.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http://www.ecospace.ru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http://pogovorki.myfind.ru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http://www.likar.info</a:t>
            </a: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DA6-67E4-477D-A201-BEDE0C0F8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11280" y="620640"/>
            <a:ext cx="5832360" cy="14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Исследование №1</a:t>
            </a:r>
            <a:br>
              <a:rPr sz="4000"/>
            </a:br>
            <a:r>
              <a:rPr b="0" lang="en-US" sz="4000" spc="-1" strike="noStrike">
                <a:solidFill>
                  <a:srgbClr val="3366cc"/>
                </a:solidFill>
                <a:latin typeface="Arial Black"/>
              </a:rPr>
              <a:t>«Какую воду мы пьём?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280" y="242100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Arial"/>
              </a:rPr>
              <a:t>Цель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: определить качество питьевой воды в селе Дмитриевк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Arial"/>
              </a:rPr>
              <a:t>Объект исследования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: питьевая вода из водопроводного края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Arial"/>
              </a:rPr>
              <a:t>Метод: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эксперимент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8691" r="18495" b="25751"/>
          <a:stretch/>
        </p:blipFill>
        <p:spPr>
          <a:xfrm>
            <a:off x="0" y="0"/>
            <a:ext cx="3132000" cy="2035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324560" y="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Приложение 2.1.</a:t>
            </a: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Ромашкина Ольга Петровна, учитель географии и биологии, Муниципальное общеобразовательное учреждение "Дмитриевская средняя общеобразовательная школа" Бугурусланский райо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C43-0B6E-4C15-A1E3-2FEEE02BB2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3:35:54Z</dcterms:created>
  <dc:creator>Orenburg</dc:creator>
  <dc:description/>
  <dc:language>en-US</dc:language>
  <cp:lastModifiedBy>Пользователь</cp:lastModifiedBy>
  <dcterms:modified xsi:type="dcterms:W3CDTF">2008-05-28T06:45:36Z</dcterms:modified>
  <cp:revision>19</cp:revision>
  <dc:subject/>
  <dc:title>Муниципальное общеобразовательное учреждение «Дмитриевская средняя общеобразовательная шко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