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CC9-6B26-48DB-AF99-01D09847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EF77-BC1C-496C-B528-217A5CE0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1C6-DD5B-4555-8312-29D2F29D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E766-90AA-40AB-B541-F5766304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4F1F-E6AC-4275-A96F-3EC2167C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E77A-3D7D-4FA3-A3F3-3DD9DDBA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2ECF-66E5-45B0-AB09-12FBDF07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E443-11BC-476A-BBD6-A52E591D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97D7-100A-410D-9433-6DC5FA64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F967-0560-4DAF-8740-D6C05444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1431-C061-410E-89BB-FEADE5A6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B164-F549-4E5B-B278-CD1FE0A8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25B9-E79B-486D-8829-1A69D1BF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A5F8-42D1-46BD-B936-08D37BBA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4B4A-2614-45F1-AEEC-0DD94EC4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CC84-EC90-41EA-AD52-A220A50E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C4F2-79F8-4AB4-825A-833C0C05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152-3B41-4AEB-B65C-A6ADD4AE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C73-3C53-4738-80C5-13109ADE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B510-3B84-4098-A570-5003A387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FBD4-A534-433C-84BC-2943544C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1567-3D8D-4BBD-9184-D72B3DFC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007F-1AB9-4712-89FA-01532E81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753D-649B-4D8F-97C3-7052D529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331640" y="6021360"/>
            <a:ext cx="5343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C741-87B9-4F78-98B7-3E94AC538C1F}" type="slidenum">
              <a:rPr b="0" lang="ru-RU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99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a7c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0485000">
                  <a:off x="2055240" y="355356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9933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1332000" y="5805000"/>
            <a:ext cx="5184720" cy="7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0122-844F-43C5-824B-9EB56F0251E8}" type="slidenum">
              <a:rPr b="0" lang="ru-RU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F:/&#1075;&#1086;&#1090;&#1086;&#1074;&#1099;&#1077;%20&#1084;&#1072;&#1090;&#1077;&#1088;&#1080;&#1072;&#1083;&#1099;2/&#1087;&#1072;&#1087;&#1082;&#1072;%202/&#1084;&#1077;&#1078;&#1087;&#1088;&#1077;&#1076;&#1084;&#1077;&#1090;&#1085;&#1099;&#1081;%20&#1087;&#1088;&#1086;&#1077;&#1082;&#1090;/&#1076;&#1077;&#1088;&#1077;&#1074;&#1085;&#1103;%20&#1086;&#1087;&#1072;&#1089;&#1085;&#1072;&#1103;%20&#1080;%20&#1073;&#1077;&#1079;&#1086;&#1087;&#1072;&#1089;&#1085;&#1072;&#1103;.pub" TargetMode="External"/><Relationship Id="rId2" Type="http://schemas.openxmlformats.org/officeDocument/2006/relationships/hyperlink" Target="file:///F:/&#1075;&#1086;&#1090;&#1086;&#1074;&#1099;&#1077;%20&#1084;&#1072;&#1090;&#1077;&#1088;&#1080;&#1072;&#1083;&#1099;2/&#1087;&#1072;&#1087;&#1082;&#1072;%202/&#1084;&#1077;&#1078;&#1087;&#1088;&#1077;&#1076;&#1084;&#1077;&#1090;&#1085;&#1099;&#1081;%20&#1087;&#1088;&#1086;&#1077;&#1082;&#1090;/&#1076;&#1077;&#1088;&#1077;&#1074;&#1085;&#1103;%20&#1086;&#1087;&#1072;&#1089;&#1085;&#1072;&#1103;%20&#1080;%20&#1073;&#1077;&#1079;&#1086;&#1087;&#1072;&#1089;&#1085;&#1072;&#1103;.pub" TargetMode="External"/><Relationship Id="rId3" Type="http://schemas.openxmlformats.org/officeDocument/2006/relationships/hyperlink" Target="file:///F:/&#1075;&#1086;&#1090;&#1086;&#1074;&#1099;&#1077;%20&#1084;&#1072;&#1090;&#1077;&#1088;&#1080;&#1072;&#1083;&#1099;2/&#1087;&#1072;&#1087;&#1082;&#1072;%202/&#1084;&#1077;&#1078;&#1087;&#1088;&#1077;&#1076;&#1084;&#1077;&#1090;&#1085;&#1099;&#1081;%20&#1087;&#1088;&#1086;&#1077;&#1082;&#1090;/&#1074;&#1086;&#1076;&#1072;.ppt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8804" t="13321" r="0" b="18593"/>
          <a:stretch/>
        </p:blipFill>
        <p:spPr>
          <a:xfrm rot="19578000">
            <a:off x="1646280" y="1693800"/>
            <a:ext cx="4130640" cy="31640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532720" cy="7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cc"/>
                </a:solidFill>
                <a:latin typeface="Arial Black"/>
              </a:rPr>
              <a:t>Муниципальное общеобразовательное учреждение «Дмитриевская средняя общеобразовательная школа»</a:t>
            </a:r>
            <a:endParaRPr b="0" lang="en-US" sz="1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9280" y="1197000"/>
            <a:ext cx="6769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Impact"/>
              </a:rPr>
              <a:t>"Экология и мы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0904-C0C1-4B9F-8010-F441E97AFA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4751280" cy="29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Исследование №2</a:t>
            </a:r>
            <a:br>
              <a:rPr sz="4000"/>
            </a:b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«Деревня опасная и безопасная»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00000" y="299700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Цель: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определить наиболее экологически опасные места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Объект исследования: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село Дмитриевка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Метод: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наблюдение, описание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435640" y="0"/>
            <a:ext cx="3708360" cy="2473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948360" y="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ложение 2.1</a:t>
            </a: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BD9-4DF4-490D-9A92-0E2FAA68A7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80000" y="1196640"/>
            <a:ext cx="5364000" cy="6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Исследование №3</a:t>
            </a:r>
            <a:br>
              <a:rPr sz="4000"/>
            </a:b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«Квартира как экосистема»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3428640"/>
            <a:ext cx="816768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Цель: изучить и дать характеристику квартире как экосистеме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Объект исследования: современная квартира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Метод: наблюдение, описание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3095640" cy="3086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324560" y="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9FA-8A39-417D-9920-9E99EE0499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Карта проекта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27280" y="1628640"/>
            <a:ext cx="651672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1</a:t>
            </a:r>
            <a:r>
              <a:rPr b="0" lang="en-US" sz="3600" spc="-1" strike="noStrike" u="sng">
                <a:solidFill>
                  <a:srgbClr val="9933ff"/>
                </a:solidFill>
                <a:uFillTx/>
                <a:latin typeface="Arial"/>
                <a:hlinkClick r:id="rId1"/>
              </a:rPr>
              <a:t>. </a:t>
            </a:r>
            <a:r>
              <a:rPr b="0" lang="en-US" sz="3600" spc="-1" strike="noStrike" u="sng">
                <a:solidFill>
                  <a:srgbClr val="9933ff"/>
                </a:solidFill>
                <a:uFillTx/>
                <a:latin typeface="Arial"/>
                <a:hlinkClick r:id="rId2"/>
              </a:rPr>
              <a:t>Экология сельскохозяйственных районов. Деревня опасная и безопасная.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2. </a:t>
            </a:r>
            <a:r>
              <a:rPr b="0" lang="en-US" sz="3600" spc="-1" strike="noStrike" u="sng">
                <a:solidFill>
                  <a:srgbClr val="9933ff"/>
                </a:solidFill>
                <a:uFillTx/>
                <a:latin typeface="Arial"/>
                <a:hlinkClick r:id="rId3"/>
              </a:rPr>
              <a:t>Какую воду мы пьем?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3. Квартира как экосистема.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0" y="4149720"/>
            <a:ext cx="1979640" cy="1486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0" y="2708280"/>
            <a:ext cx="1763640" cy="1322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rcRect l="25438" t="12197" r="26378" b="7169"/>
          <a:stretch/>
        </p:blipFill>
        <p:spPr>
          <a:xfrm>
            <a:off x="0" y="0"/>
            <a:ext cx="1928880" cy="2421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77080" y="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CDF-751D-474F-97CF-FAD532D5A2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Вывод 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99640" y="2276640"/>
            <a:ext cx="777564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Проведя исследования мы поняли, что наш дом (место, где ты живёшь, дом, в котором ты живёшь) давно перестал быть «крепостью». Здоровье людей, их физическое состояние и самочувствие во многом зависят от </a:t>
            </a:r>
            <a:r>
              <a:rPr b="1" i="1" lang="en-US" sz="1800" spc="-1" strike="noStrike" u="sng">
                <a:solidFill>
                  <a:srgbClr val="000080"/>
                </a:solidFill>
                <a:uFillTx/>
                <a:latin typeface="Arial"/>
              </a:rPr>
              <a:t>качества окружающей среды</a:t>
            </a: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Снова и снова мы слышим об опасности, грозящей окружающей среде и человеку, но до сих пор многие из нас считают их неприятным,  но неизбежным порождением цивилизации и полагают, что мы ещё успеем справиться со всеми выявившимися  затруднениями.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Создание </a:t>
            </a:r>
            <a:r>
              <a:rPr b="1" i="1" lang="en-US" sz="1800" spc="-1" strike="noStrike" u="sng">
                <a:solidFill>
                  <a:srgbClr val="000080"/>
                </a:solidFill>
                <a:uFillTx/>
                <a:latin typeface="Arial"/>
              </a:rPr>
              <a:t>оптимальных экологических условий жизни человека</a:t>
            </a: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 относится к числу важнейших задач. 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Каждый проект преобразования природы, любое воздействие на неё должны оцениваться и с позиций </a:t>
            </a:r>
            <a:r>
              <a:rPr b="1" i="1" lang="en-US" sz="1800" spc="-1" strike="noStrike" u="sng">
                <a:solidFill>
                  <a:srgbClr val="000080"/>
                </a:solidFill>
                <a:uFillTx/>
                <a:latin typeface="Arial"/>
              </a:rPr>
              <a:t>экологии человека</a:t>
            </a: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01880" cy="2101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324560" y="2602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EAE-B691-4F65-A94F-B284F338BD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 Black"/>
              </a:rPr>
              <a:t>Основополагающий вопрос</a:t>
            </a:r>
            <a:endParaRPr b="0" lang="en-US" sz="2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71640" y="1125360"/>
            <a:ext cx="7885080" cy="410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Твой дом - твоя крепость?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4751280" cy="3884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948360" y="0"/>
            <a:ext cx="181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4A92-29FF-4322-859B-392336C34B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50920" y="620640"/>
            <a:ext cx="506412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Проблемные темы  и вопросы.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2952720" cy="2214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741348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Экология сельскохозяйственных районов. Оценка экологического состояния с. Дмитриевка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Комфортное жилище – это факт или фантазия. Квартира – как экосистема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Исследовательская работа «Какую воду мы пьём?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24560" y="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F12-2C58-4FDD-A59E-692A1560F2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Участники проекта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17938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Учащиеся  8 класса – Боровая Настя, Романова Настя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284640"/>
            <a:ext cx="47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Руководитель: учитель географии и биологии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Ромашкина О.П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3170160" cy="2377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04000" y="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54F-EB99-4490-831E-B2BCE7065F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0360" y="22824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Этапы проведения проекта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340000" y="1468440"/>
            <a:ext cx="5904000" cy="4087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84360" cy="1862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324560" y="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4BAB-CC0C-49AF-BC49-C9C408FFD0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1789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87640" y="228240"/>
            <a:ext cx="5927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Актуальность темы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77564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Arial"/>
              </a:rPr>
              <a:t>С 70-х годов ХХ века с нарушением взаимосвязей внутри экосистемы, необратимыми явлениями в биосфере, вызванными антропогенной деятельностью, стали все более актуальными проблемы рационального природопользования и охраны окружающей среды. Бурное развитие техники при явно недостаточных или малоэффективных природоохранных мероприятиях привело к заметному ухудшению экологической обстановки, что грозит тяжелейшими последствиями, которые разрушают как саму среду обитания человека, так и его здоровье. Существенное загрязнение окружающей среды биологически вредными веществами, обострение радиационной обстановки, усиление энергетических полей технических систем, в том числе электронных — вот факторы, которые негативно отражаются на чистоте воздуха, воды, почвы, продуктов питания в первую очередь. </a:t>
            </a:r>
            <a:br>
              <a:rPr sz="1400"/>
            </a:br>
            <a:endParaRPr b="0" lang="en-US" sz="1400" spc="-1" strike="noStrike">
              <a:solidFill>
                <a:srgbClr val="00008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Arial"/>
              </a:rPr>
              <a:t>Интенсификация производства, сельского хозяйства, внедрение информационных технологий, глобальная компьютеризация всех отраслей деятельности человека существенно меняют среду его жизнедеятельности.</a:t>
            </a:r>
            <a:endParaRPr b="0" lang="en-US" sz="1400" spc="-1" strike="noStrike">
              <a:solidFill>
                <a:srgbClr val="00008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Arial"/>
              </a:rPr>
              <a:t>Многообразие переплетающихся между собой процессов, связывающих человеческий организм и среду его обитания, требуют комплексной оценки последствий непреднамеренного воздействия на окружающую среду и целенаправленного преобразования природы. Поэтому в решение современной экологической проблемы должны вносить вклад все области научного знания и отрасли техники.</a:t>
            </a:r>
            <a:br>
              <a:rPr sz="1400"/>
            </a:br>
            <a:endParaRPr b="0" lang="en-US" sz="1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20000" y="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902-5383-4C02-A04A-5AE9971DC3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71280" y="260280"/>
            <a:ext cx="8096040" cy="61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«Экология» -  в переводе с греческого,  дословно означает  - «описание жилища, дома», т. е. представляет собой науку о жилье и окружающей среде,  или </a:t>
            </a:r>
            <a:r>
              <a:rPr b="1" i="1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науку о местопребывании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360" y="3573360"/>
            <a:ext cx="2160720" cy="1906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211640" y="3933720"/>
            <a:ext cx="107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940360" y="3645000"/>
            <a:ext cx="2324160" cy="1743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324560" y="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5B7B-AE1F-4CF4-AABD-4C218A0D2A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Использованная литература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1688040"/>
            <a:ext cx="83883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80"/>
                </a:solidFill>
                <a:latin typeface="Times New Roman"/>
              </a:rPr>
              <a:t>Фадеева Т.А.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 "Экологические сказки(1-6 класс)" Учитель, Волг-д, 2003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buClr>
                <a:srgbClr val="0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.</a:t>
            </a:r>
            <a:r>
              <a:rPr b="1" lang="ru-RU" sz="1600" spc="-1" strike="noStrike">
                <a:solidFill>
                  <a:srgbClr val="000080"/>
                </a:solidFill>
                <a:latin typeface="Times New Roman"/>
              </a:rPr>
              <a:t>В.В. Балабанова, Т.В. Максимцева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 Пособие “Биология. Экология. Здоровый образ жизни” “Учитель”, В.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buClr>
                <a:srgbClr val="0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Times New Roman"/>
              </a:rPr>
              <a:t>Е.А.Криксунов, В.В.Пасечник 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"Экология (9класс)" М.: Дрофа,1999.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buClr>
                <a:srgbClr val="0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Times New Roman"/>
              </a:rPr>
              <a:t>Н.М. Мамедов, И.Т. Суравегина, С.Н. Глазачев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 "Оcновы общей экологии (для старшеклассников)."(12 шт.) МДС., М.,2002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buClr>
                <a:srgbClr val="0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80"/>
                </a:solidFill>
                <a:latin typeface="Times New Roman"/>
              </a:rPr>
              <a:t>Е.А. Криксунов, В.В. Пасечник 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"Экология-10(11) класс." Дрофа, М., 2004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buClr>
                <a:srgbClr val="0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80"/>
                </a:solidFill>
                <a:latin typeface="Times New Roman"/>
              </a:rPr>
              <a:t>И.Н. Пономарева, Н.М. Чернова 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Методич. пособие к учебнику Н.М. Черновой “Основы экологии” Дрофа, М., 2001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buClr>
                <a:srgbClr val="0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Times New Roman"/>
              </a:rPr>
              <a:t>Н.М. Чернова , В.М. Галушин, В.М. Константинов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 "Основы экологии-9 класс", М.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buClr>
                <a:srgbClr val="0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http://www.ecospace.ru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buClr>
                <a:srgbClr val="0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http://pogovorki.myfind.ru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buClr>
                <a:srgbClr val="0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http://www.likar.info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buClr>
                <a:srgbClr val="0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24560" y="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427-108D-4881-81C0-119CF7F6D4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11280" y="620640"/>
            <a:ext cx="5832360" cy="14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Исследование №1</a:t>
            </a:r>
            <a:br>
              <a:rPr sz="4000"/>
            </a:b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«Какую воду мы пьём?»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280" y="242100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80"/>
                </a:solidFill>
                <a:uFillTx/>
                <a:latin typeface="Arial"/>
              </a:rPr>
              <a:t>Цель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: определить качество питьевой воды в селе Дмитриевка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80"/>
                </a:solidFill>
                <a:uFillTx/>
                <a:latin typeface="Arial"/>
              </a:rPr>
              <a:t>Объект исследования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: питьевая вода из водопроводного края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80"/>
                </a:solidFill>
                <a:uFillTx/>
                <a:latin typeface="Arial"/>
              </a:rPr>
              <a:t>Метод: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эксперимент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8691" r="18495" b="25751"/>
          <a:stretch/>
        </p:blipFill>
        <p:spPr>
          <a:xfrm>
            <a:off x="0" y="0"/>
            <a:ext cx="3132000" cy="2035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324560" y="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32C-78D3-4D00-8016-C10A5DF8A6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13:35:54Z</dcterms:created>
  <dc:creator>Orenburg</dc:creator>
  <dc:description/>
  <dc:language>en-US</dc:language>
  <cp:lastModifiedBy>Пользователь</cp:lastModifiedBy>
  <dcterms:modified xsi:type="dcterms:W3CDTF">2008-05-28T06:45:36Z</dcterms:modified>
  <cp:revision>19</cp:revision>
  <dc:subject/>
  <dc:title>Муниципальное общеобразовательное учреждение «Дмитриевская средняя общеобразовательная школ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