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544320"/>
            <a:ext cx="822960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8229600" cy="19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955320"/>
            <a:ext cx="8229600" cy="19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544320"/>
            <a:ext cx="822960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4015800" cy="19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773360"/>
            <a:ext cx="4015800" cy="19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55320"/>
            <a:ext cx="4015800" cy="19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955320"/>
            <a:ext cx="4015800" cy="19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544320"/>
            <a:ext cx="822960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2649600" cy="19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773360"/>
            <a:ext cx="2649600" cy="19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773360"/>
            <a:ext cx="2649600" cy="19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955320"/>
            <a:ext cx="2649600" cy="19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955320"/>
            <a:ext cx="2649600" cy="19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955320"/>
            <a:ext cx="2649600" cy="19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544320"/>
            <a:ext cx="822960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77336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544320"/>
            <a:ext cx="822960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544320"/>
            <a:ext cx="822960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40158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773360"/>
            <a:ext cx="40158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44320"/>
            <a:ext cx="822960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544320"/>
            <a:ext cx="8229600" cy="46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544320"/>
            <a:ext cx="822960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4015800" cy="19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773360"/>
            <a:ext cx="40158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55320"/>
            <a:ext cx="4015800" cy="19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544320"/>
            <a:ext cx="822960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77336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544320"/>
            <a:ext cx="822960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40158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773360"/>
            <a:ext cx="4015800" cy="19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55320"/>
            <a:ext cx="4015800" cy="19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44320"/>
            <a:ext cx="822960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4015800" cy="19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773360"/>
            <a:ext cx="4015800" cy="19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55320"/>
            <a:ext cx="8229600" cy="19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44320"/>
            <a:ext cx="822960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8229600" cy="19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55320"/>
            <a:ext cx="8229600" cy="19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544320"/>
            <a:ext cx="822960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4015800" cy="19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773360"/>
            <a:ext cx="4015800" cy="19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55320"/>
            <a:ext cx="4015800" cy="19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55320"/>
            <a:ext cx="4015800" cy="19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544320"/>
            <a:ext cx="822960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2649600" cy="19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773360"/>
            <a:ext cx="2649600" cy="19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773360"/>
            <a:ext cx="2649600" cy="19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55320"/>
            <a:ext cx="2649600" cy="19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55320"/>
            <a:ext cx="2649600" cy="19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55320"/>
            <a:ext cx="2649600" cy="19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44320"/>
            <a:ext cx="822960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44320"/>
            <a:ext cx="822960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40158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773360"/>
            <a:ext cx="40158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544320"/>
            <a:ext cx="822960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544320"/>
            <a:ext cx="8229600" cy="46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544320"/>
            <a:ext cx="822960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4015800" cy="19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773360"/>
            <a:ext cx="40158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55320"/>
            <a:ext cx="4015800" cy="19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544320"/>
            <a:ext cx="822960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40158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773360"/>
            <a:ext cx="4015800" cy="19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955320"/>
            <a:ext cx="4015800" cy="19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544320"/>
            <a:ext cx="822960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4015800" cy="19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773360"/>
            <a:ext cx="4015800" cy="19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55320"/>
            <a:ext cx="8229600" cy="19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093000"/>
            <a:ext cx="9144000" cy="765000"/>
          </a:xfrm>
          <a:prstGeom prst="rect">
            <a:avLst/>
          </a:prstGeom>
          <a:solidFill>
            <a:srgbClr val="255eb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3a79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750480" y="6332400"/>
            <a:ext cx="164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www.mubint.r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544320"/>
            <a:ext cx="822960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77336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00080" y="44280"/>
            <a:ext cx="915840" cy="236520"/>
            <a:chOff x="100080" y="44280"/>
            <a:chExt cx="915840" cy="236520"/>
          </a:xfrm>
        </p:grpSpPr>
        <p:sp>
          <p:nvSpPr>
            <p:cNvPr id="6" name=""/>
            <p:cNvSpPr/>
            <p:nvPr/>
          </p:nvSpPr>
          <p:spPr>
            <a:xfrm>
              <a:off x="141120" y="44280"/>
              <a:ext cx="835200" cy="150840"/>
            </a:xfrm>
            <a:custGeom>
              <a:avLst/>
              <a:gdLst/>
              <a:ahLst/>
              <a:rect l="l" t="t" r="r" b="b"/>
              <a:pathLst>
                <a:path w="13668" h="2450">
                  <a:moveTo>
                    <a:pt x="7869" y="794"/>
                  </a:moveTo>
                  <a:lnTo>
                    <a:pt x="7869" y="1106"/>
                  </a:lnTo>
                  <a:lnTo>
                    <a:pt x="8062" y="1106"/>
                  </a:lnTo>
                  <a:lnTo>
                    <a:pt x="8062" y="1616"/>
                  </a:lnTo>
                  <a:lnTo>
                    <a:pt x="8063" y="1637"/>
                  </a:lnTo>
                  <a:lnTo>
                    <a:pt x="8066" y="1657"/>
                  </a:lnTo>
                  <a:lnTo>
                    <a:pt x="8070" y="1675"/>
                  </a:lnTo>
                  <a:lnTo>
                    <a:pt x="8077" y="1693"/>
                  </a:lnTo>
                  <a:lnTo>
                    <a:pt x="8084" y="1710"/>
                  </a:lnTo>
                  <a:lnTo>
                    <a:pt x="8093" y="1724"/>
                  </a:lnTo>
                  <a:lnTo>
                    <a:pt x="8103" y="1738"/>
                  </a:lnTo>
                  <a:lnTo>
                    <a:pt x="8114" y="1750"/>
                  </a:lnTo>
                  <a:lnTo>
                    <a:pt x="8125" y="1762"/>
                  </a:lnTo>
                  <a:lnTo>
                    <a:pt x="8139" y="1772"/>
                  </a:lnTo>
                  <a:lnTo>
                    <a:pt x="8153" y="1780"/>
                  </a:lnTo>
                  <a:lnTo>
                    <a:pt x="8167" y="1787"/>
                  </a:lnTo>
                  <a:lnTo>
                    <a:pt x="8182" y="1792"/>
                  </a:lnTo>
                  <a:lnTo>
                    <a:pt x="8198" y="1796"/>
                  </a:lnTo>
                  <a:lnTo>
                    <a:pt x="8213" y="1798"/>
                  </a:lnTo>
                  <a:lnTo>
                    <a:pt x="8229" y="1799"/>
                  </a:lnTo>
                  <a:lnTo>
                    <a:pt x="8242" y="1798"/>
                  </a:lnTo>
                  <a:lnTo>
                    <a:pt x="8257" y="1796"/>
                  </a:lnTo>
                  <a:lnTo>
                    <a:pt x="8271" y="1793"/>
                  </a:lnTo>
                  <a:lnTo>
                    <a:pt x="8285" y="1789"/>
                  </a:lnTo>
                  <a:lnTo>
                    <a:pt x="8299" y="1783"/>
                  </a:lnTo>
                  <a:lnTo>
                    <a:pt x="8313" y="1776"/>
                  </a:lnTo>
                  <a:lnTo>
                    <a:pt x="8326" y="1768"/>
                  </a:lnTo>
                  <a:lnTo>
                    <a:pt x="8339" y="1757"/>
                  </a:lnTo>
                  <a:lnTo>
                    <a:pt x="8350" y="1745"/>
                  </a:lnTo>
                  <a:lnTo>
                    <a:pt x="8361" y="1732"/>
                  </a:lnTo>
                  <a:lnTo>
                    <a:pt x="8366" y="1725"/>
                  </a:lnTo>
                  <a:lnTo>
                    <a:pt x="8372" y="1717"/>
                  </a:lnTo>
                  <a:lnTo>
                    <a:pt x="8376" y="1709"/>
                  </a:lnTo>
                  <a:lnTo>
                    <a:pt x="8380" y="1700"/>
                  </a:lnTo>
                  <a:lnTo>
                    <a:pt x="8383" y="1692"/>
                  </a:lnTo>
                  <a:lnTo>
                    <a:pt x="8386" y="1681"/>
                  </a:lnTo>
                  <a:lnTo>
                    <a:pt x="8389" y="1672"/>
                  </a:lnTo>
                  <a:lnTo>
                    <a:pt x="8391" y="1662"/>
                  </a:lnTo>
                  <a:lnTo>
                    <a:pt x="8393" y="1651"/>
                  </a:lnTo>
                  <a:lnTo>
                    <a:pt x="8394" y="1640"/>
                  </a:lnTo>
                  <a:lnTo>
                    <a:pt x="8395" y="1628"/>
                  </a:lnTo>
                  <a:lnTo>
                    <a:pt x="8395" y="1616"/>
                  </a:lnTo>
                  <a:lnTo>
                    <a:pt x="8395" y="1111"/>
                  </a:lnTo>
                  <a:lnTo>
                    <a:pt x="8749" y="1111"/>
                  </a:lnTo>
                  <a:lnTo>
                    <a:pt x="8749" y="2412"/>
                  </a:lnTo>
                  <a:lnTo>
                    <a:pt x="9082" y="2412"/>
                  </a:lnTo>
                  <a:lnTo>
                    <a:pt x="9082" y="792"/>
                  </a:lnTo>
                  <a:lnTo>
                    <a:pt x="7869" y="794"/>
                  </a:lnTo>
                  <a:close/>
                  <a:moveTo>
                    <a:pt x="4253" y="41"/>
                  </a:moveTo>
                  <a:lnTo>
                    <a:pt x="4253" y="353"/>
                  </a:lnTo>
                  <a:lnTo>
                    <a:pt x="4495" y="353"/>
                  </a:lnTo>
                  <a:lnTo>
                    <a:pt x="4495" y="1460"/>
                  </a:lnTo>
                  <a:lnTo>
                    <a:pt x="4495" y="1501"/>
                  </a:lnTo>
                  <a:lnTo>
                    <a:pt x="4493" y="1541"/>
                  </a:lnTo>
                  <a:lnTo>
                    <a:pt x="4489" y="1580"/>
                  </a:lnTo>
                  <a:lnTo>
                    <a:pt x="4484" y="1617"/>
                  </a:lnTo>
                  <a:lnTo>
                    <a:pt x="4478" y="1653"/>
                  </a:lnTo>
                  <a:lnTo>
                    <a:pt x="4470" y="1688"/>
                  </a:lnTo>
                  <a:lnTo>
                    <a:pt x="4461" y="1720"/>
                  </a:lnTo>
                  <a:lnTo>
                    <a:pt x="4452" y="1752"/>
                  </a:lnTo>
                  <a:lnTo>
                    <a:pt x="4441" y="1783"/>
                  </a:lnTo>
                  <a:lnTo>
                    <a:pt x="4429" y="1811"/>
                  </a:lnTo>
                  <a:lnTo>
                    <a:pt x="4414" y="1840"/>
                  </a:lnTo>
                  <a:lnTo>
                    <a:pt x="4400" y="1866"/>
                  </a:lnTo>
                  <a:lnTo>
                    <a:pt x="4384" y="1890"/>
                  </a:lnTo>
                  <a:lnTo>
                    <a:pt x="4367" y="1915"/>
                  </a:lnTo>
                  <a:lnTo>
                    <a:pt x="4349" y="1937"/>
                  </a:lnTo>
                  <a:lnTo>
                    <a:pt x="4330" y="1958"/>
                  </a:lnTo>
                  <a:lnTo>
                    <a:pt x="4310" y="1978"/>
                  </a:lnTo>
                  <a:lnTo>
                    <a:pt x="4288" y="1997"/>
                  </a:lnTo>
                  <a:lnTo>
                    <a:pt x="4266" y="2014"/>
                  </a:lnTo>
                  <a:lnTo>
                    <a:pt x="4243" y="2029"/>
                  </a:lnTo>
                  <a:lnTo>
                    <a:pt x="4219" y="2045"/>
                  </a:lnTo>
                  <a:lnTo>
                    <a:pt x="4194" y="2058"/>
                  </a:lnTo>
                  <a:lnTo>
                    <a:pt x="4168" y="2070"/>
                  </a:lnTo>
                  <a:lnTo>
                    <a:pt x="4141" y="2080"/>
                  </a:lnTo>
                  <a:lnTo>
                    <a:pt x="4113" y="2090"/>
                  </a:lnTo>
                  <a:lnTo>
                    <a:pt x="4085" y="2098"/>
                  </a:lnTo>
                  <a:lnTo>
                    <a:pt x="4055" y="2105"/>
                  </a:lnTo>
                  <a:lnTo>
                    <a:pt x="4025" y="2111"/>
                  </a:lnTo>
                  <a:lnTo>
                    <a:pt x="3994" y="2116"/>
                  </a:lnTo>
                  <a:lnTo>
                    <a:pt x="3963" y="2119"/>
                  </a:lnTo>
                  <a:lnTo>
                    <a:pt x="3930" y="2121"/>
                  </a:lnTo>
                  <a:lnTo>
                    <a:pt x="3897" y="2121"/>
                  </a:lnTo>
                  <a:lnTo>
                    <a:pt x="3853" y="2120"/>
                  </a:lnTo>
                  <a:lnTo>
                    <a:pt x="3808" y="2118"/>
                  </a:lnTo>
                  <a:lnTo>
                    <a:pt x="3763" y="2113"/>
                  </a:lnTo>
                  <a:lnTo>
                    <a:pt x="3720" y="2106"/>
                  </a:lnTo>
                  <a:lnTo>
                    <a:pt x="3676" y="2098"/>
                  </a:lnTo>
                  <a:lnTo>
                    <a:pt x="3633" y="2089"/>
                  </a:lnTo>
                  <a:lnTo>
                    <a:pt x="3589" y="2077"/>
                  </a:lnTo>
                  <a:lnTo>
                    <a:pt x="3548" y="2065"/>
                  </a:lnTo>
                  <a:lnTo>
                    <a:pt x="3505" y="2050"/>
                  </a:lnTo>
                  <a:lnTo>
                    <a:pt x="3464" y="2033"/>
                  </a:lnTo>
                  <a:lnTo>
                    <a:pt x="3424" y="2016"/>
                  </a:lnTo>
                  <a:lnTo>
                    <a:pt x="3383" y="1996"/>
                  </a:lnTo>
                  <a:lnTo>
                    <a:pt x="3344" y="1976"/>
                  </a:lnTo>
                  <a:lnTo>
                    <a:pt x="3306" y="1953"/>
                  </a:lnTo>
                  <a:lnTo>
                    <a:pt x="3268" y="1929"/>
                  </a:lnTo>
                  <a:lnTo>
                    <a:pt x="3231" y="1904"/>
                  </a:lnTo>
                  <a:lnTo>
                    <a:pt x="3231" y="2263"/>
                  </a:lnTo>
                  <a:lnTo>
                    <a:pt x="3265" y="2281"/>
                  </a:lnTo>
                  <a:lnTo>
                    <a:pt x="3301" y="2298"/>
                  </a:lnTo>
                  <a:lnTo>
                    <a:pt x="3337" y="2315"/>
                  </a:lnTo>
                  <a:lnTo>
                    <a:pt x="3376" y="2333"/>
                  </a:lnTo>
                  <a:lnTo>
                    <a:pt x="3416" y="2349"/>
                  </a:lnTo>
                  <a:lnTo>
                    <a:pt x="3457" y="2364"/>
                  </a:lnTo>
                  <a:lnTo>
                    <a:pt x="3499" y="2378"/>
                  </a:lnTo>
                  <a:lnTo>
                    <a:pt x="3542" y="2392"/>
                  </a:lnTo>
                  <a:lnTo>
                    <a:pt x="3585" y="2405"/>
                  </a:lnTo>
                  <a:lnTo>
                    <a:pt x="3630" y="2416"/>
                  </a:lnTo>
                  <a:lnTo>
                    <a:pt x="3675" y="2426"/>
                  </a:lnTo>
                  <a:lnTo>
                    <a:pt x="3721" y="2434"/>
                  </a:lnTo>
                  <a:lnTo>
                    <a:pt x="3766" y="2441"/>
                  </a:lnTo>
                  <a:lnTo>
                    <a:pt x="3812" y="2446"/>
                  </a:lnTo>
                  <a:lnTo>
                    <a:pt x="3835" y="2447"/>
                  </a:lnTo>
                  <a:lnTo>
                    <a:pt x="3858" y="2449"/>
                  </a:lnTo>
                  <a:lnTo>
                    <a:pt x="3880" y="2449"/>
                  </a:lnTo>
                  <a:lnTo>
                    <a:pt x="3904" y="2450"/>
                  </a:lnTo>
                  <a:lnTo>
                    <a:pt x="3945" y="2449"/>
                  </a:lnTo>
                  <a:lnTo>
                    <a:pt x="3987" y="2447"/>
                  </a:lnTo>
                  <a:lnTo>
                    <a:pt x="4030" y="2442"/>
                  </a:lnTo>
                  <a:lnTo>
                    <a:pt x="4072" y="2437"/>
                  </a:lnTo>
                  <a:lnTo>
                    <a:pt x="4113" y="2429"/>
                  </a:lnTo>
                  <a:lnTo>
                    <a:pt x="4155" y="2420"/>
                  </a:lnTo>
                  <a:lnTo>
                    <a:pt x="4197" y="2409"/>
                  </a:lnTo>
                  <a:lnTo>
                    <a:pt x="4237" y="2396"/>
                  </a:lnTo>
                  <a:lnTo>
                    <a:pt x="4278" y="2381"/>
                  </a:lnTo>
                  <a:lnTo>
                    <a:pt x="4318" y="2364"/>
                  </a:lnTo>
                  <a:lnTo>
                    <a:pt x="4356" y="2346"/>
                  </a:lnTo>
                  <a:lnTo>
                    <a:pt x="4395" y="2325"/>
                  </a:lnTo>
                  <a:lnTo>
                    <a:pt x="4433" y="2302"/>
                  </a:lnTo>
                  <a:lnTo>
                    <a:pt x="4468" y="2277"/>
                  </a:lnTo>
                  <a:lnTo>
                    <a:pt x="4504" y="2250"/>
                  </a:lnTo>
                  <a:lnTo>
                    <a:pt x="4538" y="2221"/>
                  </a:lnTo>
                  <a:lnTo>
                    <a:pt x="4571" y="2191"/>
                  </a:lnTo>
                  <a:lnTo>
                    <a:pt x="4602" y="2157"/>
                  </a:lnTo>
                  <a:lnTo>
                    <a:pt x="4632" y="2122"/>
                  </a:lnTo>
                  <a:lnTo>
                    <a:pt x="4660" y="2084"/>
                  </a:lnTo>
                  <a:lnTo>
                    <a:pt x="4686" y="2045"/>
                  </a:lnTo>
                  <a:lnTo>
                    <a:pt x="4711" y="2002"/>
                  </a:lnTo>
                  <a:lnTo>
                    <a:pt x="4734" y="1957"/>
                  </a:lnTo>
                  <a:lnTo>
                    <a:pt x="4755" y="1911"/>
                  </a:lnTo>
                  <a:lnTo>
                    <a:pt x="4774" y="1861"/>
                  </a:lnTo>
                  <a:lnTo>
                    <a:pt x="4790" y="1809"/>
                  </a:lnTo>
                  <a:lnTo>
                    <a:pt x="4804" y="1755"/>
                  </a:lnTo>
                  <a:lnTo>
                    <a:pt x="4816" y="1699"/>
                  </a:lnTo>
                  <a:lnTo>
                    <a:pt x="4825" y="1640"/>
                  </a:lnTo>
                  <a:lnTo>
                    <a:pt x="4833" y="1578"/>
                  </a:lnTo>
                  <a:lnTo>
                    <a:pt x="4837" y="1513"/>
                  </a:lnTo>
                  <a:lnTo>
                    <a:pt x="4839" y="1446"/>
                  </a:lnTo>
                  <a:lnTo>
                    <a:pt x="4839" y="40"/>
                  </a:lnTo>
                  <a:lnTo>
                    <a:pt x="4253" y="41"/>
                  </a:lnTo>
                  <a:close/>
                  <a:moveTo>
                    <a:pt x="10070" y="2098"/>
                  </a:moveTo>
                  <a:lnTo>
                    <a:pt x="9715" y="2098"/>
                  </a:lnTo>
                  <a:lnTo>
                    <a:pt x="9715" y="369"/>
                  </a:lnTo>
                  <a:lnTo>
                    <a:pt x="10109" y="369"/>
                  </a:lnTo>
                  <a:lnTo>
                    <a:pt x="10109" y="1026"/>
                  </a:lnTo>
                  <a:lnTo>
                    <a:pt x="10616" y="1026"/>
                  </a:lnTo>
                  <a:lnTo>
                    <a:pt x="10616" y="698"/>
                  </a:lnTo>
                  <a:lnTo>
                    <a:pt x="10453" y="698"/>
                  </a:lnTo>
                  <a:lnTo>
                    <a:pt x="10453" y="40"/>
                  </a:lnTo>
                  <a:lnTo>
                    <a:pt x="9372" y="40"/>
                  </a:lnTo>
                  <a:lnTo>
                    <a:pt x="9372" y="2412"/>
                  </a:lnTo>
                  <a:lnTo>
                    <a:pt x="10070" y="2410"/>
                  </a:lnTo>
                  <a:lnTo>
                    <a:pt x="10070" y="2098"/>
                  </a:lnTo>
                  <a:close/>
                  <a:moveTo>
                    <a:pt x="10623" y="41"/>
                  </a:moveTo>
                  <a:lnTo>
                    <a:pt x="10623" y="353"/>
                  </a:lnTo>
                  <a:lnTo>
                    <a:pt x="11010" y="353"/>
                  </a:lnTo>
                  <a:lnTo>
                    <a:pt x="11010" y="2083"/>
                  </a:lnTo>
                  <a:lnTo>
                    <a:pt x="10616" y="2083"/>
                  </a:lnTo>
                  <a:lnTo>
                    <a:pt x="10616" y="1378"/>
                  </a:lnTo>
                  <a:lnTo>
                    <a:pt x="10109" y="1378"/>
                  </a:lnTo>
                  <a:lnTo>
                    <a:pt x="10109" y="1708"/>
                  </a:lnTo>
                  <a:lnTo>
                    <a:pt x="10273" y="1708"/>
                  </a:lnTo>
                  <a:lnTo>
                    <a:pt x="10273" y="2412"/>
                  </a:lnTo>
                  <a:lnTo>
                    <a:pt x="11353" y="2412"/>
                  </a:lnTo>
                  <a:lnTo>
                    <a:pt x="11353" y="40"/>
                  </a:lnTo>
                  <a:lnTo>
                    <a:pt x="10623" y="41"/>
                  </a:lnTo>
                  <a:close/>
                  <a:moveTo>
                    <a:pt x="12545" y="41"/>
                  </a:moveTo>
                  <a:lnTo>
                    <a:pt x="13668" y="40"/>
                  </a:lnTo>
                  <a:lnTo>
                    <a:pt x="13668" y="369"/>
                  </a:lnTo>
                  <a:lnTo>
                    <a:pt x="13146" y="369"/>
                  </a:lnTo>
                  <a:lnTo>
                    <a:pt x="13146" y="2412"/>
                  </a:lnTo>
                  <a:lnTo>
                    <a:pt x="12064" y="2412"/>
                  </a:lnTo>
                  <a:lnTo>
                    <a:pt x="12064" y="369"/>
                  </a:lnTo>
                  <a:lnTo>
                    <a:pt x="11538" y="369"/>
                  </a:lnTo>
                  <a:lnTo>
                    <a:pt x="11538" y="40"/>
                  </a:lnTo>
                  <a:lnTo>
                    <a:pt x="12408" y="40"/>
                  </a:lnTo>
                  <a:lnTo>
                    <a:pt x="12408" y="2083"/>
                  </a:lnTo>
                  <a:lnTo>
                    <a:pt x="12802" y="2083"/>
                  </a:lnTo>
                  <a:lnTo>
                    <a:pt x="12802" y="354"/>
                  </a:lnTo>
                  <a:lnTo>
                    <a:pt x="12545" y="354"/>
                  </a:lnTo>
                  <a:lnTo>
                    <a:pt x="12545" y="41"/>
                  </a:lnTo>
                  <a:close/>
                  <a:moveTo>
                    <a:pt x="7709" y="792"/>
                  </a:moveTo>
                  <a:lnTo>
                    <a:pt x="7376" y="792"/>
                  </a:lnTo>
                  <a:lnTo>
                    <a:pt x="7376" y="1718"/>
                  </a:lnTo>
                  <a:lnTo>
                    <a:pt x="7377" y="1761"/>
                  </a:lnTo>
                  <a:lnTo>
                    <a:pt x="7380" y="1802"/>
                  </a:lnTo>
                  <a:lnTo>
                    <a:pt x="7384" y="1843"/>
                  </a:lnTo>
                  <a:lnTo>
                    <a:pt x="7390" y="1882"/>
                  </a:lnTo>
                  <a:lnTo>
                    <a:pt x="7398" y="1921"/>
                  </a:lnTo>
                  <a:lnTo>
                    <a:pt x="7407" y="1957"/>
                  </a:lnTo>
                  <a:lnTo>
                    <a:pt x="7417" y="1994"/>
                  </a:lnTo>
                  <a:lnTo>
                    <a:pt x="7431" y="2028"/>
                  </a:lnTo>
                  <a:lnTo>
                    <a:pt x="7444" y="2061"/>
                  </a:lnTo>
                  <a:lnTo>
                    <a:pt x="7459" y="2093"/>
                  </a:lnTo>
                  <a:lnTo>
                    <a:pt x="7475" y="2124"/>
                  </a:lnTo>
                  <a:lnTo>
                    <a:pt x="7494" y="2153"/>
                  </a:lnTo>
                  <a:lnTo>
                    <a:pt x="7512" y="2182"/>
                  </a:lnTo>
                  <a:lnTo>
                    <a:pt x="7532" y="2208"/>
                  </a:lnTo>
                  <a:lnTo>
                    <a:pt x="7554" y="2234"/>
                  </a:lnTo>
                  <a:lnTo>
                    <a:pt x="7576" y="2258"/>
                  </a:lnTo>
                  <a:lnTo>
                    <a:pt x="7599" y="2281"/>
                  </a:lnTo>
                  <a:lnTo>
                    <a:pt x="7624" y="2302"/>
                  </a:lnTo>
                  <a:lnTo>
                    <a:pt x="7648" y="2322"/>
                  </a:lnTo>
                  <a:lnTo>
                    <a:pt x="7675" y="2341"/>
                  </a:lnTo>
                  <a:lnTo>
                    <a:pt x="7702" y="2358"/>
                  </a:lnTo>
                  <a:lnTo>
                    <a:pt x="7730" y="2373"/>
                  </a:lnTo>
                  <a:lnTo>
                    <a:pt x="7758" y="2388"/>
                  </a:lnTo>
                  <a:lnTo>
                    <a:pt x="7788" y="2401"/>
                  </a:lnTo>
                  <a:lnTo>
                    <a:pt x="7817" y="2413"/>
                  </a:lnTo>
                  <a:lnTo>
                    <a:pt x="7848" y="2422"/>
                  </a:lnTo>
                  <a:lnTo>
                    <a:pt x="7878" y="2431"/>
                  </a:lnTo>
                  <a:lnTo>
                    <a:pt x="7910" y="2437"/>
                  </a:lnTo>
                  <a:lnTo>
                    <a:pt x="7941" y="2443"/>
                  </a:lnTo>
                  <a:lnTo>
                    <a:pt x="7974" y="2447"/>
                  </a:lnTo>
                  <a:lnTo>
                    <a:pt x="8005" y="2449"/>
                  </a:lnTo>
                  <a:lnTo>
                    <a:pt x="8039" y="2450"/>
                  </a:lnTo>
                  <a:lnTo>
                    <a:pt x="8070" y="2449"/>
                  </a:lnTo>
                  <a:lnTo>
                    <a:pt x="8101" y="2447"/>
                  </a:lnTo>
                  <a:lnTo>
                    <a:pt x="8130" y="2445"/>
                  </a:lnTo>
                  <a:lnTo>
                    <a:pt x="8158" y="2441"/>
                  </a:lnTo>
                  <a:lnTo>
                    <a:pt x="8184" y="2437"/>
                  </a:lnTo>
                  <a:lnTo>
                    <a:pt x="8210" y="2431"/>
                  </a:lnTo>
                  <a:lnTo>
                    <a:pt x="8234" y="2426"/>
                  </a:lnTo>
                  <a:lnTo>
                    <a:pt x="8257" y="2419"/>
                  </a:lnTo>
                  <a:lnTo>
                    <a:pt x="8279" y="2412"/>
                  </a:lnTo>
                  <a:lnTo>
                    <a:pt x="8299" y="2405"/>
                  </a:lnTo>
                  <a:lnTo>
                    <a:pt x="8319" y="2397"/>
                  </a:lnTo>
                  <a:lnTo>
                    <a:pt x="8337" y="2388"/>
                  </a:lnTo>
                  <a:lnTo>
                    <a:pt x="8354" y="2380"/>
                  </a:lnTo>
                  <a:lnTo>
                    <a:pt x="8370" y="2371"/>
                  </a:lnTo>
                  <a:lnTo>
                    <a:pt x="8385" y="2363"/>
                  </a:lnTo>
                  <a:lnTo>
                    <a:pt x="8399" y="2355"/>
                  </a:lnTo>
                  <a:lnTo>
                    <a:pt x="8399" y="2019"/>
                  </a:lnTo>
                  <a:lnTo>
                    <a:pt x="8379" y="2036"/>
                  </a:lnTo>
                  <a:lnTo>
                    <a:pt x="8354" y="2055"/>
                  </a:lnTo>
                  <a:lnTo>
                    <a:pt x="8341" y="2065"/>
                  </a:lnTo>
                  <a:lnTo>
                    <a:pt x="8326" y="2074"/>
                  </a:lnTo>
                  <a:lnTo>
                    <a:pt x="8309" y="2083"/>
                  </a:lnTo>
                  <a:lnTo>
                    <a:pt x="8292" y="2091"/>
                  </a:lnTo>
                  <a:lnTo>
                    <a:pt x="8274" y="2099"/>
                  </a:lnTo>
                  <a:lnTo>
                    <a:pt x="8255" y="2107"/>
                  </a:lnTo>
                  <a:lnTo>
                    <a:pt x="8233" y="2114"/>
                  </a:lnTo>
                  <a:lnTo>
                    <a:pt x="8212" y="2120"/>
                  </a:lnTo>
                  <a:lnTo>
                    <a:pt x="8188" y="2125"/>
                  </a:lnTo>
                  <a:lnTo>
                    <a:pt x="8163" y="2128"/>
                  </a:lnTo>
                  <a:lnTo>
                    <a:pt x="8138" y="2130"/>
                  </a:lnTo>
                  <a:lnTo>
                    <a:pt x="8110" y="2131"/>
                  </a:lnTo>
                  <a:lnTo>
                    <a:pt x="8090" y="2131"/>
                  </a:lnTo>
                  <a:lnTo>
                    <a:pt x="8070" y="2129"/>
                  </a:lnTo>
                  <a:lnTo>
                    <a:pt x="8050" y="2127"/>
                  </a:lnTo>
                  <a:lnTo>
                    <a:pt x="8031" y="2124"/>
                  </a:lnTo>
                  <a:lnTo>
                    <a:pt x="8012" y="2120"/>
                  </a:lnTo>
                  <a:lnTo>
                    <a:pt x="7993" y="2114"/>
                  </a:lnTo>
                  <a:lnTo>
                    <a:pt x="7975" y="2107"/>
                  </a:lnTo>
                  <a:lnTo>
                    <a:pt x="7957" y="2101"/>
                  </a:lnTo>
                  <a:lnTo>
                    <a:pt x="7939" y="2093"/>
                  </a:lnTo>
                  <a:lnTo>
                    <a:pt x="7922" y="2084"/>
                  </a:lnTo>
                  <a:lnTo>
                    <a:pt x="7906" y="2075"/>
                  </a:lnTo>
                  <a:lnTo>
                    <a:pt x="7889" y="2064"/>
                  </a:lnTo>
                  <a:lnTo>
                    <a:pt x="7873" y="2053"/>
                  </a:lnTo>
                  <a:lnTo>
                    <a:pt x="7858" y="2041"/>
                  </a:lnTo>
                  <a:lnTo>
                    <a:pt x="7844" y="2027"/>
                  </a:lnTo>
                  <a:lnTo>
                    <a:pt x="7829" y="2013"/>
                  </a:lnTo>
                  <a:lnTo>
                    <a:pt x="7816" y="1998"/>
                  </a:lnTo>
                  <a:lnTo>
                    <a:pt x="7803" y="1982"/>
                  </a:lnTo>
                  <a:lnTo>
                    <a:pt x="7791" y="1965"/>
                  </a:lnTo>
                  <a:lnTo>
                    <a:pt x="7780" y="1948"/>
                  </a:lnTo>
                  <a:lnTo>
                    <a:pt x="7768" y="1930"/>
                  </a:lnTo>
                  <a:lnTo>
                    <a:pt x="7759" y="1911"/>
                  </a:lnTo>
                  <a:lnTo>
                    <a:pt x="7750" y="1890"/>
                  </a:lnTo>
                  <a:lnTo>
                    <a:pt x="7742" y="1869"/>
                  </a:lnTo>
                  <a:lnTo>
                    <a:pt x="7734" y="1848"/>
                  </a:lnTo>
                  <a:lnTo>
                    <a:pt x="7728" y="1825"/>
                  </a:lnTo>
                  <a:lnTo>
                    <a:pt x="7722" y="1802"/>
                  </a:lnTo>
                  <a:lnTo>
                    <a:pt x="7717" y="1778"/>
                  </a:lnTo>
                  <a:lnTo>
                    <a:pt x="7713" y="1752"/>
                  </a:lnTo>
                  <a:lnTo>
                    <a:pt x="7711" y="1727"/>
                  </a:lnTo>
                  <a:lnTo>
                    <a:pt x="7709" y="1701"/>
                  </a:lnTo>
                  <a:lnTo>
                    <a:pt x="7709" y="1673"/>
                  </a:lnTo>
                  <a:lnTo>
                    <a:pt x="7709" y="792"/>
                  </a:lnTo>
                  <a:close/>
                  <a:moveTo>
                    <a:pt x="6791" y="40"/>
                  </a:moveTo>
                  <a:lnTo>
                    <a:pt x="5190" y="40"/>
                  </a:lnTo>
                  <a:lnTo>
                    <a:pt x="5190" y="1463"/>
                  </a:lnTo>
                  <a:lnTo>
                    <a:pt x="5191" y="1515"/>
                  </a:lnTo>
                  <a:lnTo>
                    <a:pt x="5194" y="1566"/>
                  </a:lnTo>
                  <a:lnTo>
                    <a:pt x="5199" y="1617"/>
                  </a:lnTo>
                  <a:lnTo>
                    <a:pt x="5206" y="1665"/>
                  </a:lnTo>
                  <a:lnTo>
                    <a:pt x="5215" y="1714"/>
                  </a:lnTo>
                  <a:lnTo>
                    <a:pt x="5227" y="1761"/>
                  </a:lnTo>
                  <a:lnTo>
                    <a:pt x="5239" y="1807"/>
                  </a:lnTo>
                  <a:lnTo>
                    <a:pt x="5255" y="1852"/>
                  </a:lnTo>
                  <a:lnTo>
                    <a:pt x="5272" y="1895"/>
                  </a:lnTo>
                  <a:lnTo>
                    <a:pt x="5291" y="1938"/>
                  </a:lnTo>
                  <a:lnTo>
                    <a:pt x="5312" y="1980"/>
                  </a:lnTo>
                  <a:lnTo>
                    <a:pt x="5334" y="2020"/>
                  </a:lnTo>
                  <a:lnTo>
                    <a:pt x="5358" y="2059"/>
                  </a:lnTo>
                  <a:lnTo>
                    <a:pt x="5384" y="2095"/>
                  </a:lnTo>
                  <a:lnTo>
                    <a:pt x="5411" y="2131"/>
                  </a:lnTo>
                  <a:lnTo>
                    <a:pt x="5441" y="2165"/>
                  </a:lnTo>
                  <a:lnTo>
                    <a:pt x="5472" y="2198"/>
                  </a:lnTo>
                  <a:lnTo>
                    <a:pt x="5504" y="2228"/>
                  </a:lnTo>
                  <a:lnTo>
                    <a:pt x="5539" y="2258"/>
                  </a:lnTo>
                  <a:lnTo>
                    <a:pt x="5574" y="2284"/>
                  </a:lnTo>
                  <a:lnTo>
                    <a:pt x="5611" y="2309"/>
                  </a:lnTo>
                  <a:lnTo>
                    <a:pt x="5649" y="2333"/>
                  </a:lnTo>
                  <a:lnTo>
                    <a:pt x="5690" y="2355"/>
                  </a:lnTo>
                  <a:lnTo>
                    <a:pt x="5732" y="2374"/>
                  </a:lnTo>
                  <a:lnTo>
                    <a:pt x="5775" y="2391"/>
                  </a:lnTo>
                  <a:lnTo>
                    <a:pt x="5818" y="2407"/>
                  </a:lnTo>
                  <a:lnTo>
                    <a:pt x="5864" y="2420"/>
                  </a:lnTo>
                  <a:lnTo>
                    <a:pt x="5911" y="2430"/>
                  </a:lnTo>
                  <a:lnTo>
                    <a:pt x="5959" y="2439"/>
                  </a:lnTo>
                  <a:lnTo>
                    <a:pt x="6008" y="2445"/>
                  </a:lnTo>
                  <a:lnTo>
                    <a:pt x="6058" y="2448"/>
                  </a:lnTo>
                  <a:lnTo>
                    <a:pt x="6110" y="2450"/>
                  </a:lnTo>
                  <a:lnTo>
                    <a:pt x="6166" y="2448"/>
                  </a:lnTo>
                  <a:lnTo>
                    <a:pt x="6221" y="2445"/>
                  </a:lnTo>
                  <a:lnTo>
                    <a:pt x="6274" y="2439"/>
                  </a:lnTo>
                  <a:lnTo>
                    <a:pt x="6326" y="2430"/>
                  </a:lnTo>
                  <a:lnTo>
                    <a:pt x="6376" y="2420"/>
                  </a:lnTo>
                  <a:lnTo>
                    <a:pt x="6424" y="2407"/>
                  </a:lnTo>
                  <a:lnTo>
                    <a:pt x="6470" y="2391"/>
                  </a:lnTo>
                  <a:lnTo>
                    <a:pt x="6515" y="2374"/>
                  </a:lnTo>
                  <a:lnTo>
                    <a:pt x="6559" y="2356"/>
                  </a:lnTo>
                  <a:lnTo>
                    <a:pt x="6599" y="2335"/>
                  </a:lnTo>
                  <a:lnTo>
                    <a:pt x="6640" y="2312"/>
                  </a:lnTo>
                  <a:lnTo>
                    <a:pt x="6678" y="2287"/>
                  </a:lnTo>
                  <a:lnTo>
                    <a:pt x="6714" y="2262"/>
                  </a:lnTo>
                  <a:lnTo>
                    <a:pt x="6749" y="2233"/>
                  </a:lnTo>
                  <a:lnTo>
                    <a:pt x="6782" y="2205"/>
                  </a:lnTo>
                  <a:lnTo>
                    <a:pt x="6813" y="2174"/>
                  </a:lnTo>
                  <a:lnTo>
                    <a:pt x="6842" y="2142"/>
                  </a:lnTo>
                  <a:lnTo>
                    <a:pt x="6869" y="2109"/>
                  </a:lnTo>
                  <a:lnTo>
                    <a:pt x="6896" y="2075"/>
                  </a:lnTo>
                  <a:lnTo>
                    <a:pt x="6919" y="2039"/>
                  </a:lnTo>
                  <a:lnTo>
                    <a:pt x="6941" y="2003"/>
                  </a:lnTo>
                  <a:lnTo>
                    <a:pt x="6962" y="1965"/>
                  </a:lnTo>
                  <a:lnTo>
                    <a:pt x="6980" y="1927"/>
                  </a:lnTo>
                  <a:lnTo>
                    <a:pt x="6996" y="1887"/>
                  </a:lnTo>
                  <a:lnTo>
                    <a:pt x="7010" y="1848"/>
                  </a:lnTo>
                  <a:lnTo>
                    <a:pt x="7024" y="1807"/>
                  </a:lnTo>
                  <a:lnTo>
                    <a:pt x="7034" y="1767"/>
                  </a:lnTo>
                  <a:lnTo>
                    <a:pt x="7043" y="1725"/>
                  </a:lnTo>
                  <a:lnTo>
                    <a:pt x="7050" y="1682"/>
                  </a:lnTo>
                  <a:lnTo>
                    <a:pt x="7054" y="1640"/>
                  </a:lnTo>
                  <a:lnTo>
                    <a:pt x="7057" y="1597"/>
                  </a:lnTo>
                  <a:lnTo>
                    <a:pt x="7058" y="1555"/>
                  </a:lnTo>
                  <a:lnTo>
                    <a:pt x="7057" y="1509"/>
                  </a:lnTo>
                  <a:lnTo>
                    <a:pt x="7054" y="1463"/>
                  </a:lnTo>
                  <a:lnTo>
                    <a:pt x="7048" y="1419"/>
                  </a:lnTo>
                  <a:lnTo>
                    <a:pt x="7041" y="1375"/>
                  </a:lnTo>
                  <a:lnTo>
                    <a:pt x="7031" y="1331"/>
                  </a:lnTo>
                  <a:lnTo>
                    <a:pt x="7019" y="1289"/>
                  </a:lnTo>
                  <a:lnTo>
                    <a:pt x="7005" y="1248"/>
                  </a:lnTo>
                  <a:lnTo>
                    <a:pt x="6989" y="1208"/>
                  </a:lnTo>
                  <a:lnTo>
                    <a:pt x="6972" y="1168"/>
                  </a:lnTo>
                  <a:lnTo>
                    <a:pt x="6952" y="1130"/>
                  </a:lnTo>
                  <a:lnTo>
                    <a:pt x="6931" y="1092"/>
                  </a:lnTo>
                  <a:lnTo>
                    <a:pt x="6908" y="1057"/>
                  </a:lnTo>
                  <a:lnTo>
                    <a:pt x="6883" y="1022"/>
                  </a:lnTo>
                  <a:lnTo>
                    <a:pt x="6858" y="989"/>
                  </a:lnTo>
                  <a:lnTo>
                    <a:pt x="6830" y="956"/>
                  </a:lnTo>
                  <a:lnTo>
                    <a:pt x="6801" y="926"/>
                  </a:lnTo>
                  <a:lnTo>
                    <a:pt x="6770" y="896"/>
                  </a:lnTo>
                  <a:lnTo>
                    <a:pt x="6739" y="868"/>
                  </a:lnTo>
                  <a:lnTo>
                    <a:pt x="6706" y="842"/>
                  </a:lnTo>
                  <a:lnTo>
                    <a:pt x="6673" y="817"/>
                  </a:lnTo>
                  <a:lnTo>
                    <a:pt x="6637" y="795"/>
                  </a:lnTo>
                  <a:lnTo>
                    <a:pt x="6601" y="774"/>
                  </a:lnTo>
                  <a:lnTo>
                    <a:pt x="6564" y="753"/>
                  </a:lnTo>
                  <a:lnTo>
                    <a:pt x="6525" y="736"/>
                  </a:lnTo>
                  <a:lnTo>
                    <a:pt x="6487" y="720"/>
                  </a:lnTo>
                  <a:lnTo>
                    <a:pt x="6446" y="707"/>
                  </a:lnTo>
                  <a:lnTo>
                    <a:pt x="6405" y="695"/>
                  </a:lnTo>
                  <a:lnTo>
                    <a:pt x="6363" y="684"/>
                  </a:lnTo>
                  <a:lnTo>
                    <a:pt x="6322" y="677"/>
                  </a:lnTo>
                  <a:lnTo>
                    <a:pt x="6279" y="671"/>
                  </a:lnTo>
                  <a:lnTo>
                    <a:pt x="6235" y="668"/>
                  </a:lnTo>
                  <a:lnTo>
                    <a:pt x="6193" y="667"/>
                  </a:lnTo>
                  <a:lnTo>
                    <a:pt x="6171" y="667"/>
                  </a:lnTo>
                  <a:lnTo>
                    <a:pt x="6151" y="668"/>
                  </a:lnTo>
                  <a:lnTo>
                    <a:pt x="6132" y="670"/>
                  </a:lnTo>
                  <a:lnTo>
                    <a:pt x="6112" y="672"/>
                  </a:lnTo>
                  <a:lnTo>
                    <a:pt x="6094" y="675"/>
                  </a:lnTo>
                  <a:lnTo>
                    <a:pt x="6076" y="679"/>
                  </a:lnTo>
                  <a:lnTo>
                    <a:pt x="6058" y="683"/>
                  </a:lnTo>
                  <a:lnTo>
                    <a:pt x="6042" y="687"/>
                  </a:lnTo>
                  <a:lnTo>
                    <a:pt x="6011" y="697"/>
                  </a:lnTo>
                  <a:lnTo>
                    <a:pt x="5981" y="707"/>
                  </a:lnTo>
                  <a:lnTo>
                    <a:pt x="5955" y="718"/>
                  </a:lnTo>
                  <a:lnTo>
                    <a:pt x="5930" y="728"/>
                  </a:lnTo>
                  <a:lnTo>
                    <a:pt x="5930" y="1070"/>
                  </a:lnTo>
                  <a:lnTo>
                    <a:pt x="5945" y="1061"/>
                  </a:lnTo>
                  <a:lnTo>
                    <a:pt x="5960" y="1053"/>
                  </a:lnTo>
                  <a:lnTo>
                    <a:pt x="5975" y="1044"/>
                  </a:lnTo>
                  <a:lnTo>
                    <a:pt x="5989" y="1037"/>
                  </a:lnTo>
                  <a:lnTo>
                    <a:pt x="6004" y="1030"/>
                  </a:lnTo>
                  <a:lnTo>
                    <a:pt x="6020" y="1024"/>
                  </a:lnTo>
                  <a:lnTo>
                    <a:pt x="6034" y="1019"/>
                  </a:lnTo>
                  <a:lnTo>
                    <a:pt x="6049" y="1014"/>
                  </a:lnTo>
                  <a:lnTo>
                    <a:pt x="6063" y="1010"/>
                  </a:lnTo>
                  <a:lnTo>
                    <a:pt x="6079" y="1006"/>
                  </a:lnTo>
                  <a:lnTo>
                    <a:pt x="6093" y="1003"/>
                  </a:lnTo>
                  <a:lnTo>
                    <a:pt x="6108" y="1000"/>
                  </a:lnTo>
                  <a:lnTo>
                    <a:pt x="6122" y="998"/>
                  </a:lnTo>
                  <a:lnTo>
                    <a:pt x="6137" y="997"/>
                  </a:lnTo>
                  <a:lnTo>
                    <a:pt x="6151" y="996"/>
                  </a:lnTo>
                  <a:lnTo>
                    <a:pt x="6165" y="996"/>
                  </a:lnTo>
                  <a:lnTo>
                    <a:pt x="6193" y="997"/>
                  </a:lnTo>
                  <a:lnTo>
                    <a:pt x="6219" y="999"/>
                  </a:lnTo>
                  <a:lnTo>
                    <a:pt x="6245" y="1002"/>
                  </a:lnTo>
                  <a:lnTo>
                    <a:pt x="6272" y="1007"/>
                  </a:lnTo>
                  <a:lnTo>
                    <a:pt x="6298" y="1013"/>
                  </a:lnTo>
                  <a:lnTo>
                    <a:pt x="6324" y="1021"/>
                  </a:lnTo>
                  <a:lnTo>
                    <a:pt x="6349" y="1029"/>
                  </a:lnTo>
                  <a:lnTo>
                    <a:pt x="6374" y="1039"/>
                  </a:lnTo>
                  <a:lnTo>
                    <a:pt x="6398" y="1051"/>
                  </a:lnTo>
                  <a:lnTo>
                    <a:pt x="6422" y="1064"/>
                  </a:lnTo>
                  <a:lnTo>
                    <a:pt x="6445" y="1077"/>
                  </a:lnTo>
                  <a:lnTo>
                    <a:pt x="6467" y="1091"/>
                  </a:lnTo>
                  <a:lnTo>
                    <a:pt x="6489" y="1107"/>
                  </a:lnTo>
                  <a:lnTo>
                    <a:pt x="6510" y="1124"/>
                  </a:lnTo>
                  <a:lnTo>
                    <a:pt x="6530" y="1141"/>
                  </a:lnTo>
                  <a:lnTo>
                    <a:pt x="6550" y="1160"/>
                  </a:lnTo>
                  <a:lnTo>
                    <a:pt x="6568" y="1179"/>
                  </a:lnTo>
                  <a:lnTo>
                    <a:pt x="6586" y="1200"/>
                  </a:lnTo>
                  <a:lnTo>
                    <a:pt x="6603" y="1221"/>
                  </a:lnTo>
                  <a:lnTo>
                    <a:pt x="6618" y="1242"/>
                  </a:lnTo>
                  <a:lnTo>
                    <a:pt x="6633" y="1266"/>
                  </a:lnTo>
                  <a:lnTo>
                    <a:pt x="6646" y="1289"/>
                  </a:lnTo>
                  <a:lnTo>
                    <a:pt x="6660" y="1312"/>
                  </a:lnTo>
                  <a:lnTo>
                    <a:pt x="6671" y="1338"/>
                  </a:lnTo>
                  <a:lnTo>
                    <a:pt x="6681" y="1363"/>
                  </a:lnTo>
                  <a:lnTo>
                    <a:pt x="6690" y="1388"/>
                  </a:lnTo>
                  <a:lnTo>
                    <a:pt x="6697" y="1416"/>
                  </a:lnTo>
                  <a:lnTo>
                    <a:pt x="6703" y="1442"/>
                  </a:lnTo>
                  <a:lnTo>
                    <a:pt x="6708" y="1469"/>
                  </a:lnTo>
                  <a:lnTo>
                    <a:pt x="6712" y="1498"/>
                  </a:lnTo>
                  <a:lnTo>
                    <a:pt x="6714" y="1526"/>
                  </a:lnTo>
                  <a:lnTo>
                    <a:pt x="6715" y="1555"/>
                  </a:lnTo>
                  <a:lnTo>
                    <a:pt x="6714" y="1583"/>
                  </a:lnTo>
                  <a:lnTo>
                    <a:pt x="6712" y="1611"/>
                  </a:lnTo>
                  <a:lnTo>
                    <a:pt x="6709" y="1640"/>
                  </a:lnTo>
                  <a:lnTo>
                    <a:pt x="6704" y="1667"/>
                  </a:lnTo>
                  <a:lnTo>
                    <a:pt x="6698" y="1694"/>
                  </a:lnTo>
                  <a:lnTo>
                    <a:pt x="6691" y="1720"/>
                  </a:lnTo>
                  <a:lnTo>
                    <a:pt x="6682" y="1746"/>
                  </a:lnTo>
                  <a:lnTo>
                    <a:pt x="6672" y="1772"/>
                  </a:lnTo>
                  <a:lnTo>
                    <a:pt x="6662" y="1797"/>
                  </a:lnTo>
                  <a:lnTo>
                    <a:pt x="6648" y="1821"/>
                  </a:lnTo>
                  <a:lnTo>
                    <a:pt x="6635" y="1845"/>
                  </a:lnTo>
                  <a:lnTo>
                    <a:pt x="6621" y="1868"/>
                  </a:lnTo>
                  <a:lnTo>
                    <a:pt x="6605" y="1890"/>
                  </a:lnTo>
                  <a:lnTo>
                    <a:pt x="6588" y="1912"/>
                  </a:lnTo>
                  <a:lnTo>
                    <a:pt x="6570" y="1932"/>
                  </a:lnTo>
                  <a:lnTo>
                    <a:pt x="6551" y="1952"/>
                  </a:lnTo>
                  <a:lnTo>
                    <a:pt x="6531" y="1972"/>
                  </a:lnTo>
                  <a:lnTo>
                    <a:pt x="6510" y="1989"/>
                  </a:lnTo>
                  <a:lnTo>
                    <a:pt x="6488" y="2006"/>
                  </a:lnTo>
                  <a:lnTo>
                    <a:pt x="6465" y="2022"/>
                  </a:lnTo>
                  <a:lnTo>
                    <a:pt x="6441" y="2037"/>
                  </a:lnTo>
                  <a:lnTo>
                    <a:pt x="6416" y="2051"/>
                  </a:lnTo>
                  <a:lnTo>
                    <a:pt x="6391" y="2064"/>
                  </a:lnTo>
                  <a:lnTo>
                    <a:pt x="6365" y="2075"/>
                  </a:lnTo>
                  <a:lnTo>
                    <a:pt x="6337" y="2086"/>
                  </a:lnTo>
                  <a:lnTo>
                    <a:pt x="6309" y="2094"/>
                  </a:lnTo>
                  <a:lnTo>
                    <a:pt x="6280" y="2102"/>
                  </a:lnTo>
                  <a:lnTo>
                    <a:pt x="6250" y="2109"/>
                  </a:lnTo>
                  <a:lnTo>
                    <a:pt x="6220" y="2115"/>
                  </a:lnTo>
                  <a:lnTo>
                    <a:pt x="6189" y="2118"/>
                  </a:lnTo>
                  <a:lnTo>
                    <a:pt x="6157" y="2120"/>
                  </a:lnTo>
                  <a:lnTo>
                    <a:pt x="6124" y="2121"/>
                  </a:lnTo>
                  <a:lnTo>
                    <a:pt x="6094" y="2121"/>
                  </a:lnTo>
                  <a:lnTo>
                    <a:pt x="6064" y="2119"/>
                  </a:lnTo>
                  <a:lnTo>
                    <a:pt x="6036" y="2115"/>
                  </a:lnTo>
                  <a:lnTo>
                    <a:pt x="6007" y="2111"/>
                  </a:lnTo>
                  <a:lnTo>
                    <a:pt x="5979" y="2104"/>
                  </a:lnTo>
                  <a:lnTo>
                    <a:pt x="5950" y="2097"/>
                  </a:lnTo>
                  <a:lnTo>
                    <a:pt x="5924" y="2088"/>
                  </a:lnTo>
                  <a:lnTo>
                    <a:pt x="5897" y="2079"/>
                  </a:lnTo>
                  <a:lnTo>
                    <a:pt x="5871" y="2068"/>
                  </a:lnTo>
                  <a:lnTo>
                    <a:pt x="5846" y="2055"/>
                  </a:lnTo>
                  <a:lnTo>
                    <a:pt x="5820" y="2042"/>
                  </a:lnTo>
                  <a:lnTo>
                    <a:pt x="5797" y="2026"/>
                  </a:lnTo>
                  <a:lnTo>
                    <a:pt x="5773" y="2009"/>
                  </a:lnTo>
                  <a:lnTo>
                    <a:pt x="5751" y="1992"/>
                  </a:lnTo>
                  <a:lnTo>
                    <a:pt x="5730" y="1973"/>
                  </a:lnTo>
                  <a:lnTo>
                    <a:pt x="5708" y="1952"/>
                  </a:lnTo>
                  <a:lnTo>
                    <a:pt x="5689" y="1930"/>
                  </a:lnTo>
                  <a:lnTo>
                    <a:pt x="5670" y="1907"/>
                  </a:lnTo>
                  <a:lnTo>
                    <a:pt x="5652" y="1882"/>
                  </a:lnTo>
                  <a:lnTo>
                    <a:pt x="5636" y="1856"/>
                  </a:lnTo>
                  <a:lnTo>
                    <a:pt x="5620" y="1829"/>
                  </a:lnTo>
                  <a:lnTo>
                    <a:pt x="5606" y="1800"/>
                  </a:lnTo>
                  <a:lnTo>
                    <a:pt x="5592" y="1771"/>
                  </a:lnTo>
                  <a:lnTo>
                    <a:pt x="5580" y="1739"/>
                  </a:lnTo>
                  <a:lnTo>
                    <a:pt x="5569" y="1707"/>
                  </a:lnTo>
                  <a:lnTo>
                    <a:pt x="5560" y="1672"/>
                  </a:lnTo>
                  <a:lnTo>
                    <a:pt x="5552" y="1637"/>
                  </a:lnTo>
                  <a:lnTo>
                    <a:pt x="5545" y="1600"/>
                  </a:lnTo>
                  <a:lnTo>
                    <a:pt x="5540" y="1562"/>
                  </a:lnTo>
                  <a:lnTo>
                    <a:pt x="5535" y="1523"/>
                  </a:lnTo>
                  <a:lnTo>
                    <a:pt x="5533" y="1482"/>
                  </a:lnTo>
                  <a:lnTo>
                    <a:pt x="5532" y="1440"/>
                  </a:lnTo>
                  <a:lnTo>
                    <a:pt x="5532" y="369"/>
                  </a:lnTo>
                  <a:lnTo>
                    <a:pt x="6791" y="369"/>
                  </a:lnTo>
                  <a:lnTo>
                    <a:pt x="6791" y="40"/>
                  </a:lnTo>
                  <a:close/>
                  <a:moveTo>
                    <a:pt x="4101" y="40"/>
                  </a:moveTo>
                  <a:lnTo>
                    <a:pt x="3021" y="40"/>
                  </a:lnTo>
                  <a:lnTo>
                    <a:pt x="3021" y="938"/>
                  </a:lnTo>
                  <a:lnTo>
                    <a:pt x="3022" y="987"/>
                  </a:lnTo>
                  <a:lnTo>
                    <a:pt x="3025" y="1034"/>
                  </a:lnTo>
                  <a:lnTo>
                    <a:pt x="3030" y="1080"/>
                  </a:lnTo>
                  <a:lnTo>
                    <a:pt x="3038" y="1124"/>
                  </a:lnTo>
                  <a:lnTo>
                    <a:pt x="3047" y="1167"/>
                  </a:lnTo>
                  <a:lnTo>
                    <a:pt x="3058" y="1209"/>
                  </a:lnTo>
                  <a:lnTo>
                    <a:pt x="3072" y="1248"/>
                  </a:lnTo>
                  <a:lnTo>
                    <a:pt x="3087" y="1287"/>
                  </a:lnTo>
                  <a:lnTo>
                    <a:pt x="3104" y="1324"/>
                  </a:lnTo>
                  <a:lnTo>
                    <a:pt x="3123" y="1360"/>
                  </a:lnTo>
                  <a:lnTo>
                    <a:pt x="3143" y="1394"/>
                  </a:lnTo>
                  <a:lnTo>
                    <a:pt x="3164" y="1428"/>
                  </a:lnTo>
                  <a:lnTo>
                    <a:pt x="3187" y="1458"/>
                  </a:lnTo>
                  <a:lnTo>
                    <a:pt x="3211" y="1489"/>
                  </a:lnTo>
                  <a:lnTo>
                    <a:pt x="3236" y="1517"/>
                  </a:lnTo>
                  <a:lnTo>
                    <a:pt x="3264" y="1543"/>
                  </a:lnTo>
                  <a:lnTo>
                    <a:pt x="3291" y="1569"/>
                  </a:lnTo>
                  <a:lnTo>
                    <a:pt x="3321" y="1592"/>
                  </a:lnTo>
                  <a:lnTo>
                    <a:pt x="3350" y="1614"/>
                  </a:lnTo>
                  <a:lnTo>
                    <a:pt x="3381" y="1635"/>
                  </a:lnTo>
                  <a:lnTo>
                    <a:pt x="3412" y="1654"/>
                  </a:lnTo>
                  <a:lnTo>
                    <a:pt x="3445" y="1671"/>
                  </a:lnTo>
                  <a:lnTo>
                    <a:pt x="3479" y="1687"/>
                  </a:lnTo>
                  <a:lnTo>
                    <a:pt x="3512" y="1701"/>
                  </a:lnTo>
                  <a:lnTo>
                    <a:pt x="3546" y="1714"/>
                  </a:lnTo>
                  <a:lnTo>
                    <a:pt x="3581" y="1724"/>
                  </a:lnTo>
                  <a:lnTo>
                    <a:pt x="3616" y="1734"/>
                  </a:lnTo>
                  <a:lnTo>
                    <a:pt x="3652" y="1741"/>
                  </a:lnTo>
                  <a:lnTo>
                    <a:pt x="3687" y="1747"/>
                  </a:lnTo>
                  <a:lnTo>
                    <a:pt x="3723" y="1751"/>
                  </a:lnTo>
                  <a:lnTo>
                    <a:pt x="3759" y="1754"/>
                  </a:lnTo>
                  <a:lnTo>
                    <a:pt x="3795" y="1754"/>
                  </a:lnTo>
                  <a:lnTo>
                    <a:pt x="3827" y="1754"/>
                  </a:lnTo>
                  <a:lnTo>
                    <a:pt x="3867" y="1751"/>
                  </a:lnTo>
                  <a:lnTo>
                    <a:pt x="3889" y="1748"/>
                  </a:lnTo>
                  <a:lnTo>
                    <a:pt x="3910" y="1744"/>
                  </a:lnTo>
                  <a:lnTo>
                    <a:pt x="3933" y="1739"/>
                  </a:lnTo>
                  <a:lnTo>
                    <a:pt x="3956" y="1732"/>
                  </a:lnTo>
                  <a:lnTo>
                    <a:pt x="3967" y="1728"/>
                  </a:lnTo>
                  <a:lnTo>
                    <a:pt x="3978" y="1724"/>
                  </a:lnTo>
                  <a:lnTo>
                    <a:pt x="3989" y="1719"/>
                  </a:lnTo>
                  <a:lnTo>
                    <a:pt x="4000" y="1713"/>
                  </a:lnTo>
                  <a:lnTo>
                    <a:pt x="4011" y="1707"/>
                  </a:lnTo>
                  <a:lnTo>
                    <a:pt x="4021" y="1700"/>
                  </a:lnTo>
                  <a:lnTo>
                    <a:pt x="4031" y="1693"/>
                  </a:lnTo>
                  <a:lnTo>
                    <a:pt x="4041" y="1684"/>
                  </a:lnTo>
                  <a:lnTo>
                    <a:pt x="4050" y="1676"/>
                  </a:lnTo>
                  <a:lnTo>
                    <a:pt x="4058" y="1667"/>
                  </a:lnTo>
                  <a:lnTo>
                    <a:pt x="4068" y="1657"/>
                  </a:lnTo>
                  <a:lnTo>
                    <a:pt x="4076" y="1646"/>
                  </a:lnTo>
                  <a:lnTo>
                    <a:pt x="4083" y="1635"/>
                  </a:lnTo>
                  <a:lnTo>
                    <a:pt x="4089" y="1623"/>
                  </a:lnTo>
                  <a:lnTo>
                    <a:pt x="4095" y="1609"/>
                  </a:lnTo>
                  <a:lnTo>
                    <a:pt x="4101" y="1595"/>
                  </a:lnTo>
                  <a:lnTo>
                    <a:pt x="4101" y="1335"/>
                  </a:lnTo>
                  <a:lnTo>
                    <a:pt x="4083" y="1348"/>
                  </a:lnTo>
                  <a:lnTo>
                    <a:pt x="4059" y="1362"/>
                  </a:lnTo>
                  <a:lnTo>
                    <a:pt x="4045" y="1369"/>
                  </a:lnTo>
                  <a:lnTo>
                    <a:pt x="4030" y="1377"/>
                  </a:lnTo>
                  <a:lnTo>
                    <a:pt x="4013" y="1384"/>
                  </a:lnTo>
                  <a:lnTo>
                    <a:pt x="3995" y="1391"/>
                  </a:lnTo>
                  <a:lnTo>
                    <a:pt x="3976" y="1398"/>
                  </a:lnTo>
                  <a:lnTo>
                    <a:pt x="3956" y="1406"/>
                  </a:lnTo>
                  <a:lnTo>
                    <a:pt x="3933" y="1411"/>
                  </a:lnTo>
                  <a:lnTo>
                    <a:pt x="3910" y="1416"/>
                  </a:lnTo>
                  <a:lnTo>
                    <a:pt x="3885" y="1420"/>
                  </a:lnTo>
                  <a:lnTo>
                    <a:pt x="3860" y="1424"/>
                  </a:lnTo>
                  <a:lnTo>
                    <a:pt x="3834" y="1426"/>
                  </a:lnTo>
                  <a:lnTo>
                    <a:pt x="3805" y="1426"/>
                  </a:lnTo>
                  <a:lnTo>
                    <a:pt x="3784" y="1426"/>
                  </a:lnTo>
                  <a:lnTo>
                    <a:pt x="3761" y="1424"/>
                  </a:lnTo>
                  <a:lnTo>
                    <a:pt x="3740" y="1421"/>
                  </a:lnTo>
                  <a:lnTo>
                    <a:pt x="3719" y="1418"/>
                  </a:lnTo>
                  <a:lnTo>
                    <a:pt x="3698" y="1413"/>
                  </a:lnTo>
                  <a:lnTo>
                    <a:pt x="3677" y="1407"/>
                  </a:lnTo>
                  <a:lnTo>
                    <a:pt x="3657" y="1400"/>
                  </a:lnTo>
                  <a:lnTo>
                    <a:pt x="3637" y="1392"/>
                  </a:lnTo>
                  <a:lnTo>
                    <a:pt x="3618" y="1383"/>
                  </a:lnTo>
                  <a:lnTo>
                    <a:pt x="3599" y="1374"/>
                  </a:lnTo>
                  <a:lnTo>
                    <a:pt x="3580" y="1363"/>
                  </a:lnTo>
                  <a:lnTo>
                    <a:pt x="3562" y="1352"/>
                  </a:lnTo>
                  <a:lnTo>
                    <a:pt x="3545" y="1340"/>
                  </a:lnTo>
                  <a:lnTo>
                    <a:pt x="3528" y="1325"/>
                  </a:lnTo>
                  <a:lnTo>
                    <a:pt x="3512" y="1311"/>
                  </a:lnTo>
                  <a:lnTo>
                    <a:pt x="3497" y="1296"/>
                  </a:lnTo>
                  <a:lnTo>
                    <a:pt x="3482" y="1281"/>
                  </a:lnTo>
                  <a:lnTo>
                    <a:pt x="3467" y="1264"/>
                  </a:lnTo>
                  <a:lnTo>
                    <a:pt x="3454" y="1246"/>
                  </a:lnTo>
                  <a:lnTo>
                    <a:pt x="3442" y="1227"/>
                  </a:lnTo>
                  <a:lnTo>
                    <a:pt x="3430" y="1209"/>
                  </a:lnTo>
                  <a:lnTo>
                    <a:pt x="3419" y="1188"/>
                  </a:lnTo>
                  <a:lnTo>
                    <a:pt x="3408" y="1167"/>
                  </a:lnTo>
                  <a:lnTo>
                    <a:pt x="3399" y="1146"/>
                  </a:lnTo>
                  <a:lnTo>
                    <a:pt x="3391" y="1124"/>
                  </a:lnTo>
                  <a:lnTo>
                    <a:pt x="3384" y="1100"/>
                  </a:lnTo>
                  <a:lnTo>
                    <a:pt x="3378" y="1077"/>
                  </a:lnTo>
                  <a:lnTo>
                    <a:pt x="3373" y="1053"/>
                  </a:lnTo>
                  <a:lnTo>
                    <a:pt x="3369" y="1027"/>
                  </a:lnTo>
                  <a:lnTo>
                    <a:pt x="3366" y="1002"/>
                  </a:lnTo>
                  <a:lnTo>
                    <a:pt x="3364" y="975"/>
                  </a:lnTo>
                  <a:lnTo>
                    <a:pt x="3364" y="948"/>
                  </a:lnTo>
                  <a:lnTo>
                    <a:pt x="3364" y="369"/>
                  </a:lnTo>
                  <a:lnTo>
                    <a:pt x="3757" y="369"/>
                  </a:lnTo>
                  <a:lnTo>
                    <a:pt x="3757" y="884"/>
                  </a:lnTo>
                  <a:lnTo>
                    <a:pt x="3758" y="904"/>
                  </a:lnTo>
                  <a:lnTo>
                    <a:pt x="3761" y="924"/>
                  </a:lnTo>
                  <a:lnTo>
                    <a:pt x="3766" y="943"/>
                  </a:lnTo>
                  <a:lnTo>
                    <a:pt x="3773" y="960"/>
                  </a:lnTo>
                  <a:lnTo>
                    <a:pt x="3781" y="977"/>
                  </a:lnTo>
                  <a:lnTo>
                    <a:pt x="3790" y="993"/>
                  </a:lnTo>
                  <a:lnTo>
                    <a:pt x="3800" y="1008"/>
                  </a:lnTo>
                  <a:lnTo>
                    <a:pt x="3812" y="1021"/>
                  </a:lnTo>
                  <a:lnTo>
                    <a:pt x="3825" y="1032"/>
                  </a:lnTo>
                  <a:lnTo>
                    <a:pt x="3839" y="1043"/>
                  </a:lnTo>
                  <a:lnTo>
                    <a:pt x="3854" y="1053"/>
                  </a:lnTo>
                  <a:lnTo>
                    <a:pt x="3869" y="1060"/>
                  </a:lnTo>
                  <a:lnTo>
                    <a:pt x="3885" y="1066"/>
                  </a:lnTo>
                  <a:lnTo>
                    <a:pt x="3903" y="1070"/>
                  </a:lnTo>
                  <a:lnTo>
                    <a:pt x="3920" y="1073"/>
                  </a:lnTo>
                  <a:lnTo>
                    <a:pt x="3938" y="1074"/>
                  </a:lnTo>
                  <a:lnTo>
                    <a:pt x="3952" y="1073"/>
                  </a:lnTo>
                  <a:lnTo>
                    <a:pt x="3966" y="1071"/>
                  </a:lnTo>
                  <a:lnTo>
                    <a:pt x="3979" y="1068"/>
                  </a:lnTo>
                  <a:lnTo>
                    <a:pt x="3993" y="1064"/>
                  </a:lnTo>
                  <a:lnTo>
                    <a:pt x="4008" y="1058"/>
                  </a:lnTo>
                  <a:lnTo>
                    <a:pt x="4021" y="1051"/>
                  </a:lnTo>
                  <a:lnTo>
                    <a:pt x="4034" y="1041"/>
                  </a:lnTo>
                  <a:lnTo>
                    <a:pt x="4046" y="1030"/>
                  </a:lnTo>
                  <a:lnTo>
                    <a:pt x="4057" y="1018"/>
                  </a:lnTo>
                  <a:lnTo>
                    <a:pt x="4069" y="1004"/>
                  </a:lnTo>
                  <a:lnTo>
                    <a:pt x="4078" y="989"/>
                  </a:lnTo>
                  <a:lnTo>
                    <a:pt x="4086" y="970"/>
                  </a:lnTo>
                  <a:lnTo>
                    <a:pt x="4089" y="961"/>
                  </a:lnTo>
                  <a:lnTo>
                    <a:pt x="4092" y="951"/>
                  </a:lnTo>
                  <a:lnTo>
                    <a:pt x="4095" y="941"/>
                  </a:lnTo>
                  <a:lnTo>
                    <a:pt x="4097" y="930"/>
                  </a:lnTo>
                  <a:lnTo>
                    <a:pt x="4099" y="919"/>
                  </a:lnTo>
                  <a:lnTo>
                    <a:pt x="4100" y="906"/>
                  </a:lnTo>
                  <a:lnTo>
                    <a:pt x="4101" y="893"/>
                  </a:lnTo>
                  <a:lnTo>
                    <a:pt x="4101" y="880"/>
                  </a:lnTo>
                  <a:lnTo>
                    <a:pt x="4101" y="40"/>
                  </a:lnTo>
                  <a:close/>
                  <a:moveTo>
                    <a:pt x="0" y="2410"/>
                  </a:moveTo>
                  <a:lnTo>
                    <a:pt x="342" y="2410"/>
                  </a:lnTo>
                  <a:lnTo>
                    <a:pt x="481" y="932"/>
                  </a:lnTo>
                  <a:lnTo>
                    <a:pt x="485" y="892"/>
                  </a:lnTo>
                  <a:lnTo>
                    <a:pt x="490" y="855"/>
                  </a:lnTo>
                  <a:lnTo>
                    <a:pt x="496" y="818"/>
                  </a:lnTo>
                  <a:lnTo>
                    <a:pt x="503" y="784"/>
                  </a:lnTo>
                  <a:lnTo>
                    <a:pt x="510" y="750"/>
                  </a:lnTo>
                  <a:lnTo>
                    <a:pt x="519" y="718"/>
                  </a:lnTo>
                  <a:lnTo>
                    <a:pt x="529" y="687"/>
                  </a:lnTo>
                  <a:lnTo>
                    <a:pt x="539" y="658"/>
                  </a:lnTo>
                  <a:lnTo>
                    <a:pt x="550" y="631"/>
                  </a:lnTo>
                  <a:lnTo>
                    <a:pt x="562" y="603"/>
                  </a:lnTo>
                  <a:lnTo>
                    <a:pt x="574" y="578"/>
                  </a:lnTo>
                  <a:lnTo>
                    <a:pt x="588" y="555"/>
                  </a:lnTo>
                  <a:lnTo>
                    <a:pt x="602" y="531"/>
                  </a:lnTo>
                  <a:lnTo>
                    <a:pt x="617" y="510"/>
                  </a:lnTo>
                  <a:lnTo>
                    <a:pt x="632" y="490"/>
                  </a:lnTo>
                  <a:lnTo>
                    <a:pt x="649" y="470"/>
                  </a:lnTo>
                  <a:lnTo>
                    <a:pt x="666" y="453"/>
                  </a:lnTo>
                  <a:lnTo>
                    <a:pt x="683" y="437"/>
                  </a:lnTo>
                  <a:lnTo>
                    <a:pt x="701" y="422"/>
                  </a:lnTo>
                  <a:lnTo>
                    <a:pt x="720" y="407"/>
                  </a:lnTo>
                  <a:lnTo>
                    <a:pt x="739" y="394"/>
                  </a:lnTo>
                  <a:lnTo>
                    <a:pt x="758" y="383"/>
                  </a:lnTo>
                  <a:lnTo>
                    <a:pt x="779" y="372"/>
                  </a:lnTo>
                  <a:lnTo>
                    <a:pt x="800" y="363"/>
                  </a:lnTo>
                  <a:lnTo>
                    <a:pt x="822" y="355"/>
                  </a:lnTo>
                  <a:lnTo>
                    <a:pt x="843" y="348"/>
                  </a:lnTo>
                  <a:lnTo>
                    <a:pt x="865" y="342"/>
                  </a:lnTo>
                  <a:lnTo>
                    <a:pt x="889" y="337"/>
                  </a:lnTo>
                  <a:lnTo>
                    <a:pt x="911" y="333"/>
                  </a:lnTo>
                  <a:lnTo>
                    <a:pt x="935" y="330"/>
                  </a:lnTo>
                  <a:lnTo>
                    <a:pt x="959" y="329"/>
                  </a:lnTo>
                  <a:lnTo>
                    <a:pt x="983" y="328"/>
                  </a:lnTo>
                  <a:lnTo>
                    <a:pt x="1002" y="328"/>
                  </a:lnTo>
                  <a:lnTo>
                    <a:pt x="1019" y="329"/>
                  </a:lnTo>
                  <a:lnTo>
                    <a:pt x="1036" y="331"/>
                  </a:lnTo>
                  <a:lnTo>
                    <a:pt x="1052" y="333"/>
                  </a:lnTo>
                  <a:lnTo>
                    <a:pt x="1070" y="335"/>
                  </a:lnTo>
                  <a:lnTo>
                    <a:pt x="1085" y="338"/>
                  </a:lnTo>
                  <a:lnTo>
                    <a:pt x="1101" y="343"/>
                  </a:lnTo>
                  <a:lnTo>
                    <a:pt x="1117" y="347"/>
                  </a:lnTo>
                  <a:lnTo>
                    <a:pt x="1132" y="351"/>
                  </a:lnTo>
                  <a:lnTo>
                    <a:pt x="1146" y="356"/>
                  </a:lnTo>
                  <a:lnTo>
                    <a:pt x="1160" y="362"/>
                  </a:lnTo>
                  <a:lnTo>
                    <a:pt x="1175" y="368"/>
                  </a:lnTo>
                  <a:lnTo>
                    <a:pt x="1189" y="375"/>
                  </a:lnTo>
                  <a:lnTo>
                    <a:pt x="1202" y="382"/>
                  </a:lnTo>
                  <a:lnTo>
                    <a:pt x="1215" y="390"/>
                  </a:lnTo>
                  <a:lnTo>
                    <a:pt x="1228" y="399"/>
                  </a:lnTo>
                  <a:lnTo>
                    <a:pt x="1242" y="407"/>
                  </a:lnTo>
                  <a:lnTo>
                    <a:pt x="1254" y="418"/>
                  </a:lnTo>
                  <a:lnTo>
                    <a:pt x="1266" y="428"/>
                  </a:lnTo>
                  <a:lnTo>
                    <a:pt x="1278" y="438"/>
                  </a:lnTo>
                  <a:lnTo>
                    <a:pt x="1303" y="461"/>
                  </a:lnTo>
                  <a:lnTo>
                    <a:pt x="1326" y="486"/>
                  </a:lnTo>
                  <a:lnTo>
                    <a:pt x="1348" y="513"/>
                  </a:lnTo>
                  <a:lnTo>
                    <a:pt x="1371" y="542"/>
                  </a:lnTo>
                  <a:lnTo>
                    <a:pt x="1393" y="573"/>
                  </a:lnTo>
                  <a:lnTo>
                    <a:pt x="1416" y="606"/>
                  </a:lnTo>
                  <a:lnTo>
                    <a:pt x="1425" y="588"/>
                  </a:lnTo>
                  <a:lnTo>
                    <a:pt x="1434" y="571"/>
                  </a:lnTo>
                  <a:lnTo>
                    <a:pt x="1444" y="555"/>
                  </a:lnTo>
                  <a:lnTo>
                    <a:pt x="1454" y="538"/>
                  </a:lnTo>
                  <a:lnTo>
                    <a:pt x="1464" y="523"/>
                  </a:lnTo>
                  <a:lnTo>
                    <a:pt x="1476" y="508"/>
                  </a:lnTo>
                  <a:lnTo>
                    <a:pt x="1487" y="494"/>
                  </a:lnTo>
                  <a:lnTo>
                    <a:pt x="1498" y="480"/>
                  </a:lnTo>
                  <a:lnTo>
                    <a:pt x="1510" y="467"/>
                  </a:lnTo>
                  <a:lnTo>
                    <a:pt x="1521" y="455"/>
                  </a:lnTo>
                  <a:lnTo>
                    <a:pt x="1534" y="443"/>
                  </a:lnTo>
                  <a:lnTo>
                    <a:pt x="1547" y="432"/>
                  </a:lnTo>
                  <a:lnTo>
                    <a:pt x="1559" y="422"/>
                  </a:lnTo>
                  <a:lnTo>
                    <a:pt x="1572" y="412"/>
                  </a:lnTo>
                  <a:lnTo>
                    <a:pt x="1585" y="402"/>
                  </a:lnTo>
                  <a:lnTo>
                    <a:pt x="1599" y="394"/>
                  </a:lnTo>
                  <a:lnTo>
                    <a:pt x="1613" y="386"/>
                  </a:lnTo>
                  <a:lnTo>
                    <a:pt x="1627" y="378"/>
                  </a:lnTo>
                  <a:lnTo>
                    <a:pt x="1640" y="371"/>
                  </a:lnTo>
                  <a:lnTo>
                    <a:pt x="1656" y="365"/>
                  </a:lnTo>
                  <a:lnTo>
                    <a:pt x="1670" y="359"/>
                  </a:lnTo>
                  <a:lnTo>
                    <a:pt x="1685" y="354"/>
                  </a:lnTo>
                  <a:lnTo>
                    <a:pt x="1700" y="349"/>
                  </a:lnTo>
                  <a:lnTo>
                    <a:pt x="1716" y="345"/>
                  </a:lnTo>
                  <a:lnTo>
                    <a:pt x="1731" y="341"/>
                  </a:lnTo>
                  <a:lnTo>
                    <a:pt x="1747" y="337"/>
                  </a:lnTo>
                  <a:lnTo>
                    <a:pt x="1763" y="334"/>
                  </a:lnTo>
                  <a:lnTo>
                    <a:pt x="1780" y="332"/>
                  </a:lnTo>
                  <a:lnTo>
                    <a:pt x="1812" y="329"/>
                  </a:lnTo>
                  <a:lnTo>
                    <a:pt x="1847" y="328"/>
                  </a:lnTo>
                  <a:lnTo>
                    <a:pt x="1869" y="329"/>
                  </a:lnTo>
                  <a:lnTo>
                    <a:pt x="1892" y="330"/>
                  </a:lnTo>
                  <a:lnTo>
                    <a:pt x="1914" y="332"/>
                  </a:lnTo>
                  <a:lnTo>
                    <a:pt x="1936" y="336"/>
                  </a:lnTo>
                  <a:lnTo>
                    <a:pt x="1959" y="341"/>
                  </a:lnTo>
                  <a:lnTo>
                    <a:pt x="1980" y="346"/>
                  </a:lnTo>
                  <a:lnTo>
                    <a:pt x="2002" y="353"/>
                  </a:lnTo>
                  <a:lnTo>
                    <a:pt x="2023" y="360"/>
                  </a:lnTo>
                  <a:lnTo>
                    <a:pt x="2043" y="369"/>
                  </a:lnTo>
                  <a:lnTo>
                    <a:pt x="2064" y="378"/>
                  </a:lnTo>
                  <a:lnTo>
                    <a:pt x="2083" y="389"/>
                  </a:lnTo>
                  <a:lnTo>
                    <a:pt x="2102" y="401"/>
                  </a:lnTo>
                  <a:lnTo>
                    <a:pt x="2121" y="415"/>
                  </a:lnTo>
                  <a:lnTo>
                    <a:pt x="2139" y="430"/>
                  </a:lnTo>
                  <a:lnTo>
                    <a:pt x="2157" y="445"/>
                  </a:lnTo>
                  <a:lnTo>
                    <a:pt x="2174" y="462"/>
                  </a:lnTo>
                  <a:lnTo>
                    <a:pt x="2191" y="480"/>
                  </a:lnTo>
                  <a:lnTo>
                    <a:pt x="2206" y="501"/>
                  </a:lnTo>
                  <a:lnTo>
                    <a:pt x="2221" y="522"/>
                  </a:lnTo>
                  <a:lnTo>
                    <a:pt x="2237" y="544"/>
                  </a:lnTo>
                  <a:lnTo>
                    <a:pt x="2251" y="569"/>
                  </a:lnTo>
                  <a:lnTo>
                    <a:pt x="2264" y="594"/>
                  </a:lnTo>
                  <a:lnTo>
                    <a:pt x="2276" y="621"/>
                  </a:lnTo>
                  <a:lnTo>
                    <a:pt x="2287" y="650"/>
                  </a:lnTo>
                  <a:lnTo>
                    <a:pt x="2299" y="679"/>
                  </a:lnTo>
                  <a:lnTo>
                    <a:pt x="2309" y="712"/>
                  </a:lnTo>
                  <a:lnTo>
                    <a:pt x="2318" y="744"/>
                  </a:lnTo>
                  <a:lnTo>
                    <a:pt x="2326" y="780"/>
                  </a:lnTo>
                  <a:lnTo>
                    <a:pt x="2333" y="816"/>
                  </a:lnTo>
                  <a:lnTo>
                    <a:pt x="2339" y="854"/>
                  </a:lnTo>
                  <a:lnTo>
                    <a:pt x="2345" y="893"/>
                  </a:lnTo>
                  <a:lnTo>
                    <a:pt x="2349" y="935"/>
                  </a:lnTo>
                  <a:lnTo>
                    <a:pt x="2487" y="2410"/>
                  </a:lnTo>
                  <a:lnTo>
                    <a:pt x="2831" y="2410"/>
                  </a:lnTo>
                  <a:lnTo>
                    <a:pt x="2693" y="945"/>
                  </a:lnTo>
                  <a:lnTo>
                    <a:pt x="2685" y="871"/>
                  </a:lnTo>
                  <a:lnTo>
                    <a:pt x="2675" y="801"/>
                  </a:lnTo>
                  <a:lnTo>
                    <a:pt x="2663" y="735"/>
                  </a:lnTo>
                  <a:lnTo>
                    <a:pt x="2650" y="672"/>
                  </a:lnTo>
                  <a:lnTo>
                    <a:pt x="2634" y="613"/>
                  </a:lnTo>
                  <a:lnTo>
                    <a:pt x="2618" y="558"/>
                  </a:lnTo>
                  <a:lnTo>
                    <a:pt x="2600" y="505"/>
                  </a:lnTo>
                  <a:lnTo>
                    <a:pt x="2580" y="456"/>
                  </a:lnTo>
                  <a:lnTo>
                    <a:pt x="2560" y="410"/>
                  </a:lnTo>
                  <a:lnTo>
                    <a:pt x="2538" y="367"/>
                  </a:lnTo>
                  <a:lnTo>
                    <a:pt x="2514" y="327"/>
                  </a:lnTo>
                  <a:lnTo>
                    <a:pt x="2491" y="291"/>
                  </a:lnTo>
                  <a:lnTo>
                    <a:pt x="2465" y="256"/>
                  </a:lnTo>
                  <a:lnTo>
                    <a:pt x="2439" y="225"/>
                  </a:lnTo>
                  <a:lnTo>
                    <a:pt x="2412" y="195"/>
                  </a:lnTo>
                  <a:lnTo>
                    <a:pt x="2385" y="169"/>
                  </a:lnTo>
                  <a:lnTo>
                    <a:pt x="2357" y="145"/>
                  </a:lnTo>
                  <a:lnTo>
                    <a:pt x="2327" y="122"/>
                  </a:lnTo>
                  <a:lnTo>
                    <a:pt x="2298" y="103"/>
                  </a:lnTo>
                  <a:lnTo>
                    <a:pt x="2268" y="86"/>
                  </a:lnTo>
                  <a:lnTo>
                    <a:pt x="2238" y="70"/>
                  </a:lnTo>
                  <a:lnTo>
                    <a:pt x="2207" y="56"/>
                  </a:lnTo>
                  <a:lnTo>
                    <a:pt x="2176" y="44"/>
                  </a:lnTo>
                  <a:lnTo>
                    <a:pt x="2146" y="34"/>
                  </a:lnTo>
                  <a:lnTo>
                    <a:pt x="2115" y="25"/>
                  </a:lnTo>
                  <a:lnTo>
                    <a:pt x="2084" y="18"/>
                  </a:lnTo>
                  <a:lnTo>
                    <a:pt x="2053" y="12"/>
                  </a:lnTo>
                  <a:lnTo>
                    <a:pt x="2023" y="7"/>
                  </a:lnTo>
                  <a:lnTo>
                    <a:pt x="1992" y="4"/>
                  </a:lnTo>
                  <a:lnTo>
                    <a:pt x="1963" y="2"/>
                  </a:lnTo>
                  <a:lnTo>
                    <a:pt x="1933" y="1"/>
                  </a:lnTo>
                  <a:lnTo>
                    <a:pt x="1905" y="0"/>
                  </a:lnTo>
                  <a:lnTo>
                    <a:pt x="1878" y="1"/>
                  </a:lnTo>
                  <a:lnTo>
                    <a:pt x="1853" y="2"/>
                  </a:lnTo>
                  <a:lnTo>
                    <a:pt x="1828" y="4"/>
                  </a:lnTo>
                  <a:lnTo>
                    <a:pt x="1804" y="7"/>
                  </a:lnTo>
                  <a:lnTo>
                    <a:pt x="1781" y="10"/>
                  </a:lnTo>
                  <a:lnTo>
                    <a:pt x="1758" y="14"/>
                  </a:lnTo>
                  <a:lnTo>
                    <a:pt x="1736" y="19"/>
                  </a:lnTo>
                  <a:lnTo>
                    <a:pt x="1716" y="24"/>
                  </a:lnTo>
                  <a:lnTo>
                    <a:pt x="1695" y="30"/>
                  </a:lnTo>
                  <a:lnTo>
                    <a:pt x="1676" y="36"/>
                  </a:lnTo>
                  <a:lnTo>
                    <a:pt x="1658" y="43"/>
                  </a:lnTo>
                  <a:lnTo>
                    <a:pt x="1639" y="50"/>
                  </a:lnTo>
                  <a:lnTo>
                    <a:pt x="1622" y="58"/>
                  </a:lnTo>
                  <a:lnTo>
                    <a:pt x="1606" y="66"/>
                  </a:lnTo>
                  <a:lnTo>
                    <a:pt x="1590" y="74"/>
                  </a:lnTo>
                  <a:lnTo>
                    <a:pt x="1574" y="82"/>
                  </a:lnTo>
                  <a:lnTo>
                    <a:pt x="1546" y="99"/>
                  </a:lnTo>
                  <a:lnTo>
                    <a:pt x="1520" y="116"/>
                  </a:lnTo>
                  <a:lnTo>
                    <a:pt x="1497" y="135"/>
                  </a:lnTo>
                  <a:lnTo>
                    <a:pt x="1476" y="152"/>
                  </a:lnTo>
                  <a:lnTo>
                    <a:pt x="1457" y="168"/>
                  </a:lnTo>
                  <a:lnTo>
                    <a:pt x="1441" y="183"/>
                  </a:lnTo>
                  <a:lnTo>
                    <a:pt x="1427" y="197"/>
                  </a:lnTo>
                  <a:lnTo>
                    <a:pt x="1416" y="210"/>
                  </a:lnTo>
                  <a:lnTo>
                    <a:pt x="1403" y="197"/>
                  </a:lnTo>
                  <a:lnTo>
                    <a:pt x="1389" y="183"/>
                  </a:lnTo>
                  <a:lnTo>
                    <a:pt x="1372" y="168"/>
                  </a:lnTo>
                  <a:lnTo>
                    <a:pt x="1353" y="152"/>
                  </a:lnTo>
                  <a:lnTo>
                    <a:pt x="1331" y="135"/>
                  </a:lnTo>
                  <a:lnTo>
                    <a:pt x="1308" y="116"/>
                  </a:lnTo>
                  <a:lnTo>
                    <a:pt x="1281" y="99"/>
                  </a:lnTo>
                  <a:lnTo>
                    <a:pt x="1252" y="82"/>
                  </a:lnTo>
                  <a:lnTo>
                    <a:pt x="1237" y="74"/>
                  </a:lnTo>
                  <a:lnTo>
                    <a:pt x="1220" y="66"/>
                  </a:lnTo>
                  <a:lnTo>
                    <a:pt x="1204" y="58"/>
                  </a:lnTo>
                  <a:lnTo>
                    <a:pt x="1186" y="50"/>
                  </a:lnTo>
                  <a:lnTo>
                    <a:pt x="1168" y="43"/>
                  </a:lnTo>
                  <a:lnTo>
                    <a:pt x="1149" y="36"/>
                  </a:lnTo>
                  <a:lnTo>
                    <a:pt x="1130" y="30"/>
                  </a:lnTo>
                  <a:lnTo>
                    <a:pt x="1110" y="24"/>
                  </a:lnTo>
                  <a:lnTo>
                    <a:pt x="1089" y="19"/>
                  </a:lnTo>
                  <a:lnTo>
                    <a:pt x="1068" y="14"/>
                  </a:lnTo>
                  <a:lnTo>
                    <a:pt x="1046" y="10"/>
                  </a:lnTo>
                  <a:lnTo>
                    <a:pt x="1023" y="7"/>
                  </a:lnTo>
                  <a:lnTo>
                    <a:pt x="1000" y="4"/>
                  </a:lnTo>
                  <a:lnTo>
                    <a:pt x="976" y="2"/>
                  </a:lnTo>
                  <a:lnTo>
                    <a:pt x="951" y="1"/>
                  </a:lnTo>
                  <a:lnTo>
                    <a:pt x="925" y="0"/>
                  </a:lnTo>
                  <a:lnTo>
                    <a:pt x="897" y="1"/>
                  </a:lnTo>
                  <a:lnTo>
                    <a:pt x="867" y="2"/>
                  </a:lnTo>
                  <a:lnTo>
                    <a:pt x="838" y="4"/>
                  </a:lnTo>
                  <a:lnTo>
                    <a:pt x="808" y="7"/>
                  </a:lnTo>
                  <a:lnTo>
                    <a:pt x="778" y="11"/>
                  </a:lnTo>
                  <a:lnTo>
                    <a:pt x="747" y="17"/>
                  </a:lnTo>
                  <a:lnTo>
                    <a:pt x="717" y="24"/>
                  </a:lnTo>
                  <a:lnTo>
                    <a:pt x="685" y="32"/>
                  </a:lnTo>
                  <a:lnTo>
                    <a:pt x="655" y="42"/>
                  </a:lnTo>
                  <a:lnTo>
                    <a:pt x="624" y="54"/>
                  </a:lnTo>
                  <a:lnTo>
                    <a:pt x="594" y="68"/>
                  </a:lnTo>
                  <a:lnTo>
                    <a:pt x="563" y="83"/>
                  </a:lnTo>
                  <a:lnTo>
                    <a:pt x="534" y="100"/>
                  </a:lnTo>
                  <a:lnTo>
                    <a:pt x="504" y="119"/>
                  </a:lnTo>
                  <a:lnTo>
                    <a:pt x="476" y="142"/>
                  </a:lnTo>
                  <a:lnTo>
                    <a:pt x="447" y="165"/>
                  </a:lnTo>
                  <a:lnTo>
                    <a:pt x="419" y="191"/>
                  </a:lnTo>
                  <a:lnTo>
                    <a:pt x="392" y="220"/>
                  </a:lnTo>
                  <a:lnTo>
                    <a:pt x="366" y="252"/>
                  </a:lnTo>
                  <a:lnTo>
                    <a:pt x="340" y="286"/>
                  </a:lnTo>
                  <a:lnTo>
                    <a:pt x="317" y="323"/>
                  </a:lnTo>
                  <a:lnTo>
                    <a:pt x="294" y="363"/>
                  </a:lnTo>
                  <a:lnTo>
                    <a:pt x="271" y="405"/>
                  </a:lnTo>
                  <a:lnTo>
                    <a:pt x="251" y="452"/>
                  </a:lnTo>
                  <a:lnTo>
                    <a:pt x="230" y="501"/>
                  </a:lnTo>
                  <a:lnTo>
                    <a:pt x="213" y="554"/>
                  </a:lnTo>
                  <a:lnTo>
                    <a:pt x="196" y="609"/>
                  </a:lnTo>
                  <a:lnTo>
                    <a:pt x="181" y="669"/>
                  </a:lnTo>
                  <a:lnTo>
                    <a:pt x="167" y="733"/>
                  </a:lnTo>
                  <a:lnTo>
                    <a:pt x="155" y="800"/>
                  </a:lnTo>
                  <a:lnTo>
                    <a:pt x="145" y="871"/>
                  </a:lnTo>
                  <a:lnTo>
                    <a:pt x="137" y="945"/>
                  </a:lnTo>
                  <a:lnTo>
                    <a:pt x="0" y="2410"/>
                  </a:lnTo>
                  <a:close/>
                  <a:moveTo>
                    <a:pt x="737" y="2410"/>
                  </a:moveTo>
                  <a:lnTo>
                    <a:pt x="1094" y="2410"/>
                  </a:lnTo>
                  <a:lnTo>
                    <a:pt x="1131" y="2093"/>
                  </a:lnTo>
                  <a:lnTo>
                    <a:pt x="1142" y="2109"/>
                  </a:lnTo>
                  <a:lnTo>
                    <a:pt x="1154" y="2124"/>
                  </a:lnTo>
                  <a:lnTo>
                    <a:pt x="1166" y="2138"/>
                  </a:lnTo>
                  <a:lnTo>
                    <a:pt x="1180" y="2151"/>
                  </a:lnTo>
                  <a:lnTo>
                    <a:pt x="1193" y="2163"/>
                  </a:lnTo>
                  <a:lnTo>
                    <a:pt x="1207" y="2174"/>
                  </a:lnTo>
                  <a:lnTo>
                    <a:pt x="1222" y="2185"/>
                  </a:lnTo>
                  <a:lnTo>
                    <a:pt x="1239" y="2194"/>
                  </a:lnTo>
                  <a:lnTo>
                    <a:pt x="1256" y="2202"/>
                  </a:lnTo>
                  <a:lnTo>
                    <a:pt x="1274" y="2209"/>
                  </a:lnTo>
                  <a:lnTo>
                    <a:pt x="1294" y="2214"/>
                  </a:lnTo>
                  <a:lnTo>
                    <a:pt x="1315" y="2219"/>
                  </a:lnTo>
                  <a:lnTo>
                    <a:pt x="1336" y="2223"/>
                  </a:lnTo>
                  <a:lnTo>
                    <a:pt x="1361" y="2226"/>
                  </a:lnTo>
                  <a:lnTo>
                    <a:pt x="1386" y="2227"/>
                  </a:lnTo>
                  <a:lnTo>
                    <a:pt x="1413" y="2228"/>
                  </a:lnTo>
                  <a:lnTo>
                    <a:pt x="1439" y="2227"/>
                  </a:lnTo>
                  <a:lnTo>
                    <a:pt x="1464" y="2225"/>
                  </a:lnTo>
                  <a:lnTo>
                    <a:pt x="1488" y="2222"/>
                  </a:lnTo>
                  <a:lnTo>
                    <a:pt x="1510" y="2217"/>
                  </a:lnTo>
                  <a:lnTo>
                    <a:pt x="1531" y="2211"/>
                  </a:lnTo>
                  <a:lnTo>
                    <a:pt x="1550" y="2204"/>
                  </a:lnTo>
                  <a:lnTo>
                    <a:pt x="1567" y="2196"/>
                  </a:lnTo>
                  <a:lnTo>
                    <a:pt x="1584" y="2188"/>
                  </a:lnTo>
                  <a:lnTo>
                    <a:pt x="1600" y="2177"/>
                  </a:lnTo>
                  <a:lnTo>
                    <a:pt x="1615" y="2166"/>
                  </a:lnTo>
                  <a:lnTo>
                    <a:pt x="1629" y="2155"/>
                  </a:lnTo>
                  <a:lnTo>
                    <a:pt x="1642" y="2144"/>
                  </a:lnTo>
                  <a:lnTo>
                    <a:pt x="1655" y="2131"/>
                  </a:lnTo>
                  <a:lnTo>
                    <a:pt x="1667" y="2119"/>
                  </a:lnTo>
                  <a:lnTo>
                    <a:pt x="1678" y="2105"/>
                  </a:lnTo>
                  <a:lnTo>
                    <a:pt x="1689" y="2092"/>
                  </a:lnTo>
                  <a:lnTo>
                    <a:pt x="1728" y="2410"/>
                  </a:lnTo>
                  <a:lnTo>
                    <a:pt x="2093" y="2410"/>
                  </a:lnTo>
                  <a:lnTo>
                    <a:pt x="1956" y="874"/>
                  </a:lnTo>
                  <a:lnTo>
                    <a:pt x="1953" y="855"/>
                  </a:lnTo>
                  <a:lnTo>
                    <a:pt x="1950" y="837"/>
                  </a:lnTo>
                  <a:lnTo>
                    <a:pt x="1945" y="818"/>
                  </a:lnTo>
                  <a:lnTo>
                    <a:pt x="1938" y="802"/>
                  </a:lnTo>
                  <a:lnTo>
                    <a:pt x="1931" y="786"/>
                  </a:lnTo>
                  <a:lnTo>
                    <a:pt x="1923" y="772"/>
                  </a:lnTo>
                  <a:lnTo>
                    <a:pt x="1914" y="757"/>
                  </a:lnTo>
                  <a:lnTo>
                    <a:pt x="1903" y="745"/>
                  </a:lnTo>
                  <a:lnTo>
                    <a:pt x="1892" y="734"/>
                  </a:lnTo>
                  <a:lnTo>
                    <a:pt x="1878" y="724"/>
                  </a:lnTo>
                  <a:lnTo>
                    <a:pt x="1864" y="715"/>
                  </a:lnTo>
                  <a:lnTo>
                    <a:pt x="1849" y="708"/>
                  </a:lnTo>
                  <a:lnTo>
                    <a:pt x="1834" y="703"/>
                  </a:lnTo>
                  <a:lnTo>
                    <a:pt x="1816" y="698"/>
                  </a:lnTo>
                  <a:lnTo>
                    <a:pt x="1798" y="696"/>
                  </a:lnTo>
                  <a:lnTo>
                    <a:pt x="1779" y="695"/>
                  </a:lnTo>
                  <a:lnTo>
                    <a:pt x="1759" y="696"/>
                  </a:lnTo>
                  <a:lnTo>
                    <a:pt x="1741" y="699"/>
                  </a:lnTo>
                  <a:lnTo>
                    <a:pt x="1724" y="703"/>
                  </a:lnTo>
                  <a:lnTo>
                    <a:pt x="1709" y="710"/>
                  </a:lnTo>
                  <a:lnTo>
                    <a:pt x="1693" y="717"/>
                  </a:lnTo>
                  <a:lnTo>
                    <a:pt x="1680" y="727"/>
                  </a:lnTo>
                  <a:lnTo>
                    <a:pt x="1667" y="738"/>
                  </a:lnTo>
                  <a:lnTo>
                    <a:pt x="1656" y="751"/>
                  </a:lnTo>
                  <a:lnTo>
                    <a:pt x="1645" y="766"/>
                  </a:lnTo>
                  <a:lnTo>
                    <a:pt x="1637" y="781"/>
                  </a:lnTo>
                  <a:lnTo>
                    <a:pt x="1629" y="798"/>
                  </a:lnTo>
                  <a:lnTo>
                    <a:pt x="1623" y="816"/>
                  </a:lnTo>
                  <a:lnTo>
                    <a:pt x="1618" y="835"/>
                  </a:lnTo>
                  <a:lnTo>
                    <a:pt x="1615" y="857"/>
                  </a:lnTo>
                  <a:lnTo>
                    <a:pt x="1613" y="878"/>
                  </a:lnTo>
                  <a:lnTo>
                    <a:pt x="1612" y="901"/>
                  </a:lnTo>
                  <a:lnTo>
                    <a:pt x="1612" y="1733"/>
                  </a:lnTo>
                  <a:lnTo>
                    <a:pt x="1612" y="1740"/>
                  </a:lnTo>
                  <a:lnTo>
                    <a:pt x="1611" y="1748"/>
                  </a:lnTo>
                  <a:lnTo>
                    <a:pt x="1610" y="1757"/>
                  </a:lnTo>
                  <a:lnTo>
                    <a:pt x="1608" y="1765"/>
                  </a:lnTo>
                  <a:lnTo>
                    <a:pt x="1603" y="1780"/>
                  </a:lnTo>
                  <a:lnTo>
                    <a:pt x="1595" y="1794"/>
                  </a:lnTo>
                  <a:lnTo>
                    <a:pt x="1586" y="1808"/>
                  </a:lnTo>
                  <a:lnTo>
                    <a:pt x="1575" y="1822"/>
                  </a:lnTo>
                  <a:lnTo>
                    <a:pt x="1563" y="1835"/>
                  </a:lnTo>
                  <a:lnTo>
                    <a:pt x="1550" y="1847"/>
                  </a:lnTo>
                  <a:lnTo>
                    <a:pt x="1536" y="1858"/>
                  </a:lnTo>
                  <a:lnTo>
                    <a:pt x="1520" y="1867"/>
                  </a:lnTo>
                  <a:lnTo>
                    <a:pt x="1504" y="1876"/>
                  </a:lnTo>
                  <a:lnTo>
                    <a:pt x="1487" y="1883"/>
                  </a:lnTo>
                  <a:lnTo>
                    <a:pt x="1470" y="1889"/>
                  </a:lnTo>
                  <a:lnTo>
                    <a:pt x="1451" y="1893"/>
                  </a:lnTo>
                  <a:lnTo>
                    <a:pt x="1433" y="1895"/>
                  </a:lnTo>
                  <a:lnTo>
                    <a:pt x="1415" y="1896"/>
                  </a:lnTo>
                  <a:lnTo>
                    <a:pt x="1395" y="1895"/>
                  </a:lnTo>
                  <a:lnTo>
                    <a:pt x="1377" y="1893"/>
                  </a:lnTo>
                  <a:lnTo>
                    <a:pt x="1360" y="1889"/>
                  </a:lnTo>
                  <a:lnTo>
                    <a:pt x="1341" y="1883"/>
                  </a:lnTo>
                  <a:lnTo>
                    <a:pt x="1325" y="1876"/>
                  </a:lnTo>
                  <a:lnTo>
                    <a:pt x="1309" y="1867"/>
                  </a:lnTo>
                  <a:lnTo>
                    <a:pt x="1294" y="1858"/>
                  </a:lnTo>
                  <a:lnTo>
                    <a:pt x="1279" y="1847"/>
                  </a:lnTo>
                  <a:lnTo>
                    <a:pt x="1266" y="1835"/>
                  </a:lnTo>
                  <a:lnTo>
                    <a:pt x="1254" y="1822"/>
                  </a:lnTo>
                  <a:lnTo>
                    <a:pt x="1244" y="1808"/>
                  </a:lnTo>
                  <a:lnTo>
                    <a:pt x="1235" y="1794"/>
                  </a:lnTo>
                  <a:lnTo>
                    <a:pt x="1227" y="1780"/>
                  </a:lnTo>
                  <a:lnTo>
                    <a:pt x="1222" y="1765"/>
                  </a:lnTo>
                  <a:lnTo>
                    <a:pt x="1220" y="1757"/>
                  </a:lnTo>
                  <a:lnTo>
                    <a:pt x="1219" y="1748"/>
                  </a:lnTo>
                  <a:lnTo>
                    <a:pt x="1218" y="1740"/>
                  </a:lnTo>
                  <a:lnTo>
                    <a:pt x="1218" y="1733"/>
                  </a:lnTo>
                  <a:lnTo>
                    <a:pt x="1218" y="894"/>
                  </a:lnTo>
                  <a:lnTo>
                    <a:pt x="1218" y="881"/>
                  </a:lnTo>
                  <a:lnTo>
                    <a:pt x="1217" y="867"/>
                  </a:lnTo>
                  <a:lnTo>
                    <a:pt x="1216" y="852"/>
                  </a:lnTo>
                  <a:lnTo>
                    <a:pt x="1214" y="837"/>
                  </a:lnTo>
                  <a:lnTo>
                    <a:pt x="1211" y="819"/>
                  </a:lnTo>
                  <a:lnTo>
                    <a:pt x="1207" y="803"/>
                  </a:lnTo>
                  <a:lnTo>
                    <a:pt x="1201" y="787"/>
                  </a:lnTo>
                  <a:lnTo>
                    <a:pt x="1194" y="771"/>
                  </a:lnTo>
                  <a:lnTo>
                    <a:pt x="1190" y="762"/>
                  </a:lnTo>
                  <a:lnTo>
                    <a:pt x="1186" y="755"/>
                  </a:lnTo>
                  <a:lnTo>
                    <a:pt x="1180" y="748"/>
                  </a:lnTo>
                  <a:lnTo>
                    <a:pt x="1175" y="741"/>
                  </a:lnTo>
                  <a:lnTo>
                    <a:pt x="1168" y="734"/>
                  </a:lnTo>
                  <a:lnTo>
                    <a:pt x="1161" y="728"/>
                  </a:lnTo>
                  <a:lnTo>
                    <a:pt x="1154" y="722"/>
                  </a:lnTo>
                  <a:lnTo>
                    <a:pt x="1146" y="717"/>
                  </a:lnTo>
                  <a:lnTo>
                    <a:pt x="1138" y="712"/>
                  </a:lnTo>
                  <a:lnTo>
                    <a:pt x="1129" y="708"/>
                  </a:lnTo>
                  <a:lnTo>
                    <a:pt x="1119" y="704"/>
                  </a:lnTo>
                  <a:lnTo>
                    <a:pt x="1108" y="701"/>
                  </a:lnTo>
                  <a:lnTo>
                    <a:pt x="1096" y="698"/>
                  </a:lnTo>
                  <a:lnTo>
                    <a:pt x="1085" y="697"/>
                  </a:lnTo>
                  <a:lnTo>
                    <a:pt x="1072" y="695"/>
                  </a:lnTo>
                  <a:lnTo>
                    <a:pt x="1059" y="695"/>
                  </a:lnTo>
                  <a:lnTo>
                    <a:pt x="1037" y="696"/>
                  </a:lnTo>
                  <a:lnTo>
                    <a:pt x="1018" y="699"/>
                  </a:lnTo>
                  <a:lnTo>
                    <a:pt x="1000" y="703"/>
                  </a:lnTo>
                  <a:lnTo>
                    <a:pt x="982" y="709"/>
                  </a:lnTo>
                  <a:lnTo>
                    <a:pt x="974" y="713"/>
                  </a:lnTo>
                  <a:lnTo>
                    <a:pt x="967" y="717"/>
                  </a:lnTo>
                  <a:lnTo>
                    <a:pt x="960" y="722"/>
                  </a:lnTo>
                  <a:lnTo>
                    <a:pt x="953" y="726"/>
                  </a:lnTo>
                  <a:lnTo>
                    <a:pt x="940" y="737"/>
                  </a:lnTo>
                  <a:lnTo>
                    <a:pt x="927" y="750"/>
                  </a:lnTo>
                  <a:lnTo>
                    <a:pt x="917" y="764"/>
                  </a:lnTo>
                  <a:lnTo>
                    <a:pt x="908" y="781"/>
                  </a:lnTo>
                  <a:lnTo>
                    <a:pt x="899" y="798"/>
                  </a:lnTo>
                  <a:lnTo>
                    <a:pt x="892" y="816"/>
                  </a:lnTo>
                  <a:lnTo>
                    <a:pt x="886" y="837"/>
                  </a:lnTo>
                  <a:lnTo>
                    <a:pt x="882" y="858"/>
                  </a:lnTo>
                  <a:lnTo>
                    <a:pt x="877" y="881"/>
                  </a:lnTo>
                  <a:lnTo>
                    <a:pt x="874" y="904"/>
                  </a:lnTo>
                  <a:lnTo>
                    <a:pt x="737" y="24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95360" y="120240"/>
              <a:ext cx="41040" cy="39960"/>
            </a:xfrm>
            <a:custGeom>
              <a:avLst/>
              <a:gdLst/>
              <a:ahLst/>
              <a:rect l="l" t="t" r="r" b="b"/>
              <a:pathLst>
                <a:path w="663" h="660">
                  <a:moveTo>
                    <a:pt x="0" y="331"/>
                  </a:moveTo>
                  <a:lnTo>
                    <a:pt x="0" y="347"/>
                  </a:lnTo>
                  <a:lnTo>
                    <a:pt x="1" y="364"/>
                  </a:lnTo>
                  <a:lnTo>
                    <a:pt x="3" y="380"/>
                  </a:lnTo>
                  <a:lnTo>
                    <a:pt x="6" y="397"/>
                  </a:lnTo>
                  <a:lnTo>
                    <a:pt x="9" y="413"/>
                  </a:lnTo>
                  <a:lnTo>
                    <a:pt x="14" y="428"/>
                  </a:lnTo>
                  <a:lnTo>
                    <a:pt x="18" y="443"/>
                  </a:lnTo>
                  <a:lnTo>
                    <a:pt x="24" y="459"/>
                  </a:lnTo>
                  <a:lnTo>
                    <a:pt x="30" y="473"/>
                  </a:lnTo>
                  <a:lnTo>
                    <a:pt x="38" y="487"/>
                  </a:lnTo>
                  <a:lnTo>
                    <a:pt x="46" y="501"/>
                  </a:lnTo>
                  <a:lnTo>
                    <a:pt x="54" y="514"/>
                  </a:lnTo>
                  <a:lnTo>
                    <a:pt x="63" y="528"/>
                  </a:lnTo>
                  <a:lnTo>
                    <a:pt x="72" y="540"/>
                  </a:lnTo>
                  <a:lnTo>
                    <a:pt x="82" y="552"/>
                  </a:lnTo>
                  <a:lnTo>
                    <a:pt x="94" y="564"/>
                  </a:lnTo>
                  <a:lnTo>
                    <a:pt x="105" y="574"/>
                  </a:lnTo>
                  <a:lnTo>
                    <a:pt x="116" y="585"/>
                  </a:lnTo>
                  <a:lnTo>
                    <a:pt x="129" y="594"/>
                  </a:lnTo>
                  <a:lnTo>
                    <a:pt x="141" y="604"/>
                  </a:lnTo>
                  <a:lnTo>
                    <a:pt x="155" y="613"/>
                  </a:lnTo>
                  <a:lnTo>
                    <a:pt x="169" y="621"/>
                  </a:lnTo>
                  <a:lnTo>
                    <a:pt x="183" y="628"/>
                  </a:lnTo>
                  <a:lnTo>
                    <a:pt x="198" y="635"/>
                  </a:lnTo>
                  <a:lnTo>
                    <a:pt x="214" y="641"/>
                  </a:lnTo>
                  <a:lnTo>
                    <a:pt x="229" y="646"/>
                  </a:lnTo>
                  <a:lnTo>
                    <a:pt x="245" y="650"/>
                  </a:lnTo>
                  <a:lnTo>
                    <a:pt x="261" y="654"/>
                  </a:lnTo>
                  <a:lnTo>
                    <a:pt x="279" y="657"/>
                  </a:lnTo>
                  <a:lnTo>
                    <a:pt x="296" y="659"/>
                  </a:lnTo>
                  <a:lnTo>
                    <a:pt x="313" y="660"/>
                  </a:lnTo>
                  <a:lnTo>
                    <a:pt x="332" y="660"/>
                  </a:lnTo>
                  <a:lnTo>
                    <a:pt x="349" y="660"/>
                  </a:lnTo>
                  <a:lnTo>
                    <a:pt x="366" y="659"/>
                  </a:lnTo>
                  <a:lnTo>
                    <a:pt x="382" y="657"/>
                  </a:lnTo>
                  <a:lnTo>
                    <a:pt x="399" y="654"/>
                  </a:lnTo>
                  <a:lnTo>
                    <a:pt x="415" y="650"/>
                  </a:lnTo>
                  <a:lnTo>
                    <a:pt x="431" y="646"/>
                  </a:lnTo>
                  <a:lnTo>
                    <a:pt x="447" y="641"/>
                  </a:lnTo>
                  <a:lnTo>
                    <a:pt x="462" y="635"/>
                  </a:lnTo>
                  <a:lnTo>
                    <a:pt x="477" y="629"/>
                  </a:lnTo>
                  <a:lnTo>
                    <a:pt x="491" y="622"/>
                  </a:lnTo>
                  <a:lnTo>
                    <a:pt x="505" y="614"/>
                  </a:lnTo>
                  <a:lnTo>
                    <a:pt x="519" y="606"/>
                  </a:lnTo>
                  <a:lnTo>
                    <a:pt x="531" y="596"/>
                  </a:lnTo>
                  <a:lnTo>
                    <a:pt x="544" y="586"/>
                  </a:lnTo>
                  <a:lnTo>
                    <a:pt x="555" y="576"/>
                  </a:lnTo>
                  <a:lnTo>
                    <a:pt x="568" y="566"/>
                  </a:lnTo>
                  <a:lnTo>
                    <a:pt x="578" y="554"/>
                  </a:lnTo>
                  <a:lnTo>
                    <a:pt x="588" y="543"/>
                  </a:lnTo>
                  <a:lnTo>
                    <a:pt x="598" y="530"/>
                  </a:lnTo>
                  <a:lnTo>
                    <a:pt x="607" y="517"/>
                  </a:lnTo>
                  <a:lnTo>
                    <a:pt x="615" y="503"/>
                  </a:lnTo>
                  <a:lnTo>
                    <a:pt x="624" y="490"/>
                  </a:lnTo>
                  <a:lnTo>
                    <a:pt x="631" y="476"/>
                  </a:lnTo>
                  <a:lnTo>
                    <a:pt x="638" y="461"/>
                  </a:lnTo>
                  <a:lnTo>
                    <a:pt x="643" y="445"/>
                  </a:lnTo>
                  <a:lnTo>
                    <a:pt x="648" y="430"/>
                  </a:lnTo>
                  <a:lnTo>
                    <a:pt x="653" y="414"/>
                  </a:lnTo>
                  <a:lnTo>
                    <a:pt x="656" y="398"/>
                  </a:lnTo>
                  <a:lnTo>
                    <a:pt x="659" y="381"/>
                  </a:lnTo>
                  <a:lnTo>
                    <a:pt x="661" y="365"/>
                  </a:lnTo>
                  <a:lnTo>
                    <a:pt x="662" y="348"/>
                  </a:lnTo>
                  <a:lnTo>
                    <a:pt x="663" y="331"/>
                  </a:lnTo>
                  <a:lnTo>
                    <a:pt x="662" y="312"/>
                  </a:lnTo>
                  <a:lnTo>
                    <a:pt x="661" y="295"/>
                  </a:lnTo>
                  <a:lnTo>
                    <a:pt x="659" y="278"/>
                  </a:lnTo>
                  <a:lnTo>
                    <a:pt x="656" y="261"/>
                  </a:lnTo>
                  <a:lnTo>
                    <a:pt x="652" y="245"/>
                  </a:lnTo>
                  <a:lnTo>
                    <a:pt x="648" y="228"/>
                  </a:lnTo>
                  <a:lnTo>
                    <a:pt x="643" y="213"/>
                  </a:lnTo>
                  <a:lnTo>
                    <a:pt x="637" y="198"/>
                  </a:lnTo>
                  <a:lnTo>
                    <a:pt x="630" y="183"/>
                  </a:lnTo>
                  <a:lnTo>
                    <a:pt x="623" y="168"/>
                  </a:lnTo>
                  <a:lnTo>
                    <a:pt x="614" y="155"/>
                  </a:lnTo>
                  <a:lnTo>
                    <a:pt x="606" y="141"/>
                  </a:lnTo>
                  <a:lnTo>
                    <a:pt x="596" y="129"/>
                  </a:lnTo>
                  <a:lnTo>
                    <a:pt x="587" y="116"/>
                  </a:lnTo>
                  <a:lnTo>
                    <a:pt x="576" y="105"/>
                  </a:lnTo>
                  <a:lnTo>
                    <a:pt x="566" y="93"/>
                  </a:lnTo>
                  <a:lnTo>
                    <a:pt x="553" y="82"/>
                  </a:lnTo>
                  <a:lnTo>
                    <a:pt x="541" y="72"/>
                  </a:lnTo>
                  <a:lnTo>
                    <a:pt x="529" y="63"/>
                  </a:lnTo>
                  <a:lnTo>
                    <a:pt x="516" y="54"/>
                  </a:lnTo>
                  <a:lnTo>
                    <a:pt x="502" y="46"/>
                  </a:lnTo>
                  <a:lnTo>
                    <a:pt x="488" y="38"/>
                  </a:lnTo>
                  <a:lnTo>
                    <a:pt x="474" y="30"/>
                  </a:lnTo>
                  <a:lnTo>
                    <a:pt x="460" y="24"/>
                  </a:lnTo>
                  <a:lnTo>
                    <a:pt x="445" y="18"/>
                  </a:lnTo>
                  <a:lnTo>
                    <a:pt x="429" y="14"/>
                  </a:lnTo>
                  <a:lnTo>
                    <a:pt x="414" y="9"/>
                  </a:lnTo>
                  <a:lnTo>
                    <a:pt x="398" y="6"/>
                  </a:lnTo>
                  <a:lnTo>
                    <a:pt x="381" y="3"/>
                  </a:lnTo>
                  <a:lnTo>
                    <a:pt x="365" y="1"/>
                  </a:lnTo>
                  <a:lnTo>
                    <a:pt x="348" y="0"/>
                  </a:lnTo>
                  <a:lnTo>
                    <a:pt x="332" y="0"/>
                  </a:lnTo>
                  <a:lnTo>
                    <a:pt x="313" y="0"/>
                  </a:lnTo>
                  <a:lnTo>
                    <a:pt x="296" y="1"/>
                  </a:lnTo>
                  <a:lnTo>
                    <a:pt x="279" y="3"/>
                  </a:lnTo>
                  <a:lnTo>
                    <a:pt x="261" y="6"/>
                  </a:lnTo>
                  <a:lnTo>
                    <a:pt x="245" y="9"/>
                  </a:lnTo>
                  <a:lnTo>
                    <a:pt x="229" y="14"/>
                  </a:lnTo>
                  <a:lnTo>
                    <a:pt x="214" y="18"/>
                  </a:lnTo>
                  <a:lnTo>
                    <a:pt x="198" y="24"/>
                  </a:lnTo>
                  <a:lnTo>
                    <a:pt x="183" y="30"/>
                  </a:lnTo>
                  <a:lnTo>
                    <a:pt x="169" y="38"/>
                  </a:lnTo>
                  <a:lnTo>
                    <a:pt x="155" y="46"/>
                  </a:lnTo>
                  <a:lnTo>
                    <a:pt x="141" y="54"/>
                  </a:lnTo>
                  <a:lnTo>
                    <a:pt x="129" y="63"/>
                  </a:lnTo>
                  <a:lnTo>
                    <a:pt x="116" y="72"/>
                  </a:lnTo>
                  <a:lnTo>
                    <a:pt x="105" y="82"/>
                  </a:lnTo>
                  <a:lnTo>
                    <a:pt x="94" y="93"/>
                  </a:lnTo>
                  <a:lnTo>
                    <a:pt x="82" y="105"/>
                  </a:lnTo>
                  <a:lnTo>
                    <a:pt x="72" y="116"/>
                  </a:lnTo>
                  <a:lnTo>
                    <a:pt x="63" y="129"/>
                  </a:lnTo>
                  <a:lnTo>
                    <a:pt x="54" y="141"/>
                  </a:lnTo>
                  <a:lnTo>
                    <a:pt x="46" y="155"/>
                  </a:lnTo>
                  <a:lnTo>
                    <a:pt x="38" y="168"/>
                  </a:lnTo>
                  <a:lnTo>
                    <a:pt x="30" y="183"/>
                  </a:lnTo>
                  <a:lnTo>
                    <a:pt x="24" y="198"/>
                  </a:lnTo>
                  <a:lnTo>
                    <a:pt x="18" y="213"/>
                  </a:lnTo>
                  <a:lnTo>
                    <a:pt x="14" y="228"/>
                  </a:lnTo>
                  <a:lnTo>
                    <a:pt x="9" y="245"/>
                  </a:lnTo>
                  <a:lnTo>
                    <a:pt x="6" y="261"/>
                  </a:lnTo>
                  <a:lnTo>
                    <a:pt x="3" y="278"/>
                  </a:lnTo>
                  <a:lnTo>
                    <a:pt x="1" y="295"/>
                  </a:lnTo>
                  <a:lnTo>
                    <a:pt x="0" y="312"/>
                  </a:lnTo>
                  <a:lnTo>
                    <a:pt x="0" y="3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0080" y="215640"/>
              <a:ext cx="91584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43000" y="239400"/>
              <a:ext cx="631800" cy="41400"/>
            </a:xfrm>
            <a:custGeom>
              <a:avLst/>
              <a:gdLst/>
              <a:ahLst/>
              <a:rect l="l" t="t" r="r" b="b"/>
              <a:pathLst>
                <a:path w="10371" h="666">
                  <a:moveTo>
                    <a:pt x="284" y="407"/>
                  </a:moveTo>
                  <a:lnTo>
                    <a:pt x="284" y="651"/>
                  </a:lnTo>
                  <a:lnTo>
                    <a:pt x="439" y="651"/>
                  </a:lnTo>
                  <a:lnTo>
                    <a:pt x="439" y="14"/>
                  </a:lnTo>
                  <a:lnTo>
                    <a:pt x="205" y="14"/>
                  </a:lnTo>
                  <a:lnTo>
                    <a:pt x="185" y="15"/>
                  </a:lnTo>
                  <a:lnTo>
                    <a:pt x="165" y="18"/>
                  </a:lnTo>
                  <a:lnTo>
                    <a:pt x="148" y="23"/>
                  </a:lnTo>
                  <a:lnTo>
                    <a:pt x="131" y="29"/>
                  </a:lnTo>
                  <a:lnTo>
                    <a:pt x="116" y="36"/>
                  </a:lnTo>
                  <a:lnTo>
                    <a:pt x="101" y="46"/>
                  </a:lnTo>
                  <a:lnTo>
                    <a:pt x="88" y="57"/>
                  </a:lnTo>
                  <a:lnTo>
                    <a:pt x="76" y="69"/>
                  </a:lnTo>
                  <a:lnTo>
                    <a:pt x="66" y="82"/>
                  </a:lnTo>
                  <a:lnTo>
                    <a:pt x="57" y="96"/>
                  </a:lnTo>
                  <a:lnTo>
                    <a:pt x="48" y="111"/>
                  </a:lnTo>
                  <a:lnTo>
                    <a:pt x="42" y="128"/>
                  </a:lnTo>
                  <a:lnTo>
                    <a:pt x="37" y="144"/>
                  </a:lnTo>
                  <a:lnTo>
                    <a:pt x="33" y="162"/>
                  </a:lnTo>
                  <a:lnTo>
                    <a:pt x="31" y="180"/>
                  </a:lnTo>
                  <a:lnTo>
                    <a:pt x="30" y="199"/>
                  </a:lnTo>
                  <a:lnTo>
                    <a:pt x="30" y="214"/>
                  </a:lnTo>
                  <a:lnTo>
                    <a:pt x="32" y="228"/>
                  </a:lnTo>
                  <a:lnTo>
                    <a:pt x="34" y="241"/>
                  </a:lnTo>
                  <a:lnTo>
                    <a:pt x="37" y="255"/>
                  </a:lnTo>
                  <a:lnTo>
                    <a:pt x="40" y="268"/>
                  </a:lnTo>
                  <a:lnTo>
                    <a:pt x="44" y="281"/>
                  </a:lnTo>
                  <a:lnTo>
                    <a:pt x="49" y="292"/>
                  </a:lnTo>
                  <a:lnTo>
                    <a:pt x="56" y="304"/>
                  </a:lnTo>
                  <a:lnTo>
                    <a:pt x="62" y="314"/>
                  </a:lnTo>
                  <a:lnTo>
                    <a:pt x="69" y="324"/>
                  </a:lnTo>
                  <a:lnTo>
                    <a:pt x="76" y="335"/>
                  </a:lnTo>
                  <a:lnTo>
                    <a:pt x="84" y="343"/>
                  </a:lnTo>
                  <a:lnTo>
                    <a:pt x="92" y="351"/>
                  </a:lnTo>
                  <a:lnTo>
                    <a:pt x="101" y="358"/>
                  </a:lnTo>
                  <a:lnTo>
                    <a:pt x="110" y="365"/>
                  </a:lnTo>
                  <a:lnTo>
                    <a:pt x="120" y="370"/>
                  </a:lnTo>
                  <a:lnTo>
                    <a:pt x="0" y="651"/>
                  </a:lnTo>
                  <a:lnTo>
                    <a:pt x="163" y="651"/>
                  </a:lnTo>
                  <a:lnTo>
                    <a:pt x="255" y="407"/>
                  </a:lnTo>
                  <a:lnTo>
                    <a:pt x="284" y="407"/>
                  </a:lnTo>
                  <a:close/>
                  <a:moveTo>
                    <a:pt x="284" y="292"/>
                  </a:moveTo>
                  <a:lnTo>
                    <a:pt x="248" y="292"/>
                  </a:lnTo>
                  <a:lnTo>
                    <a:pt x="241" y="292"/>
                  </a:lnTo>
                  <a:lnTo>
                    <a:pt x="234" y="290"/>
                  </a:lnTo>
                  <a:lnTo>
                    <a:pt x="227" y="289"/>
                  </a:lnTo>
                  <a:lnTo>
                    <a:pt x="221" y="286"/>
                  </a:lnTo>
                  <a:lnTo>
                    <a:pt x="215" y="282"/>
                  </a:lnTo>
                  <a:lnTo>
                    <a:pt x="210" y="278"/>
                  </a:lnTo>
                  <a:lnTo>
                    <a:pt x="206" y="274"/>
                  </a:lnTo>
                  <a:lnTo>
                    <a:pt x="201" y="269"/>
                  </a:lnTo>
                  <a:lnTo>
                    <a:pt x="197" y="263"/>
                  </a:lnTo>
                  <a:lnTo>
                    <a:pt x="194" y="255"/>
                  </a:lnTo>
                  <a:lnTo>
                    <a:pt x="191" y="249"/>
                  </a:lnTo>
                  <a:lnTo>
                    <a:pt x="189" y="241"/>
                  </a:lnTo>
                  <a:lnTo>
                    <a:pt x="187" y="234"/>
                  </a:lnTo>
                  <a:lnTo>
                    <a:pt x="186" y="225"/>
                  </a:lnTo>
                  <a:lnTo>
                    <a:pt x="185" y="217"/>
                  </a:lnTo>
                  <a:lnTo>
                    <a:pt x="184" y="208"/>
                  </a:lnTo>
                  <a:lnTo>
                    <a:pt x="185" y="199"/>
                  </a:lnTo>
                  <a:lnTo>
                    <a:pt x="186" y="191"/>
                  </a:lnTo>
                  <a:lnTo>
                    <a:pt x="187" y="182"/>
                  </a:lnTo>
                  <a:lnTo>
                    <a:pt x="189" y="174"/>
                  </a:lnTo>
                  <a:lnTo>
                    <a:pt x="191" y="168"/>
                  </a:lnTo>
                  <a:lnTo>
                    <a:pt x="194" y="161"/>
                  </a:lnTo>
                  <a:lnTo>
                    <a:pt x="198" y="155"/>
                  </a:lnTo>
                  <a:lnTo>
                    <a:pt x="202" y="150"/>
                  </a:lnTo>
                  <a:lnTo>
                    <a:pt x="206" y="145"/>
                  </a:lnTo>
                  <a:lnTo>
                    <a:pt x="211" y="141"/>
                  </a:lnTo>
                  <a:lnTo>
                    <a:pt x="216" y="137"/>
                  </a:lnTo>
                  <a:lnTo>
                    <a:pt x="222" y="134"/>
                  </a:lnTo>
                  <a:lnTo>
                    <a:pt x="228" y="132"/>
                  </a:lnTo>
                  <a:lnTo>
                    <a:pt x="235" y="130"/>
                  </a:lnTo>
                  <a:lnTo>
                    <a:pt x="242" y="129"/>
                  </a:lnTo>
                  <a:lnTo>
                    <a:pt x="249" y="129"/>
                  </a:lnTo>
                  <a:lnTo>
                    <a:pt x="284" y="129"/>
                  </a:lnTo>
                  <a:lnTo>
                    <a:pt x="284" y="292"/>
                  </a:lnTo>
                  <a:close/>
                  <a:moveTo>
                    <a:pt x="1420" y="403"/>
                  </a:moveTo>
                  <a:lnTo>
                    <a:pt x="1489" y="403"/>
                  </a:lnTo>
                  <a:lnTo>
                    <a:pt x="1505" y="403"/>
                  </a:lnTo>
                  <a:lnTo>
                    <a:pt x="1522" y="402"/>
                  </a:lnTo>
                  <a:lnTo>
                    <a:pt x="1540" y="398"/>
                  </a:lnTo>
                  <a:lnTo>
                    <a:pt x="1556" y="394"/>
                  </a:lnTo>
                  <a:lnTo>
                    <a:pt x="1572" y="389"/>
                  </a:lnTo>
                  <a:lnTo>
                    <a:pt x="1588" y="383"/>
                  </a:lnTo>
                  <a:lnTo>
                    <a:pt x="1603" y="375"/>
                  </a:lnTo>
                  <a:lnTo>
                    <a:pt x="1616" y="365"/>
                  </a:lnTo>
                  <a:lnTo>
                    <a:pt x="1622" y="359"/>
                  </a:lnTo>
                  <a:lnTo>
                    <a:pt x="1629" y="353"/>
                  </a:lnTo>
                  <a:lnTo>
                    <a:pt x="1634" y="347"/>
                  </a:lnTo>
                  <a:lnTo>
                    <a:pt x="1640" y="339"/>
                  </a:lnTo>
                  <a:lnTo>
                    <a:pt x="1645" y="332"/>
                  </a:lnTo>
                  <a:lnTo>
                    <a:pt x="1651" y="323"/>
                  </a:lnTo>
                  <a:lnTo>
                    <a:pt x="1655" y="314"/>
                  </a:lnTo>
                  <a:lnTo>
                    <a:pt x="1659" y="305"/>
                  </a:lnTo>
                  <a:lnTo>
                    <a:pt x="1663" y="295"/>
                  </a:lnTo>
                  <a:lnTo>
                    <a:pt x="1666" y="285"/>
                  </a:lnTo>
                  <a:lnTo>
                    <a:pt x="1669" y="274"/>
                  </a:lnTo>
                  <a:lnTo>
                    <a:pt x="1671" y="263"/>
                  </a:lnTo>
                  <a:lnTo>
                    <a:pt x="1673" y="249"/>
                  </a:lnTo>
                  <a:lnTo>
                    <a:pt x="1674" y="236"/>
                  </a:lnTo>
                  <a:lnTo>
                    <a:pt x="1675" y="223"/>
                  </a:lnTo>
                  <a:lnTo>
                    <a:pt x="1675" y="209"/>
                  </a:lnTo>
                  <a:lnTo>
                    <a:pt x="1675" y="194"/>
                  </a:lnTo>
                  <a:lnTo>
                    <a:pt x="1674" y="179"/>
                  </a:lnTo>
                  <a:lnTo>
                    <a:pt x="1673" y="166"/>
                  </a:lnTo>
                  <a:lnTo>
                    <a:pt x="1671" y="154"/>
                  </a:lnTo>
                  <a:lnTo>
                    <a:pt x="1669" y="142"/>
                  </a:lnTo>
                  <a:lnTo>
                    <a:pt x="1666" y="131"/>
                  </a:lnTo>
                  <a:lnTo>
                    <a:pt x="1663" y="120"/>
                  </a:lnTo>
                  <a:lnTo>
                    <a:pt x="1659" y="109"/>
                  </a:lnTo>
                  <a:lnTo>
                    <a:pt x="1655" y="100"/>
                  </a:lnTo>
                  <a:lnTo>
                    <a:pt x="1650" y="91"/>
                  </a:lnTo>
                  <a:lnTo>
                    <a:pt x="1645" y="83"/>
                  </a:lnTo>
                  <a:lnTo>
                    <a:pt x="1639" y="76"/>
                  </a:lnTo>
                  <a:lnTo>
                    <a:pt x="1634" y="69"/>
                  </a:lnTo>
                  <a:lnTo>
                    <a:pt x="1628" y="62"/>
                  </a:lnTo>
                  <a:lnTo>
                    <a:pt x="1622" y="56"/>
                  </a:lnTo>
                  <a:lnTo>
                    <a:pt x="1615" y="51"/>
                  </a:lnTo>
                  <a:lnTo>
                    <a:pt x="1602" y="40"/>
                  </a:lnTo>
                  <a:lnTo>
                    <a:pt x="1586" y="33"/>
                  </a:lnTo>
                  <a:lnTo>
                    <a:pt x="1571" y="26"/>
                  </a:lnTo>
                  <a:lnTo>
                    <a:pt x="1555" y="22"/>
                  </a:lnTo>
                  <a:lnTo>
                    <a:pt x="1539" y="18"/>
                  </a:lnTo>
                  <a:lnTo>
                    <a:pt x="1522" y="16"/>
                  </a:lnTo>
                  <a:lnTo>
                    <a:pt x="1505" y="15"/>
                  </a:lnTo>
                  <a:lnTo>
                    <a:pt x="1489" y="14"/>
                  </a:lnTo>
                  <a:lnTo>
                    <a:pt x="1265" y="14"/>
                  </a:lnTo>
                  <a:lnTo>
                    <a:pt x="1265" y="651"/>
                  </a:lnTo>
                  <a:lnTo>
                    <a:pt x="1420" y="651"/>
                  </a:lnTo>
                  <a:lnTo>
                    <a:pt x="1420" y="403"/>
                  </a:lnTo>
                  <a:close/>
                  <a:moveTo>
                    <a:pt x="1420" y="129"/>
                  </a:moveTo>
                  <a:lnTo>
                    <a:pt x="1444" y="129"/>
                  </a:lnTo>
                  <a:lnTo>
                    <a:pt x="1460" y="130"/>
                  </a:lnTo>
                  <a:lnTo>
                    <a:pt x="1475" y="132"/>
                  </a:lnTo>
                  <a:lnTo>
                    <a:pt x="1482" y="134"/>
                  </a:lnTo>
                  <a:lnTo>
                    <a:pt x="1488" y="137"/>
                  </a:lnTo>
                  <a:lnTo>
                    <a:pt x="1494" y="140"/>
                  </a:lnTo>
                  <a:lnTo>
                    <a:pt x="1499" y="144"/>
                  </a:lnTo>
                  <a:lnTo>
                    <a:pt x="1504" y="149"/>
                  </a:lnTo>
                  <a:lnTo>
                    <a:pt x="1509" y="154"/>
                  </a:lnTo>
                  <a:lnTo>
                    <a:pt x="1512" y="161"/>
                  </a:lnTo>
                  <a:lnTo>
                    <a:pt x="1515" y="168"/>
                  </a:lnTo>
                  <a:lnTo>
                    <a:pt x="1518" y="176"/>
                  </a:lnTo>
                  <a:lnTo>
                    <a:pt x="1520" y="185"/>
                  </a:lnTo>
                  <a:lnTo>
                    <a:pt x="1521" y="196"/>
                  </a:lnTo>
                  <a:lnTo>
                    <a:pt x="1521" y="207"/>
                  </a:lnTo>
                  <a:lnTo>
                    <a:pt x="1521" y="218"/>
                  </a:lnTo>
                  <a:lnTo>
                    <a:pt x="1520" y="228"/>
                  </a:lnTo>
                  <a:lnTo>
                    <a:pt x="1518" y="238"/>
                  </a:lnTo>
                  <a:lnTo>
                    <a:pt x="1515" y="246"/>
                  </a:lnTo>
                  <a:lnTo>
                    <a:pt x="1512" y="253"/>
                  </a:lnTo>
                  <a:lnTo>
                    <a:pt x="1508" y="261"/>
                  </a:lnTo>
                  <a:lnTo>
                    <a:pt x="1503" y="267"/>
                  </a:lnTo>
                  <a:lnTo>
                    <a:pt x="1498" y="272"/>
                  </a:lnTo>
                  <a:lnTo>
                    <a:pt x="1493" y="276"/>
                  </a:lnTo>
                  <a:lnTo>
                    <a:pt x="1487" y="279"/>
                  </a:lnTo>
                  <a:lnTo>
                    <a:pt x="1481" y="282"/>
                  </a:lnTo>
                  <a:lnTo>
                    <a:pt x="1475" y="285"/>
                  </a:lnTo>
                  <a:lnTo>
                    <a:pt x="1467" y="286"/>
                  </a:lnTo>
                  <a:lnTo>
                    <a:pt x="1461" y="288"/>
                  </a:lnTo>
                  <a:lnTo>
                    <a:pt x="1454" y="288"/>
                  </a:lnTo>
                  <a:lnTo>
                    <a:pt x="1447" y="289"/>
                  </a:lnTo>
                  <a:lnTo>
                    <a:pt x="1420" y="289"/>
                  </a:lnTo>
                  <a:lnTo>
                    <a:pt x="1420" y="129"/>
                  </a:lnTo>
                  <a:close/>
                  <a:moveTo>
                    <a:pt x="2696" y="0"/>
                  </a:moveTo>
                  <a:lnTo>
                    <a:pt x="2670" y="1"/>
                  </a:lnTo>
                  <a:lnTo>
                    <a:pt x="2645" y="4"/>
                  </a:lnTo>
                  <a:lnTo>
                    <a:pt x="2623" y="8"/>
                  </a:lnTo>
                  <a:lnTo>
                    <a:pt x="2603" y="14"/>
                  </a:lnTo>
                  <a:lnTo>
                    <a:pt x="2583" y="21"/>
                  </a:lnTo>
                  <a:lnTo>
                    <a:pt x="2566" y="30"/>
                  </a:lnTo>
                  <a:lnTo>
                    <a:pt x="2559" y="35"/>
                  </a:lnTo>
                  <a:lnTo>
                    <a:pt x="2551" y="40"/>
                  </a:lnTo>
                  <a:lnTo>
                    <a:pt x="2544" y="46"/>
                  </a:lnTo>
                  <a:lnTo>
                    <a:pt x="2538" y="52"/>
                  </a:lnTo>
                  <a:lnTo>
                    <a:pt x="2525" y="65"/>
                  </a:lnTo>
                  <a:lnTo>
                    <a:pt x="2515" y="79"/>
                  </a:lnTo>
                  <a:lnTo>
                    <a:pt x="2507" y="93"/>
                  </a:lnTo>
                  <a:lnTo>
                    <a:pt x="2500" y="109"/>
                  </a:lnTo>
                  <a:lnTo>
                    <a:pt x="2495" y="126"/>
                  </a:lnTo>
                  <a:lnTo>
                    <a:pt x="2491" y="143"/>
                  </a:lnTo>
                  <a:lnTo>
                    <a:pt x="2489" y="161"/>
                  </a:lnTo>
                  <a:lnTo>
                    <a:pt x="2488" y="179"/>
                  </a:lnTo>
                  <a:lnTo>
                    <a:pt x="2488" y="465"/>
                  </a:lnTo>
                  <a:lnTo>
                    <a:pt x="2489" y="489"/>
                  </a:lnTo>
                  <a:lnTo>
                    <a:pt x="2491" y="511"/>
                  </a:lnTo>
                  <a:lnTo>
                    <a:pt x="2495" y="531"/>
                  </a:lnTo>
                  <a:lnTo>
                    <a:pt x="2500" y="551"/>
                  </a:lnTo>
                  <a:lnTo>
                    <a:pt x="2503" y="560"/>
                  </a:lnTo>
                  <a:lnTo>
                    <a:pt x="2507" y="569"/>
                  </a:lnTo>
                  <a:lnTo>
                    <a:pt x="2511" y="577"/>
                  </a:lnTo>
                  <a:lnTo>
                    <a:pt x="2516" y="585"/>
                  </a:lnTo>
                  <a:lnTo>
                    <a:pt x="2520" y="593"/>
                  </a:lnTo>
                  <a:lnTo>
                    <a:pt x="2526" y="600"/>
                  </a:lnTo>
                  <a:lnTo>
                    <a:pt x="2532" y="607"/>
                  </a:lnTo>
                  <a:lnTo>
                    <a:pt x="2538" y="613"/>
                  </a:lnTo>
                  <a:lnTo>
                    <a:pt x="2545" y="621"/>
                  </a:lnTo>
                  <a:lnTo>
                    <a:pt x="2552" y="626"/>
                  </a:lnTo>
                  <a:lnTo>
                    <a:pt x="2559" y="632"/>
                  </a:lnTo>
                  <a:lnTo>
                    <a:pt x="2567" y="637"/>
                  </a:lnTo>
                  <a:lnTo>
                    <a:pt x="2575" y="641"/>
                  </a:lnTo>
                  <a:lnTo>
                    <a:pt x="2583" y="646"/>
                  </a:lnTo>
                  <a:lnTo>
                    <a:pt x="2593" y="650"/>
                  </a:lnTo>
                  <a:lnTo>
                    <a:pt x="2603" y="653"/>
                  </a:lnTo>
                  <a:lnTo>
                    <a:pt x="2613" y="656"/>
                  </a:lnTo>
                  <a:lnTo>
                    <a:pt x="2623" y="659"/>
                  </a:lnTo>
                  <a:lnTo>
                    <a:pt x="2634" y="661"/>
                  </a:lnTo>
                  <a:lnTo>
                    <a:pt x="2645" y="663"/>
                  </a:lnTo>
                  <a:lnTo>
                    <a:pt x="2669" y="666"/>
                  </a:lnTo>
                  <a:lnTo>
                    <a:pt x="2695" y="666"/>
                  </a:lnTo>
                  <a:lnTo>
                    <a:pt x="2722" y="666"/>
                  </a:lnTo>
                  <a:lnTo>
                    <a:pt x="2745" y="663"/>
                  </a:lnTo>
                  <a:lnTo>
                    <a:pt x="2756" y="661"/>
                  </a:lnTo>
                  <a:lnTo>
                    <a:pt x="2768" y="659"/>
                  </a:lnTo>
                  <a:lnTo>
                    <a:pt x="2779" y="656"/>
                  </a:lnTo>
                  <a:lnTo>
                    <a:pt x="2789" y="653"/>
                  </a:lnTo>
                  <a:lnTo>
                    <a:pt x="2798" y="650"/>
                  </a:lnTo>
                  <a:lnTo>
                    <a:pt x="2807" y="646"/>
                  </a:lnTo>
                  <a:lnTo>
                    <a:pt x="2815" y="641"/>
                  </a:lnTo>
                  <a:lnTo>
                    <a:pt x="2824" y="637"/>
                  </a:lnTo>
                  <a:lnTo>
                    <a:pt x="2832" y="632"/>
                  </a:lnTo>
                  <a:lnTo>
                    <a:pt x="2840" y="626"/>
                  </a:lnTo>
                  <a:lnTo>
                    <a:pt x="2846" y="621"/>
                  </a:lnTo>
                  <a:lnTo>
                    <a:pt x="2853" y="613"/>
                  </a:lnTo>
                  <a:lnTo>
                    <a:pt x="2859" y="607"/>
                  </a:lnTo>
                  <a:lnTo>
                    <a:pt x="2865" y="600"/>
                  </a:lnTo>
                  <a:lnTo>
                    <a:pt x="2870" y="593"/>
                  </a:lnTo>
                  <a:lnTo>
                    <a:pt x="2875" y="585"/>
                  </a:lnTo>
                  <a:lnTo>
                    <a:pt x="2883" y="569"/>
                  </a:lnTo>
                  <a:lnTo>
                    <a:pt x="2891" y="551"/>
                  </a:lnTo>
                  <a:lnTo>
                    <a:pt x="2896" y="531"/>
                  </a:lnTo>
                  <a:lnTo>
                    <a:pt x="2900" y="511"/>
                  </a:lnTo>
                  <a:lnTo>
                    <a:pt x="2902" y="489"/>
                  </a:lnTo>
                  <a:lnTo>
                    <a:pt x="2903" y="465"/>
                  </a:lnTo>
                  <a:lnTo>
                    <a:pt x="2903" y="180"/>
                  </a:lnTo>
                  <a:lnTo>
                    <a:pt x="2902" y="162"/>
                  </a:lnTo>
                  <a:lnTo>
                    <a:pt x="2900" y="144"/>
                  </a:lnTo>
                  <a:lnTo>
                    <a:pt x="2896" y="127"/>
                  </a:lnTo>
                  <a:lnTo>
                    <a:pt x="2891" y="110"/>
                  </a:lnTo>
                  <a:lnTo>
                    <a:pt x="2883" y="94"/>
                  </a:lnTo>
                  <a:lnTo>
                    <a:pt x="2875" y="80"/>
                  </a:lnTo>
                  <a:lnTo>
                    <a:pt x="2865" y="66"/>
                  </a:lnTo>
                  <a:lnTo>
                    <a:pt x="2854" y="53"/>
                  </a:lnTo>
                  <a:lnTo>
                    <a:pt x="2840" y="41"/>
                  </a:lnTo>
                  <a:lnTo>
                    <a:pt x="2825" y="31"/>
                  </a:lnTo>
                  <a:lnTo>
                    <a:pt x="2808" y="22"/>
                  </a:lnTo>
                  <a:lnTo>
                    <a:pt x="2790" y="14"/>
                  </a:lnTo>
                  <a:lnTo>
                    <a:pt x="2769" y="8"/>
                  </a:lnTo>
                  <a:lnTo>
                    <a:pt x="2746" y="4"/>
                  </a:lnTo>
                  <a:lnTo>
                    <a:pt x="2722" y="1"/>
                  </a:lnTo>
                  <a:lnTo>
                    <a:pt x="2696" y="0"/>
                  </a:lnTo>
                  <a:close/>
                  <a:moveTo>
                    <a:pt x="2695" y="117"/>
                  </a:moveTo>
                  <a:lnTo>
                    <a:pt x="2704" y="117"/>
                  </a:lnTo>
                  <a:lnTo>
                    <a:pt x="2715" y="121"/>
                  </a:lnTo>
                  <a:lnTo>
                    <a:pt x="2724" y="125"/>
                  </a:lnTo>
                  <a:lnTo>
                    <a:pt x="2732" y="130"/>
                  </a:lnTo>
                  <a:lnTo>
                    <a:pt x="2735" y="133"/>
                  </a:lnTo>
                  <a:lnTo>
                    <a:pt x="2738" y="137"/>
                  </a:lnTo>
                  <a:lnTo>
                    <a:pt x="2741" y="141"/>
                  </a:lnTo>
                  <a:lnTo>
                    <a:pt x="2744" y="146"/>
                  </a:lnTo>
                  <a:lnTo>
                    <a:pt x="2746" y="151"/>
                  </a:lnTo>
                  <a:lnTo>
                    <a:pt x="2747" y="157"/>
                  </a:lnTo>
                  <a:lnTo>
                    <a:pt x="2748" y="163"/>
                  </a:lnTo>
                  <a:lnTo>
                    <a:pt x="2748" y="169"/>
                  </a:lnTo>
                  <a:lnTo>
                    <a:pt x="2748" y="493"/>
                  </a:lnTo>
                  <a:lnTo>
                    <a:pt x="2748" y="500"/>
                  </a:lnTo>
                  <a:lnTo>
                    <a:pt x="2747" y="506"/>
                  </a:lnTo>
                  <a:lnTo>
                    <a:pt x="2746" y="512"/>
                  </a:lnTo>
                  <a:lnTo>
                    <a:pt x="2744" y="517"/>
                  </a:lnTo>
                  <a:lnTo>
                    <a:pt x="2741" y="522"/>
                  </a:lnTo>
                  <a:lnTo>
                    <a:pt x="2738" y="527"/>
                  </a:lnTo>
                  <a:lnTo>
                    <a:pt x="2735" y="531"/>
                  </a:lnTo>
                  <a:lnTo>
                    <a:pt x="2732" y="535"/>
                  </a:lnTo>
                  <a:lnTo>
                    <a:pt x="2724" y="541"/>
                  </a:lnTo>
                  <a:lnTo>
                    <a:pt x="2715" y="546"/>
                  </a:lnTo>
                  <a:lnTo>
                    <a:pt x="2704" y="549"/>
                  </a:lnTo>
                  <a:lnTo>
                    <a:pt x="2695" y="550"/>
                  </a:lnTo>
                  <a:lnTo>
                    <a:pt x="2685" y="549"/>
                  </a:lnTo>
                  <a:lnTo>
                    <a:pt x="2676" y="546"/>
                  </a:lnTo>
                  <a:lnTo>
                    <a:pt x="2671" y="544"/>
                  </a:lnTo>
                  <a:lnTo>
                    <a:pt x="2667" y="541"/>
                  </a:lnTo>
                  <a:lnTo>
                    <a:pt x="2663" y="538"/>
                  </a:lnTo>
                  <a:lnTo>
                    <a:pt x="2659" y="535"/>
                  </a:lnTo>
                  <a:lnTo>
                    <a:pt x="2655" y="531"/>
                  </a:lnTo>
                  <a:lnTo>
                    <a:pt x="2652" y="527"/>
                  </a:lnTo>
                  <a:lnTo>
                    <a:pt x="2648" y="522"/>
                  </a:lnTo>
                  <a:lnTo>
                    <a:pt x="2646" y="517"/>
                  </a:lnTo>
                  <a:lnTo>
                    <a:pt x="2644" y="512"/>
                  </a:lnTo>
                  <a:lnTo>
                    <a:pt x="2643" y="506"/>
                  </a:lnTo>
                  <a:lnTo>
                    <a:pt x="2642" y="500"/>
                  </a:lnTo>
                  <a:lnTo>
                    <a:pt x="2641" y="493"/>
                  </a:lnTo>
                  <a:lnTo>
                    <a:pt x="2641" y="169"/>
                  </a:lnTo>
                  <a:lnTo>
                    <a:pt x="2642" y="163"/>
                  </a:lnTo>
                  <a:lnTo>
                    <a:pt x="2643" y="157"/>
                  </a:lnTo>
                  <a:lnTo>
                    <a:pt x="2644" y="151"/>
                  </a:lnTo>
                  <a:lnTo>
                    <a:pt x="2646" y="146"/>
                  </a:lnTo>
                  <a:lnTo>
                    <a:pt x="2648" y="141"/>
                  </a:lnTo>
                  <a:lnTo>
                    <a:pt x="2652" y="137"/>
                  </a:lnTo>
                  <a:lnTo>
                    <a:pt x="2655" y="133"/>
                  </a:lnTo>
                  <a:lnTo>
                    <a:pt x="2659" y="130"/>
                  </a:lnTo>
                  <a:lnTo>
                    <a:pt x="2667" y="125"/>
                  </a:lnTo>
                  <a:lnTo>
                    <a:pt x="2676" y="121"/>
                  </a:lnTo>
                  <a:lnTo>
                    <a:pt x="2685" y="117"/>
                  </a:lnTo>
                  <a:lnTo>
                    <a:pt x="2695" y="117"/>
                  </a:lnTo>
                  <a:close/>
                  <a:moveTo>
                    <a:pt x="3978" y="399"/>
                  </a:moveTo>
                  <a:lnTo>
                    <a:pt x="3978" y="484"/>
                  </a:lnTo>
                  <a:lnTo>
                    <a:pt x="3978" y="493"/>
                  </a:lnTo>
                  <a:lnTo>
                    <a:pt x="3977" y="500"/>
                  </a:lnTo>
                  <a:lnTo>
                    <a:pt x="3976" y="508"/>
                  </a:lnTo>
                  <a:lnTo>
                    <a:pt x="3974" y="514"/>
                  </a:lnTo>
                  <a:lnTo>
                    <a:pt x="3972" y="520"/>
                  </a:lnTo>
                  <a:lnTo>
                    <a:pt x="3969" y="525"/>
                  </a:lnTo>
                  <a:lnTo>
                    <a:pt x="3966" y="530"/>
                  </a:lnTo>
                  <a:lnTo>
                    <a:pt x="3963" y="534"/>
                  </a:lnTo>
                  <a:lnTo>
                    <a:pt x="3959" y="538"/>
                  </a:lnTo>
                  <a:lnTo>
                    <a:pt x="3955" y="541"/>
                  </a:lnTo>
                  <a:lnTo>
                    <a:pt x="3950" y="544"/>
                  </a:lnTo>
                  <a:lnTo>
                    <a:pt x="3944" y="546"/>
                  </a:lnTo>
                  <a:lnTo>
                    <a:pt x="3934" y="549"/>
                  </a:lnTo>
                  <a:lnTo>
                    <a:pt x="3922" y="550"/>
                  </a:lnTo>
                  <a:lnTo>
                    <a:pt x="3916" y="550"/>
                  </a:lnTo>
                  <a:lnTo>
                    <a:pt x="3911" y="549"/>
                  </a:lnTo>
                  <a:lnTo>
                    <a:pt x="3906" y="548"/>
                  </a:lnTo>
                  <a:lnTo>
                    <a:pt x="3901" y="546"/>
                  </a:lnTo>
                  <a:lnTo>
                    <a:pt x="3896" y="544"/>
                  </a:lnTo>
                  <a:lnTo>
                    <a:pt x="3892" y="540"/>
                  </a:lnTo>
                  <a:lnTo>
                    <a:pt x="3888" y="537"/>
                  </a:lnTo>
                  <a:lnTo>
                    <a:pt x="3883" y="533"/>
                  </a:lnTo>
                  <a:lnTo>
                    <a:pt x="3880" y="529"/>
                  </a:lnTo>
                  <a:lnTo>
                    <a:pt x="3877" y="524"/>
                  </a:lnTo>
                  <a:lnTo>
                    <a:pt x="3875" y="519"/>
                  </a:lnTo>
                  <a:lnTo>
                    <a:pt x="3873" y="513"/>
                  </a:lnTo>
                  <a:lnTo>
                    <a:pt x="3871" y="506"/>
                  </a:lnTo>
                  <a:lnTo>
                    <a:pt x="3870" y="499"/>
                  </a:lnTo>
                  <a:lnTo>
                    <a:pt x="3870" y="491"/>
                  </a:lnTo>
                  <a:lnTo>
                    <a:pt x="3869" y="482"/>
                  </a:lnTo>
                  <a:lnTo>
                    <a:pt x="3869" y="164"/>
                  </a:lnTo>
                  <a:lnTo>
                    <a:pt x="3870" y="158"/>
                  </a:lnTo>
                  <a:lnTo>
                    <a:pt x="3871" y="153"/>
                  </a:lnTo>
                  <a:lnTo>
                    <a:pt x="3872" y="148"/>
                  </a:lnTo>
                  <a:lnTo>
                    <a:pt x="3874" y="143"/>
                  </a:lnTo>
                  <a:lnTo>
                    <a:pt x="3876" y="139"/>
                  </a:lnTo>
                  <a:lnTo>
                    <a:pt x="3879" y="135"/>
                  </a:lnTo>
                  <a:lnTo>
                    <a:pt x="3882" y="132"/>
                  </a:lnTo>
                  <a:lnTo>
                    <a:pt x="3886" y="129"/>
                  </a:lnTo>
                  <a:lnTo>
                    <a:pt x="3895" y="124"/>
                  </a:lnTo>
                  <a:lnTo>
                    <a:pt x="3903" y="120"/>
                  </a:lnTo>
                  <a:lnTo>
                    <a:pt x="3913" y="117"/>
                  </a:lnTo>
                  <a:lnTo>
                    <a:pt x="3922" y="117"/>
                  </a:lnTo>
                  <a:lnTo>
                    <a:pt x="3931" y="117"/>
                  </a:lnTo>
                  <a:lnTo>
                    <a:pt x="3941" y="121"/>
                  </a:lnTo>
                  <a:lnTo>
                    <a:pt x="3951" y="124"/>
                  </a:lnTo>
                  <a:lnTo>
                    <a:pt x="3959" y="130"/>
                  </a:lnTo>
                  <a:lnTo>
                    <a:pt x="3963" y="133"/>
                  </a:lnTo>
                  <a:lnTo>
                    <a:pt x="3967" y="137"/>
                  </a:lnTo>
                  <a:lnTo>
                    <a:pt x="3970" y="141"/>
                  </a:lnTo>
                  <a:lnTo>
                    <a:pt x="3973" y="145"/>
                  </a:lnTo>
                  <a:lnTo>
                    <a:pt x="3975" y="150"/>
                  </a:lnTo>
                  <a:lnTo>
                    <a:pt x="3977" y="155"/>
                  </a:lnTo>
                  <a:lnTo>
                    <a:pt x="3978" y="161"/>
                  </a:lnTo>
                  <a:lnTo>
                    <a:pt x="3978" y="167"/>
                  </a:lnTo>
                  <a:lnTo>
                    <a:pt x="3978" y="225"/>
                  </a:lnTo>
                  <a:lnTo>
                    <a:pt x="4133" y="225"/>
                  </a:lnTo>
                  <a:lnTo>
                    <a:pt x="4133" y="181"/>
                  </a:lnTo>
                  <a:lnTo>
                    <a:pt x="4132" y="163"/>
                  </a:lnTo>
                  <a:lnTo>
                    <a:pt x="4130" y="145"/>
                  </a:lnTo>
                  <a:lnTo>
                    <a:pt x="4126" y="128"/>
                  </a:lnTo>
                  <a:lnTo>
                    <a:pt x="4119" y="110"/>
                  </a:lnTo>
                  <a:lnTo>
                    <a:pt x="4113" y="95"/>
                  </a:lnTo>
                  <a:lnTo>
                    <a:pt x="4104" y="80"/>
                  </a:lnTo>
                  <a:lnTo>
                    <a:pt x="4094" y="66"/>
                  </a:lnTo>
                  <a:lnTo>
                    <a:pt x="4082" y="54"/>
                  </a:lnTo>
                  <a:lnTo>
                    <a:pt x="4076" y="48"/>
                  </a:lnTo>
                  <a:lnTo>
                    <a:pt x="4069" y="41"/>
                  </a:lnTo>
                  <a:lnTo>
                    <a:pt x="4061" y="36"/>
                  </a:lnTo>
                  <a:lnTo>
                    <a:pt x="4053" y="31"/>
                  </a:lnTo>
                  <a:lnTo>
                    <a:pt x="4036" y="22"/>
                  </a:lnTo>
                  <a:lnTo>
                    <a:pt x="4018" y="14"/>
                  </a:lnTo>
                  <a:lnTo>
                    <a:pt x="3996" y="8"/>
                  </a:lnTo>
                  <a:lnTo>
                    <a:pt x="3974" y="4"/>
                  </a:lnTo>
                  <a:lnTo>
                    <a:pt x="3950" y="1"/>
                  </a:lnTo>
                  <a:lnTo>
                    <a:pt x="3924" y="0"/>
                  </a:lnTo>
                  <a:lnTo>
                    <a:pt x="3898" y="1"/>
                  </a:lnTo>
                  <a:lnTo>
                    <a:pt x="3873" y="4"/>
                  </a:lnTo>
                  <a:lnTo>
                    <a:pt x="3851" y="8"/>
                  </a:lnTo>
                  <a:lnTo>
                    <a:pt x="3830" y="14"/>
                  </a:lnTo>
                  <a:lnTo>
                    <a:pt x="3811" y="22"/>
                  </a:lnTo>
                  <a:lnTo>
                    <a:pt x="3794" y="30"/>
                  </a:lnTo>
                  <a:lnTo>
                    <a:pt x="3779" y="41"/>
                  </a:lnTo>
                  <a:lnTo>
                    <a:pt x="3765" y="53"/>
                  </a:lnTo>
                  <a:lnTo>
                    <a:pt x="3759" y="59"/>
                  </a:lnTo>
                  <a:lnTo>
                    <a:pt x="3753" y="66"/>
                  </a:lnTo>
                  <a:lnTo>
                    <a:pt x="3748" y="72"/>
                  </a:lnTo>
                  <a:lnTo>
                    <a:pt x="3743" y="79"/>
                  </a:lnTo>
                  <a:lnTo>
                    <a:pt x="3735" y="94"/>
                  </a:lnTo>
                  <a:lnTo>
                    <a:pt x="3728" y="109"/>
                  </a:lnTo>
                  <a:lnTo>
                    <a:pt x="3723" y="127"/>
                  </a:lnTo>
                  <a:lnTo>
                    <a:pt x="3719" y="144"/>
                  </a:lnTo>
                  <a:lnTo>
                    <a:pt x="3717" y="162"/>
                  </a:lnTo>
                  <a:lnTo>
                    <a:pt x="3716" y="180"/>
                  </a:lnTo>
                  <a:lnTo>
                    <a:pt x="3716" y="458"/>
                  </a:lnTo>
                  <a:lnTo>
                    <a:pt x="3717" y="485"/>
                  </a:lnTo>
                  <a:lnTo>
                    <a:pt x="3719" y="509"/>
                  </a:lnTo>
                  <a:lnTo>
                    <a:pt x="3721" y="520"/>
                  </a:lnTo>
                  <a:lnTo>
                    <a:pt x="3723" y="531"/>
                  </a:lnTo>
                  <a:lnTo>
                    <a:pt x="3726" y="542"/>
                  </a:lnTo>
                  <a:lnTo>
                    <a:pt x="3729" y="553"/>
                  </a:lnTo>
                  <a:lnTo>
                    <a:pt x="3732" y="562"/>
                  </a:lnTo>
                  <a:lnTo>
                    <a:pt x="3736" y="571"/>
                  </a:lnTo>
                  <a:lnTo>
                    <a:pt x="3740" y="580"/>
                  </a:lnTo>
                  <a:lnTo>
                    <a:pt x="3744" y="588"/>
                  </a:lnTo>
                  <a:lnTo>
                    <a:pt x="3749" y="596"/>
                  </a:lnTo>
                  <a:lnTo>
                    <a:pt x="3754" y="603"/>
                  </a:lnTo>
                  <a:lnTo>
                    <a:pt x="3760" y="610"/>
                  </a:lnTo>
                  <a:lnTo>
                    <a:pt x="3766" y="618"/>
                  </a:lnTo>
                  <a:lnTo>
                    <a:pt x="3774" y="624"/>
                  </a:lnTo>
                  <a:lnTo>
                    <a:pt x="3781" y="629"/>
                  </a:lnTo>
                  <a:lnTo>
                    <a:pt x="3788" y="635"/>
                  </a:lnTo>
                  <a:lnTo>
                    <a:pt x="3796" y="639"/>
                  </a:lnTo>
                  <a:lnTo>
                    <a:pt x="3804" y="644"/>
                  </a:lnTo>
                  <a:lnTo>
                    <a:pt x="3813" y="648"/>
                  </a:lnTo>
                  <a:lnTo>
                    <a:pt x="3822" y="651"/>
                  </a:lnTo>
                  <a:lnTo>
                    <a:pt x="3832" y="655"/>
                  </a:lnTo>
                  <a:lnTo>
                    <a:pt x="3852" y="660"/>
                  </a:lnTo>
                  <a:lnTo>
                    <a:pt x="3874" y="663"/>
                  </a:lnTo>
                  <a:lnTo>
                    <a:pt x="3899" y="666"/>
                  </a:lnTo>
                  <a:lnTo>
                    <a:pt x="3924" y="666"/>
                  </a:lnTo>
                  <a:lnTo>
                    <a:pt x="3950" y="666"/>
                  </a:lnTo>
                  <a:lnTo>
                    <a:pt x="3974" y="663"/>
                  </a:lnTo>
                  <a:lnTo>
                    <a:pt x="3996" y="660"/>
                  </a:lnTo>
                  <a:lnTo>
                    <a:pt x="4017" y="654"/>
                  </a:lnTo>
                  <a:lnTo>
                    <a:pt x="4026" y="651"/>
                  </a:lnTo>
                  <a:lnTo>
                    <a:pt x="4035" y="648"/>
                  </a:lnTo>
                  <a:lnTo>
                    <a:pt x="4044" y="644"/>
                  </a:lnTo>
                  <a:lnTo>
                    <a:pt x="4052" y="639"/>
                  </a:lnTo>
                  <a:lnTo>
                    <a:pt x="4060" y="634"/>
                  </a:lnTo>
                  <a:lnTo>
                    <a:pt x="4068" y="629"/>
                  </a:lnTo>
                  <a:lnTo>
                    <a:pt x="4075" y="624"/>
                  </a:lnTo>
                  <a:lnTo>
                    <a:pt x="4082" y="617"/>
                  </a:lnTo>
                  <a:lnTo>
                    <a:pt x="4088" y="610"/>
                  </a:lnTo>
                  <a:lnTo>
                    <a:pt x="4093" y="603"/>
                  </a:lnTo>
                  <a:lnTo>
                    <a:pt x="4099" y="596"/>
                  </a:lnTo>
                  <a:lnTo>
                    <a:pt x="4104" y="588"/>
                  </a:lnTo>
                  <a:lnTo>
                    <a:pt x="4108" y="580"/>
                  </a:lnTo>
                  <a:lnTo>
                    <a:pt x="4112" y="571"/>
                  </a:lnTo>
                  <a:lnTo>
                    <a:pt x="4116" y="562"/>
                  </a:lnTo>
                  <a:lnTo>
                    <a:pt x="4119" y="553"/>
                  </a:lnTo>
                  <a:lnTo>
                    <a:pt x="4126" y="531"/>
                  </a:lnTo>
                  <a:lnTo>
                    <a:pt x="4129" y="509"/>
                  </a:lnTo>
                  <a:lnTo>
                    <a:pt x="4132" y="485"/>
                  </a:lnTo>
                  <a:lnTo>
                    <a:pt x="4133" y="458"/>
                  </a:lnTo>
                  <a:lnTo>
                    <a:pt x="4133" y="399"/>
                  </a:lnTo>
                  <a:lnTo>
                    <a:pt x="3978" y="399"/>
                  </a:lnTo>
                  <a:close/>
                  <a:moveTo>
                    <a:pt x="5005" y="14"/>
                  </a:moveTo>
                  <a:lnTo>
                    <a:pt x="5005" y="315"/>
                  </a:lnTo>
                  <a:lnTo>
                    <a:pt x="5005" y="381"/>
                  </a:lnTo>
                  <a:lnTo>
                    <a:pt x="5004" y="433"/>
                  </a:lnTo>
                  <a:lnTo>
                    <a:pt x="5004" y="454"/>
                  </a:lnTo>
                  <a:lnTo>
                    <a:pt x="5002" y="473"/>
                  </a:lnTo>
                  <a:lnTo>
                    <a:pt x="5001" y="488"/>
                  </a:lnTo>
                  <a:lnTo>
                    <a:pt x="4999" y="500"/>
                  </a:lnTo>
                  <a:lnTo>
                    <a:pt x="4996" y="511"/>
                  </a:lnTo>
                  <a:lnTo>
                    <a:pt x="4993" y="519"/>
                  </a:lnTo>
                  <a:lnTo>
                    <a:pt x="4990" y="526"/>
                  </a:lnTo>
                  <a:lnTo>
                    <a:pt x="4985" y="530"/>
                  </a:lnTo>
                  <a:lnTo>
                    <a:pt x="4980" y="534"/>
                  </a:lnTo>
                  <a:lnTo>
                    <a:pt x="4975" y="536"/>
                  </a:lnTo>
                  <a:lnTo>
                    <a:pt x="4968" y="537"/>
                  </a:lnTo>
                  <a:lnTo>
                    <a:pt x="4961" y="537"/>
                  </a:lnTo>
                  <a:lnTo>
                    <a:pt x="4950" y="537"/>
                  </a:lnTo>
                  <a:lnTo>
                    <a:pt x="4939" y="536"/>
                  </a:lnTo>
                  <a:lnTo>
                    <a:pt x="4930" y="534"/>
                  </a:lnTo>
                  <a:lnTo>
                    <a:pt x="4923" y="532"/>
                  </a:lnTo>
                  <a:lnTo>
                    <a:pt x="4923" y="640"/>
                  </a:lnTo>
                  <a:lnTo>
                    <a:pt x="4942" y="648"/>
                  </a:lnTo>
                  <a:lnTo>
                    <a:pt x="4962" y="654"/>
                  </a:lnTo>
                  <a:lnTo>
                    <a:pt x="4972" y="656"/>
                  </a:lnTo>
                  <a:lnTo>
                    <a:pt x="4983" y="657"/>
                  </a:lnTo>
                  <a:lnTo>
                    <a:pt x="4994" y="658"/>
                  </a:lnTo>
                  <a:lnTo>
                    <a:pt x="5005" y="658"/>
                  </a:lnTo>
                  <a:lnTo>
                    <a:pt x="5025" y="658"/>
                  </a:lnTo>
                  <a:lnTo>
                    <a:pt x="5042" y="655"/>
                  </a:lnTo>
                  <a:lnTo>
                    <a:pt x="5050" y="654"/>
                  </a:lnTo>
                  <a:lnTo>
                    <a:pt x="5058" y="651"/>
                  </a:lnTo>
                  <a:lnTo>
                    <a:pt x="5065" y="648"/>
                  </a:lnTo>
                  <a:lnTo>
                    <a:pt x="5073" y="645"/>
                  </a:lnTo>
                  <a:lnTo>
                    <a:pt x="5080" y="641"/>
                  </a:lnTo>
                  <a:lnTo>
                    <a:pt x="5087" y="637"/>
                  </a:lnTo>
                  <a:lnTo>
                    <a:pt x="5093" y="632"/>
                  </a:lnTo>
                  <a:lnTo>
                    <a:pt x="5099" y="626"/>
                  </a:lnTo>
                  <a:lnTo>
                    <a:pt x="5104" y="620"/>
                  </a:lnTo>
                  <a:lnTo>
                    <a:pt x="5109" y="612"/>
                  </a:lnTo>
                  <a:lnTo>
                    <a:pt x="5114" y="605"/>
                  </a:lnTo>
                  <a:lnTo>
                    <a:pt x="5119" y="597"/>
                  </a:lnTo>
                  <a:lnTo>
                    <a:pt x="5123" y="588"/>
                  </a:lnTo>
                  <a:lnTo>
                    <a:pt x="5128" y="578"/>
                  </a:lnTo>
                  <a:lnTo>
                    <a:pt x="5132" y="568"/>
                  </a:lnTo>
                  <a:lnTo>
                    <a:pt x="5135" y="557"/>
                  </a:lnTo>
                  <a:lnTo>
                    <a:pt x="5141" y="531"/>
                  </a:lnTo>
                  <a:lnTo>
                    <a:pt x="5146" y="504"/>
                  </a:lnTo>
                  <a:lnTo>
                    <a:pt x="5150" y="471"/>
                  </a:lnTo>
                  <a:lnTo>
                    <a:pt x="5152" y="437"/>
                  </a:lnTo>
                  <a:lnTo>
                    <a:pt x="5154" y="397"/>
                  </a:lnTo>
                  <a:lnTo>
                    <a:pt x="5155" y="354"/>
                  </a:lnTo>
                  <a:lnTo>
                    <a:pt x="5155" y="135"/>
                  </a:lnTo>
                  <a:lnTo>
                    <a:pt x="5256" y="135"/>
                  </a:lnTo>
                  <a:lnTo>
                    <a:pt x="5256" y="651"/>
                  </a:lnTo>
                  <a:lnTo>
                    <a:pt x="5410" y="651"/>
                  </a:lnTo>
                  <a:lnTo>
                    <a:pt x="5410" y="14"/>
                  </a:lnTo>
                  <a:lnTo>
                    <a:pt x="5005" y="14"/>
                  </a:lnTo>
                  <a:close/>
                  <a:moveTo>
                    <a:pt x="6335" y="14"/>
                  </a:moveTo>
                  <a:lnTo>
                    <a:pt x="6197" y="651"/>
                  </a:lnTo>
                  <a:lnTo>
                    <a:pt x="6349" y="651"/>
                  </a:lnTo>
                  <a:lnTo>
                    <a:pt x="6370" y="523"/>
                  </a:lnTo>
                  <a:lnTo>
                    <a:pt x="6487" y="523"/>
                  </a:lnTo>
                  <a:lnTo>
                    <a:pt x="6510" y="651"/>
                  </a:lnTo>
                  <a:lnTo>
                    <a:pt x="6662" y="651"/>
                  </a:lnTo>
                  <a:lnTo>
                    <a:pt x="6519" y="14"/>
                  </a:lnTo>
                  <a:lnTo>
                    <a:pt x="6335" y="14"/>
                  </a:lnTo>
                  <a:close/>
                  <a:moveTo>
                    <a:pt x="6384" y="409"/>
                  </a:moveTo>
                  <a:lnTo>
                    <a:pt x="6425" y="129"/>
                  </a:lnTo>
                  <a:lnTo>
                    <a:pt x="6426" y="129"/>
                  </a:lnTo>
                  <a:lnTo>
                    <a:pt x="6466" y="409"/>
                  </a:lnTo>
                  <a:lnTo>
                    <a:pt x="6384" y="409"/>
                  </a:lnTo>
                  <a:close/>
                  <a:moveTo>
                    <a:pt x="7596" y="129"/>
                  </a:moveTo>
                  <a:lnTo>
                    <a:pt x="7641" y="129"/>
                  </a:lnTo>
                  <a:lnTo>
                    <a:pt x="7649" y="129"/>
                  </a:lnTo>
                  <a:lnTo>
                    <a:pt x="7656" y="130"/>
                  </a:lnTo>
                  <a:lnTo>
                    <a:pt x="7664" y="131"/>
                  </a:lnTo>
                  <a:lnTo>
                    <a:pt x="7670" y="133"/>
                  </a:lnTo>
                  <a:lnTo>
                    <a:pt x="7675" y="135"/>
                  </a:lnTo>
                  <a:lnTo>
                    <a:pt x="7680" y="138"/>
                  </a:lnTo>
                  <a:lnTo>
                    <a:pt x="7684" y="141"/>
                  </a:lnTo>
                  <a:lnTo>
                    <a:pt x="7688" y="145"/>
                  </a:lnTo>
                  <a:lnTo>
                    <a:pt x="7691" y="149"/>
                  </a:lnTo>
                  <a:lnTo>
                    <a:pt x="7694" y="153"/>
                  </a:lnTo>
                  <a:lnTo>
                    <a:pt x="7697" y="158"/>
                  </a:lnTo>
                  <a:lnTo>
                    <a:pt x="7699" y="163"/>
                  </a:lnTo>
                  <a:lnTo>
                    <a:pt x="7701" y="175"/>
                  </a:lnTo>
                  <a:lnTo>
                    <a:pt x="7702" y="188"/>
                  </a:lnTo>
                  <a:lnTo>
                    <a:pt x="7701" y="206"/>
                  </a:lnTo>
                  <a:lnTo>
                    <a:pt x="7699" y="221"/>
                  </a:lnTo>
                  <a:lnTo>
                    <a:pt x="7697" y="227"/>
                  </a:lnTo>
                  <a:lnTo>
                    <a:pt x="7694" y="233"/>
                  </a:lnTo>
                  <a:lnTo>
                    <a:pt x="7691" y="238"/>
                  </a:lnTo>
                  <a:lnTo>
                    <a:pt x="7688" y="243"/>
                  </a:lnTo>
                  <a:lnTo>
                    <a:pt x="7684" y="247"/>
                  </a:lnTo>
                  <a:lnTo>
                    <a:pt x="7680" y="250"/>
                  </a:lnTo>
                  <a:lnTo>
                    <a:pt x="7675" y="253"/>
                  </a:lnTo>
                  <a:lnTo>
                    <a:pt x="7670" y="255"/>
                  </a:lnTo>
                  <a:lnTo>
                    <a:pt x="7664" y="257"/>
                  </a:lnTo>
                  <a:lnTo>
                    <a:pt x="7656" y="259"/>
                  </a:lnTo>
                  <a:lnTo>
                    <a:pt x="7649" y="259"/>
                  </a:lnTo>
                  <a:lnTo>
                    <a:pt x="7641" y="261"/>
                  </a:lnTo>
                  <a:lnTo>
                    <a:pt x="7596" y="261"/>
                  </a:lnTo>
                  <a:lnTo>
                    <a:pt x="7596" y="129"/>
                  </a:lnTo>
                  <a:close/>
                  <a:moveTo>
                    <a:pt x="7596" y="374"/>
                  </a:moveTo>
                  <a:lnTo>
                    <a:pt x="7634" y="374"/>
                  </a:lnTo>
                  <a:lnTo>
                    <a:pt x="7644" y="375"/>
                  </a:lnTo>
                  <a:lnTo>
                    <a:pt x="7653" y="376"/>
                  </a:lnTo>
                  <a:lnTo>
                    <a:pt x="7662" y="377"/>
                  </a:lnTo>
                  <a:lnTo>
                    <a:pt x="7669" y="380"/>
                  </a:lnTo>
                  <a:lnTo>
                    <a:pt x="7675" y="383"/>
                  </a:lnTo>
                  <a:lnTo>
                    <a:pt x="7681" y="386"/>
                  </a:lnTo>
                  <a:lnTo>
                    <a:pt x="7686" y="391"/>
                  </a:lnTo>
                  <a:lnTo>
                    <a:pt x="7690" y="395"/>
                  </a:lnTo>
                  <a:lnTo>
                    <a:pt x="7694" y="402"/>
                  </a:lnTo>
                  <a:lnTo>
                    <a:pt x="7697" y="408"/>
                  </a:lnTo>
                  <a:lnTo>
                    <a:pt x="7700" y="415"/>
                  </a:lnTo>
                  <a:lnTo>
                    <a:pt x="7702" y="422"/>
                  </a:lnTo>
                  <a:lnTo>
                    <a:pt x="7703" y="430"/>
                  </a:lnTo>
                  <a:lnTo>
                    <a:pt x="7705" y="438"/>
                  </a:lnTo>
                  <a:lnTo>
                    <a:pt x="7705" y="447"/>
                  </a:lnTo>
                  <a:lnTo>
                    <a:pt x="7705" y="457"/>
                  </a:lnTo>
                  <a:lnTo>
                    <a:pt x="7705" y="467"/>
                  </a:lnTo>
                  <a:lnTo>
                    <a:pt x="7705" y="478"/>
                  </a:lnTo>
                  <a:lnTo>
                    <a:pt x="7703" y="486"/>
                  </a:lnTo>
                  <a:lnTo>
                    <a:pt x="7702" y="494"/>
                  </a:lnTo>
                  <a:lnTo>
                    <a:pt x="7700" y="501"/>
                  </a:lnTo>
                  <a:lnTo>
                    <a:pt x="7697" y="508"/>
                  </a:lnTo>
                  <a:lnTo>
                    <a:pt x="7694" y="513"/>
                  </a:lnTo>
                  <a:lnTo>
                    <a:pt x="7690" y="518"/>
                  </a:lnTo>
                  <a:lnTo>
                    <a:pt x="7685" y="523"/>
                  </a:lnTo>
                  <a:lnTo>
                    <a:pt x="7680" y="527"/>
                  </a:lnTo>
                  <a:lnTo>
                    <a:pt x="7674" y="530"/>
                  </a:lnTo>
                  <a:lnTo>
                    <a:pt x="7667" y="532"/>
                  </a:lnTo>
                  <a:lnTo>
                    <a:pt x="7659" y="534"/>
                  </a:lnTo>
                  <a:lnTo>
                    <a:pt x="7650" y="535"/>
                  </a:lnTo>
                  <a:lnTo>
                    <a:pt x="7641" y="536"/>
                  </a:lnTo>
                  <a:lnTo>
                    <a:pt x="7631" y="536"/>
                  </a:lnTo>
                  <a:lnTo>
                    <a:pt x="7596" y="536"/>
                  </a:lnTo>
                  <a:lnTo>
                    <a:pt x="7596" y="374"/>
                  </a:lnTo>
                  <a:close/>
                  <a:moveTo>
                    <a:pt x="7448" y="651"/>
                  </a:moveTo>
                  <a:lnTo>
                    <a:pt x="7663" y="651"/>
                  </a:lnTo>
                  <a:lnTo>
                    <a:pt x="7686" y="651"/>
                  </a:lnTo>
                  <a:lnTo>
                    <a:pt x="7708" y="648"/>
                  </a:lnTo>
                  <a:lnTo>
                    <a:pt x="7729" y="644"/>
                  </a:lnTo>
                  <a:lnTo>
                    <a:pt x="7748" y="639"/>
                  </a:lnTo>
                  <a:lnTo>
                    <a:pt x="7756" y="636"/>
                  </a:lnTo>
                  <a:lnTo>
                    <a:pt x="7765" y="632"/>
                  </a:lnTo>
                  <a:lnTo>
                    <a:pt x="7773" y="628"/>
                  </a:lnTo>
                  <a:lnTo>
                    <a:pt x="7782" y="624"/>
                  </a:lnTo>
                  <a:lnTo>
                    <a:pt x="7789" y="619"/>
                  </a:lnTo>
                  <a:lnTo>
                    <a:pt x="7796" y="613"/>
                  </a:lnTo>
                  <a:lnTo>
                    <a:pt x="7802" y="607"/>
                  </a:lnTo>
                  <a:lnTo>
                    <a:pt x="7809" y="602"/>
                  </a:lnTo>
                  <a:lnTo>
                    <a:pt x="7814" y="596"/>
                  </a:lnTo>
                  <a:lnTo>
                    <a:pt x="7820" y="589"/>
                  </a:lnTo>
                  <a:lnTo>
                    <a:pt x="7825" y="582"/>
                  </a:lnTo>
                  <a:lnTo>
                    <a:pt x="7829" y="575"/>
                  </a:lnTo>
                  <a:lnTo>
                    <a:pt x="7839" y="560"/>
                  </a:lnTo>
                  <a:lnTo>
                    <a:pt x="7845" y="542"/>
                  </a:lnTo>
                  <a:lnTo>
                    <a:pt x="7850" y="525"/>
                  </a:lnTo>
                  <a:lnTo>
                    <a:pt x="7854" y="506"/>
                  </a:lnTo>
                  <a:lnTo>
                    <a:pt x="7856" y="485"/>
                  </a:lnTo>
                  <a:lnTo>
                    <a:pt x="7857" y="463"/>
                  </a:lnTo>
                  <a:lnTo>
                    <a:pt x="7857" y="447"/>
                  </a:lnTo>
                  <a:lnTo>
                    <a:pt x="7856" y="432"/>
                  </a:lnTo>
                  <a:lnTo>
                    <a:pt x="7854" y="418"/>
                  </a:lnTo>
                  <a:lnTo>
                    <a:pt x="7851" y="406"/>
                  </a:lnTo>
                  <a:lnTo>
                    <a:pt x="7848" y="393"/>
                  </a:lnTo>
                  <a:lnTo>
                    <a:pt x="7843" y="382"/>
                  </a:lnTo>
                  <a:lnTo>
                    <a:pt x="7839" y="372"/>
                  </a:lnTo>
                  <a:lnTo>
                    <a:pt x="7832" y="362"/>
                  </a:lnTo>
                  <a:lnTo>
                    <a:pt x="7826" y="354"/>
                  </a:lnTo>
                  <a:lnTo>
                    <a:pt x="7819" y="346"/>
                  </a:lnTo>
                  <a:lnTo>
                    <a:pt x="7811" y="338"/>
                  </a:lnTo>
                  <a:lnTo>
                    <a:pt x="7803" y="331"/>
                  </a:lnTo>
                  <a:lnTo>
                    <a:pt x="7794" y="324"/>
                  </a:lnTo>
                  <a:lnTo>
                    <a:pt x="7785" y="319"/>
                  </a:lnTo>
                  <a:lnTo>
                    <a:pt x="7774" y="313"/>
                  </a:lnTo>
                  <a:lnTo>
                    <a:pt x="7763" y="309"/>
                  </a:lnTo>
                  <a:lnTo>
                    <a:pt x="7770" y="307"/>
                  </a:lnTo>
                  <a:lnTo>
                    <a:pt x="7776" y="304"/>
                  </a:lnTo>
                  <a:lnTo>
                    <a:pt x="7784" y="301"/>
                  </a:lnTo>
                  <a:lnTo>
                    <a:pt x="7792" y="297"/>
                  </a:lnTo>
                  <a:lnTo>
                    <a:pt x="7799" y="292"/>
                  </a:lnTo>
                  <a:lnTo>
                    <a:pt x="7806" y="286"/>
                  </a:lnTo>
                  <a:lnTo>
                    <a:pt x="7813" y="279"/>
                  </a:lnTo>
                  <a:lnTo>
                    <a:pt x="7820" y="272"/>
                  </a:lnTo>
                  <a:lnTo>
                    <a:pt x="7826" y="263"/>
                  </a:lnTo>
                  <a:lnTo>
                    <a:pt x="7832" y="253"/>
                  </a:lnTo>
                  <a:lnTo>
                    <a:pt x="7837" y="242"/>
                  </a:lnTo>
                  <a:lnTo>
                    <a:pt x="7842" y="231"/>
                  </a:lnTo>
                  <a:lnTo>
                    <a:pt x="7846" y="218"/>
                  </a:lnTo>
                  <a:lnTo>
                    <a:pt x="7849" y="205"/>
                  </a:lnTo>
                  <a:lnTo>
                    <a:pt x="7850" y="190"/>
                  </a:lnTo>
                  <a:lnTo>
                    <a:pt x="7851" y="174"/>
                  </a:lnTo>
                  <a:lnTo>
                    <a:pt x="7850" y="153"/>
                  </a:lnTo>
                  <a:lnTo>
                    <a:pt x="7847" y="135"/>
                  </a:lnTo>
                  <a:lnTo>
                    <a:pt x="7843" y="116"/>
                  </a:lnTo>
                  <a:lnTo>
                    <a:pt x="7836" y="100"/>
                  </a:lnTo>
                  <a:lnTo>
                    <a:pt x="7829" y="86"/>
                  </a:lnTo>
                  <a:lnTo>
                    <a:pt x="7820" y="73"/>
                  </a:lnTo>
                  <a:lnTo>
                    <a:pt x="7811" y="62"/>
                  </a:lnTo>
                  <a:lnTo>
                    <a:pt x="7800" y="52"/>
                  </a:lnTo>
                  <a:lnTo>
                    <a:pt x="7789" y="42"/>
                  </a:lnTo>
                  <a:lnTo>
                    <a:pt x="7775" y="34"/>
                  </a:lnTo>
                  <a:lnTo>
                    <a:pt x="7763" y="28"/>
                  </a:lnTo>
                  <a:lnTo>
                    <a:pt x="7749" y="23"/>
                  </a:lnTo>
                  <a:lnTo>
                    <a:pt x="7736" y="19"/>
                  </a:lnTo>
                  <a:lnTo>
                    <a:pt x="7722" y="16"/>
                  </a:lnTo>
                  <a:lnTo>
                    <a:pt x="7707" y="15"/>
                  </a:lnTo>
                  <a:lnTo>
                    <a:pt x="7693" y="14"/>
                  </a:lnTo>
                  <a:lnTo>
                    <a:pt x="7448" y="14"/>
                  </a:lnTo>
                  <a:lnTo>
                    <a:pt x="7448" y="651"/>
                  </a:lnTo>
                  <a:close/>
                  <a:moveTo>
                    <a:pt x="8731" y="14"/>
                  </a:moveTo>
                  <a:lnTo>
                    <a:pt x="8731" y="315"/>
                  </a:lnTo>
                  <a:lnTo>
                    <a:pt x="8731" y="381"/>
                  </a:lnTo>
                  <a:lnTo>
                    <a:pt x="8730" y="433"/>
                  </a:lnTo>
                  <a:lnTo>
                    <a:pt x="8729" y="454"/>
                  </a:lnTo>
                  <a:lnTo>
                    <a:pt x="8728" y="473"/>
                  </a:lnTo>
                  <a:lnTo>
                    <a:pt x="8726" y="488"/>
                  </a:lnTo>
                  <a:lnTo>
                    <a:pt x="8724" y="500"/>
                  </a:lnTo>
                  <a:lnTo>
                    <a:pt x="8721" y="511"/>
                  </a:lnTo>
                  <a:lnTo>
                    <a:pt x="8718" y="519"/>
                  </a:lnTo>
                  <a:lnTo>
                    <a:pt x="8714" y="526"/>
                  </a:lnTo>
                  <a:lnTo>
                    <a:pt x="8710" y="530"/>
                  </a:lnTo>
                  <a:lnTo>
                    <a:pt x="8705" y="534"/>
                  </a:lnTo>
                  <a:lnTo>
                    <a:pt x="8699" y="536"/>
                  </a:lnTo>
                  <a:lnTo>
                    <a:pt x="8693" y="537"/>
                  </a:lnTo>
                  <a:lnTo>
                    <a:pt x="8685" y="537"/>
                  </a:lnTo>
                  <a:lnTo>
                    <a:pt x="8674" y="537"/>
                  </a:lnTo>
                  <a:lnTo>
                    <a:pt x="8663" y="536"/>
                  </a:lnTo>
                  <a:lnTo>
                    <a:pt x="8654" y="534"/>
                  </a:lnTo>
                  <a:lnTo>
                    <a:pt x="8648" y="532"/>
                  </a:lnTo>
                  <a:lnTo>
                    <a:pt x="8648" y="640"/>
                  </a:lnTo>
                  <a:lnTo>
                    <a:pt x="8668" y="648"/>
                  </a:lnTo>
                  <a:lnTo>
                    <a:pt x="8687" y="654"/>
                  </a:lnTo>
                  <a:lnTo>
                    <a:pt x="8697" y="656"/>
                  </a:lnTo>
                  <a:lnTo>
                    <a:pt x="8707" y="657"/>
                  </a:lnTo>
                  <a:lnTo>
                    <a:pt x="8718" y="658"/>
                  </a:lnTo>
                  <a:lnTo>
                    <a:pt x="8731" y="658"/>
                  </a:lnTo>
                  <a:lnTo>
                    <a:pt x="8749" y="658"/>
                  </a:lnTo>
                  <a:lnTo>
                    <a:pt x="8767" y="655"/>
                  </a:lnTo>
                  <a:lnTo>
                    <a:pt x="8775" y="654"/>
                  </a:lnTo>
                  <a:lnTo>
                    <a:pt x="8783" y="651"/>
                  </a:lnTo>
                  <a:lnTo>
                    <a:pt x="8791" y="648"/>
                  </a:lnTo>
                  <a:lnTo>
                    <a:pt x="8798" y="645"/>
                  </a:lnTo>
                  <a:lnTo>
                    <a:pt x="8805" y="641"/>
                  </a:lnTo>
                  <a:lnTo>
                    <a:pt x="8811" y="637"/>
                  </a:lnTo>
                  <a:lnTo>
                    <a:pt x="8817" y="632"/>
                  </a:lnTo>
                  <a:lnTo>
                    <a:pt x="8823" y="626"/>
                  </a:lnTo>
                  <a:lnTo>
                    <a:pt x="8829" y="620"/>
                  </a:lnTo>
                  <a:lnTo>
                    <a:pt x="8834" y="612"/>
                  </a:lnTo>
                  <a:lnTo>
                    <a:pt x="8839" y="605"/>
                  </a:lnTo>
                  <a:lnTo>
                    <a:pt x="8844" y="597"/>
                  </a:lnTo>
                  <a:lnTo>
                    <a:pt x="8849" y="588"/>
                  </a:lnTo>
                  <a:lnTo>
                    <a:pt x="8853" y="578"/>
                  </a:lnTo>
                  <a:lnTo>
                    <a:pt x="8856" y="568"/>
                  </a:lnTo>
                  <a:lnTo>
                    <a:pt x="8860" y="557"/>
                  </a:lnTo>
                  <a:lnTo>
                    <a:pt x="8866" y="531"/>
                  </a:lnTo>
                  <a:lnTo>
                    <a:pt x="8871" y="504"/>
                  </a:lnTo>
                  <a:lnTo>
                    <a:pt x="8874" y="471"/>
                  </a:lnTo>
                  <a:lnTo>
                    <a:pt x="8877" y="437"/>
                  </a:lnTo>
                  <a:lnTo>
                    <a:pt x="8879" y="397"/>
                  </a:lnTo>
                  <a:lnTo>
                    <a:pt x="8879" y="354"/>
                  </a:lnTo>
                  <a:lnTo>
                    <a:pt x="8879" y="135"/>
                  </a:lnTo>
                  <a:lnTo>
                    <a:pt x="8981" y="135"/>
                  </a:lnTo>
                  <a:lnTo>
                    <a:pt x="8981" y="651"/>
                  </a:lnTo>
                  <a:lnTo>
                    <a:pt x="9134" y="651"/>
                  </a:lnTo>
                  <a:lnTo>
                    <a:pt x="9134" y="14"/>
                  </a:lnTo>
                  <a:lnTo>
                    <a:pt x="8731" y="14"/>
                  </a:lnTo>
                  <a:close/>
                  <a:moveTo>
                    <a:pt x="10115" y="14"/>
                  </a:moveTo>
                  <a:lnTo>
                    <a:pt x="9962" y="14"/>
                  </a:lnTo>
                  <a:lnTo>
                    <a:pt x="9962" y="651"/>
                  </a:lnTo>
                  <a:lnTo>
                    <a:pt x="10184" y="651"/>
                  </a:lnTo>
                  <a:lnTo>
                    <a:pt x="10202" y="651"/>
                  </a:lnTo>
                  <a:lnTo>
                    <a:pt x="10218" y="650"/>
                  </a:lnTo>
                  <a:lnTo>
                    <a:pt x="10235" y="647"/>
                  </a:lnTo>
                  <a:lnTo>
                    <a:pt x="10251" y="644"/>
                  </a:lnTo>
                  <a:lnTo>
                    <a:pt x="10268" y="639"/>
                  </a:lnTo>
                  <a:lnTo>
                    <a:pt x="10283" y="633"/>
                  </a:lnTo>
                  <a:lnTo>
                    <a:pt x="10297" y="625"/>
                  </a:lnTo>
                  <a:lnTo>
                    <a:pt x="10311" y="616"/>
                  </a:lnTo>
                  <a:lnTo>
                    <a:pt x="10318" y="609"/>
                  </a:lnTo>
                  <a:lnTo>
                    <a:pt x="10325" y="603"/>
                  </a:lnTo>
                  <a:lnTo>
                    <a:pt x="10330" y="597"/>
                  </a:lnTo>
                  <a:lnTo>
                    <a:pt x="10336" y="590"/>
                  </a:lnTo>
                  <a:lnTo>
                    <a:pt x="10341" y="582"/>
                  </a:lnTo>
                  <a:lnTo>
                    <a:pt x="10346" y="574"/>
                  </a:lnTo>
                  <a:lnTo>
                    <a:pt x="10350" y="566"/>
                  </a:lnTo>
                  <a:lnTo>
                    <a:pt x="10355" y="556"/>
                  </a:lnTo>
                  <a:lnTo>
                    <a:pt x="10358" y="546"/>
                  </a:lnTo>
                  <a:lnTo>
                    <a:pt x="10362" y="535"/>
                  </a:lnTo>
                  <a:lnTo>
                    <a:pt x="10364" y="524"/>
                  </a:lnTo>
                  <a:lnTo>
                    <a:pt x="10367" y="512"/>
                  </a:lnTo>
                  <a:lnTo>
                    <a:pt x="10369" y="500"/>
                  </a:lnTo>
                  <a:lnTo>
                    <a:pt x="10370" y="486"/>
                  </a:lnTo>
                  <a:lnTo>
                    <a:pt x="10371" y="471"/>
                  </a:lnTo>
                  <a:lnTo>
                    <a:pt x="10371" y="457"/>
                  </a:lnTo>
                  <a:lnTo>
                    <a:pt x="10371" y="443"/>
                  </a:lnTo>
                  <a:lnTo>
                    <a:pt x="10370" y="429"/>
                  </a:lnTo>
                  <a:lnTo>
                    <a:pt x="10369" y="416"/>
                  </a:lnTo>
                  <a:lnTo>
                    <a:pt x="10367" y="404"/>
                  </a:lnTo>
                  <a:lnTo>
                    <a:pt x="10364" y="391"/>
                  </a:lnTo>
                  <a:lnTo>
                    <a:pt x="10362" y="380"/>
                  </a:lnTo>
                  <a:lnTo>
                    <a:pt x="10358" y="370"/>
                  </a:lnTo>
                  <a:lnTo>
                    <a:pt x="10355" y="360"/>
                  </a:lnTo>
                  <a:lnTo>
                    <a:pt x="10351" y="351"/>
                  </a:lnTo>
                  <a:lnTo>
                    <a:pt x="10346" y="342"/>
                  </a:lnTo>
                  <a:lnTo>
                    <a:pt x="10342" y="334"/>
                  </a:lnTo>
                  <a:lnTo>
                    <a:pt x="10336" y="325"/>
                  </a:lnTo>
                  <a:lnTo>
                    <a:pt x="10331" y="318"/>
                  </a:lnTo>
                  <a:lnTo>
                    <a:pt x="10325" y="311"/>
                  </a:lnTo>
                  <a:lnTo>
                    <a:pt x="10319" y="305"/>
                  </a:lnTo>
                  <a:lnTo>
                    <a:pt x="10312" y="300"/>
                  </a:lnTo>
                  <a:lnTo>
                    <a:pt x="10298" y="290"/>
                  </a:lnTo>
                  <a:lnTo>
                    <a:pt x="10284" y="281"/>
                  </a:lnTo>
                  <a:lnTo>
                    <a:pt x="10268" y="274"/>
                  </a:lnTo>
                  <a:lnTo>
                    <a:pt x="10252" y="269"/>
                  </a:lnTo>
                  <a:lnTo>
                    <a:pt x="10235" y="265"/>
                  </a:lnTo>
                  <a:lnTo>
                    <a:pt x="10219" y="263"/>
                  </a:lnTo>
                  <a:lnTo>
                    <a:pt x="10202" y="261"/>
                  </a:lnTo>
                  <a:lnTo>
                    <a:pt x="10184" y="261"/>
                  </a:lnTo>
                  <a:lnTo>
                    <a:pt x="10115" y="261"/>
                  </a:lnTo>
                  <a:lnTo>
                    <a:pt x="10115" y="14"/>
                  </a:lnTo>
                  <a:close/>
                  <a:moveTo>
                    <a:pt x="10115" y="374"/>
                  </a:moveTo>
                  <a:lnTo>
                    <a:pt x="10145" y="374"/>
                  </a:lnTo>
                  <a:lnTo>
                    <a:pt x="10152" y="375"/>
                  </a:lnTo>
                  <a:lnTo>
                    <a:pt x="10159" y="375"/>
                  </a:lnTo>
                  <a:lnTo>
                    <a:pt x="10165" y="377"/>
                  </a:lnTo>
                  <a:lnTo>
                    <a:pt x="10172" y="379"/>
                  </a:lnTo>
                  <a:lnTo>
                    <a:pt x="10178" y="381"/>
                  </a:lnTo>
                  <a:lnTo>
                    <a:pt x="10184" y="384"/>
                  </a:lnTo>
                  <a:lnTo>
                    <a:pt x="10190" y="388"/>
                  </a:lnTo>
                  <a:lnTo>
                    <a:pt x="10195" y="392"/>
                  </a:lnTo>
                  <a:lnTo>
                    <a:pt x="10201" y="398"/>
                  </a:lnTo>
                  <a:lnTo>
                    <a:pt x="10205" y="405"/>
                  </a:lnTo>
                  <a:lnTo>
                    <a:pt x="10209" y="411"/>
                  </a:lnTo>
                  <a:lnTo>
                    <a:pt x="10212" y="419"/>
                  </a:lnTo>
                  <a:lnTo>
                    <a:pt x="10214" y="427"/>
                  </a:lnTo>
                  <a:lnTo>
                    <a:pt x="10216" y="437"/>
                  </a:lnTo>
                  <a:lnTo>
                    <a:pt x="10217" y="447"/>
                  </a:lnTo>
                  <a:lnTo>
                    <a:pt x="10218" y="458"/>
                  </a:lnTo>
                  <a:lnTo>
                    <a:pt x="10217" y="470"/>
                  </a:lnTo>
                  <a:lnTo>
                    <a:pt x="10216" y="481"/>
                  </a:lnTo>
                  <a:lnTo>
                    <a:pt x="10215" y="490"/>
                  </a:lnTo>
                  <a:lnTo>
                    <a:pt x="10212" y="498"/>
                  </a:lnTo>
                  <a:lnTo>
                    <a:pt x="10209" y="505"/>
                  </a:lnTo>
                  <a:lnTo>
                    <a:pt x="10206" y="511"/>
                  </a:lnTo>
                  <a:lnTo>
                    <a:pt x="10201" y="517"/>
                  </a:lnTo>
                  <a:lnTo>
                    <a:pt x="10196" y="521"/>
                  </a:lnTo>
                  <a:lnTo>
                    <a:pt x="10191" y="525"/>
                  </a:lnTo>
                  <a:lnTo>
                    <a:pt x="10185" y="529"/>
                  </a:lnTo>
                  <a:lnTo>
                    <a:pt x="10179" y="531"/>
                  </a:lnTo>
                  <a:lnTo>
                    <a:pt x="10172" y="533"/>
                  </a:lnTo>
                  <a:lnTo>
                    <a:pt x="10158" y="536"/>
                  </a:lnTo>
                  <a:lnTo>
                    <a:pt x="10142" y="536"/>
                  </a:lnTo>
                  <a:lnTo>
                    <a:pt x="10115" y="536"/>
                  </a:lnTo>
                  <a:lnTo>
                    <a:pt x="10115" y="37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6093000"/>
            <a:ext cx="9144000" cy="765000"/>
          </a:xfrm>
          <a:prstGeom prst="rect">
            <a:avLst/>
          </a:prstGeom>
          <a:solidFill>
            <a:srgbClr val="255eb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9144000" cy="77760"/>
          </a:xfrm>
          <a:prstGeom prst="rect">
            <a:avLst/>
          </a:prstGeom>
          <a:solidFill>
            <a:srgbClr val="3a79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6560" y="1179360"/>
            <a:ext cx="820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85290"/>
                </a:solidFill>
                <a:latin typeface="Arial"/>
              </a:rPr>
              <a:t>МЕЖДУНАРОДНЫЙ УНИВЕРСИТЕТ БИЗНЕСА И НОВЫХ ТЕХНОЛОГ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03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576600" y="476280"/>
            <a:ext cx="1989000" cy="5619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750480" y="6332400"/>
            <a:ext cx="164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www.mubint.r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203640" y="-360"/>
            <a:ext cx="507672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Реальные инвестиции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360" y="76500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Общие требования </a:t>
            </a:r>
            <a:br>
              <a:rPr sz="4800"/>
            </a:b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к разработке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бизнес-планов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для получения государственного финансирован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10920" y="333000"/>
            <a:ext cx="8080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ипичная схема работы с инвестиционными проект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55640" y="1628640"/>
            <a:ext cx="7848720" cy="36828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Подготовка документов в составе конкурсной заяв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900000" y="3068640"/>
            <a:ext cx="7848720" cy="36828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Экспертиза департамента экономразвития субъекта федер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24000" y="3986280"/>
            <a:ext cx="8604000" cy="36828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Рассмотрение органом управления по инвестиционной политике субъекта федер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55640" y="4797360"/>
            <a:ext cx="7848720" cy="36828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Одобрение / неодобрение инвестиционного проек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55640" y="5661000"/>
            <a:ext cx="7848720" cy="36828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Представление средств государственной поддерж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427640" y="4365720"/>
            <a:ext cx="45720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427640" y="5229360"/>
            <a:ext cx="45720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55640" y="2349360"/>
            <a:ext cx="7993080" cy="36828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Экспертиза отраслевого министер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427640" y="3500280"/>
            <a:ext cx="457200" cy="3812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427640" y="2708280"/>
            <a:ext cx="45720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427640" y="1989000"/>
            <a:ext cx="457200" cy="3812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544320"/>
            <a:ext cx="822960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Анализ типичных ошибо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На стадии проработки инвестиционного проект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тсутствие проектно-сметной документаци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екорректный подсчет потребности в инвестициях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лабая юридическая проработк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лан инвестиций не согласован с производственным план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544320"/>
            <a:ext cx="822960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нализ типичных ошибок </a:t>
            </a:r>
            <a:br>
              <a:rPr sz="3200"/>
            </a:br>
            <a:r>
              <a:rPr b="0" lang="en-US" sz="2600" spc="-1" strike="noStrike">
                <a:solidFill>
                  <a:srgbClr val="cc3300"/>
                </a:solidFill>
                <a:latin typeface="Arial"/>
              </a:rPr>
              <a:t>некорректный подсчет потребности в инвестициях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лабая проработка при составлении сметы на приобретение технологического оборудовани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е учитываются транспортные расходы, коммуникации, сроки согласования проектной документации и д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544320"/>
            <a:ext cx="822960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Анализ типичных ошибо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На стадии маркетинговой проработк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тсутствие внятного плана маркетинга – рынок, конкуренция и сбы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лабое обоснование «цены сбыта» продукци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тсутствие анализа конкуренто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е учитываются издержки на сбыт – рекламу и п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544320"/>
            <a:ext cx="822960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Анализ типичных ошибо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На стадии проработки производственного план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лан производства «заявлен» на максимальной загруженност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е учитывается брак в производственном процесс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544320"/>
            <a:ext cx="822960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Анализ типичных ошибо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На стадии проработки экономической част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е учитываются оборотные средств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лан производства не согласован с планом сбыт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екорректный расчет затрат и учет издерже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екорректный расчет экономической и бюджетной эффектив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544320"/>
            <a:ext cx="822960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нализ типичных ошибок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некорректный расчет затрат и учет издерже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е учитываются издержки на отопление (зимой), вывоз мусора и отходов производства и пр.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екорректный расчет затрат на водоснабжение и электричество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счет интегральных показател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2560" y="22093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9999"/>
                </a:solidFill>
                <a:latin typeface="Arial"/>
              </a:rPr>
              <a:t>на основе данных денежного поток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ЧД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(PV) –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чистый доход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ЧДД 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PV)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– чистый дисконтированный доход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ВНД 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RR)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– внутренняя норма доходност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Срок окупаемости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(PBP)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– расчет путем подбор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2560" y="456840"/>
            <a:ext cx="8080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лан денежных поступлений и выпла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762120" y="1557360"/>
          <a:ext cx="7924680" cy="4535280"/>
        </p:xfrm>
        <a:graphic>
          <a:graphicData uri="http://schemas.openxmlformats.org/drawingml/2006/table">
            <a:tbl>
              <a:tblPr/>
              <a:tblGrid>
                <a:gridCol w="2971800"/>
                <a:gridCol w="1143000"/>
                <a:gridCol w="609480"/>
                <a:gridCol w="609480"/>
                <a:gridCol w="609840"/>
                <a:gridCol w="685800"/>
                <a:gridCol w="1295280"/>
              </a:tblGrid>
              <a:tr h="79812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казател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го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го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0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ег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 квартала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0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5480">
                <a:tc gridSpan="7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ятельность по производству и сбыту продукции (услуг)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0280">
                <a:tc gridSpan="7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нвестиционная деятельность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9920">
                <a:tc gridSpan="7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Финансовая деятельность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>
    <p:checker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енежный поток от операционной деятель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470320"/>
            <a:ext cx="8229600" cy="24746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Приток: выручка от реализации, прочие и внереализационные дохо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Отток: затраты на производство и сбыт продукции, налог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2560" y="380520"/>
            <a:ext cx="808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Для чего нужен бизнес-план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4000" y="980640"/>
            <a:ext cx="80038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ает возможность определить жизнеспособность будущего предприятия в условиях конкуренци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одержит ориентиры, в соответствии с которыми будет действовать предприниматель на этапе становления предприятия (бизнеса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лужит важным инструментом получения финансовой поддержки от внешних инвестор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енежный поток от инвестиционной деятель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2560" y="22093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Приток: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доходы (за вычетом налогов!) от реализации имущества и нематериальных активов, от возврата оборотных активов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Отток: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вложения в основные средства, ликвидационные затраты, вложения средств на депозит и в ценные бумаги других хозяйствующих субъектов, в увеличение оборотного капитала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енежный поток от финансовой деятель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26720"/>
            <a:ext cx="8229600" cy="4023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Приток: вложения собственного (акционерного) капитал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Отток: обслуживание основного долга и процентов по нем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2560" y="45684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Анализ денежного пото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8001000" cy="464832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4038480" y="1447920"/>
            <a:ext cx="4496040" cy="703800"/>
          </a:xfrm>
          <a:prstGeom prst="rect">
            <a:avLst/>
          </a:prstGeom>
          <a:solidFill>
            <a:srgbClr val="0000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PV =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ПЗ (дисконт, значения притоков и оттоков) (формула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xce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38480" y="5076720"/>
            <a:ext cx="4496040" cy="703800"/>
          </a:xfrm>
          <a:prstGeom prst="rect">
            <a:avLst/>
          </a:prstGeom>
          <a:solidFill>
            <a:srgbClr val="0000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RR =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НДОХ (значения притоков и оттоков) (формула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xce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2560" y="45684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нализ денежного потока</a:t>
            </a:r>
            <a:br>
              <a:rPr sz="44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истый приток/отт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800100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2560" y="45684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нализ денежного потока</a:t>
            </a:r>
            <a:br>
              <a:rPr sz="44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истый доход нарастающим итог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8001000" cy="464832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3352680" y="2590920"/>
            <a:ext cx="2971800" cy="838080"/>
          </a:xfrm>
          <a:prstGeom prst="wedgeRectCallout">
            <a:avLst>
              <a:gd name="adj1" fmla="val 41879"/>
              <a:gd name="adj2" fmla="val 135226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Срок самоокупаем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3505320" y="2971800"/>
            <a:ext cx="3352680" cy="1219320"/>
            <a:chOff x="3505320" y="2971800"/>
            <a:chExt cx="3352680" cy="1219320"/>
          </a:xfrm>
        </p:grpSpPr>
        <p:sp>
          <p:nvSpPr>
            <p:cNvPr id="152" name=""/>
            <p:cNvSpPr/>
            <p:nvPr/>
          </p:nvSpPr>
          <p:spPr>
            <a:xfrm>
              <a:off x="6553080" y="2971800"/>
              <a:ext cx="304920" cy="1219320"/>
            </a:xfrm>
            <a:custGeom>
              <a:avLst/>
              <a:gdLst>
                <a:gd name="textAreaLeft" fmla="*/ 194760 w 304920"/>
                <a:gd name="textAreaRight" fmla="*/ 305280 w 304920"/>
                <a:gd name="textAreaTop" fmla="*/ 31680 h 1219320"/>
                <a:gd name="textAreaBottom" fmla="*/ 1187640 h 1219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505320" y="3352680"/>
              <a:ext cx="2971800" cy="45972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08080"/>
                  </a:solidFill>
                  <a:latin typeface="Times New Roman"/>
                </a:rPr>
                <a:t>Чистый доход (ЧД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36" dur="1" fill="hold"/>
                                  <p:tgtEl>
                                    <p:spTgt spid="15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92504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ОСНОВНЫЕ ТРЕБОВАНИ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 бизнес-планам, представляемые на государственную поддержк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изнес-план должен соответствовать макету бизнес-план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изнес-план должен сопровождаться необходимыми документам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етендент должен продемонстрировать знания и опыт, необходимые для реализации проект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етендент должен быть готов к проверке представленных сведений как на этапе разработки, так и и реализации проек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4114440"/>
            <a:ext cx="8080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5 января 1706 года, Петр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…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Все прожекты зело исправны быть должны дабы казну зряшно не зорить и отечеству ущерба чинить. А кто прожекты ибы как ляпать будет, того чину лишу и кнутом драть велю…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8763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Нормативно-правовое обеспечени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2560" y="1294920"/>
            <a:ext cx="80042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Положение об оценке эффективности инвестиционных проектов при размещении на конкурсной основе централизованных инвестиционных ресурсов Бюджета развития Российской федерации, утвержденное постановлением Правительства РФ 22.10.1997 г. №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470;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Методические рекомендации по оценке эффективности инвестиционных проектов,  утвержденные Минэкономики РФ,  Минфином РФ и Госстроем РФ 21.06.1999 г., № ВК 477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067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Эффективность инвестиционного проект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0042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бщественная эффективнос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оммерческая эффективнос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Эффективность участия в проект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егиональная и отраслевая эффективнос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юджетная эффективнос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419640" y="4437000"/>
            <a:ext cx="51051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Смотри: Методические рекомендации по оценке эффективности инвестиционных проектов,  утвержденные Минэкономики РФ,  Минфином РФ и Госстроем РФ 21.06.1999 г., № ВК 47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1760" y="380520"/>
            <a:ext cx="83055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Общественная эффективность инвестиционного проект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" y="1523880"/>
            <a:ext cx="7924680" cy="45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азатели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ественной эффективност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читывают социально-экономические последствия осуществления ИП для общества в целом, в том числе как непосредственные результаты и затраты проекта, так и "внешние"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траты и результаты в смежных секторах экономики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ологические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циальные и иные внеэкономические эффекты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1760" y="380520"/>
            <a:ext cx="83055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оммерческая эффективность инвестиционного проект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295280"/>
            <a:ext cx="7924680" cy="503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Чистый доход (ЧД;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V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) и чистый дисконтированный доход (ЧДД;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PV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характеризуют превышение суммарных денежных поступлений над суммарными затратами для данного проекта соответственно без учета и с учетом неравноценности эффектов (а также затрат, результатов), относящихся к различным моментам време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нутренней нормой доходности (ВНД;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IRR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зывается такое положительное число, что при норме дисконта, равной этому числу, чистый дисконтированный доход проекта обращается в 0, при всех больших значениях нормы дисконта чистый дисконтированный доход отрицателен, при всех меньших значениях нормы дисконта - положителе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1760" y="380520"/>
            <a:ext cx="83055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оммерческая эффективность инвестиционного проект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85800" y="1679400"/>
            <a:ext cx="792468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рок окупаемост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PBP)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нвестиционного проекта представляет собой период времени с начала реализации проекта до момента, когда разность между накопленной суммой чистой прибыли с амортизационными отчислениями и объемом инвестиционных затрат приобретет положительное знач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6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Конкурсная заяв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50920" y="5084280"/>
            <a:ext cx="8229600" cy="10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изнес-пла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опроводительные докумен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39640" y="981000"/>
            <a:ext cx="7925040" cy="39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пределяется формой государственной поддерж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Представляется в следующих формах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государственные гарантии; бюджетный кредит; инвестиционный налоговый кредит, льготы по налогу на прибыль при привлечении инвестиций свыше 30 млн.рубле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2560" y="380520"/>
            <a:ext cx="8080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опроводительные докумен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2120" y="1218960"/>
            <a:ext cx="8076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Копия устава и (или) учредительного договора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Копия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документа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о государственной регистрации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Копия лицензии на право осуществления хозяйственной деятельности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Заключение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отраслевого министерства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Заключение экологической экспертизы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Бухгалтерская отчетность за предыдущий и текущий годы по формам NN 1-5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Документы по обеспечению залога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Справка инспекции МНС России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Письмо кредитной организации и др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7T13:51:49Z</dcterms:created>
  <dc:creator>User</dc:creator>
  <dc:description/>
  <dc:language>en-US</dc:language>
  <cp:lastModifiedBy>nekludov</cp:lastModifiedBy>
  <dcterms:modified xsi:type="dcterms:W3CDTF">2006-11-17T11:46:01Z</dcterms:modified>
  <cp:revision>60</cp:revision>
  <dc:subject/>
  <dc:title>Годовая нагрузк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d4010000000000010250600207f5200358026400</vt:lpwstr>
  </property>
</Properties>
</file>