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0AE-9DE5-4420-B298-E483CFBD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B18-9450-4002-BF12-02E362D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14BD7-3B11-4E54-8C04-0E61577F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ED67C-86F8-4FCC-9C2A-F7E70E20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5FE95-6E43-4A4C-B038-46F74856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EFE94-777D-471E-A677-5C0918AF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169F-C167-4DEC-944A-5E89DCF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C452-7592-4B23-B259-94424DE5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2E409-EA3B-4D1D-9DAF-6DB2925E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70127-F438-4DB7-9276-5C4212EE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F1215-B9BE-4EC0-9A48-B14C9782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A6C-EDE6-4FBD-9C2E-F59E9439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451-720D-4248-AB2D-40F9C431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256-BC27-4F31-AF1A-8E67CF5C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48BD-5455-482C-BF75-26693700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620-F255-4938-8B92-6BD8CF58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CDBF-EBE7-4CF0-9A51-BF03E9A0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31E4-0F1A-44E3-8B74-B0E97459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55C6-F1B5-4390-8167-95DCB090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CE5D-434D-4681-845D-2B82C79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513-E22A-466D-B6F3-077D1A51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13AB-F078-4DFB-928F-F496063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1E88-6F42-4100-B9D8-84DCEE4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A1A8-BF63-4289-983C-AA9D3C94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010E-5898-475E-83B5-D0DA23C5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B966-ED0B-445E-91D6-EB181D1D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0789-6F49-4A80-BB35-0B53BF06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3CB8-CE57-4EAB-A6A7-020E3409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4BCD-4661-4136-9761-9C1C708C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5529-644B-4A13-B241-F7081290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9533-8982-4239-BF44-5FCF2250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BE1-4371-41F1-B20C-60E140F0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7455-415C-41F6-8DAF-EF1FD88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5803-2947-4855-A883-87ECAC55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986B-2133-48D3-BC84-5601F74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3C1A-5488-4587-AC95-6B59A88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4861-3848-4757-832D-35DB0C4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CA88-4171-4F71-916A-B96D27BA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7AD5-563A-48EA-9417-07AB7828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2DDD-4CF5-49DD-877C-30E629B4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E93AD-798B-4E64-BA4F-58A840AD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57CF-A917-4ADD-A83E-6FBC50C5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915-F5CB-4875-8560-14685F8F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1CDD-FA0F-4B20-AED4-460B27C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4B60-3A29-46B9-B6DE-A5131B06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69C70-116A-4C87-8663-DA8EF633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96A64-0EE5-4066-880D-7F236E7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A415-079D-4E46-949A-5A1C6307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18A4-D4D4-4B34-ACD5-374472A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2475-ED2F-4B59-8810-7285FCB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5514-C569-4314-8FA0-6B2FE2E2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BE32-2B7A-40EE-A607-A07AF226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5D7C0-D496-41F0-ACF6-BF4E3CC4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7DC-FE25-4F3F-8235-15DEF3C2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70D3-EE53-4FFB-A967-883876B6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9F57-E9FC-49A9-92D7-C81AFC1E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30952-46C1-49D7-A15C-2FF6AF4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7DE8A-DF14-4908-A7DE-3DDF9F3E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C510-0167-4E8C-9A0C-733639F0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F898-E568-4682-8905-9D2E0F5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9F69-C77B-4F1A-BBA5-ECC22A58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70A1-88FE-44CD-83E2-095201F8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7834-0880-4045-AF48-CA27DAA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551E-6518-4305-ABED-579969EC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74A-D04A-4E9F-A6AE-DB07D20A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100A-82FD-4B47-A1C0-E0F46DE3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E18A-072D-44FA-BE8D-5FB4262B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8DD7-A119-4601-8C01-745891A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D8DAF-2F42-45F1-B7AE-EA2DF021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C0D0-6407-4E6A-8732-47F96720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DFF5-44E4-4361-9AA6-0D2F0FF8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9346-107B-4BC7-91E8-7B683EBD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8606-3A34-48F9-98F6-6D9DC190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D26D8-15A8-43A7-A4FE-B9661FE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AEB4-3DE4-4EC1-9F61-7DFB605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615-F46C-4D65-A431-EFA43365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D36D9-4B12-4125-ADBE-AE270222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72F64-C1B4-42BB-AB74-72E88E01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DF6BC-9CA5-468D-839F-40F154BC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1BCE4-2CCF-4F5B-B65A-66323931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8B5E-0F26-4FA3-A819-F31C8DAF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89CA-D8F1-41B6-9CB1-5B08711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4AFB5-9F09-4100-BEC3-F631F435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1F456-E868-4A1E-A458-60C2E9F9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9AA4C-F28D-475F-B8B9-0D989DFB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8EC80-615A-438A-BDA9-3FD10174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4FD-EB42-4DA6-B454-A6D89027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2F9A5-2A75-41F0-9623-AF5AEF8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9CE5-4A20-41A2-A0AF-9704FFE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0101F-3051-4B37-B788-AA751BF2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A10C6-ADCF-48A9-A820-FD525C2E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6AF6B-F2E9-4FCC-92E9-DFB53341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058FF-B3AA-4034-A24E-E3045038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694F-5D69-475F-9D02-B787E8C9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95CD1-1FFC-43EE-A442-A1E7D9B1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3548B-E064-4E62-B4CD-6481E524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1649-8729-48A7-A2D8-C66782BB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4F6-0CE8-48A5-8CEA-D1ADF70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720D-2470-4350-9AD8-09A26858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D9B19-49D8-48CB-B016-21909D3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67422-AABB-4281-97BE-82BD0F3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0F0E7-D964-4926-B7B1-9D32889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3F6FD-E403-4E77-ADDE-986DFB7E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1A31-36E5-442A-BF41-E575EFF3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45F1-0104-41BF-A1E9-CA4A55F3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9DA7E-4E37-4C3B-97AE-BBF4E0FA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07999-950B-49F4-A00F-CEBA84B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79AB8-FE97-40FB-9152-68A5A43F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6764-F039-44E3-A3DE-E5445903DFF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F7B-AD00-4D00-80B5-24E37AF3983C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AF6A-D25B-4FEE-BF88-C88F60D8A4C2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BDD-09F1-40DF-8B77-92D16AAE7124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1B6-D566-41F4-AEAC-59475226CD8C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614E-BD25-42FD-99AE-EF8B83DCE90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FE5-9561-49EE-A9AB-8EEF45C2381A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BCDC-CEC0-4321-9835-C84C618B79F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CC3-2DDB-4F09-BFFD-D406DB901FF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tatic-p4.fotolia.com/jpg/00/12/73/77/400_F_12737708_0m0LoFW5rN4b7jWIAhU2WFM3xdOL7Oay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1066680"/>
            <a:ext cx="8699400" cy="2938680"/>
          </a:xfrm>
          <a:prstGeom prst="rect">
            <a:avLst/>
          </a:prstGeom>
          <a:ln w="0">
            <a:noFill/>
          </a:ln>
        </p:spPr>
      </p:pic>
      <p:pic>
        <p:nvPicPr>
          <p:cNvPr id="400" name="i-main-pic" descr="Картинка 45 из 139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3244680"/>
            <a:ext cx="2482920" cy="311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2682132xxq"/>
          <p:cNvPicPr/>
          <p:nvPr/>
        </p:nvPicPr>
        <p:blipFill>
          <a:blip r:embed="rId4"/>
          <a:stretch/>
        </p:blipFill>
        <p:spPr>
          <a:xfrm>
            <a:off x="6715080" y="4514760"/>
            <a:ext cx="1285920" cy="172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6" descr=""/>
          <p:cNvPicPr/>
          <p:nvPr/>
        </p:nvPicPr>
        <p:blipFill>
          <a:blip r:embed="rId1"/>
          <a:stretch/>
        </p:blipFill>
        <p:spPr>
          <a:xfrm>
            <a:off x="212760" y="2133720"/>
            <a:ext cx="8480520" cy="50353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28760" y="642960"/>
            <a:ext cx="84103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cd0e1"/>
                </a:solidFill>
                <a:latin typeface="Times New Roman"/>
              </a:rPr>
              <a:t>Конкурс «Смекалистых»</a:t>
            </a:r>
            <a:endParaRPr b="0" lang="en-US" sz="5400" spc="-1" strike="noStrike">
              <a:solidFill>
                <a:srgbClr val="d6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560" y="1600200"/>
            <a:ext cx="41907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Про100р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лица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360" y="1571400"/>
            <a:ext cx="4343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рона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л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08" name="Picture 2" descr="watermark"/>
          <p:cNvPicPr/>
          <p:nvPr/>
        </p:nvPicPr>
        <p:blipFill>
          <a:blip r:embed="rId2"/>
          <a:stretch/>
        </p:blipFill>
        <p:spPr>
          <a:xfrm>
            <a:off x="3214800" y="3540240"/>
            <a:ext cx="18572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85680" y="3773520"/>
            <a:ext cx="8850240" cy="249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15001475_085_coney_10p"/>
          <p:cNvPicPr/>
          <p:nvPr/>
        </p:nvPicPr>
        <p:blipFill>
          <a:blip r:embed="rId2"/>
          <a:stretch/>
        </p:blipFill>
        <p:spPr>
          <a:xfrm>
            <a:off x="285840" y="500040"/>
            <a:ext cx="3900240" cy="3143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MattiParkkonen_Orava"/>
          <p:cNvPicPr/>
          <p:nvPr/>
        </p:nvPicPr>
        <p:blipFill>
          <a:blip r:embed="rId3"/>
          <a:stretch/>
        </p:blipFill>
        <p:spPr>
          <a:xfrm>
            <a:off x="5214960" y="500040"/>
            <a:ext cx="372744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ecff"/>
                </a:solidFill>
                <a:latin typeface="Times New Roman"/>
              </a:rPr>
              <a:t>Ответьте на шуточные вопросы.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В комнате горели 3 свечи. Одна потухла. Сколько свечей осталось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Два сына и два отца съели 3 яйца. Сколько яиц съел каждый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Надо разделить 5 яблок между 5 девочками, но так, чтобы 1 яблоко осталось в корзине.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Росли 4 берёзы. На каждой берёзе по 4 большие ветки. На каждой большой по 4 маленьких ветки. На каждой маленькой - по 4 яблока. Сколько всего яблок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Заяц вытащил 7 морковок и съел все, кроме 4. Сколько морковок осталось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Когда козе исполнится 7 лет, что с ней будет дальше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99840"/>
            <a:ext cx="2409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6 *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9*4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8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 * 6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6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5 * 4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8320" y="1599840"/>
            <a:ext cx="220968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8 * 7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3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 * 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9 * 7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4 * 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5 * 3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17" name="Picture 2" descr="6544627a6c67"/>
          <p:cNvPicPr/>
          <p:nvPr/>
        </p:nvPicPr>
        <p:blipFill>
          <a:blip r:embed="rId2"/>
          <a:stretch/>
        </p:blipFill>
        <p:spPr>
          <a:xfrm>
            <a:off x="2571840" y="1432080"/>
            <a:ext cx="1893960" cy="5068800"/>
          </a:xfrm>
          <a:prstGeom prst="rect">
            <a:avLst/>
          </a:prstGeom>
          <a:ln w="0">
            <a:noFill/>
          </a:ln>
        </p:spPr>
      </p:pic>
      <p:pic>
        <p:nvPicPr>
          <p:cNvPr id="418" name="orig" descr="720137.jpg"/>
          <p:cNvPicPr/>
          <p:nvPr/>
        </p:nvPicPr>
        <p:blipFill>
          <a:blip r:embed="rId3"/>
          <a:stretch/>
        </p:blipFill>
        <p:spPr>
          <a:xfrm>
            <a:off x="7267680" y="4786200"/>
            <a:ext cx="15192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5" descr=""/>
          <p:cNvPicPr/>
          <p:nvPr/>
        </p:nvPicPr>
        <p:blipFill>
          <a:blip r:embed="rId1"/>
          <a:stretch/>
        </p:blipFill>
        <p:spPr>
          <a:xfrm>
            <a:off x="212760" y="4773600"/>
            <a:ext cx="8748720" cy="18828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80520" y="356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0e1"/>
                </a:solidFill>
                <a:latin typeface="Times New Roman"/>
              </a:rPr>
              <a:t>Игра «Счёт в тумане»</a:t>
            </a:r>
            <a:endParaRPr b="0" lang="en-US" sz="4000" spc="-1" strike="noStrike">
              <a:solidFill>
                <a:srgbClr val="d6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0e1"/>
                </a:solidFill>
                <a:latin typeface="Times New Roman"/>
              </a:rPr>
              <a:t>Считаем до  20 .</a:t>
            </a:r>
            <a:endParaRPr b="0" lang="en-US" sz="40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21" name="Picture 2" descr="384053_25"/>
          <p:cNvPicPr/>
          <p:nvPr/>
        </p:nvPicPr>
        <p:blipFill>
          <a:blip r:embed="rId2"/>
          <a:stretch/>
        </p:blipFill>
        <p:spPr>
          <a:xfrm>
            <a:off x="785880" y="1643040"/>
            <a:ext cx="7572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3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888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6"/>
          <p:cNvPicPr/>
          <p:nvPr/>
        </p:nvPicPr>
        <p:blipFill>
          <a:blip r:embed="rId2"/>
          <a:stretch/>
        </p:blipFill>
        <p:spPr>
          <a:xfrm>
            <a:off x="857160" y="1785960"/>
            <a:ext cx="3714840" cy="457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school"/>
          <p:cNvPicPr/>
          <p:nvPr/>
        </p:nvPicPr>
        <p:blipFill>
          <a:blip r:embed="rId3"/>
          <a:stretch/>
        </p:blipFill>
        <p:spPr>
          <a:xfrm>
            <a:off x="4624560" y="1811160"/>
            <a:ext cx="3365280" cy="44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5:28:27Z</dcterms:created>
  <dc:creator>Каравелла</dc:creator>
  <dc:description/>
  <dc:language>en-US</dc:language>
  <cp:lastModifiedBy>Каравелла</cp:lastModifiedBy>
  <dcterms:modified xsi:type="dcterms:W3CDTF">2011-02-23T19:09:47Z</dcterms:modified>
  <cp:revision>324</cp:revision>
  <dc:subject/>
  <dc:title>Зимушка – зима.</dc:title>
</cp:coreProperties>
</file>