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6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18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4.png" ContentType="image/png"/>
  <Override PartName="/ppt/media/image13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68C8-BDBF-4EE8-A00A-5A33A24AD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0348-CD1D-47E9-BC8C-6A6D89F53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D3CFD9-D710-4F31-9A2B-20650B2A4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98CCD3-CD99-4721-9178-708A06BE3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A8EA4B-F3D7-47F3-A2ED-1D2D5BAE6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DB885F-2F96-45E4-9E2A-590F2DB50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4AEB6F-5D07-43E4-987B-5986B803E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F8FE1E-428E-4164-B3B0-597484BD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F43904-8A91-48C1-8CEF-526459B01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C0D32A-E8D3-44F0-82B9-069DADE7A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FB8F4C-B31B-4AB2-87ED-A3C3C3E13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5137-44DF-4CD0-BD3B-C942B1399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169E-CEF9-4DFD-BA92-2A5575F0B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53D12-F2E9-4B93-A7FC-FE0CBB825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F426E-5E09-4B39-BC24-120EC9342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C37D2-FD05-478A-A427-DAF778DCF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B5036-D09E-43AA-91CE-D45F588D0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9415F-F085-4727-9A11-A1EE71CDE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BD054-4659-40EE-B526-0FF4EFC98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FC904-0F70-440F-919D-C6A43A9E8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DC0D-E639-4423-85ED-9EBB72AEC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0E238-9D59-44C9-916B-6D8CF66A2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4274C-3B95-4AD1-86CD-1B0755F09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DCD4B-DF3C-4D61-B5F1-73BE7AFDE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E0495-0E50-4F94-AA17-BE4B27B63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011CE-A574-4EA7-8C62-8D8993BCE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86FE6-7EE6-4927-A0CA-70F7E9778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D8681-E2A8-409F-9929-5C5349738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07371-B53B-4FA7-9C53-EF2ABE758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15A4A-491D-48D5-945B-D60D3BB10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D3D24-5429-4C98-8FA0-76A7FA615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71A7-96FD-4CDC-96F6-EB73F53CA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BFEE6-5DF3-406E-B8C7-2F863C9E5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CAEB3-17E6-487F-8993-CDD193D78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54583-C980-4CB2-920F-427B7AA9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34430-538C-4A82-879D-72483C07C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51352-1818-4810-A8BD-B65EA131F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A21F6-3B5F-4795-B268-4735EEE16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2DA9F-A12D-4F58-9DA9-490CE1E99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466EE-0958-4941-A000-5B3969F5B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F7909-030C-4CD7-BD80-88B768359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2C811-6ECB-4930-A218-6BB6B1631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5F25-C3E4-4511-81E0-BDC9155BC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C4EFC-6147-4CB9-80E6-3D2E15897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9C114-583D-4785-B118-9888D3432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5892F-04E0-4EC3-A7C7-8BE455636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F6720-53AA-4B20-A4DE-FDDE09F2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B5DFF-6B03-4252-8E90-6C35F712A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47E61-EFF4-4CAA-9063-5CFD7C22D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AD5AE-02C2-4127-927D-0C1B6F39A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C79C9-3CA5-4AB3-B04A-8A0E85EBB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0AE19-7441-4C86-99E4-F6C1A3936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01328-5EF0-4A67-90A6-AC21A2144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8EA7-BB96-476C-BDE1-FA527ACE2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AACC2F-EEA5-4E2A-A2EA-173A63716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10801B-A124-4066-A28F-7554404B9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4AC98D-30C7-4390-995F-146AB047D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46084B-9493-4BA6-A682-6FA32AEC3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BF39B2-BA99-4009-B0AD-0B5730D18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CD182-5A81-49BF-B251-D41175E8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04BF52-5B55-443B-93FE-A3AB87D75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6D343F-9D3F-4603-BEA0-EC5D8E86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3C8E50-C48B-4E6A-A16A-6218ED01C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D3E7B6-7289-4A15-A343-8D4E4C92C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1AD8-0954-4C11-8768-DFB5A2E85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6EB3AE-68DF-4B72-A824-47E82C045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97EF20-B083-49CA-81DC-7023C146B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DDD25A-5F86-4C58-8D94-E99222C8C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277A99-7C47-4438-9A42-9A718628A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AB0771-BCE4-4952-BD8C-1177066DA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3C95BE-C353-4334-91FE-925FAEB2E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5B712-5D44-498D-BEDF-DBEB454E9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7941E3-8302-4D07-B8FA-9D06D887B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557AF4-ED48-49FA-8561-B16ABF27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680CD-B5DE-4572-BFA2-F2027EEF4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9AA3-7490-45FD-A475-EB7368A30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3D5531-3B91-4900-8DDB-BA5F74D0F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7E0995-40A8-4AAE-AEEE-66CB16944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749621-4E2D-4E21-8D1E-3799832A2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C48ED0-1E3A-4C35-824B-87056A238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642814-4009-44BF-BC2A-1549D58A0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29F56A-150B-4635-9C6E-7A873E59D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26001E-41D4-4E39-A1A9-314CC2ADC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D765FC-7928-48E2-A0B7-E9A2C957E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552607-DA94-48AD-AF14-80BC73E15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FC2DD3-0692-49BB-8678-8ADFA826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FF66-2E40-4804-9946-5B4720B9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39567A-9F81-4638-A870-E5C474BB3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C4453E-DA75-41F0-9609-662A9A18A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FDC8D9-AE4D-4B43-B52A-A0943EB5C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02AE3F-1304-4A31-8771-73A9B639F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66209F-ACE9-4BA9-A3DA-C0759685A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A6B5B6-5383-4553-AECD-451C2F5F8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0D92ED-CA13-482E-942A-3EA4AB612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D63F5B-449D-44E2-BD09-9E42C0F01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FED618-F209-4133-A5B8-6FA60AECD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FF016C-56F8-4CCC-9282-FD7EA3FD3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9F79-9834-41BC-9BF6-736965128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F3B9EE-43E2-4538-A936-D13385392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795BBC-E8D3-442E-B315-D87D82750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04FC29-2267-4C45-94CF-4B378049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5EDC2F-E78E-4F29-8E56-F7F2232E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061EA5-1ECC-47AA-866F-16517A46F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E38B1B-5014-49C0-8184-019F44169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8BD4A1-7487-48C5-998C-A458D3351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2245BD-C0AF-413A-9D76-B4B89ECC2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823A32-D607-4376-BAA7-749C5D665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F664BD-C672-4AD9-BF60-E6DD8334E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951A6-3769-4F3C-BEFA-2A90BB246BD9}" type="slidenum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ec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ec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FF2AD-8E89-4B26-9A88-23092D1B6D3F}" type="slidenum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ec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36A19-ECE8-4F71-817A-A929DB84BE88}" type="slidenum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ec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B8477-F5F4-4F1E-A402-E802341BB3F8}" type="slidenum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ec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1F84C-64B3-4820-9F34-6031B939B9C3}" type="slidenum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ec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FF72E-EDD4-4230-B2F7-AF1E4572CC6F}" type="slidenum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ec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BF9C9-8E03-4D61-ACBB-5FC223FE09B0}" type="slidenum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ec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4E5B1-1543-4E6D-A73D-858D584A2EF7}" type="slidenum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ec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d6ec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A0817-7BC8-4F5D-96C9-AD05F0196DE5}" type="slidenum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static-p4.fotolia.com/jpg/00/12/73/77/400_F_12737708_0m0LoFW5rN4b7jWIAhU2WFM3xdOL7Oay.jpg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298440" y="1066680"/>
            <a:ext cx="8699400" cy="2938680"/>
          </a:xfrm>
          <a:prstGeom prst="rect">
            <a:avLst/>
          </a:prstGeom>
          <a:ln w="0">
            <a:noFill/>
          </a:ln>
        </p:spPr>
      </p:pic>
      <p:pic>
        <p:nvPicPr>
          <p:cNvPr id="400" name="i-main-pic" descr="Картинка 45 из 1395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42960" y="3244680"/>
            <a:ext cx="2482920" cy="311328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4" descr="2682132xxq"/>
          <p:cNvPicPr/>
          <p:nvPr/>
        </p:nvPicPr>
        <p:blipFill>
          <a:blip r:embed="rId4"/>
          <a:stretch/>
        </p:blipFill>
        <p:spPr>
          <a:xfrm>
            <a:off x="6715080" y="4514760"/>
            <a:ext cx="1285920" cy="17226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60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Заголовок 6" descr=""/>
          <p:cNvPicPr/>
          <p:nvPr/>
        </p:nvPicPr>
        <p:blipFill>
          <a:blip r:embed="rId1"/>
          <a:stretch/>
        </p:blipFill>
        <p:spPr>
          <a:xfrm>
            <a:off x="212760" y="2133720"/>
            <a:ext cx="8480520" cy="503532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28760" y="642960"/>
            <a:ext cx="841032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bcd0e1"/>
                </a:solidFill>
                <a:latin typeface="Times New Roman"/>
              </a:rPr>
              <a:t>Конкурс «Смекалистых»</a:t>
            </a:r>
            <a:endParaRPr b="0" lang="en-US" sz="5400" spc="-1" strike="noStrike">
              <a:solidFill>
                <a:srgbClr val="d6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" dur="20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4" descr=""/>
          <p:cNvPicPr/>
          <p:nvPr/>
        </p:nvPicPr>
        <p:blipFill>
          <a:blip r:embed="rId1"/>
          <a:stretch/>
        </p:blipFill>
        <p:spPr>
          <a:xfrm>
            <a:off x="133200" y="450720"/>
            <a:ext cx="8864640" cy="107964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304560" y="1600200"/>
            <a:ext cx="419076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6ecff"/>
                </a:solidFill>
                <a:latin typeface="Times New Roman"/>
              </a:rPr>
              <a:t>Про100р</a:t>
            </a:r>
            <a:endParaRPr b="0" lang="en-US" sz="4400" spc="-1" strike="noStrike">
              <a:solidFill>
                <a:srgbClr val="d6ec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6ecff"/>
                </a:solidFill>
                <a:latin typeface="Times New Roman"/>
              </a:rPr>
              <a:t>100лица</a:t>
            </a:r>
            <a:endParaRPr b="0" lang="en-US" sz="44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00360" y="1571400"/>
            <a:ext cx="4343400" cy="22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6ecff"/>
                </a:solidFill>
                <a:latin typeface="Times New Roman"/>
              </a:rPr>
              <a:t>100рона</a:t>
            </a:r>
            <a:endParaRPr b="0" lang="en-US" sz="4400" spc="-1" strike="noStrike">
              <a:solidFill>
                <a:srgbClr val="d6ec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6ecff"/>
                </a:solidFill>
                <a:latin typeface="Times New Roman"/>
              </a:rPr>
              <a:t>100л</a:t>
            </a:r>
            <a:endParaRPr b="0" lang="en-US" sz="4400" spc="-1" strike="noStrike">
              <a:solidFill>
                <a:srgbClr val="d6ecff"/>
              </a:solidFill>
              <a:latin typeface="Times New Roman"/>
            </a:endParaRPr>
          </a:p>
        </p:txBody>
      </p:sp>
      <p:pic>
        <p:nvPicPr>
          <p:cNvPr id="408" name="Picture 2" descr="watermark"/>
          <p:cNvPicPr/>
          <p:nvPr/>
        </p:nvPicPr>
        <p:blipFill>
          <a:blip r:embed="rId2"/>
          <a:stretch/>
        </p:blipFill>
        <p:spPr>
          <a:xfrm>
            <a:off x="3214800" y="3540240"/>
            <a:ext cx="185724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85680" y="3773520"/>
            <a:ext cx="8850240" cy="249408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15001475_085_coney_10p"/>
          <p:cNvPicPr/>
          <p:nvPr/>
        </p:nvPicPr>
        <p:blipFill>
          <a:blip r:embed="rId2"/>
          <a:stretch/>
        </p:blipFill>
        <p:spPr>
          <a:xfrm>
            <a:off x="285840" y="500040"/>
            <a:ext cx="3900240" cy="31431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4" descr="MattiParkkonen_Orava"/>
          <p:cNvPicPr/>
          <p:nvPr/>
        </p:nvPicPr>
        <p:blipFill>
          <a:blip r:embed="rId3"/>
          <a:stretch/>
        </p:blipFill>
        <p:spPr>
          <a:xfrm>
            <a:off x="5214960" y="500040"/>
            <a:ext cx="3727440" cy="30718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Заголовок 4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304920" y="1553760"/>
            <a:ext cx="8686800" cy="50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6ecff"/>
                </a:solidFill>
                <a:latin typeface="Times New Roman"/>
              </a:rPr>
              <a:t>Ответьте на шуточные вопросы.</a:t>
            </a: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750b3d"/>
                </a:solidFill>
                <a:latin typeface="Times New Roman"/>
              </a:rPr>
              <a:t>В комнате горели 3 свечи. Одна потухла. Сколько свечей осталось</a:t>
            </a:r>
            <a:r>
              <a:rPr b="0" i="1" lang="ru-RU" sz="2400" spc="-1" strike="noStrike">
                <a:solidFill>
                  <a:srgbClr val="d6ec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d6ec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</a:rPr>
              <a:t>Два сына и два отца съели 3 яйца. Сколько яиц съел каждый?</a:t>
            </a:r>
            <a:endParaRPr b="0" lang="en-US" sz="2400" spc="-1" strike="noStrike">
              <a:solidFill>
                <a:srgbClr val="d6ec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750b3d"/>
                </a:solidFill>
                <a:latin typeface="Times New Roman"/>
              </a:rPr>
              <a:t>Надо разделить 5 яблок между 5 девочками, но так, чтобы 1 яблоко осталось в корзине.</a:t>
            </a:r>
            <a:endParaRPr b="0" lang="en-US" sz="2400" spc="-1" strike="noStrike">
              <a:solidFill>
                <a:srgbClr val="d6ec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</a:rPr>
              <a:t>Росли 4 берёзы. На каждой берёзе по 4 большие ветки. На каждой большой по 4 маленьких ветки. На каждой маленькой - по 4 яблока. Сколько всего яблок?</a:t>
            </a:r>
            <a:endParaRPr b="0" lang="en-US" sz="2400" spc="-1" strike="noStrike">
              <a:solidFill>
                <a:srgbClr val="d6ec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750b3d"/>
                </a:solidFill>
                <a:latin typeface="Times New Roman"/>
              </a:rPr>
              <a:t>Заяц вытащил 7 морковок и съел все, кроме 4. Сколько морковок осталось?</a:t>
            </a:r>
            <a:endParaRPr b="0" lang="en-US" sz="2400" spc="-1" strike="noStrike">
              <a:solidFill>
                <a:srgbClr val="d6ec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</a:rPr>
              <a:t>Когда козе исполнится 7 лет, что с ней будет дальше?</a:t>
            </a:r>
            <a:endParaRPr b="0" lang="en-US" sz="2400" spc="-1" strike="noStrike">
              <a:solidFill>
                <a:srgbClr val="d6ec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6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Заголовок 3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304920" y="1599840"/>
            <a:ext cx="240984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ecff"/>
                </a:solidFill>
                <a:latin typeface="Times New Roman"/>
              </a:rPr>
              <a:t>6 *8 =</a:t>
            </a:r>
            <a:endParaRPr b="0" lang="en-US" sz="2800" spc="-1" strike="noStrike">
              <a:solidFill>
                <a:srgbClr val="d6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ecff"/>
                </a:solidFill>
                <a:latin typeface="Times New Roman"/>
              </a:rPr>
              <a:t>9*4 =</a:t>
            </a:r>
            <a:endParaRPr b="0" lang="en-US" sz="2800" spc="-1" strike="noStrike">
              <a:solidFill>
                <a:srgbClr val="d6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ecff"/>
                </a:solidFill>
                <a:latin typeface="Times New Roman"/>
              </a:rPr>
              <a:t>8 * 9 =</a:t>
            </a:r>
            <a:endParaRPr b="0" lang="en-US" sz="2800" spc="-1" strike="noStrike">
              <a:solidFill>
                <a:srgbClr val="d6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ecff"/>
                </a:solidFill>
                <a:latin typeface="Times New Roman"/>
              </a:rPr>
              <a:t>7 * 6 =</a:t>
            </a:r>
            <a:endParaRPr b="0" lang="en-US" sz="2800" spc="-1" strike="noStrike">
              <a:solidFill>
                <a:srgbClr val="d6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ecff"/>
                </a:solidFill>
                <a:latin typeface="Times New Roman"/>
              </a:rPr>
              <a:t>6 * 9 =</a:t>
            </a:r>
            <a:endParaRPr b="0" lang="en-US" sz="2800" spc="-1" strike="noStrike">
              <a:solidFill>
                <a:srgbClr val="d6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ecff"/>
                </a:solidFill>
                <a:latin typeface="Times New Roman"/>
              </a:rPr>
              <a:t>5 * 4 =</a:t>
            </a:r>
            <a:endParaRPr b="0" lang="en-US" sz="2800" spc="-1" strike="noStrike">
              <a:solidFill>
                <a:srgbClr val="d6ecff"/>
              </a:solidFill>
              <a:latin typeface="Times New Roman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648320" y="1599840"/>
            <a:ext cx="2209680" cy="32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ecff"/>
                </a:solidFill>
                <a:latin typeface="Times New Roman"/>
              </a:rPr>
              <a:t>8 * 7 =</a:t>
            </a:r>
            <a:endParaRPr b="0" lang="en-US" sz="2800" spc="-1" strike="noStrike">
              <a:solidFill>
                <a:srgbClr val="d6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ecff"/>
                </a:solidFill>
                <a:latin typeface="Times New Roman"/>
              </a:rPr>
              <a:t>3 * 9 =</a:t>
            </a:r>
            <a:endParaRPr b="0" lang="en-US" sz="2800" spc="-1" strike="noStrike">
              <a:solidFill>
                <a:srgbClr val="d6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ecff"/>
                </a:solidFill>
                <a:latin typeface="Times New Roman"/>
              </a:rPr>
              <a:t>7 * 8 =</a:t>
            </a:r>
            <a:endParaRPr b="0" lang="en-US" sz="2800" spc="-1" strike="noStrike">
              <a:solidFill>
                <a:srgbClr val="d6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ecff"/>
                </a:solidFill>
                <a:latin typeface="Times New Roman"/>
              </a:rPr>
              <a:t>9 * 7 =</a:t>
            </a:r>
            <a:endParaRPr b="0" lang="en-US" sz="2800" spc="-1" strike="noStrike">
              <a:solidFill>
                <a:srgbClr val="d6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ecff"/>
                </a:solidFill>
                <a:latin typeface="Times New Roman"/>
              </a:rPr>
              <a:t>4 * 8 =</a:t>
            </a:r>
            <a:endParaRPr b="0" lang="en-US" sz="2800" spc="-1" strike="noStrike">
              <a:solidFill>
                <a:srgbClr val="d6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ecff"/>
                </a:solidFill>
                <a:latin typeface="Times New Roman"/>
              </a:rPr>
              <a:t>5 * 3 =</a:t>
            </a:r>
            <a:endParaRPr b="0" lang="en-US" sz="2800" spc="-1" strike="noStrike">
              <a:solidFill>
                <a:srgbClr val="d6ecff"/>
              </a:solidFill>
              <a:latin typeface="Times New Roman"/>
            </a:endParaRPr>
          </a:p>
        </p:txBody>
      </p:sp>
      <p:pic>
        <p:nvPicPr>
          <p:cNvPr id="417" name="Picture 2" descr="6544627a6c67"/>
          <p:cNvPicPr/>
          <p:nvPr/>
        </p:nvPicPr>
        <p:blipFill>
          <a:blip r:embed="rId2"/>
          <a:stretch/>
        </p:blipFill>
        <p:spPr>
          <a:xfrm>
            <a:off x="2571840" y="1432080"/>
            <a:ext cx="1893960" cy="5068800"/>
          </a:xfrm>
          <a:prstGeom prst="rect">
            <a:avLst/>
          </a:prstGeom>
          <a:ln w="0">
            <a:noFill/>
          </a:ln>
        </p:spPr>
      </p:pic>
      <p:pic>
        <p:nvPicPr>
          <p:cNvPr id="418" name="orig" descr="720137.jpg"/>
          <p:cNvPicPr/>
          <p:nvPr/>
        </p:nvPicPr>
        <p:blipFill>
          <a:blip r:embed="rId3"/>
          <a:stretch/>
        </p:blipFill>
        <p:spPr>
          <a:xfrm>
            <a:off x="7267680" y="4786200"/>
            <a:ext cx="1519200" cy="16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Заголовок 5" descr=""/>
          <p:cNvPicPr/>
          <p:nvPr/>
        </p:nvPicPr>
        <p:blipFill>
          <a:blip r:embed="rId1"/>
          <a:stretch/>
        </p:blipFill>
        <p:spPr>
          <a:xfrm>
            <a:off x="212760" y="4773600"/>
            <a:ext cx="8748720" cy="188280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380520" y="3567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cd0e1"/>
                </a:solidFill>
                <a:latin typeface="Times New Roman"/>
              </a:rPr>
              <a:t>Игра «Счёт в тумане»</a:t>
            </a:r>
            <a:endParaRPr b="0" lang="en-US" sz="4000" spc="-1" strike="noStrike">
              <a:solidFill>
                <a:srgbClr val="d6ec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cd0e1"/>
                </a:solidFill>
                <a:latin typeface="Times New Roman"/>
              </a:rPr>
              <a:t>Считаем до  20 .</a:t>
            </a:r>
            <a:endParaRPr b="0" lang="en-US" sz="4000" spc="-1" strike="noStrike">
              <a:solidFill>
                <a:srgbClr val="d6ecff"/>
              </a:solidFill>
              <a:latin typeface="Times New Roman"/>
            </a:endParaRPr>
          </a:p>
        </p:txBody>
      </p:sp>
      <p:pic>
        <p:nvPicPr>
          <p:cNvPr id="421" name="Picture 2" descr="384053_25"/>
          <p:cNvPicPr/>
          <p:nvPr/>
        </p:nvPicPr>
        <p:blipFill>
          <a:blip r:embed="rId2"/>
          <a:stretch/>
        </p:blipFill>
        <p:spPr>
          <a:xfrm>
            <a:off x="785880" y="1643040"/>
            <a:ext cx="757224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7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2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Заголовок 3" descr=""/>
          <p:cNvPicPr/>
          <p:nvPr/>
        </p:nvPicPr>
        <p:blipFill>
          <a:blip r:embed="rId1"/>
          <a:stretch/>
        </p:blipFill>
        <p:spPr>
          <a:xfrm>
            <a:off x="298440" y="189000"/>
            <a:ext cx="8699400" cy="188892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6"/>
          <p:cNvPicPr/>
          <p:nvPr/>
        </p:nvPicPr>
        <p:blipFill>
          <a:blip r:embed="rId2"/>
          <a:stretch/>
        </p:blipFill>
        <p:spPr>
          <a:xfrm>
            <a:off x="857160" y="1785960"/>
            <a:ext cx="3714840" cy="457200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3" descr="school"/>
          <p:cNvPicPr/>
          <p:nvPr/>
        </p:nvPicPr>
        <p:blipFill>
          <a:blip r:embed="rId3"/>
          <a:stretch/>
        </p:blipFill>
        <p:spPr>
          <a:xfrm>
            <a:off x="4624560" y="1811160"/>
            <a:ext cx="3365280" cy="44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9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4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5:28:27Z</dcterms:created>
  <dc:creator>Каравелла</dc:creator>
  <dc:description/>
  <dc:language>en-US</dc:language>
  <cp:lastModifiedBy>Каравелла</cp:lastModifiedBy>
  <dcterms:modified xsi:type="dcterms:W3CDTF">2011-02-23T19:09:47Z</dcterms:modified>
  <cp:revision>324</cp:revision>
  <dc:subject/>
  <dc:title>Зимушка – зима.</dc:title>
</cp:coreProperties>
</file>