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6018-F834-40A4-A884-856D9D7F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0D83-61BF-4248-BB70-12DF61A1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E2F0A-6365-4019-AEA2-2E30522C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0B104-4F11-4970-8A86-507CE1FB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CC1C4-1FA3-42EB-B25F-E5791D67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DFD8F-FEAF-42B7-BF00-BECC2287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44AB8-A0F6-4B3F-A313-F671644E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F2EBA-6C1F-4FD2-A1E7-F77097F2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8D0B0-29C1-4202-A4CA-C4EBC478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FA8CD-4598-4036-92BF-3AB13200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F0BA8-9579-4D80-BBCD-A20C23865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36BE-8CAF-41D9-858A-39DD32A8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1A86-C540-4DCE-B09C-2C5843FA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752F-C744-4C80-B0AB-A79C2FDB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3230-8242-482C-BD9E-47579C15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9BD4-5A2A-46AE-9012-CEB1E4D2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C389-1F6F-469B-927C-23529EAC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7BA5-1BB6-466F-B013-584215D3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003B-5031-4870-BB7F-2D9FDF70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16A9-1E48-41F2-8D9A-CFA75C4A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C4BB-35FB-4653-8FEF-C5380127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944B-BAEF-4968-92BF-EEDE474A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3757-714B-4347-8393-48DD974B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4917-2DCA-490A-8564-2B72E505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5373-D6CA-4CAA-9E45-11584B7D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B44F-84DD-4F49-9F1E-54C16A73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F1F31-76E2-4CB1-B145-61490C23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0D123-F419-49C6-882A-63AFC076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499F4-0447-43E0-9A59-A5FF7A33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CC5A6-1102-44B3-8E45-C4ECF63B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9AEB1-6017-4BB8-9838-15C5B83C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B989-07D2-4B57-AD08-B386417E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038A4-D927-426A-B94A-BC53DCD6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F85E2-D282-4A83-B5AD-33EBD31C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8237F-E5E1-484E-AC6B-5BCB6256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80097-0510-4C05-95A9-188FDFA5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497F4-76D5-497F-B0E8-CF0A335F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A9CD4-36BA-4C47-AC07-A2793FD5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00E0B-9A89-449C-B00F-BC79505C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59A5A-A74B-44CE-9CDA-FF484A7F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E955D-5892-4690-8964-5E13D9D9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D2BBA-4446-47C0-B063-AE982635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4EBF-5C18-4C13-A9C0-1A576546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5B47D-63B6-4CAB-BAFA-AE79223A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7AEC4-3642-48A6-B438-3C20FBC8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78895-82B5-4838-9DEC-23855666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27836-FE21-4742-BE33-79323DE7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1B208-30F1-4548-BF86-BBAB4624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09818-84C9-4F06-B188-4260E044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5D0A9-A58C-42F0-83A4-E8943F2A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04F2B-D8D8-4C3D-9E7C-FB14FB26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68EFD-39DB-4642-BD92-B3299F2A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B603D-5842-4865-A569-E5F6126E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9497-C05F-46B7-B4B4-3EB9162F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7CC43-0366-45C8-BE30-1534A039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D105E-B9F9-4268-8A8A-13634C3F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8B4FE-37B9-4A1F-9740-C5DA40D5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6230F-527B-448D-B175-680B313D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EFFF6-4F0F-49AB-9878-5C6B6BC2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91399-4FD0-46AC-BA97-9C2E0373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AE9D1-3263-49F5-B604-70A180F4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D774D-2984-4CBC-9C82-03D84024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52258-FFD0-480C-B7C4-7F39B2A1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7A5CE-3F07-4149-97CD-41C751CE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C753-0D4E-4964-85C7-0378BD00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10982-7FAB-46ED-AD43-54C04F17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5763C-690A-4357-88E8-08A8B458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32083-E96C-43D4-8A71-1C70A2F9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3652C-0ADB-4BEC-BA1B-17137896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94780-5329-4F13-83A8-81F72584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8F1DE-84F6-4574-A9CA-2EC7AF3C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A373D-3C38-4E38-8F7E-F65C29F4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89CC4-8E23-43D1-8CAB-B2CC3E52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6CFBD-95E5-4899-9F19-9A728282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5E4C1-EAF3-4567-B375-5242940E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744F-2270-4231-A1C3-78A47ED7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A7663-8E23-4657-BA4D-A46DF8F4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8567B-58F5-419B-A11E-F1B6B719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8D2B8-A217-4682-B7FA-7BC3D5F9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CE643-E841-402D-AF67-71576976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8AF0E-5E4D-484C-9D53-FB68B114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96C04-BD31-428D-9E50-B5D6A34B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D8A7D-16F8-410F-AE1E-09FB2108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CDAF1-A999-47F5-BAC7-3A693F1B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B10C0-D0C5-4B5E-8533-A9C4F930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E9714-A6A0-4202-B98B-7256C5B5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BCF4-8FD2-49FB-990E-97A4DC1A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685BB-4FF8-4F16-83F9-7A5F58B5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0CB67-49EC-4F84-9827-8D32A79E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83820-C6F5-4693-8A1B-52666F4A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0AC43-E592-4473-B011-8374FA6C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EAC16-575D-4103-899E-620CBC0C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D2A51-6973-40E9-8C1E-E28272A0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93A7B-3A7C-4A6F-AD69-432586F4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7C1E9-384E-44FA-8F32-4A617495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198B5-1DDF-4046-8464-7BF4E251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9E9A5-10A8-4DF2-BF34-B25009FE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1AD2-DC5B-407A-8A83-81A180A6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4BCDC-8986-493C-A6BD-BEAED8BC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68DA9-9848-4CE2-ADE9-DD3715CC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73E24-66B9-47C3-ACB5-7B6295A9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598DD-6680-4D2E-B7DA-8F2272C6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12E97-33B7-45D4-BC06-61ED3F73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36670-EEBE-4948-9610-A0697F16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1E1E8-53A4-482F-AE36-EDB8C6EE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446AA-6AF9-444B-9156-4BC6DDA3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746E8-1752-4DE4-A982-59D25562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B8833-713A-4A11-8DB1-0750CFB5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F1B0-D99F-43C2-AF89-0137886FABC6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C6DD-A320-4443-8736-B26DA9BF4BB7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C50C-F0A8-4CBB-A4E0-35A9829E0E91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4974-8A8F-4EB1-9F14-993C829527DB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615D-993C-4D5A-A996-96561DC54C36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8D61-42AC-4DCF-B37C-92C4D1BF87E9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125D-34F9-48C8-91F1-413A7A4F9874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5373-59AF-497E-939F-7D4AC9AAC775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B2D1-2440-451E-808D-B65F6257BF3F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static-p4.fotolia.com/jpg/00/12/73/77/400_F_12737708_0m0LoFW5rN4b7jWIAhU2WFM3xdOL7Oay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98440" y="1066680"/>
            <a:ext cx="8699400" cy="2938680"/>
          </a:xfrm>
          <a:prstGeom prst="rect">
            <a:avLst/>
          </a:prstGeom>
          <a:ln w="0">
            <a:noFill/>
          </a:ln>
        </p:spPr>
      </p:pic>
      <p:pic>
        <p:nvPicPr>
          <p:cNvPr id="400" name="i-main-pic" descr="Картинка 45 из 1395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2960" y="3244680"/>
            <a:ext cx="2482920" cy="3113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2682132xxq"/>
          <p:cNvPicPr/>
          <p:nvPr/>
        </p:nvPicPr>
        <p:blipFill>
          <a:blip r:embed="rId4"/>
          <a:stretch/>
        </p:blipFill>
        <p:spPr>
          <a:xfrm>
            <a:off x="6715080" y="4514760"/>
            <a:ext cx="1285920" cy="1722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6" descr=""/>
          <p:cNvPicPr/>
          <p:nvPr/>
        </p:nvPicPr>
        <p:blipFill>
          <a:blip r:embed="rId1"/>
          <a:stretch/>
        </p:blipFill>
        <p:spPr>
          <a:xfrm>
            <a:off x="212760" y="2133720"/>
            <a:ext cx="8480520" cy="503532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28760" y="642960"/>
            <a:ext cx="841032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bcd0e1"/>
                </a:solidFill>
                <a:latin typeface="Times New Roman"/>
              </a:rPr>
              <a:t>Конкурс «Смекалистых»</a:t>
            </a:r>
            <a:endParaRPr b="0" lang="en-US" sz="5400" spc="-1" strike="noStrike">
              <a:solidFill>
                <a:srgbClr val="d6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4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796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560" y="1600200"/>
            <a:ext cx="41907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ecff"/>
                </a:solidFill>
                <a:latin typeface="Times New Roman"/>
              </a:rPr>
              <a:t>Про100р</a:t>
            </a: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ecff"/>
                </a:solidFill>
                <a:latin typeface="Times New Roman"/>
              </a:rPr>
              <a:t>100лица</a:t>
            </a: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00360" y="1571400"/>
            <a:ext cx="43434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ecff"/>
                </a:solidFill>
                <a:latin typeface="Times New Roman"/>
              </a:rPr>
              <a:t>100рона</a:t>
            </a: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ecff"/>
                </a:solidFill>
                <a:latin typeface="Times New Roman"/>
              </a:rPr>
              <a:t>100л</a:t>
            </a: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</p:txBody>
      </p:sp>
      <p:pic>
        <p:nvPicPr>
          <p:cNvPr id="408" name="Picture 2" descr="watermark"/>
          <p:cNvPicPr/>
          <p:nvPr/>
        </p:nvPicPr>
        <p:blipFill>
          <a:blip r:embed="rId2"/>
          <a:stretch/>
        </p:blipFill>
        <p:spPr>
          <a:xfrm>
            <a:off x="3214800" y="3540240"/>
            <a:ext cx="185724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85680" y="3773520"/>
            <a:ext cx="8850240" cy="2494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15001475_085_coney_10p"/>
          <p:cNvPicPr/>
          <p:nvPr/>
        </p:nvPicPr>
        <p:blipFill>
          <a:blip r:embed="rId2"/>
          <a:stretch/>
        </p:blipFill>
        <p:spPr>
          <a:xfrm>
            <a:off x="285840" y="500040"/>
            <a:ext cx="3900240" cy="31431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MattiParkkonen_Orava"/>
          <p:cNvPicPr/>
          <p:nvPr/>
        </p:nvPicPr>
        <p:blipFill>
          <a:blip r:embed="rId3"/>
          <a:stretch/>
        </p:blipFill>
        <p:spPr>
          <a:xfrm>
            <a:off x="5214960" y="500040"/>
            <a:ext cx="3727440" cy="30718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4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3760"/>
            <a:ext cx="86868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ecff"/>
                </a:solidFill>
                <a:latin typeface="Times New Roman"/>
              </a:rPr>
              <a:t>Ответьте на шуточные вопросы.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50b3d"/>
                </a:solidFill>
                <a:latin typeface="Times New Roman"/>
              </a:rPr>
              <a:t>В комнате горели 3 свечи. Одна потухла. Сколько свечей осталось</a:t>
            </a:r>
            <a:r>
              <a:rPr b="0" i="1" lang="ru-RU" sz="2400" spc="-1" strike="noStrike">
                <a:solidFill>
                  <a:srgbClr val="d6ec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d6ec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</a:rPr>
              <a:t>Два сына и два отца съели 3 яйца. Сколько яиц съел каждый?</a:t>
            </a:r>
            <a:endParaRPr b="0" lang="en-US" sz="2400" spc="-1" strike="noStrike">
              <a:solidFill>
                <a:srgbClr val="d6ec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50b3d"/>
                </a:solidFill>
                <a:latin typeface="Times New Roman"/>
              </a:rPr>
              <a:t>Надо разделить 5 яблок между 5 девочками, но так, чтобы 1 яблоко осталось в корзине.</a:t>
            </a:r>
            <a:endParaRPr b="0" lang="en-US" sz="2400" spc="-1" strike="noStrike">
              <a:solidFill>
                <a:srgbClr val="d6ec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</a:rPr>
              <a:t>Росли 4 берёзы. На каждой берёзе по 4 большие ветки. На каждой большой по 4 маленьких ветки. На каждой маленькой - по 4 яблока. Сколько всего яблок?</a:t>
            </a:r>
            <a:endParaRPr b="0" lang="en-US" sz="2400" spc="-1" strike="noStrike">
              <a:solidFill>
                <a:srgbClr val="d6ec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50b3d"/>
                </a:solidFill>
                <a:latin typeface="Times New Roman"/>
              </a:rPr>
              <a:t>Заяц вытащил 7 морковок и съел все, кроме 4. Сколько морковок осталось?</a:t>
            </a:r>
            <a:endParaRPr b="0" lang="en-US" sz="2400" spc="-1" strike="noStrike">
              <a:solidFill>
                <a:srgbClr val="d6ec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</a:rPr>
              <a:t>Когда козе исполнится 7 лет, что с ней будет дальше?</a:t>
            </a:r>
            <a:endParaRPr b="0" lang="en-US" sz="2400" spc="-1" strike="noStrike">
              <a:solidFill>
                <a:srgbClr val="d6e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3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99840"/>
            <a:ext cx="240984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6 *8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9*4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8 * 9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7 * 6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6 * 9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5 * 4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648320" y="1599840"/>
            <a:ext cx="220968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8 * 7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3 * 9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7 * 8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9 * 7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4 * 8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5 * 3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</p:txBody>
      </p:sp>
      <p:pic>
        <p:nvPicPr>
          <p:cNvPr id="417" name="Picture 2" descr="6544627a6c67"/>
          <p:cNvPicPr/>
          <p:nvPr/>
        </p:nvPicPr>
        <p:blipFill>
          <a:blip r:embed="rId2"/>
          <a:stretch/>
        </p:blipFill>
        <p:spPr>
          <a:xfrm>
            <a:off x="2571840" y="1432080"/>
            <a:ext cx="1893960" cy="5068800"/>
          </a:xfrm>
          <a:prstGeom prst="rect">
            <a:avLst/>
          </a:prstGeom>
          <a:ln w="0">
            <a:noFill/>
          </a:ln>
        </p:spPr>
      </p:pic>
      <p:pic>
        <p:nvPicPr>
          <p:cNvPr id="418" name="orig" descr="720137.jpg"/>
          <p:cNvPicPr/>
          <p:nvPr/>
        </p:nvPicPr>
        <p:blipFill>
          <a:blip r:embed="rId3"/>
          <a:stretch/>
        </p:blipFill>
        <p:spPr>
          <a:xfrm>
            <a:off x="7267680" y="4786200"/>
            <a:ext cx="151920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5" descr=""/>
          <p:cNvPicPr/>
          <p:nvPr/>
        </p:nvPicPr>
        <p:blipFill>
          <a:blip r:embed="rId1"/>
          <a:stretch/>
        </p:blipFill>
        <p:spPr>
          <a:xfrm>
            <a:off x="212760" y="4773600"/>
            <a:ext cx="8748720" cy="18828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380520" y="356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cd0e1"/>
                </a:solidFill>
                <a:latin typeface="Times New Roman"/>
              </a:rPr>
              <a:t>Игра «Счёт в тумане»</a:t>
            </a:r>
            <a:endParaRPr b="0" lang="en-US" sz="4000" spc="-1" strike="noStrike">
              <a:solidFill>
                <a:srgbClr val="d6ec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cd0e1"/>
                </a:solidFill>
                <a:latin typeface="Times New Roman"/>
              </a:rPr>
              <a:t>Считаем до  20 .</a:t>
            </a:r>
            <a:endParaRPr b="0" lang="en-US" sz="4000" spc="-1" strike="noStrike">
              <a:solidFill>
                <a:srgbClr val="d6ecff"/>
              </a:solidFill>
              <a:latin typeface="Times New Roman"/>
            </a:endParaRPr>
          </a:p>
        </p:txBody>
      </p:sp>
      <p:pic>
        <p:nvPicPr>
          <p:cNvPr id="421" name="Picture 2" descr="384053_25"/>
          <p:cNvPicPr/>
          <p:nvPr/>
        </p:nvPicPr>
        <p:blipFill>
          <a:blip r:embed="rId2"/>
          <a:stretch/>
        </p:blipFill>
        <p:spPr>
          <a:xfrm>
            <a:off x="785880" y="1643040"/>
            <a:ext cx="75722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2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3" descr=""/>
          <p:cNvPicPr/>
          <p:nvPr/>
        </p:nvPicPr>
        <p:blipFill>
          <a:blip r:embed="rId1"/>
          <a:stretch/>
        </p:blipFill>
        <p:spPr>
          <a:xfrm>
            <a:off x="298440" y="189000"/>
            <a:ext cx="8699400" cy="1888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6"/>
          <p:cNvPicPr/>
          <p:nvPr/>
        </p:nvPicPr>
        <p:blipFill>
          <a:blip r:embed="rId2"/>
          <a:stretch/>
        </p:blipFill>
        <p:spPr>
          <a:xfrm>
            <a:off x="857160" y="1785960"/>
            <a:ext cx="3714840" cy="4572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school"/>
          <p:cNvPicPr/>
          <p:nvPr/>
        </p:nvPicPr>
        <p:blipFill>
          <a:blip r:embed="rId3"/>
          <a:stretch/>
        </p:blipFill>
        <p:spPr>
          <a:xfrm>
            <a:off x="4624560" y="1811160"/>
            <a:ext cx="3365280" cy="44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5:28:27Z</dcterms:created>
  <dc:creator>Каравелла</dc:creator>
  <dc:description/>
  <dc:language>en-US</dc:language>
  <cp:lastModifiedBy>Каравелла</cp:lastModifiedBy>
  <dcterms:modified xsi:type="dcterms:W3CDTF">2011-02-23T19:09:47Z</dcterms:modified>
  <cp:revision>324</cp:revision>
  <dc:subject/>
  <dc:title>Зимушка – зима.</dc:title>
</cp:coreProperties>
</file>