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34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FE6C-470D-46A9-8A34-BDFEF84E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75B8A-A3AE-417A-B60D-D6B3ABE4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72E89-077B-4D66-BA53-DCE708A3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96848-B388-431A-A22F-78909A58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8DF7-6DD7-458F-94E6-1BF06378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0692-BEAF-40A5-B47A-67BDC4E9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FBF7-A8D8-4565-8DCD-5E21C0BB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48B1-ED51-4DF9-8025-934B0BB2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5EE0-AE06-4BBE-8D03-5EFE0EE4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5EED-1FF8-464B-890F-0A91BFE5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ADE1-45ED-4C58-B7E2-5FB9AAAC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E933-336A-40BE-BA57-BE037AF4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D7DE-3CCC-4CCA-8A58-41402922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807C-6598-483F-AC8E-B1794962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AFD0-F0B2-4895-A026-F6F4427E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F5C5-60DA-4825-87D7-D6DCE7CF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AFF8-B16C-4CCC-B3A2-575DD70D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1F19-6A4B-467B-9C02-2CC417E8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E27B7-E591-4B8C-962A-BE1406B8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CEFC-8A3F-4DDB-A742-02D038E2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BECF9-52F5-4049-82B2-3D4ED7D6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75DEA-AC6E-45E4-9684-D441FAF3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7500B-B622-4C1F-A517-361FF65A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23E54-1941-45FC-93B5-D07F90BD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B7BB-43E3-4474-B9B8-BE5A46ACE00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6021-DA6A-4957-94D8-6AF84585E06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Palatino Linotype"/>
              </a:rPr>
              <a:t>Детство будущей императри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131640" y="1341360"/>
            <a:ext cx="4038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Фикке была доброй, терпеливой, любознательной учениц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288756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092320" cy="2736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2654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Palatino Linotype"/>
              </a:rPr>
              <a:t>Свадьба Екатерины </a:t>
            </a:r>
            <a:r>
              <a:rPr b="0" lang="en-US" sz="4000" spc="-1" strike="noStrike">
                <a:solidFill>
                  <a:srgbClr val="ffffcc"/>
                </a:solidFill>
                <a:latin typeface="Palatino Linotype"/>
              </a:rPr>
              <a:t>II</a:t>
            </a:r>
            <a:r>
              <a:rPr b="0" lang="ru-RU" sz="4000" spc="-1" strike="noStrike">
                <a:solidFill>
                  <a:srgbClr val="ffffcc"/>
                </a:solidFill>
                <a:latin typeface="Palatino Linotype"/>
              </a:rPr>
              <a:t> и Петра </a:t>
            </a:r>
            <a:r>
              <a:rPr b="0" lang="en-US" sz="4000" spc="-1" strike="noStrike">
                <a:solidFill>
                  <a:srgbClr val="ffffcc"/>
                </a:solidFill>
                <a:latin typeface="Palatino Linotype"/>
              </a:rPr>
              <a:t>I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23640" y="1268280"/>
            <a:ext cx="40388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вадебный кортеж состоял из 120 кар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1770120" cy="2189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40000" y="5516640"/>
            <a:ext cx="41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21 августа 1745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594240" cy="4681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427640" y="692280"/>
            <a:ext cx="3879720" cy="4681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26920" y="692280"/>
            <a:ext cx="7417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78 0.15213 C 0.10382 0.15491 0.10503 0.15768 0.1059 0.16046 C 0.10712 0.16462 0.10903 0.17317 0.10903 0.17317 C 0.11163 0.19699 0.11823 0.2178 0.12344 0.24092 C 0.12656 0.27445 0.13073 0.31052 0.13924 0.34242 C 0.1434 0.35815 0.14271 0.35699 0.14566 0.37618 C 0.14635 0.38057 0.14878 0.3889 0.14878 0.3889 C 0.15069 0.42358 0.15191 0.4578 0.15347 0.49248 C 0.15399 0.50381 0.15469 0.50959 0.16146 0.5156 C 0.17517 0.51329 0.18351 0.50751 0.19635 0.50312 C 0.20226 0.4978 0.20712 0.49479 0.21389 0.49248 C 0.21719 0.48901 0.22014 0.48508 0.22344 0.48185 C 0.22795 0.47722 0.2342 0.47514 0.23767 0.46913 C 0.24462 0.45664 0.25226 0.44508 0.2599 0.43329 C 0.26701 0.42242 0.27135 0.40901 0.27726 0.39722 C 0.27812 0.3956 0.27951 0.39468 0.28056 0.39306 C 0.28229 0.39052 0.28385 0.38774 0.28524 0.38474 C 0.28646 0.38196 0.2875 0.37919 0.28837 0.37618 C 0.28906 0.3741 0.28924 0.37179 0.2901 0.36994 C 0.29653 0.35606 0.28993 0.37872 0.29635 0.35722 C 0.29983 0.34566 0.30121 0.33641 0.3059 0.32554 C 0.31528 0.30381 0.32517 0.28416 0.33611 0.26404 C 0.34583 0.24624 0.35399 0.22751 0.36302 0.20924 C 0.3658 0.20346 0.37049 0.20069 0.37413 0.19653 C 0.38021 0.18959 0.38246 0.18497 0.3901 0.18173 C 0.39757 0.18659 0.40243 0.19398 0.40903 0.20069 C 0.41337 0.20994 0.41753 0.21849 0.42344 0.22612 C 0.4276 0.24023 0.43455 0.25757 0.44392 0.26635 C 0.44444 0.26843 0.44479 0.27075 0.44566 0.2726 C 0.44705 0.2756 0.44913 0.27791 0.45035 0.28115 C 0.45417 0.29133 0.45521 0.30289 0.4599 0.31283 C 0.46163 0.32254 0.46406 0.33317 0.46944 0.34034 C 0.47674 0.36485 0.47361 0.35445 0.47899 0.37202 C 0.48073 0.3778 0.48524 0.3889 0.48524 0.3889 C 0.48681 0.39976 0.49028 0.40924 0.49479 0.41849 C 0.49653 0.43422 0.49722 0.44485 0.5059 0.45641 C 0.50903 0.46959 0.51458 0.47283 0.52344 0.47976 C 0.52847 0.49364 0.5349 0.50057 0.54566 0.5052 C 0.55486 0.51445 0.56771 0.51514 0.57899 0.52 C 0.59635 0.51768 0.59792 0.51791 0.60903 0.5008 C 0.61267 0.49502 0.62014 0.48393 0.62014 0.48393 C 0.62431 0.47098 0.63003 0.45965 0.63611 0.44809 C 0.64028 0.44023 0.64097 0.43306 0.64392 0.42474 C 0.65087 0.40508 0.65642 0.38705 0.66302 0.36763 C 0.66753 0.35445 0.67118 0.34057 0.67569 0.32763 C 0.67812 0.32046 0.68368 0.30635 0.68368 0.30635 C 0.68733 0.28208 0.68264 0.30705 0.68837 0.28948 C 0.69392 0.2726 0.69809 0.25433 0.7059 0.23884 C 0.71076 0.21849 0.72344 0.19699 0.73611 0.18381 C 0.7408 0.17896 0.74601 0.17479 0.75035 0.16901 C 0.75243 0.16624 0.75417 0.16277 0.75677 0.16046 C 0.76233 0.1556 0.76806 0.15167 0.77413 0.14797 C 0.77726 0.14612 0.78368 0.14358 0.78368 0.14358 C 0.80156 0.14497 0.80868 0.14265 0.8217 0.15422 C 0.83073 0.17156 0.83281 0.18982 0.83767 0.20924 C 0.83837 0.21225 0.83993 0.21456 0.8408 0.21757 C 0.84271 0.2245 0.8441 0.23167 0.84566 0.23884 C 0.84687 0.26057 0.84722 0.3052 0.85677 0.32323 C 0.8599 0.33572 0.8625 0.34335 0.87101 0.35075 C 0.87621 0.36161 0.87118 0.35422 0.87899 0.3593 C 0.88073 0.36046 0.88368 0.36346 0.88368 0.36346 E">
                                      <p:cBhvr>
                                        <p:cTn id="347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28 июня 1762 год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76360" y="1483920"/>
            <a:ext cx="562284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Граф Алексей Орлов – один из главных  участников за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Жалованная грамота на титул графа</a:t>
            </a: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,</a:t>
            </a:r>
            <a:r>
              <a:rPr b="0" lang="ru-RU" sz="2400" spc="-1" strike="noStrike">
                <a:solidFill>
                  <a:srgbClr val="ffffcc"/>
                </a:solidFill>
                <a:latin typeface="Palatino Linotype"/>
              </a:rPr>
              <a:t> дарованная Екатериной </a:t>
            </a: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I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138480" cy="4824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2592360" cy="2535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332000" y="1268280"/>
            <a:ext cx="662472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6360" y="692280"/>
            <a:ext cx="36212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Monotype Corsiva"/>
              </a:rPr>
              <a:t>«Переворот, который только что совершился на мою пользу, похож на чудо. Прямо невероятно единодушие, с каким все произошло.»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из письма Екатерины 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своему другу Станиславу Понятовскому.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43275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Palatino Linotype"/>
              </a:rPr>
              <a:t>Коронация Екатерины </a:t>
            </a:r>
            <a:r>
              <a:rPr b="0" lang="en-US" sz="4200" spc="-1" strike="noStrike">
                <a:solidFill>
                  <a:srgbClr val="ffffcc"/>
                </a:solidFill>
                <a:latin typeface="Palatino Linotype"/>
              </a:rPr>
              <a:t>I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3529080" cy="4176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3609720" cy="446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788000" y="981000"/>
            <a:ext cx="3206520" cy="4464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979640" y="5516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22 сентября 1762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427640" y="981000"/>
            <a:ext cx="3752640" cy="4392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900000" y="981000"/>
            <a:ext cx="3079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9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Медаль в память о коронации.</a:t>
            </a:r>
            <a:br>
              <a:rPr sz="3200"/>
            </a:br>
            <a:br>
              <a:rPr sz="1600"/>
            </a:b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Медаль в честь императрицы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473720" cy="5832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556000" y="260280"/>
            <a:ext cx="4038480" cy="1833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484360" y="3645000"/>
            <a:ext cx="403884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alatino Linotype"/>
              </a:rPr>
              <a:t>2. Просветительская деятельность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56000" y="277920"/>
            <a:ext cx="6130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Palatino Linotype"/>
              </a:rPr>
              <a:t>Екатерина </a:t>
            </a:r>
            <a:r>
              <a:rPr b="0" lang="en-US" sz="4200" spc="-1" strike="noStrike">
                <a:solidFill>
                  <a:srgbClr val="ffffcc"/>
                </a:solidFill>
                <a:latin typeface="Palatino Linotype"/>
              </a:rPr>
              <a:t>II</a:t>
            </a:r>
            <a:r>
              <a:rPr b="0" lang="ru-RU" sz="4200" spc="-1" strike="noStrike">
                <a:solidFill>
                  <a:srgbClr val="ffffcc"/>
                </a:solidFill>
                <a:latin typeface="Palatino Linotype"/>
              </a:rPr>
              <a:t> - Дидр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340000" y="105228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276640" cy="3529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484360" y="1484280"/>
            <a:ext cx="372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«Я слишком страдаю от мигрени, а она чересчур тяжело протекает в этой стране, и я предпочитаю, чтобы голова моя болела, но была в безопасности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Петербург, [1764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21607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4040"/>
                            </p:stCondLst>
                            <p:childTnLst>
                              <p:par>
                                <p:cTn id="5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80"/>
                            </p:stCondLst>
                            <p:childTnLst>
                              <p:par>
                                <p:cTn id="5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Palatino Linotype"/>
              </a:rPr>
              <a:t>Вольтер - Екатерине </a:t>
            </a: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II</a:t>
            </a:r>
            <a:r>
              <a:rPr b="0" lang="ru-RU" sz="3800" spc="-1" strike="noStrike">
                <a:solidFill>
                  <a:srgbClr val="ffffcc"/>
                </a:solidFill>
                <a:latin typeface="Palatino Linotype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92360" y="1341360"/>
            <a:ext cx="6192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О небо, меня лишающее зрения и слух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Верни мне их, и я отправлюся тотчас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Сколь счастлив тот, что видит ваши чар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Екатерина, и кто может слышать вас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Любезной быть и править – ваш талан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Особенно мне дорог из них первы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Умом своим вы мудреца сразил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Monotype Corsiva"/>
              </a:rPr>
              <a:t>Увидев вас, я ум бы потеря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280"/>
                            </p:stCondLst>
                            <p:childTnLst>
                              <p:par>
                                <p:cTn id="5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520"/>
                            </p:stCondLst>
                            <p:childTnLst>
                              <p:par>
                                <p:cTn id="5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920"/>
                            </p:stCondLst>
                            <p:childTnLst>
                              <p:par>
                                <p:cTn id="5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160"/>
                            </p:stCondLst>
                            <p:childTnLst>
                              <p:par>
                                <p:cTn id="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744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8600"/>
                            </p:stCondLst>
                            <p:childTnLst>
                              <p:par>
                                <p:cTn id="6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968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56000" y="277920"/>
            <a:ext cx="6130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Palatino Linotype"/>
              </a:rPr>
              <a:t>Екатерина </a:t>
            </a:r>
            <a:r>
              <a:rPr b="0" lang="en-US" sz="4200" spc="-1" strike="noStrike">
                <a:solidFill>
                  <a:srgbClr val="ffffcc"/>
                </a:solidFill>
                <a:latin typeface="Palatino Linotype"/>
              </a:rPr>
              <a:t>II</a:t>
            </a:r>
            <a:r>
              <a:rPr b="0" lang="ru-RU" sz="4200" spc="-1" strike="noStrike">
                <a:solidFill>
                  <a:srgbClr val="ffffcc"/>
                </a:solidFill>
                <a:latin typeface="Palatino Linotype"/>
              </a:rPr>
              <a:t> - Вольтеру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340000" y="105228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Monotype Corsiva"/>
              </a:rPr>
              <a:t>«Милостивый государь, хотя на этот раз я не могу сообщить вам, в ответ на ваше письмо от 11-го августа, каких бы то ни было военных событий, но надеюсь не помешать вашему выздоровлению, сказав вам, что после взятия Измаила, буржакские и белгородские татары отделились от Порты. Теперь я не посмею спросить вас, довольны ли вы, так как, какую бы вы ни питали ко мне дружбу. Сохраните мне, пожалуйста, вашу дружбу и будьте уверены, что я ее очень ценю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Palatino Linotype"/>
              </a:rPr>
              <a:t>Петербург, 31 августа —11 сентября [177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276640" cy="3529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443640" y="2924280"/>
            <a:ext cx="19573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4040"/>
                            </p:stCondLst>
                            <p:childTnLst>
                              <p:par>
                                <p:cTn id="6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908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9120"/>
                            </p:stCondLst>
                            <p:childTnLst>
                              <p:par>
                                <p:cTn id="6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305080" cy="38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732720" y="333360"/>
            <a:ext cx="2068560" cy="388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484360" y="333360"/>
            <a:ext cx="4248360" cy="3887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55640" y="4508640"/>
            <a:ext cx="76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Золотой век Екатерины 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время правления 1762-179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3573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Palatino Linotype"/>
              </a:rPr>
              <a:t>ТЕМА УРО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88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«ПРОСВЕЩЕННЫЙ АБСОЛЮТИЗМ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9640" y="1599840"/>
            <a:ext cx="7559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-  использование отдельных положений просветительской идеологии для укрепления феодального стро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-  понимание равенства и свободы как укрепления прав и привилегий дворя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000"/>
                            </p:stCondLst>
                            <p:childTnLst>
                              <p:par>
                                <p:cTn id="6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latino Linotype"/>
              </a:rPr>
              <a:t>3. Изменения в государственном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Palatino Linotype"/>
              </a:rPr>
              <a:t>управлен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Palatino Linotype"/>
              </a:rPr>
              <a:t>Петр </a:t>
            </a:r>
            <a:r>
              <a:rPr b="0" lang="en-US" sz="5700" spc="-1" strike="noStrike">
                <a:solidFill>
                  <a:srgbClr val="ffffcc"/>
                </a:solidFill>
                <a:latin typeface="Palatino Linotype"/>
              </a:rPr>
              <a:t>I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Боярская дума – Сенат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Приказы – Коллегии (11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8 губерний, которые делились на 50 провинц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800"/>
                            </p:stCondLst>
                            <p:childTnLst>
                              <p:par>
                                <p:cTn id="6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680"/>
                            </p:stCondLst>
                            <p:childTnLst>
                              <p:par>
                                <p:cTn id="7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latino Linotype"/>
              </a:rPr>
              <a:t>Эпоха дворцовых переворот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10920" y="1413000"/>
            <a:ext cx="40388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Сенат – Верховный тайный совет, кабинет 3 минист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2001600" cy="2881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003640" y="3716280"/>
            <a:ext cx="1609920" cy="2448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804000" y="1268280"/>
            <a:ext cx="190332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84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79280" y="1125000"/>
            <a:ext cx="51116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Palatino Linotype"/>
              </a:rPr>
              <a:t>Екатерина </a:t>
            </a:r>
            <a:r>
              <a:rPr b="0" lang="en-US" sz="5400" spc="-1" strike="noStrike">
                <a:solidFill>
                  <a:srgbClr val="ffffcc"/>
                </a:solidFill>
                <a:latin typeface="Palatino Linotype"/>
              </a:rPr>
              <a:t>I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76360" y="2707920"/>
            <a:ext cx="712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Кабинет 3 министров – Сена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Ликвидирован ряд коллег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50 губер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164360" y="692280"/>
            <a:ext cx="158580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3000"/>
                            </p:stCondLst>
                            <p:childTnLst>
                              <p:par>
                                <p:cTn id="7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4. Жалованные грамоты 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дворянству и городам 1785 г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2124000" cy="266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665440" cy="1944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156360" y="189000"/>
            <a:ext cx="2519280" cy="194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6372360" y="3284640"/>
            <a:ext cx="2244600" cy="2736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3419640" y="147600"/>
            <a:ext cx="2449440" cy="1986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3419640" y="3284640"/>
            <a:ext cx="2447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0"/>
                            </p:stCondLst>
                            <p:childTnLst>
                              <p:par>
                                <p:cTn id="78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7000"/>
                            </p:stCondLst>
                            <p:childTnLst>
                              <p:par>
                                <p:cTn id="7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0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000"/>
                            </p:stCondLst>
                            <p:childTnLst>
                              <p:par>
                                <p:cTn id="8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0"/>
                            </p:stCondLst>
                            <p:childTnLst>
                              <p:par>
                                <p:cTn id="82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0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alatino Linotype"/>
              </a:rPr>
              <a:t>Освобождение дворян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84000" y="1557000"/>
            <a:ext cx="40388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- от обязательной служб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- от пода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- от телесных наказ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403884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О личных преимуществах дворян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765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-е. 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ворянское название есть следствие, исключающее от качества  и добродетели начальствуюших в древности мужей, отличивших себя заслугами, чем обращая самую службу в достоин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8-е.  Без суда да не лишится благородный дворянского достоинств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2-е. Да не судится благородный, окроме своими равным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5-е. Телесное наказание да не коснется до благородного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7-е. Подтверждаем на вечные времена в потомственные роды российскому благородному дворянству вольность и свободу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6-е. Благородным подтверждается право покупать дерев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7320"/>
                            </p:stCondLst>
                            <p:childTnLst>
                              <p:par>
                                <p:cTn id="8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9600"/>
                            </p:stCondLst>
                            <p:childTnLst>
                              <p:par>
                                <p:cTn id="8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1560"/>
                            </p:stCondLst>
                            <p:childTnLst>
                              <p:par>
                                <p:cTn id="8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3560"/>
                            </p:stCondLst>
                            <p:childTnLst>
                              <p:par>
                                <p:cTn id="8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7640"/>
                            </p:stCondLst>
                            <p:childTnLst>
                              <p:par>
                                <p:cTn id="9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8" dur="8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653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7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подтверждается право оптом продавать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что у них в деревнях родится, или рукоделием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оизводи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8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дозволяется иметь фабрики и заводы по   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еревн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9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дозволяется в вотчинах их заводить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местечки и в оных торги и ярмонк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3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дтверждается благородным право собственности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арованное милостивым указом от 28 июня 1782 года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не только на поверхности земли, каждому из них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инадлежащей, но и в недрах той земли и в водах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ему принадлежащих, на все сокровенные минералы и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оизрастения, и на все из того делаемые металлы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5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 деревням помещичий дом имеет быть свободен от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сто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6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й самолично изъемлется от личных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да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40"/>
                            </p:stCondLst>
                            <p:childTnLst>
                              <p:par>
                                <p:cTn id="9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360"/>
                            </p:stCondLst>
                            <p:childTnLst>
                              <p:par>
                                <p:cTn id="9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9360"/>
                            </p:stCondLst>
                            <p:childTnLst>
                              <p:par>
                                <p:cTn id="9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8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9600"/>
                            </p:stCondLst>
                            <p:childTnLst>
                              <p:par>
                                <p:cTn id="9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8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1760"/>
                            </p:stCondLst>
                            <p:childTnLst>
                              <p:par>
                                <p:cTn id="9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8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О личных преимуществах дворян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765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-е. 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ворянское название есть следствие, исключающее от качества  и добродетели начальствуюших в древности мужей, отличивших себя заслугами, чем обращая самую службу в достоин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8-е.  Без суда да не лишится благородный дворянского достоинств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2-е. Да не судится благородный, окроме своими равным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5-е. Телесное наказание да не коснется до благородного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17-е. Подтверждаем на вечные времена в потомственные роды российскому благородному дворянству вольность и свободу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6-е. Благородным подтверждается право покупать дерев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8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8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8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0" dur="8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8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896000" cy="583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700360" y="555480"/>
            <a:ext cx="424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План урока: Золотой век Екатерины I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Личность Екатерины 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Просветительская деятельность.</a:t>
            </a: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Изменения в государственном управле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Жалованные грамоты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дворянству и городам 1785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Указы Екатерины </a:t>
            </a:r>
            <a:r>
              <a:rPr b="1" lang="en-US" sz="2000" spc="-1" strike="noStrike">
                <a:solidFill>
                  <a:srgbClr val="800000"/>
                </a:solidFill>
                <a:latin typeface="Palatino Linotype"/>
              </a:rPr>
              <a:t>II</a:t>
            </a: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 о закрепощении крестья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Palatino Linotype"/>
              </a:rPr>
              <a:t>Заключ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84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4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2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2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8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6532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7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подтверждается право оптом продавать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что у них в деревнях родится, или рукоделием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оизводи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8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дозволяется иметь фабрики и заводы по   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еревн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29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м дозволяется в вотчинах их заводить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местечки и в оных торги и ярмонки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3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дтверждается благородным право собственности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дарованное милостивым указом от 28 июня 1782 года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не только на поверхности земли, каждому из них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инадлежащей, но и в недрах той земли и в водах,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ему принадлежащих, на все сокровенные минералы и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роизрастения, и на все из того делаемые металлы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5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 деревням помещичий дом имеет быть свободен от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сто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36-е.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Благородный самолично изъемлется от личных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ода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9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0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Palatino Linotype"/>
              </a:rPr>
              <a:t>5. Указы Екатерины </a:t>
            </a:r>
            <a:r>
              <a:rPr b="1" lang="en-US" sz="4400" spc="-1" strike="noStrike">
                <a:solidFill>
                  <a:srgbClr val="ffffcc"/>
                </a:solidFill>
                <a:latin typeface="Palatino Linotype"/>
              </a:rPr>
              <a:t>II</a:t>
            </a:r>
            <a:r>
              <a:rPr b="1" lang="ru-RU" sz="4400" spc="-1" strike="noStrike">
                <a:solidFill>
                  <a:srgbClr val="ffffcc"/>
                </a:solidFill>
                <a:latin typeface="Palatino Linotype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Palatino Linotype"/>
              </a:rPr>
              <a:t>о закрепощении крестьян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771640" y="3068640"/>
            <a:ext cx="3013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00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6000" y="333000"/>
            <a:ext cx="6912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63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Указ об оплачивании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крестьянами расходов, связанные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с подавлением их выступ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64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Указ об отмене гетманства на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Укра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65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Указ о разрешении помещикам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ссылать своих крестьян без суда и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следствия на каторгу в Сибир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67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Указ о запрете крестьянам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подавать жалобы на своих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помещ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70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Генеральная опись нас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alatino Linotype"/>
              </a:rPr>
              <a:t>1783 г.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 Указ о запрете перехода 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Palatino Linotype"/>
              </a:rPr>
              <a:t>крестья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0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3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3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3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3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3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3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«Я хотела быть русской,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чтобы русские меня любили.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4087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840"/>
                            </p:stCondLst>
                            <p:childTnLst>
                              <p:par>
                                <p:cTn id="1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277920"/>
            <a:ext cx="237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Р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2686320" cy="3456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814480" cy="218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795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962 -0.00185 L -0.75625 -0.00185 E">
                                      <p:cBhvr>
                                        <p:cTn id="121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333360"/>
            <a:ext cx="3816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катерина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одолжательница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дей Петра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160360" cy="2737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79640" cy="2664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771640" y="3141720"/>
            <a:ext cx="30243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79640" y="1700280"/>
            <a:ext cx="5051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«ПЕТРУ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ПЕРВОМУ</a:t>
            </a: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 -  ЕКАТЕРИНА </a:t>
            </a: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ВТОРАЯ</a:t>
            </a:r>
            <a:r>
              <a:rPr b="0" lang="en-US" sz="3800" spc="-1" strike="noStrike">
                <a:solidFill>
                  <a:srgbClr val="ffffcc"/>
                </a:solidFill>
                <a:latin typeface="Palatino Linotype"/>
              </a:rPr>
              <a:t>.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24360" y="3500280"/>
            <a:ext cx="403848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Palatino Linotype"/>
              </a:rPr>
              <a:t>надпись на постаменте памятника рабо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Palatino Linotype"/>
              </a:rPr>
              <a:t>Э. Фалько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625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66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00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latino Linotype"/>
              </a:rPr>
              <a:t>1. Личность Екатерины II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594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32000" y="277920"/>
            <a:ext cx="237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Palatino Linotype"/>
              </a:rPr>
              <a:t>Семь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2664000" cy="3810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64000" y="836640"/>
            <a:ext cx="2781360" cy="3809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11280" y="4869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onotype Corsiva"/>
              </a:rPr>
              <a:t>Принцесса Иоганна-Елизавета Ангаль-Цербст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486900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Monotype Corsiva"/>
              </a:rPr>
              <a:t>Принц Христиан-Август Ангаль-Цербст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76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76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Екатерина II Алексеевна - императрица Всероссийска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08000" y="1557000"/>
            <a:ext cx="4397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Рожденная София-Фредерика-Амалия, принцесса Ангальт-Цербстск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Palatino Linotype"/>
              </a:rPr>
              <a:t>Родилась 21 апреля 1729 г. Она была дочерью младшего брата маленького немецкого "фюрста"; мать ее происходила из дома Гольштейн-Готторп и приходилась двоюродной теткой будущему Петру II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957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44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07:17:17Z</dcterms:created>
  <dc:creator>admin</dc:creator>
  <dc:description/>
  <dc:language>en-US</dc:language>
  <cp:lastModifiedBy>My</cp:lastModifiedBy>
  <dcterms:modified xsi:type="dcterms:W3CDTF">2010-10-28T18:05:40Z</dcterms:modified>
  <cp:revision>28</cp:revision>
  <dc:subject/>
  <dc:title>Слайд 1</dc:title>
</cp:coreProperties>
</file>