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6D5F-09FE-41E9-B001-908AC399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94E4-1B07-4B20-8117-F16395CA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2C6F-618C-4101-978B-2EEA91764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24AA-7585-40DA-B11E-358631CD8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5956-DFF0-4049-A671-D29E430B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CF50-3BC1-449A-B539-A18B0ED8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59CA-5BF6-424D-B2A3-4FEC8E63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3135-1611-4FAA-BC23-8D52E9D7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5576-646B-4184-BAD7-F850D004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E00E-78EA-474D-98EB-BDB8AF05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87D7-9772-487B-8AA9-8383B4BC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B00B-3E98-474A-ACFB-01FD8D64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00CA-5593-4B35-9258-FAA13BD9A1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SCN0711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85726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ИИ ГИГИЕНЫ И ОХРАНЫ ЗДОРОВЬЯ ДЕТЕЙ И ПОДРОСТ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9280" y="1989000"/>
            <a:ext cx="8715600" cy="34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.В.Чубар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ОЦИАЛЬНО-ПСИХОЛОГИЧЕСКИЕ АСПЕКТЫ ОХРАНЫ И УКРЕПЛЕНИЯ ЗДОРОВЬЯ ШКОЛЬ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МОСКВА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9144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УЧНЫЙ ЦЕНТР ЗДОРОВЬЯ ДЕТЕЙ РАМ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ЕДУЩИЕ МАКРОСОЦИАЛЬНЫЕ ФАКТОРЫ РИСКА ПСИХИЧЕСКОЙ ДЕЗАДАПТАЦИИ ПОДРОСТ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резкое расслоение общества по материальному признак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обнищание значительных социальных групп, в том числе отвечающих за охрану здоровья и формирование личности детей и подрост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тсутствие общепризнанных нравственно-этических общественных ценностей и противоречивые представления о социально одобряемых формах и способах психической адаптации формирующейся лич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распад общественных организаций, осуществлявших как педагогические функции, так и организацию свободного времени учащих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крайне негативного влияния средств массовой информации, пропагандирующих зачастую криминальные ценности, насилие, перверзные формы сексуального поведения, терпимого отношения к употреблению ряда психоактивных веществ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навязчивая реклама алкоголя, табакокур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развитие индустрии развлечений, в частности, широкое распространение игровых салонов, стимулирующих патологические формы зависимости от азартных игр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тсутствие эффективного медико-психологического контроля над преобразованиями в образовательной сфере, ведущих к резкому увеличению информационной нагрузки и  психоэмоциональному перенапряжени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егативные тенденции состояния психического здоровья части педагогов и увеличение значения дидактогений в психической дезадаптации учащих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FCC2-DF78-4F68-A7B7-2EA796CE0F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Ведущие микросоциальные факторы влияющие на психосоциальное благополучие  ребё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нутрисемейные –специфика воспитания, структура семьи, отношения родителей, алкоголизм родителей, материальное положение, наличие симблингов и проч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собенности школьной обучающей и формирующей личность среды – отношение ребёнка с педагогами, состояние здоровья преподавателей, ролевые отношения в формальной микрогруппе, успеваемость, соответствие интеллектуальной нагрузки психофизиологическим возможностям ребёнка, психологический климат в педагогическом коллективе,  наличие доминирующих ценностных ориентиров и п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собенности неформальной микрогруппы – организация свободного времени ребёнка, участие в неформальных подростковых группировках с признаками «автономной морали», ролевые функции ребёнка, чрезмерные интеллектуальные нагрузки и п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ЛИЧНОСТНЫЕ ОСОБЕННОСТИ РЕБЁ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стояние психического и физического здоровья ребён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собенности психотипа (преморбидные свойств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ровень психофизиологического развит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собенности высших психических (духовных) сиойств л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Распределение старших подростков -учащихся школы «Лукоморье» и обычных школ на группы здоровь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3"/>
          <p:cNvGraphicFramePr/>
          <p:nvPr/>
        </p:nvGraphicFramePr>
        <p:xfrm>
          <a:off x="1619280" y="1341360"/>
          <a:ext cx="6481800" cy="494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341360"/>
                    <a:ext cx="6481800" cy="49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9840" y="571320"/>
            <a:ext cx="828684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РАСПРОСТРАНЁННОСТЬ И СТРУКТУРА ПОГРАНИЧНЫХ ПСИХИЧЕСКИХ РАССТРОЙСТВ В ПОДРОСТКОВОМ КОНТИНГЕНТЕ УЧАЩИХСЯ ШКОЛЫ ЗДОРОВЬЯ В ЗАВИСИМОСТИ ОТ ПОЛА</a:t>
            </a:r>
            <a:br>
              <a:rPr sz="1800"/>
            </a:b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-617688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24000" y="1071720"/>
          <a:ext cx="8569080" cy="5322600"/>
        </p:xfrm>
        <a:graphic>
          <a:graphicData uri="http://schemas.openxmlformats.org/drawingml/2006/table">
            <a:tbl>
              <a:tblPr/>
              <a:tblGrid>
                <a:gridCol w="1979640"/>
                <a:gridCol w="433080"/>
                <a:gridCol w="435240"/>
                <a:gridCol w="434880"/>
                <a:gridCol w="433440"/>
                <a:gridCol w="434880"/>
                <a:gridCol w="652320"/>
                <a:gridCol w="650880"/>
                <a:gridCol w="522360"/>
                <a:gridCol w="503280"/>
                <a:gridCol w="504720"/>
                <a:gridCol w="503280"/>
                <a:gridCol w="576360"/>
                <a:gridCol w="504720"/>
              </a:tblGrid>
              <a:tr h="326880"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наруш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во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ьч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 gridSpan="14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ройства невротического 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тические реакции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i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3.2; </a:t>
                      </a:r>
                      <a:r>
                        <a:rPr b="1" i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1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73.3; </a:t>
                      </a:r>
                      <a:r>
                        <a:rPr b="1" i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1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5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,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,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зы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.0;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;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.8;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.21-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;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.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зоподобные состояния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.6;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-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.8;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.36-37;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.5;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.82;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;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2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 gridSpan="14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ройства лич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характерологические реакции 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.1;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патии </a:t>
                      </a:r>
                      <a:r>
                        <a:rPr b="1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-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патоподобные состояния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;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.4;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.5;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.6;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.1;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.9 -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Распространенность пограничной психических расстройств и расстройств поведения в школе здоровья «Лукоморье» и традиционных школах (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Object 3"/>
          <p:cNvGraphicFramePr/>
          <p:nvPr/>
        </p:nvGraphicFramePr>
        <p:xfrm>
          <a:off x="1601640" y="1522440"/>
          <a:ext cx="5796000" cy="465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1640" y="1522440"/>
                    <a:ext cx="5796000" cy="46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9840" y="571320"/>
            <a:ext cx="828684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РАСПРОСТРАНЁННОСТЬ И СТРУКТУРА АКЦЕНТУАЦИЙ ХАРАКТЕРА В ПОДРОСТКОВОМ КОНТИНГЕНТЕ УЧАЩИХСЯ ШКОЛЫ ЗДОРОВЬЯ В ЗАВИСИМОСТИ ОТ ПОЛА</a:t>
            </a:r>
            <a:br>
              <a:rPr sz="1800"/>
            </a:b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-617688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28760" y="1214280"/>
          <a:ext cx="8429400" cy="5438880"/>
        </p:xfrm>
        <a:graphic>
          <a:graphicData uri="http://schemas.openxmlformats.org/drawingml/2006/table">
            <a:tbl>
              <a:tblPr/>
              <a:tblGrid>
                <a:gridCol w="1743840"/>
                <a:gridCol w="537120"/>
                <a:gridCol w="537480"/>
                <a:gridCol w="480240"/>
                <a:gridCol w="469440"/>
                <a:gridCol w="470880"/>
                <a:gridCol w="537120"/>
                <a:gridCol w="537480"/>
                <a:gridCol w="465840"/>
                <a:gridCol w="464760"/>
                <a:gridCol w="537120"/>
                <a:gridCol w="537120"/>
                <a:gridCol w="466200"/>
                <a:gridCol w="523080"/>
                <a:gridCol w="125280"/>
              </a:tblGrid>
              <a:tr h="352440">
                <a:tc rowSpan="2">
                  <a:txBody>
                    <a:bodyPr lIns="44640" rIns="44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ы акценту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44640" rIns="44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во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4640" rIns="44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ьч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4640" rIns="44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устойчи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2,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форм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ертим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астениче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зоид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16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ероид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инирова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оционально-лабиль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клоид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ситив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28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,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 gridSpan="15"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аспространенность акцентуаций характера среди учащихся обычных школ, профессионального училища и школы здоровья «Лукоморье»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>
            <a:alphaModFix amt="99000"/>
          </a:blip>
          <a:stretch/>
        </p:blipFill>
        <p:spPr>
          <a:xfrm>
            <a:off x="1332000" y="1557360"/>
            <a:ext cx="648000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ШКОЛА, СОДЕЙСТВУЮЩАЯ УКРЕПЛЕНИЮ ЗДОРОВЬЯ: ОТ ДЕКЛАРАЦИИ ДО ДЕЙСТВИЙ И РЕЗУЛЬТАТОВ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НЦЕПЦИЯ (Кучма В.Р. – 200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СТРОЕНИЕ УЧЕБНОГО ПРОЦЕССА НА ПРИНЦИПАХ ВЗАИМОУВАЖЕНИЯ ПЕДАГОГОВ И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ОРМИРОВАНИЕ КУЛЬТУРЫ ЗДОРОВЬЯ ПЕДАГОГОВ И РОД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ВЕРШЕНСТВОВАНИЕ СОЦИАЛЬНОГО ПАРТНЁРСТВА В СИСТЕМЕ «ПЕДАГОГ-УЧАЩИЙСЯ-РОДИТЕЛ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42600" y="285840"/>
            <a:ext cx="80326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ывод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стояние психосоциального здоровья подрастающего поколения страны требует разработки и осуществления экстренных, комплексных, межотраслевых мероприятий по его укреплению на макросоциальном, микросоциальном и личностном уровн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едложенная и апробированная медико-психолого-педагогической модель  школы здоровья «Лукоморье» обеспечивает эффективную психопрофилактику в отношении пограничной психической патологии и гармоничного протекания пубертатного криз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еждисциплинарность проблем охраны психосоциального здоровья учащихся требует разработки и внедрения в программы подготовки специалистов медиков, педагогов, психологов, социологов расширенных разделов по особенностям проявления, профилактики и коррекции  различных форм психической дезадаптации детей и подрост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ПРЕДЕЛЕНИЕ ПОНЯТИЯ «ЗДОРОВЬ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«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Здоровье - это состояние полного физического, </a:t>
            </a:r>
            <a:r>
              <a:rPr b="0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духовного и социального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благополучия» -преамбула устава ВОЗ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Зеленый камень"/>
          <p:cNvPicPr/>
          <p:nvPr/>
        </p:nvPicPr>
        <p:blipFill>
          <a:blip r:embed="rId1"/>
          <a:stretch/>
        </p:blipFill>
        <p:spPr>
          <a:xfrm>
            <a:off x="0" y="0"/>
            <a:ext cx="19098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Зеленый камень"/>
          <p:cNvPicPr/>
          <p:nvPr/>
        </p:nvPicPr>
        <p:blipFill>
          <a:blip r:embed="rId2"/>
          <a:stretch/>
        </p:blipFill>
        <p:spPr>
          <a:xfrm>
            <a:off x="6948360" y="0"/>
            <a:ext cx="219564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DSCN0751"/>
          <p:cNvPicPr/>
          <p:nvPr/>
        </p:nvPicPr>
        <p:blipFill>
          <a:blip r:embed="rId3"/>
          <a:stretch/>
        </p:blipFill>
        <p:spPr>
          <a:xfrm>
            <a:off x="1909800" y="0"/>
            <a:ext cx="503568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WordArt 5"/>
          <p:cNvSpPr txBox="1"/>
          <p:nvPr/>
        </p:nvSpPr>
        <p:spPr>
          <a:xfrm>
            <a:off x="324000" y="3716280"/>
            <a:ext cx="8424720" cy="296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Спешите делать добр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150840"/>
            <a:ext cx="10896480" cy="8102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920" y="-459000"/>
            <a:ext cx="831672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INEQUALITIES IN YOUNG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PEOPLE`S YEALTH</a:t>
            </a:r>
            <a:br>
              <a:rPr sz="3600"/>
            </a:br>
            <a:r>
              <a:rPr b="0" lang="en-US" sz="3600" spc="-1" strike="noStrike">
                <a:solidFill>
                  <a:srgbClr val="0070c0"/>
                </a:solidFill>
                <a:latin typeface="Arial"/>
                <a:ea typeface="Times New Roman"/>
              </a:rPr>
              <a:t>Health Behaviour in School-Aged Children Study: WHO Collaborative </a:t>
            </a:r>
            <a:br>
              <a:rPr sz="3600"/>
            </a:br>
            <a:r>
              <a:rPr b="0" lang="en-US" sz="3600" spc="-1" strike="noStrike">
                <a:solidFill>
                  <a:srgbClr val="0070c0"/>
                </a:solidFill>
                <a:latin typeface="Arial"/>
                <a:ea typeface="Times New Roman"/>
              </a:rPr>
              <a:t>Cross-National Study</a:t>
            </a:r>
            <a:br>
              <a:rPr sz="3600"/>
            </a:b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International report from the 2005/2006 survey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Times New Roman"/>
              </a:rPr>
              <a:t>ЗДОРОВЬЕ И ПОВЕДЕНИЕ 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Times New Roman"/>
              </a:rPr>
              <a:t>ДЕТЕЙ ШКОЛЬНОГО ВОЗРАСТА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           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©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WHO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HBSC_IR_ Cover"/>
          <p:cNvPicPr/>
          <p:nvPr/>
        </p:nvPicPr>
        <p:blipFill>
          <a:blip r:embed="rId2"/>
          <a:stretch/>
        </p:blipFill>
        <p:spPr>
          <a:xfrm>
            <a:off x="971640" y="4941720"/>
            <a:ext cx="1373040" cy="1943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6516720" y="638172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www.hbsc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5BFD-6B04-43A9-93AC-7D0C0BC087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Число 11-летних школьников, 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котор</a:t>
            </a: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ых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запугивали по крайней мере 2 раза 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в течение последних месяцев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2"/>
          <p:cNvGraphicFramePr/>
          <p:nvPr/>
        </p:nvGraphicFramePr>
        <p:xfrm>
          <a:off x="279360" y="1555920"/>
          <a:ext cx="8699400" cy="46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60" y="1555920"/>
                    <a:ext cx="8699400" cy="46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Picture 4" descr="HBSC-logo"/>
          <p:cNvPicPr/>
          <p:nvPr/>
        </p:nvPicPr>
        <p:blipFill>
          <a:blip r:embed="rId3"/>
          <a:stretch/>
        </p:blipFill>
        <p:spPr>
          <a:xfrm>
            <a:off x="179280" y="5877000"/>
            <a:ext cx="571680" cy="7524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6372360" y="623736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www.hbsc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6156360" y="2157480"/>
            <a:ext cx="1079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 2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 2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886C-C495-4F32-A371-7033D2FC53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Число 15-летних школьников, 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которые употребляли гашиш 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в течение последних 30-ти дней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bject 2"/>
          <p:cNvGraphicFramePr/>
          <p:nvPr/>
        </p:nvGraphicFramePr>
        <p:xfrm>
          <a:off x="279360" y="1555920"/>
          <a:ext cx="8699400" cy="46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60" y="1555920"/>
                    <a:ext cx="8699400" cy="46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4" descr="HBSC-logo"/>
          <p:cNvPicPr/>
          <p:nvPr/>
        </p:nvPicPr>
        <p:blipFill>
          <a:blip r:embed="rId3"/>
          <a:stretch/>
        </p:blipFill>
        <p:spPr>
          <a:xfrm>
            <a:off x="179280" y="5877000"/>
            <a:ext cx="571680" cy="7524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6372360" y="623736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www.hbsc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4284720" y="2997360"/>
            <a:ext cx="1079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 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 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77CF-34A1-4CD1-9C65-1359CEA461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Число 11-летних школьников, вовлечённых в драки по крайней мере 3 раза 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в течение последних 12-ти месяцев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2"/>
          <p:cNvGraphicFramePr/>
          <p:nvPr/>
        </p:nvGraphicFramePr>
        <p:xfrm>
          <a:off x="279360" y="1555920"/>
          <a:ext cx="8699400" cy="46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60" y="1555920"/>
                    <a:ext cx="8699400" cy="46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" name="Picture 4" descr="HBSC-logo"/>
          <p:cNvPicPr/>
          <p:nvPr/>
        </p:nvPicPr>
        <p:blipFill>
          <a:blip r:embed="rId3"/>
          <a:stretch/>
        </p:blipFill>
        <p:spPr>
          <a:xfrm>
            <a:off x="179280" y="5877000"/>
            <a:ext cx="571680" cy="7524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6372360" y="623736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www.hbsc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724360" y="2084400"/>
            <a:ext cx="1079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 1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 3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2026-80F6-40C5-9DA5-54321E04C3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Число 15-летних школьников, 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у которых было сексуальное общение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2"/>
          <p:cNvGraphicFramePr/>
          <p:nvPr/>
        </p:nvGraphicFramePr>
        <p:xfrm>
          <a:off x="279360" y="1555920"/>
          <a:ext cx="8699400" cy="46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60" y="1555920"/>
                    <a:ext cx="8699400" cy="46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Picture 4" descr="HBSC-logo"/>
          <p:cNvPicPr/>
          <p:nvPr/>
        </p:nvPicPr>
        <p:blipFill>
          <a:blip r:embed="rId3"/>
          <a:stretch/>
        </p:blipFill>
        <p:spPr>
          <a:xfrm>
            <a:off x="179280" y="5877000"/>
            <a:ext cx="571680" cy="7524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6372360" y="623736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www.hbsc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227640" y="2133720"/>
            <a:ext cx="1079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 2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 4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28DB-034C-4B89-AE4E-56004B47C6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Число абортов в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07 г. – 1,4 млн. (10% - у подростк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2007 г. у 15-ти летних девочек состоялись 2.441 роды и 700 абор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logo"/>
          <p:cNvPicPr/>
          <p:nvPr/>
        </p:nvPicPr>
        <p:blipFill>
          <a:blip r:embed="rId1"/>
          <a:stretch/>
        </p:blipFill>
        <p:spPr>
          <a:xfrm>
            <a:off x="3564000" y="3645000"/>
            <a:ext cx="1886040" cy="12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6A22-85EC-491E-A64A-9B04F92220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Сферы определяющие состояние психического благополучия шко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акросоциа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икросоциа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ичностная – психобиологические св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7:28:20Z</dcterms:created>
  <dc:creator>Могильнер В.А.</dc:creator>
  <dc:description/>
  <dc:language>en-US</dc:language>
  <cp:lastModifiedBy>ZooM</cp:lastModifiedBy>
  <dcterms:modified xsi:type="dcterms:W3CDTF">2013-12-03T20:27:34Z</dcterms:modified>
  <cp:revision>85</cp:revision>
  <dc:subject/>
  <dc:title>Слайд 1</dc:title>
</cp:coreProperties>
</file>