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5.jpeg" ContentType="image/jpeg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6.gif" ContentType="image/gif"/>
  <Override PartName="/ppt/media/image28.jpeg" ContentType="image/jpeg"/>
  <Override PartName="/ppt/media/image15.gif" ContentType="image/gif"/>
  <Override PartName="/ppt/media/image14.gif" ContentType="image/gif"/>
  <Override PartName="/ppt/media/image29.jpeg" ContentType="image/jpeg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9.gif" ContentType="image/gif"/>
  <Override PartName="/ppt/media/image45.jpeg" ContentType="image/jpeg"/>
  <Override PartName="/ppt/media/image41.gif" ContentType="image/gif"/>
  <Override PartName="/ppt/media/image37.jpeg" ContentType="image/jpeg"/>
  <Override PartName="/ppt/media/image10.gif" ContentType="image/gif"/>
  <Override PartName="/ppt/media/image30.gif" ContentType="image/gif"/>
  <Override PartName="/ppt/media/image40.jpeg" ContentType="image/jpeg"/>
  <Override PartName="/ppt/media/image44.jpeg" ContentType="image/jpeg"/>
  <Override PartName="/ppt/media/image31.gif" ContentType="image/gif"/>
  <Override PartName="/ppt/media/image5.gif" ContentType="image/gif"/>
  <Override PartName="/ppt/media/image38.jpeg" ContentType="image/jpeg"/>
  <Override PartName="/ppt/media/image43.jpeg" ContentType="image/jpeg"/>
  <Override PartName="/ppt/media/image46.jpeg" ContentType="image/jpeg"/>
  <Override PartName="/ppt/media/image12.gif" ContentType="image/gif"/>
  <Override PartName="/ppt/media/image26.jpeg" ContentType="image/jpeg"/>
  <Override PartName="/ppt/media/image11.gif" ContentType="image/gif"/>
  <Override PartName="/ppt/media/image2.gif" ContentType="image/gif"/>
  <Override PartName="/ppt/media/image32.gif" ContentType="image/gif"/>
  <Override PartName="/ppt/media/image42.jpeg" ContentType="image/jpeg"/>
  <Override PartName="/ppt/media/image6.gif" ContentType="image/gif"/>
  <Override PartName="/ppt/media/image36.gif" ContentType="image/gif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35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2FF-4F74-4001-AB3C-1914970F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753-1997-4A57-92C2-9CC74D5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A27-A31A-4FA9-AAF3-6DDC0D84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046-773D-4402-ABFA-AC682D76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388-7A04-4632-A4ED-BB9D7B57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C61-3924-4C4D-AFEB-3A4B3051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262-994F-4B08-9E5F-F8D430FB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F17-AF9E-4BBF-95FE-AB74493B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18F-78F6-4302-AAA4-BBFA78E9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5DD-777E-470C-993B-254E4C98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E7B-16F6-4876-982D-F0E9127D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F16-8D67-4F60-B048-3F6CF55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1653-27FF-4BAA-AE4B-74B10D7AC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5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2.gif"/><Relationship Id="rId14" Type="http://schemas.openxmlformats.org/officeDocument/2006/relationships/image" Target="../media/image13.gif"/><Relationship Id="rId15" Type="http://schemas.openxmlformats.org/officeDocument/2006/relationships/image" Target="../media/image9.gi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8.gif"/><Relationship Id="rId21" Type="http://schemas.openxmlformats.org/officeDocument/2006/relationships/image" Target="../media/image19.gif"/><Relationship Id="rId22" Type="http://schemas.openxmlformats.org/officeDocument/2006/relationships/image" Target="../media/image20.gif"/><Relationship Id="rId23" Type="http://schemas.openxmlformats.org/officeDocument/2006/relationships/image" Target="../media/image21.gif"/><Relationship Id="rId24" Type="http://schemas.openxmlformats.org/officeDocument/2006/relationships/image" Target="../media/image14.gif"/><Relationship Id="rId25" Type="http://schemas.openxmlformats.org/officeDocument/2006/relationships/image" Target="../media/image9.gif"/><Relationship Id="rId26" Type="http://schemas.openxmlformats.org/officeDocument/2006/relationships/image" Target="../media/image8.gif"/><Relationship Id="rId27" Type="http://schemas.openxmlformats.org/officeDocument/2006/relationships/image" Target="../media/image10.gif"/><Relationship Id="rId28" Type="http://schemas.openxmlformats.org/officeDocument/2006/relationships/image" Target="../media/image12.gif"/><Relationship Id="rId29" Type="http://schemas.openxmlformats.org/officeDocument/2006/relationships/image" Target="../media/image22.png"/><Relationship Id="rId3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images.yandex.ru/search?p=1&amp;ed=1&amp;text=&#1074;&#1091;&#1083;&#1082;&#1072;&#1085;&amp;spsite=fake-009-134173.ru&amp;img_url=img-fotki.yandex.ru%2Fget%2F19%2Fmilaskalusenca.0%2F0_d316_2af1dc67_XL&amp;rpt=simage" TargetMode="External"/><Relationship Id="rId3" Type="http://schemas.openxmlformats.org/officeDocument/2006/relationships/hyperlink" Target="http://images.yandex.ru/search?p=13&amp;ed=1&amp;text=&#1074;&#1089;&#1077;&#1083;&#1077;&#1085;&#1085;&#1072;&#1103;&amp;spsite=fake-004-757803.ru&amp;img_url=img-fotki.yandex.ru%2Fget%2F51%2Ffov-rus.17%2F0_a6fd_a3804896_XL&amp;rpt=simage" TargetMode="External"/><Relationship Id="rId4" Type="http://schemas.openxmlformats.org/officeDocument/2006/relationships/hyperlink" Target="http://images.yandex.ru/search?p=2&amp;ed=1&amp;text=&#1087;&#1072;&#1088;&#1072;&#1076;%20&#1087;&#1083;&#1072;&#1085;&#1077;&#1090;&amp;spsite=fake-009-112679.ru&amp;img_url=s42.radikal.ru%2Fi098%2F0904%2F61%2F7c578b6f867f.jpg&amp;rpt=simage" TargetMode="External"/><Relationship Id="rId5" Type="http://schemas.openxmlformats.org/officeDocument/2006/relationships/hyperlink" Target="http://ru.wikipedia.org/wiki/&#1060;&#1072;&#1081;&#1083;:GodfreyKneller-IsaacNewton-1689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15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gif"/><Relationship Id="rId3" Type="http://schemas.openxmlformats.org/officeDocument/2006/relationships/image" Target="../media/image30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3960" cy="80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066680" y="0"/>
            <a:ext cx="800280" cy="8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514600" y="0"/>
            <a:ext cx="733320" cy="743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038480" y="0"/>
            <a:ext cx="819360" cy="78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638680" y="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7086600" y="0"/>
            <a:ext cx="876240" cy="762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8325000" y="0"/>
            <a:ext cx="819000" cy="78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 rot="430200">
            <a:off x="152280" y="335232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 rot="20911800">
            <a:off x="1066320" y="3276360"/>
            <a:ext cx="8766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 rot="20733000">
            <a:off x="1904760" y="3200400"/>
            <a:ext cx="8586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 rot="20755200">
            <a:off x="2742840" y="304812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 rot="20863200">
            <a:off x="3657600" y="289548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 rot="559800">
            <a:off x="4419720" y="2666880"/>
            <a:ext cx="91440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 rot="20936400">
            <a:off x="5181120" y="2666520"/>
            <a:ext cx="99072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 rot="585600">
            <a:off x="6019560" y="2666880"/>
            <a:ext cx="114300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 rot="21150600">
            <a:off x="7086600" y="2590920"/>
            <a:ext cx="990720" cy="131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4038480" y="487692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4724280" y="487692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5334120" y="487692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1"/>
          <a:stretch/>
        </p:blipFill>
        <p:spPr>
          <a:xfrm>
            <a:off x="289548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2"/>
          <a:stretch/>
        </p:blipFill>
        <p:spPr>
          <a:xfrm>
            <a:off x="342900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3"/>
          <a:stretch/>
        </p:blipFill>
        <p:spPr>
          <a:xfrm>
            <a:off x="388620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4"/>
          <a:stretch/>
        </p:blipFill>
        <p:spPr>
          <a:xfrm>
            <a:off x="434340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5"/>
          <a:stretch/>
        </p:blipFill>
        <p:spPr>
          <a:xfrm>
            <a:off x="4876920" y="5638680"/>
            <a:ext cx="571320" cy="47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6"/>
          <a:stretch/>
        </p:blipFill>
        <p:spPr>
          <a:xfrm>
            <a:off x="632448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7"/>
          <a:stretch/>
        </p:blipFill>
        <p:spPr>
          <a:xfrm>
            <a:off x="5410080" y="5638680"/>
            <a:ext cx="57168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8"/>
          <a:stretch/>
        </p:blipFill>
        <p:spPr>
          <a:xfrm>
            <a:off x="5867280" y="5638680"/>
            <a:ext cx="53352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9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581280" y="6248520"/>
            <a:ext cx="24386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 класса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37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Что такое плот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лотность- это физическая величина ,которая равна соотношению массы тела к его объ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лотность =  м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бъ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911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93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167652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20" y="625140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ланета «Снежной и Теплой королевы инер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дравствуй ,дорогой странник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приветствую тебя на своей 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1981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Кем впервые был сформулирован закон инер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Впервые «Закон Инерции» был сформулирован Галилео Галиле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13827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инер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2392560" cy="3124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28800" y="2867040"/>
            <a:ext cx="4206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нерция – это явление сохранения скорости тела при отсутствии действия на него других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то изображен на фо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саак Нью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141120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267080" y="213372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20" y="641844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дравствуй, дорогой житель планеты Земля. Мы приветствуем тебя на нашей планете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191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Всемирное тягот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2095560" cy="2514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52480" y="4800600"/>
            <a:ext cx="3124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Всемирное тяготение – это притяжение всех тел Вселенной друг к дру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акой инструмент изображен на фо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намо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2666880"/>
            <a:ext cx="24382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Что такое «Сила Упругост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ила возникающая в теле в результате его деформации и стремящаяся вернуть тело в исходное положение, называется силой упруг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20" y="641844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Ссылки на используемый матери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search?p=1&amp;ed=1&amp;text=%D0%B2%D1%83%D0%BB%D0%BA%D0%B0%D0%BD&amp;spsite=fake-009-134173.ru&amp;img_url=img-fotki.yandex.ru%2Fget%2F19%2Fmilaskalusenca.0%2F0_d316_2af1dc67_XL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search?p=13&amp;ed=1&amp;text=%D0%B2%D1%81%D0%B5%D0%BB%D0%B5%D0%BD%D0%BD%D0%B0%D1%8F&amp;spsite=fake-004-757803.ru&amp;img_url=img-fotki.yandex.ru%2Fget%2F51%2Ffov-rus.17%2F0_a6fd_a3804896_XL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ages.yandex.ru/search?p=2&amp;ed=1&amp;text=%D0%BF%D0%B0%D1%80%D0%B0%D0%B4%20%D0%BF%D0%BB%D0%B0%D0%BD%D0%B5%D1%82&amp;spsite=fake-009-112679.ru&amp;img_url=s42.radikal.ru%2Fi098%2F0904%2F61%2F7c578b6f867f.jpg&amp;rpt=s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u.wikipedia.org/wiki/Файл:GodfreyKneller-IsaacNewton-168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fantasyflash.ru/index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smiles.33b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а Викторин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ласс делится на 4 кома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апитан выбирает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На обсуждение команде даётся 1 мин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дин из членов команды отвечает на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Если команда не может ответить на вопрос, он достается следующей коман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За правильный ответ команда получает 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Команда  которая наберёт больше баллов победи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2166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74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езентацию подготовил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ученик 7 «Б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Ермилов Ник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13480" y="17128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28800" y="43434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ланета «Строение Вещест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99200" y="281952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ланета «Сильных ,Упругих и Тяжел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8520" y="5181480"/>
            <a:ext cx="54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Планета «Снежной и Теплой королевы инер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99280" y="762120"/>
            <a:ext cx="44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сылки на используемый 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280" y="32367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«Вселенная Физ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3286080" cy="4638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81280" y="144792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кой Великий физик изображен на фо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99888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3998880"/>
            <a:ext cx="55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льберт Эй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ем в русский язык было введено слово физ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русский язык слово «Физика» было введено Михаилом Юрьевичем Ломонос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ланета «Великих физико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то изображен на фо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ев Ланд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3502080" cy="4419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0" y="624852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 «Вселенной Физ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обро пожаловать на сказочную планету «Строение Вещест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2320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2136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581280" y="0"/>
            <a:ext cx="198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Диффуз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Явление, при котором происходит взаимное проникновение молекул одного вещества между молекулами ,называют диффуз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206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21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886200" y="0"/>
            <a:ext cx="1676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Что такое Де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еформация это любое изменение формы и размера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911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752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ита Ермилов</dc:creator>
  <dc:description/>
  <dc:language>en-US</dc:language>
  <cp:lastModifiedBy>User</cp:lastModifiedBy>
  <dcterms:modified xsi:type="dcterms:W3CDTF">2009-12-24T16:36:09Z</dcterms:modified>
  <cp:revision>11</cp:revision>
  <dc:subject>Физик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