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29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45.jpeg" ContentType="image/jpeg"/>
  <Override PartName="/ppt/media/image41.gif" ContentType="image/gif"/>
  <Override PartName="/ppt/media/image37.jpeg" ContentType="image/jpeg"/>
  <Override PartName="/ppt/media/image10.gif" ContentType="image/gif"/>
  <Override PartName="/ppt/media/image30.gif" ContentType="image/gif"/>
  <Override PartName="/ppt/media/image40.jpeg" ContentType="image/jpeg"/>
  <Override PartName="/ppt/media/image44.jpeg" ContentType="image/jpeg"/>
  <Override PartName="/ppt/media/image31.gif" ContentType="image/gif"/>
  <Override PartName="/ppt/media/image5.gif" ContentType="image/gif"/>
  <Override PartName="/ppt/media/image38.jpeg" ContentType="image/jpeg"/>
  <Override PartName="/ppt/media/image43.jpeg" ContentType="image/jpeg"/>
  <Override PartName="/ppt/media/image46.jpeg" ContentType="image/jpeg"/>
  <Override PartName="/ppt/media/image12.gif" ContentType="image/gif"/>
  <Override PartName="/ppt/media/image26.jpeg" ContentType="image/jpeg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media/image6.gif" ContentType="image/gif"/>
  <Override PartName="/ppt/media/image36.gif" ContentType="image/gif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35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7CA-B693-4940-8584-530A5ED3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DD6-1624-49D0-B40D-808E004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906-3D93-4736-BBEF-53019D1B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4D1-387E-478B-BA0A-DE29CA7A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8E9-E388-4861-B291-D400323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8DB-8F91-49B0-8661-7FED6682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68D-7047-4C78-B056-0F5B7AC6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186-0EF0-4364-99BF-FCE6971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1DE-F801-4D78-8ED6-3509AE3D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56D-70FE-42F9-956D-6CF2AF5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73D-C2D1-4E77-8F99-49BB88DD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656-7657-49AF-96CF-3692203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D5A-F117-407D-85D8-4BA464D49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9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8.gi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14.gif"/><Relationship Id="rId25" Type="http://schemas.openxmlformats.org/officeDocument/2006/relationships/image" Target="../media/image9.gif"/><Relationship Id="rId26" Type="http://schemas.openxmlformats.org/officeDocument/2006/relationships/image" Target="../media/image8.gif"/><Relationship Id="rId27" Type="http://schemas.openxmlformats.org/officeDocument/2006/relationships/image" Target="../media/image10.gif"/><Relationship Id="rId28" Type="http://schemas.openxmlformats.org/officeDocument/2006/relationships/image" Target="../media/image12.gif"/><Relationship Id="rId29" Type="http://schemas.openxmlformats.org/officeDocument/2006/relationships/image" Target="../media/image22.png"/><Relationship Id="rId3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images.yandex.ru/search?p=1&amp;ed=1&amp;text=&#1074;&#1091;&#1083;&#1082;&#1072;&#1085;&amp;spsite=fake-009-134173.ru&amp;img_url=img-fotki.yandex.ru%2Fget%2F19%2Fmilaskalusenca.0%2F0_d316_2af1dc67_XL&amp;rpt=simage" TargetMode="External"/><Relationship Id="rId3" Type="http://schemas.openxmlformats.org/officeDocument/2006/relationships/hyperlink" Target="http://images.yandex.ru/search?p=13&amp;ed=1&amp;text=&#1074;&#1089;&#1077;&#1083;&#1077;&#1085;&#1085;&#1072;&#1103;&amp;spsite=fake-004-757803.ru&amp;img_url=img-fotki.yandex.ru%2Fget%2F51%2Ffov-rus.17%2F0_a6fd_a3804896_XL&amp;rpt=simage" TargetMode="External"/><Relationship Id="rId4" Type="http://schemas.openxmlformats.org/officeDocument/2006/relationships/hyperlink" Target="http://images.yandex.ru/search?p=2&amp;ed=1&amp;text=&#1087;&#1072;&#1088;&#1072;&#1076;%20&#1087;&#1083;&#1072;&#1085;&#1077;&#1090;&amp;spsite=fake-009-112679.ru&amp;img_url=s42.radikal.ru%2Fi098%2F0904%2F61%2F7c578b6f867f.jpg&amp;rpt=simage" TargetMode="External"/><Relationship Id="rId5" Type="http://schemas.openxmlformats.org/officeDocument/2006/relationships/hyperlink" Target="http://ru.wikipedia.org/wiki/&#1060;&#1072;&#1081;&#1083;:GodfreyKneller-IsaacNewton-1689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5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gif"/><Relationship Id="rId3" Type="http://schemas.openxmlformats.org/officeDocument/2006/relationships/image" Target="../media/image30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066680" y="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73332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038480" y="0"/>
            <a:ext cx="819360" cy="7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638680" y="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7086600" y="0"/>
            <a:ext cx="87624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8325000" y="0"/>
            <a:ext cx="819000" cy="78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430200">
            <a:off x="152280" y="33523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 rot="20911800">
            <a:off x="1066320" y="3276360"/>
            <a:ext cx="876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20733000">
            <a:off x="1904760" y="3200400"/>
            <a:ext cx="858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 rot="20755200">
            <a:off x="2742840" y="30481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 rot="20863200">
            <a:off x="3657600" y="28954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 rot="559800">
            <a:off x="4419720" y="266688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 rot="20936400">
            <a:off x="5181120" y="26665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 rot="585600">
            <a:off x="6019560" y="266688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 rot="21150600">
            <a:off x="7086600" y="2590920"/>
            <a:ext cx="99072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40384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47242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5334120" y="487692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1"/>
          <a:stretch/>
        </p:blipFill>
        <p:spPr>
          <a:xfrm>
            <a:off x="2895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2"/>
          <a:stretch/>
        </p:blipFill>
        <p:spPr>
          <a:xfrm>
            <a:off x="34290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3"/>
          <a:stretch/>
        </p:blipFill>
        <p:spPr>
          <a:xfrm>
            <a:off x="38862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4"/>
          <a:stretch/>
        </p:blipFill>
        <p:spPr>
          <a:xfrm>
            <a:off x="43434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5"/>
          <a:stretch/>
        </p:blipFill>
        <p:spPr>
          <a:xfrm>
            <a:off x="4876920" y="56386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6"/>
          <a:stretch/>
        </p:blipFill>
        <p:spPr>
          <a:xfrm>
            <a:off x="6324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7"/>
          <a:stretch/>
        </p:blipFill>
        <p:spPr>
          <a:xfrm>
            <a:off x="54100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5867280" y="56386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9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581280" y="6248520"/>
            <a:ext cx="2438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пло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- это физическая величина ,которая равна соотношению массы тела к его объ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 = 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93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67652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20" y="62514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ланета «Снежной и Теплой королевы инер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дравствуй ,дорогой странни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приветствую тебя на сво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8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Кем впервые был сформулирован закон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Впервые «Закон Инерции» был сформулирован Галилео Гали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382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инер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392560" cy="312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800" y="2867040"/>
            <a:ext cx="420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нерция – это явление сохранения скорости тела при отсутствии действия на него других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са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411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дравствуй, дорогой житель планеты Земля. Мы приветствуем тебя на нашей планете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191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Всемирное тягот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52480" y="480060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Всемирное тяготение – это притяжение всех тел Вселенной друг к дру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акой инструмент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намо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438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«Сила Упругост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ила возникающая в теле в результате его деформации и стремящаяся вернуть тело в исходное положение, называется силой упру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сылки на используемый матери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search?p=1&amp;ed=1&amp;text=%D0%B2%D1%83%D0%BB%D0%BA%D0%B0%D0%BD&amp;spsite=fake-009-134173.ru&amp;img_url=img-fotki.yandex.ru%2Fget%2F19%2Fmilaskalusenca.0%2F0_d316_2af1dc67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search?p=13&amp;ed=1&amp;text=%D0%B2%D1%81%D0%B5%D0%BB%D0%B5%D0%BD%D0%BD%D0%B0%D1%8F&amp;spsite=fake-004-757803.ru&amp;img_url=img-fotki.yandex.ru%2Fget%2F51%2Ffov-rus.17%2F0_a6fd_a3804896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search?p=2&amp;ed=1&amp;text=%D0%BF%D0%B0%D1%80%D0%B0%D0%B4%20%D0%BF%D0%BB%D0%B0%D0%BD%D0%B5%D1%82&amp;spsite=fake-009-112679.ru&amp;img_url=s42.radikal.ru%2Fi098%2F0904%2F61%2F7c578b6f867f.jpg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Файл:GodfreyKneller-IsaacNewton-168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fantasyflash.ru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miles.33b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Викторин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ласс делится на 4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апитан выбирае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 обсуждение команде даётся 1 мин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ин из членов команды отвечает на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команда не может ответить на вопрос, он достается следующей коман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 правильный ответ команда получает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манда  которая наберёт больше баллов победи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21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ченик 7 «Б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Ермилов Ник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480" y="17128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8800" y="43434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ланета «Строение Веще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99200" y="281952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ланета «Сильных ,Упругих и Тяжел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8520" y="518148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анета «Снежной и Теплой королевы инер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9280" y="7621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сылки на используем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32367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«Вселенная Физ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3286080" cy="46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14479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ой Великий физик изображен на фо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9988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399888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льберт Эй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ем в русский язык было введено слово физ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русский язык слово «Физика» было введено Михаилом Юрьевичем Ломонос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в Ланд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3502080" cy="441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0" y="62485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бро пожаловать на сказочную планету «Строение Вещес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232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13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581280" y="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иффуз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вление, при котором происходит взаимное проникновение молекул одного вещества между молекулами ,называют диффу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06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1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86200" y="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е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еформация это любое изменение формы и размера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752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 Ермилов</dc:creator>
  <dc:description/>
  <dc:language>en-US</dc:language>
  <cp:lastModifiedBy>User</cp:lastModifiedBy>
  <dcterms:modified xsi:type="dcterms:W3CDTF">2009-12-24T16:36:09Z</dcterms:modified>
  <cp:revision>11</cp:revision>
  <dc:subject>Физик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