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6BC-FE7E-4420-B8F3-67064B4C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8F6-B5A3-4390-B7DC-5848CB02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233-A7C0-4931-A967-C84DD674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84D-1062-401A-9EDB-FB73FF86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199B5-CA50-4147-8550-F4D24B82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0A277-35DD-4CEF-8226-11D4724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A1001-FD8A-4C6E-A29B-4EFB0447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47631-7B4D-45A4-B1DF-55A22CBD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03900-5702-4B08-855F-70692864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98564-C927-49A4-A4D6-4A1222E9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79173-B9FC-4741-9C63-9B0C349A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097-596C-41CF-8D8C-787E06DE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3858B-06BA-4B0D-9985-D0574DA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E411-4F99-4F3F-B56F-8D47AA4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316BB-AD93-4975-82C7-E1901127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889E5-826A-4ADE-96C4-F5B999CE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12789-927A-470E-B483-3EFDE961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BC1-6E0E-45B6-AA1C-724155F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8DC-9718-4D1E-A6C5-C5B85BF9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3C7-BE93-444D-8D1D-BDF3E208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C38-1732-46EA-9845-5B2E3691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8F0-4AFA-45FA-BDBE-749B98B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0B7-6F9B-47D5-B8F6-017B205B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0FE-227E-465C-985E-866C89F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EC9A-84DB-413B-8E02-2F35F69382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710F-1D88-4602-8DCC-ED4DE3514B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85240" cy="172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учение радиоактивных           изотопов и их примен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j0301252"/>
          <p:cNvPicPr/>
          <p:nvPr/>
        </p:nvPicPr>
        <p:blipFill>
          <a:blip r:embed="rId1"/>
          <a:stretch/>
        </p:blipFill>
        <p:spPr>
          <a:xfrm>
            <a:off x="2486160" y="2911320"/>
            <a:ext cx="4032000" cy="28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диоактивные изотопы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в археологии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9647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ное применение для определения возраста древних предметов органического происхождения (дерева, древесного угля). Таким методом узнают возраст египетских мумий, остатков доисторических костров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50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диоактивные изотопы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в промышленности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4032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контроля износа поршневых колец в двигателях внутреннего сгорания. Позволяют судить диффузии металлов, процессах в доменных печ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j0187423"/>
          <p:cNvPicPr/>
          <p:nvPr/>
        </p:nvPicPr>
        <p:blipFill>
          <a:blip r:embed="rId1"/>
          <a:stretch/>
        </p:blipFill>
        <p:spPr>
          <a:xfrm>
            <a:off x="5796000" y="2421000"/>
            <a:ext cx="230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608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609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лементы, не существующие в природ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47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мощью ядерных реакций можно получить изотопы всех химических элементов. Были получены трансурановые элементы: америций, курий, берклий, капифоний и многие друг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j0305257"/>
          <p:cNvPicPr/>
          <p:nvPr/>
        </p:nvPicPr>
        <p:blipFill>
          <a:blip r:embed="rId1"/>
          <a:stretch/>
        </p:blipFill>
        <p:spPr>
          <a:xfrm>
            <a:off x="5796000" y="2349360"/>
            <a:ext cx="2808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8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38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Меченые атомы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«меченых атомов» стал одним из наиболее действен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при решении многочисленных пробл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и, физиологии, медицин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основан на том, что химические свойства радиоактивных изотопов не отличаются от свойств нерадиоактивных изотопов тех же 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диоактивные изотопы –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источники излучений.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2276640"/>
            <a:ext cx="40384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диоактивные изотопы широко применяются в науке, медицине и техн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j0299125"/>
          <p:cNvPicPr/>
          <p:nvPr/>
        </p:nvPicPr>
        <p:blipFill>
          <a:blip r:embed="rId1"/>
          <a:stretch/>
        </p:blipFill>
        <p:spPr>
          <a:xfrm>
            <a:off x="684360" y="2205000"/>
            <a:ext cx="3095640" cy="345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учение радиоактивных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изотопов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учают радиоактивные изотопы в атомных реакторах и на ускорителях элементарных частиц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менение радиоактивных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изотопов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68360" y="278136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оло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572000" y="98100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5"/>
          <p:cNvSpPr/>
          <p:nvPr/>
        </p:nvSpPr>
        <p:spPr>
          <a:xfrm>
            <a:off x="6300720" y="1052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7667640" y="981000"/>
            <a:ext cx="7308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50920" y="386064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ц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356000" y="2781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/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651640" y="3933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рхеоло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877080" y="234936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мыш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771640" y="1700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1116000" y="17002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диоактивные изотоп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в биологии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68680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им из наиболее выдающихся исследований, проведённых с помощь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меченых атомов», явилось исслед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мена веществ в организм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3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диоактивные изотоп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в медицине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1716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остановки диагноза, так и для терапевтических ц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диоактивный натрий используется для исследования кровообращ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Йод интенсивно отлагается в щитовид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е, особенно при базедовой боле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j0240719"/>
          <p:cNvPicPr/>
          <p:nvPr/>
        </p:nvPicPr>
        <p:blipFill>
          <a:blip r:embed="rId1"/>
          <a:stretch/>
        </p:blipFill>
        <p:spPr>
          <a:xfrm>
            <a:off x="5796000" y="2127240"/>
            <a:ext cx="2808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диоактивные изотопы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в сельском хозяйств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учение семян растений (хлопчатника, капусты, редиса). Радиация вызывает мутации у растений и микроорганизмов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j0233312"/>
          <p:cNvPicPr/>
          <p:nvPr/>
        </p:nvPicPr>
        <p:blipFill>
          <a:blip r:embed="rId1"/>
          <a:stretch/>
        </p:blipFill>
        <p:spPr>
          <a:xfrm>
            <a:off x="971640" y="2421000"/>
            <a:ext cx="2736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3:39:25Z</dcterms:created>
  <dc:creator>Света</dc:creator>
  <dc:description/>
  <dc:language>en-US</dc:language>
  <cp:lastModifiedBy>ZooM</cp:lastModifiedBy>
  <dcterms:modified xsi:type="dcterms:W3CDTF">2013-12-06T01:50:14Z</dcterms:modified>
  <cp:revision>5</cp:revision>
  <dc:subject/>
  <dc:title>   Получение радиоактивных           изотопов и их применение.</dc:title>
</cp:coreProperties>
</file>