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AFA-9804-4C59-A3EC-89393554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377-7DF5-4934-82C9-796EB8F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08D-1886-4C3F-9956-88C01ADA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5B0-471E-42B1-BB0A-E7FCAB9E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3A298-54C6-48ED-B018-6C6ECB21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7CF96-6927-41DD-A3C2-92ECFB1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1A7C6-3B8F-48A5-B07A-4CA447B5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2DB92-40F6-4715-AFB0-EA8DCB12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6F37C-E021-457A-AE2D-56086F17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A1180-C184-4D28-911F-D14DEA36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F01FA-64C9-4C90-892E-87C4A491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58E-E704-4526-9F57-2D17CE3B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1DF6B-D7DB-48D5-B89C-891A1B4C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CDC9B-50FF-42C0-9B12-B3200A1C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7068A-1404-4804-BA4E-5CC56CD3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220B9-50C7-42F8-96F5-61409B73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9FBA5-7FBD-4047-80B7-DB05AB8D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2A2-C6CA-45A1-8FC7-AB972D3C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8D7-7912-49D6-BAC5-DC9CEDD5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CDE-A4A4-409B-B5A2-D5466AFB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3AE-63E6-47A0-BE03-75A4E009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631-CFD1-4E5A-9F42-CF61F4F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9D5-3109-482E-A14F-DBA17AD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96C-5C41-40D1-9B48-96231715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90A9-900B-4B1E-B1E8-3BBA226BA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7999-582A-4AA7-A52A-D77E949223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85240" cy="172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учение радиоактивных           изотопов и их примен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j0301252"/>
          <p:cNvPicPr/>
          <p:nvPr/>
        </p:nvPicPr>
        <p:blipFill>
          <a:blip r:embed="rId1"/>
          <a:stretch/>
        </p:blipFill>
        <p:spPr>
          <a:xfrm>
            <a:off x="2486160" y="2911320"/>
            <a:ext cx="403200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диоактивные изотопы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в археологии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9647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е применение для определения возраста древних предметов органического происхождения (дерева, древесного угля). Таким методом узнают возраст египетских мумий, остатков доисторических костров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5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51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диоактивные изотопы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в промышленности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4032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контроля износа поршневых колец в двигателях внутреннего сгорания. Позволяют судить диффузии металлов, процессах в доменных печ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j0187423"/>
          <p:cNvPicPr/>
          <p:nvPr/>
        </p:nvPicPr>
        <p:blipFill>
          <a:blip r:embed="rId1"/>
          <a:stretch/>
        </p:blipFill>
        <p:spPr>
          <a:xfrm>
            <a:off x="5796000" y="2421000"/>
            <a:ext cx="230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09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10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лементы, не существующие в природ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47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мощью ядерных реакций можно получить изотопы всех химических элементов. Были получены трансурановые элементы: америций, курий, берклий, капифоний и многие друг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j0305257"/>
          <p:cNvPicPr/>
          <p:nvPr/>
        </p:nvPicPr>
        <p:blipFill>
          <a:blip r:embed="rId1"/>
          <a:stretch/>
        </p:blipFill>
        <p:spPr>
          <a:xfrm>
            <a:off x="5796000" y="2349360"/>
            <a:ext cx="2808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8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8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Меченые атомы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«меченых атомов» стал одним из наиболее действен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при решении многочисленных пробл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и, физиологии, медицин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основан на том, что химические свойства радиоактивных изотопов не отличаются от свойств нерадиоактивных изотопов тех же 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диоактивные изотопы –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источники излучений.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276640"/>
            <a:ext cx="40384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диоактивные изотопы широко применяются в науке, медицине и техн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j0299125"/>
          <p:cNvPicPr/>
          <p:nvPr/>
        </p:nvPicPr>
        <p:blipFill>
          <a:blip r:embed="rId1"/>
          <a:stretch/>
        </p:blipFill>
        <p:spPr>
          <a:xfrm>
            <a:off x="684360" y="2205000"/>
            <a:ext cx="3095640" cy="345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учение радиоактивных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изотопов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учают радиоактивные изотопы в атомных реакторах и на ускорителях элементарных частиц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менение радиоактивных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изотопов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68360" y="278136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оло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572000" y="98100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5"/>
          <p:cNvSpPr/>
          <p:nvPr/>
        </p:nvSpPr>
        <p:spPr>
          <a:xfrm>
            <a:off x="6300720" y="1052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7667640" y="981000"/>
            <a:ext cx="7308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50920" y="386064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ц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356000" y="2781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/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651640" y="3933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хеоло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877080" y="234936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мыш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771640" y="1700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1116000" y="17002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9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диоактивные изотоп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в биологии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68680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им из наиболее выдающихся исследований, проведённых с помощь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меченых атомов», явилось исслед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мена веществ в организм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диоактивные изотоп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в медицине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1716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остановки диагноза, так и для терапевтических ц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диоактивный натрий используется для исследования кровообращ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Йод интенсивно отлагается в щитови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е, особенно при базедовой боле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j0240719"/>
          <p:cNvPicPr/>
          <p:nvPr/>
        </p:nvPicPr>
        <p:blipFill>
          <a:blip r:embed="rId1"/>
          <a:stretch/>
        </p:blipFill>
        <p:spPr>
          <a:xfrm>
            <a:off x="5796000" y="2127240"/>
            <a:ext cx="2808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диоактивные изотопы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в сельском хозяйств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учение семян растений (хлопчатника, капусты, редиса). Радиация вызывает мутации у растений и микроорганизмов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j0233312"/>
          <p:cNvPicPr/>
          <p:nvPr/>
        </p:nvPicPr>
        <p:blipFill>
          <a:blip r:embed="rId1"/>
          <a:stretch/>
        </p:blipFill>
        <p:spPr>
          <a:xfrm>
            <a:off x="971640" y="2421000"/>
            <a:ext cx="2736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3:39:25Z</dcterms:created>
  <dc:creator>Света</dc:creator>
  <dc:description/>
  <dc:language>en-US</dc:language>
  <cp:lastModifiedBy>ZooM</cp:lastModifiedBy>
  <dcterms:modified xsi:type="dcterms:W3CDTF">2013-12-06T01:50:14Z</dcterms:modified>
  <cp:revision>5</cp:revision>
  <dc:subject/>
  <dc:title>   Получение радиоактивных           изотопов и их применение.</dc:title>
</cp:coreProperties>
</file>