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3C6-DA9D-4CF2-BD6C-EC6DCB92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CF4-ADF6-4A22-B786-6230E4E9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BA4-25F2-45C5-BEBB-17AAE933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A59-1388-4D4D-89AB-695310EC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EAE-092F-4BF8-A74E-F912F2E9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910-9F14-4F21-B946-3A935781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E52-65ED-44DC-9E1B-6CC2E216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245-9C32-40EB-B454-C979640A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B9E-9F5E-4666-9457-4C7ED0CA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1E8-72B8-4C21-BC87-C09967B9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300-2FC4-4081-B86F-9B66B274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014-F9F1-4EA1-A7D6-74DC3F29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8D1C-9184-4380-965F-140AFD40B1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</a:t>
            </a:r>
            <a:br>
              <a:rPr sz="4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омпланарные векторы. Правило параллелепипед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2349000"/>
            <a:ext cx="84250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Разложение вектора по трем некомпланарным векторам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зучить теорему о разложении вектора по трём некомпланарным вектор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аучиться применять полученные знания при решении зад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ектор       представлен в вид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, y, z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числа, то говорят, чт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ектор     разложен по векторам     ,     и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, y, z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оэффициентами разлож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3059280" y="1628640"/>
                <a:ext cx="433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2771640" y="2205000"/>
                <a:ext cx="2787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2050920" y="3284640"/>
                <a:ext cx="433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6516720" y="3284640"/>
                <a:ext cx="3348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7020000" y="3213000"/>
                <a:ext cx="368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7812000" y="3284640"/>
                <a:ext cx="335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1" name="TextBox 9"/>
          <p:cNvSpPr/>
          <p:nvPr/>
        </p:nvSpPr>
        <p:spPr>
          <a:xfrm>
            <a:off x="1619280" y="3333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Line 6"/>
          <p:cNvGrpSpPr/>
          <p:nvPr/>
        </p:nvGrpSpPr>
        <p:grpSpPr>
          <a:xfrm>
            <a:off x="171360" y="4237200"/>
            <a:ext cx="968400" cy="1639800"/>
            <a:chOff x="171360" y="4237200"/>
            <a:chExt cx="968400" cy="1639800"/>
          </a:xfrm>
        </p:grpSpPr>
        <p:pic>
          <p:nvPicPr>
            <p:cNvPr id="173" name="Line 6" descr=""/>
            <p:cNvPicPr/>
            <p:nvPr/>
          </p:nvPicPr>
          <p:blipFill>
            <a:blip r:embed="rId1"/>
            <a:stretch/>
          </p:blipFill>
          <p:spPr>
            <a:xfrm>
              <a:off x="171360" y="4237200"/>
              <a:ext cx="9684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 rot="9600000">
              <a:off x="1115280" y="585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27"/>
          <p:cNvSpPr/>
          <p:nvPr/>
        </p:nvSpPr>
        <p:spPr>
          <a:xfrm>
            <a:off x="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133200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41128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900000" y="587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11872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9"/>
          <p:cNvSpPr/>
          <p:nvPr/>
        </p:nvSpPr>
        <p:spPr>
          <a:xfrm>
            <a:off x="250920" y="18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оре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ой вектор можно разложить по трем данным некомпланарным векторам, причем коэффициенты разложения  определяются единственным обр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0"/>
          <p:cNvSpPr/>
          <p:nvPr/>
        </p:nvSpPr>
        <p:spPr>
          <a:xfrm>
            <a:off x="3351960" y="12682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4114800" y="3308400"/>
                <a:ext cx="914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6"/>
              <p:cNvSpPr txBox="1"/>
              <p:nvPr/>
            </p:nvSpPr>
            <p:spPr>
              <a:xfrm>
                <a:off x="468360" y="1773360"/>
                <a:ext cx="56084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Ïóñòü 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- некомпланарные векторы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898560" y="2492280"/>
                <a:ext cx="6157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окажем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что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Прямоугольник 40"/>
          <p:cNvSpPr/>
          <p:nvPr/>
        </p:nvSpPr>
        <p:spPr>
          <a:xfrm>
            <a:off x="3276720" y="321300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метим произвольную точку О и отлож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           ,               ,                  (2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3419640" y="3789360"/>
                <a:ext cx="1008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4643280" y="3789360"/>
                <a:ext cx="100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5867280" y="3789360"/>
                <a:ext cx="103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3"/>
              <p:cNvSpPr txBox="1"/>
              <p:nvPr/>
            </p:nvSpPr>
            <p:spPr>
              <a:xfrm>
                <a:off x="7093080" y="3789360"/>
                <a:ext cx="1060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8"/>
              <p:cNvSpPr txBox="1"/>
              <p:nvPr/>
            </p:nvSpPr>
            <p:spPr>
              <a:xfrm>
                <a:off x="3706920" y="4449600"/>
                <a:ext cx="532764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 правилу многоугольника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9"/>
              <p:cNvSpPr txBox="1"/>
              <p:nvPr/>
            </p:nvSpPr>
            <p:spPr>
              <a:xfrm>
                <a:off x="971640" y="4581360"/>
                <a:ext cx="287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2" name="Прямая соединительная линия 59"/>
          <p:cNvSpPr/>
          <p:nvPr/>
        </p:nvSpPr>
        <p:spPr>
          <a:xfrm flipV="1">
            <a:off x="1115280" y="4941720"/>
            <a:ext cx="863640" cy="9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60"/>
          <p:cNvSpPr/>
          <p:nvPr/>
        </p:nvSpPr>
        <p:spPr>
          <a:xfrm flipV="1">
            <a:off x="2699640" y="4797360"/>
            <a:ext cx="863640" cy="9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62"/>
          <p:cNvSpPr/>
          <p:nvPr/>
        </p:nvSpPr>
        <p:spPr>
          <a:xfrm flipV="1">
            <a:off x="1979640" y="4797000"/>
            <a:ext cx="158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Прямая со стрелкой 64"/>
          <p:cNvCxnSpPr>
            <a:stCxn id="178" idx="0"/>
          </p:cNvCxnSpPr>
          <p:nvPr/>
        </p:nvCxnSpPr>
        <p:spPr>
          <a:xfrm flipV="1">
            <a:off x="1116000" y="5299920"/>
            <a:ext cx="504000" cy="577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6" name="Прямая со стрелкой 66"/>
          <p:cNvCxnSpPr/>
          <p:nvPr/>
        </p:nvCxnSpPr>
        <p:spPr>
          <a:xfrm flipV="1">
            <a:off x="1116000" y="4149360"/>
            <a:ext cx="288000" cy="17280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97" name="Прямая со стрелкой 70"/>
          <p:cNvCxnSpPr/>
          <p:nvPr/>
        </p:nvCxnSpPr>
        <p:spPr>
          <a:xfrm flipH="1" flipV="1">
            <a:off x="1402920" y="4149000"/>
            <a:ext cx="1224720" cy="215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Прямая соединительная линия 71"/>
          <p:cNvSpPr/>
          <p:nvPr/>
        </p:nvSpPr>
        <p:spPr>
          <a:xfrm flipV="1">
            <a:off x="1116000" y="5732280"/>
            <a:ext cx="158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Прямая со стрелкой 75"/>
          <p:cNvCxnSpPr>
            <a:stCxn id="178" idx="0"/>
          </p:cNvCxnSpPr>
          <p:nvPr/>
        </p:nvCxnSpPr>
        <p:spPr>
          <a:xfrm flipV="1">
            <a:off x="1116000" y="5732280"/>
            <a:ext cx="1224720" cy="144720"/>
          </a:xfrm>
          <a:prstGeom prst="straightConnector1">
            <a:avLst/>
          </a:prstGeom>
          <a:ln w="25560">
            <a:solidFill>
              <a:srgbClr val="e46c0a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00" name="Object 21"/>
              <p:cNvSpPr txBox="1"/>
              <p:nvPr/>
            </p:nvSpPr>
            <p:spPr>
              <a:xfrm>
                <a:off x="1835280" y="5877000"/>
                <a:ext cx="217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2"/>
              <p:cNvSpPr txBox="1"/>
              <p:nvPr/>
            </p:nvSpPr>
            <p:spPr>
              <a:xfrm>
                <a:off x="1258920" y="5157720"/>
                <a:ext cx="200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68360" y="4941720"/>
                <a:ext cx="199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203" name="Прямая со стрелкой 80"/>
          <p:cNvCxnSpPr/>
          <p:nvPr/>
        </p:nvCxnSpPr>
        <p:spPr>
          <a:xfrm flipV="1">
            <a:off x="1762560" y="5373000"/>
            <a:ext cx="36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Прямая со стрелкой 82"/>
          <p:cNvCxnSpPr>
            <a:stCxn id="178" idx="0"/>
          </p:cNvCxnSpPr>
          <p:nvPr/>
        </p:nvCxnSpPr>
        <p:spPr>
          <a:xfrm flipV="1">
            <a:off x="1114920" y="5804640"/>
            <a:ext cx="648360" cy="7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Прямоугольник 84"/>
          <p:cNvSpPr/>
          <p:nvPr/>
        </p:nvSpPr>
        <p:spPr>
          <a:xfrm>
            <a:off x="2198520" y="5084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5"/>
          <p:cNvSpPr/>
          <p:nvPr/>
        </p:nvSpPr>
        <p:spPr>
          <a:xfrm>
            <a:off x="1405440" y="54450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35"/>
          <p:cNvSpPr/>
          <p:nvPr/>
        </p:nvSpPr>
        <p:spPr>
          <a:xfrm>
            <a:off x="1116000" y="580536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37"/>
          <p:cNvSpPr/>
          <p:nvPr/>
        </p:nvSpPr>
        <p:spPr>
          <a:xfrm>
            <a:off x="2050920" y="537372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39"/>
          <p:cNvSpPr/>
          <p:nvPr/>
        </p:nvSpPr>
        <p:spPr>
          <a:xfrm>
            <a:off x="1692360" y="580536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4000" y="260280"/>
            <a:ext cx="8496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кторы                                              коллинеарны, поэтому существуют числа х, у, z такие, что                                                         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2484360" y="260280"/>
                <a:ext cx="4221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  <m:r>
                          <m:t xml:space="preserve">2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и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,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и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В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  <m:r>
                          <m:t xml:space="preserve">1</m:t>
                        </m:r>
                        <m:r>
                          <m:t xml:space="preserve">Р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и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2771640" y="1268280"/>
                <a:ext cx="511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Р</m:t>
                        </m:r>
                        <m:r>
                          <m:t xml:space="preserve">2</m:t>
                        </m:r>
                      </m:e>
                    </m:acc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  <m:r>
                          <m:t xml:space="preserve">2</m:t>
                        </m:r>
                        <m:r>
                          <m:t xml:space="preserve">Р</m:t>
                        </m:r>
                        <m:r>
                          <m:t xml:space="preserve">1</m:t>
                        </m:r>
                      </m:e>
                    </m:acc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2268360" y="2565360"/>
                <a:ext cx="4608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14" name="Line 6"/>
          <p:cNvGrpSpPr/>
          <p:nvPr/>
        </p:nvGrpSpPr>
        <p:grpSpPr>
          <a:xfrm>
            <a:off x="743040" y="4237200"/>
            <a:ext cx="976320" cy="1639800"/>
            <a:chOff x="743040" y="4237200"/>
            <a:chExt cx="976320" cy="1639800"/>
          </a:xfrm>
        </p:grpSpPr>
        <p:pic>
          <p:nvPicPr>
            <p:cNvPr id="215" name="Line 6" descr=""/>
            <p:cNvPicPr/>
            <p:nvPr/>
          </p:nvPicPr>
          <p:blipFill>
            <a:blip r:embed="rId1"/>
            <a:stretch/>
          </p:blipFill>
          <p:spPr>
            <a:xfrm>
              <a:off x="743040" y="4237200"/>
              <a:ext cx="9763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 rot="9600000">
              <a:off x="1691640" y="585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27"/>
          <p:cNvSpPr/>
          <p:nvPr/>
        </p:nvSpPr>
        <p:spPr>
          <a:xfrm>
            <a:off x="57636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1908000" y="49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298764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0"/>
          <p:cNvSpPr/>
          <p:nvPr/>
        </p:nvSpPr>
        <p:spPr>
          <a:xfrm>
            <a:off x="1476360" y="587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176364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1547640" y="4581360"/>
                <a:ext cx="2876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3" name="Прямая соединительная линия 14"/>
          <p:cNvSpPr/>
          <p:nvPr/>
        </p:nvSpPr>
        <p:spPr>
          <a:xfrm flipV="1">
            <a:off x="1691640" y="4941720"/>
            <a:ext cx="863640" cy="9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5"/>
          <p:cNvSpPr/>
          <p:nvPr/>
        </p:nvSpPr>
        <p:spPr>
          <a:xfrm flipV="1">
            <a:off x="3276000" y="4797360"/>
            <a:ext cx="863640" cy="9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6"/>
          <p:cNvSpPr/>
          <p:nvPr/>
        </p:nvSpPr>
        <p:spPr>
          <a:xfrm flipV="1">
            <a:off x="2556000" y="4797000"/>
            <a:ext cx="158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Прямая со стрелкой 17"/>
          <p:cNvCxnSpPr>
            <a:stCxn id="220" idx="0"/>
          </p:cNvCxnSpPr>
          <p:nvPr/>
        </p:nvCxnSpPr>
        <p:spPr>
          <a:xfrm flipV="1">
            <a:off x="1692360" y="5299920"/>
            <a:ext cx="504000" cy="577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27" name="Прямая со стрелкой 18"/>
          <p:cNvCxnSpPr/>
          <p:nvPr/>
        </p:nvCxnSpPr>
        <p:spPr>
          <a:xfrm flipV="1">
            <a:off x="1692360" y="4149360"/>
            <a:ext cx="288000" cy="17280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8" name="Прямая со стрелкой 19"/>
          <p:cNvCxnSpPr/>
          <p:nvPr/>
        </p:nvCxnSpPr>
        <p:spPr>
          <a:xfrm flipH="1" flipV="1">
            <a:off x="1979280" y="4149000"/>
            <a:ext cx="1224720" cy="215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Прямая соединительная линия 20"/>
          <p:cNvSpPr/>
          <p:nvPr/>
        </p:nvSpPr>
        <p:spPr>
          <a:xfrm flipV="1">
            <a:off x="1692360" y="5732280"/>
            <a:ext cx="158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Прямая со стрелкой 21"/>
          <p:cNvCxnSpPr>
            <a:stCxn id="220" idx="0"/>
          </p:cNvCxnSpPr>
          <p:nvPr/>
        </p:nvCxnSpPr>
        <p:spPr>
          <a:xfrm flipV="1">
            <a:off x="1692360" y="5732280"/>
            <a:ext cx="1224720" cy="144720"/>
          </a:xfrm>
          <a:prstGeom prst="straightConnector1">
            <a:avLst/>
          </a:prstGeom>
          <a:ln w="25560">
            <a:solidFill>
              <a:srgbClr val="e46c0a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2484360" y="5877000"/>
                <a:ext cx="217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835280" y="5157720"/>
                <a:ext cx="199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042920" y="4941720"/>
                <a:ext cx="200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234" name="Прямая со стрелкой 25"/>
          <p:cNvCxnSpPr/>
          <p:nvPr/>
        </p:nvCxnSpPr>
        <p:spPr>
          <a:xfrm flipV="1">
            <a:off x="2338920" y="5373000"/>
            <a:ext cx="36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Прямая со стрелкой 26"/>
          <p:cNvCxnSpPr>
            <a:stCxn id="220" idx="0"/>
          </p:cNvCxnSpPr>
          <p:nvPr/>
        </p:nvCxnSpPr>
        <p:spPr>
          <a:xfrm flipV="1">
            <a:off x="1691280" y="5804640"/>
            <a:ext cx="648360" cy="7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Прямоугольник 27"/>
          <p:cNvSpPr/>
          <p:nvPr/>
        </p:nvSpPr>
        <p:spPr>
          <a:xfrm>
            <a:off x="2774880" y="5084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8"/>
          <p:cNvSpPr/>
          <p:nvPr/>
        </p:nvSpPr>
        <p:spPr>
          <a:xfrm>
            <a:off x="2054160" y="54450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1"/>
              <p:cNvSpPr txBox="1"/>
              <p:nvPr/>
            </p:nvSpPr>
            <p:spPr>
              <a:xfrm>
                <a:off x="2916360" y="3284640"/>
                <a:ext cx="59529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опустим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что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1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1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1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4356000" y="3933720"/>
                <a:ext cx="4378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1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1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0" name="Прямоугольник 31"/>
          <p:cNvSpPr/>
          <p:nvPr/>
        </p:nvSpPr>
        <p:spPr>
          <a:xfrm>
            <a:off x="4797360" y="4581360"/>
            <a:ext cx="23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-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, у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,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32"/>
          <p:cNvSpPr/>
          <p:nvPr/>
        </p:nvSpPr>
        <p:spPr>
          <a:xfrm>
            <a:off x="4728240" y="4941720"/>
            <a:ext cx="29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им, что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4859280" y="5373720"/>
                <a:ext cx="2952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3" name="Прямоугольник 34"/>
          <p:cNvSpPr/>
          <p:nvPr/>
        </p:nvSpPr>
        <p:spPr>
          <a:xfrm>
            <a:off x="5153760" y="6308640"/>
            <a:ext cx="17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3"/>
          <p:cNvSpPr/>
          <p:nvPr/>
        </p:nvSpPr>
        <p:spPr>
          <a:xfrm>
            <a:off x="684360" y="198900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тавив эти выражения, полу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 классе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360 (а)</a:t>
            </a: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.4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№ 360 (б), № 36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воить определение компланарных векто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смотреть признак компланарности трёх векто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смотреть правило параллелепипеда сложения трёх некомпланарных векто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аучиться применять полученные знания при решении зад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екторы называются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омпланарными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если при откладывании от одной и той же точки они будут лежать в одной плос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наче: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векторы называются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омпланарными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если имеются равные им векторы, лежащие в одной плос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1628640"/>
            <a:ext cx="6553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36"/>
          <p:cNvGrpSpPr/>
          <p:nvPr/>
        </p:nvGrpSpPr>
        <p:grpSpPr>
          <a:xfrm>
            <a:off x="1835280" y="2852640"/>
            <a:ext cx="3960000" cy="3271680"/>
            <a:chOff x="1835280" y="2852640"/>
            <a:chExt cx="3960000" cy="3271680"/>
          </a:xfrm>
        </p:grpSpPr>
        <p:grpSp>
          <p:nvGrpSpPr>
            <p:cNvPr id="49" name="Group 27"/>
            <p:cNvGrpSpPr/>
            <p:nvPr/>
          </p:nvGrpSpPr>
          <p:grpSpPr>
            <a:xfrm>
              <a:off x="2008080" y="3103560"/>
              <a:ext cx="3187440" cy="2651040"/>
              <a:chOff x="2008080" y="3103560"/>
              <a:chExt cx="3187440" cy="2651040"/>
            </a:xfrm>
          </p:grpSpPr>
          <p:sp>
            <p:nvSpPr>
              <p:cNvPr id="50" name="Line 17"/>
              <p:cNvSpPr/>
              <p:nvPr/>
            </p:nvSpPr>
            <p:spPr>
              <a:xfrm flipV="1">
                <a:off x="4849920" y="3103560"/>
                <a:ext cx="345600" cy="18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Group 26"/>
              <p:cNvGrpSpPr/>
              <p:nvPr/>
            </p:nvGrpSpPr>
            <p:grpSpPr>
              <a:xfrm>
                <a:off x="2008080" y="3103560"/>
                <a:ext cx="3186360" cy="2651040"/>
                <a:chOff x="2008080" y="3103560"/>
                <a:chExt cx="3186360" cy="2651040"/>
              </a:xfrm>
            </p:grpSpPr>
            <p:sp>
              <p:nvSpPr>
                <p:cNvPr id="52" name="Line 19"/>
                <p:cNvSpPr/>
                <p:nvPr/>
              </p:nvSpPr>
              <p:spPr>
                <a:xfrm flipV="1">
                  <a:off x="3987720" y="3907440"/>
                  <a:ext cx="345240" cy="1847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22"/>
                <p:cNvSpPr/>
                <p:nvPr/>
              </p:nvSpPr>
              <p:spPr>
                <a:xfrm flipV="1">
                  <a:off x="2351520" y="3103560"/>
                  <a:ext cx="861840" cy="80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" name="Group 25"/>
                <p:cNvGrpSpPr/>
                <p:nvPr/>
              </p:nvGrpSpPr>
              <p:grpSpPr>
                <a:xfrm>
                  <a:off x="2008080" y="3103560"/>
                  <a:ext cx="3186360" cy="2651040"/>
                  <a:chOff x="2008080" y="3103560"/>
                  <a:chExt cx="3186360" cy="2651040"/>
                </a:xfrm>
              </p:grpSpPr>
              <p:sp>
                <p:nvSpPr>
                  <p:cNvPr id="55" name="Line 12"/>
                  <p:cNvSpPr/>
                  <p:nvPr/>
                </p:nvSpPr>
                <p:spPr>
                  <a:xfrm>
                    <a:off x="2008080" y="5754600"/>
                    <a:ext cx="1979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Line 13"/>
                  <p:cNvSpPr/>
                  <p:nvPr/>
                </p:nvSpPr>
                <p:spPr>
                  <a:xfrm flipV="1">
                    <a:off x="3987360" y="4950360"/>
                    <a:ext cx="861480" cy="80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Line 14"/>
                  <p:cNvSpPr/>
                  <p:nvPr/>
                </p:nvSpPr>
                <p:spPr>
                  <a:xfrm flipV="1">
                    <a:off x="2008080" y="4950360"/>
                    <a:ext cx="861480" cy="80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Line 15"/>
                  <p:cNvSpPr/>
                  <p:nvPr/>
                </p:nvSpPr>
                <p:spPr>
                  <a:xfrm>
                    <a:off x="2867400" y="4950720"/>
                    <a:ext cx="1980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Line 16"/>
                  <p:cNvSpPr/>
                  <p:nvPr/>
                </p:nvSpPr>
                <p:spPr>
                  <a:xfrm flipV="1">
                    <a:off x="2867400" y="3103920"/>
                    <a:ext cx="345600" cy="1846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Line 18"/>
                  <p:cNvSpPr/>
                  <p:nvPr/>
                </p:nvSpPr>
                <p:spPr>
                  <a:xfrm flipV="1">
                    <a:off x="2008080" y="3907800"/>
                    <a:ext cx="344880" cy="1846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Line 21"/>
                  <p:cNvSpPr/>
                  <p:nvPr/>
                </p:nvSpPr>
                <p:spPr>
                  <a:xfrm flipV="1">
                    <a:off x="4332600" y="3103560"/>
                    <a:ext cx="861840" cy="80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Line 23"/>
                  <p:cNvSpPr/>
                  <p:nvPr/>
                </p:nvSpPr>
                <p:spPr>
                  <a:xfrm>
                    <a:off x="3213000" y="3103920"/>
                    <a:ext cx="1979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Line 24"/>
                  <p:cNvSpPr/>
                  <p:nvPr/>
                </p:nvSpPr>
                <p:spPr>
                  <a:xfrm>
                    <a:off x="2351520" y="3906000"/>
                    <a:ext cx="1979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" name="Text Box 28"/>
            <p:cNvSpPr/>
            <p:nvPr/>
          </p:nvSpPr>
          <p:spPr>
            <a:xfrm>
              <a:off x="4356360" y="378972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9"/>
            <p:cNvSpPr/>
            <p:nvPr/>
          </p:nvSpPr>
          <p:spPr>
            <a:xfrm>
              <a:off x="4850280" y="463104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30"/>
            <p:cNvSpPr/>
            <p:nvPr/>
          </p:nvSpPr>
          <p:spPr>
            <a:xfrm>
              <a:off x="2484360" y="458172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1"/>
            <p:cNvSpPr/>
            <p:nvPr/>
          </p:nvSpPr>
          <p:spPr>
            <a:xfrm>
              <a:off x="3779640" y="5733360"/>
              <a:ext cx="42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2"/>
            <p:cNvSpPr/>
            <p:nvPr/>
          </p:nvSpPr>
          <p:spPr>
            <a:xfrm>
              <a:off x="1835280" y="575604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3"/>
            <p:cNvSpPr/>
            <p:nvPr/>
          </p:nvSpPr>
          <p:spPr>
            <a:xfrm>
              <a:off x="5193720" y="286308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4"/>
            <p:cNvSpPr/>
            <p:nvPr/>
          </p:nvSpPr>
          <p:spPr>
            <a:xfrm>
              <a:off x="2699280" y="285264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5"/>
            <p:cNvSpPr/>
            <p:nvPr/>
          </p:nvSpPr>
          <p:spPr>
            <a:xfrm>
              <a:off x="1920600" y="366552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изнак компланарности трёх векто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8"/>
              <p:cNvSpPr txBox="1"/>
              <p:nvPr/>
            </p:nvSpPr>
            <p:spPr>
              <a:xfrm>
                <a:off x="200160" y="1773360"/>
                <a:ext cx="854856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ожн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едставить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иде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х</m:t>
                        </m:r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r>
                          <m:t xml:space="preserve">у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котор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4" name="Group 5"/>
          <p:cNvGrpSpPr/>
          <p:nvPr/>
        </p:nvGrpSpPr>
        <p:grpSpPr>
          <a:xfrm>
            <a:off x="324000" y="3860640"/>
            <a:ext cx="1655640" cy="648000"/>
            <a:chOff x="324000" y="3860640"/>
            <a:chExt cx="1655640" cy="648000"/>
          </a:xfrm>
        </p:grpSpPr>
        <p:sp>
          <p:nvSpPr>
            <p:cNvPr id="75" name="Line 6"/>
            <p:cNvSpPr/>
            <p:nvPr/>
          </p:nvSpPr>
          <p:spPr>
            <a:xfrm>
              <a:off x="324000" y="4508640"/>
              <a:ext cx="16556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29"/>
                <p:cNvSpPr txBox="1"/>
                <p:nvPr/>
              </p:nvSpPr>
              <p:spPr>
                <a:xfrm>
                  <a:off x="1042920" y="3860640"/>
                  <a:ext cx="324000" cy="64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а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8"/>
          <p:cNvGrpSpPr/>
          <p:nvPr/>
        </p:nvGrpSpPr>
        <p:grpSpPr>
          <a:xfrm>
            <a:off x="1835280" y="4724280"/>
            <a:ext cx="649080" cy="936720"/>
            <a:chOff x="1835280" y="4724280"/>
            <a:chExt cx="649080" cy="936720"/>
          </a:xfrm>
        </p:grpSpPr>
        <p:sp>
          <p:nvSpPr>
            <p:cNvPr id="78" name="Line 9"/>
            <p:cNvSpPr/>
            <p:nvPr/>
          </p:nvSpPr>
          <p:spPr>
            <a:xfrm flipV="1">
              <a:off x="1835280" y="4869000"/>
              <a:ext cx="649080" cy="7920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Object 30"/>
                <p:cNvSpPr txBox="1"/>
                <p:nvPr/>
              </p:nvSpPr>
              <p:spPr>
                <a:xfrm>
                  <a:off x="1835280" y="4724280"/>
                  <a:ext cx="323640" cy="64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b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0" name="Object 31"/>
              <p:cNvSpPr txBox="1"/>
              <p:nvPr/>
            </p:nvSpPr>
            <p:spPr>
              <a:xfrm>
                <a:off x="3276720" y="3500280"/>
                <a:ext cx="56322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e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x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r>
                          <m:t xml:space="preserve">y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250920" y="1484280"/>
            <a:ext cx="1655640" cy="647640"/>
            <a:chOff x="250920" y="1484280"/>
            <a:chExt cx="1655640" cy="647640"/>
          </a:xfrm>
        </p:grpSpPr>
        <p:sp>
          <p:nvSpPr>
            <p:cNvPr id="82" name="Line 6"/>
            <p:cNvSpPr/>
            <p:nvPr/>
          </p:nvSpPr>
          <p:spPr>
            <a:xfrm>
              <a:off x="250920" y="2131920"/>
              <a:ext cx="16556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Object 2"/>
                <p:cNvSpPr txBox="1"/>
                <p:nvPr/>
              </p:nvSpPr>
              <p:spPr>
                <a:xfrm>
                  <a:off x="969840" y="1484280"/>
                  <a:ext cx="32400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а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Group 8"/>
          <p:cNvGrpSpPr/>
          <p:nvPr/>
        </p:nvGrpSpPr>
        <p:grpSpPr>
          <a:xfrm>
            <a:off x="755640" y="2205000"/>
            <a:ext cx="649080" cy="936720"/>
            <a:chOff x="755640" y="2205000"/>
            <a:chExt cx="649080" cy="936720"/>
          </a:xfrm>
        </p:grpSpPr>
        <p:sp>
          <p:nvSpPr>
            <p:cNvPr id="85" name="Line 9"/>
            <p:cNvSpPr/>
            <p:nvPr/>
          </p:nvSpPr>
          <p:spPr>
            <a:xfrm flipV="1">
              <a:off x="755640" y="2349720"/>
              <a:ext cx="649080" cy="7920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3"/>
                <p:cNvSpPr txBox="1"/>
                <p:nvPr/>
              </p:nvSpPr>
              <p:spPr>
                <a:xfrm>
                  <a:off x="755640" y="2205000"/>
                  <a:ext cx="323640" cy="64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b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611280" y="333360"/>
                <a:ext cx="36716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усть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коллинеар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2556000" y="1628640"/>
                <a:ext cx="6192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тложи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котор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странства</m:t>
                        </m:r>
                        <m:r>
                          <m:t xml:space="preserve"> </m:t>
                        </m:r>
                        <m:r>
                          <m:t xml:space="preserve">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В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2556000" y="2852640"/>
                <a:ext cx="55450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екторы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ОВ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ежат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лоскост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А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4211640" y="3573360"/>
                <a:ext cx="46530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и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пределенност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буде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читат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Up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ОА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х</m:t>
                        </m:r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limUp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О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y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8"/>
              <p:cNvSpPr txBox="1"/>
              <p:nvPr/>
            </p:nvSpPr>
            <p:spPr>
              <a:xfrm>
                <a:off x="2476440" y="5229360"/>
                <a:ext cx="6667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екторы</m:t>
                    </m:r>
                    <m:r>
                      <m:t xml:space="preserve"> </m:t>
                    </m:r>
                    <m:limUp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limUp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акж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ежат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лоскост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А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9"/>
              <p:cNvSpPr txBox="1"/>
              <p:nvPr/>
            </p:nvSpPr>
            <p:spPr>
              <a:xfrm>
                <a:off x="324000" y="5661000"/>
                <a:ext cx="82026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умма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r>
                          <m:t xml:space="preserve">у</m:t>
                        </m:r>
                        <m:r>
                          <m:t xml:space="preserve">⋅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В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у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ежит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оскост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А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20"/>
          <p:cNvSpPr/>
          <p:nvPr/>
        </p:nvSpPr>
        <p:spPr>
          <a:xfrm>
            <a:off x="181080" y="4795920"/>
            <a:ext cx="576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4"/>
          <p:cNvGrpSpPr/>
          <p:nvPr/>
        </p:nvGrpSpPr>
        <p:grpSpPr>
          <a:xfrm>
            <a:off x="324000" y="4869000"/>
            <a:ext cx="1871640" cy="644400"/>
            <a:chOff x="324000" y="4869000"/>
            <a:chExt cx="1871640" cy="644400"/>
          </a:xfrm>
        </p:grpSpPr>
        <p:sp>
          <p:nvSpPr>
            <p:cNvPr id="95" name="Line 15"/>
            <p:cNvSpPr/>
            <p:nvPr/>
          </p:nvSpPr>
          <p:spPr>
            <a:xfrm>
              <a:off x="324000" y="4940280"/>
              <a:ext cx="16556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29"/>
                <p:cNvSpPr txBox="1"/>
                <p:nvPr/>
              </p:nvSpPr>
              <p:spPr>
                <a:xfrm>
                  <a:off x="971640" y="4869000"/>
                  <a:ext cx="32364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а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97" name="Text Box 21"/>
            <p:cNvSpPr/>
            <p:nvPr/>
          </p:nvSpPr>
          <p:spPr>
            <a:xfrm>
              <a:off x="1763640" y="4869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3"/>
          <p:cNvGrpSpPr/>
          <p:nvPr/>
        </p:nvGrpSpPr>
        <p:grpSpPr>
          <a:xfrm>
            <a:off x="252360" y="3787920"/>
            <a:ext cx="792360" cy="1081080"/>
            <a:chOff x="252360" y="3787920"/>
            <a:chExt cx="792360" cy="1081080"/>
          </a:xfrm>
        </p:grpSpPr>
        <p:sp>
          <p:nvSpPr>
            <p:cNvPr id="99" name="Line 18"/>
            <p:cNvSpPr/>
            <p:nvPr/>
          </p:nvSpPr>
          <p:spPr>
            <a:xfrm flipV="1">
              <a:off x="324000" y="4077000"/>
              <a:ext cx="649080" cy="7920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Object 30"/>
                <p:cNvSpPr txBox="1"/>
                <p:nvPr/>
              </p:nvSpPr>
              <p:spPr>
                <a:xfrm>
                  <a:off x="252360" y="4003920"/>
                  <a:ext cx="32400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b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Text Box 22"/>
            <p:cNvSpPr/>
            <p:nvPr/>
          </p:nvSpPr>
          <p:spPr>
            <a:xfrm>
              <a:off x="612720" y="3787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Line 25"/>
          <p:cNvSpPr/>
          <p:nvPr/>
        </p:nvSpPr>
        <p:spPr>
          <a:xfrm>
            <a:off x="324000" y="4941720"/>
            <a:ext cx="23763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V="1">
            <a:off x="250920" y="3789000"/>
            <a:ext cx="936360" cy="115236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 flipV="1">
            <a:off x="2662200" y="3751200"/>
            <a:ext cx="936720" cy="115272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1224000" y="3787920"/>
            <a:ext cx="23763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2484360" y="486900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828720" y="342756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 flipV="1">
            <a:off x="324000" y="3787920"/>
            <a:ext cx="3206520" cy="111600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3564000" y="3500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1"/>
              <p:cNvSpPr txBox="1"/>
              <p:nvPr/>
            </p:nvSpPr>
            <p:spPr>
              <a:xfrm>
                <a:off x="1692360" y="4292640"/>
                <a:ext cx="1295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х</m:t>
                    </m:r>
                    <m:limUpp>
                      <m:e>
                        <m:r>
                          <m:t xml:space="preserve">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у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179280" y="476280"/>
                <a:ext cx="8569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так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кторы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,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ОВ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,</m:t>
                    </m:r>
                    <m:limUpp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ежат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дн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лоскости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103320" y="1100160"/>
                <a:ext cx="52606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кторы</m:t>
                    </m:r>
                    <m:r>
                      <m:t xml:space="preserve"> </m:t>
                    </m:r>
                    <m:limUpp>
                      <m:e>
                        <m:r>
                          <m:t xml:space="preserve">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,</m:t>
                    </m:r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,</m:t>
                    </m:r>
                    <m:r>
                      <m:t xml:space="preserve"> </m:t>
                    </m:r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компланарны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Text Box 6"/>
          <p:cNvSpPr/>
          <p:nvPr/>
        </p:nvSpPr>
        <p:spPr>
          <a:xfrm>
            <a:off x="25092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79280" y="2781360"/>
            <a:ext cx="2736720" cy="2584080"/>
            <a:chOff x="179280" y="2781360"/>
            <a:chExt cx="2736720" cy="2584080"/>
          </a:xfrm>
        </p:grpSpPr>
        <p:grpSp>
          <p:nvGrpSpPr>
            <p:cNvPr id="115" name="Group 13"/>
            <p:cNvGrpSpPr/>
            <p:nvPr/>
          </p:nvGrpSpPr>
          <p:grpSpPr>
            <a:xfrm>
              <a:off x="446400" y="3075480"/>
              <a:ext cx="2135160" cy="1992960"/>
              <a:chOff x="446400" y="3075480"/>
              <a:chExt cx="2135160" cy="199296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446760" y="4699080"/>
                <a:ext cx="800280" cy="36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8"/>
              <p:cNvSpPr/>
              <p:nvPr/>
            </p:nvSpPr>
            <p:spPr>
              <a:xfrm flipV="1">
                <a:off x="1247040" y="4256280"/>
                <a:ext cx="1334520" cy="81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9"/>
              <p:cNvSpPr/>
              <p:nvPr/>
            </p:nvSpPr>
            <p:spPr>
              <a:xfrm flipH="1">
                <a:off x="446400" y="4256280"/>
                <a:ext cx="2135160" cy="44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0"/>
              <p:cNvSpPr/>
              <p:nvPr/>
            </p:nvSpPr>
            <p:spPr>
              <a:xfrm flipV="1">
                <a:off x="446760" y="3075480"/>
                <a:ext cx="732600" cy="162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1"/>
              <p:cNvSpPr/>
              <p:nvPr/>
            </p:nvSpPr>
            <p:spPr>
              <a:xfrm>
                <a:off x="1179360" y="3075840"/>
                <a:ext cx="67680" cy="199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2"/>
              <p:cNvSpPr/>
              <p:nvPr/>
            </p:nvSpPr>
            <p:spPr>
              <a:xfrm>
                <a:off x="1179360" y="3075840"/>
                <a:ext cx="1402200" cy="118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14"/>
            <p:cNvSpPr/>
            <p:nvPr/>
          </p:nvSpPr>
          <p:spPr>
            <a:xfrm>
              <a:off x="179280" y="4627440"/>
              <a:ext cx="3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2582280" y="3963240"/>
              <a:ext cx="3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1113480" y="4997160"/>
              <a:ext cx="3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1181160" y="2781360"/>
              <a:ext cx="3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186000" y="2492280"/>
                <a:ext cx="5958000" cy="27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АВС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тетраэдр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Е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серед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серед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7" name="Group 22"/>
          <p:cNvGrpSpPr/>
          <p:nvPr/>
        </p:nvGrpSpPr>
        <p:grpSpPr>
          <a:xfrm>
            <a:off x="611280" y="3357720"/>
            <a:ext cx="1657080" cy="1952280"/>
            <a:chOff x="611280" y="3357720"/>
            <a:chExt cx="1657080" cy="1952280"/>
          </a:xfrm>
        </p:grpSpPr>
        <p:sp>
          <p:nvSpPr>
            <p:cNvPr id="128" name="Text Box 19"/>
            <p:cNvSpPr/>
            <p:nvPr/>
          </p:nvSpPr>
          <p:spPr>
            <a:xfrm>
              <a:off x="611280" y="4941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1908000" y="33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1"/>
            <p:cNvSpPr/>
            <p:nvPr/>
          </p:nvSpPr>
          <p:spPr>
            <a:xfrm flipV="1">
              <a:off x="755640" y="3645000"/>
              <a:ext cx="1079640" cy="12240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о параллелепипе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24000" y="1484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ложения трех некомпланарных векторов можно пользоваться так называемым </a:t>
            </a: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правилом параллелепипе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4788000" y="2997360"/>
                <a:ext cx="3024000" cy="25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</m:e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</m:e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E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Line 9"/>
          <p:cNvSpPr/>
          <p:nvPr/>
        </p:nvSpPr>
        <p:spPr>
          <a:xfrm flipV="1">
            <a:off x="1067760" y="5087520"/>
            <a:ext cx="2199960" cy="816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 flipV="1">
            <a:off x="1218240" y="4064040"/>
            <a:ext cx="1634040" cy="117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2698560" y="4048200"/>
            <a:ext cx="148320" cy="17247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V="1">
            <a:off x="1068840" y="5788080"/>
            <a:ext cx="1635840" cy="117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V="1">
            <a:off x="1068840" y="5204520"/>
            <a:ext cx="565920" cy="6994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 flipV="1">
            <a:off x="1068120" y="4181400"/>
            <a:ext cx="149760" cy="17233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1634040" y="5087880"/>
            <a:ext cx="1634040" cy="117360"/>
          </a:xfrm>
          <a:prstGeom prst="line">
            <a:avLst/>
          </a:prstGeom>
          <a:ln w="28440">
            <a:solidFill>
              <a:srgbClr val="0000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V="1">
            <a:off x="2703960" y="5087160"/>
            <a:ext cx="564480" cy="699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V="1">
            <a:off x="3233520" y="3359160"/>
            <a:ext cx="148320" cy="17233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218600" y="3363480"/>
            <a:ext cx="2199960" cy="81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V="1">
            <a:off x="1068840" y="3357360"/>
            <a:ext cx="2350080" cy="25412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 flipV="1">
            <a:off x="1633320" y="3479760"/>
            <a:ext cx="148320" cy="172332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 flipV="1">
            <a:off x="1217880" y="3480480"/>
            <a:ext cx="564480" cy="6994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 flipV="1">
            <a:off x="2851560" y="3363120"/>
            <a:ext cx="565920" cy="6994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1783440" y="3362400"/>
            <a:ext cx="1635480" cy="117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3"/>
              <p:cNvSpPr txBox="1"/>
              <p:nvPr/>
            </p:nvSpPr>
            <p:spPr>
              <a:xfrm>
                <a:off x="2050920" y="5732640"/>
                <a:ext cx="285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1125360" y="5100480"/>
                <a:ext cx="2858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5"/>
              <p:cNvSpPr txBox="1"/>
              <p:nvPr/>
            </p:nvSpPr>
            <p:spPr>
              <a:xfrm>
                <a:off x="836640" y="4525920"/>
                <a:ext cx="2858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2" name="Text Box 26"/>
          <p:cNvSpPr/>
          <p:nvPr/>
        </p:nvSpPr>
        <p:spPr>
          <a:xfrm>
            <a:off x="3284640" y="48848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909720" y="4021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1341360" y="4884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637000" y="56768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765000" y="582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3357720" y="3151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1484280" y="30844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2781360" y="39495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83534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.39, 4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35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49:27Z</dcterms:created>
  <dc:creator>Мы</dc:creator>
  <dc:description/>
  <dc:language>en-US</dc:language>
  <cp:lastModifiedBy>Мы</cp:lastModifiedBy>
  <dcterms:modified xsi:type="dcterms:W3CDTF">2010-11-10T17:23:51Z</dcterms:modified>
  <cp:revision>139</cp:revision>
  <dc:subject/>
  <dc:title>Тема урока: Компланарные векторы. Правило параллелепипеда.</dc:title>
</cp:coreProperties>
</file>