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9A4B-ABB1-47E3-9FE9-DDABDC97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39BF-540D-4992-90E4-4C7E39B5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2924-C889-495C-9024-35DB8C23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3A2D-62EF-4C51-A141-50BC05D5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8E4C-B43A-430A-9FE2-8DEB89FD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7DE2-0135-4E9C-BAC0-08B71631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4678-5A72-4E2F-80BC-E5081B06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95EC-3C6D-44B3-8DE4-B3D54C3D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89A2-C50B-43F3-A8DF-B5A0B96C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9CC8-BA01-4F59-BE2E-FCFBC56A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205F-1EB8-41ED-A987-6424F805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2766-9969-41A9-BD23-67D9CECF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ff99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D4BA-FFFE-4BC6-882F-E4BF2C7146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8;&#1053;&#1057;&#1058;&#1056;&#1059;&#1050;&#1062;&#1048;&#1071;.pp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«1С: Образование (единая коллекция ЦОР)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как система организации и поддержки образовательного процесс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90920" y="41911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Метод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МОУ ДПО «КЦПИ и МТ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Шмелёва Я.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рианты установ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кольный сервер                единое информационное пространство ш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кольный компью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4800600" y="1905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Ц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304920" y="2514600"/>
            <a:ext cx="2666880" cy="21337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з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3505320" y="2895480"/>
            <a:ext cx="5333760" cy="25909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тановочный ди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 flipH="1">
            <a:off x="1752480" y="914400"/>
            <a:ext cx="19051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>
            <a:off x="5486400" y="990720"/>
            <a:ext cx="24382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ttp://school-collection.edu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>
            <a:hlinkClick r:id="rId1"/>
          </p:cNvPr>
          <p:cNvSpPr/>
          <p:nvPr/>
        </p:nvSpPr>
        <p:spPr>
          <a:xfrm>
            <a:off x="7315200" y="617220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ка 1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АКТИЧЕ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Я ИНСТРУКЦИИ УСТАНОВИТЕ ДИ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ГРУЗИТЕ 1-2 ЦОР И ПРОСМОТРИТЕ ВЕСЬ РЕСУ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ЕТИТЕ САЙТ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hool-collection.edu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РЕСУРСЫ ПО РУССКОМУ ЯЗЫКУ И ЛИТЕРАТУРЕ, ПРОСМОТРИТЕ ИХ И ПОПРОБУЙТЕ СКАЧ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ФП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"/>
          <p:cNvSpPr/>
          <p:nvPr/>
        </p:nvSpPr>
        <p:spPr>
          <a:xfrm flipH="1">
            <a:off x="1066680" y="152388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28600" y="2895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5562720" y="1523880"/>
            <a:ext cx="20574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6400800" y="3657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 flipH="1">
            <a:off x="2666520" y="1600200"/>
            <a:ext cx="129564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1219320" y="388620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cc"/>
                </a:solidFill>
                <a:latin typeface="Arial"/>
              </a:rPr>
              <a:t>Реформы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4572000" y="1600200"/>
            <a:ext cx="3049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3352680" y="52578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cc"/>
                </a:solidFill>
                <a:latin typeface="Arial"/>
              </a:rPr>
              <a:t>Инновационный проект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С: Образование 4. Ш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http://obr.1c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228600" y="1905120"/>
            <a:ext cx="7238880" cy="23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Arial"/>
              </a:rPr>
              <a:t>ИС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нформатизация системы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 flipV="1">
            <a:off x="2209680" y="685440"/>
            <a:ext cx="19051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419720" y="22860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1С: Образование 4. 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895480" y="57913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http://school-collection.edu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1523880" y="4648320"/>
            <a:ext cx="2057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ь созда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поддержка учебной деятельности и организации учеб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1760" y="1219320"/>
            <a:ext cx="78483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колле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ичие единого портфеля работ для каждого пользовате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троль и самоконтро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дивидуальная траектория для уче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ганизац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опользовательск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окальная и сетевая установ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портфеля ресурсов (личный и группово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14400" y="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Функциональные возможности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озрастные катег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чальная школа (1-4 клас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ние (5-8 класс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ршие классы (9 клас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дм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форма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и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оме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ма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тествозн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НИВЕРС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ЛЛЮСТ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АУДИ И ВИДЕО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АНИ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ТЕ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8-14T08:12:25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