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C89-A1D8-4F59-BC6A-5FA0C7D4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01C-56ED-46C1-91DD-E494CF4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2A2-85CC-4CDE-8211-01B316F5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669-5AB8-4BFA-BFB8-D6F74873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766-7CCC-4BEA-A762-8F5FCA4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2E2-89CC-4716-93FC-1CFC4E6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67E-41D4-45EB-B2D1-E873BF0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522-F037-4A18-98D3-DE9C3C5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788-3DDB-405E-800C-F76020A7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E11-41C4-4783-A493-AF85370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19C-DD55-4DAF-8316-45D24D70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554-6783-488F-A8DB-954F7608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ff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2F3-3C4B-4C4D-B8EC-5616A082A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57;&#1058;&#1056;&#1059;&#1050;&#1062;&#1048;&#1071;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1С: Образование (единая коллекция ЦОР)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система организации и поддержки образовательного процес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41911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етод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ОУ ДПО «КЦПИ и М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Шмелёва Я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ианты у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ьный сервер                единое информационное пространство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ьный 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80060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Ц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04920" y="2514600"/>
            <a:ext cx="2666880" cy="2133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505320" y="2895480"/>
            <a:ext cx="5333760" cy="259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очный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1752480" y="9144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486400" y="990720"/>
            <a:ext cx="2438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ttp://school-collection.edu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1"/>
          </p:cNvPr>
          <p:cNvSpPr/>
          <p:nvPr/>
        </p:nvSpPr>
        <p:spPr>
          <a:xfrm>
            <a:off x="7315200" y="6172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Я ИНСТРУКЦИИ УСТАНОВИТЕ Д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ЗИТЕ 1-2 ЦОР И ПРОСМОТРИТЕ ВЕСЬ РЕС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САЙ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РЕСУРСЫ ПО РУССКОМУ ЯЗЫКУ И ЛИТЕРАТУРЕ, ПРОСМОТРИТЕ ИХ И ПОПРОБУЙТЕ СКАЧ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ФП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1066680" y="1523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86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5562720" y="1523880"/>
            <a:ext cx="20574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00800" y="3657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2666520" y="160020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219320" y="3886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Реформы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72000" y="1600200"/>
            <a:ext cx="304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3526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Инновационный проект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С: Образование 4. 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obr.1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28600" y="1905120"/>
            <a:ext cx="72388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И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нформатизация системы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2209680" y="68544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419720" y="228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1С: Образование 4.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895480" y="5791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http://school-collection.ed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523880" y="46483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созд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поддержка учебной деятельности и организации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колле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единого портфеля работ для каждого пользов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 и само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ая траектория для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пользовательс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ьная и сетевая устан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ортфеля ресурсов (личный и группов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ункциональные возможности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зрастные катег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ая школа (1-4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(5-8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шие классы (9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т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НИВЕРС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УДИ И ВИДЕО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8-14T08:12:2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