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E3A-5C97-4F18-84FA-980BDEC7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03F-4794-4334-B4C5-21EBB57D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3F9-13DE-44CC-A11E-6EB97A71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545-3F09-4BD2-9904-D73D4226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FE7-BE4C-42F1-AB5C-9A899F67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0DB-A1C2-42C5-867F-6CCA0303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84B-46B9-4D4A-B698-61C695EA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982-B595-41E5-9EEA-C239B979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403-8104-4C4D-A120-6880F337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712-72BF-4BD9-92A4-67D51DC5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928-0D5A-425A-9D6E-46932E6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5A3-76CB-4CA3-BA69-A3C36AF3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ff99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1730-4774-4CB9-B3D9-3454D9B1C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57;&#1058;&#1056;&#1059;&#1050;&#1062;&#1048;&#1071;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1С: Образование (единая коллекция ЦОР)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система организации и поддержки образовательного процесс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920" y="41911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Метод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МОУ ДПО «КЦПИ и МТ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Шмелёва Я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ианты устан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ьный сервер                единое информационное пространство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ьный 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4800600" y="1905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Ц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04920" y="2514600"/>
            <a:ext cx="2666880" cy="21337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з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505320" y="2895480"/>
            <a:ext cx="5333760" cy="2590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очный д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H="1">
            <a:off x="1752480" y="91440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486400" y="990720"/>
            <a:ext cx="2438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ttp://school-collection.edu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rId1"/>
          </p:cNvPr>
          <p:cNvSpPr/>
          <p:nvPr/>
        </p:nvSpPr>
        <p:spPr>
          <a:xfrm>
            <a:off x="7315200" y="61722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Я ИНСТРУКЦИИ УСТАНОВИТЕ Д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УЗИТЕ 1-2 ЦОР И ПРОСМОТРИТЕ ВЕСЬ РЕС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САЙТ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РЕСУРСЫ ПО РУССКОМУ ЯЗЫКУ И ЛИТЕРАТУРЕ, ПРОСМОТРИТЕ ИХ И ПОПРОБУЙТЕ СКАЧ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ФП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H="1">
            <a:off x="1066680" y="1523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286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5562720" y="1523880"/>
            <a:ext cx="20574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400800" y="3657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H="1">
            <a:off x="2666520" y="1600200"/>
            <a:ext cx="12956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219320" y="38862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Реформы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4572000" y="1600200"/>
            <a:ext cx="3049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3352680" y="5257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Инновационный проект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1С: Образование 4. 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http://obr.1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228600" y="1905120"/>
            <a:ext cx="72388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ИС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нформатизация системы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2209680" y="685440"/>
            <a:ext cx="1905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419720" y="228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1С: Образование 4.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895480" y="5791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Arial"/>
              </a:rPr>
              <a:t>http://school-collection.ed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523880" y="46483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 созд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поддержка учебной деятельности и организации учеб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7848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колле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единого портфеля работ для каждого пользова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троль и самоконтро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дивидуальная траектория для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пользовательск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кальная и сетевая устано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ортфеля ресурсов (личный и группов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ункциональные возможности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озрастные катег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ьная школа (1-4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е (5-8 клас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шие классы (9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м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т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НИВЕРС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ИЛЛЮСТ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УДИ И ВИДЕО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НИ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8-14T08:12:2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