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31.png" ContentType="image/png"/>
  <Override PartName="/ppt/media/image6.png" ContentType="image/png"/>
  <Override PartName="/ppt/media/image41.jpeg" ContentType="image/jpeg"/>
  <Override PartName="/ppt/media/image45.jpeg" ContentType="image/jpeg"/>
  <Override PartName="/ppt/media/image33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36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4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33BE-F5B8-47E4-BE3A-7165AC4477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4AFD-891D-4112-9E97-EE9A6BFBE05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466A-8898-4F5B-9CC3-5BB73D77E67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6EF0-AAED-4FFB-A99E-41EF7DC6448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25CD-5165-4CB9-AF82-2AAF4017051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7F58-B2B2-4BB3-ACFF-65BD66D0397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6AF7-CB7F-4951-A47B-B3EA3CE6E5A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FD72-FC60-468C-86A9-F44215E5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0546-30F1-4F81-BF6E-F6584D19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C0DA-83EB-47D2-9FCA-D8FEC29D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818-66C8-45CA-A7ED-33558A3A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076-BEC4-4513-9D4B-3BC3F374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692-64F7-4C17-A146-857C8C51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F47-7C1F-4B33-9EC7-B4A80AA4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BAC-0ED5-429B-9DC5-06EE7D8B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E09-BBC6-415D-A3C3-EC5E42B6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DA0-D293-4FC6-8D6A-6D14BD3F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7EB-B5AE-46D8-8570-5CDD819B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30A-C49F-4C79-9FB1-F51B3565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86BF-3CB6-41DC-AB17-3FB3A46C9EB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0" y="1989000"/>
            <a:ext cx="9144000" cy="228744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cademia"/>
              </a:rPr>
              <a:t>ИСТОРИЯ СОЗДАНИЯ ВООРУЖЕННЫХ СИЛ РОССИЙСКОЙ ФЕДЕРАЦИИ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0" y="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Урок 2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solidFill>
            <a:srgbClr val="ff0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Традиции русской арм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бразование РК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Вооруженные Силы Советского союза перед второй мировой вой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ослевоенное состояние Вооруженных С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Реформа современных Вооруженных Сил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Рисунок 10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5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Содержимое 3" descr="image.php.jpg"/>
          <p:cNvPicPr/>
          <p:nvPr/>
        </p:nvPicPr>
        <p:blipFill>
          <a:blip r:embed="rId1"/>
          <a:stretch/>
        </p:blipFill>
        <p:spPr>
          <a:xfrm>
            <a:off x="179280" y="189000"/>
            <a:ext cx="4969080" cy="64087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5435640" y="189000"/>
            <a:ext cx="351000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алочисленная, слабо обученная Красная гвардия не могла противостоять вторжению германских войск. Угроза вторжения германских войск вынудила Советское правительство начать комплектование постоянн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4857840" y="189000"/>
            <a:ext cx="428616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 января 1918 года был принят декрет о создании Рабоче-крестьянской Красной Армии (РККА), а 29 января 1918 года – об организации Рабоче-крестьянского  Красного Флота. Армия и флот создавались на добровольных начал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Рисунок 5" descr="072fa03ebbc5a8de624f5940ffbca3d4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79280" y="189000"/>
            <a:ext cx="4562640" cy="6408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l1-2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6946920" y="5229360"/>
            <a:ext cx="19224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3280" y="260280"/>
            <a:ext cx="4140360" cy="28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В феврале 1918 года молодой Красной Армии и морякам Балтфлота пришлось отражать натиск германских войск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2997360"/>
            <a:ext cx="914400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В ознаменование массового вступления добровольцев в Красную Армию для защиты Отечества и мужественного сопротивления отрядов Красной Армии, день 23 февраля стал отмечаться как День Советской Армии и Военно-Морского Флота, а с 1992 года как День защитников Отечеств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Рисунок 3" descr="143.jpg"/>
          <p:cNvPicPr/>
          <p:nvPr/>
        </p:nvPicPr>
        <p:blipFill>
          <a:blip r:embed="rId1"/>
          <a:stretch/>
        </p:blipFill>
        <p:spPr>
          <a:xfrm>
            <a:off x="0" y="0"/>
            <a:ext cx="496872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7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сновное содержание реформ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Формирование Красной Армии и реформирование старой арми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нятие в декабре 1917 года Декрета об отмене воинских чинов, званий, знаков различий и преимущест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рховным руководящим органом становился СНК, органом непосредственного управления - Наркомвоенде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апреле 1918 года набор в Армию  перешел от принципа добровольности к принципу воинской повинности, от выборов командиров – к их назначению. В мае вводится всеобщая воинская повиннос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1"/>
          <p:cNvSpPr/>
          <p:nvPr/>
        </p:nvSpPr>
        <p:spPr>
          <a:xfrm>
            <a:off x="324000" y="141300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cademia"/>
              </a:rPr>
              <a:t>ВОЕННЫЕ РЕФОРМЫ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cademia"/>
              </a:rPr>
              <a:t>ПЕРЕД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cademia"/>
              </a:rPr>
              <a:t>ВТОРОЙ МИРОВОЙ ВОЙНО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cademia"/>
              </a:rPr>
              <a:t>1937-1939 ГОД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0" y="3500280"/>
            <a:ext cx="914400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ждународная обстановка в этот период требовала постоянного укрепления и совершенствования вооруженных сил. Надвигалась вторая мировая война. В этих условиях Советское правительство принимало меры по укреплению обороноспособности страны. Численность вооруженных сил неуклонно возрастала: в 1935 году – 930 тысяч человек, в 1938 году – 1, 5 миллиона человек и к началу 1941 года – 5,7 миллионов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Рисунок 4" descr="show_6363.jpg"/>
          <p:cNvPicPr/>
          <p:nvPr/>
        </p:nvPicPr>
        <p:blipFill>
          <a:blip r:embed="rId1"/>
          <a:srcRect l="14244" t="0" r="9491" b="0"/>
          <a:stretch/>
        </p:blipFill>
        <p:spPr>
          <a:xfrm>
            <a:off x="5508720" y="189000"/>
            <a:ext cx="3444840" cy="30002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MolotovRibbentropStalin.jpg"/>
          <p:cNvPicPr/>
          <p:nvPr/>
        </p:nvPicPr>
        <p:blipFill>
          <a:blip r:embed="rId2"/>
          <a:srcRect l="2572" t="31251" r="2263" b="2083"/>
          <a:stretch/>
        </p:blipFill>
        <p:spPr>
          <a:xfrm>
            <a:off x="324000" y="260280"/>
            <a:ext cx="34686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7"/>
          <p:cNvSpPr/>
          <p:nvPr/>
        </p:nvSpPr>
        <p:spPr>
          <a:xfrm>
            <a:off x="395280" y="18900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сновное содержание реформ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здание в марте 1938 года Главного Военного Совета Красной Армии и Главного Совета Военно-Морского Флота, ведавших вопросами военного строительств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водится институт военных комиссаров, просуществовавших до августа 1940 год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инская обязанность теперь распространялась на всех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Были увеличены сроки службы, снизился призывной возраст, удлинялся срок пребывания в запас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есь личный состав ВС обязывался к военной присяг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вышается ответственность за дезертирство и самовольные отлучки из ч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1"/>
          <p:cNvSpPr/>
          <p:nvPr/>
        </p:nvSpPr>
        <p:spPr>
          <a:xfrm>
            <a:off x="642960" y="1357200"/>
            <a:ext cx="8001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ВОЕННЫЕ РЕФОРМЫ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ПЕРИОДА ОТЕЧЕСТВЕННОЙ ВОЙН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1941 – 1945 ГОД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1"/>
          <p:cNvSpPr/>
          <p:nvPr/>
        </p:nvSpPr>
        <p:spPr>
          <a:xfrm>
            <a:off x="250920" y="4437000"/>
            <a:ext cx="864216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еликая Отечественная война 1941-1945 годов была величайшей проверкой способности Вооруженных Сил СССР отстоять независимость стран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Рисунок 4" descr="113499840971515.jpg"/>
          <p:cNvPicPr/>
          <p:nvPr/>
        </p:nvPicPr>
        <p:blipFill>
          <a:blip r:embed="rId1"/>
          <a:stretch/>
        </p:blipFill>
        <p:spPr>
          <a:xfrm>
            <a:off x="179280" y="189000"/>
            <a:ext cx="2784600" cy="4016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6" descr="arm_21_bw.jpg"/>
          <p:cNvPicPr/>
          <p:nvPr/>
        </p:nvPicPr>
        <p:blipFill>
          <a:blip r:embed="rId2"/>
          <a:stretch/>
        </p:blipFill>
        <p:spPr>
          <a:xfrm>
            <a:off x="4859280" y="189000"/>
            <a:ext cx="40942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1"/>
          <p:cNvSpPr/>
          <p:nvPr/>
        </p:nvSpPr>
        <p:spPr>
          <a:xfrm>
            <a:off x="3276720" y="0"/>
            <a:ext cx="586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 этот период отечественная полководческая школа выдвинула ряд талантливых военачальников (Г.Г.Жуков, К.К.Рокосовский, С.К.Тимошенко,, А.М.Василевский, И.С.Конев и др.), искусно осуществлявших военные операции, приведшие к разгрому стойкого и хорошо вооруженного противни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5" descr="img.jpg"/>
          <p:cNvPicPr/>
          <p:nvPr/>
        </p:nvPicPr>
        <p:blipFill>
          <a:blip r:embed="rId1"/>
          <a:stretch/>
        </p:blipFill>
        <p:spPr>
          <a:xfrm>
            <a:off x="179280" y="0"/>
            <a:ext cx="2357640" cy="2062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25.jpg"/>
          <p:cNvPicPr/>
          <p:nvPr/>
        </p:nvPicPr>
        <p:blipFill>
          <a:blip r:embed="rId2"/>
          <a:stretch/>
        </p:blipFill>
        <p:spPr>
          <a:xfrm>
            <a:off x="0" y="2205000"/>
            <a:ext cx="2346480" cy="250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6097680" y="2705040"/>
            <a:ext cx="3046320" cy="4152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"/>
          <p:cNvPicPr/>
          <p:nvPr/>
        </p:nvPicPr>
        <p:blipFill>
          <a:blip r:embed="rId4"/>
          <a:stretch/>
        </p:blipFill>
        <p:spPr>
          <a:xfrm>
            <a:off x="1908000" y="3381480"/>
            <a:ext cx="2762280" cy="3476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/>
          <p:cNvPicPr/>
          <p:nvPr/>
        </p:nvPicPr>
        <p:blipFill>
          <a:blip r:embed="rId5"/>
          <a:stretch/>
        </p:blipFill>
        <p:spPr>
          <a:xfrm>
            <a:off x="4140360" y="1557360"/>
            <a:ext cx="23810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вые сведения о военной организации наших предков появляются в летописных источниках примерно в VI веке. В то время племенные союзы славян создают вооруженные ополчения, включавшие в себя практически всех взрослых мужчин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а войска –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няжеская дружина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Рисунок 4" descr=""/>
          <p:cNvPicPr/>
          <p:nvPr/>
        </p:nvPicPr>
        <p:blipFill>
          <a:blip r:embed="rId1"/>
          <a:stretch/>
        </p:blipFill>
        <p:spPr>
          <a:xfrm>
            <a:off x="0" y="3284640"/>
            <a:ext cx="4356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7"/>
          <p:cNvSpPr/>
          <p:nvPr/>
        </p:nvSpPr>
        <p:spPr>
          <a:xfrm>
            <a:off x="179280" y="117360"/>
            <a:ext cx="8785440" cy="63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ое содержание реформ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является всеобщая мобилизация всех мужчин с 19 до 55 л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ложнилась структурная организация вооруженных сил. Структура ВС включала теперь фронты, армии, корпуса, дивизии, бригады, полки, батальоны, роты, взводы и отде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1942 году издается Боевой устав пехоты. Вводится деление военнослужащих на рядовой, сержантский, офицерский составы и генералитет, были введены новые знаки различ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ложнилась и увеличилась система военных трибуналов, учреждено Главное управление тыл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ыло принято Постановление, обязывающее республиканские, областгые и районные комитеты партии развернуть в тылу врага сопротивление (партизанское движе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1000080" y="2604960"/>
            <a:ext cx="714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ПОСЛЕВОЕННЫЕ РЕФОРМЫ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3780000" y="260280"/>
            <a:ext cx="5184720" cy="48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ле войны продолжалось совершенствование и укрепление Вооруженных Сил в соответствии с прогнозом международной обстановки и политикой, проводимой Советским правительс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ередине 50-х годов началось коренное преобразование Советских Вооруженных Сил, оснащение их ракетно-ядерным оружием и другими новейшими видами оружия и военной техн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4" descr="002b.jpg"/>
          <p:cNvPicPr/>
          <p:nvPr/>
        </p:nvPicPr>
        <p:blipFill>
          <a:blip r:embed="rId1"/>
          <a:stretch/>
        </p:blipFill>
        <p:spPr>
          <a:xfrm>
            <a:off x="250920" y="189000"/>
            <a:ext cx="3368520" cy="50004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004b.jpg"/>
          <p:cNvPicPr/>
          <p:nvPr/>
        </p:nvPicPr>
        <p:blipFill>
          <a:blip r:embed="rId2"/>
          <a:stretch/>
        </p:blipFill>
        <p:spPr>
          <a:xfrm>
            <a:off x="6659640" y="5216400"/>
            <a:ext cx="221436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1187280" y="4581360"/>
            <a:ext cx="69138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1969 году был создан новый вид Вооруженных Сил СССР – Ракетные войска стратегического назнач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Рисунок 4" descr="864_0.jpg"/>
          <p:cNvPicPr/>
          <p:nvPr/>
        </p:nvPicPr>
        <p:blipFill>
          <a:blip r:embed="rId1"/>
          <a:stretch/>
        </p:blipFill>
        <p:spPr>
          <a:xfrm>
            <a:off x="250920" y="277920"/>
            <a:ext cx="3816360" cy="3971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77478.jpg"/>
          <p:cNvPicPr/>
          <p:nvPr/>
        </p:nvPicPr>
        <p:blipFill>
          <a:blip r:embed="rId2"/>
          <a:stretch/>
        </p:blipFill>
        <p:spPr>
          <a:xfrm>
            <a:off x="4754520" y="260280"/>
            <a:ext cx="43894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7"/>
          <p:cNvSpPr/>
          <p:nvPr/>
        </p:nvSpPr>
        <p:spPr>
          <a:xfrm>
            <a:off x="324000" y="0"/>
            <a:ext cx="8820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сновное содержание реформ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сшее руководство обороной страны и Вооруженными Силами СССР осуществлял ЦК КПСС и высшие органы государственной власти (Верховный Совет СССР и Совет Министров СССР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посредственное руководство Вооруженными Силами СССР осуществляло Министерство обороны ССС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явились новые вид Вооруженных Сил – Ракетные войска стратегического назнач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1000080" y="2604960"/>
            <a:ext cx="714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ВОЕННЫЕ РЕФОРМЫ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90-х ГОД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428760" y="4929120"/>
            <a:ext cx="85010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ле распада Советского Союза основным правопреемником Вооруженных Сил СССР стала Российская Федерация, были созданы Вооруженные Силы Российской Федераци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Рисунок 4" descr="picturecontent-pid-ae29-et-46d60ae.jpg"/>
          <p:cNvPicPr/>
          <p:nvPr/>
        </p:nvPicPr>
        <p:blipFill>
          <a:blip r:embed="rId1"/>
          <a:stretch/>
        </p:blipFill>
        <p:spPr>
          <a:xfrm>
            <a:off x="1214280" y="214200"/>
            <a:ext cx="676620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250920" y="3317760"/>
            <a:ext cx="871380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роительство ВС РФ намечалось в три этапа. Первый завершился в 1992 году. В ходе его было остановлено снижение уровня боевой готовности, начавшийся после распада СССР, пересмотрены подходы к созданию группировок войск и сил общего назначения и начато формирование новых в связи с изменившимися государственными границ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12" descr="5.jpg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3643200" y="0"/>
            <a:ext cx="5286600" cy="63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торой этап реформ проходил с 1993 по 1995 год. В ходе его на сотни тысяч сократилась численность Вооруженных Сил.  В ходе этого этапа правительство пришло к важнейшему выводу, что мы не можем иметь сильные группировки войск вдоль всей границы. Поэтому в основу строительства ВС был положен принцип мобильной обороны, реализация которого позволила приступить к формированию небольших, но достаточно мощных сил, готовых к применению там, где возникает реальная угроза безопасности Росс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14-4-1.jpg"/>
          <p:cNvPicPr/>
          <p:nvPr/>
        </p:nvPicPr>
        <p:blipFill>
          <a:blip r:embed="rId1"/>
          <a:srcRect l="0" t="10529" r="13107" b="0"/>
          <a:stretch/>
        </p:blipFill>
        <p:spPr>
          <a:xfrm>
            <a:off x="250920" y="260280"/>
            <a:ext cx="3071880" cy="24289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v_43.jpg"/>
          <p:cNvPicPr/>
          <p:nvPr/>
        </p:nvPicPr>
        <p:blipFill>
          <a:blip r:embed="rId2"/>
          <a:stretch/>
        </p:blipFill>
        <p:spPr>
          <a:xfrm>
            <a:off x="0" y="4653000"/>
            <a:ext cx="3076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4214880" y="214200"/>
            <a:ext cx="4714920" cy="61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енеральным штабом Вооруженных Сил РФ  был осуществлен целый комплекс мероприятий по стратегическому и и оперативному планированию применения войск в новых условиях. Была принята Федеральная программа развития вооружения и военной техники, началась военно-правовая реформа и реформа военного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соответствии с Указом Президента РФ «О военном строительстве в РФ» в 1995 году была создана Государственная комиссия по военному строительству в РФ. Она активно взялась за работу, но до конца работа доведена не бы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Рисунок 4" descr="48538_20001212215359.gif.jpg"/>
          <p:cNvPicPr/>
          <p:nvPr/>
        </p:nvPicPr>
        <p:blipFill>
          <a:blip r:embed="rId1"/>
          <a:stretch/>
        </p:blipFill>
        <p:spPr>
          <a:xfrm>
            <a:off x="247680" y="500040"/>
            <a:ext cx="3824280" cy="27464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b_228534.jpg"/>
          <p:cNvPicPr/>
          <p:nvPr/>
        </p:nvPicPr>
        <p:blipFill>
          <a:blip r:embed="rId2"/>
          <a:stretch/>
        </p:blipFill>
        <p:spPr>
          <a:xfrm>
            <a:off x="2000160" y="3571920"/>
            <a:ext cx="1714680" cy="19429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10.jpg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214200" y="3571920"/>
            <a:ext cx="1527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1433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митрий Донской      Александр Невский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3643560" cy="433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143240" y="1071720"/>
            <a:ext cx="48006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214200" y="214200"/>
            <a:ext cx="8715600" cy="63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приоритеты реформ современной арми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тимизация структуры, боевого состава и численности В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чественное улучшение состава, подготовки и обеспечения офицерского корпу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ъем эффективности и качества оперативной и боевой подготовки, воспитание войск, укрепление правопорядка и воинской дисципли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е качественного уровня технической оснащенности войс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экономных, рациональных систем комплектования, подготовки военных кадров, военного образования, военной науки и инфраструкту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правовой и социальной защиты военнослужащих, их сем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" name="Содержимое 3" descr="3.jpg"/>
          <p:cNvPicPr/>
          <p:nvPr/>
        </p:nvPicPr>
        <p:blipFill>
          <a:blip r:embed="rId1"/>
          <a:stretch/>
        </p:blipFill>
        <p:spPr>
          <a:xfrm>
            <a:off x="857160" y="785880"/>
            <a:ext cx="727092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0" y="4179960"/>
            <a:ext cx="9144000" cy="2226960"/>
          </a:xfrm>
          <a:prstGeom prst="rect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Меняются структура государства, политический строй, политика правительства, но задача по защите Отечества всегда остается первостепенной, поэтому Вооруженные Силы всегда должны отвечать своему предназначению – защите страны от внешней агре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Рисунок 5" descr="7731505e5a57.jpg"/>
          <p:cNvPicPr/>
          <p:nvPr/>
        </p:nvPicPr>
        <p:blipFill>
          <a:blip r:embed="rId1"/>
          <a:srcRect l="1408" t="0" r="0" b="0"/>
          <a:stretch/>
        </p:blipFill>
        <p:spPr>
          <a:xfrm>
            <a:off x="1643040" y="214200"/>
            <a:ext cx="571500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Рисунок 5" descr="РИС.jpg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1000080" y="1546200"/>
          <a:ext cx="7215120" cy="4079880"/>
        </p:xfrm>
        <a:graphic>
          <a:graphicData uri="http://schemas.openxmlformats.org/drawingml/2006/table">
            <a:tbl>
              <a:tblPr/>
              <a:tblGrid>
                <a:gridCol w="1390680"/>
                <a:gridCol w="1538280"/>
                <a:gridCol w="4286160"/>
              </a:tblGrid>
              <a:tr h="704880">
                <a:tc>
                  <a:txBody>
                    <a:bodyPr lIns="78120" rIns="78120" tIns="39240" bIns="3924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 проведения реформ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8120" marR="7812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c7483"/>
                    </a:solidFill>
                  </a:tcPr>
                </a:tc>
                <a:tc>
                  <a:txBody>
                    <a:bodyPr lIns="78120" rIns="78120" tIns="39240" bIns="3924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ководитель проводимых рефор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8120" marR="78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c7483"/>
                    </a:solidFill>
                  </a:tcPr>
                </a:tc>
                <a:tc>
                  <a:txBody>
                    <a:bodyPr lIns="78120" rIns="78120" tIns="39240" bIns="3924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ое содерж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фор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8120" marR="781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c7483"/>
                    </a:solidFill>
                  </a:tcPr>
                </a:tc>
              </a:tr>
              <a:tr h="642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17-19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Н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353880" algn="just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37-19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авный Военный Совет Красной Армии и Фло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353880" algn="just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41-19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К КПС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внарко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353880" algn="just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-ые -19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ЦК КПСС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Верховный Совет СССР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Совет Министров ССС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357120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-ые г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рховный главнокомандующ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ительство РФ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ноборон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177840">
                        <a:spcBef>
                          <a:spcPts val="2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Box 8"/>
          <p:cNvSpPr/>
          <p:nvPr/>
        </p:nvSpPr>
        <p:spPr>
          <a:xfrm>
            <a:off x="2428920" y="85716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бота с таблиц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941-194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Рисунок 5" descr="РИС.jpg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7"/>
          <p:cNvSpPr/>
          <p:nvPr/>
        </p:nvSpPr>
        <p:spPr>
          <a:xfrm>
            <a:off x="1357200" y="1857240"/>
            <a:ext cx="65008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2dcc1"/>
                </a:solidFill>
                <a:latin typeface="Arial"/>
                <a:ea typeface="Arial"/>
              </a:rPr>
              <a:t>Контрольные вопрос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 какими событиями (политическими, героическими, историческими) из уроков истории и обществознания связан рассматриваемый нами  материал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Как вы оцениваете военные реформы с современных позиц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середине XVI века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ван Грозный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вел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енную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форму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результате было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здано стрелецкое войско. Оно несло службу не только в военное, но и в мирное время. Стрельцы имели единообразное вооружение (пищаль, сабля и бердыш) и форму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4140360" cy="314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916360" y="692280"/>
            <a:ext cx="1800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ым для страны в военном отношении был XVIII век. Молодой царь Петр I провел военные реформы, итог которых - создание регулярных вооруженных сил (сухопутной армии и флота) численностью более 200 тыс. человек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ождение традиций русской гварди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68360" y="3046320"/>
            <a:ext cx="2914560" cy="3811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643280" y="2997360"/>
            <a:ext cx="34210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4214880" cy="5715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357720" y="3618000"/>
            <a:ext cx="2622240" cy="324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6286680" y="0"/>
            <a:ext cx="2643120" cy="3664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4"/>
          <a:stretch/>
        </p:blipFill>
        <p:spPr>
          <a:xfrm>
            <a:off x="214200" y="3666960"/>
            <a:ext cx="3024360" cy="3191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5"/>
          <a:stretch/>
        </p:blipFill>
        <p:spPr>
          <a:xfrm>
            <a:off x="3276720" y="0"/>
            <a:ext cx="2519280" cy="376560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"/>
          <p:cNvSpPr/>
          <p:nvPr/>
        </p:nvSpPr>
        <p:spPr>
          <a:xfrm>
            <a:off x="6143760" y="3929040"/>
            <a:ext cx="3000240" cy="29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нералисиму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увор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нерал-фельдмарша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дмирал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шаков,Нахим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нера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кобел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14520" y="274320"/>
            <a:ext cx="4714920" cy="17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дмирал Корнилов Генерал Брусило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419640" y="2565360"/>
            <a:ext cx="5724360" cy="381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214200" y="285840"/>
            <a:ext cx="41403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1"/>
          <p:cNvSpPr/>
          <p:nvPr/>
        </p:nvSpPr>
        <p:spPr>
          <a:xfrm>
            <a:off x="0" y="0"/>
            <a:ext cx="91440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ВОЕННЫЕ  РЕФОРМЫ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ПОСЛЕ ОКТЯБРЬСКОЙ РЕВОЛЮЦ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1917-1918 ГОД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0" y="3429000"/>
            <a:ext cx="9144000" cy="30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ктябрьская революция 1917 года разрушила существовавшее государственное устройство России и ликвидировала вооруженные силы. Правительству Республики Советов пришлось в первые месяцы создавать новые вооруженные силы с учетом нового общественного устройства страны, внешних угроз и материальных возмож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Рисунок 5" descr="241783838.jpg"/>
          <p:cNvPicPr/>
          <p:nvPr/>
        </p:nvPicPr>
        <p:blipFill>
          <a:blip r:embed="rId1"/>
          <a:stretch/>
        </p:blipFill>
        <p:spPr>
          <a:xfrm>
            <a:off x="179280" y="119160"/>
            <a:ext cx="4846680" cy="32194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274051645.jpg"/>
          <p:cNvPicPr/>
          <p:nvPr/>
        </p:nvPicPr>
        <p:blipFill>
          <a:blip r:embed="rId2"/>
          <a:stretch/>
        </p:blipFill>
        <p:spPr>
          <a:xfrm>
            <a:off x="6156360" y="189000"/>
            <a:ext cx="27367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9:50:24Z</dcterms:created>
  <dc:creator>Sergey_2</dc:creator>
  <dc:description/>
  <dc:language>en-US</dc:language>
  <cp:lastModifiedBy>ОБЖ</cp:lastModifiedBy>
  <dcterms:modified xsi:type="dcterms:W3CDTF">2013-02-11T09:07:43Z</dcterms:modified>
  <cp:revision>481</cp:revision>
  <dc:subject/>
  <dc:title>Слайд 1</dc:title>
</cp:coreProperties>
</file>