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948-825C-4FCA-A76D-AD0323B8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558-AA60-48FF-B737-2CC897E0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8C7-B7FB-4158-9C51-145A61DE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74A-4B15-49AD-8207-CE09C76D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2623B-69D9-4945-AEBB-EF9C29DB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7A791-C853-4AD0-AF4D-54934853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0439B-2FEA-405D-B505-96DFDCF1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9E139-AC17-4676-9CDC-372BC484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D87C6-026C-4C13-B6A3-B10157AA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18B69-5EFA-4B02-8174-76462CC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6FFD5-51E1-489D-818B-12758D4F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696-389C-4D68-A6C2-8F29A78B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03CB4-807E-4B4A-9D64-6147284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B94D1-38E1-4DAE-BC93-26289842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7FFB9-CF54-4024-BA94-C632E613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84A12-0A98-46FA-93A7-FE541B59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D2DBA-8462-46BD-BAE1-B7A4E932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4B9-2250-440C-B09B-2AFBAE21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EE8-8EB2-4FB1-B35A-F305D846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B57-3A07-4E37-B211-B43AA2C0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CEC-1F11-46C5-B166-B6325C01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0F4-62C7-47C7-AE44-C0B3C85F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B28-0B83-4E12-B64A-F4F58919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3A8-ABC6-48E7-A56B-CE561DE2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477E-0C3A-4602-9039-5662B696B1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35D3-8048-404B-8B9F-57D14420A4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      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       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                 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       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66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067280" y="259920"/>
            <a:ext cx="5076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Александр Беля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00"/>
                </a:solidFill>
                <a:uFillTx/>
                <a:latin typeface="Decor"/>
              </a:rPr>
              <a:t>«Человек-   амфибия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41893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4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33336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2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Что такое эспаньол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) шляп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) бород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) стриж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боро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«Хромым он делает новые ноги, живые ноги, слепым даёт зоркие, как у орла, глаза и даже воскрешает мертвых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 ком идёт реч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Ольсе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Крист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Сальва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равильный ответ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альвато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1844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 нему быстро подплыло странное существо, получеловек-полулягушка, с серебристой чешуёй, огромными выпуклыми глазами и лягушачьими лап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чему Ихтиандр так выгляде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489744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Правильный 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он был в очках, перчатках, ластах, искусственной чешу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284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6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6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26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…сын доктора, человека, по-видимому, очень состоятельного. Он воспитал сына вдали от города и людей и дал ему очень своеобразное и одностороннее воспитани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ого воспитал докто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Ихтианд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Ольсе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Крис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Ихтианд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6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6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6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6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Ихтиандр продолжал говорить с ним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Оставайся со мной, Лидинг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то такой Лидин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дельфи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слуг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др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0"/>
                            </p:stCondLst>
                            <p:childTnLst>
                              <p:par>
                                <p:cTn id="6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дельфин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2521080"/>
            <a:ext cx="73454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ecor"/>
              </a:rPr>
              <a:t>Жанр: фантаст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Decor"/>
              </a:rPr>
              <a:t>Место действия</a:t>
            </a:r>
            <a:r>
              <a:rPr b="1" lang="en-US" sz="6000" spc="-1" strike="noStrike">
                <a:solidFill>
                  <a:srgbClr val="ffff00"/>
                </a:solidFill>
                <a:latin typeface="Decor"/>
              </a:rPr>
              <a:t>: наш мир – Земля – Южная Амер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Decor"/>
              </a:rPr>
              <a:t>Время действия</a:t>
            </a:r>
            <a:r>
              <a:rPr b="1" lang="en-US" sz="6000" spc="-1" strike="noStrike">
                <a:solidFill>
                  <a:srgbClr val="ffff00"/>
                </a:solidFill>
                <a:latin typeface="Decor"/>
              </a:rPr>
              <a:t>: 20 ве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Decor"/>
              </a:rPr>
              <a:t>Возраст читателя</a:t>
            </a:r>
            <a:r>
              <a:rPr b="1" lang="en-US" sz="6000" spc="-1" strike="noStrike">
                <a:solidFill>
                  <a:srgbClr val="ffff00"/>
                </a:solidFill>
                <a:latin typeface="Decor"/>
              </a:rPr>
              <a:t> - любо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Я пересадил ребёнку жабры,и ребёнок получил возможность жить на земле и под водо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Чьи жабры были пересажены ребенк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3357720"/>
            <a:ext cx="559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рыбы-пи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дельфина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молодой аку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6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6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000"/>
                            </p:stCondLst>
                            <p:childTnLst>
                              <p:par>
                                <p:cTn id="6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6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6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8000"/>
                            </p:stCondLst>
                            <p:childTnLst>
                              <p:par>
                                <p:cTn id="6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6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6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молодой акул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огда мы сняли с Ихтиандра его чешую, то обнаружили… круглые отверстия десяти сантиметров в диаметре, закрытые пятью тонкими полосками, похожими на жабр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Где были обнаружены отверст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971800"/>
            <a:ext cx="58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на груд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под обеими лопатками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с двух сторон ш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000"/>
                            </p:stCondLst>
                            <p:childTnLst>
                              <p:par>
                                <p:cTn id="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8000"/>
                            </p:stCondLst>
                            <p:childTnLst>
                              <p:par>
                                <p:cTn id="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под обеими лопаткам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700"/>
                            </p:stCondLst>
                            <p:childTnLst>
                              <p:par>
                                <p:cTn id="7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5075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Два человека выразили желание быть опекунами Ихтиандр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Кто эти люд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971800"/>
            <a:ext cx="545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епископ и прокуро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Зурита и Бальтаза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Сальватор и Крис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000"/>
                            </p:stCondLst>
                            <p:childTnLst>
                              <p:par>
                                <p:cTn id="7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8000"/>
                            </p:stCondLst>
                            <p:childTnLst>
                              <p:par>
                                <p:cTn id="7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Зурита и Бальтаза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627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6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6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6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6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4000"/>
                            </p:stCondLst>
                            <p:childTnLst>
                              <p:par>
                                <p:cTn id="8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Decor"/>
              </a:rPr>
              <a:t>В 1961 году по мотивам книги был снят фильм с одноименным название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05144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3236760"/>
            <a:ext cx="4572000" cy="3537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0" y="-28440"/>
            <a:ext cx="9144000" cy="697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0" y="-39600"/>
            <a:ext cx="8820000" cy="6878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500"/>
                            </p:stCondLst>
                            <p:childTnLst>
                              <p:par>
                                <p:cTn id="843" nodeType="after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0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6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8000"/>
                            </p:stCondLst>
                            <p:childTnLst>
                              <p:par>
                                <p:cTn id="860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2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864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3000"/>
                            </p:stCondLst>
                            <p:childTnLst>
                              <p:par>
                                <p:cTn id="868" nodeType="afterEffect" fill="hold" presetClass="entr" presetID="18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0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500"/>
                            </p:stCondLst>
                            <p:childTnLst>
                              <p:par>
                                <p:cTn id="872" nodeType="afterEffect" fill="hold" presetClass="entr" presetID="6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4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80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Главные геро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Ихтиандр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человек-амфиб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Бальтаза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индеец, в молодости — ловец жемчуга; возможно, отец Ихтианд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Педро Зури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владелец шхуны «Медуза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Сальватор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доктор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Крист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брат Бальтаза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Гуттиэр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приёмная дочь Бальтаза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Ольсе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рабочий на фабрике, друг Гуттиэ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Долоре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мать Педро Зури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Флорес де Ларра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ходатай по судебным дел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Аугусто де 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прокур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Хуан де Гарсиласс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епископ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Шей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профессор, эксперт суда смотритель тюрь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6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6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4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4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4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4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4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4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4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4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4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4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4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4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4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4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4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4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4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4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4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4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4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4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4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Роман ниписан в 1927 году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и впервые опубликован в журна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«Вокруг света» в 1928 году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«Человек-амфибия» - од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из самых популяр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произведений Александра Беляе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не только в нашей стране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но и во всем ми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3070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Однажды талантливый ученый доктор Сальватор спас жизнь маленькому мальчику, пересадив ему жабры акулы. С этого  дня Ихтиандр, так назвал своего приемного сына ученый  мог плавать под водой, как рыб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нырять на любу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глубину,  но е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было тяжел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подолг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находить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на суше…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35280" y="2552760"/>
            <a:ext cx="5508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56000" y="0"/>
            <a:ext cx="478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Годы спустя по тихому морскому городу поползли слухи о странном существе, наводящем ужас на всех рыбаков, o «морском дьяволе». В это же самое время в городе появляется молодой человек, который мало общается с людьми и прекрасно плавает. Он знакомится с дочерью бедного ныряльщика за жемчугом, красавицей Гутиэре и без памяти в нее влюбляется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090880"/>
            <a:ext cx="45720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4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-360"/>
            <a:ext cx="864072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Decor"/>
              </a:rPr>
              <a:t>Такова завязка этой блистательной романтической драм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39621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Decor"/>
              </a:rPr>
              <a:t>Викторина по произведению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Decor"/>
              </a:rPr>
              <a:t>А. Беляева «Человек-амфиби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Ихтиандр увидел смуглого, уже немолодого человека, с пушистыми, приподнятыми вверх усами и небольшой эспаньолко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 ком идё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Бальтаза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 Зури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Сальва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6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6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6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6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000"/>
                            </p:stCondLst>
                            <p:childTnLst>
                              <p:par>
                                <p:cTn id="3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6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6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6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6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6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равильный ответ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Зурит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333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6:51:47Z</dcterms:created>
  <dc:creator>WiZaRd</dc:creator>
  <dc:description/>
  <dc:language>en-US</dc:language>
  <cp:lastModifiedBy>WiZaRd</cp:lastModifiedBy>
  <dcterms:modified xsi:type="dcterms:W3CDTF">2010-11-24T13:35:34Z</dcterms:modified>
  <cp:revision>20</cp:revision>
  <dc:subject/>
  <dc:title>Александр Беляев  Человек-амфибия </dc:title>
</cp:coreProperties>
</file>