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91E2-F41F-480A-855E-68819189B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0A7A-997F-4EA7-8FE4-BD1CA8868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548E-4E03-4F8E-8953-FD25572D3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6050-8C31-4670-9864-48F2D6663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9118F0-C573-4833-B907-7E7D7B567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EFAF2D-BB18-4CFE-B872-1E01910D6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E15B6D-86B4-464D-B64B-4C5171322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178A5E-08DD-4F8C-A0D2-95B79C854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371920-BB10-448B-8113-67E490F5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7383C9-373C-4C18-80F1-6FCAAB5FD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ED1EDF-5924-48DB-A371-5FE8359A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EA47-62F5-4462-AD12-A054C2235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514FAE-93E0-40F7-976A-9220EF7C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2E51B0-2EFC-4E01-A473-B1EDEBE0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4E4437-CC05-44EE-AAF9-54EA1C824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F03E82-7B5F-4B82-952A-B4CD4D640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160493-533B-4875-9197-6656A4484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1177-638B-4BD7-AA44-506C36558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1E17-DE17-420E-8942-4ADCF2DC2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85D4-B02E-4E4F-B432-1D8F4852D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1B8F-A994-4250-AE97-68DBACA4F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F834-B4A1-4A1A-BE2E-C03A5F2B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4C1E-21FB-4143-A859-79F3ADB5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A61D-C580-4391-B110-CBE8E533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D3B71-4572-4BE8-8764-4C9CE806710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D35C7-7B89-45F8-A391-84204CDEA1D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 Unicode MS"/>
              </a:rPr>
              <a:t>         </a:t>
            </a: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Arial Unicode MS"/>
              </a:rPr>
              <a:t>          </a:t>
            </a: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Arial Unicode MS"/>
              </a:rPr>
              <a:t>                    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Arial Unicode MS"/>
              </a:rPr>
              <a:t>  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Arial Unicode MS"/>
              </a:rPr>
              <a:t>          </a:t>
            </a:r>
            <a:br>
              <a:rPr sz="5400"/>
            </a:br>
            <a:br>
              <a:rPr sz="5400"/>
            </a:br>
            <a:br>
              <a:rPr sz="5400"/>
            </a:br>
            <a:br>
              <a:rPr sz="6600"/>
            </a:b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067280" y="259920"/>
            <a:ext cx="507672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Tahoma"/>
              </a:rPr>
              <a:t>Александр Беляе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ffff00"/>
                </a:solidFill>
                <a:uFillTx/>
                <a:latin typeface="Decor"/>
              </a:rPr>
              <a:t>«Человек-   амфибия»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17640"/>
            <a:ext cx="418932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4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4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4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4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68360" y="333360"/>
            <a:ext cx="799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2)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Что такое эспаньолк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   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а) шляпа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б) борода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в) стриж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6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Правильный ответ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ahoma"/>
              </a:rPr>
              <a:t>борода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2000"/>
                            </p:stCondLst>
                            <p:childTnLst>
                              <p:par>
                                <p:cTn id="4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I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«Хромым он делает новые ноги, живые ноги, слепым даёт зоркие, как у орла, глаза и даже воскрешает мертвых»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О ком идёт речь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)Ольсен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)Кристо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)Сальвато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3000"/>
                            </p:stCondLst>
                            <p:childTnLst>
                              <p:par>
                                <p:cTn id="4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0"/>
                            </p:stCondLst>
                            <p:childTnLst>
                              <p:par>
                                <p:cTn id="4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7000"/>
                            </p:stCondLst>
                            <p:childTnLst>
                              <p:par>
                                <p:cTn id="4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Правильный ответ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ahoma"/>
              </a:rPr>
              <a:t>Сальватор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58920" y="2205000"/>
            <a:ext cx="612144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6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2000"/>
                            </p:stCondLst>
                            <p:childTnLst>
                              <p:par>
                                <p:cTn id="5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0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4000"/>
                            </p:stCondLst>
                            <p:childTnLst>
                              <p:par>
                                <p:cTn id="51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14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1844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К нему быстро подплыло странное существо, получеловек-полулягушка, с серебристой чешуёй, огромными выпуклыми глазами и лягушачьими лапами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263664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Почему Ихтиандр так выглядел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000"/>
                            </p:stCondLst>
                            <p:childTnLst>
                              <p:par>
                                <p:cTn id="52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9280" y="333360"/>
            <a:ext cx="4897440" cy="56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Правильный ответ: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он был в очках, перчатках, ластах, искусственной чешуе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859280" y="1700280"/>
            <a:ext cx="42847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8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8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8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8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6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16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6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6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5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26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«…сын доктора, человека, по-видимому, очень состоятельного. Он воспитал сына вдали от города и людей и дал ему очень своеобразное и одностороннее воспитание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997360"/>
            <a:ext cx="8229600" cy="30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Кого воспитал доктор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) Ихтиандр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) Ольсен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) Крист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0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6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3000"/>
                            </p:stCondLst>
                            <p:childTnLst>
                              <p:par>
                                <p:cTn id="5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4000"/>
                            </p:stCondLst>
                            <p:childTnLst>
                              <p:par>
                                <p:cTn id="5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0"/>
                            </p:stCondLst>
                            <p:childTnLst>
                              <p:par>
                                <p:cTn id="5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Правильный ответ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6000" spc="-1" strike="noStrike">
                <a:solidFill>
                  <a:srgbClr val="ffff00"/>
                </a:solidFill>
                <a:latin typeface="Tahoma"/>
              </a:rPr>
              <a:t>Ихтиандр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124000" y="285264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0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6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6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6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6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2000"/>
                            </p:stCondLst>
                            <p:childTnLst>
                              <p:par>
                                <p:cTn id="60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6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6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6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6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5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«Ихтиандр продолжал говорить с ним: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- Оставайся со мной, Лидинг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Кто такой Лидинг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) дельфин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) слуг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) дру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3000"/>
                            </p:stCondLst>
                            <p:childTnLst>
                              <p:par>
                                <p:cTn id="6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4000"/>
                            </p:stCondLst>
                            <p:childTnLst>
                              <p:par>
                                <p:cTn id="6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5000"/>
                            </p:stCondLst>
                            <p:childTnLst>
                              <p:par>
                                <p:cTn id="64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Правильный ответ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6000" spc="-1" strike="noStrike">
                <a:solidFill>
                  <a:srgbClr val="ffff00"/>
                </a:solidFill>
                <a:latin typeface="Tahoma"/>
              </a:rPr>
              <a:t>дельфин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042920" y="2521080"/>
            <a:ext cx="7345440" cy="43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5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89000"/>
            <a:ext cx="896472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Decor"/>
              </a:rPr>
              <a:t>Жанр: фантастика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ff00"/>
                </a:solidFill>
                <a:uFillTx/>
                <a:latin typeface="Decor"/>
              </a:rPr>
              <a:t>Место действия</a:t>
            </a:r>
            <a:r>
              <a:rPr b="1" lang="en-US" sz="6000" spc="-1" strike="noStrike">
                <a:solidFill>
                  <a:srgbClr val="ffff00"/>
                </a:solidFill>
                <a:latin typeface="Decor"/>
              </a:rPr>
              <a:t>: наш мир – Земля – Южная Америка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ff00"/>
                </a:solidFill>
                <a:uFillTx/>
                <a:latin typeface="Decor"/>
              </a:rPr>
              <a:t>Время действия</a:t>
            </a:r>
            <a:r>
              <a:rPr b="1" lang="en-US" sz="6000" spc="-1" strike="noStrike">
                <a:solidFill>
                  <a:srgbClr val="ffff00"/>
                </a:solidFill>
                <a:latin typeface="Decor"/>
              </a:rPr>
              <a:t>: 20 век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ff00"/>
                </a:solidFill>
                <a:uFillTx/>
                <a:latin typeface="Decor"/>
              </a:rPr>
              <a:t>Возраст читателя</a:t>
            </a:r>
            <a:r>
              <a:rPr b="1" lang="en-US" sz="6000" spc="-1" strike="noStrike">
                <a:solidFill>
                  <a:srgbClr val="ffff00"/>
                </a:solidFill>
                <a:latin typeface="Decor"/>
              </a:rPr>
              <a:t> - любой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6000"/>
                            </p:stCondLst>
                            <p:childTnLst>
                              <p:par>
                                <p:cTn id="7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«Я пересадил ребёнку жабры,и ребёнок получил возможность жить на земле и под водой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Чьи жабры были пересажены ребенку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1258920" y="3357720"/>
            <a:ext cx="5599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а) рыбы-пил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б) дельфина;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) молодой акул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6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16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16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6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6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6000"/>
                            </p:stCondLst>
                            <p:childTnLst>
                              <p:par>
                                <p:cTn id="67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16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16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6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6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8000"/>
                            </p:stCondLst>
                            <p:childTnLst>
                              <p:par>
                                <p:cTn id="68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16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16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6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6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Правильный ответ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6000" spc="-1" strike="noStrike">
                <a:solidFill>
                  <a:srgbClr val="ffff00"/>
                </a:solidFill>
                <a:latin typeface="Tahoma"/>
              </a:rPr>
              <a:t>молодой акулы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0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1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2000"/>
                            </p:stCondLst>
                            <p:childTnLst>
                              <p:par>
                                <p:cTn id="7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5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Когда мы сняли с Ихтиандра его чешую, то обнаружили… круглые отверстия десяти сантиметров в диаметре, закрытые пятью тонкими полосками, похожими на жабры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9280" y="2060280"/>
            <a:ext cx="8640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Где были обнаружены отверстия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2971800"/>
            <a:ext cx="581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а) на груд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б) под обеими лопатками;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) с двух сторон ше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0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1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2000"/>
                            </p:stCondLst>
                            <p:childTnLst>
                              <p:par>
                                <p:cTn id="71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4000"/>
                            </p:stCondLst>
                            <p:childTnLst>
                              <p:par>
                                <p:cTn id="72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6000"/>
                            </p:stCondLst>
                            <p:childTnLst>
                              <p:par>
                                <p:cTn id="73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2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8000"/>
                            </p:stCondLst>
                            <p:childTnLst>
                              <p:par>
                                <p:cTn id="74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2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Правильный ответ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6000" spc="-1" strike="noStrike">
                <a:solidFill>
                  <a:srgbClr val="ffff00"/>
                </a:solidFill>
                <a:latin typeface="Tahoma"/>
              </a:rPr>
              <a:t>под обеими лопатками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1700"/>
                            </p:stCondLst>
                            <p:childTnLst>
                              <p:par>
                                <p:cTn id="76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2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2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2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5075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«Два человека выразили желание быть опекунами Ихтиандра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Кто эти люд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0" y="2971800"/>
            <a:ext cx="545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) епископ и прокурор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) Зурита и Бальтазар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) Сальватор и Крист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2000"/>
                            </p:stCondLst>
                            <p:childTnLst>
                              <p:par>
                                <p:cTn id="7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4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4000"/>
                            </p:stCondLst>
                            <p:childTnLst>
                              <p:par>
                                <p:cTn id="7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8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6000"/>
                            </p:stCondLst>
                            <p:childTnLst>
                              <p:par>
                                <p:cTn id="7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2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8000"/>
                            </p:stCondLst>
                            <p:childTnLst>
                              <p:par>
                                <p:cTn id="7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6" dur="2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Правильный ответ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6000" spc="-1" strike="noStrike">
                <a:solidFill>
                  <a:srgbClr val="ffff00"/>
                </a:solidFill>
                <a:latin typeface="Tahoma"/>
              </a:rPr>
              <a:t>Зурита и Бальтазар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332000" y="2349360"/>
            <a:ext cx="6462720" cy="48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0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16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4" dur="16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6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6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2000"/>
                            </p:stCondLst>
                            <p:childTnLst>
                              <p:par>
                                <p:cTn id="81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16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3" dur="16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6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6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4000"/>
                            </p:stCondLst>
                            <p:childTnLst>
                              <p:par>
                                <p:cTn id="81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2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4038480" cy="56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Decor"/>
              </a:rPr>
              <a:t>В 1961 году по мотивам книги был снят фильм с одноименным названием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932360" y="0"/>
            <a:ext cx="4051440" cy="2700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572000" y="3236760"/>
            <a:ext cx="4572000" cy="3537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0" y="-23760"/>
            <a:ext cx="9144000" cy="69055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6"/>
          <a:stretch/>
        </p:blipFill>
        <p:spPr>
          <a:xfrm>
            <a:off x="0" y="-28440"/>
            <a:ext cx="9144000" cy="69721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8"/>
          <a:stretch/>
        </p:blipFill>
        <p:spPr>
          <a:xfrm>
            <a:off x="0" y="-39600"/>
            <a:ext cx="8820000" cy="68785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9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0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2000"/>
                            </p:stCondLst>
                            <p:childTnLst>
                              <p:par>
                                <p:cTn id="837" nodeType="afterEffect" fill="hold" presetClass="entr" presetID="47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5500"/>
                            </p:stCondLst>
                            <p:childTnLst>
                              <p:par>
                                <p:cTn id="843" nodeType="afterEffect" fill="hold" presetClass="entr" presetID="31">
                                  <p:stCondLst>
                                    <p:cond delay="25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8" dur="5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13000"/>
                            </p:stCondLst>
                            <p:childTnLst>
                              <p:par>
                                <p:cTn id="850" nodeType="afterEffect" fill="hold" presetClass="entr" presetID="47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5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3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20500"/>
                            </p:stCondLst>
                            <p:childTnLst>
                              <p:par>
                                <p:cTn id="856" nodeType="afterEffect" fill="hold" presetClass="entr" presetID="8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8" dur="5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28000"/>
                            </p:stCondLst>
                            <p:childTnLst>
                              <p:par>
                                <p:cTn id="860" nodeType="afterEffect" fill="hold" presetClass="entr" presetID="2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2" dur="5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35500"/>
                            </p:stCondLst>
                            <p:childTnLst>
                              <p:par>
                                <p:cTn id="864" nodeType="afterEffect" fill="hold" presetClass="entr" presetID="5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6" dur="5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43000"/>
                            </p:stCondLst>
                            <p:childTnLst>
                              <p:par>
                                <p:cTn id="868" nodeType="afterEffect" fill="hold" presetClass="entr" presetID="18" presetSubtype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70" dur="5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50500"/>
                            </p:stCondLst>
                            <p:childTnLst>
                              <p:par>
                                <p:cTn id="872" nodeType="afterEffect" fill="hold" presetClass="entr" presetID="6" presetSubtype="3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74" dur="5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58000"/>
                            </p:stCondLst>
                            <p:childTnLst>
                              <p:par>
                                <p:cTn id="876" nodeType="afterEffect" fill="hold" presetClass="entr" presetID="47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8" dur="5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9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56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c00"/>
                </a:solidFill>
                <a:latin typeface="Tahoma"/>
              </a:rPr>
              <a:t>Главные геро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ahoma"/>
              </a:rPr>
              <a:t>Ихтиандр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— человек-амфиби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ahoma"/>
              </a:rPr>
              <a:t>Бальтазар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— индеец, в молодости — ловец жемчуга; возможно, отец Ихтиандр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ahoma"/>
              </a:rPr>
              <a:t>Педро Зурит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— владелец шхуны «Медуза»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ahoma"/>
              </a:rPr>
              <a:t>Сальватор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— доктор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ahoma"/>
              </a:rPr>
              <a:t>Кристо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— брат Бальтазар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ahoma"/>
              </a:rPr>
              <a:t>Гуттиэр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— приёмная дочь Бальтазар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ahoma"/>
              </a:rPr>
              <a:t>Ольсен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— рабочий на фабрике, друг Гуттиэр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ahoma"/>
              </a:rPr>
              <a:t>Долорес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— мать Педро Зурит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ahoma"/>
              </a:rPr>
              <a:t>Флорес де Ларра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— ходатай по судебным дела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ahoma"/>
              </a:rPr>
              <a:t>Аугусто де …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— прокурор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ahoma"/>
              </a:rPr>
              <a:t>Хуан де Гарсилассо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— епископ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ahoma"/>
              </a:rPr>
              <a:t>Шейн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— профессор, эксперт суда смотритель тюрьм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6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6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6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6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6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6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6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6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6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6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6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4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4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4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4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4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4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4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4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4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4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4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4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4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4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4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4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4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4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4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4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400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24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4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4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8000"/>
                            </p:stCondLst>
                            <p:childTnLst>
                              <p:par>
                                <p:cTn id="15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400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24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4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4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400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400" fill="hold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400" fill="hold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400" fill="hold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400"/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2400" fill="hold"/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400" fill="hold"/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400" fill="hold"/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400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2400" fill="hold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400" fill="hold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400" fill="hold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Decor"/>
              </a:rPr>
              <a:t>Роман ниписан в 1927 году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Decor"/>
              </a:rPr>
              <a:t>и впервые опубликован в журнал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Decor"/>
              </a:rPr>
              <a:t>«Вокруг света» в 1928 году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Decor"/>
              </a:rPr>
              <a:t>«Человек-амфибия» - одн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Decor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Decor"/>
              </a:rPr>
              <a:t>из самых популярных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Decor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Decor"/>
              </a:rPr>
              <a:t>произведений Александра Беляев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Decor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Decor"/>
              </a:rPr>
              <a:t>не только в нашей стране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Decor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Decor"/>
              </a:rPr>
              <a:t>но и во всем мир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012000" y="0"/>
            <a:ext cx="307008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7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-360" y="0"/>
            <a:ext cx="86043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Decor"/>
              </a:rPr>
              <a:t>Однажды талантливый ученый доктор Сальватор спас жизнь маленькому мальчику, пересадив ему жабры акулы. С этого  дня Ихтиандр, так назвал своего приемного сына ученый  мог плавать под водой, как рыба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Decor"/>
              </a:rPr>
              <a:t>  </a:t>
            </a:r>
            <a:r>
              <a:rPr b="1" lang="ru-RU" sz="3200" spc="-1" strike="noStrike">
                <a:solidFill>
                  <a:srgbClr val="ffff00"/>
                </a:solidFill>
                <a:latin typeface="Decor"/>
              </a:rPr>
              <a:t>нырять на любую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Decor"/>
              </a:rPr>
              <a:t>  </a:t>
            </a:r>
            <a:r>
              <a:rPr b="1" lang="ru-RU" sz="3200" spc="-1" strike="noStrike">
                <a:solidFill>
                  <a:srgbClr val="ffff00"/>
                </a:solidFill>
                <a:latin typeface="Decor"/>
              </a:rPr>
              <a:t>глубину,  но ему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Decor"/>
              </a:rPr>
              <a:t>  </a:t>
            </a:r>
            <a:r>
              <a:rPr b="1" lang="ru-RU" sz="3200" spc="-1" strike="noStrike">
                <a:solidFill>
                  <a:srgbClr val="ffff00"/>
                </a:solidFill>
                <a:latin typeface="Decor"/>
              </a:rPr>
              <a:t>было тяжел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Decor"/>
              </a:rPr>
              <a:t>  </a:t>
            </a:r>
            <a:r>
              <a:rPr b="1" lang="ru-RU" sz="3200" spc="-1" strike="noStrike">
                <a:solidFill>
                  <a:srgbClr val="ffff00"/>
                </a:solidFill>
                <a:latin typeface="Decor"/>
              </a:rPr>
              <a:t>подолгу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Decor"/>
              </a:rPr>
              <a:t>  </a:t>
            </a:r>
            <a:r>
              <a:rPr b="1" lang="ru-RU" sz="3200" spc="-1" strike="noStrike">
                <a:solidFill>
                  <a:srgbClr val="ffff00"/>
                </a:solidFill>
                <a:latin typeface="Decor"/>
              </a:rPr>
              <a:t>находитьс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Decor"/>
              </a:rPr>
              <a:t>  </a:t>
            </a:r>
            <a:r>
              <a:rPr b="1" lang="ru-RU" sz="3200" spc="-1" strike="noStrike">
                <a:solidFill>
                  <a:srgbClr val="ffff00"/>
                </a:solidFill>
                <a:latin typeface="Decor"/>
              </a:rPr>
              <a:t>на суше… 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635280" y="2552760"/>
            <a:ext cx="550872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0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356000" y="0"/>
            <a:ext cx="4788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Deco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Decor"/>
              </a:rPr>
              <a:t>Годы спустя по тихому морскому городу поползли слухи о странном существе, наводящем ужас на всех рыбаков, o «морском дьяволе». В это же самое время в городе появляется молодой человек, который мало общается с людьми и прекрасно плавает. Он знакомится с дочерью бедного ныряльщика за жемчугом, красавицей Гутиэре и без памяти в нее влюбляется…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Decor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2090880"/>
            <a:ext cx="4572000" cy="34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0"/>
                            </p:stCondLst>
                            <p:childTnLst>
                              <p:par>
                                <p:cTn id="33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4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4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4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4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9280" y="-360"/>
            <a:ext cx="864072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Decor"/>
              </a:rPr>
              <a:t>Такова завязка этой блистательной романтической драмы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427640" y="1773360"/>
            <a:ext cx="4038480" cy="30286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24000" y="3429000"/>
            <a:ext cx="396216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0" dur="5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0"/>
                            </p:stCondLst>
                            <p:childTnLst>
                              <p:par>
                                <p:cTn id="3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8" dur="5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Decor"/>
              </a:rPr>
              <a:t>Викторина по произведению 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Decor"/>
              </a:rPr>
              <a:t>А. Беляева «Человек-амфибия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Ихтиандр увидел смуглого, уже немолодого человека, с пушистыми, приподнятыми вверх усами и небольшой эспаньолкой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О ком идёт речь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) Бальтазар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)  Зурит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) Сальвато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0"/>
                            </p:stCondLst>
                            <p:childTnLst>
                              <p:par>
                                <p:cTn id="37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6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6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6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6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7000"/>
                            </p:stCondLst>
                            <p:childTnLst>
                              <p:par>
                                <p:cTn id="38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6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6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6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6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9000"/>
                            </p:stCondLst>
                            <p:childTnLst>
                              <p:par>
                                <p:cTn id="39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6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6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6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6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1000"/>
                            </p:stCondLst>
                            <p:childTnLst>
                              <p:par>
                                <p:cTn id="40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6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6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6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6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3000"/>
                            </p:stCondLst>
                            <p:childTnLst>
                              <p:par>
                                <p:cTn id="41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6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6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6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8640"/>
            <a:ext cx="8229600" cy="58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Правильный ответ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6000" spc="-1" strike="noStrike">
                <a:solidFill>
                  <a:srgbClr val="ffff00"/>
                </a:solidFill>
                <a:latin typeface="Tahoma"/>
              </a:rPr>
              <a:t>Зурита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692360" y="2708280"/>
            <a:ext cx="533376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4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8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4000"/>
                            </p:stCondLst>
                            <p:childTnLst>
                              <p:par>
                                <p:cTn id="43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2" dur="5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9T06:51:47Z</dcterms:created>
  <dc:creator>WiZaRd</dc:creator>
  <dc:description/>
  <dc:language>en-US</dc:language>
  <cp:lastModifiedBy>WiZaRd</cp:lastModifiedBy>
  <dcterms:modified xsi:type="dcterms:W3CDTF">2010-11-24T13:35:34Z</dcterms:modified>
  <cp:revision>20</cp:revision>
  <dc:subject/>
  <dc:title>Александр Беляев  Человек-амфибия </dc:title>
</cp:coreProperties>
</file>