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3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png" ContentType="image/png"/>
  <Override PartName="/ppt/media/image17.gif" ContentType="image/gif"/>
  <Override PartName="/ppt/media/image21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media/image12.png" ContentType="image/png"/>
  <Override PartName="/ppt/media/image23.jpeg" ContentType="image/jpe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AF11-43B5-4F10-AE87-118D2BF5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BB66-585A-4E3C-A10A-E989C335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E0B-17E2-4195-A1E3-25B5334B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CB84-E942-4ADE-96B5-7C21759D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0533-88AF-45F8-866A-B8DB76A8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A013-612E-41E5-818F-B70C54BB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975C-6E88-42FE-827F-69E0D436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1B49-655D-4C24-A396-30FD9C94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3568-68B2-4CBE-8569-34DAA201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373D-895F-416F-B369-0C3683DD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106B-9BB6-40BD-97C7-806EB5D5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4784-8322-44C1-B09F-163F8A6A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0FDB-3A95-4F2A-98E2-330021C7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EF40-41F4-48D8-B795-B5399C59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844B-6FB3-47BA-8D07-F0A433C2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24C6-5894-4000-8D04-646E77A8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C861-C7F2-4B8A-B43E-3A31B533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56BD4-CA66-4418-B405-A9D360BE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17D45-A43E-4FA9-9A79-FD29E071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276B7-EA37-4627-A337-C87849FB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8F6CE-CE81-4905-B22B-15689EDF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3791E-734B-4D0B-913D-A22D7830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EF1-8D87-4075-99C9-1D6E7C1B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76E9F-CD9B-42CC-B4FD-8B60372B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42A4B-ACBC-4C71-B3B9-70AA8A74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91941-5095-4F23-94DC-0B389DC6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6D6A2-3806-4CA9-A96D-F6C3E9CD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57BFE-3298-49BD-B297-418B6FF8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70008-3289-4C2B-838E-E4A9CEF8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B80B8-4B03-4BAC-AE29-9E14D155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8D727-416B-43FF-B158-1EDB3996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214AF-083F-44BF-A90D-0367B96C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541BA-2392-48DE-98BB-3F046399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DDC-8ACA-48BE-868D-10764133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10A19-43C2-43B2-88E2-013BACD8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63AEA-59C7-42A8-BE1A-D415A252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CCD50-5E8D-4CED-9F69-ECBCA14E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12285-B77D-4BD2-8857-382A81FF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4FEB0-3318-401B-BD03-6F57BFAC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7B390-EC07-498C-B183-6B3AF76E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5BC99-149B-4EF6-952A-AD3CD7E7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9A09D-03F2-46EA-BF95-212D2AF2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09670-E7A4-4A38-B8D6-2B107A0E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26B4-EF40-4C78-B43B-2A788765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4D62-DD38-49A9-ACB0-6FB85483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6798-44B9-43A1-AE17-DD4D9FB5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8018-4E1A-4CA9-BB41-C6F0DF3F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FD2-0EDA-4988-9759-8CE4AAF8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1400-AC71-4BB1-B78C-9C650DF2A63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3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6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F603-F87C-4641-AD66-275E4BB51FE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EC30-EED1-4BA3-9660-EC950C5CED3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536E-D04B-4ED7-A32B-0071863F1F7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18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395280" y="6480"/>
            <a:ext cx="8064360" cy="3767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755640" y="3478320"/>
            <a:ext cx="2333520" cy="291600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1"/>
          <p:cNvSpPr/>
          <p:nvPr/>
        </p:nvSpPr>
        <p:spPr>
          <a:xfrm>
            <a:off x="4175280" y="381168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езентация подготовле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чителем начальных классов</a:t>
            </a:r>
            <a:br>
              <a:rPr sz="2400"/>
            </a:br>
            <a:r>
              <a:rPr b="0" lang="ru-RU" sz="2400" spc="-1" strike="noStrike">
                <a:solidFill>
                  <a:srgbClr val="101323"/>
                </a:solidFill>
                <a:latin typeface="Trebuchet MS"/>
                <a:ea typeface="Calibri"/>
              </a:rPr>
              <a:t>МКО Куйбышевского района </a:t>
            </a:r>
            <a:br>
              <a:rPr sz="2400"/>
            </a:br>
            <a:r>
              <a:rPr b="0" lang="ru-RU" sz="2400" spc="-1" strike="noStrike">
                <a:solidFill>
                  <a:srgbClr val="101323"/>
                </a:solidFill>
                <a:latin typeface="Trebuchet MS"/>
                <a:ea typeface="Calibri"/>
              </a:rPr>
              <a:t>«Школы-интерната основного общего образования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ольшаковой  Оксаной Юрьевно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652480" cy="3449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2"/>
          <a:stretch/>
        </p:blipFill>
        <p:spPr>
          <a:xfrm>
            <a:off x="6429240" y="22320"/>
            <a:ext cx="2714760" cy="3262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"/>
          <p:cNvPicPr/>
          <p:nvPr/>
        </p:nvPicPr>
        <p:blipFill>
          <a:blip r:embed="rId3"/>
          <a:stretch/>
        </p:blipFill>
        <p:spPr>
          <a:xfrm>
            <a:off x="4067280" y="660240"/>
            <a:ext cx="1057320" cy="1428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C:\Users\Z\Desktop\0_696a4_ff4974e2_XXL.jpg"/>
          <p:cNvPicPr/>
          <p:nvPr/>
        </p:nvPicPr>
        <p:blipFill>
          <a:blip r:embed="rId4"/>
          <a:stretch/>
        </p:blipFill>
        <p:spPr>
          <a:xfrm>
            <a:off x="2903400" y="3710160"/>
            <a:ext cx="4023000" cy="2679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343160" y="1052640"/>
            <a:ext cx="6108480" cy="4581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835200" y="2193840"/>
            <a:ext cx="7070400" cy="15494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http://im2-tub-ru.yandex.net/i?id=316178475-37-72&amp;n=21"/>
          <p:cNvPicPr/>
          <p:nvPr/>
        </p:nvPicPr>
        <p:blipFill>
          <a:blip r:embed="rId2"/>
          <a:stretch/>
        </p:blipFill>
        <p:spPr>
          <a:xfrm>
            <a:off x="3492360" y="3860640"/>
            <a:ext cx="2651400" cy="1825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58800" y="-42840"/>
            <a:ext cx="682776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80960" y="901800"/>
            <a:ext cx="7473960" cy="3511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6804000" y="4095720"/>
            <a:ext cx="194796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Users\Z\Desktop\i1319(800,800).jpg"/>
          <p:cNvPicPr/>
          <p:nvPr/>
        </p:nvPicPr>
        <p:blipFill>
          <a:blip r:embed="rId1"/>
          <a:stretch/>
        </p:blipFill>
        <p:spPr>
          <a:xfrm>
            <a:off x="-27000" y="0"/>
            <a:ext cx="9286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C:\Users\Z\Desktop\kliparty_1_sentyabrya_pervyy_shkol_nyy_zvonok_1151714.jpg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84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:\Users\Z\Desktop\i1319(800,800).jpg"/>
          <p:cNvPicPr/>
          <p:nvPr/>
        </p:nvPicPr>
        <p:blipFill>
          <a:blip r:embed="rId1"/>
          <a:stretch/>
        </p:blipFill>
        <p:spPr>
          <a:xfrm>
            <a:off x="-27000" y="0"/>
            <a:ext cx="5227560" cy="3860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Z\Desktop\kliparty_1_sentyabrya_pervyy_shkol_nyy_zvonok_1151714.jpg"/>
          <p:cNvPicPr/>
          <p:nvPr/>
        </p:nvPicPr>
        <p:blipFill>
          <a:blip r:embed="rId2"/>
          <a:stretch/>
        </p:blipFill>
        <p:spPr>
          <a:xfrm>
            <a:off x="3990960" y="2997360"/>
            <a:ext cx="5153040" cy="384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812947574" descr="812947574"/>
          <p:cNvPicPr/>
          <p:nvPr/>
        </p:nvPicPr>
        <p:blipFill>
          <a:blip r:embed="rId1"/>
          <a:stretch/>
        </p:blipFill>
        <p:spPr>
          <a:xfrm>
            <a:off x="2556000" y="404640"/>
            <a:ext cx="3636720" cy="3637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3"/>
          <p:cNvSpPr/>
          <p:nvPr/>
        </p:nvSpPr>
        <p:spPr>
          <a:xfrm>
            <a:off x="611280" y="4508640"/>
            <a:ext cx="727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66"/>
                </a:solidFill>
                <a:latin typeface="Trebuchet MS"/>
              </a:rPr>
              <a:t>за зо зу зе зи зы оз аз из уз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5" descr="323484530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9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056960" cy="1428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"/>
          <p:cNvPicPr/>
          <p:nvPr/>
        </p:nvPicPr>
        <p:blipFill>
          <a:blip r:embed="rId2"/>
          <a:stretch/>
        </p:blipFill>
        <p:spPr>
          <a:xfrm>
            <a:off x="314280" y="5213520"/>
            <a:ext cx="1305000" cy="1428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C:\Users\Z\Desktop\big_velosipednaya_korzinka_na_rul_eko_4698.jpg"/>
          <p:cNvPicPr/>
          <p:nvPr/>
        </p:nvPicPr>
        <p:blipFill>
          <a:blip r:embed="rId3"/>
          <a:stretch/>
        </p:blipFill>
        <p:spPr>
          <a:xfrm>
            <a:off x="4932360" y="3556080"/>
            <a:ext cx="4064040" cy="3246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C:\Users\Z\Desktop\wallpapers_70100.jpg"/>
          <p:cNvPicPr/>
          <p:nvPr/>
        </p:nvPicPr>
        <p:blipFill>
          <a:blip r:embed="rId4"/>
          <a:stretch/>
        </p:blipFill>
        <p:spPr>
          <a:xfrm>
            <a:off x="38160" y="71280"/>
            <a:ext cx="4960800" cy="3969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6516720" y="458640"/>
            <a:ext cx="1057320" cy="1428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Users\Z\Desktop\278503355.jpg"/>
          <p:cNvPicPr/>
          <p:nvPr/>
        </p:nvPicPr>
        <p:blipFill>
          <a:blip r:embed="rId2"/>
          <a:stretch/>
        </p:blipFill>
        <p:spPr>
          <a:xfrm>
            <a:off x="4135320" y="2722680"/>
            <a:ext cx="4762440" cy="4228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C:\Users\Z\Desktop\umbrella6.jpg"/>
          <p:cNvPicPr/>
          <p:nvPr/>
        </p:nvPicPr>
        <p:blipFill>
          <a:blip r:embed="rId3"/>
          <a:stretch/>
        </p:blipFill>
        <p:spPr>
          <a:xfrm>
            <a:off x="160200" y="223920"/>
            <a:ext cx="428652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12:49:12Z</dcterms:created>
  <dc:creator>Z</dc:creator>
  <dc:description/>
  <dc:language>en-US</dc:language>
  <cp:lastModifiedBy>Z</cp:lastModifiedBy>
  <dcterms:modified xsi:type="dcterms:W3CDTF">2013-01-16T13:48:16Z</dcterms:modified>
  <cp:revision>31</cp:revision>
  <dc:subject/>
  <dc:title>Весёлый алфавит</dc:title>
</cp:coreProperties>
</file>