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png" ContentType="image/png"/>
  <Override PartName="/ppt/media/image17.gif" ContentType="image/gif"/>
  <Override PartName="/ppt/media/image21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8AA-6535-41D0-87A3-93F0A45E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AB7-A799-4D41-B592-EF2B6685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418-3B96-4BA4-BED9-49E72FC5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838-1A03-4C8D-BEFE-59A1A7CD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E047-2190-44BD-A461-874653D5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8A2A-17A7-4E5F-84A5-9ED3BDD9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6B0A-376A-4A34-9468-1EFD32BE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8140-CBF6-4827-8EAB-651BF2C8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C1CA-4B02-4CF2-979F-766BEB5C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2065-3D80-4F59-A391-84DC0C6A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F405-7680-4668-BDA7-52F09D9A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96F-B2A2-4226-B589-7C983AC1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D45E-C6EE-498E-9C36-A6463A90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B3C0-E116-4A16-8584-2990E038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FA5A-C3E6-4B8F-8B4A-E261E4BC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CF9E-FFA6-4005-A3D5-9C8EB667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1F48-864A-4B30-9B0E-56C80674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EC31-73DE-44D4-BDCE-357265E7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2DEA-F794-4185-9EB8-F50E3CD3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A5DD2-2173-458A-AF03-E8A12128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77E18-4C8E-45D5-B76B-DC934000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3561-320B-4842-93B4-78E48EED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460-D5A4-4742-8F50-324E88B4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43CD-0C8B-4C54-9FC3-0290ACA9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3AC9-003F-49C4-86D8-7EF81B1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BA17-5544-46BC-8945-D9CFA5D8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9C78-D77A-4914-B91D-9FB25B00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634D8-8ABF-4D98-9787-F2C51175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DAF4-D906-494C-85FA-E35C52DB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851C-8CC9-4A84-A730-1987353E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7C55-B128-4720-8522-75E89A88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53FD5-7359-4D54-994B-608304BE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3F0A6-E120-4E61-B676-6B96AF81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30A-6872-403F-9899-F29DD84F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1CA3-850A-4D94-8DA6-B1B81C07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7614A-2117-499A-887A-B58CB700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64DB-9277-41E0-B473-29CE8BF4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ABE7E-E8A0-4CE6-BD56-5737ADBC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FA36-D05B-4D92-B04E-BCF70224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CB972-1E00-4856-973B-0DA1686B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77AB0-CD24-4E49-B4C5-FC661500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E635-4FC3-4484-990F-4C795F03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A726-3F60-41E8-9731-9944A594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710B-E682-4ED4-9330-94CFFB3A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A1E-64B8-4C75-B4A8-467A6DCA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C21-7589-4FCC-ADF8-5157A74E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45F-123F-4E21-B608-BE4109E4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EA0-112E-4DAB-956D-318B2E4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5733-B77F-42BD-90FF-29601012169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6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771C-DDF1-4C2C-8A1B-5B6B4091D81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6D67-6CCD-4B22-9874-FBF77DF9848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90C5-D98A-454A-859F-A0B5AEE398B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8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395280" y="6480"/>
            <a:ext cx="8064360" cy="3767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755640" y="3478320"/>
            <a:ext cx="2333520" cy="291600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"/>
          <p:cNvSpPr/>
          <p:nvPr/>
        </p:nvSpPr>
        <p:spPr>
          <a:xfrm>
            <a:off x="4175280" y="38116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езентация подготовле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ителем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101323"/>
                </a:solidFill>
                <a:latin typeface="Trebuchet MS"/>
                <a:ea typeface="Calibri"/>
              </a:rPr>
              <a:t>МКО Куйбышевского района </a:t>
            </a:r>
            <a:br>
              <a:rPr sz="2400"/>
            </a:br>
            <a:r>
              <a:rPr b="0" lang="ru-RU" sz="2400" spc="-1" strike="noStrike">
                <a:solidFill>
                  <a:srgbClr val="101323"/>
                </a:solidFill>
                <a:latin typeface="Trebuchet MS"/>
                <a:ea typeface="Calibri"/>
              </a:rPr>
              <a:t>«Школы-интерната основного общего образования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ольшаковой  Оксаной Юрьевно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652480" cy="3449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6429240" y="22320"/>
            <a:ext cx="2714760" cy="3262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"/>
          <p:cNvPicPr/>
          <p:nvPr/>
        </p:nvPicPr>
        <p:blipFill>
          <a:blip r:embed="rId3"/>
          <a:stretch/>
        </p:blipFill>
        <p:spPr>
          <a:xfrm>
            <a:off x="4067280" y="66024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Users\Z\Desktop\0_696a4_ff4974e2_XXL.jpg"/>
          <p:cNvPicPr/>
          <p:nvPr/>
        </p:nvPicPr>
        <p:blipFill>
          <a:blip r:embed="rId4"/>
          <a:stretch/>
        </p:blipFill>
        <p:spPr>
          <a:xfrm>
            <a:off x="2903400" y="3710160"/>
            <a:ext cx="4023000" cy="267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343160" y="1052640"/>
            <a:ext cx="610848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835200" y="2193840"/>
            <a:ext cx="7070400" cy="1549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http://im2-tub-ru.yandex.net/i?id=316178475-37-72&amp;n=21"/>
          <p:cNvPicPr/>
          <p:nvPr/>
        </p:nvPicPr>
        <p:blipFill>
          <a:blip r:embed="rId2"/>
          <a:stretch/>
        </p:blipFill>
        <p:spPr>
          <a:xfrm>
            <a:off x="3492360" y="3860640"/>
            <a:ext cx="2651400" cy="182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658800" y="-42840"/>
            <a:ext cx="682776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80960" y="901800"/>
            <a:ext cx="7473960" cy="3511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6804000" y="4095720"/>
            <a:ext cx="19479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Z\Desktop\i1319(800,800).jpg"/>
          <p:cNvPicPr/>
          <p:nvPr/>
        </p:nvPicPr>
        <p:blipFill>
          <a:blip r:embed="rId1"/>
          <a:stretch/>
        </p:blipFill>
        <p:spPr>
          <a:xfrm>
            <a:off x="-27000" y="0"/>
            <a:ext cx="9286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C:\Users\Z\Desktop\kliparty_1_sentyabrya_pervyy_shkol_nyy_zvonok_1151714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Z\Desktop\i1319(800,800).jpg"/>
          <p:cNvPicPr/>
          <p:nvPr/>
        </p:nvPicPr>
        <p:blipFill>
          <a:blip r:embed="rId1"/>
          <a:stretch/>
        </p:blipFill>
        <p:spPr>
          <a:xfrm>
            <a:off x="-27000" y="0"/>
            <a:ext cx="5227560" cy="3860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Z\Desktop\kliparty_1_sentyabrya_pervyy_shkol_nyy_zvonok_1151714.jpg"/>
          <p:cNvPicPr/>
          <p:nvPr/>
        </p:nvPicPr>
        <p:blipFill>
          <a:blip r:embed="rId2"/>
          <a:stretch/>
        </p:blipFill>
        <p:spPr>
          <a:xfrm>
            <a:off x="3990960" y="2997360"/>
            <a:ext cx="5153040" cy="384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812947574" descr="812947574"/>
          <p:cNvPicPr/>
          <p:nvPr/>
        </p:nvPicPr>
        <p:blipFill>
          <a:blip r:embed="rId1"/>
          <a:stretch/>
        </p:blipFill>
        <p:spPr>
          <a:xfrm>
            <a:off x="2556000" y="404640"/>
            <a:ext cx="3636720" cy="3637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3"/>
          <p:cNvSpPr/>
          <p:nvPr/>
        </p:nvSpPr>
        <p:spPr>
          <a:xfrm>
            <a:off x="611280" y="450864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66"/>
                </a:solidFill>
                <a:latin typeface="Trebuchet MS"/>
              </a:rPr>
              <a:t>за зо зу зе зи зы оз аз из уз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323484530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9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056960" cy="1428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314280" y="5213520"/>
            <a:ext cx="130500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C:\Users\Z\Desktop\big_velosipednaya_korzinka_na_rul_eko_4698.jpg"/>
          <p:cNvPicPr/>
          <p:nvPr/>
        </p:nvPicPr>
        <p:blipFill>
          <a:blip r:embed="rId3"/>
          <a:stretch/>
        </p:blipFill>
        <p:spPr>
          <a:xfrm>
            <a:off x="4932360" y="3556080"/>
            <a:ext cx="4064040" cy="3246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:\Users\Z\Desktop\wallpapers_70100.jpg"/>
          <p:cNvPicPr/>
          <p:nvPr/>
        </p:nvPicPr>
        <p:blipFill>
          <a:blip r:embed="rId4"/>
          <a:stretch/>
        </p:blipFill>
        <p:spPr>
          <a:xfrm>
            <a:off x="38160" y="71280"/>
            <a:ext cx="4960800" cy="396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6516720" y="45864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Users\Z\Desktop\278503355.jpg"/>
          <p:cNvPicPr/>
          <p:nvPr/>
        </p:nvPicPr>
        <p:blipFill>
          <a:blip r:embed="rId2"/>
          <a:stretch/>
        </p:blipFill>
        <p:spPr>
          <a:xfrm>
            <a:off x="4135320" y="2722680"/>
            <a:ext cx="4762440" cy="422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C:\Users\Z\Desktop\umbrella6.jpg"/>
          <p:cNvPicPr/>
          <p:nvPr/>
        </p:nvPicPr>
        <p:blipFill>
          <a:blip r:embed="rId3"/>
          <a:stretch/>
        </p:blipFill>
        <p:spPr>
          <a:xfrm>
            <a:off x="160200" y="223920"/>
            <a:ext cx="428652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2:49:12Z</dcterms:created>
  <dc:creator>Z</dc:creator>
  <dc:description/>
  <dc:language>en-US</dc:language>
  <cp:lastModifiedBy>Z</cp:lastModifiedBy>
  <dcterms:modified xsi:type="dcterms:W3CDTF">2013-01-16T13:48:16Z</dcterms:modified>
  <cp:revision>31</cp:revision>
  <dc:subject/>
  <dc:title>Весёлый алфавит</dc:title>
</cp:coreProperties>
</file>