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png" ContentType="image/png"/>
  <Override PartName="/ppt/media/image17.gif" ContentType="image/gif"/>
  <Override PartName="/ppt/media/image21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B71-F819-4028-B974-267E0842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4C4-E786-4278-BF64-E066FAE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7DA-3D42-47FE-ABC9-68BAD46D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6B4-2816-485A-B813-7F7F6019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413E-29C7-4C1D-B4E7-4FA3F426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DD02-5D67-49FB-B06C-F4086846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4446-10F8-4AA8-9A72-F64FA358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D3E3-CA28-499B-9A1D-F9D02B9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C0A-3AAF-46F3-B454-17E88D5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9696-1165-4BE0-956C-B6751FD2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EC93-BBBE-4756-9F0E-5C81AEB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20A-3909-4501-947E-248A9EA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4771-93C1-420D-9150-375989A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C5A9-C0C6-44B6-A3E3-D0CD124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8F3-6E43-4299-8C1C-476C327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B249-2DB3-4707-8C03-CE0CC3B1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3792-EC18-4E90-AFDD-F10B6F9F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B5B7-8FA7-415F-BCCA-B17B1328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6F21-2FFC-4317-BD7F-0BB51C71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8ED4-ACBB-40AF-BD5B-069465A3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C04E0-59F3-46E4-AF38-1B429AEC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DB90-9EDE-4ED3-B074-306A8F6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2D4-0BB4-408F-A098-0AA34D45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054A-0011-434C-AC0F-1093578E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C62B-A0BE-4A56-8693-FAB3B3F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38FA-97AD-4AE3-A331-F4E1EC6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0D26-36C1-46F0-BC2B-139BCD1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9816-E353-475F-A7B7-3CC018D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DA11-A432-4413-AA7F-C1975D25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6D2B-8624-4BCB-9677-1E3DCDE3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995F-92E2-4672-8236-635DA6CC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353A-8697-4F36-83B0-3A455EE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D790-7B57-4817-ABDF-C89C6E45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E35-AB8A-4E89-9078-D6DDB43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1D6A3-AC70-4377-A5E3-3C31EAD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E854-BCF9-4D80-A16A-6D073D6D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79BA-0D3E-4042-AAB9-2E69CDB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3F75-B149-4B1E-A32D-E391702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BCA5-7A17-4233-8D64-00D0D0E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34FD-C8DA-40E6-8697-FFC1834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9254-953D-4FF1-BD4B-06BC00A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E356-4E93-450E-84AC-68E7F482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EE18-1B13-4377-8A7E-1AD62448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3AD-1F8A-4C1B-8056-17F2170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E9D-E331-4694-99C5-7B560EF4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9C9-734E-4D85-B168-952A38B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7C6-744A-4F13-9E44-7FB3DB3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F48-8F12-493B-B683-BF4EC82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270-E56C-4483-9FE2-EF70BF534A1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DDAB-E6E0-4118-8D2B-B15ACB9260A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C1E2-782B-412C-8FE2-F58988325DC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511F-C589-4AD1-8A2B-29CB8EFF0E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5280" y="6480"/>
            <a:ext cx="8064360" cy="376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755640" y="3478320"/>
            <a:ext cx="2333520" cy="29160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"/>
          <p:cNvSpPr/>
          <p:nvPr/>
        </p:nvSpPr>
        <p:spPr>
          <a:xfrm>
            <a:off x="4175280" y="38116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зентация подготовле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ем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101323"/>
                </a:solidFill>
                <a:latin typeface="Trebuchet MS"/>
                <a:ea typeface="Calibri"/>
              </a:rPr>
              <a:t>МКО Куйбышевского района </a:t>
            </a:r>
            <a:br>
              <a:rPr sz="2400"/>
            </a:br>
            <a:r>
              <a:rPr b="0" lang="ru-RU" sz="2400" spc="-1" strike="noStrike">
                <a:solidFill>
                  <a:srgbClr val="101323"/>
                </a:solidFill>
                <a:latin typeface="Trebuchet MS"/>
                <a:ea typeface="Calibri"/>
              </a:rPr>
              <a:t>«Школы-интерната основного общего образования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ьшаковой  Оксаной Юрьевн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52480" cy="344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6429240" y="22320"/>
            <a:ext cx="271476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3"/>
          <a:stretch/>
        </p:blipFill>
        <p:spPr>
          <a:xfrm>
            <a:off x="4067280" y="6602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Z\Desktop\0_696a4_ff4974e2_XXL.jpg"/>
          <p:cNvPicPr/>
          <p:nvPr/>
        </p:nvPicPr>
        <p:blipFill>
          <a:blip r:embed="rId4"/>
          <a:stretch/>
        </p:blipFill>
        <p:spPr>
          <a:xfrm>
            <a:off x="2903400" y="3710160"/>
            <a:ext cx="402300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343160" y="1052640"/>
            <a:ext cx="61084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835200" y="2193840"/>
            <a:ext cx="7070400" cy="1549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im2-tub-ru.yandex.net/i?id=316178475-37-72&amp;n=21"/>
          <p:cNvPicPr/>
          <p:nvPr/>
        </p:nvPicPr>
        <p:blipFill>
          <a:blip r:embed="rId2"/>
          <a:stretch/>
        </p:blipFill>
        <p:spPr>
          <a:xfrm>
            <a:off x="3492360" y="3860640"/>
            <a:ext cx="2651400" cy="18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58800" y="-42840"/>
            <a:ext cx="68277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80960" y="901800"/>
            <a:ext cx="7473960" cy="351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6804000" y="4095720"/>
            <a:ext cx="19479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Z\Desktop\i1319(800,800).jpg"/>
          <p:cNvPicPr/>
          <p:nvPr/>
        </p:nvPicPr>
        <p:blipFill>
          <a:blip r:embed="rId1"/>
          <a:stretch/>
        </p:blipFill>
        <p:spPr>
          <a:xfrm>
            <a:off x="-2700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Z\Desktop\kliparty_1_sentyabrya_pervyy_shkol_nyy_zvonok_1151714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Z\Desktop\i1319(800,800).jpg"/>
          <p:cNvPicPr/>
          <p:nvPr/>
        </p:nvPicPr>
        <p:blipFill>
          <a:blip r:embed="rId1"/>
          <a:stretch/>
        </p:blipFill>
        <p:spPr>
          <a:xfrm>
            <a:off x="-27000" y="0"/>
            <a:ext cx="5227560" cy="3860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Z\Desktop\kliparty_1_sentyabrya_pervyy_shkol_nyy_zvonok_1151714.jpg"/>
          <p:cNvPicPr/>
          <p:nvPr/>
        </p:nvPicPr>
        <p:blipFill>
          <a:blip r:embed="rId2"/>
          <a:stretch/>
        </p:blipFill>
        <p:spPr>
          <a:xfrm>
            <a:off x="3990960" y="2997360"/>
            <a:ext cx="515304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812947574" descr="812947574"/>
          <p:cNvPicPr/>
          <p:nvPr/>
        </p:nvPicPr>
        <p:blipFill>
          <a:blip r:embed="rId1"/>
          <a:stretch/>
        </p:blipFill>
        <p:spPr>
          <a:xfrm>
            <a:off x="2556000" y="40464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611280" y="450864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66"/>
                </a:solidFill>
                <a:latin typeface="Trebuchet MS"/>
              </a:rPr>
              <a:t>за зо зу зе зи зы оз аз из уз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32348453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56960" cy="142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314280" y="5213520"/>
            <a:ext cx="130500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C:\Users\Z\Desktop\big_velosipednaya_korzinka_na_rul_eko_4698.jpg"/>
          <p:cNvPicPr/>
          <p:nvPr/>
        </p:nvPicPr>
        <p:blipFill>
          <a:blip r:embed="rId3"/>
          <a:stretch/>
        </p:blipFill>
        <p:spPr>
          <a:xfrm>
            <a:off x="4932360" y="3556080"/>
            <a:ext cx="4064040" cy="324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Users\Z\Desktop\wallpapers_70100.jpg"/>
          <p:cNvPicPr/>
          <p:nvPr/>
        </p:nvPicPr>
        <p:blipFill>
          <a:blip r:embed="rId4"/>
          <a:stretch/>
        </p:blipFill>
        <p:spPr>
          <a:xfrm>
            <a:off x="38160" y="71280"/>
            <a:ext cx="4960800" cy="39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6516720" y="4586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Z\Desktop\278503355.jpg"/>
          <p:cNvPicPr/>
          <p:nvPr/>
        </p:nvPicPr>
        <p:blipFill>
          <a:blip r:embed="rId2"/>
          <a:stretch/>
        </p:blipFill>
        <p:spPr>
          <a:xfrm>
            <a:off x="4135320" y="2722680"/>
            <a:ext cx="4762440" cy="422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Z\Desktop\umbrella6.jpg"/>
          <p:cNvPicPr/>
          <p:nvPr/>
        </p:nvPicPr>
        <p:blipFill>
          <a:blip r:embed="rId3"/>
          <a:stretch/>
        </p:blipFill>
        <p:spPr>
          <a:xfrm>
            <a:off x="160200" y="223920"/>
            <a:ext cx="42865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2:49:12Z</dcterms:created>
  <dc:creator>Z</dc:creator>
  <dc:description/>
  <dc:language>en-US</dc:language>
  <cp:lastModifiedBy>Z</cp:lastModifiedBy>
  <dcterms:modified xsi:type="dcterms:W3CDTF">2013-01-16T13:48:16Z</dcterms:modified>
  <cp:revision>31</cp:revision>
  <dc:subject/>
  <dc:title>Весёлый алфавит</dc:title>
</cp:coreProperties>
</file>