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FA5-0B0E-4F2D-956F-D5DA11EC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DDB-B194-4A58-B560-B6E04FFF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1B6-5E09-413A-ABC3-94D9F52F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BDA-EC69-46BC-851F-D89D64C0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F524-74A7-42E8-970E-C14073DF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8FB1-5F36-4CF5-8ED2-AF34D38E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4C16-9E5A-4981-97DB-AC24355E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151E-603C-4D94-A673-8CF90BCB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9ED8-4546-46E1-A48B-50674CF1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D059-22DA-444F-8D64-22929DB9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9A6D-66E6-4C46-91C2-C1147BA7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1F0-945B-4B8C-BB39-7E0A077D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24EE-8A4E-4DC9-9CCD-387B9FB2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CB24-FF5E-4457-A7F9-74223DF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CB21-04FD-440A-A34D-06F6DD3B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FD72-2CAC-400D-AD2B-9FCAECEA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8A08-158D-4917-ABAC-CBC297A5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B0B-0DF0-4F03-B2AB-51188D6E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99A-E9A8-4525-A075-CB3201FA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061-5EFF-4600-9591-CD209453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5A2-AB08-49FC-8A89-64FC19ED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34D-ECEE-4F54-B0FF-E3EA5CE5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C32-3D8A-458E-A128-D531D1C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F33-4E44-4E51-859D-18D0F5B7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6F3F-D33E-474B-A1FE-B5747D16CE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06A5-699F-4641-B570-125D5E4217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dobe Gothic Std B"/>
              </a:rPr>
              <a:t>Средневековый горо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аботу подготовил: Шведов Анто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09480" y="457200"/>
            <a:ext cx="800100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и: http://velizariy.kiev.ua/avallon/stronghold/sity8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historic.ru/books/item/f00/s00/z0000032/st021.s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ukrmap.su/ru-wh7/116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43304066"/>
          <p:cNvPicPr/>
          <p:nvPr/>
        </p:nvPicPr>
        <p:blipFill>
          <a:blip r:embed="rId1"/>
          <a:stretch/>
        </p:blipFill>
        <p:spPr>
          <a:xfrm>
            <a:off x="0" y="0"/>
            <a:ext cx="4876920" cy="701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265730848_srednevekovyj-gorod"/>
          <p:cNvPicPr/>
          <p:nvPr/>
        </p:nvPicPr>
        <p:blipFill>
          <a:blip r:embed="rId2"/>
          <a:stretch/>
        </p:blipFill>
        <p:spPr>
          <a:xfrm>
            <a:off x="4800600" y="0"/>
            <a:ext cx="449568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0" y="1080"/>
            <a:ext cx="48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ода в средневековой Европе были небольшими. Наши привычные масштабы "мегаполиса" совсем не применимы к ним. Даже Великий Рим во времена расцвета империи насчитывал всего около 1 миллиона жителей. В среднем же городе Западной Европы в описываемые времена жило не больше 5-7 тыс. человек. Город с населением 15-20 тыс. уже считался большим, а население 40-50 тыс. было только в столицах крупных государств, таких как Лондон или Париж. Совсем маленький городок мог насчитывать всего 2-3 тыс. ж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380449_original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228600" y="6854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а строились по берегам рек, вдоль крупных трактов или вокруг замков. Если город ставился на дороге, то участок этой дороги в пределах города превращался в главную городскую улиц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484344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брежных городах главной улицей обычно становилась дорога, ведущая от замка сеньора (или другого главного здания города) к берегу. Реже главная улица тянулась вдоль реки или морского берега (это характерно для городов, выросших из рыбацких поселков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296735529_39113250_1233656286_image028"/>
          <p:cNvPicPr/>
          <p:nvPr/>
        </p:nvPicPr>
        <p:blipFill>
          <a:blip r:embed="rId1"/>
          <a:stretch/>
        </p:blipFill>
        <p:spPr>
          <a:xfrm>
            <a:off x="0" y="0"/>
            <a:ext cx="5791320" cy="6796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5867280" y="230760"/>
            <a:ext cx="3276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чески любой город окружен стенами. Причем, чем больше и богаче город, тем более мощные и высокие стены его ограждают. У самых маленьких и молодых городков защитой может служить просто земляная насыпь и деревянный частокол на ней, в городах побольше - каменные стены с башнями и бойницами. В работах по возведению и поддержанию городских укреплений должны были участвовать все горожане, впрочем практически везде "отработку" можно было заменить денежным взно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a06e07988330"/>
          <p:cNvPicPr/>
          <p:nvPr/>
        </p:nvPicPr>
        <p:blipFill>
          <a:blip r:embed="rId1"/>
          <a:stretch/>
        </p:blipFill>
        <p:spPr>
          <a:xfrm>
            <a:off x="304920" y="30492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809880" y="1056960"/>
            <a:ext cx="502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сть в средневековом городе можно разделить на административную, судебную, экономическую и военну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е, что надо сказать о власти, это то, что в большинстве средневековых городов власть была разделенной. Город жил в режиме двоевластия. С одной стороны у города были свои выборные власти - магистрат, городской совет, мэр или бургомистр, а с другой город в той или иной мере подчинялся местному феодалу, епископу или непосредственно королю. Да, были, конечно города, пользовавшиеся полным самоуправлением, но было их немного и существовали они недол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ricar6"/>
          <p:cNvPicPr/>
          <p:nvPr/>
        </p:nvPicPr>
        <p:blipFill>
          <a:blip r:embed="rId2"/>
          <a:stretch/>
        </p:blipFill>
        <p:spPr>
          <a:xfrm>
            <a:off x="304920" y="35053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2249009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4114800" y="154800"/>
            <a:ext cx="5029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ые столетия средних веков в Европе почти безраздельно господствовало натуральное хозяйство. Крестьянская семья сама производила сельскохозяйственные продукты и ремесленные изделия (орудия труда и одежду; не только для собственных потребности, но и для уплаты оброка феодалу. Как ни медленно шло развитие производительных сил в раннее средневековье, всё же к X—XI вв. в хозяйственной жизни Европы произошли важные изменения. Они выражались в изменении и развитии техники и навыков ремесленного труда, в дифференциации его отраслей. Значительно усовершенствовались отдельные ремёсла: добыча, плавка и обработка металлов, прежде всего кузнечное и оружейное дело; выделка тканей, особенно сукон; обработка кожи; производство более совершенных глиняных изделий с применением гончарного круга; мельничное дело, строительное и т. 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1267015379_anjour"/>
          <p:cNvPicPr/>
          <p:nvPr/>
        </p:nvPicPr>
        <p:blipFill>
          <a:blip r:embed="rId1"/>
          <a:stretch/>
        </p:blipFill>
        <p:spPr>
          <a:xfrm>
            <a:off x="5029200" y="12193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28600" y="459360"/>
            <a:ext cx="495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ая стадия развития ремесленного производства - соединение его с рынком. Соединившись с рынком, ремесленник уже становится товаропроизводителем. Отныне судьба ремесленного производства и каждого отдельного ремесленника оказывается прочно связанной с городом и с рынком. Общеизвестно, что ремесленники средневековых городов объединялись в цеха. Но существует расхожее мнение, что цех - это что-то на подобии профсоюза. На самом деде цех представлял собой мощную политическую, экономическую и военную организацию. Не надо представлять себе средневековых ремесленников как "бедных пролетариев", которых всячески угнетали богатые купцы и прочие олигархи. Во многих городах именно цеха были основной политической силой гор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zamok_9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105520" y="2880"/>
            <a:ext cx="3809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х обладал абсолютной монополией на производство определенных товаров, а часто и на торговлю этими товарами в черте города. Члены цеха обладали многими правами и привилегиями. Цеховые старшины фактически управляли городом, они входили во все выборные органы власти. Военную силу города составляли именно цеховые ополчения. Люди, принадлежащие одному цеху, составляли отдельный отряд и выходили на поле боя со своим знаменем. Иногда и обязанности по поддержанию порядка в городе возлагались непосредственно на цеха - в городе не было стражи вообще, а каждый цех контролировал определенный район города и люди цеха наводили там поряд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_5c4a2_56c5719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080"/>
            <a:ext cx="617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обще городское общество было не менее жестко структурированным и подчинялось не менее строгим законам, чем общество феодальное. И пусть вас не обманывают слова о "вольных городах", "городских вольностях" и о том, что "городской воздух делает свободным". Да, горожане были свободны (или почти свободны) от личной власти феодала. Но это не значит, что горожанин был волен как птица и мог делать что хотел. Чтобы сохранить свой статус, не выпасть и не быть изгнанным из городского сообщества горожанин должен был соблюдать тысячи писаных и неписаных правил и законов, которые связывали его 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3-01-26T07:55:1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