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4E4-3ED2-4866-8982-E68DA97B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439-B7EB-4658-B31D-1EF079A0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551-0355-40EB-B39A-4F1D0727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013-908C-43C9-B6AB-E49744F8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C01C-2603-4427-AB95-522D8501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40D7-958C-4CCE-A8B4-CFB796AE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BDCD-0BAB-4983-A908-D0AE79D1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A1D1-0054-4E46-8215-01D0B723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2D17-ED5D-498E-88C0-1E537AB9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3020-054D-4606-9386-C53740C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AA43-5287-4A9A-B51A-97FCDA6A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0C4-EE94-42F3-8DD9-9350E6C1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1F87-85AA-4284-8B28-353247E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4AB0-40BA-4F2C-890D-E0AF727D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D969-14BB-4F20-BB1E-DD517569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A975-CA38-4AD7-BB97-669A7768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F637-76AE-47F3-9C75-E1E9FFEF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26E-BECF-4144-B5BB-90376D9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844-2A67-4285-89F3-1AF96B64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F35-70E6-4624-99F4-986C3C8E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1F1-96E5-4A7E-B390-26D8893E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027-0478-420F-90D1-E157032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B8B-3BDA-423C-B6DF-7833689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760-153E-4E8F-AC16-A1409222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F8DD-C93A-44ED-B1CD-AA42AAE421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16B2-DFD0-4F54-A297-89E97CACD4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dobe Gothic Std B"/>
              </a:rPr>
              <a:t>Средневековый горо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аботу подготовил: Шведов Анто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09480" y="457200"/>
            <a:ext cx="800100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и: http://velizariy.kiev.ua/avallon/stronghold/sity8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historic.ru/books/item/f00/s00/z0000032/st021.s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ukrmap.su/ru-wh7/116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43304066"/>
          <p:cNvPicPr/>
          <p:nvPr/>
        </p:nvPicPr>
        <p:blipFill>
          <a:blip r:embed="rId1"/>
          <a:stretch/>
        </p:blipFill>
        <p:spPr>
          <a:xfrm>
            <a:off x="0" y="0"/>
            <a:ext cx="4876920" cy="701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265730848_srednevekovyj-gorod"/>
          <p:cNvPicPr/>
          <p:nvPr/>
        </p:nvPicPr>
        <p:blipFill>
          <a:blip r:embed="rId2"/>
          <a:stretch/>
        </p:blipFill>
        <p:spPr>
          <a:xfrm>
            <a:off x="4800600" y="0"/>
            <a:ext cx="449568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0" y="1080"/>
            <a:ext cx="48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ода в средневековой Европе были небольшими. Наши привычные масштабы "мегаполиса" совсем не применимы к ним. Даже Великий Рим во времена расцвета империи насчитывал всего около 1 миллиона жителей. В среднем же городе Западной Европы в описываемые времена жило не больше 5-7 тыс. человек. Город с населением 15-20 тыс. уже считался большим, а население 40-50 тыс. было только в столицах крупных государств, таких как Лондон или Париж. Совсем маленький городок мог насчитывать всего 2-3 тыс. ж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380449_original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228600" y="6854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а строились по берегам рек, вдоль крупных трактов или вокруг замков. Если город ставился на дороге, то участок этой дороги в пределах города превращался в главную городскую улиц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484344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брежных городах главной улицей обычно становилась дорога, ведущая от замка сеньора (или другого главного здания города) к берегу. Реже главная улица тянулась вдоль реки или морского берега (это характерно для городов, выросших из рыбацких поселков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296735529_39113250_1233656286_image028"/>
          <p:cNvPicPr/>
          <p:nvPr/>
        </p:nvPicPr>
        <p:blipFill>
          <a:blip r:embed="rId1"/>
          <a:stretch/>
        </p:blipFill>
        <p:spPr>
          <a:xfrm>
            <a:off x="0" y="0"/>
            <a:ext cx="5791320" cy="6796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5867280" y="230760"/>
            <a:ext cx="3276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чески любой город окружен стенами. Причем, чем больше и богаче город, тем более мощные и высокие стены его ограждают. У самых маленьких и молодых городков защитой может служить просто земляная насыпь и деревянный частокол на ней, в городах побольше - каменные стены с башнями и бойницами. В работах по возведению и поддержанию городских укреплений должны были участвовать все горожане, впрочем практически везде "отработку" можно было заменить денежным взно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a06e07988330"/>
          <p:cNvPicPr/>
          <p:nvPr/>
        </p:nvPicPr>
        <p:blipFill>
          <a:blip r:embed="rId1"/>
          <a:stretch/>
        </p:blipFill>
        <p:spPr>
          <a:xfrm>
            <a:off x="304920" y="30492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809880" y="1056960"/>
            <a:ext cx="502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сть в средневековом городе можно разделить на административную, судебную, экономическую и военну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е, что надо сказать о власти, это то, что в большинстве средневековых городов власть была разделенной. Город жил в режиме двоевластия. С одной стороны у города были свои выборные власти - магистрат, городской совет, мэр или бургомистр, а с другой город в той или иной мере подчинялся местному феодалу, епископу или непосредственно королю. Да, были, конечно города, пользовавшиеся полным самоуправлением, но было их немного и существовали они недол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ricar6"/>
          <p:cNvPicPr/>
          <p:nvPr/>
        </p:nvPicPr>
        <p:blipFill>
          <a:blip r:embed="rId2"/>
          <a:stretch/>
        </p:blipFill>
        <p:spPr>
          <a:xfrm>
            <a:off x="304920" y="35053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2249009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4114800" y="154800"/>
            <a:ext cx="5029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ые столетия средних веков в Европе почти безраздельно господствовало натуральное хозяйство. Крестьянская семья сама производила сельскохозяйственные продукты и ремесленные изделия (орудия труда и одежду; не только для собственных потребности, но и для уплаты оброка феодалу. Как ни медленно шло развитие производительных сил в раннее средневековье, всё же к X—XI вв. в хозяйственной жизни Европы произошли важные изменения. Они выражались в изменении и развитии техники и навыков ремесленного труда, в дифференциации его отраслей. Значительно усовершенствовались отдельные ремёсла: добыча, плавка и обработка металлов, прежде всего кузнечное и оружейное дело; выделка тканей, особенно сукон; обработка кожи; производство более совершенных глиняных изделий с применением гончарного круга; мельничное дело, строительное и т. 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1267015379_anjour"/>
          <p:cNvPicPr/>
          <p:nvPr/>
        </p:nvPicPr>
        <p:blipFill>
          <a:blip r:embed="rId1"/>
          <a:stretch/>
        </p:blipFill>
        <p:spPr>
          <a:xfrm>
            <a:off x="5029200" y="12193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28600" y="459360"/>
            <a:ext cx="495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ая стадия развития ремесленного производства - соединение его с рынком. Соединившись с рынком, ремесленник уже становится товаропроизводителем. Отныне судьба ремесленного производства и каждого отдельного ремесленника оказывается прочно связанной с городом и с рынком. Общеизвестно, что ремесленники средневековых городов объединялись в цеха. Но существует расхожее мнение, что цех - это что-то на подобии профсоюза. На самом деде цех представлял собой мощную политическую, экономическую и военную организацию. Не надо представлять себе средневековых ремесленников как "бедных пролетариев", которых всячески угнетали богатые купцы и прочие олигархи. Во многих городах именно цеха были основной политической силой гор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zamok_9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105520" y="2880"/>
            <a:ext cx="3809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х обладал абсолютной монополией на производство определенных товаров, а часто и на торговлю этими товарами в черте города. Члены цеха обладали многими правами и привилегиями. Цеховые старшины фактически управляли городом, они входили во все выборные органы власти. Военную силу города составляли именно цеховые ополчения. Люди, принадлежащие одному цеху, составляли отдельный отряд и выходили на поле боя со своим знаменем. Иногда и обязанности по поддержанию порядка в городе возлагались непосредственно на цеха - в городе не было стражи вообще, а каждый цех контролировал определенный район города и люди цеха наводили там поряд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_5c4a2_56c5719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080"/>
            <a:ext cx="617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обще городское общество было не менее жестко структурированным и подчинялось не менее строгим законам, чем общество феодальное. И пусть вас не обманывают слова о "вольных городах", "городских вольностях" и о том, что "городской воздух делает свободным". Да, горожане были свободны (или почти свободны) от личной власти феодала. Но это не значит, что горожанин был волен как птица и мог делать что хотел. Чтобы сохранить свой статус, не выпасть и не быть изгнанным из городского сообщества горожанин должен был соблюдать тысячи писаных и неписаных правил и законов, которые связывали его 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3-01-26T07:55:1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