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A80-8A2C-4422-92E6-CE905CF5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41A-F08F-4CA3-90CB-088AB7A6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23C-9A86-490B-80DC-8AE1B3EF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814-A25B-42F4-BB97-AFA14831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088-F52A-4C55-A530-118B1ECA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1AF-CFB7-4A46-8465-720767B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AAD-8BC0-475B-A2E2-8684BE94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8412-2CA6-4722-806D-DC7FD64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6468-12A5-4AEC-AD1D-4462A45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A30C-CDDC-45E5-8648-4A5396D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CD16-B9F8-49C6-A8E0-CF7B9E6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8FD-472E-41E0-8875-9CAE68B4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B2F8-EECA-47B6-9C71-4C9AB2B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896-A3CB-4853-95B2-DFCFD81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D02B-C765-4CF3-9850-F7E818B0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3C10-6A1C-40FC-8E93-F825E852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710E-13E3-4B92-8F38-BFC3A97F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BD6-762F-4F4B-9B3C-FB14AB5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674-259C-4BDE-996A-F6C3D8ED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BCC-3BC7-42DE-9B01-96E20E48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834-8614-4353-B1C4-CE240B2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277-E959-4434-8AFC-46440EC7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ECF-6271-4BF0-A649-5F26D4C4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D1B-F90C-4365-9212-30895873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A333-D537-4F66-91F1-7B90D7DEA0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A2D-A99A-4281-8BD8-459D2CF9B0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dobe Gothic Std B"/>
              </a:rPr>
              <a:t>Средневековый горо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Работу подготовил: Шведов Анто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09480" y="457200"/>
            <a:ext cx="8001000" cy="55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и: http://velizariy.kiev.ua/avallon/stronghold/sity8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historic.ru/books/item/f00/s00/z0000032/st021.s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ukrmap.su/ru-wh7/116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43304066"/>
          <p:cNvPicPr/>
          <p:nvPr/>
        </p:nvPicPr>
        <p:blipFill>
          <a:blip r:embed="rId1"/>
          <a:stretch/>
        </p:blipFill>
        <p:spPr>
          <a:xfrm>
            <a:off x="0" y="0"/>
            <a:ext cx="4876920" cy="7010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1265730848_srednevekovyj-gorod"/>
          <p:cNvPicPr/>
          <p:nvPr/>
        </p:nvPicPr>
        <p:blipFill>
          <a:blip r:embed="rId2"/>
          <a:stretch/>
        </p:blipFill>
        <p:spPr>
          <a:xfrm>
            <a:off x="4800600" y="0"/>
            <a:ext cx="449568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108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а в средневековой Европе были небольшими. Наши привычные масштабы "мегаполиса" совсем не применимы к ним. Даже Великий Рим во времена расцвета империи насчитывал всего около 1 миллиона жителей. В среднем же городе Западной Европы в описываемые времена жило не больше 5-7 тыс. человек. Город с населением 15-20 тыс. уже считался большим, а население 40-50 тыс. было только в столицах крупных государств, таких как Лондон или Париж. Совсем маленький городок мог насчитывать всего 2-3 тыс. ж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380449_original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228600" y="6854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 строились по берегам рек, вдоль крупных трактов или вокруг замков. Если город ставился на дороге, то участок этой дороги в пределах города превращался в главную городскую улиц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484344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брежных городах главной улицей обычно становилась дорога, ведущая от замка сеньора (или другого главного здания города) к берегу. Реже главная улица тянулась вдоль реки или морского берега (это характерно для городов, выросших из рыбацких поселков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1296735529_39113250_1233656286_image028"/>
          <p:cNvPicPr/>
          <p:nvPr/>
        </p:nvPicPr>
        <p:blipFill>
          <a:blip r:embed="rId1"/>
          <a:stretch/>
        </p:blipFill>
        <p:spPr>
          <a:xfrm>
            <a:off x="0" y="0"/>
            <a:ext cx="5791320" cy="6796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867280" y="230760"/>
            <a:ext cx="327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 любой город окружен стенами. Причем, чем больше и богаче город, тем более мощные и высокие стены его ограждают. У самых маленьких и молодых городков защитой может служить просто земляная насыпь и деревянный частокол на ней, в городах побольше - каменные стены с башнями и бойницами. В работах по возведению и поддержанию городских укреплений должны были участвовать все горожане, впрочем практически везде "отработку" можно было заменить денежным взно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a06e07988330"/>
          <p:cNvPicPr/>
          <p:nvPr/>
        </p:nvPicPr>
        <p:blipFill>
          <a:blip r:embed="rId1"/>
          <a:stretch/>
        </p:blipFill>
        <p:spPr>
          <a:xfrm>
            <a:off x="304920" y="30492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809880" y="105696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ласть в средневековом городе можно разделить на административную, судебную, экономическую и военн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ое, что надо сказать о власти, это то, что в большинстве средневековых городов власть была разделенной. Город жил в режиме двоевластия. С одной стороны у города были свои выборные власти - магистрат, городской совет, мэр или бургомистр, а с другой город в той или иной мере подчинялся местному феодалу, епископу или непосредственно королю. Да, были, конечно города, пользовавшиеся полным самоуправлением, но было их немного и существовали они недол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ricar6"/>
          <p:cNvPicPr/>
          <p:nvPr/>
        </p:nvPicPr>
        <p:blipFill>
          <a:blip r:embed="rId2"/>
          <a:stretch/>
        </p:blipFill>
        <p:spPr>
          <a:xfrm>
            <a:off x="304920" y="35053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249009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4114800" y="154800"/>
            <a:ext cx="5029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ые столетия средних веков в Европе почти безраздельно господствовало натуральное хозяйство. Крестьянская семья сама производила сельскохозяйственные продукты и ремесленные изделия (орудия труда и одежду; не только для собственных потребности, но и для уплаты оброка феодалу. Как ни медленно шло развитие производительных сил в раннее средневековье, всё же к X—XI вв. в хозяйственной жизни Европы произошли важные изменения. Они выражались в изменении и развитии техники и навыков ремесленного труда, в дифференциации его отраслей. Значительно усовершенствовались отдельные ремёсла: добыча, плавка и обработка металлов, прежде всего кузнечное и оружейное дело; выделка тканей, особенно сукон; обработка кожи; производство более совершенных глиняных изделий с применением гончарного круга; мельничное дело, строительное и т. 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1267015379_anjour"/>
          <p:cNvPicPr/>
          <p:nvPr/>
        </p:nvPicPr>
        <p:blipFill>
          <a:blip r:embed="rId1"/>
          <a:stretch/>
        </p:blipFill>
        <p:spPr>
          <a:xfrm>
            <a:off x="5029200" y="12193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228600" y="45936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ая стадия развития ремесленного производства - соединение его с рынком. Соединившись с рынком, ремесленник уже становится товаропроизводителем. Отныне судьба ремесленного производства и каждого отдельного ремесленника оказывается прочно связанной с городом и с рынком. Общеизвестно, что ремесленники средневековых городов объединялись в цеха. Но существует расхожее мнение, что цех - это что-то на подобии профсоюза. На самом деде цех представлял собой мощную политическую, экономическую и военную организацию. Не надо представлять себе средневековых ремесленников как "бедных пролетариев", которых всячески угнетали богатые купцы и прочие олигархи. Во многих городах именно цеха были основной политической силой гор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zamok_9_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5105520" y="2880"/>
            <a:ext cx="3809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х обладал абсолютной монополией на производство определенных товаров, а часто и на торговлю этими товарами в черте города. Члены цеха обладали многими правами и привилегиями. Цеховые старшины фактически управляли городом, они входили во все выборные органы власти. Военную силу города составляли именно цеховые ополчения. Люди, принадлежащие одному цеху, составляли отдельный отряд и выходили на поле боя со своим знаменем. Иногда и обязанности по поддержанию порядка в городе возлагались непосредственно на цеха - в городе не было стражи вообще, а каждый цех контролировал определенный район города и люди цеха наводили там поряд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_5c4a2_56c5719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08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обще городское общество было не менее жестко структурированным и подчинялось не менее строгим законам, чем общество феодальное. И пусть вас не обманывают слова о "вольных городах", "городских вольностях" и о том, что "городской воздух делает свободным". Да, горожане были свободны (или почти свободны) от личной власти феодала. Но это не значит, что горожанин был волен как птица и мог делать что хотел. Чтобы сохранить свой статус, не выпасть и не быть изгнанным из городского сообщества горожанин должен был соблюдать тысячи писаных и неписаных правил и законов, которые связывали его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3-01-26T07:55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