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643-ADAB-4171-BE13-4B3FA1B5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240-6528-49EA-9137-8C9466CF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B64-1C4F-4158-90D5-9E3F9489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E0B-8C91-4668-A1BF-BDA1148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CC1E-8786-4020-9610-05537EC7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E76-C366-4264-96DA-850246E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5E77-4768-400B-B446-7606E128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5BC-D4F0-4BC6-9BB6-6AC04FC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B5A6-E16C-4C3C-83CA-075D0FB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4E85-A2CE-4970-8067-CFCE578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2E2-1581-47DC-80A0-33F8373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0CF-F911-4B28-95BD-22A33E79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E807-41D0-44EE-ABF8-DFA2422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9CC-4C8B-422D-98E0-2D3BD8F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3A1-3A06-4B8F-A1BD-E7AAE1ED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E4E-FAB0-464F-A9BD-F0B1B98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A96-6906-418E-A4B5-B7753220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F43-60E2-4ED9-8C25-373553C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A5F-8359-4565-994F-F237451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7D1-AA43-42E3-9DDD-39A7C35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E8F-9690-4321-A23A-97EBD50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F07-C2B7-4306-A144-8BD1ABE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207-0283-4E96-8A0D-EC8416B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8D0-EB30-4701-8973-F27F932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258-55E0-4E0A-A13F-AE7339CA44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241-15B8-4142-90FF-8126E14BF2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t.allvrn.ru/images/article/vrn/upload/1251707136_1618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zhardem.kz/img/news/1264230299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links.ru/images/art/all5/2.htm169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mvk.ru/pic/site/style5/e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Профилактика сахарного диабета первого типа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аболкин М.И. Эндокринология, М, «Универсум Паблишинг», 1998, с. 367–470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Дедов И.И., Фадеев В.В. Введение в диабетологию, М, 1998, с. 15–18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Бринк С. Эндокринология, (пер. с англ), М, 1999, с. 777–802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Atkinson M.A. Atlas of Diabetes (editor C.R. Kahn), 2000, p.45–57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Edelman S.V, Henry R.R. Diagnosis and management of type II diabetes, 1998, PCI, chapter 7: Oral agens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Charles M, Clark J. Oral therapy in type 2 diabetes: Pharmacological properties and clinical use of currently available agents. Diabetes spectrum, 1998, 11(4), p. 211–22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European Diabetes Policy A Desktop Guide to Type 2 Diabetes Mellitus, Group 1998–1999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ючевые слова статьи: Лечение, сахарного, диабета, осложнени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описания диабета появились еще задолго до нашей эры в трудах древних лекарей. Тогда же появилось и само название этой патологии, в переводе с греческого означающее «перехожу, пересекаю». Данный термин объясняется античным представлением о болезни как неспособности задерживать в организме воду, что связано с одними из основных симптомов: избыточным потреблением и выведением жидкости больным челове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ще столетие назад диабет считался смертельным недугом, продолжительность жизни редко превышала 5 лет после появления первых признаков заболевания. Однако удостоенное Нобелевской премии в начале XX века открытие инсулина совершило переворот в развитии эндокринологии. Современные технологии дарят людям с сахарным диабетом возможность жить полноценной насыщенной жизн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астоящее время понятие сахарного диабета объединяет в себе группу разных по причине возникновения патологических состояний, которые характеризуются гипергликемией - стойким превышением нормального уровня глюкозы в сыворотке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Картинка 9 из 418">
            <a:hlinkClick r:id="rId1"/>
          </p:cNvPr>
          <p:cNvPicPr/>
          <p:nvPr/>
        </p:nvPicPr>
        <p:blipFill>
          <a:blip r:embed="rId2"/>
          <a:stretch/>
        </p:blipFill>
        <p:spPr>
          <a:xfrm rot="21387000">
            <a:off x="4343400" y="3962520"/>
            <a:ext cx="3657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Сахарный диаб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полиэтилогическое генетически обусловленное заболевание, которое вызывается относительно или обусловленной инсулиновой недостаточностью, при этом нарушаются все виды обмена веществ преимущественно углевод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ый вариант сахарного диабета имеет второе название – </a:t>
            </a: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инсулинозависимы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которое подчеркивает необходимость регулярного введения препаратов инсулина в качестве заместительного лечения. Механизм развития заболевания связан с разрушением значительного количества (более 70%) особых β-клеток поджелудочной железы, которые ответственны за выработку гормона - инсулина. Вследствие абсолютной нехватки последнего в организме нарушается усвоение всеми клетками глюкозы, что приводит к увеличению ее концентрации в составе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харный диабет 1 типа составляет около 15% от всех больных диабетом. В подавляющем большинстве случаев им страдают дети и молодые люди до 40 лет. Доказан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этот вид диабета передается по наследству и часто может сочетаться с другими аутоиммунными заболевани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219320" y="220968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харный диабет первого типа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езультате гибели β-клеток снижается количество вырабатываемой поджелудочной железой инсулина. Это приводит к нескольким неблагоприятным последствиям в организ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чное количество инсулина не дает возможности глюкозе в нужном количестве войти в клетки </a:t>
            </a:r>
            <a:r>
              <a:rPr b="1" lang="en-US" sz="1800" spc="-1" strike="noStrike">
                <a:solidFill>
                  <a:srgbClr val="00cc66"/>
                </a:solidFill>
                <a:latin typeface="Tahoma"/>
              </a:rPr>
              <a:t>инсулинозависимых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тканей, приводя к их голоданию. Инсулин зависимыми называются ткани, поглощение глюкозы которыми возможно только под воздействием инсулина, к ним относятся печень, жировая ткань, мышцы и д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-за неполного потребления глюкозы, ее уровень в крови начинает ра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-за высокого содержания глюкозы в крови она в избыточном количестве начинает поступать в инсулиннезависимые  ткани, вызывая их токсическое поражение. Инсулин НЕ зависимыми тканями называются ткани, потребление глюкозы которыми происходит без участия инсулина. К ним относятся головной мозг и др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5694480"/>
            <a:ext cx="1371600" cy="116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752480" y="0"/>
            <a:ext cx="5496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чины сахарного диабета 1 тип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1" name="" descr="Картинка 298 из 513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37480" y="380880"/>
            <a:ext cx="140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Картинка 2 из 524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Симптомы сахарного диаб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настоящее время каждому больному сахарным диабетом стоит лишь обратить внимание на первые признаки развития заболевания и вовремя обратиться за врачебной помощью. Ведь только пристальное отношение к состоянию своего здоровья поможет избежать развития угрожающих жизни осложнений и научиться контролировать течение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основным симптомам сахарного диабета относят следующие изме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хость во рту, сопровождающаяся чувством жажды и вынуждающая пить воду в больших количествах (больше 2 литров в сутк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начительное увеличение объемов выделяемой мочи, которое приводит к учащению посещений туал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е чувство голода. Насыщение не наступает даже несмотря на частые и обильные приемы высококалорийной пи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зкое снижение массы тела вплоть до развития истощения. Данный симптом менее характерен при сахарном диабете 2 типа, что связано с распространенным ожирением среди больных этой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ие утомляемости, общая слабость, которые отрицательно сказываются на работо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численные проявления заболевания в одинаковой степени характерны для взрослых и детей, хотя в более младшем возрасте они развиваются намного быстрее и остр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ль главного метода лечения диабета 1го типа – инъекций препаратов инсулина, отражена в его старом названии – инсулинозависимый. Жизненно важная потребность в поступлении инсулина извне вызвана абсолютной недостаточностью гормона при этом типе диабета. Лечение народными средствами при игнорировании медикаментозной терапии в данном случае может быть смертельно опас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Чтобы достичь компенсации сахарного диабета, врач-эндокринолог подбирает индивидуальную для каждого больного схему лечения, сочетающую применение препаратов разной длительности. Так ежедневное двукратное введение инсулина длительного действия имитирует определенный уровень гормона, который в норме должен вырабатываться поджелудочной железой в течение суток (базальная секреция) и тем самым предотвращает гипогликемию между приемами пищи. Инъекции коротких инсулинов производятся обычно трижды в день перед едой и, способствуя усвоению всех потребляемых углеводов, помогают избежать резких скачков уровня глюкозы в кров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кже важное место в лечении сахарного диабета 1 типа отводится правильному питанию. В повседневное меню должны включаться блюда и продукты с физиологическими пропорциями в содержании белков, жиров и углеводов (2:3:7,5), причем последние должны по большей части состоять из медленно перевариваемых полисахаридов (клетчат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0"/>
            <a:ext cx="45147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чение сахарного диабета 1 тип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Питание при сахарном диаб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ый диабетик должен уделять особое внимание своему рациону, ведь основу успешного лечения составляет прежде всего сбалансированное питание. Ни для кого не секрет, что при сахарном диабете 2 типа, соблюдая определенные пищевые ограничения, возможно добиться поддержания нормального уровня гликемии даже без приема лекарственных препара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мотря на то, что лица с диабетом 1 типа могут питаться так же, как и здоровые люди, им тоже необходимо тщательное составление меню на каждый день, чтобы правильно корректировать дозировку вводимого инсулина. Для таких больных эндокринологами и диетологами введено понятие «хлебная единица», под которым понимается то количество любого продукта, для усваивания которого организму требуется 2 единицы инсулина. При данном варианте заболевания следует уметь рассчитывать при помощи специальных таблиц количество съеденных за один прием пищи хлебных един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Картинка 117 из 525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191120"/>
            <a:ext cx="3962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ях профилактики сахарного диабета следует ограничить употребление продуктов содержащих легкоусвояемые углеводы, поскольку они повышают уровень сахара в крови –это соль, сахар, мёд, сладости, сладкие напитки и т.д. Желательно употреблять гречку, овсянку, рыбу, нежирное мясо, кисломолочные проду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спользуйте специальные средст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чай для понижения уровня сахара в кров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у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фавит-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ты питания для диабетик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улин-ф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гол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ые масла, в особенности льня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нимайтесь спо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о, что занятие спортом всего по 30 минут в день способны снизить вероятность сахарного диабета на 50%. При этом не обязательно заниматься изнурительными силовыми упражнениями, будет достаточно бега или спортивной ход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Причины появления сахарного диабета, профилактика и лечение"/>
          <p:cNvPicPr/>
          <p:nvPr/>
        </p:nvPicPr>
        <p:blipFill>
          <a:blip r:embed="rId1"/>
          <a:stretch/>
        </p:blipFill>
        <p:spPr>
          <a:xfrm>
            <a:off x="228600" y="2362320"/>
            <a:ext cx="2381400" cy="2819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981080" y="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филактика сахарного диабе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silii</cp:lastModifiedBy>
  <dcterms:modified xsi:type="dcterms:W3CDTF">2012-03-22T18:45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