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FFA-1B4E-4181-9D35-DCEC71FE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279-E819-4F07-9B44-CA33ED04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EB5-5865-4A82-BE7A-C364DE8F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A79-67A6-41B4-8BF0-112044E7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1D92-E6BD-4CFA-BADE-81B3E088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9EC2-900B-4FD8-BE1C-E77B9F27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4AD-9626-4BEE-9E28-6901E91C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ADD-7CCE-405C-AA42-FE3431ED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374F-FAE8-4175-BFE6-0C5F050F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79B6-E430-4AF4-85DD-66BF56D6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B84A-656E-472A-9CD0-D4F4C07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A83-983B-4E2D-9782-990ED00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A627-1058-4BAC-8AD5-AE1F929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D732-E943-4770-B512-EC768A8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D270-C95A-4911-BA77-87649391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C158-84F8-4BC9-B351-E4CD6CA0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C7DE-3CD6-4E00-8922-C0D3CA4E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57435-D1D1-4A16-8EB2-656D00D0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FB0C4-4677-4205-A091-A9A875EA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1914A-5DF6-4A11-9F71-08134F90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D8694-D521-4F85-974E-12416C6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1B0F8-F27E-4517-8FE7-A82DD68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D42-9B42-4259-A8C0-0762C3C1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4A884-756A-455C-879C-B8A8A05A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A0508-A543-4DED-BC95-3B8A58A8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7C7EE-8C1D-4A1F-B88A-5A211C55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302C9-FA84-4902-A65F-C37A57BC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1A12D-1EEA-4C7F-BB31-F3AB2F1E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5584D-7A23-49B7-92E5-B1EFC9C6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E766F-F9C0-489B-8B87-B3FF8F62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92B5-9A7D-4B84-94D5-BF26EA74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3D45-554C-4BDB-86D1-38A03E15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1ED4-9585-4139-8537-2B7789B9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4DC-DA53-4200-BA3D-5DE414B6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6AAC-DCB0-4F3C-9CC9-FCE72AE4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1061-52D1-4AA1-9F8B-541F6A23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203C-D0DF-4FE1-96FE-8EE1843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07B4-1936-4E18-A91D-085CF23C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CEE0-467B-46D0-A91E-211B41E7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0B4C-26FE-45B9-8B38-8ECD827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6129B-2C01-4D60-8305-DBC28B58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69C3-B098-478D-88CC-4ED3D845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18F4-A38C-4972-BA5F-126EB35F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945-AAA7-44FC-96A2-1815F96D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DE8-0EBE-47A5-9E76-7669CD0B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C99-47A6-4134-9484-B321D00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CE2-495B-469D-AB93-59993D1B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F98-F967-4197-88FA-1B2EAB9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4E65-6788-4232-A65F-68BEBB0DBB9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FDD-5C05-42B5-A053-B9005E68C6B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CF08-D5E4-4CB0-8D21-1524FD94C2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01EA-C512-40B8-99CD-F6D52298BD4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ЕХНОЛОГИЯ РАЗРАБОТКИ УПРАВЛЕНЧЕСКИХ РЕШЕН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1. Основные этапы разработки управленческих реш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2. Разработка управленческого реш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3. Принятие решения, реализация, анализ результа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Оценочная систе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ющие разновидности оценочных систем используются и для расчета индексов и рейтингов, и для определения приоритетов, и для сравнительной оценки альтернативных вариантов решений во всем многообразии ситуаций принятия реш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196640"/>
            <a:ext cx="4171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обработка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анализ информ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Уточнение прогноза результат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Разработка экспертной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мендации по элементам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выработка вариантов рекомендац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равнительный анализ рекомендац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выбор рекомендац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 .Разработка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разработка вариантов реш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оценка вариантов по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ному критерию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выбор решен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0формление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формула реш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документальное оформл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фиксация реш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3.Постановка задач исполнителям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что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кому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как дела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где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когда 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с кем дела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) последовательность выполнения задач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. Документальное оформление задач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. Организация выполнения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ропаганда ре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мобилизация коллекти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координ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оперативное регулировани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6.Контро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Picture 4" descr="image042"/>
          <p:cNvPicPr/>
          <p:nvPr/>
        </p:nvPicPr>
        <p:blipFill>
          <a:blip r:embed="rId1"/>
          <a:stretch/>
        </p:blipFill>
        <p:spPr>
          <a:xfrm>
            <a:off x="2122560" y="1969920"/>
            <a:ext cx="46101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</a:rPr>
              <a:t>Традиционная схема разработки и реализации управленческих решений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Picture 4" descr="image044"/>
          <p:cNvPicPr/>
          <p:nvPr/>
        </p:nvPicPr>
        <p:blipFill>
          <a:blip r:embed="rId1"/>
          <a:stretch/>
        </p:blipFill>
        <p:spPr>
          <a:xfrm>
            <a:off x="1908000" y="1700280"/>
            <a:ext cx="52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одготовка к разработке управленческого реш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блок включает такие этапы, как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ение информации о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целе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оценочной системы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агностика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прогноза развития ситу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Разработка управленческого реш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 второго блока входя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ерирование альтернативных вариантов решен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бор основных вариантов управленческих воздейств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сценариев развития ситу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ертная оценка основных вариантов управляющих воз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инятие управленческого решения, реализация, анализ результат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ретий блок включен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лективная экспертная оцен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ятие решения ЛПР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плана действ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 реализации план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результатов развития ситуации после управленческих воз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</a:rPr>
              <a:t>ТЕХНОЛОГИЯ РАЗРАБОТКИ УПРАВЛЕНЧЕСКИХ РЕШЕНИ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вокупность последовательно повторяющихся действий, складывающихся из отдельных этапов, процедур, операций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 </a:t>
            </a:r>
            <a:br>
              <a:rPr sz="2900"/>
            </a:br>
            <a:r>
              <a:rPr b="0" lang="ru-RU" sz="2900" spc="-1" strike="noStrike">
                <a:solidFill>
                  <a:srgbClr val="424456"/>
                </a:solidFill>
                <a:latin typeface="Times New Roman"/>
              </a:rPr>
              <a:t>(16 блоков и 39 операций)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4" descr="image040"/>
          <p:cNvPicPr/>
          <p:nvPr/>
        </p:nvPicPr>
        <p:blipFill>
          <a:blip r:embed="rId1"/>
          <a:stretch/>
        </p:blipFill>
        <p:spPr>
          <a:xfrm>
            <a:off x="3286080" y="2397240"/>
            <a:ext cx="25718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Блок-схема технологического цикла РУР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403848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нешнее воздейств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нутреннее воздейств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итуац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Стратегия 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определение цели дей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определение способа достижения цел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выработка критериев выбора решений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Оценка обстановк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кадрового состав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остояние ресурс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состояние тех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остояние технолог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эффект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временной факто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785960"/>
            <a:ext cx="4038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Прогнозирование результат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определение места решения в управляющей систем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установление функции управления, к которой относится ре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 установление ступени управления, где будет приниматься ре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определение полномочий лица, принимающего ре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) установление права лица принимать решени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) определение границ решен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Информационный цикл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оиск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сбор информ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Алгоритм диагностики ситуации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возникающие проблемы/ лучший опыт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мерности, в соответствии с которыми происходит развитие ситуаци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ы, с помощью которых может быть оказано целенаправленное воздействие на ее развит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__________ ресурсов, необходимых для приведения этих механизмов в действ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 составляющие ситуации, как внешние, так и внутренние, которые могут оказать существенное, а подчас и решающее воздействие на ее развит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Оценочная систе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600200"/>
            <a:ext cx="8435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уется как для индивидуальных, так и для коллективных сравнительных оценок.  В состав оценочной системы входя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и, характеризующие объект оценк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калы, с использованием которых оценивается объект по каждому из критерие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ы выбора, по которым на основании оценок значений критериев для объекта определяется общая оценка либо производится сравнительная оценка предпочтительности альтернативных вариант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20:13:15Z</dcterms:created>
  <dc:creator>Kataev</dc:creator>
  <dc:description/>
  <dc:language>en-US</dc:language>
  <cp:lastModifiedBy>ZooM</cp:lastModifiedBy>
  <dcterms:modified xsi:type="dcterms:W3CDTF">2013-12-12T15:30:26Z</dcterms:modified>
  <cp:revision>11</cp:revision>
  <dc:subject/>
  <dc:title>ТЕХНОЛОГИЯ РАЗРАБОТКИ УПРАВЛЕНЧЕСКИХ РЕШЕНИЙ</dc:title>
</cp:coreProperties>
</file>