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6B4-7829-408D-8166-F39F49B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098-C689-48B0-AC3B-1F3377A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AAD-9C03-4765-9D80-BF949BA4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AE8-88EA-41F3-BD34-AF804A63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B91-5060-4099-B7B5-99E6ADC7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7545-FDBD-45AF-9674-88BB0EAC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9BAF-476E-4C32-80E0-9CC52B8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8933-EE03-4340-861A-8224485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CA6-47A3-4CFD-BCD1-8C8C879F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685F-8893-4B20-831D-9EAD9CB1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B596-BB90-478C-AB2A-3168D5D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565-93D2-48F7-9F4C-8403D71A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7D03-FB71-4309-BF0E-2448D93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3341-D6F4-4963-842C-DED0337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978E-B136-4019-9B37-2B98414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D3F-F9A1-45B5-A27E-B4AB8A98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711-7A48-4233-80E6-87632744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A2C43-4505-4116-9E93-541CE935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A0726-CC8C-4C62-B2F5-45E3954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FC441-5D5D-438F-9FB0-BE3F2CD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F2561-8BC2-4D35-9716-710CAF4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E943D-65BB-45EA-8571-F4358EFB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BA0-6635-4F08-8D24-D4F8470E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1826-B817-4792-8DD3-D85623C5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C39FA-47AD-4FF7-B84A-467D76E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F036A-DA77-4536-BE3F-22FFCAE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55740-B5F9-4078-908F-752BA81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E1024-B6A5-4557-B4DC-F2B16A3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12328-280A-4EB4-8BD6-4AC19704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FF063-9521-40E4-8442-8E53A154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8E44-A039-4276-92C3-47D83DCE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ED81-4ADB-4989-A4A5-931C1992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4FA8-9E44-4672-A4A5-EE77AFEF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BFD-22D9-45FB-959E-F654EA2F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FDDA-052D-4C6C-8421-661A0C7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6F6D-30BD-4E6A-822F-1C5C12AD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625F-F697-4611-A194-B10EFD1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8A25B-5C12-4AC0-A3C3-B6AD02C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14C4-13E2-4436-AD7A-2F737D3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E191C-A1DA-44EB-A9CA-18460F1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E9D6-BDFE-45AA-99F5-88CC350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51D8-24DF-4068-A17B-DB56E6B5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DFB3-790A-4D6D-A3C8-59A34240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3A7-D0B4-4E0F-AA76-AC72F1A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D57-817A-4CBF-B3EB-3B3AAF9A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7E6-297C-4F6D-BAF3-C980D19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B08-E8F5-40A6-9E40-2AA748B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387-8380-4333-8779-4891CBC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570D-CFBD-4484-88B4-BAD43653747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1B59-7279-4015-B447-0C5FE47260C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795-7FE8-45B3-946B-D3111AC6AA9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2AB7-686E-46E5-996A-6251FAFE72D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ЕХНОЛОГИЯ РАЗРАБОТКИ УПРАВЛЕНЧЕСКИХ РЕШЕН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1. Основные этапы разработки управленческих реш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2. Разработка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3. Принятие решения, реализация, анализ результа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Оценочная систе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ие разновидности оценочных систем используются и для расчета индексов и рейтингов, и для определения приоритетов, и для сравнительной оценки альтернативных вариантов решений во всем многообразии ситуаций принятия реш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196640"/>
            <a:ext cx="4171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обработка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анализ информ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Уточнение прогноза результат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Разработка экспертно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ации по элементам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выработка вариантов рекомендац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равнительный анализ рекомендац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выбор рекомендац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 .Разработка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разработка вариантов реш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оценка вариантов по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ному критери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выбор решен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0формление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формула реш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документальное оформл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фиксация реш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3.Постановка задач исполнителям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что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кому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как дела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где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когда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с кем дела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) последовательность выполнения задач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. Документальное оформление задач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 Организация выполнения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ропаганда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мобилизация коллекти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координ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оперативное регулировани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6.Контро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Picture 4" descr="image042"/>
          <p:cNvPicPr/>
          <p:nvPr/>
        </p:nvPicPr>
        <p:blipFill>
          <a:blip r:embed="rId1"/>
          <a:stretch/>
        </p:blipFill>
        <p:spPr>
          <a:xfrm>
            <a:off x="2122560" y="1969920"/>
            <a:ext cx="46101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</a:rPr>
              <a:t>Традиционная схема разработки и реализации управленческих решений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Picture 4" descr="image044"/>
          <p:cNvPicPr/>
          <p:nvPr/>
        </p:nvPicPr>
        <p:blipFill>
          <a:blip r:embed="rId1"/>
          <a:stretch/>
        </p:blipFill>
        <p:spPr>
          <a:xfrm>
            <a:off x="1908000" y="1700280"/>
            <a:ext cx="52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одготовка к разработке управленческого реш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блок включает такие этапы, ка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ение информации о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целе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оценочной систем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агностика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рогноза развития ситу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Разработка управленческого реш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 второго блока входя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ирование альтернативных вариантов реш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бор основных вариантов управленческих воздейств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сценариев развития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ертная оценка основных вариантов управляющих воз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инятие управленческого решения, реализация, анализ результат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ретий блок включен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лективная экспертная оцен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ятие решения ЛПР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лана действ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 реализации план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результатов развития ситуации после управленческих воз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</a:rPr>
              <a:t>ТЕХНОЛОГИЯ РАЗРАБОТКИ УПРАВЛЕНЧЕСКИХ РЕШЕНИ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окупность последовательно повторяющихся действий, складывающихся из отдельных этапов, процедур, операций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 </a:t>
            </a:r>
            <a:br>
              <a:rPr sz="2900"/>
            </a:br>
            <a:r>
              <a:rPr b="0" lang="ru-RU" sz="2900" spc="-1" strike="noStrike">
                <a:solidFill>
                  <a:srgbClr val="424456"/>
                </a:solidFill>
                <a:latin typeface="Times New Roman"/>
              </a:rPr>
              <a:t>(16 блоков и 39 операций)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4" descr="image040"/>
          <p:cNvPicPr/>
          <p:nvPr/>
        </p:nvPicPr>
        <p:blipFill>
          <a:blip r:embed="rId1"/>
          <a:stretch/>
        </p:blipFill>
        <p:spPr>
          <a:xfrm>
            <a:off x="3286080" y="2397240"/>
            <a:ext cx="25718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403848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нешнее воздейств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нутреннее воздейств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итуац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Стратегия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определение цели дей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определение способа достижения це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выработка критериев выбора решени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Оценка обстановк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кадрового соста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остояние ресурс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состояние тех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остояние технолог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эффект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временной факто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785960"/>
            <a:ext cx="4038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Прогнозирование результат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определение места решения в управляющей систем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установление функции управления, к которой относится ре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установление ступени управления, где будет приниматься ре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определение полномочий лица, принимающего ре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установление права лица принимать решени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определение границ решен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Информационный цикл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ис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бор информ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Алгоритм диагностики ситуации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возникающие проблемы/ лучший опыт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мерности, в соответствии с которыми происходит развитие ситуаци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ы, с помощью которых может быть оказано целенаправленное воздействие на ее развит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__________ ресурсов, необходимых для приведения этих механизмов в действ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 составляющие ситуации, как внешние, так и внутренние, которые могут оказать существенное, а подчас и решающее воздействие на ее развит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Оценочная систе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600200"/>
            <a:ext cx="8435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уется как для индивидуальных, так и для коллективных сравнительных оценок.  В состав оценочной системы входя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, характеризующие объект оцен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калы, с использованием которых оценивается объект по каждому из критерие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ы выбора, по которым на основании оценок значений критериев для объекта определяется общая оценка либо производится сравнительная оценка предпочтительности альтернативных вариант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20:13:15Z</dcterms:created>
  <dc:creator>Kataev</dc:creator>
  <dc:description/>
  <dc:language>en-US</dc:language>
  <cp:lastModifiedBy>ZooM</cp:lastModifiedBy>
  <dcterms:modified xsi:type="dcterms:W3CDTF">2013-12-12T15:30:26Z</dcterms:modified>
  <cp:revision>11</cp:revision>
  <dc:subject/>
  <dc:title>ТЕХНОЛОГИЯ РАЗРАБОТКИ УПРАВЛЕНЧЕСКИХ РЕШЕНИЙ</dc:title>
</cp:coreProperties>
</file>